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B35-42A3-43B4-953E-418E8C40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4BD3-EE39-400F-82A8-24BEE247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B4E-02A5-4F5A-A5A4-A0239012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DE4D-66F4-42EA-84AB-5B6599CE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35CD-AE6A-4598-BA60-C0EA5D9B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5BF4-24F6-4E26-B5EB-A2BA62EE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3199-AB9F-4873-A287-E8252466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CF3D-288A-49CB-A24F-70EBDC3A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0BD1-BDB0-487F-AB5E-DFB3E382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6BB1-6EF9-4752-99E8-60B3DCD4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389C-9CEA-467D-B272-6719EFC4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128-DF53-4C59-908E-4652A01D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69AE-BAE1-46A8-A042-201D0B22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FFBD-5696-4088-B023-FE97CB68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516F-D4A3-405C-B9D3-952C5E7E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C85D-0206-4785-8FF2-717B008E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9FB8-372A-4AE2-ADA2-BFC5463F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26D-E3BF-4862-A243-E744EA93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843A-A32A-454F-99CF-783B8392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57D-1197-4CCE-9C5B-A09A437A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3A7-E23F-49E6-A122-08C10C6E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D34F-1550-4A11-853E-27926728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3DC-7856-4CA0-8DC5-0B3D7808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4123-BA54-4503-8033-FFE8251A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46D7-0A2D-4297-B897-900ABE665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C910-EAC2-4F6B-A493-B5BBA1535BB6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3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165D-5D5A-4465-86F2-8F006648C0CA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矩形 4" descr=""/>
          <p:cNvPicPr/>
          <p:nvPr/>
        </p:nvPicPr>
        <p:blipFill>
          <a:blip r:embed="rId1"/>
          <a:stretch/>
        </p:blipFill>
        <p:spPr>
          <a:xfrm>
            <a:off x="1706400" y="1206360"/>
            <a:ext cx="5950080" cy="1854360"/>
          </a:xfrm>
          <a:prstGeom prst="rect">
            <a:avLst/>
          </a:prstGeom>
          <a:ln w="0">
            <a:noFill/>
          </a:ln>
        </p:spPr>
      </p:pic>
      <p:sp>
        <p:nvSpPr>
          <p:cNvPr id="84" name="矩形 5"/>
          <p:cNvSpPr/>
          <p:nvPr/>
        </p:nvSpPr>
        <p:spPr>
          <a:xfrm>
            <a:off x="5655600" y="3643200"/>
            <a:ext cx="2137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王宗仁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4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B9A1-9418-4357-A496-826DE69BD371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856880"/>
            <a:ext cx="8929800" cy="38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卓玛是一个纯真、镇静、成熟、决定、顽强、知恩图报的懂事的小姑娘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"/>
              </a:rPr>
              <a:t>卓玛母女真诚无私的帮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"/>
              </a:rPr>
              <a:t>它如清朗的明月，温暖的太阳，让人心怀感激和怀念。这也给了我无穷的动力，激励我在藏汉民族深情厚爱的鼓舞下帮助他人，奉献他人。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12" name="WordArt 7" descr=""/>
          <p:cNvPicPr/>
          <p:nvPr/>
        </p:nvPicPr>
        <p:blipFill>
          <a:blip r:embed="rId1"/>
          <a:stretch/>
        </p:blipFill>
        <p:spPr>
          <a:xfrm>
            <a:off x="1743120" y="274680"/>
            <a:ext cx="4230720" cy="772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3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6D7D-E556-40C5-912A-256E8411A3F5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250920" y="152280"/>
            <a:ext cx="403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五、当堂检测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17794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51120"/>
                <a:tab algn="l" pos="253836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下列各句中加点成语的使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全都不正确的一项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51120"/>
                <a:tab algn="l" pos="253836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在市场环境愈发复杂的当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卫浴企业只有发挥主观能动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做到产品创新与售后服务两不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才能如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釜底游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在激烈的竞争中站稳脚跟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毕业却不就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虽然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身无长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却又极为挥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上海日益壮大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啃老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令中国社会孝道传统经受严峻考验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51120"/>
                <a:tab algn="l" pos="253836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这位博士学识渊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不仅在免疫学领域有很深的造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而且在营养学等方面也有诸多独到见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真可谓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金玉满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51120"/>
                <a:tab algn="l" pos="253836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人生道路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犯错误是难免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但如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犯而不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那么就一定会陷入错误的泥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不能自拔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51120"/>
                <a:tab algn="l" pos="253836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近几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叙利亚国内战争连续不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导致大量难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毁家纾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流离失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这一现象已引起国际社会的极大关注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51120"/>
                <a:tab algn="l" pos="253836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对于帝国主义日益加紧的经济、文化侵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清政府不但未加抵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反而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开门揖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51120"/>
                <a:tab algn="l" pos="253836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②④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①④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②⑤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D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②③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1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1C95-C790-4934-B24C-8C4EEC514310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0" y="19450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51120"/>
                <a:tab algn="l" pos="253836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答案：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1028880"/>
                <a:tab algn="l" pos="1851120"/>
                <a:tab algn="l" pos="253836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解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Times New Roman"/>
              </a:rPr>
              <a:t>釜底游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比喻处在极端危险境地的人。不符合语境。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Times New Roman"/>
              </a:rPr>
              <a:t>身无长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除自身外再没有多余的东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形容极端贫穷。符合语境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Times New Roman"/>
              </a:rPr>
              <a:t>金玉满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金玉财宝满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形容财富极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也形容学识丰富。符合语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1028880"/>
                <a:tab algn="l" pos="1851120"/>
                <a:tab algn="l" pos="253836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④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Times New Roman"/>
              </a:rPr>
              <a:t>犯而不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受到别人的触犯或无礼也不计较。不合语境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Times New Roman"/>
              </a:rPr>
              <a:t>毁家纾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捐献所有家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帮助国家减轻困难。不合语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1028880"/>
                <a:tab algn="l" pos="1851120"/>
                <a:tab algn="l" pos="253836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⑥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Times New Roman"/>
              </a:rPr>
              <a:t>开门揖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开门请强盗进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比喻引进坏人来危害自己。符合语境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灯片编号占位符 1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AD3C-D686-41E6-85C7-DC36ED945011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0" y="11505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51120"/>
                <a:tab algn="l" pos="253836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下列句子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没有语病的一句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	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51120"/>
                <a:tab algn="l" pos="253836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随着地壳上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上覆地层受流水等外引力不断地剥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将地下的硅化木剥露出地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成为今天最鲜活的记忆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51120"/>
                <a:tab algn="l" pos="253836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鉴于目前的经济形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成都市将建立国际金融危机影响监测报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并加大对受损企业的帮扶工作力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但一些企业还是可能会倒闭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51120"/>
                <a:tab algn="l" pos="253836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一个人能否有作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取决于他是否受过良好的教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是否有理想追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是否刻苦勤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还要看他所处的环境怎样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51120"/>
                <a:tab algn="l" pos="253836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本次联赛大爆冷门的八一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凭借场上的整体配合和积极拼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终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逼平了志在卫冕桂冠的申花队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矩形 3"/>
          <p:cNvSpPr/>
          <p:nvPr/>
        </p:nvSpPr>
        <p:spPr>
          <a:xfrm>
            <a:off x="0" y="4562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51120"/>
                <a:tab algn="l" pos="253836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答案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C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51120"/>
                <a:tab algn="l" pos="2538360"/>
                <a:tab algn="l" pos="322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解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成为今天最鲜活的记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前缺主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硅化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是省略不当引起的主语残缺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成都市将建立国际金融危机影响监测报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成分残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缺少宾语中心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应该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建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制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卫冕桂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语意重复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灯片编号占位符 1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47B0-4D63-446F-B93D-132415E4EEF8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1071720" y="785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、学习目标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矩形 3"/>
          <p:cNvSpPr/>
          <p:nvPr/>
        </p:nvSpPr>
        <p:spPr>
          <a:xfrm>
            <a:off x="0" y="23749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微软雅黑"/>
                <a:ea typeface="微软雅黑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速读全文，把握文本内容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微软雅黑"/>
                <a:ea typeface="微软雅黑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理解文中一些重要的语句，提高语言感知能力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微软雅黑"/>
                <a:ea typeface="微软雅黑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微软雅黑"/>
                <a:ea typeface="微软雅黑"/>
              </a:rPr>
              <a:t>、掌握主要人物形象与本文的主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A654-D7F7-4B41-A3EC-B48259A24B39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9" name="对象 7" descr=""/>
          <p:cNvPicPr/>
          <p:nvPr/>
        </p:nvPicPr>
        <p:blipFill>
          <a:blip r:embed="rId1"/>
          <a:stretch/>
        </p:blipFill>
        <p:spPr>
          <a:xfrm>
            <a:off x="2000160" y="0"/>
            <a:ext cx="8128080" cy="2222640"/>
          </a:xfrm>
          <a:prstGeom prst="rect">
            <a:avLst/>
          </a:prstGeom>
          <a:ln w="0">
            <a:noFill/>
          </a:ln>
        </p:spPr>
      </p:pic>
      <p:sp>
        <p:nvSpPr>
          <p:cNvPr id="90" name="矩形 5"/>
          <p:cNvSpPr/>
          <p:nvPr/>
        </p:nvSpPr>
        <p:spPr>
          <a:xfrm>
            <a:off x="0" y="2432160"/>
            <a:ext cx="84297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王宗仁，当代散文家、作家，陕西扶风人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开始发表作品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中学毕业后参加中国人民解放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曾任文化教员和营部文书、团政治处书记等。现被推选为中国散文学会名誉会长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在《陕西文艺》发表散文处女作《陈书记回家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20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散文集《藏地兵书》获得第五届鲁迅文学奖。迄今共出版散文、散文诗和报告文学专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部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737280" y="9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简介作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灯片编号占位符 1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5A0A-BCB3-4302-A45E-036A1DA05378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714240" y="28584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二、问题导学</a:t>
            </a:r>
            <a:r>
              <a:rPr b="1" lang="en-US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矩形 3"/>
          <p:cNvSpPr/>
          <p:nvPr/>
        </p:nvSpPr>
        <p:spPr>
          <a:xfrm>
            <a:off x="936360" y="150012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请速读全文，思考文中这三句话，你是如何理解的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0" y="2362320"/>
            <a:ext cx="8929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是如何理解“如果用伸手不见五指来形容那晚的漆黑和阴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显然太轻描淡写了。”这句话的含义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是如何理解“它坐在夜的皮肤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很不示弱地将微光展示给藏北。乍看一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很像饥饿的果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多瞅一会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心就被它烘暖。”这句话的含义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是如何理解“会说话的卓玛打动了我和昝的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俩不约而同地不由自主地上前一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要细细看看这个姑娘的脸蛋。”这句话的含义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1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44A1-BF0D-4388-AF38-8C53093966DC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0" y="1428840"/>
            <a:ext cx="89298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是如何理解“如果用伸手不见五指来形容那晚的漆黑和阴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显然太轻描淡写了。”这句话的含义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"/>
              </a:rPr>
              <a:t>明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这句话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轻描淡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是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伸手不见五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不足以形容那晚的漆黑、阴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足可看出当时作者处境的艰难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是如何理解“它坐在夜的皮肤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很不示弱地将微光展示给藏北。乍看一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很像饥饿的果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多瞅一会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心就被它烘暖。”这句话的含义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"/>
              </a:rPr>
              <a:t>明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这句话运用比喻的修辞手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生动形象地描述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在黑暗的困境中见到这一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微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时内心的温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表现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当时喜悦高兴的心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运用拟人的修辞手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写出微光虽小但却倔强的特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给处在困境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以无穷的希望、动力和鼓舞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2428920" y="0"/>
            <a:ext cx="47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三、点拨精讲</a:t>
            </a:r>
            <a:r>
              <a:rPr b="1" lang="en-US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936360" y="83340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请速读全文，思考文中这三句话，你是如何理解的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灯片编号占位符 1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D665-A706-4E39-8D7F-91A20A49AA90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矩形 2"/>
          <p:cNvSpPr/>
          <p:nvPr/>
        </p:nvSpPr>
        <p:spPr>
          <a:xfrm>
            <a:off x="71280" y="1500120"/>
            <a:ext cx="88585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是如何理解“会说话的卓玛打动了我和昝的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俩不约而同地不由自主地上前一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要细细看看这个姑娘的脸蛋。”这句话的含义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"/>
              </a:rPr>
              <a:t>明确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"/>
              </a:rPr>
              <a:t>这句话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"/>
              </a:rPr>
              <a:t>不由自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"/>
              </a:rPr>
              <a:t>是说我和昝情不自禁地上前一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"/>
              </a:rPr>
              <a:t>想仔细看一看这位善良的姑娘。写出了作者在黑暗的困境中看到希望时的激动喜悦的心情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灯片编号占位符 1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F986-86E8-4C07-B9C7-4707F88AB8AC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714240" y="28584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二、问题导学</a:t>
            </a:r>
            <a:r>
              <a:rPr b="1" lang="en-US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矩形 4"/>
          <p:cNvSpPr/>
          <p:nvPr/>
        </p:nvSpPr>
        <p:spPr>
          <a:xfrm>
            <a:off x="0" y="1562040"/>
            <a:ext cx="89298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从全文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文中第一自然段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但是我莫名其妙地感到我离天很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以我多想用指头在夜幕上戳个洞让太阳光射进来。没有太阳钻进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几颗星星也行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两句话的作用是什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文章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助手始终没有见到卓玛的阿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但在行文中有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阿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笔墨却不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者采用了什么写作手法刻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阿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形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从全文来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阿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一个怎样的人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如何理解文章结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要收藏这淡淡的藏香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就像收藏月亮的清辉和太阳的明媚。我当然也会留一些激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去点燃那些遥远的或在身边的仍然沉浸在雾霾中的星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句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４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说中的“卓玛”是一个怎样的小姑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概括作答。请用简洁的语音概括选文的主要内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说说选文的主旨是什么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1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7609-7770-42EC-9FBA-DBAAF12B3BE2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矩形 3"/>
          <p:cNvSpPr/>
          <p:nvPr/>
        </p:nvSpPr>
        <p:spPr>
          <a:xfrm>
            <a:off x="0" y="785880"/>
            <a:ext cx="885816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从全文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文中第一自然段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但是我莫名其妙地感到我离天很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以我多想用指头在夜幕上戳个洞让太阳光射进来。没有太阳钻进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几颗星星也行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两句话的作用是什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"/>
              </a:rPr>
              <a:t>明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这句话通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的心理活动的描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表现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当时身处困境时的绝望、无助和急切地想摆脱困境的心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为下文藏族女孩卓玛的出现做铺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与结尾相呼应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文章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助手始终没有见到卓玛的阿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但在行文中有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阿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笔墨却不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者采用了什么写作手法刻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阿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形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从全文来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阿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一个怎样的人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"/>
              </a:rPr>
              <a:t>明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作者采用了侧面描写的写作手法来刻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阿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这一形象。从全文来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阿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是一个精明细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善良慈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真诚热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热爱尊敬解放军战士的藏族女同胞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2428920" y="0"/>
            <a:ext cx="47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三、点拨精讲</a:t>
            </a:r>
            <a:r>
              <a:rPr b="1" lang="en-US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灯片编号占位符 1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04D7-6B8A-474C-A5F1-B59C79FC0CA0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矩形 2"/>
          <p:cNvSpPr/>
          <p:nvPr/>
        </p:nvSpPr>
        <p:spPr>
          <a:xfrm>
            <a:off x="0" y="357120"/>
            <a:ext cx="885816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你如何理解文章结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要收藏这淡淡的藏香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就像收藏月亮的清辉和太阳的明媚。我当然也会留一些激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去点燃那些遥远的或在身边的仍然沉浸在雾霾中的星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句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"/>
              </a:rPr>
              <a:t>明确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这句话紧扣文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点明主题。卓玛母女真诚无私的帮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它如清朗的明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温暖的太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让人心怀感激和怀念。这也给了我无穷的动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激励我在藏汉民族深情厚爱的鼓舞下帮助他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奉献他人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４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说中的“卓玛”是一个怎样的小姑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概括作答。请用简洁的语音概括选文的主要内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说说选文的主旨是什么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仿宋"/>
              </a:rPr>
              <a:t>明确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卓玛是一个纯真、镇静、成熟、坚定、顽强、知恩图报的懂事的小姑娘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028880"/>
                <a:tab algn="l" pos="1849320"/>
                <a:tab algn="l" pos="2536920"/>
                <a:tab algn="l" pos="322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在早晨的风雪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藏族小姑娘站在路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捧着写有“谢谢”两个大字的纸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达心底的感激。主旨是歌颂像小卓玛那样纯真、善良、有感恩的心的高贵品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12:18:16Z</dcterms:created>
  <dc:creator>orda</dc:creator>
  <dc:description/>
  <dc:language>en-US</dc:language>
  <cp:lastModifiedBy>Administrator</cp:lastModifiedBy>
  <dcterms:modified xsi:type="dcterms:W3CDTF">2018-04-11T02:09:54Z</dcterms:modified>
  <cp:revision>51</cp:revision>
  <dc:subject/>
  <dc:title>幻灯片 1</dc:title>
</cp:coreProperties>
</file>