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9DF-C195-4C31-8C87-B413E530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F54-538F-44AE-A0AD-A9277B1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A20-5788-46C1-94E1-EED5A0FF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A4A-FC6E-431F-8220-D7690A04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970-B9B2-48EA-B289-DBD907D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775-BB07-4176-B349-246ED106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C5D-5BCC-4B07-9C93-4557BC0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C71-7E41-411A-94A4-11E97AA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5B2-BB54-4651-B354-06DF9C93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DD8-2D16-4360-966E-A03A45E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D0E-75A8-44B9-9636-15F1CD8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91E-9DF5-4113-8ED6-82F8FFC7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5F9C-30FB-4A8E-8FBD-2FDEFF48A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876320" y="14400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单元   直面挑战   超越自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68320" y="1522440"/>
          <a:ext cx="6812280" cy="321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522440"/>
                    <a:ext cx="681228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684440" y="360360"/>
          <a:ext cx="675792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360360"/>
                    <a:ext cx="675792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38440" y="1108080"/>
          <a:ext cx="6757920" cy="44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108080"/>
                    <a:ext cx="675792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54280" y="360360"/>
          <a:ext cx="6757920" cy="53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360360"/>
                    <a:ext cx="675792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76240" y="1604880"/>
          <a:ext cx="6804360" cy="257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1604880"/>
                    <a:ext cx="680436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960560" y="1440000"/>
          <a:ext cx="6757920" cy="300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0560" y="1440000"/>
                    <a:ext cx="6757920" cy="30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806480" y="1108080"/>
          <a:ext cx="6757920" cy="39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108080"/>
                    <a:ext cx="67579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806480" y="858960"/>
          <a:ext cx="6757920" cy="44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858960"/>
                    <a:ext cx="67579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836720" y="1190520"/>
          <a:ext cx="6813720" cy="40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1190520"/>
                    <a:ext cx="68137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38440" y="1190520"/>
          <a:ext cx="6811920" cy="40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190520"/>
                    <a:ext cx="68119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600200" y="2517840"/>
          <a:ext cx="6816600" cy="13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7840"/>
                    <a:ext cx="681660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906560" y="1440000"/>
          <a:ext cx="68119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1440000"/>
                    <a:ext cx="68119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600200" y="2103480"/>
          <a:ext cx="6811920" cy="31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0348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465360" y="527040"/>
            <a:ext cx="2907000" cy="70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949560" y="1355760"/>
            <a:ext cx="1913040" cy="4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60600" y="1023840"/>
          <a:ext cx="6813360" cy="43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1023840"/>
                    <a:ext cx="68133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560600" y="1355760"/>
          <a:ext cx="681336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135576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30440" y="1440000"/>
          <a:ext cx="6811920" cy="34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1440000"/>
                    <a:ext cx="6811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68600" y="858960"/>
          <a:ext cx="681336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85896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698480" y="4672080"/>
          <a:ext cx="6813720" cy="173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4672080"/>
                    <a:ext cx="681372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019400" y="360360"/>
            <a:ext cx="1911600" cy="4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461960" y="1023840"/>
          <a:ext cx="681192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02384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1440000"/>
          <a:ext cx="6811920" cy="34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1440000"/>
                    <a:ext cx="6811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30440" y="941400"/>
          <a:ext cx="681192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941400"/>
                    <a:ext cx="68119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19400" y="444600"/>
            <a:ext cx="1911600" cy="434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392120" y="326880"/>
          <a:ext cx="6813720" cy="86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326880"/>
                    <a:ext cx="6813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36720" y="1604880"/>
          <a:ext cx="6813720" cy="32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1604880"/>
                    <a:ext cx="68137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876320" y="1190520"/>
          <a:ext cx="6491520" cy="38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1190520"/>
                    <a:ext cx="649152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30440" y="1108080"/>
          <a:ext cx="6811920" cy="38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1108080"/>
                    <a:ext cx="68119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806480" y="692280"/>
          <a:ext cx="683100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692280"/>
                    <a:ext cx="683100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903320" y="692280"/>
          <a:ext cx="6815160" cy="47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692280"/>
                    <a:ext cx="68151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568520" y="360360"/>
          <a:ext cx="7219800" cy="55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360360"/>
                    <a:ext cx="721980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806480" y="1108080"/>
          <a:ext cx="675792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108080"/>
                    <a:ext cx="675792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23000" y="1108080"/>
            <a:ext cx="1857600" cy="22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24040" y="527040"/>
          <a:ext cx="672156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4040" y="527040"/>
                    <a:ext cx="67215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06480" y="858960"/>
          <a:ext cx="681696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858960"/>
                    <a:ext cx="68169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8:21:41Z</dcterms:created>
  <dc:creator>Administrator</dc:creator>
  <dc:description/>
  <dc:language>en-US</dc:language>
  <cp:lastModifiedBy>微软用户</cp:lastModifiedBy>
  <dcterms:modified xsi:type="dcterms:W3CDTF">2019-06-19T01:39:2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