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9C9-236D-4CD1-9833-3EC9B079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4D8-6007-4E43-A535-4C03B39C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EEA-8D4B-450C-A89B-6BE3D78D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C52-A66F-4360-81B6-468059E9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63D-98D7-40EC-8136-EC91DE52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083-EA61-4A57-8319-622EAF9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E5C-1AAF-41DD-A3B5-97BAC597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EA0-7850-4B7B-8F0B-03662BD6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FEA-BA92-4461-B158-1A39A97A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EAA-7AC5-46F5-AA4A-4C18E81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8F3-EE93-44A0-89E1-32CC9577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3A3-CF21-4CFA-9507-D9C1E291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7F4-8ACE-47FC-8CC4-EA094D108C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685800"/>
            <a:ext cx="691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语 文 公 开 课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89640" y="28414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授课人：谭梅生老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20960" y="48006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欢迎光临指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01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160720"/>
            <a:ext cx="834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苦难对于奋进者是一块垫脚石，对于能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人是一笔财富，对于弱者是一个万丈深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240" y="4572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仿写句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3040" y="3684600"/>
            <a:ext cx="505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成功对于永不懈怠的人是里程碑（一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小结），对于骄傲自满的人是个沉重的包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对于不求进取的人是祸害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未命名" descr=""/>
          <p:cNvPicPr/>
          <p:nvPr/>
        </p:nvPicPr>
        <p:blipFill>
          <a:blip r:embed="rId1"/>
          <a:stretch/>
        </p:blipFill>
        <p:spPr>
          <a:xfrm>
            <a:off x="0" y="23760"/>
            <a:ext cx="9172440" cy="6810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33520"/>
            <a:ext cx="87631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讨论文章第一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、这一部分作者对蓝家坪菜园的描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的顺序是什么？有什么好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、这一部分插入了一段说明文字，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画出并考虑有无存在的必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、文体是小记，本文也确实写的只是小小菜园，着重突出的是个人种菜的感受与体验。你同意这种说法吗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未命名" descr=""/>
          <p:cNvPicPr/>
          <p:nvPr/>
        </p:nvPicPr>
        <p:blipFill>
          <a:blip r:embed="rId1"/>
          <a:stretch/>
        </p:blipFill>
        <p:spPr>
          <a:xfrm>
            <a:off x="0" y="0"/>
            <a:ext cx="94773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97400" y="0"/>
            <a:ext cx="4844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者写的是菜园的自然环境，为什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要写果园、花园？这是一种什么样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法？起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找出描写果园和花园的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4840" y="2590920"/>
            <a:ext cx="55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这是传统赋体中铺陈的笔法，层层写来，更加突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菜园，也充分展示了菜园的生气蓬勃、情趣盎然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美景，及作者的喜爱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15960" y="4876920"/>
            <a:ext cx="76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构上都是先概括后具体。果园具体描写了最有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点的开花、结果两季。花园具体描写波斯菊。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角度从视觉、嗅觉、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60360" y="0"/>
            <a:ext cx="595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阅读课文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3-5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段，思考下列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未命名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10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94760" y="-32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阅读课文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10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段，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5160" y="6858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、你能总结出种菜的整个过程吗？在文中画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1720" y="31240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、作者在这两段中，是把记叙描写的重点放在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种植管理上，还是放在了管理种植中的内心感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上？说说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0640" y="1395360"/>
            <a:ext cx="12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施肥、松土、整畦、下种、锄草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中耕、浇水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8280" y="4724280"/>
            <a:ext cx="304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重点写内心感受。第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段是对新菜的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以及感受；第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段写间苗、锄草及浇菜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未命名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1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345480" y="30492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、作者是有意避开写种菜的复杂过程，才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处理详略的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43560" y="327672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、从语言上分析，作者是怎样体现劳动之乐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（研究欣赏语言对表达感情的作用，也可从全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680" y="1295280"/>
            <a:ext cx="5301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作者精心安排的。这样才能更好的记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中抒发对菜园、对劳动的喜爱，表达了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带给人的快乐，体现了田园劳动的无穷乐趣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深刻地表现了中心，突出了主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94880" y="4329000"/>
            <a:ext cx="112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准确生动，有滋有味，绚丽多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语的准确运用。叠词的运用。调动视觉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嗅觉、听觉、味觉等。熟练运用古诗、农谚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俗语。运用比喻、拟人、排比、引用、反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修辞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8120" y="99072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菜园小记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81200" y="1752480"/>
            <a:ext cx="52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节）引子——引出对延安蓝家坪菜园的回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5146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—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节）写菜园概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是菜园，其实是果园”  “也是花园” （总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花果树木的品种、形态、颜色、香味等的具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描写菜地的位置、形状、面积、来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生产运动的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12560" y="4724280"/>
            <a:ext cx="39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—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写种菜劳动的情况与乐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菜地的优越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种菜的艰辛和乐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瓜菜的生长与丰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04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构提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10480" y="2057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095520" y="6095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37040" y="214344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真正的田园乐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00200" y="243828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谢 谢 光 临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wshh005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43560" y="42480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菜园小</a:t>
            </a: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28400" y="3229560"/>
            <a:ext cx="109476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55960" y="12193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32600" y="1447920"/>
            <a:ext cx="1094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77960" y="824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348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920" y="1295280"/>
            <a:ext cx="894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．学习延安军民以苦为乐、自力更生、艰苦奋斗的革命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．体会作者的思想感情，领会文中优美的意境。 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．学习文章以小见大和叙事、写景、抒情融为一体的写作手法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．品味文章精妙的语言。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7800" y="822240"/>
            <a:ext cx="88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皖南事变后，国民党为了扼制我党我军的发展，在陕甘宁边区聚集重兵，对延安军民 实施严密的经济封锁，边区军民的生活一度陷入困境，甚至到了“每天要买到蔬菜就买不到 油盐柴火，要买到油盐柴火就买不到蔬菜的地步”。在艰苦的年月里，边区军民响应毛主席 “自己动手，丰衣足食”的号召，他们自己动手开荒、种地，纺棉、织布……轰轰烈烈的大 生产运动粉碎了敌人的阴谋，抗日根据地的军民不但吃得饱，穿得暖，而且坚持了抗战，取 得了抗战的最后胜利。《菜园小记》写的就是作者对延安蓝家坪开荒种莱岁月的深情回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800" y="-104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解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57560" y="-2221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8080"/>
            <a:ext cx="8915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吴伯箫，现代散文家，教育家。山东莱芜人，著有《烟尘集》《北极星》等散文集。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938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月到延 安，曾参加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941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年到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94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年的“大生产运动”。这篇文章写于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961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年。当时由于严重的自然 灾害和苏联的背信弃义，国家处于经济严重困难时期。作者认为自己是一个在延安生活了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8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年的人，“有责任介绍延安的革命传统，宣传延安的革命精神”。他应《人民日报》的要 求，先后写了包括《记一辆纺车》《菜园小记》《窑洞风景》《歌声》在内的一组散文，满 怀激情地歌颂了延安军民艰苦奋斗的革命精神，激励人民战胜困难，夺取胜利。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给下列加点的字注音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绛紫  自给  石窠  腌渍  煦暖  姹紫嫣红  韭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涔涔 精神矍铄  窖藏  沁人心脾  五彩斑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掌握下列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姹紫嫣红   繁盛    泼辣    煦暖    见缝插针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精神矍铄   老当益壮   万头攒动       傲然不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沁人心脾 五彩斑斓    耀眼争光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92160" y="133560"/>
            <a:ext cx="20091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掌握下列字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66680"/>
            <a:ext cx="8702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粗读课文，整体感受美点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思考：课文表达了作者怎样的思 想感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表现了延安军民怎样的精神面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?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读出自己喜欢的词、句、段，并且说说它们美在哪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抓住线索，理清课文思路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贯穿全文的线索是什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文章围绕这条线索写了哪些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可以分为哪几个部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3320" y="-792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隶书"/>
              </a:rPr>
              <a:t>学生自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65360" y="1447920"/>
            <a:ext cx="6578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找出文中的古诗、农谚、俗语，并讨论它们在文中的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未命名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10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45960" y="1676520"/>
            <a:ext cx="470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作用：增加文章的生动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和表现力，贴切的表达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者在劳动中的真情实感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1:13:52Z</dcterms:created>
  <dc:creator>xiaoxiao</dc:creator>
  <dc:description/>
  <dc:language>en-US</dc:language>
  <cp:lastModifiedBy>yhzx01</cp:lastModifiedBy>
  <dcterms:modified xsi:type="dcterms:W3CDTF">2004-09-27T06:56:20Z</dcterms:modified>
  <cp:revision>44</cp:revision>
  <dc:subject/>
  <dc:title>PowerPoint 演示文稿</dc:title>
</cp:coreProperties>
</file>