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F6A-4846-4B8B-BF88-374C42FE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251-6463-4355-B644-77AF14D2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36E-4921-4A40-BBC5-34671B07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151-066E-4E8E-993B-6F15B9DA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3F7-EC2C-4919-80BB-2CC626AA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3B1-260A-433D-8DFF-5FC10C2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6CB-2823-41D3-89EE-707A6720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FCC-DA07-44C3-A302-5AC9088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9BF-36CF-4871-8A54-3DA192F0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671-5D8F-41F6-A036-FACCF804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E9D-9F92-4A3C-BACC-E588E93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CB8-C506-4DA3-A487-466F1F9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3A3B-768E-4D39-8D6A-017D7AB48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timg?image&amp;quality=80&amp;size=b9999_10000&amp;sec=1520952926634&amp;di=73b6aeaf515c61ca30d6b06e64e48569&amp;imgtype=0&amp;src=http%3A%2F%2Fw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468360" y="620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楷体_GB2312"/>
              </a:rPr>
              <a:t>18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楷体_GB2312"/>
              </a:rPr>
              <a:t>、草原上的盛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timg?image&amp;quality=80&amp;size=b9999_10000&amp;sec=1521172356317&amp;di=96fefae126cbb64af88092473d5ac472&amp;imgtype=jpg&amp;src=http%3A%2F%2Fi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timg?image&amp;quality=80&amp;size=b9999_10000&amp;sec=1520953576693&amp;di=11e087cc9a00125db456189b6a71317d&amp;imgtype=0&amp;src=http%3A%2F%2F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img?image&amp;quality=80&amp;size=b9999_10000&amp;sec=1520953572952&amp;di=d07f50c0702280bcbd745550fa38b61d&amp;imgtype=0&amp;src=http%3A%2F%2Fneimengg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timg?image&amp;quality=80&amp;size=b9999_10000&amp;sec=1521172581133&amp;di=03768d0b80003e86e0e81be27758aa6d&amp;imgtype=0&amp;src=http%3A%2F%2Ftravel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timg?image&amp;quality=80&amp;size=b9999_10000&amp;sec=1521172867954&amp;di=13ab98ee50a6245e4c7fd65cae10c209&amp;imgtype=0&amp;src=http%3A%2F%2F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u=896452369,203419034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0"/>
          <p:cNvSpPr/>
          <p:nvPr/>
        </p:nvSpPr>
        <p:spPr>
          <a:xfrm>
            <a:off x="5508720" y="3789360"/>
            <a:ext cx="2665440" cy="792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img?image&amp;quality=80&amp;size=b9999_10000&amp;sec=1521011537658&amp;di=7654ce2b95e538f74711862e9226e3a5&amp;imgtype=0&amp;src=http%3A%2F%2Fimg2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35640" y="126828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彪形大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651640" y="3141720"/>
            <a:ext cx="295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汉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年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国某个朝代的名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2)Z}THK}GMNA}$BI9LFZ]K"/>
          <p:cNvPicPr/>
          <p:nvPr/>
        </p:nvPicPr>
        <p:blipFill>
          <a:blip r:embed="rId1"/>
          <a:stretch/>
        </p:blipFill>
        <p:spPr>
          <a:xfrm>
            <a:off x="1835280" y="1197000"/>
            <a:ext cx="5761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timg?image&amp;quality=80&amp;size=b9999_10000&amp;sec=1521011537658&amp;di=7654ce2b95e538f74711862e9226e3a5&amp;imgtype=0&amp;src=http%3A%2F%2Fimg2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5651640" y="141300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彪形大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5516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摔跤手穿着摔跤服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彪形大汉，身手不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2015060908504774"/>
          <p:cNvPicPr/>
          <p:nvPr/>
        </p:nvPicPr>
        <p:blipFill>
          <a:blip r:embed="rId1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timg?image&amp;quality=80&amp;size=b9999_10000&amp;sec=1520953303836&amp;di=cf342e7588b77e79a89370fc7fb837e8&amp;imgtype=0&amp;src=http%3A%2F%2Fd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-900000" y="620280"/>
            <a:ext cx="96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盛夏初秋    草绿水碧   牛羊肥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里草原   水草丰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胜者会得到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丰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奖赏，而且会成为人们心目中的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英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6598123098795675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骑马是蒙古同胞的拿手本领，他们从小就在马背上摸爬滚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64000" y="1773360"/>
            <a:ext cx="28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摸爬滚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他们刚学会走路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他们放学回家之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896000" y="23493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4896000" y="371628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骑马是蒙古同胞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拿手本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他们从小就在马背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摸爬滚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因此，蒙古族被称为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马背上的民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赛马手有老有小，那马在马鞭的指挥下，像箭一样飞驰，精彩极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84360" y="3716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771640" y="2295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老有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340000" y="2924280"/>
            <a:ext cx="68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像箭一样飞驰，精彩极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img?image&amp;quality=80&amp;size=b9999_10000&amp;sec=1521036589656&amp;di=4c9e9d560b6cb4c101aa9fd825912a0b&amp;imgtype=jpg&amp;src=http%3A%2F%2F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U3326P704DT200905271048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赛马手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有老有小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那马在马鞭的指挥下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像箭一样飞驰，精彩极了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484360" y="3716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timg?image&amp;quality=80&amp;size=b9999_10000&amp;sec=1520952926634&amp;di=73b6aeaf515c61ca30d6b06e64e48569&amp;imgtype=0&amp;src=http%3A%2F%2Fw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民乐群星-美丽的草原我的家 马头琴版.mp3" descr=""/>
          <p:cNvPicPr/>
          <p:nvPr/>
        </p:nvPicPr>
        <p:blipFill>
          <a:blip r:embed="rId2"/>
          <a:stretch/>
        </p:blipFill>
        <p:spPr>
          <a:xfrm>
            <a:off x="8207280" y="6121440"/>
            <a:ext cx="9367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8077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9Z96E}P`[J`4XEH_07KE$S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)`Q2OJVIGB]DAS(1VI7OPDV"/>
          <p:cNvPicPr/>
          <p:nvPr/>
        </p:nvPicPr>
        <p:blipFill>
          <a:blip r:embed="rId1"/>
          <a:stretch/>
        </p:blipFill>
        <p:spPr>
          <a:xfrm>
            <a:off x="0" y="476280"/>
            <a:ext cx="5616720" cy="5689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372360" y="2492280"/>
            <a:ext cx="1871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手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表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表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IL9L0[J07A[D22$SS}GRR8"/>
          <p:cNvPicPr/>
          <p:nvPr/>
        </p:nvPicPr>
        <p:blipFill>
          <a:blip r:embed="rId1"/>
          <a:stretch/>
        </p:blipFill>
        <p:spPr>
          <a:xfrm>
            <a:off x="1042920" y="765000"/>
            <a:ext cx="727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6d81800a19d8bc3e9cb64baa8a8ba61ea8d34517"/>
          <p:cNvPicPr/>
          <p:nvPr/>
        </p:nvPicPr>
        <p:blipFill>
          <a:blip r:embed="rId1"/>
          <a:stretch/>
        </p:blipFill>
        <p:spPr>
          <a:xfrm>
            <a:off x="250920" y="836640"/>
            <a:ext cx="5761080" cy="5087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116000" y="1047600"/>
            <a:ext cx="3816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且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732720" y="2852640"/>
            <a:ext cx="1657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况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姑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img?image&amp;quality=80&amp;size=b9999_10000&amp;sec=1521172489474&amp;di=d30facf8f8ec8aa0ccbe292b9af247f3&amp;imgtype=0&amp;src=http%3A%2F%2Fimg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u=4150639106,1959779655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img?image&amp;quality=80&amp;size=b9999_10000&amp;sec=1521172376165&amp;di=9f2038709eeed1fad7688cde26325b58&amp;imgtype=0&amp;src=http%3A%2F%2F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timg?image&amp;quality=80&amp;size=b9999_10000&amp;sec=1521172486247&amp;di=f3ceaeefe5cadf1c7939f76307802d5f&amp;imgtype=0&amp;src=http%3A%2F%2Fimgbd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timg?image&amp;quality=80&amp;size=b9999_10000&amp;sec=1521172758335&amp;di=88190f547b759e3e7ae9ef0ec96ca1ff&amp;imgtype=0&amp;src=http%3A%2F%2F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timg?image&amp;quality=80&amp;size=b9999_10000&amp;sec=1521172666439&amp;di=2fcddd8fd825a10ff8d62df8bb8ff9fd&amp;imgtype=0&amp;src=http%3A%2F%2Fs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12:17:50Z</dcterms:created>
  <dc:creator>未知用户</dc:creator>
  <dc:description/>
  <dc:language>en-US</dc:language>
  <cp:lastModifiedBy>Windows 用户</cp:lastModifiedBy>
  <dcterms:modified xsi:type="dcterms:W3CDTF">2018-03-19T07:07:51Z</dcterms:modified>
  <cp:revision>25</cp:revision>
  <dc:subject/>
  <dc:title>幻灯片 1</dc:title>
</cp:coreProperties>
</file>