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731-B553-4993-AB67-A4200BB9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DAC-C591-42AC-A55B-DD47085B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65E-273D-48F7-8734-48A7A129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A9B-1BE9-4A9E-8ED6-AA09E584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573D-5A27-436D-A24F-5A12E751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0163-6F98-4620-9FED-05375263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6867-59B1-4497-9E35-BE2994A1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3692-E1B4-4220-85E0-8E706D14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D3AE-8593-405E-9238-CEFAEF7A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4875-1330-410D-A363-989A3378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238-A801-4675-B48B-453068A7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E45-0459-40EF-A047-4D730755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FE8B-23F2-4DA3-9ADF-AE85673D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DE79-F8D4-43EA-A699-B032C97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F8AD-C090-4939-949B-89F48A25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CCDF-E876-4A73-8522-61951A97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E530-03F0-4C64-903D-2300B4A2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1D1-2FC0-453F-A644-32B9B82A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3E2-874C-40DF-90F5-74CAA079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4E8-389C-4548-AD4E-156E4EDC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901-876D-43DE-BAAD-CA9D806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104-D248-4BFF-B228-0ACC9E52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3DF-1F74-4E45-94AB-676F323C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F87-42FB-4BDE-9663-02C60C2C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90D3-8579-4C15-AD9D-4CB74E9CB7A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0EDA-9EE4-40A8-A870-43C5DD54082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28600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谁家玉笛暗飞声，散入春风满洛城。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此夜曲中闻折柳，何人不起故园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90920" y="539280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执教者：金英外国语学校 赵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幼圆"/>
                <a:ea typeface="幼圆"/>
              </a:rPr>
              <a:t>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8088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962520"/>
            <a:ext cx="8305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133720"/>
            <a:ext cx="8686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3049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游子深情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182880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思乡情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2895480"/>
            <a:ext cx="67816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举头望明月，低头思故乡。（李白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乡书何处达？归雁洛阳边。（王湾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仍怜故乡水，万里送行舟。（李白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日暮乡关何处是？烟波江上使人愁。（崔颢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6477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2860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838080"/>
            <a:ext cx="3810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与诗人相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22860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1107d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大声地吟读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1107d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02920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505320"/>
            <a:ext cx="6781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66"/>
                </a:solidFill>
                <a:latin typeface="Arial"/>
                <a:ea typeface="黑体"/>
              </a:rPr>
              <a:t>第一遍读：整体把握，读准语音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19720"/>
            <a:ext cx="6781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334120"/>
            <a:ext cx="655308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19320" y="29718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七言绝句诗，一般是四顿，二二二一或二二一二句式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0" y="152280"/>
            <a:ext cx="304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1107d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划分节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1107d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905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一是大体整齐的字数；二是大体整齐的句式；三是大体整齐的停顿次数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黑体"/>
              </a:rPr>
              <a:t>第二遍读：体味情感，注意语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2860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762120"/>
            <a:ext cx="3810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和诗人同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95280" y="236232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1107d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生动地译读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1107d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42900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1﹑</a:t>
            </a: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以诗译诗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2﹑</a:t>
            </a: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力求押韵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3﹑</a:t>
            </a: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解释扩展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362320"/>
            <a:ext cx="830592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09680" y="228600"/>
            <a:ext cx="3276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以诗译诗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066680"/>
            <a:ext cx="4724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谁家玉笛暗飞声，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752480"/>
            <a:ext cx="70866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66"/>
                </a:solidFill>
                <a:latin typeface="Arial"/>
                <a:ea typeface="黑体"/>
              </a:rPr>
              <a:t>不知谁家的玉笛吹出悠扬的笛声，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438280"/>
            <a:ext cx="4038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散入春风满洛城。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124080"/>
            <a:ext cx="701028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66"/>
                </a:solidFill>
                <a:latin typeface="Arial"/>
                <a:ea typeface="黑体"/>
              </a:rPr>
              <a:t>随着春风飘扬，传遍整个洛阳城。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809880"/>
            <a:ext cx="4800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此夜曲中闻折柳，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4419720"/>
            <a:ext cx="8534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66"/>
                </a:solidFill>
                <a:latin typeface="Arial"/>
                <a:ea typeface="黑体"/>
              </a:rPr>
              <a:t>就在今夜，听到哀伤的《折杨柳》曲调，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5029200"/>
            <a:ext cx="449568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何人不起故园情。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5000"/>
            <a:ext cx="632448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66"/>
                </a:solidFill>
                <a:latin typeface="Arial"/>
                <a:ea typeface="黑体"/>
              </a:rPr>
              <a:t>谁不会萌发思念故乡的深情。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6477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2860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8380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品诗人笔法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236232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1107d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妙点揣摩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1107d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35812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从字、词、修辞手法等方面进行多角度品析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幼圆"/>
                <a:ea typeface="幼圆"/>
              </a:rPr>
              <a:t>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8088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133720"/>
            <a:ext cx="86868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【洛城】：洛阳（今属河南）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【折柳】：即《折杨柳》，古代曲名。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曲中表达了送别时的哀怨感情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【玉笛】：形容笛的精美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【故园】：故乡，家乡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762120"/>
            <a:ext cx="3124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解词助读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219320" y="2209680"/>
            <a:ext cx="2971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1107d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优美地说读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1107d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352680"/>
            <a:ext cx="6019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1﹑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对诗人说话，用第  二人称“你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2﹑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想象合理的细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3﹑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语言简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幼圆"/>
                <a:ea typeface="幼圆"/>
              </a:rPr>
              <a:t>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8088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962520"/>
            <a:ext cx="8305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609480"/>
            <a:ext cx="358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飞扬神思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133720"/>
            <a:ext cx="8686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清明时节雨纷纷，路上行人欲断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35268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清明时节纷飞的雨雾洒向心中的每一个角落，啊，诗人啊，你是不是打着伞在山中的小路上行走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1-04-12T14:40:41Z</dcterms:modified>
  <cp:revision>1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