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B01-2702-4FD4-A211-FDDCF72B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159-435B-4E85-8D0A-77B514F6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197-6CA2-4597-A9FE-796DF028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4849-390F-4DC1-9CBF-190B3301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812E4-30F4-47D9-A01C-1DC454D8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F2D70-5EBC-4078-8DA6-6B49A961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2E0B2-FB44-47CB-B652-52723D25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013A7-A01C-44CF-926D-1C94FD59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F257B-D8E7-41FC-90B9-CBD40B81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9A07F-A7F8-4406-8489-0C2AC539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16F6C-7B7D-449B-BDD3-3EE29EB9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3BD-B121-4F60-8349-FB194627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DDBC0-27B6-4789-941A-84C28D7E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F0DD9-8941-4EE5-A515-C09AC4CA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537DE-E4DE-48EA-9AB2-810E1C82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E8AD0-9F71-466C-9BC9-130D4934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4395C-5DBA-4112-A151-B877E45C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6444-992A-4A0A-91F8-A0F976DA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211-76F6-4221-AA2C-7F56AFB1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BE7-A545-403C-8D2B-1E6A2B41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4F8F-CD54-4BCC-AC6A-600ED582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317-A8F2-4C39-A2B0-60969CBA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C5F-3D6B-425E-A1A0-751A0725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02A-932A-47F4-9C3D-8BA0210A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3262-D72A-45B6-8FA2-AAC3FFB113A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8531-D1D3-41E6-99A8-FA55CA419E1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5280" y="333360"/>
            <a:ext cx="845676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春夜洛城闻笛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" name=""/>
          <p:cNvSpPr/>
          <p:nvPr/>
        </p:nvSpPr>
        <p:spPr>
          <a:xfrm>
            <a:off x="5289480" y="2565360"/>
            <a:ext cx="385452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ahoma"/>
                <a:ea typeface="华文新魏"/>
              </a:rPr>
              <a:t>谁家玉笛暗飞声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ahoma"/>
                <a:ea typeface="华文新魏"/>
              </a:rPr>
              <a:t>散入春风满洛城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ahoma"/>
                <a:ea typeface="华文新魏"/>
              </a:rPr>
              <a:t>此夜曲中闻折柳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ahoma"/>
                <a:ea typeface="华文新魏"/>
              </a:rPr>
              <a:t>何人不起故园情。</a:t>
            </a:r>
            <a:br>
              <a:rPr sz="3600"/>
            </a:b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349360"/>
            <a:ext cx="201600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鉴赏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59280" y="2276640"/>
            <a:ext cx="2087280" cy="18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译文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4076640"/>
            <a:ext cx="223200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作者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916360" y="5300640"/>
            <a:ext cx="223200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图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971640" y="0"/>
            <a:ext cx="201600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鉴赏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81000"/>
            <a:ext cx="57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洛城就是现在河南的洛阳，在唐代是一个很繁华的都市，称为东都。一个春风骀荡的夜晚，万家灯火渐渐熄灭，白日的喧嚣早已平静下来。忽然传来嘹亮的笛声，凄清婉转的曲调随着春风飞呀，飞呀，飞遍了整个洛城。这时有一个远离家乡的诗人还没入睡，他倚窗独立，眼望着“白玉盘”似的明月，耳听着远处的笛声，陷入了沉思。笛子吹奏的是一支《折杨柳》曲，它属于汉乐府古曲，抒写离别行旅之苦。古代离别的时候，往往从路边折柳枝相送；杨柳依依，正好借以表达恋恋不舍的心情。在这样一个春天的晚上，听着这样一支饱含离愁别绪的曲子，谁能不起思乡之情呢？于是，诗人情不自禁地吟了这首七绝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　　这首诗全篇扣紧一个“闻”字，抒写自己闻笛的感受。这笛声不知是从谁家飞出来的，那未曾露面的吹笛人只管自吹自听，并不准备让别人知道他，却不期然而然地打动了许许多多的听众，这就是“谁家玉笛暗飞声”的“暗”字所包含的意味。“散入春风满洛城”，是艺术的夸张，在诗人的想象中，这优美的笛声飞遍了洛城，仿佛全城的人都听到了。诗人的夸张并不是没有生活的依据，笛声本来是高亢的，又当更深人静之时，再加上春风助力，说它飞遍洛城是并不至于过分的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　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88000" y="36360"/>
            <a:ext cx="3564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笛声飞来，乍听时不知道是什么曲子，细细听了一会儿，才知道是一支《折杨柳》。所以写到第三句才说“此夜曲中闻折柳”。这一句的修辞很讲究，不说听了一支折柳曲，而说在乐曲中听到了折柳。这“折柳”二字既指曲名，又不仅指曲名。折柳代表一种习俗，一个场景，一种情绪，折柳几乎就是离别的同义语。它能唤起一连串具体的回忆，使人们蕴藏在心底的乡情重新激荡起来。“何人不起故园情”，好象是说别人，说大家，但第一个起了故园之情的不正是李白自己吗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　　热爱故乡是一种崇高的感情，它同爱国主义是相通的。自己从小生于斯、长于斯的故乡，作为祖国的一部分，她的形象尤其难以忘怀。李白这首诗写的是闻笛，但它的意义不限于描写音乐，还表达了对故乡的思念，这才是它感人的地方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532720" y="624672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550"/>
                            </p:stCondLst>
                            <p:childTnLst>
                              <p:par>
                                <p:cTn id="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600"/>
                            </p:stCondLst>
                            <p:childTnLst>
                              <p:par>
                                <p:cTn id="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6600"/>
                            </p:stCondLst>
                            <p:childTnLst>
                              <p:par>
                                <p:cTn id="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419640" y="189000"/>
            <a:ext cx="1871640" cy="16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译文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2205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1844640"/>
            <a:ext cx="8028000" cy="26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灯火渐熄的夜晚，谁家传出嘹亮的玉笛声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笛声随着春风，飘满整个洛城。 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这种夜晚听到《折杨柳》的曲调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谁不会萌发思念故乡的深情！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532720" y="624672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404640"/>
            <a:ext cx="2232000" cy="11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作者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547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李白 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(701—762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年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)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，生日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701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年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2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月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8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日，汉族，字太白，号青莲居士，唐代伟大的浪漫主义诗人，在我国历史上，被称为诗仙。其诗风豪放飘逸，想象丰富，语言流转自然，音律和谐多变。他善于从民歌、神话中汲取营养素材，构成其特有的瑰丽绚烂的色彩，是屈原以来积极浪漫主义诗歌的新高峰，与杜甫并称“李杜”，是华夏史上最伟大的诗人。</a:t>
            </a:r>
            <a:br>
              <a:rPr sz="1800"/>
            </a:b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      李白祖籍陇西成纪（今甘肃省秦安县），隋朝末年，迁徙到中亚碎叶城（今吉尔吉斯斯坦北部托克马克附近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.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），李白即诞生于此。五岁时，其家迁入绵州彰明县（今四川 江油县）。二十岁时只身出川，开始了广泛漫游，南到洞庭湘江，东至吴、越，寓居在安陆（今湖北省安陆县）。他到处游历，希望结交朋友，干谒社会名流，从而得到引荐，一举登上高位，去实现政治理想和抱负。     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60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可是，十年漫游，却一事无成。他又继续北上太原、长安，东到齐、鲁各地，并寓居山东任城（今山东济宁）。这时他已结交了不少名流，创作了大量优秀诗篇，诗名满天下。天宝初年，由道士吴人筠推荐，唐玄宗召他进京，命他供奉翰林。不久，因权贵的谗悔，于天宝三、四年间（公元 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744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或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745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年），被排挤出京。此后，他在江、淮一带盘桓，思想极度烦闷。</a:t>
            </a:r>
            <a:br>
              <a:rPr sz="1800"/>
            </a:b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       天宝十四年（公元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755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年）冬，安禄山叛乱，他这时正隐居庐山，适逢永王李遴的大军东下， 邀李白下山入幕府。后来李遴反叛肃宗，被消灭，李白受牵连，被判处流放夜郎（今贵州省境内），中途遇赦放还，往来于浔阳（今江西九江）、宣城（今安徽宣城）等地。代宗宝应元年（公元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762</a:t>
            </a:r>
            <a:r>
              <a:rPr b="1" lang="zh-CN" sz="1800" spc="-1" strike="noStrike">
                <a:solidFill>
                  <a:srgbClr val="99ff99"/>
                </a:solidFill>
                <a:latin typeface="Tahoma"/>
              </a:rPr>
              <a:t>年），病死于安徽当涂县。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532720" y="624672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143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532720" y="624672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1690920" cy="244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50920" y="260280"/>
            <a:ext cx="223200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图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700360" y="981000"/>
            <a:ext cx="1730520" cy="2376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076720" y="907920"/>
            <a:ext cx="1038240" cy="208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020000" y="981000"/>
            <a:ext cx="1542960" cy="1584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95280" y="4221000"/>
            <a:ext cx="1658880" cy="2349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3276720" y="4149720"/>
            <a:ext cx="2160360" cy="155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6300720" y="3716280"/>
            <a:ext cx="20876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619280" y="2276640"/>
            <a:ext cx="5977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谢谢观赏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2:13:43Z</dcterms:created>
  <dc:creator>微软用户</dc:creator>
  <dc:description/>
  <dc:language>en-US</dc:language>
  <cp:lastModifiedBy>李莉</cp:lastModifiedBy>
  <dcterms:modified xsi:type="dcterms:W3CDTF">2008-04-13T02:47:12Z</dcterms:modified>
  <cp:revision>4</cp:revision>
  <dc:subject/>
  <dc:title>幻灯片 1</dc:title>
</cp:coreProperties>
</file>