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3DC-2D78-4FC1-A951-193BF2CF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2D4-BE2C-4D36-A60A-9660B468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B10-FABF-47D3-94BA-BF19B899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91F-2C88-425B-A164-8DDD9799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5C2E-D466-4BA6-8432-14A89870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09B1-3826-4301-B4A3-E3E9A6C6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CB3E-3083-420D-BE75-4F777B79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F43F-291B-42CE-9ABA-E52C6E19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717D-6EC6-42E1-9BF1-2492BE68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8655-9363-43BF-8B27-B03D1C46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3A7F-3712-47CD-860B-99CCE52C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683-6072-4B39-8842-A42960BF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6590-4BFA-4DF2-A65C-07B05844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9D0C-D243-4A11-B4C3-14945BC0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171B-A803-4EBA-BB47-F34DB770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9840-E457-4DC7-9CF3-DB0810E9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9291-F77E-47A9-9E55-EBE1BEB8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484-C73C-4F47-AC22-30B65F35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2F3-A5DD-47D5-B82B-9B51CA1C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A48-8115-4A38-894D-67FD734F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AC1-2702-4AC3-8C57-03488336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926-B4C9-40FD-9544-EA30005E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3C6-3CC6-46CF-B88C-2F1AA663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4F5-7A6B-46A2-83A1-8D9C6E5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41E3-18F3-4A4F-A4DA-44C90A5E54A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8369-770D-4B14-A1C5-07EC5E4FE2E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春夜洛城闻笛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李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谁家玉笛暗飞声，散入春风满洛城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此夜曲中闻折柳，何人不起故园情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dff"/>
                </a:solidFill>
                <a:latin typeface="Comic Sans MS"/>
              </a:rPr>
              <a:t>文意分析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03dff"/>
                </a:solidFill>
                <a:latin typeface="Comic Sans MS"/>
              </a:rPr>
              <a:t>问题探究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１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前人在评论这首诗是曾说，“折柳”二字是全诗的关键，诗中所提到的“折柳”，究竟指的是什么呢？为什么诗人“闻折柳”后，就产生了浓浓的“故园情”？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参考答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折柳一词最早出现在汉乐府《折杨柳歌辞》第一中：上马不捉鞭，反折杨柳枝。所以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折柳是一支曲子名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所以“曲中闻折柳”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折柳”一词寓含“惜别怀远”之意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在我国的古代，亲朋好友一旦分离，送行者总要折一支柳条赠给远行者。“折柳”一词寓含“惜别”之意 。古时柳树又称小杨或杨柳，因“柳”与“留”谐音，可以表示挽留之意。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离别赠柳表示难分难离、不忍相别、恋恋不舍的心意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dff"/>
                </a:solidFill>
                <a:latin typeface="Comic Sans MS"/>
              </a:rPr>
              <a:t>２</a:t>
            </a:r>
            <a:r>
              <a:rPr b="0" lang="zh-CN" sz="4400" spc="-1" strike="noStrike">
                <a:solidFill>
                  <a:srgbClr val="703dff"/>
                </a:solidFill>
                <a:latin typeface="Comic Sans MS"/>
              </a:rPr>
              <a:t>.  </a:t>
            </a:r>
            <a:r>
              <a:rPr b="0" lang="zh-CN" sz="4400" spc="-1" strike="noStrike">
                <a:solidFill>
                  <a:srgbClr val="703dff"/>
                </a:solidFill>
                <a:latin typeface="Comic Sans MS"/>
              </a:rPr>
              <a:t>赏析“散入春风满洛城”中“散”字的妙处。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参考答案：“散“字准确的表现了笛声“散入春风”，随着春风传到各地，勾出了多少旅人的情思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dff"/>
                </a:solidFill>
                <a:latin typeface="Comic Sans MS"/>
              </a:rPr>
              <a:t>３</a:t>
            </a:r>
            <a:r>
              <a:rPr b="0" lang="zh-CN" sz="4400" spc="-1" strike="noStrike">
                <a:solidFill>
                  <a:srgbClr val="703dff"/>
                </a:solidFill>
                <a:latin typeface="Comic Sans MS"/>
              </a:rPr>
              <a:t>.</a:t>
            </a:r>
            <a:r>
              <a:rPr b="0" lang="zh-CN" sz="4400" spc="-1" strike="noStrike">
                <a:solidFill>
                  <a:srgbClr val="703dff"/>
                </a:solidFill>
                <a:latin typeface="Comic Sans MS"/>
              </a:rPr>
              <a:t>这首诗表达了诗人怎样的情感？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对家乡和亲人的思念之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6T08:06:45Z</dcterms:created>
  <dc:creator>Windows 用户</dc:creator>
  <dc:description/>
  <dc:language>en-US</dc:language>
  <cp:lastModifiedBy>Windows 用户</cp:lastModifiedBy>
  <dcterms:modified xsi:type="dcterms:W3CDTF">2017-04-06T08:31:05Z</dcterms:modified>
  <cp:revision>2</cp:revision>
  <dc:subject/>
  <dc:title>春夜洛城闻笛 李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