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0B7-DFD1-46F3-AEFE-5249E6DC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827-7412-48F9-B939-4F23B6C9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D9D-8288-4D1D-9510-7FFC6B51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18D-E0ED-4446-AB68-DA155626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975-DC14-4C3C-AD11-AB779201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A1F-F5DF-4024-A6D7-121BCCD6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15E-3A33-42FC-A6F5-48C2BEC6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AE3-3A44-46C3-890A-E9340421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330-5196-415E-9DA2-8E3462FC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015-2CEC-4C46-8FDC-ACD418CE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731-D724-467D-8F71-6A8E6AEF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487-8994-4869-95C8-A7D76CE5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ED50-A161-454D-9530-13F45A1610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71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2421000"/>
            <a:ext cx="6192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十八子，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476280"/>
            <a:ext cx="280800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cc">
                        <a:alpha val="20000"/>
                      </a:srgbClr>
                    </a:gs>
                    <a:gs pos="100000">
                      <a:srgbClr val="ff6699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课前谜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cc">
                      <a:alpha val="20000"/>
                    </a:srgbClr>
                  </a:gs>
                  <a:gs pos="100000">
                    <a:srgbClr val="ff6699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404640"/>
            <a:ext cx="41767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文学常识提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《春夜洛城闻笛》选自（                ）本诗作者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字词提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洛城：      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玉笛：      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折柳（指什么，表达了怎样的感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4.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故园：       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5.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暗飞声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00000" y="620640"/>
            <a:ext cx="73454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Medium"/>
              </a:rPr>
              <a:t>谢谢合作</a:t>
            </a:r>
            <a:endParaRPr b="0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教师伙伴：王馨悦，虞亦奇，      吴美琳，沈文吉，许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1411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李白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(701—762)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， 字太白，祖籍陇西成纪（今甘肃省天水县），隋朝末年，迁徙到中亚碎叶城（今苏联托可马克），李白即诞生于此。他到处游历，希望结交朋友，干谒社会名流，从而得到引荐，一举登上高位，去实现政治理想和抱负。可是，十年漫游，却一事无成。他又继续北上太原、长安，东到齐、鲁各地，并寓居山东任城（今山东济宁）。这时他已结交了不少名流，创作了大量优秀诗篇，诗名满天下。后来李遴反叛肃宗，被消灭，李白受牵连，代宗宝应元年（公元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76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年），病死于安徽当涂县。它的大量诗篇，既反映了那个时代的繁荣气象，也揭露和批判了统治集团的荒淫和腐败，表现出蔑视权贵，反抗传统束缚，追求自由和理想的积极精神。在艺术上，他的诗想象新奇，感情强烈，意境奇伟瑰丽，语言清新明快，形成豪放、超迈的艺术风格，达到了我国古代积极浪漫主义诗歌艺术的高峰。存诗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900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余首，有《李太白集 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2886120" cy="4216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995640" y="668160"/>
            <a:ext cx="223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李白简介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6836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6004800" y="2066760"/>
            <a:ext cx="4608720" cy="995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6699">
                        <a:alpha val="98039"/>
                      </a:srgbClr>
                    </a:gs>
                    <a:gs pos="100000">
                      <a:srgbClr val="ff99c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春夜洛城闻笛</a:t>
            </a:r>
            <a:endParaRPr b="1" i="1" lang="en-US" sz="32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6699">
                      <a:alpha val="98039"/>
                    </a:srgbClr>
                  </a:gs>
                  <a:gs pos="100000">
                    <a:srgbClr val="ff99cc"/>
                  </a:gs>
                </a:gsLst>
                <a:lin ang="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6911280" y="3752640"/>
            <a:ext cx="1440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唐】 李白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3814bc"/>
                </a:solidFill>
                <a:latin typeface="Arial"/>
              </a:rPr>
              <a:t>这首诗当是开元二十三年（</a:t>
            </a:r>
            <a:r>
              <a:rPr b="0" lang="zh-CN" sz="3200" spc="-1" strike="noStrike">
                <a:solidFill>
                  <a:srgbClr val="3814bc"/>
                </a:solidFill>
                <a:latin typeface="Arial"/>
              </a:rPr>
              <a:t>735</a:t>
            </a:r>
            <a:r>
              <a:rPr b="0" lang="zh-CN" sz="3200" spc="-1" strike="noStrike">
                <a:solidFill>
                  <a:srgbClr val="3814bc"/>
                </a:solidFill>
                <a:latin typeface="Arial"/>
              </a:rPr>
              <a:t>）李白游洛阳时所作。描写在夜深人静之时，闻笛声而引起思乡之情。王尧衢《唐诗合解》：“忽然闻笛，不知吹自谁家。因是夜闻，声在暗中飞也。笛声以风声而吹散，风声以笛声而远扬，于是洛春夜遍闻风声，即遍闻笛声矣。折柳所以赠别，而笛调中有《折杨柳》一曲。闻折柳而伤别，故情切乎故园。本是自我起情，却说闻者‘何人不起’，岂人人有别情乎？只为‘散入春风’，满城听得耳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780000" y="620640"/>
            <a:ext cx="216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Lucida Sans"/>
              </a:rPr>
              <a:t>写作背景</a:t>
            </a:r>
            <a:endParaRPr b="1" i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Lucida Sans"/>
              <a:ea typeface="Lucida Sans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7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字词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）洛城：洛阳（现在河南洛阳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）玉笛：精美的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）暗飞声：声音不知从何处传来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）春风：另一版本作“东风”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）折柳：即《折杨柳》笛曲，乐府“鼓角横吹曲”调名，内容多写离情别绪。胡仔《苕溪渔隐丛话后集》卷四：“《乐府杂录》云：‘笛者，羌乐也。古典有《折杨柳》、《落梅花》。故谪仙《春夜洛城闻笛》……’杜少陵《吹笛》诗：‘故园杨柳今摇落，何得愁中曲尽生？’王之涣云：‘羌笛何须怨杨柳，春风不度玉门关。’皆言《折杨柳》曲也。”曲中表达了送别时的哀怨感情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990000"/>
                </a:solidFill>
                <a:latin typeface="Arial"/>
              </a:rPr>
              <a:t>）故园：指故乡，家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40360" y="1125360"/>
            <a:ext cx="5003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425160" cy="683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文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阵阵悠扬的笛声，是从谁家中飘出的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随着春风飘扬，传遍洛阳全城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就在今夜，听到哀伤的《折杨柳》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有谁会不勾起思乡之情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8000" y="299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三句点出《折柳》曲。古人送别时折柳，盼望亲人来归也折柳。据说“柳”谐“留”音，故折柳送行表示别情。长安灞桥即为有名的送别之地，或云其地杨柳为送行人攀折殆尽。《折杨柳》曲伤离惜别，其音哀怨幽咽。晋太康末，京洛流行《折杨柳》歌，有“兵革苦辛”之词。北朝《折杨柳歌》曰：“上马不捉鞭，反拗杨柳枝；蹀坐吹长笛，愁杀行客儿。”大约都是据曲意填的歌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四句时，诗人听到这《折柳》曲，便引起客愁乡思。一般说，久居他乡的人，白天还没有什么，可是一到日暮天晚，就容易想念家乡。在春秋季节，人们也常是多愁善感。《折柳》为全诗点睛，亦即“闻笛”的题义所在。三，四两句写诗人自己情怀，却从他人反说。强调“此夜”，是面对所有客居洛阳城的人讲话，为结句“何人不起故园情”作势。这是主观情感的推衍，不言“我”，却更见“我”感触之深，乡思之切。 短短的一首七言绝句，倒颇能显现李太白的风格特点，即艺术表现上的主观倾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92428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一句“谁家玉笛暗飞声 ”便自然地从舌头淌出。“暗”字有多重意蕴，已故沈祖棻先生说：“不知何人所吹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从何而来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所以说是从暗中飞出。”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《唐人七绝诗浅释》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；王尧衢《唐诗合解》中说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"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忽然闻笛，不知吹自谁家。因是夜闻，声在暗中飞也。以上注解，自有其道理。我个人认为《折扬柳》曲本是送别之曲，是婉转幽咽的，而“暗”字，绘出了笛声应是隐隐约约的，断断续续的，不欢快的。这就暗合了这首诗的情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第二句着意渲染笛声，说它“散入春风满洛城”。诗人是个敏感的人，他听到了遥远的地方传来的笛音，就认定这笛韵一定能传遍洛城的每一个角落。他巧妙地加入了“散入春风”这一想象，说是笛声借助了风力，使人无处不闻。这显然是有心人的主观感觉的极度夸张。李白的诗主观色彩非常强烈，这一句艺术的夸张是符合他一贯的写作特色的。这一句中 “满”字用得真好，从“散”字引绎而出，二者密合无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03640" y="476280"/>
            <a:ext cx="30477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全文赏析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1557360"/>
            <a:ext cx="62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这首诗全篇紧扣一个“闻”字，抒写了自己闻笛的感受。春夜阑珊，诗人难于成寐，不期然地几缕断断续续的笛声飘然而至，诗人倚窗而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640" y="220464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同学们，学习了那么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华文彩云"/>
              </a:rPr>
              <a:t>让我们来检验一下吧</a:t>
            </a: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华文彩云"/>
              </a:rPr>
              <a:t>O(∩_∩)O~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15840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下面的问题，将随机抽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同学回答，下面同学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合上书本，不许提醒</a:t>
            </a:r>
            <a:r>
              <a:rPr b="0" lang="zh-CN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4248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2:03:12Z</dcterms:created>
  <dc:creator>dell</dc:creator>
  <dc:description/>
  <dc:language>en-US</dc:language>
  <cp:lastModifiedBy>微软中国</cp:lastModifiedBy>
  <dcterms:modified xsi:type="dcterms:W3CDTF">2010-05-23T12:53:33Z</dcterms:modified>
  <cp:revision>11</cp:revision>
  <dc:subject/>
  <dc:title>幻灯片 1</dc:title>
</cp:coreProperties>
</file>