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1.gif" ContentType="image/gif"/>
  <Override PartName="/ppt/media/image9.gif" ContentType="image/gif"/>
  <Override PartName="/ppt/media/image7.gif" ContentType="image/gif"/>
  <Override PartName="/ppt/media/image10.gif" ContentType="image/gif"/>
  <Override PartName="/ppt/media/image12.jpeg" ContentType="image/jpeg"/>
  <Override PartName="/ppt/media/image5.gif" ContentType="image/gif"/>
  <Override PartName="/ppt/media/image8.png" ContentType="image/png"/>
  <Override PartName="/ppt/media/image14.jpeg" ContentType="image/jpeg"/>
  <Override PartName="/ppt/media/image6.jpeg" ContentType="image/jpeg"/>
  <Override PartName="/ppt/media/image4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5.gif" ContentType="image/gif"/>
  <Override PartName="/ppt/media/image3.jpeg" ContentType="image/jpeg"/>
  <Override PartName="/ppt/media/image1.gif" ContentType="image/gif"/>
  <Override PartName="/ppt/media/image24.gif" ContentType="image/gif"/>
  <Override PartName="/ppt/media/image25.gif" ContentType="image/gif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117C-0FA8-4887-8752-6746DCB42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29EC-24CE-440E-9C9C-06FEC3BB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981F-012E-4F92-9CD0-1DD9CED5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7A63-6617-4743-B889-16953063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7D10-8893-45B7-A0B0-64092626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3CB7-CE5E-4C17-A5B8-A66DDC59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0647-3833-4775-A1AD-E3CA5344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E5E3-F294-47B0-BE91-A52CE2A5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A994-9E16-46A7-81F4-1093223D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D523-4DE6-4461-8C06-13E83D2D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B64D-2EA9-4796-A975-C254A4BA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FE3D-4A5B-47EA-8BAD-B4F990F8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0F09-C026-436F-B5DA-FCCF78D808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导入新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《春夜洛城闻笛》是唐代诗人李白创作的一首七言绝句。此诗抒发了作者客居洛阳夜深人静之时被笛声引起的思乡之情。诗题中“洛城”表明是客居，“春夜”点出季节和具体的时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03480" cy="1413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三句说明春风传来的笛声，吹奏的是表现离情别绪的《折杨柳》，于是紧接一句说，哪个能不被引发思念故乡家园的情感呢！水到渠成而戛然而止，因而余韵袅袅，久久萦绕于读者心间，令人回味无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4292640"/>
            <a:ext cx="9144000" cy="2565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短短的一首七言绝句，颇能显现李白的风格特点，即艺术表现上的主观倾向。热爱故乡是一种崇高的感情，它同爱国主义是相通的。诗人的故乡是他从小生于此，长于此的地方，作为祖国的一部分，那种形象尤其令诗人难以忘怀。李白这首诗写的是闻笛，但它的意义不限于描写音乐，还表达了对故乡的思念，这才是它感人的地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564000" y="5796000"/>
            <a:ext cx="5580000" cy="1062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分析诗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前两句（叙事）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客居洛城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春夜闻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后两句（抒情）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夜闻《折柳》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              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触景思乡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156360" y="0"/>
            <a:ext cx="2987640" cy="2781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4076640"/>
            <a:ext cx="298764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课堂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前人在评论这首诗是曾说，“折柳”二字是全诗的关键，你是否同意“关键”之说？为什么？</a:t>
            </a:r>
            <a:br>
              <a:rPr sz="36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折柳”是古代关于惜别的一首名曲，后人在送别中常有折柳的习俗。“折柳”这首曲子寓有惜别怀远之意。本诗抒写了思乡之情，而这种思乡之情是听到“折柳”曲的笛声引起的，可见“折柳”是本诗的关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732720" y="1916280"/>
            <a:ext cx="2411280" cy="865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77080" y="5992920"/>
            <a:ext cx="2266920" cy="865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赏析“散入春风满洛城”中“散”字的妙处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散“字准确的表现了笛声“散入春风”，随着春风传到各地，勾出了多少旅人的情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从诗的末句你感受到了诗人怎样的情感？</a:t>
            </a:r>
            <a:br>
              <a:rPr sz="40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从“故园情”三字可以看出这首诗表达的是诗人的思乡之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3141720"/>
            <a:ext cx="9144000" cy="415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6442200"/>
            <a:ext cx="9144000" cy="415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艺术特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全诗扣紧一个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字，抒写自己闻笛的感受。此诗意境绵延深厚。诗人用隽永含蓄的笔调抒写了浓浓的思乡之情。在那个春天的夜晚，诗人静静伫立，那悠扬的笛声满城飘扬，激荡起诗人无限的离愁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32000" cy="1195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023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《春夜洛城闻笛》是唐代诗人李白创作的一首七言绝句。此诗抒发了作者客居洛阳夜深人静之时被笛声引起的思乡之情，其前两句描写笛声随春风而传遍洛阳城，后两句写因闻笛而思乡。全诗扣紧一个“闻”字，抒写自己闻笛的感受，合理运用想象和夸张，感情直率真挚又有余蕴，令人回味无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116000" cy="1601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主题思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诗主要叙述了诗人客居洛城的一个夜晚，听到抒发离别行旅之苦的笛声，勾起了思念家乡和亲人的深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3789360"/>
            <a:ext cx="9144000" cy="3068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7280" cy="1413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春夜洛城闻笛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李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292720" y="260280"/>
            <a:ext cx="115236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复习与李白相关的文学常识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领会诗歌的思想内容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习诗人感情直率真挚又有余蕴，令人回味无穷的语言风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背诵、默写诗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248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走近作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40000" y="0"/>
            <a:ext cx="680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2195640" cy="5516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411280" y="0"/>
            <a:ext cx="69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李白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70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76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，字太白，号青莲居士。是屈原之后最具个性特色、最伟大的浪漫主义诗人。有“诗仙”之美誉，与杜甫并称“李杜”。诗风雄奇豪放，想像丰富，语言流转自然，音律和谐多变，达到盛唐诗歌艺术的巅峰。存世诗文千余篇，有《李太白集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创作背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首诗是唐玄宗开元二十三年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73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）李白游洛城（即洛阳）时所作。洛阳在唐代是一个很繁华的都市，时称东都。当时李白客居洛城，大概正在客栈里，因偶然听到笛声而触发故园情，作此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朗读诗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春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洛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闻笛   李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谁家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玉笛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暗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飞声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散入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春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满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洛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此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曲中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闻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折柳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何人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起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故园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75564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1143000" cy="5416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451640" y="260280"/>
            <a:ext cx="1692360" cy="6597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86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字词注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⑴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洛城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即洛阳，今属河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⑵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玉笛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玉制或锻玉的笛子。玉：指玉石。暗飞声：声音不知从何处传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⑶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满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此处作动词用，传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⑷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闻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听；听见。折柳：即《折杨柳》笛曲，乐府“鼓角横吹曲”调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⑸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故园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指故乡，家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47640" cy="1197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596360" y="5661000"/>
            <a:ext cx="1547640" cy="1197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翻译诗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谁家的庭院，飞出幽隐的玉笛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融入春风，飘满洛阳古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客居之夜听到《折杨柳》的乐曲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谁又能不生出怀恋故乡的深情呢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4365720"/>
            <a:ext cx="9144000" cy="2492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907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236000" y="0"/>
            <a:ext cx="1908000" cy="907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诗歌赏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诗的第一句是猜测性的问句。那未曾露面的吹笛人只管自吹自听，却不期然而打动了许许多多听众，这就是句中“暗”字所包含的意味。第二句说笛声由春风吹散，传遍了洛阳城。这是诗人的想象，也是艺术的夸张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515772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003640" y="0"/>
            <a:ext cx="4140360" cy="857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857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4T06:30:09Z</dcterms:created>
  <dc:creator>未知用户</dc:creator>
  <dc:description/>
  <dc:language>en-US</dc:language>
  <cp:lastModifiedBy>未知用户</cp:lastModifiedBy>
  <dcterms:modified xsi:type="dcterms:W3CDTF">2017-03-04T08:29:34Z</dcterms:modified>
  <cp:revision>7</cp:revision>
  <dc:subject/>
  <dc:title>幻灯片 1</dc:title>
</cp:coreProperties>
</file>