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419-1B53-4562-AAB2-31CEC78D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C25-03C8-4BF1-8374-93E0BD4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CFD-9643-45B4-A1AD-C6A38C70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F33-B2A2-44CE-B405-ED4B9CA2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3DE1-FE3B-4CCB-96F3-AFDFC310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6ECF-70E2-4A27-9881-369E66C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1CEF-8090-4D73-9B4A-AD548FEA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D265-F38A-416C-A99C-75EAF26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2AB-BB23-4EC9-8935-61D5F49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A463-F15E-4E4F-9AE8-F0E28F6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D48E-8372-434F-9C0C-00E7D46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E3A-BB31-4345-AF25-2130928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A62B-EB9E-409D-8595-4C34B71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3615-C30F-4763-8D82-2D8487F0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CB4-477E-4787-8B8C-A3E3E81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AE6-6CAD-462F-9542-A3510D17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23D5-C39F-4426-B42F-DF857EF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CEC-F773-4201-B31B-54BD1C6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F7E-EC44-4FB2-9480-F677DE9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DC0-FBCE-40B7-9575-155D1EE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8E3-9FFE-4DCD-AB8A-D130BDC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A0B-1305-4404-B48F-40495BE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39C-8AD8-460B-8E4F-037F226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C57-80F4-43E9-A310-88A38BB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CCD-1461-439F-A1F7-4F0C5F1D705F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30E-38E7-4C97-ACAB-575D8428A3DF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fbd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732720" y="692280"/>
            <a:ext cx="158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幼圆"/>
                <a:ea typeface="幼圆"/>
              </a:rPr>
              <a:t>采桑子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11960" y="34869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ahoma"/>
                <a:ea typeface="幼圆"/>
              </a:rPr>
              <a:t>欧阳修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3D9-06C2-447F-A427-835E837CF3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b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651640" y="4402440"/>
            <a:ext cx="328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40458c"/>
                </a:solidFill>
                <a:latin typeface="幼圆"/>
                <a:ea typeface="幼圆"/>
              </a:rPr>
              <a:t>六“一”：一</a:t>
            </a:r>
            <a:r>
              <a:rPr b="1" lang="zh-TW" sz="3200" spc="-1" strike="noStrike">
                <a:solidFill>
                  <a:srgbClr val="40458c"/>
                </a:solidFill>
                <a:latin typeface="幼圆"/>
                <a:ea typeface="幼圆"/>
              </a:rPr>
              <a:t>万卷书、一千卷金石文、一张琴、一局棋、一壶酒，再加上他本人一老翁</a:t>
            </a:r>
            <a:r>
              <a:rPr b="1" lang="zh-CN" sz="3200" spc="-1" strike="noStrike">
                <a:solidFill>
                  <a:srgbClr val="40458c"/>
                </a:solidFill>
                <a:latin typeface="幼圆"/>
                <a:ea typeface="幼圆"/>
              </a:rPr>
              <a:t>。</a:t>
            </a:r>
            <a:r>
              <a:rPr b="1" lang="zh-TW" sz="3200" spc="-1" strike="noStrike">
                <a:solidFill>
                  <a:srgbClr val="40458c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59280" y="1308960"/>
            <a:ext cx="33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0458c"/>
                </a:solidFill>
                <a:latin typeface="幼圆"/>
                <a:ea typeface="幼圆"/>
              </a:rPr>
              <a:t>  </a:t>
            </a:r>
            <a:r>
              <a:rPr b="1" lang="zh-TW" sz="2800" spc="-1" strike="noStrike">
                <a:solidFill>
                  <a:srgbClr val="40458c"/>
                </a:solidFill>
                <a:latin typeface="幼圆"/>
                <a:ea typeface="幼圆"/>
              </a:rPr>
              <a:t>六一居士初谪滁山，自号醉翁。既老而衰且病，将退休于颍水之上，则又更号六一居士</a:t>
            </a:r>
            <a:r>
              <a:rPr b="1" lang="zh-CN" sz="2800" spc="-1" strike="noStrike">
                <a:solidFill>
                  <a:srgbClr val="40458c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9700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0066"/>
                </a:solidFill>
                <a:latin typeface="宋体"/>
                <a:ea typeface="宋体"/>
              </a:rPr>
              <a:t>    </a:t>
            </a:r>
            <a:r>
              <a:rPr b="1" lang="zh-TW" sz="2400" spc="-1" strike="noStrike">
                <a:solidFill>
                  <a:srgbClr val="660066"/>
                </a:solidFill>
                <a:latin typeface="宋体"/>
                <a:ea typeface="宋体"/>
              </a:rPr>
              <a:t>欧阳修（１００７－１０７２）：北宋文学家、史学家。字永叔，号醉翁、六一居士，吉州吉水（今属江西）人。天圣进士。官馆阁校勘，因直言论事贬知夷陵。庆历中任谏官，支持范仲淹，要求在政治上有所改良，被诬贬知滁州。官至翰林学士、枢密副使、参知政事。王安石推行新法时，对青苗法有所批评。谥文忠。主张文章应“明道”、致用，对宋初以来靡丽、险怪的文风表示不满，并积极培养后进，是北宋古文运动的领袖。散文说理畅达，抒情委婉，为“唐宋八大家”之一；诗风与其散文近似，语言流畅自然。其词婉丽，承袭南唐余风。曾与宋祁合修《新唐书》，并独撰《新五代史》。又喜收集金石文字，编为《集古录》，对宋代金石学颇有影响。有《欧阳文忠集》。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DF4-F619-48A6-B7C9-749A37F93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35320" y="58248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幼圆"/>
                <a:ea typeface="幼圆"/>
              </a:rPr>
              <a:t>采 桑 子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欧 阳 修</a:t>
            </a:r>
            <a:r>
              <a:rPr b="1" lang="zh-CN" sz="5400" spc="-1" strike="noStrike">
                <a:solidFill>
                  <a:srgbClr val="660066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56536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轻舟短棹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zhào]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西湖好，绿水逶迤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wēi yí]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，芳草长堤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[dī]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，隐隐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shēng ]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歌处处随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无风水面琉璃滑，不觉船移，微动涟漪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lián yī]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，惊起沙禽掠岸飞。 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2CB-06AF-4D07-BC24-9E09B271E6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2349360"/>
            <a:ext cx="86040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译：西湖风光好，驾轻舟划短桨多么逍遥。 碧绿的湖水绵延不断，长堤上花草散出芳香。 隐隐传来的音乐歌唱，像是随着船儿在湖上飘荡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40458c"/>
                </a:solidFill>
                <a:latin typeface="隶书"/>
                <a:ea typeface="隶书"/>
              </a:rPr>
              <a:t>上片写泛舟湖上所见。这几句描写，词人运用了静中有动，动中有静方法，并把形象与声音结合，营造出西湖一片安谧、恬静的气氛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方正姚体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方正姚体"/>
              </a:rPr>
              <a:t>轻舟短棹西湖好，绿水逶迤，芳草长堤，隐隐笙歌处处随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A13-1613-48E7-A15C-AFAE9C236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70828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译</a:t>
            </a:r>
            <a:r>
              <a:rPr b="0" lang="zh-TW" sz="3200" spc="-1" strike="noStrike">
                <a:solidFill>
                  <a:srgbClr val="0033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无风的水面，光滑得好似琉璃一样，不觉得船儿在前进，只见微微的细浪在船边荡漾。看，被船儿惊起的水鸟，正掠过湖岸在飞翔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692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幼圆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幼圆"/>
              </a:rPr>
              <a:t>无风水面琉璃滑，不觉船移，微动涟漪，惊起沙禽掠岸飞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C03-A715-47B9-B641-E5E0DB9A9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33524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40458c"/>
                </a:solidFill>
                <a:latin typeface="隶书"/>
                <a:ea typeface="隶书"/>
              </a:rPr>
              <a:t>下片着重描写在湖上行舟、波平如镜的感受。“无风水面琉璃滑，不觉船移这里”，以静写动，写出了平浪静时水面晶莹澄澈的景象。“惊起沙禽掠岸飞”却是以动衬静，写涟漪微动惊动沙滩上的水鸟，使之掠过湖岸飞去。这样以动写静，使得西湖水面愈显其幽静。词作是以景结情，水鸟的飞翔不但增添了词作的情趣，而且给读者留下了无尽的审美想象空间，同时，更表现出词人追求如同水鸟一样的自由自在，闲情逸致的生活态度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幼圆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幼圆"/>
              </a:rPr>
              <a:t>无风水面琉璃滑，不觉船移，微动涟漪，惊起沙禽掠岸飞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0AF-7DC6-4627-B5E7-D43B7E3861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60280"/>
            <a:ext cx="8137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40458c"/>
                </a:solidFill>
                <a:latin typeface="Tahoma"/>
                <a:ea typeface="隶书"/>
              </a:rPr>
              <a:t> </a:t>
            </a:r>
            <a:r>
              <a:rPr b="1" lang="zh-TW" sz="5400" spc="-1" strike="noStrike">
                <a:solidFill>
                  <a:srgbClr val="40458c"/>
                </a:solidFill>
                <a:latin typeface="Tahoma"/>
                <a:ea typeface="隶书"/>
              </a:rPr>
              <a:t>　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隶书"/>
              </a:rPr>
              <a:t>在艺术上，词人用清新活泼的语言，描绘出西湖之美景，犹如一幅清丽活泼、空灵淡远的风景画。同时，注重了动静结合的方法，特别是以动写静的方法，把西湖清新可爱之美表现得美不胜收，并寓情于景，令读者想象而思考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F31-5438-4FEE-9447-E39143B3A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35320" y="58248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幼圆"/>
                <a:ea typeface="幼圆"/>
              </a:rPr>
              <a:t>采 桑 子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欧 阳 修</a:t>
            </a:r>
            <a:r>
              <a:rPr b="1" lang="zh-CN" sz="5400" spc="-1" strike="noStrike">
                <a:solidFill>
                  <a:srgbClr val="660066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565360"/>
            <a:ext cx="83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群芳过后西湖好，狼籍残红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飞絮蒙蒙。垂柳阑干尽日风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笙歌散尽游人去，始觉春空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垂下帘拢。双燕归来细雨中。</a:t>
            </a:r>
            <a:r>
              <a:rPr b="0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012-C48C-43F2-B67B-C9000C5EAD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1598400"/>
            <a:ext cx="81374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         </a:t>
            </a:r>
            <a:r>
              <a:rPr b="1" lang="zh-CN" sz="6000" spc="-1" strike="noStrike">
                <a:solidFill>
                  <a:srgbClr val="003300"/>
                </a:solidFill>
                <a:latin typeface="隶书"/>
                <a:ea typeface="隶书"/>
              </a:rPr>
              <a:t>采桑子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隶书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欧阳修</a:t>
            </a:r>
            <a:r>
              <a:rPr b="1" lang="zh-CN" sz="4400" spc="-1" strike="noStrike">
                <a:solidFill>
                  <a:srgbClr val="003300"/>
                </a:solidFill>
                <a:latin typeface="隶书"/>
                <a:ea typeface="隶书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3300"/>
                </a:solidFill>
                <a:latin typeface="隶书"/>
                <a:ea typeface="隶书"/>
              </a:rPr>
              <a:t>   残霞夕照西湖好，花坞苹汀。 十顷波平，野岸无人舟自横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隶书"/>
                <a:ea typeface="隶书"/>
              </a:rPr>
              <a:t>西南月上浮云散，轩槛凉生。莲芰香清，水面风来酒面醒。 </a:t>
            </a:r>
            <a:br>
              <a:rPr sz="4400"/>
            </a:b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C26-EF5E-4F62-8B2B-D3D77DB780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6:36:16Z</dcterms:created>
  <dc:creator>謝慧綺</dc:creator>
  <dc:description/>
  <dc:language>en-US</dc:language>
  <cp:lastModifiedBy>MC SYSTEM</cp:lastModifiedBy>
  <dcterms:modified xsi:type="dcterms:W3CDTF">2017-11-14T02:08:21Z</dcterms:modified>
  <cp:revision>11</cp:revision>
  <dc:subject/>
  <dc:title>PowerPoint 簡報</dc:title>
</cp:coreProperties>
</file>