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6B11-62B4-44B8-B83F-0768C24DA9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9D5E-F9BA-49A2-B1B2-14841296E9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C97-EC8A-40B2-A34C-06E34ADB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5B2-A623-4E6A-A476-193B26C4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07C-AFF7-4463-9553-10B377D6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019-934C-4820-88F8-411B05FD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4A1-6B26-4B91-B94B-B4223A3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2BF-23E5-4F77-A086-FE1B6D56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1EB-FDD9-4ED5-BEAF-B1037D1A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BCE-DBC4-435A-AA20-BDE594C5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860-13FB-4870-B172-84B206E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40E-D85B-454A-8100-11D2F9C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248-F58C-4AD3-AD3C-288AC9A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043-1EEA-4058-9F22-3A44950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CE48-5DEC-4155-A4DD-B59AEFF96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5681160" y="1058760"/>
            <a:ext cx="1826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大千起灭一尘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未觉杭颍谁雌雄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971640" y="907920"/>
            <a:ext cx="1512720" cy="40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 flipH="1">
            <a:off x="6224760" y="814320"/>
            <a:ext cx="1350720" cy="40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886560" y="2344680"/>
            <a:ext cx="1155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轼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右箭头 1"/>
          <p:cNvSpPr/>
          <p:nvPr/>
        </p:nvSpPr>
        <p:spPr>
          <a:xfrm>
            <a:off x="2894040" y="2268360"/>
            <a:ext cx="977760" cy="4860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右箭头 2"/>
          <p:cNvSpPr/>
          <p:nvPr/>
        </p:nvSpPr>
        <p:spPr>
          <a:xfrm>
            <a:off x="5041800" y="23302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48640" y="1190520"/>
            <a:ext cx="1826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欲把西湖比西子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淡妆浓抹总相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3720" y="907920"/>
            <a:ext cx="1512720" cy="40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826920" y="620640"/>
            <a:ext cx="345924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课下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39640" y="234936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观看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百家讲坛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诗歌里的春天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欧阳修如何别样咏春、欧阳修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醉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人生、欧阳修的颍州情结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616560" y="4076640"/>
            <a:ext cx="24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选背至少两首欧阳修的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采桑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并尝试赏析其中一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Administrator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166d76e3efc9ffb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矩形 3" descr=""/>
          <p:cNvPicPr/>
          <p:nvPr/>
        </p:nvPicPr>
        <p:blipFill>
          <a:blip r:embed="rId1"/>
          <a:stretch/>
        </p:blipFill>
        <p:spPr>
          <a:xfrm>
            <a:off x="619200" y="1703520"/>
            <a:ext cx="8218440" cy="2563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2720" y="404640"/>
            <a:ext cx="4464000" cy="82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读出韵律之声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476360" y="5157720"/>
            <a:ext cx="460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4724280"/>
            <a:ext cx="820872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学法指导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重音、停连、语气、语调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539640" y="620640"/>
            <a:ext cx="4392720" cy="82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读出韵律之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476360" y="5157720"/>
            <a:ext cx="460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矩形 3" descr=""/>
          <p:cNvPicPr/>
          <p:nvPr/>
        </p:nvPicPr>
        <p:blipFill>
          <a:blip r:embed="rId1"/>
          <a:stretch/>
        </p:blipFill>
        <p:spPr>
          <a:xfrm>
            <a:off x="533520" y="2558880"/>
            <a:ext cx="823104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539640" y="620640"/>
            <a:ext cx="4608720" cy="82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读出西湖之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9640" y="2421000"/>
            <a:ext cx="8064720" cy="23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说一说： 你发现了欧阳修眼中的哪些西湖之美？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539640" y="620640"/>
            <a:ext cx="4176720" cy="149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读出西湖之美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1280" y="2349360"/>
            <a:ext cx="7632720" cy="23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写一写：发挥联想和想象，尝试把刚才感受到的美景用生动的语言描绘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539640" y="620640"/>
            <a:ext cx="4248360" cy="82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读出言中心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9640" y="2133720"/>
            <a:ext cx="7561440" cy="308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咬文嚼字品一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词中哪个字或词能表达情感？请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小组合作做批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1"/>
          <p:cNvSpPr/>
          <p:nvPr/>
        </p:nvSpPr>
        <p:spPr>
          <a:xfrm>
            <a:off x="468360" y="1197000"/>
            <a:ext cx="78487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闲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处自不可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秦代文学家许霄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词综偶评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68360" y="3933720"/>
            <a:ext cx="78487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来颍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爱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其民淳讼简而物产美，土厚水甘而风气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欧阳修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思颍诗后序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479520" y="563400"/>
            <a:ext cx="331308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纵情吟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矩形 3" descr=""/>
          <p:cNvPicPr/>
          <p:nvPr/>
        </p:nvPicPr>
        <p:blipFill>
          <a:blip r:embed="rId1"/>
          <a:stretch/>
        </p:blipFill>
        <p:spPr>
          <a:xfrm>
            <a:off x="473040" y="2565360"/>
            <a:ext cx="8231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15:17:45Z</dcterms:created>
  <dc:creator/>
  <dc:description/>
  <cp:keywords/>
  <dc:language>en-US</dc:language>
  <cp:lastModifiedBy>微软用户</cp:lastModifiedBy>
  <dcterms:modified xsi:type="dcterms:W3CDTF">2018-09-09T11:08:3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