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11.gif" ContentType="image/gif"/>
  <Override PartName="/ppt/media/image6.gif" ContentType="image/gif"/>
  <Override PartName="/ppt/media/image4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jpeg" ContentType="image/jpeg"/>
  <Override PartName="/ppt/media/image23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D82-BF31-43E1-8E97-A835007F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126-89D8-4549-B608-A2A616A3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BA3-F2EB-4C9F-82EA-1A8FBB50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A96-9D6D-4917-8B14-A8E77AC7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2C6-AA84-47E0-A59D-FA4D58AA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CA8-30B2-434B-AF21-7D524BC8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F7E-AE69-4555-BFAE-220A1211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AB3-6742-4295-90C3-D5F01BE9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6CB-1202-429B-97CA-903D80FE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4D9-87B0-4C26-A8F9-92E584A2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936-F8DB-4D78-9461-C7AE15DC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9F9-F9B8-46C7-B53E-ED436F0C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9F49-3003-4709-8191-791E3B7892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词是《采桑子》组词中的一首。描写四季风景是欧阳修《采桑子》组词的重要内容。这首名列第一，写的是春色中的西湖，风景与心情，动感与静态，视觉与听觉，两两对应而结合，形成了一道流动中的风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220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41768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词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片：主要写堤岸风景，笔调轻松而优雅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西湖好”是一篇之眼，“短棹”二字已将休闲的意思委婉写出，因为是短棹，所以轻舟缓慢而悠闲地飘荡在湖面上，游人有足够的时间来观赏两岸春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片：视点收束，主要写水面风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1065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上阙第一句在整首词中的作用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阙第一句总摄全篇，点明题意，直抒赞美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上片描写了一幅什么样的图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阙从视觉和听觉两方面描写了蜿蜒曲折的绿水、长满芳草的长堤、动听的乐声和歌声，描绘了西湖清丽、恬静、淡远的春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24720" y="5950080"/>
            <a:ext cx="1619280" cy="907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词的下阙主要是用了哪种表现手法描写西湖春色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静结合的手法或以动衬静的表现手法。一、二句风平浪静，把水面比作明净平滑的琉璃，更以船的缓慢移动写出了“静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四句写涟漪微起，惊动了沙洲上的水鸟，水鸟掠过堤岸飞去，写出了“动”，而西湖愈显其幽静。动静相衬，动静结合写出了西湖春色的多姿多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84360" y="6381720"/>
            <a:ext cx="6659640" cy="476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本词抒发了词人的什么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抒发了诗人流连山水的愉快心情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组《采桑子》从不同侧面描写了“水深莫测，广袤相齐的西湖美景，从中折射出欧阳修挂冠退隐后从容自适的闲雅心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春暖花开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振翅的蝴蝶"/>
          <p:cNvPicPr/>
          <p:nvPr/>
        </p:nvPicPr>
        <p:blipFill>
          <a:blip r:embed="rId2"/>
          <a:stretch/>
        </p:blipFill>
        <p:spPr>
          <a:xfrm>
            <a:off x="1042920" y="5516640"/>
            <a:ext cx="863640" cy="768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振翅的蝴蝶"/>
          <p:cNvPicPr/>
          <p:nvPr/>
        </p:nvPicPr>
        <p:blipFill>
          <a:blip r:embed="rId3"/>
          <a:stretch/>
        </p:blipFill>
        <p:spPr>
          <a:xfrm>
            <a:off x="5796000" y="4076640"/>
            <a:ext cx="792000" cy="704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小蜜蜂"/>
          <p:cNvPicPr/>
          <p:nvPr/>
        </p:nvPicPr>
        <p:blipFill>
          <a:blip r:embed="rId4"/>
          <a:stretch/>
        </p:blipFill>
        <p:spPr>
          <a:xfrm>
            <a:off x="4427640" y="5734080"/>
            <a:ext cx="682560" cy="784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小蜜蜂"/>
          <p:cNvPicPr/>
          <p:nvPr/>
        </p:nvPicPr>
        <p:blipFill>
          <a:blip r:embed="rId5"/>
          <a:stretch/>
        </p:blipFill>
        <p:spPr>
          <a:xfrm>
            <a:off x="2268360" y="6302520"/>
            <a:ext cx="508320" cy="55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小蜜蜂"/>
          <p:cNvPicPr/>
          <p:nvPr/>
        </p:nvPicPr>
        <p:blipFill>
          <a:blip r:embed="rId6"/>
          <a:stretch/>
        </p:blipFill>
        <p:spPr>
          <a:xfrm>
            <a:off x="7740720" y="5013360"/>
            <a:ext cx="576360" cy="63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词描绘了春日的颍州西湖，景色是那样引人入胜，绿水蜿蜒曲折，长堤芳草青青，春风中隐隐传来柔和的笙歌声。水面波平如镜，不待风助，小船已在平滑的春波上移动。这首词如同一幅清丽活泼 、空灵淡远的风景画，美不胜收，清新可爱，有很的强吸引力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58920" cy="1125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词以轻松淡雅的笔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写泛舟颍州西湖时所见的美丽景色。全词色调清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格娟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充满诗情画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来清新可喜。从中折射出欧阳修挂冠退隐后从容自适的闲雅心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0"/>
            <a:ext cx="914400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采桑子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.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轻舟短棹西湖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3213000"/>
            <a:ext cx="47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欧阳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有关欧阳修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文言词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领会词的思想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全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32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走近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84000" y="0"/>
            <a:ext cx="665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欧阳修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0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7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字永叔，号醉翁，晚号“六一居士”。谥号文忠，世称欧阳文忠公。北宋政治家、文学家、史学家，与韩愈、柳宗元、王安石、苏洵、苏轼、苏辙、曾巩合称“唐宋八大家”。后人又将其与韩愈、柳宗元和苏轼合称“千古文章四大家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556000" cy="609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轻舟短棹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ào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绿水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wē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芳草长堤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ī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隐隐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hē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面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i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璃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í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微动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ī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起沙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ín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ü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岸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24300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节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采桑子                欧阳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轻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短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好，绿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逶迤，芳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堤，隐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笙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处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琉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滑，不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船移，微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涟漪，惊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沙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掠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5892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采桑子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名丑奴儿，罗敷媚等。双调四十四字，上下阙各四句三平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轻舟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轻便的小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短棹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划船用的小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西湖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颍州西湖。在今安徽省阜阳市西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绿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澈的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41964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逶迤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容道路或河道弯曲而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隐隐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隐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笙歌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歌唱时有笙管伴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琉璃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玻璃，这里形容水面光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涟漪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的波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沙禽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沙洲或沙滩上的水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湖风光好，驾轻舟划短桨多么逍遥。 碧绿的湖水绵延不断，长堤上花草散出芳香。 隐隐传来的音乐歌唱，像是随着船儿在湖上飘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风的水面，光滑得好似琉璃一样，不觉得船儿在前进，只见微微的细浪在船边荡漾。看，被船儿惊起的水鸟，正掠过湖岸在飞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1366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981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4:24:23Z</dcterms:created>
  <dc:creator>未知用户</dc:creator>
  <dc:description/>
  <dc:language>en-US</dc:language>
  <cp:lastModifiedBy>未知用户</cp:lastModifiedBy>
  <dcterms:modified xsi:type="dcterms:W3CDTF">2017-11-01T09:11:08Z</dcterms:modified>
  <cp:revision>11</cp:revision>
  <dc:subject/>
  <dc:title>幻灯片 1</dc:title>
</cp:coreProperties>
</file>