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" Target="slide20.xml"/><Relationship Id="rId4" Type="http://schemas.openxmlformats.org/officeDocument/2006/relationships/slide" Target="slide30.xml"/><Relationship Id="rId5" Type="http://schemas.openxmlformats.org/officeDocument/2006/relationships/slide" Target="slide4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6080" y="1052640"/>
            <a:ext cx="850392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79360" algn="just">
              <a:lnSpc>
                <a:spcPct val="145000"/>
              </a:lnSpc>
              <a:buClr>
                <a:srgbClr val="ff9900"/>
              </a:buClr>
              <a:buFont typeface="Wingdings" charset="2"/>
              <a:buChar char="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279360"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279360" algn="just">
              <a:lnSpc>
                <a:spcPct val="145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279360" algn="just">
              <a:lnSpc>
                <a:spcPct val="14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279360" algn="just">
              <a:lnSpc>
                <a:spcPct val="14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279360" algn="just">
              <a:lnSpc>
                <a:spcPct val="14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69920"/>
            <a:ext cx="9144000" cy="336600"/>
          </a:xfrm>
          <a:prstGeom prst="rect">
            <a:avLst/>
          </a:prstGeom>
          <a:gradFill rotWithShape="0">
            <a:gsLst>
              <a:gs pos="0">
                <a:srgbClr val="01a4e5"/>
              </a:gs>
              <a:gs pos="100000">
                <a:srgbClr val="5ed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08000" y="169920"/>
            <a:ext cx="934920" cy="6714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生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必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187280" y="17928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章　走进细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117360" y="503280"/>
            <a:ext cx="92556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>
            <a:hlinkClick r:id="rId2" action="ppaction://hlinksldjump"/>
          </p:cNvPr>
          <p:cNvSpPr/>
          <p:nvPr/>
        </p:nvSpPr>
        <p:spPr>
          <a:xfrm>
            <a:off x="3564000" y="582480"/>
            <a:ext cx="1295280" cy="246240"/>
          </a:xfrm>
          <a:prstGeom prst="rect">
            <a:avLst/>
          </a:prstGeom>
          <a:solidFill>
            <a:srgbClr val="8dc73d"/>
          </a:solidFill>
          <a:ln w="0">
            <a:noFill/>
          </a:ln>
          <a:effectLst>
            <a:outerShdw dist="63504" dir="318390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自主学习  新知突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>
            <a:hlinkClick r:id="rId3" action="ppaction://hlinksldjump"/>
          </p:cNvPr>
          <p:cNvSpPr/>
          <p:nvPr/>
        </p:nvSpPr>
        <p:spPr>
          <a:xfrm>
            <a:off x="5003640" y="582480"/>
            <a:ext cx="1368720" cy="246240"/>
          </a:xfrm>
          <a:prstGeom prst="rect">
            <a:avLst/>
          </a:prstGeom>
          <a:solidFill>
            <a:srgbClr val="8dc73d"/>
          </a:solidFill>
          <a:ln w="0">
            <a:noFill/>
          </a:ln>
          <a:effectLst>
            <a:outerShdw dist="63504" dir="318390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合作探究  课堂互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>
            <a:hlinkClick r:id="rId4" action="ppaction://hlinksldjump"/>
          </p:cNvPr>
          <p:cNvSpPr/>
          <p:nvPr/>
        </p:nvSpPr>
        <p:spPr>
          <a:xfrm>
            <a:off x="6516720" y="582480"/>
            <a:ext cx="1295280" cy="246240"/>
          </a:xfrm>
          <a:prstGeom prst="rect">
            <a:avLst/>
          </a:prstGeom>
          <a:solidFill>
            <a:srgbClr val="8dc73d"/>
          </a:solidFill>
          <a:ln w="0">
            <a:noFill/>
          </a:ln>
          <a:effectLst>
            <a:outerShdw dist="63504" dir="318390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高效测评  知能提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>
            <a:hlinkClick r:id="rId5" action="ppaction://hlinksldjump"/>
          </p:cNvPr>
          <p:cNvSpPr/>
          <p:nvPr/>
        </p:nvSpPr>
        <p:spPr>
          <a:xfrm>
            <a:off x="7926480" y="582480"/>
            <a:ext cx="966600" cy="246240"/>
          </a:xfrm>
          <a:prstGeom prst="rect">
            <a:avLst/>
          </a:prstGeom>
          <a:solidFill>
            <a:srgbClr val="8dc73d"/>
          </a:solidFill>
          <a:ln w="0">
            <a:noFill/>
          </a:ln>
          <a:effectLst>
            <a:outerShdw dist="63504" dir="318390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作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24000" y="2492280"/>
            <a:ext cx="1655640" cy="1513080"/>
          </a:xfrm>
          <a:prstGeom prst="rect">
            <a:avLst/>
          </a:prstGeom>
          <a:solidFill>
            <a:srgbClr val="5ed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979640" y="2492280"/>
            <a:ext cx="6913440" cy="1513080"/>
          </a:xfrm>
          <a:prstGeom prst="rect">
            <a:avLst/>
          </a:prstGeom>
          <a:solidFill>
            <a:srgbClr val="8dc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11280" y="2924280"/>
            <a:ext cx="1368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979640" y="2924280"/>
            <a:ext cx="1081080" cy="649080"/>
          </a:xfrm>
          <a:prstGeom prst="rect">
            <a:avLst/>
          </a:prstGeom>
          <a:solidFill>
            <a:srgbClr val="5ed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11280" y="2911320"/>
            <a:ext cx="268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132000" y="2882880"/>
            <a:ext cx="576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走进细胞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病毒的生命活动离不开细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病毒不具有细胞结构，既不属于真核生物，也不属于原核生物，没有细胞壁、细胞膜、细胞质、细胞核等结构，主要由蛋白质和核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种病毒的核酸只有一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构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病毒只能营寄生生活，只有在活的细胞内才具有生命现象。培养病毒要在活细胞中进行，不可用培养基。根据宿主不同，病毒可分为植物病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烟草花叶病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动物病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鸡瘟病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细菌病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噬菌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D:\秀杰\课件\学苑文化\人教生物必修1\新建文件夹\1-2.TIF"/>
          <p:cNvPicPr/>
          <p:nvPr/>
        </p:nvPicPr>
        <p:blipFill>
          <a:blip r:embed=""/>
          <a:stretch/>
        </p:blipFill>
        <p:spPr>
          <a:xfrm>
            <a:off x="2268360" y="3429000"/>
            <a:ext cx="42483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S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病毒破坏人的肺部等处的细胞；乙肝病毒破坏肝细胞；脊髓灰质病毒破坏脊髓灰质前角的运动神经元，导致小儿麻痹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，使人丧失免疫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16080" y="1989000"/>
            <a:ext cx="8503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构层次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→组织→器官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体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→_____→_________→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群和群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定的自然区域内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一个种群，所有的种群组成一个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82920" y="1359000"/>
            <a:ext cx="6264360" cy="48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方正细黑一_GBK"/>
              </a:rPr>
              <a:t>生命系统的结构层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知识点2"/>
          <p:cNvPicPr/>
          <p:nvPr/>
        </p:nvPicPr>
        <p:blipFill>
          <a:blip r:embed="rId1"/>
          <a:stretch/>
        </p:blipFill>
        <p:spPr>
          <a:xfrm>
            <a:off x="395280" y="1376280"/>
            <a:ext cx="1951200" cy="468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692928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8092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种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88892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群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920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态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4663440" y="261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物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768920" y="364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种生物的所有个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26384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群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互关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各生命系统层层相依，又各自有特定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最基本的生命系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801560" y="2205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组成、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26480" y="270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28560" y="328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探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大肠杆菌的结构层次是怎样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以下几种描述分别属于生命系统的哪个结构层次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个池塘中所有的鲤鱼；②一段朽木上所有的生物；③一片森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提示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①种群，②群落，③生态系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16080" y="1672920"/>
            <a:ext cx="85039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命系统各层次间的内在联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是最基本的生命系统，生物圈是最大的生命系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→个体：体现了高等多细胞生物个体的发育历程，同时也体现了生命的进化历程，即由单细胞生物进化到多细胞生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体→种群→群落体现了生物与生物之间的关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落→生态系统→生物圈体现了生物与其生活环境的关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突破"/>
          <p:cNvPicPr/>
          <p:nvPr/>
        </p:nvPicPr>
        <p:blipFill>
          <a:blip r:embed="rId1"/>
          <a:stretch/>
        </p:blipFill>
        <p:spPr>
          <a:xfrm>
            <a:off x="324000" y="1125360"/>
            <a:ext cx="21128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6080" y="2085840"/>
            <a:ext cx="8503920" cy="22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250992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植物体不具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系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个生命系统的层次；单细胞生物不具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器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系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等生命系统的层次，因为一个生物体仅由一个细胞构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250992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病毒不属于生命系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因无细胞结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拓展"/>
          <p:cNvPicPr/>
          <p:nvPr/>
        </p:nvPicPr>
        <p:blipFill>
          <a:blip r:embed="rId1"/>
          <a:stretch/>
        </p:blipFill>
        <p:spPr>
          <a:xfrm>
            <a:off x="1187280" y="2276640"/>
            <a:ext cx="15908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16080" y="1870200"/>
            <a:ext cx="850392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知识纲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归纳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8604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D:\秀杰\课件\学苑文化\人教生物必修1\新建文件夹\1-3.TIF"/>
          <p:cNvPicPr/>
          <p:nvPr/>
        </p:nvPicPr>
        <p:blipFill>
          <a:blip r:embed="rId2"/>
          <a:stretch/>
        </p:blipFill>
        <p:spPr>
          <a:xfrm>
            <a:off x="1547640" y="3068640"/>
            <a:ext cx="5467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背关键语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细胞是生物体结构和功能的基本单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艾滋病是获得性免疫缺陷综合征的简称，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人体免疫系统的淋巴细胞引起的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攻击人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，使人丧失一切免疫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一定区域内，同种生物的所有个体是一个种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生命系统的结构层次是细胞→组织→器官→系统→个体→种群→群落→生态系统→生物圈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细胞是地球上最基本的生命系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6080" y="2734920"/>
            <a:ext cx="850392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节　从生物圈到细胞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1746360" y="2523960"/>
            <a:ext cx="5562360" cy="130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1692000" y="2492280"/>
            <a:ext cx="1368360" cy="1368360"/>
            <a:chOff x="1692000" y="2492280"/>
            <a:chExt cx="1368360" cy="1368360"/>
          </a:xfrm>
        </p:grpSpPr>
        <p:sp>
          <p:nvSpPr>
            <p:cNvPr id="149" name="AutoShape 4"/>
            <p:cNvSpPr/>
            <p:nvPr/>
          </p:nvSpPr>
          <p:spPr>
            <a:xfrm>
              <a:off x="1868400" y="2644560"/>
              <a:ext cx="107172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Freeform 5"/>
            <p:cNvGrpSpPr/>
            <p:nvPr/>
          </p:nvGrpSpPr>
          <p:grpSpPr>
            <a:xfrm>
              <a:off x="1932120" y="2712960"/>
              <a:ext cx="529920" cy="530280"/>
              <a:chOff x="1932120" y="2712960"/>
              <a:chExt cx="529920" cy="530280"/>
            </a:xfrm>
          </p:grpSpPr>
          <p:pic>
            <p:nvPicPr>
              <p:cNvPr id="151" name="Freeform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2120" y="2712960"/>
                <a:ext cx="52272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1934640" y="271296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3" name="Picture 6" descr=""/>
            <p:cNvPicPr/>
            <p:nvPr/>
          </p:nvPicPr>
          <p:blipFill>
            <a:blip r:embed="rId2"/>
            <a:stretch/>
          </p:blipFill>
          <p:spPr>
            <a:xfrm flipH="1">
              <a:off x="1692000" y="2492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Text Box 7"/>
          <p:cNvSpPr/>
          <p:nvPr/>
        </p:nvSpPr>
        <p:spPr>
          <a:xfrm>
            <a:off x="3112920" y="2897280"/>
            <a:ext cx="41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合作探究 课堂互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340000" y="1427040"/>
            <a:ext cx="6480000" cy="48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方正细黑一_GBK"/>
              </a:rPr>
              <a:t>不同种类生物的生命活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2085480"/>
            <a:ext cx="850392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25892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关于细胞与生命活动的描述，正确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25892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病原体无细胞结构，其生命活动与细胞无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25892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草履虫、变形虫等均能完成摄食、运动、反射等生命活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25892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人体内的每一个细胞均能完成各种生命活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25892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切生物的生命活动都是在细胞内或在细胞参与下完成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25892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主解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考查点1"/>
          <p:cNvPicPr/>
          <p:nvPr/>
        </p:nvPicPr>
        <p:blipFill>
          <a:blip r:embed="rId1"/>
          <a:stretch/>
        </p:blipFill>
        <p:spPr>
          <a:xfrm>
            <a:off x="324000" y="1447920"/>
            <a:ext cx="1950840" cy="468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例1"/>
          <p:cNvPicPr/>
          <p:nvPr/>
        </p:nvPicPr>
        <p:blipFill>
          <a:blip r:embed="rId2"/>
          <a:stretch/>
        </p:blipFill>
        <p:spPr>
          <a:xfrm>
            <a:off x="611280" y="2349360"/>
            <a:ext cx="103320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毒无细胞结构，但生命活动需在宿主细胞内进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；草履虫、变形虫为单细胞生物，能够完成摄食、运动等活动，但不能完成反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；人是多细胞生物，体内的每个细胞并不能完成各种生命活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；一切生物包括病毒都在细胞内或在细胞参与下完成生命活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16080" y="2014200"/>
            <a:ext cx="850392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250992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毒不属于生命系统的结构层次，细胞是生命系统最基本的结构层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250992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毒不能独立进行生命活动，必须寄生于活的宿主细胞内才能生长和繁殖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易错"/>
          <p:cNvPicPr/>
          <p:nvPr/>
        </p:nvPicPr>
        <p:blipFill>
          <a:blip r:embed="rId1"/>
          <a:stretch/>
        </p:blipFill>
        <p:spPr>
          <a:xfrm>
            <a:off x="1042920" y="2205000"/>
            <a:ext cx="159084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16080" y="165420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生物的生命活动离不开细胞，对此理解不正确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没有细胞结构的病毒也要寄生在活细胞内才能繁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单细胞生物体具有生命的基本特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陈代谢、繁殖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多细胞生物体的生命活动由不同的细胞密切合作完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细胞是一切生物体结构和功能的基本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对点"/>
          <p:cNvPicPr/>
          <p:nvPr/>
        </p:nvPicPr>
        <p:blipFill>
          <a:blip r:embed="rId1"/>
          <a:stretch/>
        </p:blipFill>
        <p:spPr>
          <a:xfrm>
            <a:off x="324000" y="1125360"/>
            <a:ext cx="22096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毒没有细胞结构，不能独立进行新陈代谢，必须寄生在活细胞内才能繁殖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；单细胞生物体属于个体，因此具有生命的基本特征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；多细胞生物体必须依赖各种分化的细胞密切合作，才能共同完成一系列复杂的生命活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；病毒属于生物，但无细胞结构，所以，细胞是生物体结构和功能的基本单位，而非一切生物体的基本单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340000" y="1413000"/>
            <a:ext cx="6408720" cy="48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方正细黑一_GBK"/>
              </a:rPr>
              <a:t>生命系统层次的判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2085480"/>
            <a:ext cx="85039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生命活动的角度理解，人体的结构层次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原子、分子、细胞器、细胞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细胞、组织、器官、系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元素、无机物、有机物、细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个体、种群、群落、生态系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143208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主解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考查点2"/>
          <p:cNvPicPr/>
          <p:nvPr/>
        </p:nvPicPr>
        <p:blipFill>
          <a:blip r:embed="rId1"/>
          <a:stretch/>
        </p:blipFill>
        <p:spPr>
          <a:xfrm>
            <a:off x="388800" y="1413000"/>
            <a:ext cx="1951200" cy="468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例2"/>
          <p:cNvPicPr/>
          <p:nvPr/>
        </p:nvPicPr>
        <p:blipFill>
          <a:blip r:embed="rId2"/>
          <a:stretch/>
        </p:blipFill>
        <p:spPr>
          <a:xfrm>
            <a:off x="755640" y="2276640"/>
            <a:ext cx="10335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生命活动的角度理解，人体最基本的结构层次是细胞，然后依次为组织、器官、系统；元素、化合物、分子、细胞器等不属于生命系统的结构层次；种群、群落、生态系统是个体水平以上的结构层次，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16080" y="1654200"/>
            <a:ext cx="8503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钓鱼岛是中国的固有领土！我们美丽富饶的钓鱼岛和钓鱼岛周围海域中所有的巴浪鱼，在生命系统的结构层次中分别属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生态系统和群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群落和种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生态系统和种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群落和个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对点"/>
          <p:cNvPicPr/>
          <p:nvPr/>
        </p:nvPicPr>
        <p:blipFill>
          <a:blip r:embed="rId1"/>
          <a:stretch/>
        </p:blipFill>
        <p:spPr>
          <a:xfrm>
            <a:off x="324000" y="1125360"/>
            <a:ext cx="22096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美丽富饶的钓鱼岛包含了该海域的所有生物及无机环境，构成一个生态系统，而海域中的所有巴浪鱼构成一个种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1746360" y="2523960"/>
            <a:ext cx="5562360" cy="130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692000" y="2492280"/>
            <a:ext cx="1368360" cy="1368360"/>
            <a:chOff x="1692000" y="2492280"/>
            <a:chExt cx="1368360" cy="1368360"/>
          </a:xfrm>
        </p:grpSpPr>
        <p:sp>
          <p:nvSpPr>
            <p:cNvPr id="93" name="AutoShape 4"/>
            <p:cNvSpPr/>
            <p:nvPr/>
          </p:nvSpPr>
          <p:spPr>
            <a:xfrm>
              <a:off x="1868400" y="2644560"/>
              <a:ext cx="107172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Freeform 5"/>
            <p:cNvGrpSpPr/>
            <p:nvPr/>
          </p:nvGrpSpPr>
          <p:grpSpPr>
            <a:xfrm>
              <a:off x="1932120" y="2712960"/>
              <a:ext cx="529920" cy="530280"/>
              <a:chOff x="1932120" y="2712960"/>
              <a:chExt cx="529920" cy="530280"/>
            </a:xfrm>
          </p:grpSpPr>
          <p:pic>
            <p:nvPicPr>
              <p:cNvPr id="95" name="Freeform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2120" y="2712960"/>
                <a:ext cx="52272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1934640" y="271296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Picture 6" descr=""/>
            <p:cNvPicPr/>
            <p:nvPr/>
          </p:nvPicPr>
          <p:blipFill>
            <a:blip r:embed="rId2"/>
            <a:stretch/>
          </p:blipFill>
          <p:spPr>
            <a:xfrm flipH="1">
              <a:off x="1692000" y="2492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7"/>
          <p:cNvSpPr/>
          <p:nvPr/>
        </p:nvSpPr>
        <p:spPr>
          <a:xfrm>
            <a:off x="3112920" y="2897280"/>
            <a:ext cx="41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主学习 新知突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1746360" y="2523960"/>
            <a:ext cx="5562360" cy="130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692000" y="2492280"/>
            <a:ext cx="1368360" cy="1368360"/>
            <a:chOff x="1692000" y="2492280"/>
            <a:chExt cx="1368360" cy="1368360"/>
          </a:xfrm>
        </p:grpSpPr>
        <p:sp>
          <p:nvSpPr>
            <p:cNvPr id="175" name="AutoShape 4"/>
            <p:cNvSpPr/>
            <p:nvPr/>
          </p:nvSpPr>
          <p:spPr>
            <a:xfrm>
              <a:off x="1868400" y="2644560"/>
              <a:ext cx="107172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Freeform 5"/>
            <p:cNvGrpSpPr/>
            <p:nvPr/>
          </p:nvGrpSpPr>
          <p:grpSpPr>
            <a:xfrm>
              <a:off x="1932120" y="2712960"/>
              <a:ext cx="529920" cy="530280"/>
              <a:chOff x="1932120" y="2712960"/>
              <a:chExt cx="529920" cy="530280"/>
            </a:xfrm>
          </p:grpSpPr>
          <p:pic>
            <p:nvPicPr>
              <p:cNvPr id="177" name="Freeform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2120" y="2712960"/>
                <a:ext cx="52272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1934640" y="271296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9" name="Picture 6" descr=""/>
            <p:cNvPicPr/>
            <p:nvPr/>
          </p:nvPicPr>
          <p:blipFill>
            <a:blip r:embed="rId2"/>
            <a:stretch/>
          </p:blipFill>
          <p:spPr>
            <a:xfrm flipH="1">
              <a:off x="1692000" y="2492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7"/>
          <p:cNvSpPr/>
          <p:nvPr/>
        </p:nvSpPr>
        <p:spPr>
          <a:xfrm>
            <a:off x="3112920" y="2897280"/>
            <a:ext cx="41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高效测评 知能提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16080" y="201456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细胞是最基本的生命系统，生命系统的各个层次既层层相依，又有各自的组成、结构和功能。下列有关说法正确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原子、分子都是生命系统的结构层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每种生物都具有生命系统的各个层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池塘中的水、阳光等也是生命系统的一部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草原上的羊属于种群层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课堂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题干可知，最基本的生命系统是细胞，原子、分子不属于生命系统的结构层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；单细胞生物没有组织、器官、系统三个层次，植物没有系统层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；水、阳光等属于生态系统的一部分，而生态系统属于生命系统的一个层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；草原上的羊有多种，不属于种群层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，美国的流感季来势凶猛，主要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3N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型流感病毒所致。下列关于该病毒的说法正确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该病毒虽然没有细胞结构，不属于生命系统，但仍然是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由于生活方式是寄生，所以只能进行无氧呼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人工配制的富含有机物的培养基上可以大量繁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病毒的繁殖可以不依赖细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毒没有细胞结构，不能独立代谢，不属于生命系统；但其可以在宿主细胞内进行代谢活动，仍然属于生物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；病毒的生活方式是寄生，其所需能量由宿主细胞提供，所以病毒不进行呼吸作用，且必须在宿主细胞内才能存活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；病毒的繁殖必须在细胞中进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从生命系统的结构层次来分析，下列属于种群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池塘中的一群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培养基被污染后除大肠杆菌外，又滋生了别的细菌和真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培养皿中的大肠杆菌菌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一棵枯树枝上生活着蚂蚁，长满了苔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群是一定区域内的同种生物的所有个体，培养皿中的大肠杆菌菌落属于一个种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列各项组合中，能体现生命系统由简单到复杂的正确层次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草原上的一头荷斯坦奶牛　②某草原上的全部牛类　③某草原上的全部荷斯坦奶牛　④荷斯坦奶牛的红细胞　⑤红细胞中的血红蛋白　⑥整片草原　⑦某草原上的所有生物　⑧荷斯坦奶牛的心脏　⑨荷斯坦奶牛的血液　⑩荷斯坦奶牛的循环系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D:\秀杰\课件\学苑文化\人教生物必修1\新建文件夹\1-4.TIF"/>
          <p:cNvPicPr/>
          <p:nvPr/>
        </p:nvPicPr>
        <p:blipFill>
          <a:blip r:embed="rId1"/>
          <a:stretch/>
        </p:blipFill>
        <p:spPr>
          <a:xfrm>
            <a:off x="2987640" y="4724280"/>
            <a:ext cx="2016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⑤④⑧⑨⑩①③②⑦　　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⑤④⑨⑧⑩①③②⑦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④⑨⑧⑩①③⑦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④⑨⑧⑩①②⑦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群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种生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群落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生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而②中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牛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不是种群，也不是群落，不属于任何一个生命层次，红细胞中的血红蛋白，也不属于生命系统中的层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下图显微结构回答下面的问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绿眼虫和变形虫都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构成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物，由此也可以说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生物体结构和功能的基本单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D:\秀杰\课件\学苑文化\人教生物必修1\新建文件夹\1-5.TIF"/>
          <p:cNvPicPr/>
          <p:nvPr/>
        </p:nvPicPr>
        <p:blipFill>
          <a:blip r:embed="rId1"/>
          <a:stretch/>
        </p:blipFill>
        <p:spPr>
          <a:xfrm>
            <a:off x="2700360" y="2060640"/>
            <a:ext cx="34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16080" y="1943280"/>
            <a:ext cx="850392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举例说明生命活动建立在细胞的基础上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解生命系统的结构层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认同细胞是基本的生命系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要求"/>
          <p:cNvPicPr/>
          <p:nvPr/>
        </p:nvPicPr>
        <p:blipFill>
          <a:blip r:embed="rId1"/>
          <a:stretch/>
        </p:blipFill>
        <p:spPr>
          <a:xfrm>
            <a:off x="324000" y="1020600"/>
            <a:ext cx="849600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者都可以通过细胞分裂的方式直接进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由此也可以说明生物的生命活动离不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生命系统的结构层次上来看，在一条小河中，所有的衣藻共同构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绿眼虫和变形虫等各种生物构成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整个小河构成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16080" y="1052280"/>
            <a:ext cx="850392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题图中结构，不难看出二者都是由单个细胞构成的单细胞生物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细胞生物体可以通过细胞分裂，由一个分裂为两个，完成繁殖；也可以体现出繁殖是在细胞这一结构基础上进行的，即生命活动离不开细胞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生命系统的结构层次上区分有关种群、群落、生态系统的概念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细胞　单细胞　细胞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殖　细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群　群落　生态系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图片1aaaaa"/>
          <p:cNvPicPr/>
          <p:nvPr/>
        </p:nvPicPr>
        <p:blipFill>
          <a:blip r:embed="rId1"/>
          <a:stretch/>
        </p:blipFill>
        <p:spPr>
          <a:xfrm>
            <a:off x="2981160" y="4286160"/>
            <a:ext cx="3181680" cy="727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课时"/>
          <p:cNvPicPr/>
          <p:nvPr/>
        </p:nvPicPr>
        <p:blipFill>
          <a:blip r:embed="rId2"/>
          <a:stretch/>
        </p:blipFill>
        <p:spPr>
          <a:xfrm>
            <a:off x="539640" y="2349360"/>
            <a:ext cx="8271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2492280"/>
            <a:ext cx="2484360" cy="1513080"/>
          </a:xfrm>
          <a:prstGeom prst="rect">
            <a:avLst/>
          </a:prstGeom>
          <a:solidFill>
            <a:srgbClr val="5ed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484360" y="2492280"/>
            <a:ext cx="6659640" cy="1513080"/>
          </a:xfrm>
          <a:prstGeom prst="rect">
            <a:avLst/>
          </a:prstGeom>
          <a:solidFill>
            <a:srgbClr val="8dc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540240" y="2565360"/>
            <a:ext cx="53528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准圆_GBK"/>
                <a:ea typeface="Times New Roman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830240"/>
            <a:ext cx="8503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病毒的生命活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病毒不具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，只有依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才能生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细胞生物的生命活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依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能完成各项生命活动，如草履虫的运动、分裂、摄食、生长、应激性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411280" y="1268280"/>
            <a:ext cx="6408720" cy="48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94956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方正细黑一_GBK"/>
              </a:rPr>
              <a:t>生命活动离不开细胞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知识点1"/>
          <p:cNvPicPr/>
          <p:nvPr/>
        </p:nvPicPr>
        <p:blipFill>
          <a:blip r:embed="rId1"/>
          <a:stretch/>
        </p:blipFill>
        <p:spPr>
          <a:xfrm>
            <a:off x="468360" y="1305000"/>
            <a:ext cx="1954080" cy="468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82564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838480" y="24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活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01240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单个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多细胞生物的生命活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依赖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密切合作，共同完成一系列复杂的生命活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命活动的基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物与环境之间物质和能量交换的基础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物生长发育的基础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物遗传与变异的基础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153600" y="17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化的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125840" y="32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细胞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288760" y="3789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细胞增殖、分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212080" y="4292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基因的传递和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16080" y="1054080"/>
            <a:ext cx="850392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多细胞生物生命活动的生理基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物与环境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能量的交换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细胞内基因传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变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细胞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传变异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细胞增殖、分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③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16080" y="1053720"/>
            <a:ext cx="85039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探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能否用富含有机物的培养基来培养病毒？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病毒是非细胞结构，其结构组成是怎样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提示：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。病毒营寄生生活，只有在活细胞中才能完成正常的生命活动，因此必须用活细胞来培养，如活鸡胚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是由蛋白质外壳和核酸组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16080" y="1672920"/>
            <a:ext cx="8503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细胞是生物体结构和功能的基本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了病毒之外，一切生物都由细胞构成。生物的类群有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突破"/>
          <p:cNvPicPr/>
          <p:nvPr/>
        </p:nvPicPr>
        <p:blipFill>
          <a:blip r:embed="rId1"/>
          <a:stretch/>
        </p:blipFill>
        <p:spPr>
          <a:xfrm>
            <a:off x="324000" y="1125360"/>
            <a:ext cx="2112840" cy="479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D:\秀杰\课件\学苑文化\人教生物必修1\新建文件夹\1-1.TIF"/>
          <p:cNvPicPr/>
          <p:nvPr/>
        </p:nvPicPr>
        <p:blipFill>
          <a:blip r:embed=""/>
          <a:stretch/>
        </p:blipFill>
        <p:spPr>
          <a:xfrm>
            <a:off x="1476360" y="3213000"/>
            <a:ext cx="60102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1T06:58:37Z</dcterms:created>
  <dc:creator/>
  <dc:description/>
  <dc:language>en-US</dc:language>
  <cp:lastModifiedBy/>
  <dcterms:modified xsi:type="dcterms:W3CDTF">2017-09-01T04:14:45Z</dcterms:modified>
  <cp:revision>1</cp:revision>
  <dc:subject/>
  <dc:title/>
</cp:coreProperties>
</file>