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suction.wav" ContentType="audio/x-wav"/>
  <Override PartName="/ppt/media/cashreg.wav" ContentType="audio/x-wav"/>
  <Override PartName="/ppt/media/voltage.wav" ContentType="audio/x-wav"/>
  <Override PartName="/ppt/media/hammer.wav" ContentType="audio/x-wav"/>
  <Override PartName="/ppt/media/type.wav" ContentType="audio/x-wav"/>
  <Override PartName="/ppt/media/drumroll.wav" ContentType="audio/x-wav"/>
  <Override PartName="/ppt/media/applause.wav" ContentType="audio/x-wav"/>
  <Override PartName="/ppt/media/wind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D9B-E386-47E9-8DDA-0288AFAE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EF6-A2D7-4F1A-A56A-38FC541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AED-6C42-45C6-8E61-3E78F175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AC9-4966-42B6-BC7F-CE0D3FC7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86AE-E7CC-4953-B7F6-2C9F9CFF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15E3-9EFE-4FEF-A752-EAD6A068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3C8-1A13-4306-BEE8-0362377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9DD-E7F8-4521-BF00-4B57E3F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E5B6-6DE7-40DB-B012-2416588D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D83-07A2-4C7B-B681-462A4AB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3B17-BEA1-4EA6-B991-8C5081A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9A2-3D5A-4E0C-8610-5AE47E0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8067-80F5-4757-977C-6BACD2D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11BD-70BC-4765-BFAE-54D47DD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F8E0-9977-4717-A704-6E39FBA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3FBA-1C08-40E9-8F59-86FCEE9F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233-8E98-4684-86C0-0137E1B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EE0-EC97-4984-9467-1FBE07C4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16C-4357-4A66-B07A-A37BC1FC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494-755F-49E0-9C4F-B184F46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33A-2785-46BE-9EFB-80B0105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5F5-07EA-449E-A7A0-D338660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0C8-D468-4B11-B18B-6112CA9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A4E-2F29-4C9F-8DAD-9EAE263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B1C-C715-4ADF-97B8-19E6AD2E5C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493-1B14-448E-94EB-858734E6C4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suction.wav"/><Relationship Id="rId8" Type="http://schemas.openxmlformats.org/officeDocument/2006/relationships/audio" Target="../media/chimes.wav"/><Relationship Id="rId9" Type="http://schemas.openxmlformats.org/officeDocument/2006/relationships/audio" Target="../media/suction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suction.wav"/><Relationship Id="rId10" Type="http://schemas.openxmlformats.org/officeDocument/2006/relationships/audio" Target="../media/chimes.wav"/><Relationship Id="rId11" Type="http://schemas.openxmlformats.org/officeDocument/2006/relationships/audio" Target="../media/suction.wav"/><Relationship Id="rId12" Type="http://schemas.openxmlformats.org/officeDocument/2006/relationships/audio" Target="../media/chimes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audio" Target="../media/suction.wav"/><Relationship Id="rId8" Type="http://schemas.openxmlformats.org/officeDocument/2006/relationships/audio" Target="../media/chimes.wav"/><Relationship Id="rId9" Type="http://schemas.openxmlformats.org/officeDocument/2006/relationships/audio" Target="../media/wind.wav"/><Relationship Id="rId10" Type="http://schemas.openxmlformats.org/officeDocument/2006/relationships/audio" Target="../media/suction.wav"/><Relationship Id="rId11" Type="http://schemas.openxmlformats.org/officeDocument/2006/relationships/audio" Target="../media/chimes.wav"/><Relationship Id="rId12" Type="http://schemas.openxmlformats.org/officeDocument/2006/relationships/audio" Target="../media/wind.wav"/><Relationship Id="rId13" Type="http://schemas.openxmlformats.org/officeDocument/2006/relationships/audio" Target="../media/suction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suction.wav"/><Relationship Id="rId11" Type="http://schemas.openxmlformats.org/officeDocument/2006/relationships/audio" Target="../media/suction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audio" Target="../media/voltag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chime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14600" y="1519200"/>
            <a:ext cx="403848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触龙说赵太后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战国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362320" y="3581280"/>
            <a:ext cx="1752480" cy="5335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为什么事劝说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90760" y="3581280"/>
            <a:ext cx="75960" cy="129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为什么要劝说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581280"/>
            <a:ext cx="1828800" cy="2133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715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怎样劝说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11253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触龙为少子谋“黑衣”之位，让太后产生了错觉，并在“爱少子”问题上引起共鸣。他正是以自己的爱子之心为诱饵，巧妙地引出太后的爱子之情，从而过渡到长安君的问题上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71640" y="404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三段二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916280"/>
            <a:ext cx="331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老臣窃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以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媪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爱燕后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念悲其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必使勿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989000"/>
            <a:ext cx="30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认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781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ǎo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主谓之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3645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→动  远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1520" y="443700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“返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5440" y="981000"/>
            <a:ext cx="789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说”爱子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媪之爱燕后贤于长安君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234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送”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持其踵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已行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364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祭祀必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3284640"/>
            <a:ext cx="432000" cy="144360"/>
          </a:xfrm>
          <a:prstGeom prst="rightArrow">
            <a:avLst>
              <a:gd name="adj1" fmla="val 50000"/>
              <a:gd name="adj2" fmla="val 7481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852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之计深远矣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5300640"/>
            <a:ext cx="4032360" cy="649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回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旁击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32000" y="9079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184464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谈燕后，是为了提出“父母之爱子，则为之计深远”的标准。强调太后为燕后“计久长” 不过是作为陪衬，其真实意图还在于暗示太后为长安君“计短也” ，从而在长安君做人质的问题上摧垮了太后的抵抗情绪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0800" y="907920"/>
            <a:ext cx="13384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说”爱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05264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历史教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658000">
            <a:off x="3058920" y="1341000"/>
            <a:ext cx="504720" cy="5032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98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赵王之子孙侯者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继无有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177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诸侯之子孙侯者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继在者无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900600">
            <a:off x="5219280" y="1988640"/>
            <a:ext cx="504720" cy="5032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2637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位尊无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奉厚无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挟重器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3284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实计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658000">
            <a:off x="3058920" y="3573000"/>
            <a:ext cx="504720" cy="5032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0" y="3429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尊长安君位，封膏腴地，多予重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无功于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8921600">
            <a:off x="5219280" y="4149360"/>
            <a:ext cx="504720" cy="5032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9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何以自托于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5734080"/>
            <a:ext cx="41767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回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入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76360" y="836640"/>
            <a:ext cx="6264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历史教训入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范围说得愈大题旨却扣得愈紧。再对比现实，赵太后对长安君的爱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给她最心爱的幼子带来更严重的后果。“虽曰爱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实害之。”这样，切中利害，赵太后心悦诚服，痛快答应了要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98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触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105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太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9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” 家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1989000"/>
            <a:ext cx="647640" cy="48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1989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盛气而色少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278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幼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852640"/>
            <a:ext cx="647640" cy="48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笑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3573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爱燕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3645000"/>
            <a:ext cx="647640" cy="48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然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443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讲教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508640"/>
            <a:ext cx="647640" cy="48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4437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63640" y="83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1844640"/>
            <a:ext cx="59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委婉曲折的劝说方式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抓住老年妇女溺爱幼子的心理特点，设身处地替她打算，将长安君个人利益与赵国的利益、眼前的照顾与将来的祸患巧妙联系起来，顺利达到劝说的目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3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692280"/>
            <a:ext cx="388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首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赵太后新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用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必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长安君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质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兵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乃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大臣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谏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太后明谓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左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执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56536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……做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328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429264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Qiǎ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勉强、迫使→竭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qiá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力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ià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倔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02840" y="501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身边的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19280" y="1413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用事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攻之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177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危机之严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141720"/>
            <a:ext cx="230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必以长安君为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必唾其面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371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矛盾之尖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1628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2997360"/>
            <a:ext cx="288720" cy="71280"/>
          </a:xfrm>
          <a:prstGeom prst="rightArrow">
            <a:avLst>
              <a:gd name="adj1" fmla="val 50000"/>
              <a:gd name="adj2" fmla="val 1012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08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困难极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9000" y="476280"/>
            <a:ext cx="1521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说”的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7280" y="907920"/>
            <a:ext cx="6769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系列的困难，表明作者把事件放到一个矛盾的焦点上来写。尖锐的矛盾，让读者的心弦被绷得紧紧的，也为触龙施展其特有的才华提供了机会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404640"/>
            <a:ext cx="784836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二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见太后：                  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窃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徐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                       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得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衰乎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谢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欲食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曾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能疾走：            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乃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强步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见：                   色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26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希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060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道歉、谢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378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连……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45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12682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私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0606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该不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9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3716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于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45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稍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26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入而徐趋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141300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268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故显老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49228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至而自谢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养生之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心慰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2349360"/>
            <a:ext cx="503280" cy="2178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170028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”盛气”而”色少解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120" y="1052640"/>
            <a:ext cx="13993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说”家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5013360"/>
            <a:ext cx="36720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回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缓冲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47640" y="83664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评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1700280"/>
            <a:ext cx="55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先，面对太后的盛气以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触龙闲话家常，让太后全副的精神武装都用不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然后，以同情、慰籍和将心比心的感情来消除太后的精神武装，转变其无可理喻的态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后警惕的放松正是转化的契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404640"/>
            <a:ext cx="770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三段一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肖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             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卫王宫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没死以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                 甚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妇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119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9280" y="119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的连词，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2060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使……听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20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789360"/>
            <a:ext cx="72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令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得补黑衣之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没死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此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闻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太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6520" y="112536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说”爱子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62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付少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844000" y="2564280"/>
            <a:ext cx="647640" cy="503280"/>
          </a:xfrm>
          <a:custGeom>
            <a:avLst/>
            <a:gdLst>
              <a:gd name="textAreaLeft" fmla="*/ 216000 w 647640"/>
              <a:gd name="textAreaRight" fmla="*/ 554760 w 64764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6370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爱少子孰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363280" y="3356640"/>
            <a:ext cx="647640" cy="503280"/>
          </a:xfrm>
          <a:custGeom>
            <a:avLst/>
            <a:gdLst>
              <a:gd name="textAreaLeft" fmla="*/ 216000 w 647640"/>
              <a:gd name="textAreaRight" fmla="*/ 554760 w 64764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573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长安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5084640"/>
            <a:ext cx="37432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回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诱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2:07:39Z</dcterms:created>
  <dc:creator>wgy</dc:creator>
  <dc:description/>
  <dc:language>en-US</dc:language>
  <cp:lastModifiedBy>wgy</cp:lastModifiedBy>
  <dcterms:modified xsi:type="dcterms:W3CDTF">2006-09-27T03:07:07Z</dcterms:modified>
  <cp:revision>9</cp:revision>
  <dc:subject/>
  <dc:title>幻灯片 1</dc:title>
</cp:coreProperties>
</file>