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BE0F9-D938-4A75-BD85-446C8EE44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B0C7C-5482-4D77-97E7-BD81611A3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3D92F-C85D-4D07-8BA6-702C12A73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4474E-52D7-422F-9C44-9C3C1CDF3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66EB5-F8BC-46C3-8EB8-682AB1BCD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411F6-0A6F-4745-93A9-810932732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20DFD-A74F-456C-A04E-AC68D3770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20F9B-239C-42DF-AB83-3C367C4C4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10B41-F6A0-4837-8AAD-5B7F93CA5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18C44-9DCE-4703-88B6-30866B76C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0906A-4B7A-4DCA-9004-0EECE450E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BC514-2EFD-4528-8C89-633B03DF6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7E6A0-89D8-4431-A56A-F302D589958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16000" y="1484280"/>
            <a:ext cx="6912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  <a:ea typeface="黑体"/>
              </a:rPr>
              <a:t>触龙         赵太后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 rot="5940000">
            <a:off x="3095640" y="1375200"/>
            <a:ext cx="1800360" cy="1585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宋体"/>
              </a:rPr>
              <a:t>说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宋体"/>
              <a:ea typeface="宋体"/>
            </a:endParaRPr>
          </a:p>
        </p:txBody>
      </p:sp>
      <p:sp>
        <p:nvSpPr>
          <p:cNvPr id="43" name=""/>
          <p:cNvSpPr/>
          <p:nvPr/>
        </p:nvSpPr>
        <p:spPr>
          <a:xfrm>
            <a:off x="3132000" y="4221000"/>
            <a:ext cx="352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&lt;&lt;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战国策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&gt;&gt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26920" y="6093000"/>
            <a:ext cx="576360" cy="287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556000" y="6093000"/>
            <a:ext cx="576000" cy="287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356000" y="6093000"/>
            <a:ext cx="576360" cy="287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012000" y="6093000"/>
            <a:ext cx="576000" cy="287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596360" y="6093000"/>
            <a:ext cx="576000" cy="287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611280" y="404640"/>
            <a:ext cx="4284720" cy="62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何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膏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继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山陵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92360" y="476280"/>
            <a:ext cx="6048360" cy="62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凭什么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好吧。表示答应的答语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使人的地位尊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肥沃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继承的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讳指君主、王后的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赐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8028000" y="6237360"/>
            <a:ext cx="576360" cy="287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0"/>
            <a:ext cx="392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课文分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0" y="3716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触龙见到太后为什么先谈了一些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闲话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他这么做有什么用意吗？谈谈你的看法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900000" y="5229360"/>
            <a:ext cx="62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缓解紧张的气氛，软化太后的情感，以便于进一步的劝说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0" y="1125360"/>
            <a:ext cx="87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课文第一段里“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新、急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”两个字说明了什么问题？两个”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必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“字又道出了怎样的情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0" y="2565360"/>
            <a:ext cx="485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内政不稳兼以敌国入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148360" y="2565360"/>
            <a:ext cx="352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矛盾的不可调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189000"/>
            <a:ext cx="78850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触龙是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真得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要为自己的小儿子求个职位吗？如果不是，其用意何在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0" y="1628640"/>
            <a:ext cx="914400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找到共同语言，找准太后内心最柔软的地方加以切入。使太后由视自己为敌对者一变而为知音，以便于太后容易接纳自己的劝谏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0" y="3789360"/>
            <a:ext cx="727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4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触龙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明知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道太后最疼爱的是小儿子，为什么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偏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说她更疼爱燕后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11280" y="5229360"/>
            <a:ext cx="691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以燕后为例，说明父母疼爱子女应该为他们的长远着想的道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8101080" y="6308640"/>
            <a:ext cx="574560" cy="289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404640"/>
            <a:ext cx="70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5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触龙在第五段是怎样明确地论说父母应该怎样爱孩子的？他认为父母应该怎样正确的爱自己的孩子？（从课文中找出一句话加以概括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5280" y="2924280"/>
            <a:ext cx="684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以赵王、诸侯的子孙的情况从                       说明道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79280" y="5084640"/>
            <a:ext cx="896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父母之爱子，则为之               深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 rot="5400000">
            <a:off x="5939280" y="4869360"/>
            <a:ext cx="1079640" cy="1224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宋体"/>
              </a:rPr>
              <a:t>计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宋体"/>
              <a:ea typeface="宋体"/>
            </a:endParaRPr>
          </a:p>
        </p:txBody>
      </p:sp>
      <p:sp>
        <p:nvSpPr>
          <p:cNvPr id="88" name=""/>
          <p:cNvSpPr txBox="1"/>
          <p:nvPr/>
        </p:nvSpPr>
        <p:spPr>
          <a:xfrm rot="4655400">
            <a:off x="1690200" y="3501720"/>
            <a:ext cx="936720" cy="1079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反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9" name=""/>
          <p:cNvSpPr txBox="1"/>
          <p:nvPr/>
        </p:nvSpPr>
        <p:spPr>
          <a:xfrm rot="4533600">
            <a:off x="3060000" y="3356280"/>
            <a:ext cx="936720" cy="1224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面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课后作业：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归纳本节课字词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692360" y="1413000"/>
            <a:ext cx="52196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2133720"/>
            <a:ext cx="23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要求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55640" y="2924280"/>
            <a:ext cx="82090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古今异译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（不少于三个）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通假字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（不少于三个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词类活用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（不少于六个）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特殊句式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（不少于两个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569880"/>
            <a:ext cx="8925120" cy="57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0"/>
            <a:ext cx="493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请给下列字词注音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332000" y="1700280"/>
            <a:ext cx="684036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沟</a:t>
            </a: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壑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辇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强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踵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膏腴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没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死    百</a:t>
            </a: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乘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媪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恣      揖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003640" y="1125360"/>
            <a:ext cx="316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95280" y="0"/>
            <a:ext cx="8353440" cy="66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隶书"/>
              </a:rPr>
              <a:t>日饮食得无衰乎                                      太后之色少解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隶书"/>
              </a:rPr>
              <a:t>年几何矣                                                  则为之计深远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隶书"/>
              </a:rPr>
              <a:t>愿及未填沟壑而托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隶书"/>
              </a:rPr>
              <a:t>老臣窃以为媪之爱燕后贤于长安君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隶书"/>
              </a:rPr>
              <a:t>老臣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隶书"/>
              </a:rPr>
              <a:t>/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隶书"/>
              </a:rPr>
              <a:t>以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隶书"/>
              </a:rPr>
              <a:t>/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隶书"/>
              </a:rPr>
              <a:t>媪为长安君计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隶书"/>
              </a:rPr>
              <a:t>/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隶书"/>
              </a:rPr>
              <a:t>短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89000"/>
            <a:ext cx="320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诵读练习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(1)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9840" y="836640"/>
            <a:ext cx="9074160" cy="685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日饮食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隶书"/>
              </a:rPr>
              <a:t>/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得无衰乎                                      太后之色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隶书"/>
              </a:rPr>
              <a:t>/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少解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年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隶书"/>
              </a:rPr>
              <a:t>/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几何矣                                                  则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隶书"/>
              </a:rPr>
              <a:t>/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为之计深远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愿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隶书"/>
              </a:rPr>
              <a:t>/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及未填沟壑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隶书"/>
              </a:rPr>
              <a:t>/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而托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老臣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隶书"/>
              </a:rPr>
              <a:t>/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窃以为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隶书"/>
              </a:rPr>
              <a:t>/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媪之爱燕后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隶书"/>
              </a:rPr>
              <a:t>/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贤于长安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老臣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隶书"/>
              </a:rPr>
              <a:t>/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以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隶书"/>
              </a:rPr>
              <a:t>/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媪为长安君计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隶书"/>
              </a:rPr>
              <a:t>/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短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0"/>
            <a:ext cx="45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诵读练习（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）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90792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692280"/>
            <a:ext cx="9685440" cy="62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持其踵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隶书"/>
              </a:rPr>
              <a:t>/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为之泣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岂非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隶书"/>
              </a:rPr>
              <a:t>/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计久长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隶书"/>
              </a:rPr>
              <a:t>/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有子孙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隶书"/>
              </a:rPr>
              <a:t>/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相继为王也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至于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隶书"/>
              </a:rPr>
              <a:t>/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赵之为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其继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隶书"/>
              </a:rPr>
              <a:t>/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有在者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此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隶书"/>
              </a:rPr>
              <a:t>/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其近者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隶书"/>
              </a:rPr>
              <a:t>/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祸及身，远者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隶书"/>
              </a:rPr>
              <a:t>/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及其子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岂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隶书"/>
              </a:rPr>
              <a:t>/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人主之子孙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隶书"/>
              </a:rPr>
              <a:t>/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则必不善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故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隶书"/>
              </a:rPr>
              <a:t>/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以为其爱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隶书"/>
              </a:rPr>
              <a:t>/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不若燕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812000" y="6237360"/>
            <a:ext cx="720720" cy="287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0"/>
            <a:ext cx="485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第三段重点字词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258920" y="1344600"/>
            <a:ext cx="302400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贱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没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不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已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敬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92360" y="1413000"/>
            <a:ext cx="543564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对自己的儿子的谦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冒着死罪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不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走了之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答应。敬，表示客气的副词；诺，答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1042920"/>
            <a:ext cx="3995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39640" y="0"/>
            <a:ext cx="2590920" cy="65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几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为之泣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岂非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不肖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异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924360" y="0"/>
            <a:ext cx="5616360" cy="719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多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向着，对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难道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不贤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特别厉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使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~~~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知道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是这样的。表示认可的话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8101080" y="6381720"/>
            <a:ext cx="792000" cy="287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0"/>
            <a:ext cx="687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第四、第五两段的重点字词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39640" y="1125360"/>
            <a:ext cx="414036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三世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至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微独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其近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及身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及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00720" y="1052640"/>
            <a:ext cx="381636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三代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到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~~~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的时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不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那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降临，殃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趁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2T14:08:25Z</dcterms:created>
  <dc:creator>t</dc:creator>
  <dc:description/>
  <dc:language>en-US</dc:language>
  <cp:lastModifiedBy>t</cp:lastModifiedBy>
  <dcterms:modified xsi:type="dcterms:W3CDTF">2004-09-17T08:58:56Z</dcterms:modified>
  <cp:revision>7</cp:revision>
  <dc:subject/>
  <dc:title>幻灯片 1</dc:title>
</cp:coreProperties>
</file>