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49BD-BBAE-48F1-9FA5-23B45FCBD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930E-B74F-415E-A1FD-5D446230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396B-86D7-4D5B-B94E-146935861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D1BD-4FC8-4704-B8C3-7E944310A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4775-E93C-4C35-8248-4BC97B2D9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9D99-D92F-4FAF-84D6-2AE95050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74648-6476-4143-AAF3-CE1F7086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A7EB-1561-4328-B4FA-228DDA70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2FC6-C41B-4DCF-BED7-34F363E3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CB57-BBE6-47A2-A574-EB5EA097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F0866-A609-41EB-9097-8C118F68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E895-6D84-4C62-952B-04D81B52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B99F-AF6E-43D0-B446-8031D096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09C0-4B9B-4898-A917-F4EE7ECA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8C82-DFC4-4BC1-8BE4-DFC4B240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5215-FC47-4544-A340-813E7F382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3850-79CF-48D9-8CAB-55C307BD5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8F10-4EAB-4C94-88A3-C02EEC6E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F707-F84F-443F-AA09-189A1B57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DA0C-35E9-4D9F-A2C5-29F9909D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B522-49F6-41CA-BE73-10DD0222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F614-2795-43E6-BD77-BB660B1B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D798-7BD2-4398-B97A-7AAE6B5E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190B-E146-4AEE-8A77-89169284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1482-A602-4EFC-8473-7757F00541BC}" type="slidenum">
              <a:rPr b="0" lang="zh-CN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2580-AC67-4BE3-9D29-CF76C227B5F7}" type="slidenum">
              <a:rPr b="0" lang="zh-CN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" Target="slide2.xml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" Target="slide14.xml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" Target="slide16.xml"/><Relationship Id="rId12" Type="http://schemas.openxmlformats.org/officeDocument/2006/relationships/image" Target="../media/image8.jpeg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C:\HEROSOFT\HERO2001\Mmxado.exe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82400"/>
                </a:solidFill>
                <a:latin typeface="Times New Roman"/>
              </a:rPr>
              <a:t>触龙说赵太后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3300"/>
                </a:solidFill>
                <a:uFillTx/>
                <a:latin typeface="Times New Roman"/>
                <a:hlinkClick r:id="rId3" action="ppaction://hlinksldjump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3300"/>
                </a:solidFill>
                <a:latin typeface="Times New Roman"/>
              </a:rPr>
              <a:t>故事背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3300"/>
                </a:solidFill>
                <a:latin typeface="Times New Roman"/>
              </a:rPr>
              <a:t>检查预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析课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3300"/>
                </a:solidFill>
                <a:uFillTx/>
                <a:latin typeface="Times New Roman"/>
                <a:hlinkClick r:id="rId8" action="ppaction://hlinksldjump"/>
              </a:rPr>
              <a:t>劝谏过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课后作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3300"/>
                </a:solidFill>
                <a:uFillTx/>
                <a:latin typeface="Times New Roman"/>
                <a:hlinkClick r:id="rId11" action="ppaction://hlinksldjump"/>
              </a:rPr>
              <a:t>巩固练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2"/>
          <a:stretch/>
        </p:blipFill>
        <p:spPr>
          <a:xfrm>
            <a:off x="5219640" y="1773360"/>
            <a:ext cx="319428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7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下列句中不含通假字的一项是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奉厚而无劳　　　　　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行李之往来，共其乏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祝曰：“必勿使反。”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曾不能疾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848720" y="1828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142640" y="114300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下列句中加线字用法相同的两项是（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　　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赵王之子孙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侯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其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继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有在者乎？　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今媪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尊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长安君之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祭祀必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祝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于是为长安君约车百乘，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质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于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81080" y="15238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A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下列词语解释有误的一项是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766880"/>
            <a:ext cx="7848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赵太后新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用事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执政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太后盛气而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揖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之（等待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至而自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谢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曰   （道歉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饮食得无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衰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乎   （减少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老臣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贱息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舒祺  （对自己儿子的谦称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于是未长安君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车百乘   （大约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最少，不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肖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（贤读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xiào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一旦山陵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崩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讳称帝王或王后死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001000" y="9144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82400"/>
                </a:solidFill>
                <a:latin typeface="Times New Roman"/>
              </a:rPr>
              <a:t>翻译句子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岂人主之子孙则必不善哉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长安君何以自托于赵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05720" y="1752480"/>
            <a:ext cx="761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26120" y="26226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难道说君主的子孙就一定不好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38080" y="449568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长安君凭什么在赵国安身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85640" y="396720"/>
            <a:ext cx="2514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Times New Roman"/>
              </a:rPr>
              <a:t>劝谏艺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24080" y="146376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触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62360" y="14637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太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47760" y="230184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宋体"/>
              </a:rPr>
              <a:t>愿见太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86040" y="230184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宋体"/>
              </a:rPr>
              <a:t>盛气而揖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71440" y="321624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宋体"/>
              </a:rPr>
              <a:t>叙家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86040" y="329256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宋体"/>
              </a:rPr>
              <a:t>色少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413064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宋体"/>
              </a:rPr>
              <a:t>托幼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62360" y="41306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宋体"/>
              </a:rPr>
              <a:t>笑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95480" y="504504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宋体"/>
              </a:rPr>
              <a:t>谈燕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62360" y="504504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宋体"/>
              </a:rPr>
              <a:t>曰：“然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95480" y="603576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宋体"/>
              </a:rPr>
              <a:t>论历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62360" y="595944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宋体"/>
              </a:rPr>
              <a:t>曰：“诺……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276960" y="23018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宋体"/>
              </a:rPr>
              <a:t>欲擒故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76960" y="329256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宋体"/>
              </a:rPr>
              <a:t>叙寒问暖，打破僵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76960" y="413064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宋体"/>
              </a:rPr>
              <a:t>爱子之情，引起共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76960" y="4968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宋体"/>
              </a:rPr>
              <a:t>旁敲侧击，心悦诚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76960" y="595944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宋体"/>
              </a:rPr>
              <a:t>单刀直入，怒气全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04960" y="275904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04960" y="367344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04960" y="458784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04960" y="557856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67280" y="283536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67280" y="374976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67280" y="451152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067280" y="550224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8820000" y="6453360"/>
            <a:ext cx="324000" cy="40464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404640"/>
              <a:gd name="textAreaBottom" fmla="*/ 383760 h 404640"/>
            </a:gdLst>
            <a:ahLst/>
            <a:rect l="textAreaLeft" t="textAreaTop" r="textAreaRight" b="textAreaBottom"/>
            <a:pathLst>
              <a:path w="21600" h="26970">
                <a:moveTo>
                  <a:pt x="0" y="0"/>
                </a:moveTo>
                <a:lnTo>
                  <a:pt x="21600" y="0"/>
                </a:lnTo>
                <a:lnTo>
                  <a:pt x="21600" y="26970"/>
                </a:lnTo>
                <a:lnTo>
                  <a:pt x="0" y="26970"/>
                </a:lnTo>
                <a:close/>
              </a:path>
              <a:path fill="lightenLess" w="21600" h="2697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0">
                <a:moveTo>
                  <a:pt x="21600" y="0"/>
                </a:moveTo>
                <a:lnTo>
                  <a:pt x="21600" y="26970"/>
                </a:lnTo>
                <a:lnTo>
                  <a:pt x="20200" y="25570"/>
                </a:lnTo>
                <a:lnTo>
                  <a:pt x="20200" y="1400"/>
                </a:lnTo>
                <a:close/>
              </a:path>
              <a:path fill="darkenLess" w="21600" h="26970">
                <a:moveTo>
                  <a:pt x="21600" y="26970"/>
                </a:moveTo>
                <a:lnTo>
                  <a:pt x="0" y="26970"/>
                </a:lnTo>
                <a:lnTo>
                  <a:pt x="1400" y="25570"/>
                </a:lnTo>
                <a:lnTo>
                  <a:pt x="20200" y="25570"/>
                </a:lnTo>
                <a:close/>
              </a:path>
              <a:path fill="lighten" w="21600" h="26970">
                <a:moveTo>
                  <a:pt x="0" y="2697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0"/>
                </a:lnTo>
                <a:close/>
              </a:path>
            </a:pathLst>
          </a:custGeom>
          <a:solidFill>
            <a:srgbClr val="dfd6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firs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05720" y="12193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   3 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82400"/>
                </a:solidFill>
                <a:latin typeface="Times New Roman"/>
              </a:rPr>
              <a:t>作业：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写一篇小短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内容：你对父母的爱的理解及以后你想怎样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字数：不少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要求：有真情实感；不要写成决心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firstslide"/>
          </p:cNvPr>
          <p:cNvSpPr/>
          <p:nvPr/>
        </p:nvSpPr>
        <p:spPr>
          <a:xfrm>
            <a:off x="853452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990360" y="99036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对下列句中加线词解释正确的一项是（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太后之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色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少解　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颜色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曾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不能疾走　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竟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妇人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甚　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差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持其踵为之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泣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大声哭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7800" y="15238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下列各组句子中加线词的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意义相同的一项是（   ）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老妇必唾其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能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面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刺寡人之过者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而不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及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今令有功于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徐公何能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及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君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C   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少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益嗜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太后之色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少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D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必以长安君为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质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于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00200" y="1905120"/>
            <a:ext cx="76320" cy="1600200"/>
          </a:xfrm>
          <a:custGeom>
            <a:avLst/>
            <a:gdLst>
              <a:gd name="textAreaLeft" fmla="*/ 48960 w 76320"/>
              <a:gd name="textAreaRight" fmla="*/ 76320 w 763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10080" y="2133720"/>
            <a:ext cx="228600" cy="2057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3657600"/>
            <a:ext cx="533160" cy="1905120"/>
          </a:xfrm>
          <a:custGeom>
            <a:avLst/>
            <a:gdLst>
              <a:gd name="textAreaLeft" fmla="*/ 340560 w 533160"/>
              <a:gd name="textAreaRight" fmla="*/ 533520 w 53316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76720" y="3352680"/>
            <a:ext cx="2819160" cy="1219320"/>
          </a:xfrm>
          <a:prstGeom prst="flowChartPredefined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52480" y="3200400"/>
            <a:ext cx="914400" cy="2286000"/>
          </a:xfrm>
          <a:custGeom>
            <a:avLst/>
            <a:gdLst>
              <a:gd name="textAreaLeft" fmla="*/ 584280 w 914400"/>
              <a:gd name="textAreaRight" fmla="*/ 914760 w 9144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50292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1981080"/>
            <a:ext cx="75960" cy="83844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3200400"/>
            <a:ext cx="75960" cy="914400"/>
          </a:xfrm>
          <a:custGeom>
            <a:avLst/>
            <a:gdLst>
              <a:gd name="textAreaLeft" fmla="*/ 48600 w 75960"/>
              <a:gd name="textAreaRight" fmla="*/ 76320 w 759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4267080"/>
            <a:ext cx="152640" cy="990720"/>
          </a:xfrm>
          <a:custGeom>
            <a:avLst/>
            <a:gdLst>
              <a:gd name="textAreaLeft" fmla="*/ 97560 w 152640"/>
              <a:gd name="textAreaRight" fmla="*/ 153000 w 15264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00200" y="5562720"/>
            <a:ext cx="152280" cy="106668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9144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142640" y="990720"/>
            <a:ext cx="77691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下列各句中加线字意与现代汉语相同的一项是（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入而徐趋，至而自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谢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曰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于是为长安君约车百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念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悲其远也，亦哀之矣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乃自强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343400" y="2286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914040" y="17524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下列句子没有敬称的是（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敢以烦执事　　　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能面刺寡人之过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吾不能早用子　　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媪之送燕后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0" y="17524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19320" y="99072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3300"/>
                </a:solidFill>
                <a:latin typeface="Times New Roman"/>
              </a:rPr>
              <a:t>学习目标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2125800"/>
            <a:ext cx="6400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能正确理解“质、徐、趋、              谢、曾、恃、崩、约”等词的含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学习触龙婉转的劝谏艺     术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82400"/>
                </a:solidFill>
                <a:latin typeface="Times New Roman"/>
              </a:rPr>
              <a:t>特殊结构及用法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赵氏求救于齐”，此句结构是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选出与此句结构相同的一句（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公与之乘，战于长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吾不能举全吴之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十万之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受制于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石之铿然有声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求人可使报秦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80000" y="6021360"/>
            <a:ext cx="50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73800" y="2852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76360" y="5950080"/>
            <a:ext cx="468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57600" y="2276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介词结构后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000"/>
                            </p:stCondLst>
                            <p:childTnLst>
                              <p:par>
                                <p:cTn id="2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500"/>
                            </p:stCondLst>
                            <p:childTnLst>
                              <p:par>
                                <p:cTn id="2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000"/>
                            </p:stCondLst>
                            <p:childTnLst>
                              <p:par>
                                <p:cTn id="2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日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食饮得无衰乎？”，“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日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三四里”，“日”的用法是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选出与“日三四里”中“日”字的用法相同的一句（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吾得兄事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微风鼓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去今之墓而葬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将军披坚执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素善留侯张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80000" y="6093000"/>
            <a:ext cx="244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85400" y="20574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时间名词做状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508720" y="6237360"/>
            <a:ext cx="503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44640" y="29718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firstslide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15424" y="3837"/>
                </a:moveTo>
                <a:lnTo>
                  <a:pt x="18001" y="6448"/>
                </a:lnTo>
                <a:lnTo>
                  <a:pt x="18001" y="4707"/>
                </a:lnTo>
                <a:lnTo>
                  <a:pt x="19776" y="4707"/>
                </a:lnTo>
                <a:lnTo>
                  <a:pt x="19776" y="8224"/>
                </a:lnTo>
                <a:lnTo>
                  <a:pt x="22387" y="10800"/>
                </a:lnTo>
                <a:lnTo>
                  <a:pt x="20734" y="10800"/>
                </a:lnTo>
                <a:lnTo>
                  <a:pt x="20734" y="17989"/>
                </a:lnTo>
                <a:lnTo>
                  <a:pt x="10115" y="17989"/>
                </a:lnTo>
                <a:lnTo>
                  <a:pt x="10115" y="10800"/>
                </a:lnTo>
                <a:lnTo>
                  <a:pt x="8461" y="10800"/>
                </a:lnTo>
                <a:close/>
              </a:path>
              <a:path fill="darkenLess" w="30849" h="21600">
                <a:moveTo>
                  <a:pt x="18001" y="6448"/>
                </a:moveTo>
                <a:lnTo>
                  <a:pt x="18001" y="4707"/>
                </a:lnTo>
                <a:lnTo>
                  <a:pt x="19776" y="4707"/>
                </a:lnTo>
                <a:lnTo>
                  <a:pt x="19776" y="8224"/>
                </a:lnTo>
                <a:close/>
              </a:path>
              <a:path fill="darkenLess" w="30849" h="21600">
                <a:moveTo>
                  <a:pt x="14502" y="14299"/>
                </a:moveTo>
                <a:lnTo>
                  <a:pt x="16347" y="14299"/>
                </a:lnTo>
                <a:lnTo>
                  <a:pt x="16347" y="17989"/>
                </a:lnTo>
                <a:lnTo>
                  <a:pt x="20734" y="17989"/>
                </a:lnTo>
                <a:lnTo>
                  <a:pt x="20734" y="10800"/>
                </a:lnTo>
                <a:lnTo>
                  <a:pt x="10115" y="10800"/>
                </a:lnTo>
                <a:lnTo>
                  <a:pt x="10115" y="17989"/>
                </a:lnTo>
                <a:lnTo>
                  <a:pt x="14502" y="1798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5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5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500"/>
                            </p:stCondLst>
                            <p:childTnLst>
                              <p:par>
                                <p:cTn id="305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500"/>
                            </p:stCondLst>
                            <p:childTnLst>
                              <p:par>
                                <p:cTn id="309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6500"/>
                            </p:stCondLst>
                            <p:childTnLst>
                              <p:par>
                                <p:cTn id="313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7500"/>
                            </p:stCondLst>
                            <p:childTnLst>
                              <p:par>
                                <p:cTn id="317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N_0062" descr=""/>
          <p:cNvPicPr/>
          <p:nvPr/>
        </p:nvPicPr>
        <p:blipFill>
          <a:blip r:embed="rId2"/>
          <a:stretch/>
        </p:blipFill>
        <p:spPr>
          <a:xfrm>
            <a:off x="685800" y="0"/>
            <a:ext cx="84582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990360" y="160020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故事背景：公元前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65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年，赵惠文王死，孝成王初即位，由于年纪太小，由赵太后执政。国内局势动荡不安。秦国抓住有利时机，进攻赵国。赵太后向齐国求救，齐国的发兵条件是长安君到齐国去做人质。（长安君即孝成王，太后最疼爱的小儿子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523880" y="99072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触龙说赵太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赵太后新用事，秦急攻之。赵氏求救于齐，齐曰：“必以长安君为质，兵乃出。”太后不肯，大臣强谏。太后明谓左右：“有复言令长安君为质者，老妇必唾其面！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8604360" y="6381720"/>
            <a:ext cx="234720" cy="247680"/>
          </a:xfrm>
          <a:custGeom>
            <a:avLst/>
            <a:gdLst>
              <a:gd name="textAreaLeft" fmla="*/ 15120 w 234720"/>
              <a:gd name="textAreaRight" fmla="*/ 219600 w 234720"/>
              <a:gd name="textAreaTop" fmla="*/ 15120 h 247680"/>
              <a:gd name="textAreaBottom" fmla="*/ 232560 h 247680"/>
            </a:gdLst>
            <a:ahLst/>
            <a:rect l="textAreaLeft" t="textAreaTop" r="textAreaRight" b="textAreaBottom"/>
            <a:pathLst>
              <a:path w="21600" h="22791">
                <a:moveTo>
                  <a:pt x="0" y="0"/>
                </a:moveTo>
                <a:lnTo>
                  <a:pt x="21600" y="0"/>
                </a:lnTo>
                <a:lnTo>
                  <a:pt x="21600" y="22791"/>
                </a:lnTo>
                <a:lnTo>
                  <a:pt x="0" y="22791"/>
                </a:lnTo>
                <a:close/>
              </a:path>
              <a:path fill="lightenLess" w="21600" h="227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91">
                <a:moveTo>
                  <a:pt x="21600" y="0"/>
                </a:moveTo>
                <a:lnTo>
                  <a:pt x="21600" y="22791"/>
                </a:lnTo>
                <a:lnTo>
                  <a:pt x="20200" y="21391"/>
                </a:lnTo>
                <a:lnTo>
                  <a:pt x="20200" y="1400"/>
                </a:lnTo>
                <a:close/>
              </a:path>
              <a:path fill="darkenLess" w="21600" h="22791">
                <a:moveTo>
                  <a:pt x="21600" y="22791"/>
                </a:moveTo>
                <a:lnTo>
                  <a:pt x="0" y="22791"/>
                </a:lnTo>
                <a:lnTo>
                  <a:pt x="1400" y="21391"/>
                </a:lnTo>
                <a:lnTo>
                  <a:pt x="20200" y="21391"/>
                </a:lnTo>
                <a:close/>
              </a:path>
              <a:path fill="lighten" w="21600" h="22791">
                <a:moveTo>
                  <a:pt x="0" y="2279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91"/>
                </a:lnTo>
                <a:close/>
              </a:path>
            </a:pathLst>
          </a:custGeom>
          <a:solidFill>
            <a:srgbClr val="dfd6c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2"/>
          </p:cNvPr>
          <p:cNvSpPr/>
          <p:nvPr/>
        </p:nvSpPr>
        <p:spPr>
          <a:xfrm>
            <a:off x="8305920" y="5791320"/>
            <a:ext cx="533160" cy="30456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8406"/>
                </a:moveTo>
                <a:lnTo>
                  <a:pt x="16321" y="8406"/>
                </a:lnTo>
                <a:lnTo>
                  <a:pt x="20742" y="3794"/>
                </a:lnTo>
                <a:lnTo>
                  <a:pt x="20742" y="17806"/>
                </a:lnTo>
                <a:lnTo>
                  <a:pt x="16321" y="13194"/>
                </a:lnTo>
                <a:lnTo>
                  <a:pt x="11890" y="13194"/>
                </a:lnTo>
                <a:close/>
              </a:path>
              <a:path fill="darken" w="37794" h="21600">
                <a:moveTo>
                  <a:pt x="22396" y="10800"/>
                </a:moveTo>
                <a:lnTo>
                  <a:pt x="25903" y="10800"/>
                </a:lnTo>
              </a:path>
              <a:path fill="darken" w="37794" h="21600">
                <a:moveTo>
                  <a:pt x="22396" y="8406"/>
                </a:moveTo>
                <a:lnTo>
                  <a:pt x="25903" y="5639"/>
                </a:lnTo>
              </a:path>
              <a:path fill="darken" w="37794" h="21600">
                <a:moveTo>
                  <a:pt x="22396" y="13194"/>
                </a:moveTo>
                <a:lnTo>
                  <a:pt x="25903" y="15961"/>
                </a:lnTo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90720" y="1066680"/>
            <a:ext cx="7696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左师触龙愿见太后。太后盛气而揖之。入而徐趋，至而自谢曰：“老臣病足，曾不能疾走，不得见久矣，窃自恕，而恐太后玉体之有所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</a:rPr>
              <a:t>隙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也，故愿望见太后。”太后曰：“老妇恃辇而行。”曰：“日食饮得无衰乎？”曰：“恃粥耳。”曰：“老臣今者殊不欲食，乃自强步，日三四里，少益嗜食，和与身也。”太后曰：“老妇不能。”太后之色少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8459640" y="6308640"/>
            <a:ext cx="374760" cy="249480"/>
          </a:xfrm>
          <a:custGeom>
            <a:avLst/>
            <a:gdLst>
              <a:gd name="textAreaLeft" fmla="*/ 15840 w 374760"/>
              <a:gd name="textAreaRight" fmla="*/ 358920 w 374760"/>
              <a:gd name="textAreaTop" fmla="*/ 15840 h 249480"/>
              <a:gd name="textAreaBottom" fmla="*/ 233640 h 249480"/>
            </a:gdLst>
            <a:ahLst/>
            <a:rect l="textAreaLeft" t="textAreaTop" r="textAreaRight" b="textAreaBottom"/>
            <a:pathLst>
              <a:path w="32431" h="21600">
                <a:moveTo>
                  <a:pt x="0" y="0"/>
                </a:moveTo>
                <a:lnTo>
                  <a:pt x="32431" y="0"/>
                </a:lnTo>
                <a:lnTo>
                  <a:pt x="32431" y="21600"/>
                </a:lnTo>
                <a:lnTo>
                  <a:pt x="0" y="21600"/>
                </a:lnTo>
                <a:close/>
              </a:path>
              <a:path fill="lightenLess" w="32431" h="21600">
                <a:moveTo>
                  <a:pt x="0" y="0"/>
                </a:moveTo>
                <a:lnTo>
                  <a:pt x="32431" y="0"/>
                </a:lnTo>
                <a:lnTo>
                  <a:pt x="31031" y="1400"/>
                </a:lnTo>
                <a:lnTo>
                  <a:pt x="1400" y="1400"/>
                </a:lnTo>
                <a:close/>
              </a:path>
              <a:path fill="darken" w="32431" h="21600">
                <a:moveTo>
                  <a:pt x="32431" y="0"/>
                </a:moveTo>
                <a:lnTo>
                  <a:pt x="32431" y="21600"/>
                </a:lnTo>
                <a:lnTo>
                  <a:pt x="31031" y="20200"/>
                </a:lnTo>
                <a:lnTo>
                  <a:pt x="31031" y="1400"/>
                </a:lnTo>
                <a:close/>
              </a:path>
              <a:path fill="darkenLess" w="32431" h="21600">
                <a:moveTo>
                  <a:pt x="324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31" y="20200"/>
                </a:lnTo>
                <a:close/>
              </a:path>
              <a:path fill="lighten" w="324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fd6c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62920" y="62784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板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228600"/>
            <a:ext cx="85345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左师公曰：“老臣贱息舒祺，最少，不肖，而臣衰，窃爱怜之，愿令得补黑衣之数，以卫王宫。没死以闻！”太后曰：“敬诺。年几何矣？”对曰：“十五岁矣。虽少，愿未及填沟壑而托之。”太后曰：“丈夫亦爱怜其少子乎？”对曰：“甚于妇人。”太后笑曰：“妇人异甚！”对曰：“老臣窃以为媪之爱燕后贤于长安君。”曰：“君过矣，不若长安君之甚。”左师公曰：“父母之爱子，则为其计深远。媪之送燕后也，持其踵为之泣，念悲其远也，亦哀之矣。已行，非弗思也，祭祀必祝之，祝曰：‘必勿使反。’岂非计久长有子孙相继为王也哉？”太后曰：“然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8317080" y="6381720"/>
            <a:ext cx="446040" cy="247680"/>
          </a:xfrm>
          <a:custGeom>
            <a:avLst/>
            <a:gdLst>
              <a:gd name="textAreaLeft" fmla="*/ 15840 w 446040"/>
              <a:gd name="textAreaRight" fmla="*/ 430200 w 446040"/>
              <a:gd name="textAreaTop" fmla="*/ 15840 h 247680"/>
              <a:gd name="textAreaBottom" fmla="*/ 231840 h 247680"/>
            </a:gdLst>
            <a:ahLst/>
            <a:rect l="textAreaLeft" t="textAreaTop" r="textAreaRight" b="textAreaBottom"/>
            <a:pathLst>
              <a:path w="38874" h="21600">
                <a:moveTo>
                  <a:pt x="0" y="0"/>
                </a:moveTo>
                <a:lnTo>
                  <a:pt x="38874" y="0"/>
                </a:lnTo>
                <a:lnTo>
                  <a:pt x="38874" y="21600"/>
                </a:lnTo>
                <a:lnTo>
                  <a:pt x="0" y="21600"/>
                </a:lnTo>
                <a:close/>
              </a:path>
              <a:path fill="lightenLess" w="38874" h="21600">
                <a:moveTo>
                  <a:pt x="0" y="0"/>
                </a:moveTo>
                <a:lnTo>
                  <a:pt x="38874" y="0"/>
                </a:lnTo>
                <a:lnTo>
                  <a:pt x="37474" y="1400"/>
                </a:lnTo>
                <a:lnTo>
                  <a:pt x="1400" y="1400"/>
                </a:lnTo>
                <a:close/>
              </a:path>
              <a:path fill="darken" w="38874" h="21600">
                <a:moveTo>
                  <a:pt x="38874" y="0"/>
                </a:moveTo>
                <a:lnTo>
                  <a:pt x="38874" y="21600"/>
                </a:lnTo>
                <a:lnTo>
                  <a:pt x="37474" y="20200"/>
                </a:lnTo>
                <a:lnTo>
                  <a:pt x="37474" y="1400"/>
                </a:lnTo>
                <a:close/>
              </a:path>
              <a:path fill="darkenLess" w="38874" h="21600">
                <a:moveTo>
                  <a:pt x="388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4" y="20200"/>
                </a:lnTo>
                <a:close/>
              </a:path>
              <a:path fill="lighten" w="388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fd6c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86600" y="6248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板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38080" y="609480"/>
            <a:ext cx="80773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左师公曰：“今三世以前，至于赵之为赵，赵王之子孙侯者，其继有在者乎？”曰：“无有。”曰：“微独赵，诸侯有在者乎？”曰：“老妇不闻也。” “此其近者祸及身，远者及其子孙，岂人主之子孙则必不善哉？位尊而无功，奉厚而无劳，而挟重器多也。今媪尊长安君之位，而封之以膏腴之地，多予之重器，而不及今令有功于国，一旦山陵崩，长安君何以自托于赵？老臣以媪为长安君计短也。故以为其爱不若燕后。”太后曰：“诺。恣君之所使之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8244000" y="6237360"/>
            <a:ext cx="442800" cy="315720"/>
          </a:xfrm>
          <a:custGeom>
            <a:avLst/>
            <a:gdLst>
              <a:gd name="textAreaLeft" fmla="*/ 20160 w 442800"/>
              <a:gd name="textAreaRight" fmla="*/ 422640 w 442800"/>
              <a:gd name="textAreaTop" fmla="*/ 20160 h 315720"/>
              <a:gd name="textAreaBottom" fmla="*/ 295560 h 315720"/>
            </a:gdLst>
            <a:ahLst/>
            <a:rect l="textAreaLeft" t="textAreaTop" r="textAreaRight" b="textAreaBottom"/>
            <a:pathLst>
              <a:path w="30284" h="21600">
                <a:moveTo>
                  <a:pt x="0" y="0"/>
                </a:moveTo>
                <a:lnTo>
                  <a:pt x="30284" y="0"/>
                </a:lnTo>
                <a:lnTo>
                  <a:pt x="30284" y="21600"/>
                </a:lnTo>
                <a:lnTo>
                  <a:pt x="0" y="21600"/>
                </a:lnTo>
                <a:close/>
              </a:path>
              <a:path fill="lightenLess" w="30284" h="21600">
                <a:moveTo>
                  <a:pt x="0" y="0"/>
                </a:moveTo>
                <a:lnTo>
                  <a:pt x="30284" y="0"/>
                </a:lnTo>
                <a:lnTo>
                  <a:pt x="28884" y="1400"/>
                </a:lnTo>
                <a:lnTo>
                  <a:pt x="1400" y="1400"/>
                </a:lnTo>
                <a:close/>
              </a:path>
              <a:path fill="darken" w="30284" h="21600">
                <a:moveTo>
                  <a:pt x="30284" y="0"/>
                </a:moveTo>
                <a:lnTo>
                  <a:pt x="30284" y="21600"/>
                </a:lnTo>
                <a:lnTo>
                  <a:pt x="28884" y="20200"/>
                </a:lnTo>
                <a:lnTo>
                  <a:pt x="28884" y="1400"/>
                </a:lnTo>
                <a:close/>
              </a:path>
              <a:path fill="darkenLess" w="30284" h="21600">
                <a:moveTo>
                  <a:pt x="302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4" y="20200"/>
                </a:lnTo>
                <a:close/>
              </a:path>
              <a:path fill="lighten" w="302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fd6c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6248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板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000"/>
                            </p:stCondLst>
                            <p:childTnLst>
                              <p:par>
                                <p:cTn id="97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8480" y="3124080"/>
            <a:ext cx="5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于是为长安约车百乘，质于齐。齐兵乃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2" action="ppaction://hlinksldjump"/>
          </p:cNvPr>
          <p:cNvSpPr/>
          <p:nvPr/>
        </p:nvSpPr>
        <p:spPr>
          <a:xfrm>
            <a:off x="8317080" y="6237360"/>
            <a:ext cx="463320" cy="320760"/>
          </a:xfrm>
          <a:custGeom>
            <a:avLst/>
            <a:gdLst>
              <a:gd name="textAreaLeft" fmla="*/ 20520 w 463320"/>
              <a:gd name="textAreaRight" fmla="*/ 442800 w 463320"/>
              <a:gd name="textAreaTop" fmla="*/ 20520 h 320760"/>
              <a:gd name="textAreaBottom" fmla="*/ 300240 h 320760"/>
            </a:gdLst>
            <a:ahLst/>
            <a:rect l="textAreaLeft" t="textAreaTop" r="textAreaRight" b="textAreaBottom"/>
            <a:pathLst>
              <a:path w="31189" h="21600">
                <a:moveTo>
                  <a:pt x="0" y="0"/>
                </a:moveTo>
                <a:lnTo>
                  <a:pt x="31189" y="0"/>
                </a:lnTo>
                <a:lnTo>
                  <a:pt x="31189" y="21600"/>
                </a:lnTo>
                <a:lnTo>
                  <a:pt x="0" y="21600"/>
                </a:lnTo>
                <a:close/>
              </a:path>
              <a:path fill="lightenLess" w="31189" h="21600">
                <a:moveTo>
                  <a:pt x="0" y="0"/>
                </a:moveTo>
                <a:lnTo>
                  <a:pt x="31189" y="0"/>
                </a:lnTo>
                <a:lnTo>
                  <a:pt x="29789" y="1400"/>
                </a:lnTo>
                <a:lnTo>
                  <a:pt x="1400" y="1400"/>
                </a:lnTo>
                <a:close/>
              </a:path>
              <a:path fill="darken" w="31189" h="21600">
                <a:moveTo>
                  <a:pt x="31189" y="0"/>
                </a:moveTo>
                <a:lnTo>
                  <a:pt x="31189" y="21600"/>
                </a:lnTo>
                <a:lnTo>
                  <a:pt x="29789" y="20200"/>
                </a:lnTo>
                <a:lnTo>
                  <a:pt x="29789" y="1400"/>
                </a:lnTo>
                <a:close/>
              </a:path>
              <a:path fill="darkenLess" w="31189" h="21600">
                <a:moveTo>
                  <a:pt x="3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9" y="20200"/>
                </a:lnTo>
                <a:close/>
              </a:path>
              <a:path fill="lighten" w="3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69b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824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482400"/>
                </a:solidFill>
                <a:latin typeface="Times New Roman"/>
              </a:rPr>
              <a:t>、下列词语加线字的注音</a:t>
            </a:r>
            <a:br>
              <a:rPr sz="3600"/>
            </a:br>
            <a:r>
              <a:rPr b="0" lang="zh-CN" sz="3600" spc="-1" strike="noStrike">
                <a:solidFill>
                  <a:srgbClr val="482400"/>
                </a:solidFill>
                <a:latin typeface="Times New Roman"/>
              </a:rPr>
              <a:t>全部正确的一项是（   ）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大臣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强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qiáng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谏   恃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辇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niǎ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而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: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乃自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强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qiǎng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步  约车百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乘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chéng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C: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封之以膏腴（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yú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之地  未填沟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壑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è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D: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最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少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hào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不肖  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没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méi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死以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9144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5T02:55:07Z</dcterms:created>
  <dc:creator>zhongwenxi</dc:creator>
  <dc:description/>
  <dc:language>en-US</dc:language>
  <cp:lastModifiedBy>唐山二中</cp:lastModifiedBy>
  <dcterms:modified xsi:type="dcterms:W3CDTF">2002-09-23T14:30:31Z</dcterms:modified>
  <cp:revision>161</cp:revision>
  <dc:subject/>
  <dc:title>触龙说赵太后</dc:title>
</cp:coreProperties>
</file>