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6C1-F4A2-4A9B-A12A-E3EF6B97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24D-63EC-461F-8E26-869387C6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C1B-F958-4B6A-8644-ECABC4DC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BC5-B203-49AE-85D2-49DA24BD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09E-949A-46D7-AAFB-6E87AAC4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5B3-119C-441A-BAD2-279EF40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18F-B091-44E2-B1E5-06F014B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F46-44A4-4971-947A-573F3DA4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D54B-4D48-42B0-932B-8F78595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172-B93E-449C-A4EC-7459BE62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0D22-5255-4924-B4DC-3065039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A42-82D6-4F2B-AF5A-FEC99F4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962-02BE-4F74-8FF0-7974DD8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0276-6A00-4BBE-B6CB-92EB218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3BA0-0479-4E49-B981-EF0CE94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7172-85FE-4B8E-BF5D-9621BFAF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7A1-7DD1-4B25-A304-5B092A8B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41F-3A9E-481F-BEC1-E9A6FCC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D0A-3A68-4580-96FE-FA5E2307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BB9-04AA-4F55-AD9A-DF713B1E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552-CEBA-4E44-8FE9-8EE77224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DAB-E69E-46BB-AFBC-DBBFEE57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1CD-8081-49C5-BF17-0C9DE01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3E4-E206-46BF-BDE1-D49DC6D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87B-A47B-481D-BA79-0050E09405CB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F52E-9F22-4FFA-AC22-51D533FE0A96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iddle_1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152388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  <a:ea typeface="方正琥珀简体"/>
              </a:rPr>
              <a:t>触龙说赵太后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方正美黑简体"/>
              </a:rPr>
              <a:t>《战国策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 rot="21319800">
            <a:off x="1904760" y="228240"/>
            <a:ext cx="3913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660066"/>
                </a:solidFill>
                <a:latin typeface="方正行楷简体"/>
              </a:rPr>
              <a:t>分析归纳</a:t>
            </a:r>
            <a:endParaRPr b="0" lang="en-US" sz="7200" spc="1" strike="noStrike">
              <a:ln w="9360">
                <a:solidFill>
                  <a:srgbClr val="800080"/>
                </a:solidFill>
                <a:miter/>
              </a:ln>
              <a:solidFill>
                <a:srgbClr val="660066"/>
              </a:solidFill>
              <a:latin typeface="方正行楷简体"/>
              <a:ea typeface="方正行楷简体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1447920"/>
            <a:ext cx="4800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ahoma"/>
                <a:ea typeface="隶书"/>
              </a:rPr>
              <a:t>      </a:t>
            </a:r>
            <a:r>
              <a:rPr b="1" i="1" lang="zh-CN" sz="2800" spc="-1" strike="noStrike">
                <a:solidFill>
                  <a:srgbClr val="660066"/>
                </a:solidFill>
                <a:latin typeface="Tahoma"/>
                <a:ea typeface="隶书"/>
              </a:rPr>
              <a:t>课文记叙了触龙用委婉的方式，从爱子的角度劝说赵太后以长安君为人质的故事，启示人们 ：</a:t>
            </a:r>
            <a:r>
              <a:rPr b="1" i="1" lang="zh-CN" sz="2800" spc="-1" strike="noStrike">
                <a:solidFill>
                  <a:srgbClr val="3333ff"/>
                </a:solidFill>
                <a:latin typeface="Tahoma"/>
                <a:ea typeface="隶书"/>
              </a:rPr>
              <a:t>对子女不能一味地溺爱，只考虑他们眼前的安逸、享受，而应为其作长期的打算。</a:t>
            </a:r>
            <a:r>
              <a:rPr b="1" i="1" lang="zh-CN" sz="2800" spc="-1" strike="noStrike">
                <a:solidFill>
                  <a:srgbClr val="660066"/>
                </a:solidFill>
                <a:latin typeface="Tahoma"/>
                <a:ea typeface="隶书"/>
              </a:rPr>
              <a:t>故事的本身还启示人们：</a:t>
            </a:r>
            <a:r>
              <a:rPr b="1" i="1" lang="zh-CN" sz="2800" spc="-1" strike="noStrike">
                <a:solidFill>
                  <a:srgbClr val="3333ff"/>
                </a:solidFill>
                <a:latin typeface="Tahoma"/>
                <a:ea typeface="隶书"/>
              </a:rPr>
              <a:t>办事情要讲究动机、方法和效果的统一，灵活巧妙的方法往往能事半功倍，达到令人满意的结果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3" name="霞光（二）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0880" y="1676520"/>
            <a:ext cx="3429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ahoma"/>
              </a:rPr>
              <a:t>《古文观止》对本文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ahoma"/>
              </a:rPr>
              <a:t>的总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方正楷体简体"/>
              </a:rPr>
              <a:t>左师悟太后，句句闲话，步步闲情。又妙在从妇人情性体贴出来。便借燕后反衬长安君，危词警动，便尔易入。老臣一片苦心，诚则生巧。至今读之，犹觉天花满目，又何怪当日太后之欣然听受也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阅读训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2952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⒈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对下列句中词语解释正确的一项是（     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曾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不能疾走  曾：曾经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妇人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异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甚  异：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约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车百乘  约：大约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恣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君之所使  恣：任凭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1219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20040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⒉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下列句中的词，意义相同的一组是（   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太后明谓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左右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     宫妇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左右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莫不私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愿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未填沟壑而托之    近者祸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身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不若长安君之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甚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   君美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必以长安君为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质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   约车百乘，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质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于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048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阅读训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5238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⒊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比较下列各句中“之”的意义和用法，判断正确的一组是（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今媪尊长安君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位       ②至于赵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为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媪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送燕后                  ④恣君之所使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.①④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相同，②③相同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 .①④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相同，②③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C. ①④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不同，②③相同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D. ①④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不同，②③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73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64832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⒋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与“没死以闻”句式相同的一项是（ 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赵氏求救于齐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封之以膏腴之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长安君何以自托于赵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愿令得补黑衣之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阅读训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143000"/>
            <a:ext cx="883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⒌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下列句子在文中的意思，不正确的一项是（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必以长安君为质，兵乃出：必定要用长安君当人质，援兵才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今媪尊长安君之位：现在您把长安君的地位提得很高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日食饮得无衰乎：每天的饮食难道减少了一些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太后之色少解：太后的怒色稍微消解了一些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1066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03848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⒍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固定句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日食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无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乎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？                            （                   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岂非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计久长有子孙相继为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哉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？（                   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长安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以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自托于越？                    （                                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该不会……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难道不是……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凭什么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扩展阅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219320"/>
            <a:ext cx="83818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赵威后问齐使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3333ff"/>
                </a:solidFill>
                <a:latin typeface="Times New Roman"/>
                <a:ea typeface="华文仿宋"/>
              </a:rPr>
              <a:t>齐王使使者问赵威后，书未发，威后问使者曰：“岁亦无恙耶？民亦无恙耶？王亦无恙耶？”使者不说，曰：“臣奉使使威后，今不问王而先问岁与民，岂先贱而后尊贵者乎？”威后曰：“不然。苟无岁，何以有民？苟无民，何以有君？故有问，舍本而问末者耶？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ff"/>
                </a:solidFill>
                <a:latin typeface="Times New Roman"/>
                <a:ea typeface="华文仿宋"/>
              </a:rPr>
              <a:t>                                                                                      </a:t>
            </a:r>
            <a:r>
              <a:rPr b="1" i="1" lang="zh-CN" sz="2400" spc="-1" strike="noStrike">
                <a:solidFill>
                  <a:srgbClr val="3333ff"/>
                </a:solidFill>
                <a:latin typeface="Times New Roman"/>
              </a:rPr>
              <a:t>《战国策》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419112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解释下面两句中四个加点“使”字的意义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）齐王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者问赵威后        （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）臣奉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威后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：           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：       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：        使</a:t>
            </a:r>
            <a:r>
              <a:rPr b="1" lang="zh-CN" sz="2400" spc="-1" strike="noStrike" baseline="30000">
                <a:solidFill>
                  <a:srgbClr val="003399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6019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答案：①派遣   ②使者   ③使命   ④出使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7a3c"/>
                </a:solidFill>
                <a:latin typeface="Tahoma"/>
              </a:rPr>
              <a:t>扩展阅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143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解释下列句中异色词的意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使者不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     ⑵威后曰：“不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”      ⑶故有问，舍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本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而问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末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者耶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2514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答案：⑴通“悦”，高兴     ⑵对的，是的    ⑶根本的；不重要的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00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a3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将这段文字翻译成现代汉语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733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翻译：</a:t>
            </a:r>
            <a:r>
              <a:rPr b="1" lang="zh-CN" sz="2400" spc="-1" strike="noStrike">
                <a:solidFill>
                  <a:srgbClr val="619147"/>
                </a:solidFill>
                <a:latin typeface="Times New Roman"/>
              </a:rPr>
              <a:t>齐王派使者拜问赵太后，信还没打开，威后就问使者：“年成没有灾吧？百姓也没有祸吧？齐王也没有病吧？”使者不高兴，说：“小臣奉命出使拜见威后，现在您不先问齐王却先问年成和百姓，难道是卑贱的倒问在前，而尊贵的却问在后吗？”威后说“不对。如果收成不好，哪里会有百姓？如果没有百姓，哪里会有国君？所以，（如果）有所问，能舍弃根本的而问不重要的事吗？”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 rot="429600">
            <a:off x="2971800" y="1904760"/>
            <a:ext cx="3162240" cy="22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行楷简体"/>
              </a:rPr>
              <a:t>再  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行楷简体"/>
              <a:ea typeface="方正行楷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6591240" y="24001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1ce97"/>
                </a:solidFill>
                <a:latin typeface="宋体"/>
              </a:rPr>
              <a:t>背景介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1ce97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655851"/>
                </a:solidFill>
                <a:latin typeface="华文仿宋"/>
                <a:ea typeface="华文仿宋"/>
              </a:rPr>
              <a:t>《触龙说赵太后》这个故事大约发生在赵孝成王元年（公元前</a:t>
            </a:r>
            <a:r>
              <a:rPr b="1" lang="zh-CN" sz="2800" spc="-1" strike="noStrike">
                <a:solidFill>
                  <a:srgbClr val="655851"/>
                </a:solidFill>
                <a:latin typeface="华文仿宋"/>
                <a:ea typeface="华文仿宋"/>
              </a:rPr>
              <a:t>265</a:t>
            </a:r>
            <a:r>
              <a:rPr b="1" lang="zh-CN" sz="2800" spc="-1" strike="noStrike">
                <a:solidFill>
                  <a:srgbClr val="655851"/>
                </a:solidFill>
                <a:latin typeface="华文仿宋"/>
                <a:ea typeface="华文仿宋"/>
              </a:rPr>
              <a:t>年）。公元前</a:t>
            </a:r>
            <a:r>
              <a:rPr b="1" lang="zh-CN" sz="2800" spc="-1" strike="noStrike">
                <a:solidFill>
                  <a:srgbClr val="655851"/>
                </a:solidFill>
                <a:latin typeface="华文仿宋"/>
                <a:ea typeface="华文仿宋"/>
              </a:rPr>
              <a:t>266</a:t>
            </a:r>
            <a:r>
              <a:rPr b="1" lang="zh-CN" sz="2800" spc="-1" strike="noStrike">
                <a:solidFill>
                  <a:srgbClr val="655851"/>
                </a:solidFill>
                <a:latin typeface="华文仿宋"/>
                <a:ea typeface="华文仿宋"/>
              </a:rPr>
              <a:t>年，赵国国君惠文王去世，他的儿子孝成王继承了王位，因当时孝成王还小，所以由赵威后执政。当时的赵国，虽然有廉颇、蔺相如、平原君等人在支撑门面，但赵太后刚执政，处于新旧交替之际，国内动荡不安，国势大不如前。秦国认为有机可乘，便发兵东下，一举攻占了赵国的三座城池，赵国危在旦夕，太后不得不向齐国求援。齐国虽答应出兵，但按当时惯例提出了一个条件：即赵国必须派太后的幼子长安君到齐国做人质。</a:t>
            </a:r>
            <a:r>
              <a:rPr b="1" lang="zh-CN" sz="2800" spc="-1" strike="noStrike">
                <a:solidFill>
                  <a:srgbClr val="7c6148"/>
                </a:solidFill>
                <a:latin typeface="华文仿宋"/>
                <a:ea typeface="华文仿宋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d8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52480" y="228600"/>
            <a:ext cx="457200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战国形势简图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-17640" y="1905120"/>
            <a:ext cx="9161640" cy="3665520"/>
          </a:xfrm>
          <a:custGeom>
            <a:avLst/>
            <a:gdLst/>
            <a:ahLst/>
            <a:rect l="l" t="t" r="r" b="b"/>
            <a:pathLst>
              <a:path w="5771" h="2309">
                <a:moveTo>
                  <a:pt x="0" y="39"/>
                </a:moveTo>
                <a:cubicBezTo>
                  <a:pt x="430" y="56"/>
                  <a:pt x="185" y="0"/>
                  <a:pt x="338" y="107"/>
                </a:cubicBezTo>
                <a:cubicBezTo>
                  <a:pt x="346" y="128"/>
                  <a:pt x="355" y="153"/>
                  <a:pt x="361" y="174"/>
                </a:cubicBezTo>
                <a:cubicBezTo>
                  <a:pt x="365" y="189"/>
                  <a:pt x="360" y="209"/>
                  <a:pt x="372" y="219"/>
                </a:cubicBezTo>
                <a:cubicBezTo>
                  <a:pt x="390" y="235"/>
                  <a:pt x="440" y="242"/>
                  <a:pt x="440" y="242"/>
                </a:cubicBezTo>
                <a:cubicBezTo>
                  <a:pt x="451" y="250"/>
                  <a:pt x="462" y="259"/>
                  <a:pt x="474" y="265"/>
                </a:cubicBezTo>
                <a:cubicBezTo>
                  <a:pt x="485" y="270"/>
                  <a:pt x="498" y="270"/>
                  <a:pt x="508" y="276"/>
                </a:cubicBezTo>
                <a:cubicBezTo>
                  <a:pt x="559" y="304"/>
                  <a:pt x="590" y="338"/>
                  <a:pt x="643" y="355"/>
                </a:cubicBezTo>
                <a:cubicBezTo>
                  <a:pt x="762" y="435"/>
                  <a:pt x="949" y="436"/>
                  <a:pt x="1084" y="445"/>
                </a:cubicBezTo>
                <a:cubicBezTo>
                  <a:pt x="1199" y="486"/>
                  <a:pt x="1336" y="479"/>
                  <a:pt x="1457" y="502"/>
                </a:cubicBezTo>
                <a:cubicBezTo>
                  <a:pt x="1498" y="566"/>
                  <a:pt x="1473" y="636"/>
                  <a:pt x="1434" y="694"/>
                </a:cubicBezTo>
                <a:cubicBezTo>
                  <a:pt x="1381" y="852"/>
                  <a:pt x="1438" y="661"/>
                  <a:pt x="1400" y="954"/>
                </a:cubicBezTo>
                <a:cubicBezTo>
                  <a:pt x="1397" y="977"/>
                  <a:pt x="1385" y="999"/>
                  <a:pt x="1377" y="1021"/>
                </a:cubicBezTo>
                <a:cubicBezTo>
                  <a:pt x="1373" y="1032"/>
                  <a:pt x="1366" y="1055"/>
                  <a:pt x="1366" y="1055"/>
                </a:cubicBezTo>
                <a:cubicBezTo>
                  <a:pt x="1384" y="1130"/>
                  <a:pt x="1402" y="1189"/>
                  <a:pt x="1377" y="1270"/>
                </a:cubicBezTo>
                <a:cubicBezTo>
                  <a:pt x="1369" y="1296"/>
                  <a:pt x="1347" y="1315"/>
                  <a:pt x="1332" y="1338"/>
                </a:cubicBezTo>
                <a:cubicBezTo>
                  <a:pt x="1325" y="1349"/>
                  <a:pt x="1310" y="1371"/>
                  <a:pt x="1310" y="1371"/>
                </a:cubicBezTo>
                <a:cubicBezTo>
                  <a:pt x="1318" y="1428"/>
                  <a:pt x="1325" y="1476"/>
                  <a:pt x="1344" y="1530"/>
                </a:cubicBezTo>
                <a:cubicBezTo>
                  <a:pt x="1342" y="1544"/>
                  <a:pt x="1338" y="1633"/>
                  <a:pt x="1321" y="1665"/>
                </a:cubicBezTo>
                <a:cubicBezTo>
                  <a:pt x="1308" y="1689"/>
                  <a:pt x="1276" y="1733"/>
                  <a:pt x="1276" y="1733"/>
                </a:cubicBezTo>
                <a:cubicBezTo>
                  <a:pt x="1280" y="1767"/>
                  <a:pt x="1280" y="1801"/>
                  <a:pt x="1287" y="1835"/>
                </a:cubicBezTo>
                <a:cubicBezTo>
                  <a:pt x="1292" y="1858"/>
                  <a:pt x="1310" y="1902"/>
                  <a:pt x="1310" y="1902"/>
                </a:cubicBezTo>
                <a:cubicBezTo>
                  <a:pt x="1306" y="1913"/>
                  <a:pt x="1303" y="1925"/>
                  <a:pt x="1298" y="1936"/>
                </a:cubicBezTo>
                <a:cubicBezTo>
                  <a:pt x="1292" y="1948"/>
                  <a:pt x="1281" y="1958"/>
                  <a:pt x="1276" y="1970"/>
                </a:cubicBezTo>
                <a:cubicBezTo>
                  <a:pt x="1257" y="2012"/>
                  <a:pt x="1245" y="2062"/>
                  <a:pt x="1231" y="2106"/>
                </a:cubicBezTo>
                <a:cubicBezTo>
                  <a:pt x="1227" y="2117"/>
                  <a:pt x="1227" y="2131"/>
                  <a:pt x="1219" y="2139"/>
                </a:cubicBezTo>
                <a:cubicBezTo>
                  <a:pt x="1210" y="2147"/>
                  <a:pt x="1196" y="2147"/>
                  <a:pt x="1185" y="2151"/>
                </a:cubicBezTo>
                <a:cubicBezTo>
                  <a:pt x="1189" y="2181"/>
                  <a:pt x="1186" y="2213"/>
                  <a:pt x="1197" y="2241"/>
                </a:cubicBezTo>
                <a:cubicBezTo>
                  <a:pt x="1203" y="2255"/>
                  <a:pt x="1251" y="2273"/>
                  <a:pt x="1265" y="2275"/>
                </a:cubicBezTo>
                <a:cubicBezTo>
                  <a:pt x="1317" y="2281"/>
                  <a:pt x="1370" y="2282"/>
                  <a:pt x="1423" y="2286"/>
                </a:cubicBezTo>
                <a:cubicBezTo>
                  <a:pt x="1536" y="2279"/>
                  <a:pt x="1575" y="2280"/>
                  <a:pt x="1671" y="2264"/>
                </a:cubicBezTo>
                <a:cubicBezTo>
                  <a:pt x="1731" y="2254"/>
                  <a:pt x="1734" y="2250"/>
                  <a:pt x="1795" y="2230"/>
                </a:cubicBezTo>
                <a:cubicBezTo>
                  <a:pt x="1806" y="2226"/>
                  <a:pt x="1829" y="2219"/>
                  <a:pt x="1829" y="2219"/>
                </a:cubicBezTo>
                <a:cubicBezTo>
                  <a:pt x="1840" y="2211"/>
                  <a:pt x="1851" y="2202"/>
                  <a:pt x="1863" y="2196"/>
                </a:cubicBezTo>
                <a:cubicBezTo>
                  <a:pt x="1874" y="2191"/>
                  <a:pt x="1887" y="2191"/>
                  <a:pt x="1897" y="2185"/>
                </a:cubicBezTo>
                <a:cubicBezTo>
                  <a:pt x="1921" y="2172"/>
                  <a:pt x="1965" y="2139"/>
                  <a:pt x="1965" y="2139"/>
                </a:cubicBezTo>
                <a:cubicBezTo>
                  <a:pt x="1997" y="2044"/>
                  <a:pt x="2071" y="2087"/>
                  <a:pt x="2168" y="2094"/>
                </a:cubicBezTo>
                <a:cubicBezTo>
                  <a:pt x="2198" y="2114"/>
                  <a:pt x="2210" y="2116"/>
                  <a:pt x="2225" y="2151"/>
                </a:cubicBezTo>
                <a:cubicBezTo>
                  <a:pt x="2245" y="2196"/>
                  <a:pt x="2237" y="2219"/>
                  <a:pt x="2270" y="2252"/>
                </a:cubicBezTo>
                <a:cubicBezTo>
                  <a:pt x="2298" y="2279"/>
                  <a:pt x="2336" y="2286"/>
                  <a:pt x="2371" y="2298"/>
                </a:cubicBezTo>
                <a:cubicBezTo>
                  <a:pt x="2382" y="2302"/>
                  <a:pt x="2405" y="2309"/>
                  <a:pt x="2405" y="2309"/>
                </a:cubicBezTo>
                <a:cubicBezTo>
                  <a:pt x="2484" y="2305"/>
                  <a:pt x="2563" y="2305"/>
                  <a:pt x="2642" y="2298"/>
                </a:cubicBezTo>
                <a:cubicBezTo>
                  <a:pt x="2715" y="2292"/>
                  <a:pt x="2794" y="2262"/>
                  <a:pt x="2868" y="2252"/>
                </a:cubicBezTo>
                <a:cubicBezTo>
                  <a:pt x="2995" y="2211"/>
                  <a:pt x="3107" y="2176"/>
                  <a:pt x="3241" y="2162"/>
                </a:cubicBezTo>
                <a:cubicBezTo>
                  <a:pt x="3290" y="2145"/>
                  <a:pt x="3339" y="2133"/>
                  <a:pt x="3388" y="2117"/>
                </a:cubicBezTo>
                <a:cubicBezTo>
                  <a:pt x="3438" y="2084"/>
                  <a:pt x="3475" y="2048"/>
                  <a:pt x="3523" y="2015"/>
                </a:cubicBezTo>
                <a:cubicBezTo>
                  <a:pt x="3576" y="1936"/>
                  <a:pt x="3546" y="1962"/>
                  <a:pt x="3602" y="1925"/>
                </a:cubicBezTo>
                <a:cubicBezTo>
                  <a:pt x="3625" y="1891"/>
                  <a:pt x="3636" y="1857"/>
                  <a:pt x="3659" y="1823"/>
                </a:cubicBezTo>
                <a:cubicBezTo>
                  <a:pt x="3689" y="1732"/>
                  <a:pt x="3732" y="1496"/>
                  <a:pt x="3851" y="1484"/>
                </a:cubicBezTo>
                <a:cubicBezTo>
                  <a:pt x="3918" y="1477"/>
                  <a:pt x="3986" y="1477"/>
                  <a:pt x="4054" y="1473"/>
                </a:cubicBezTo>
                <a:cubicBezTo>
                  <a:pt x="4100" y="1404"/>
                  <a:pt x="4171" y="1373"/>
                  <a:pt x="4246" y="1349"/>
                </a:cubicBezTo>
                <a:cubicBezTo>
                  <a:pt x="4336" y="1320"/>
                  <a:pt x="4529" y="1326"/>
                  <a:pt x="4529" y="1326"/>
                </a:cubicBezTo>
                <a:cubicBezTo>
                  <a:pt x="4551" y="1322"/>
                  <a:pt x="4574" y="1321"/>
                  <a:pt x="4596" y="1315"/>
                </a:cubicBezTo>
                <a:cubicBezTo>
                  <a:pt x="4619" y="1309"/>
                  <a:pt x="4664" y="1292"/>
                  <a:pt x="4664" y="1292"/>
                </a:cubicBezTo>
                <a:cubicBezTo>
                  <a:pt x="4691" y="1254"/>
                  <a:pt x="4705" y="1218"/>
                  <a:pt x="4732" y="1179"/>
                </a:cubicBezTo>
                <a:cubicBezTo>
                  <a:pt x="4747" y="1157"/>
                  <a:pt x="4752" y="1121"/>
                  <a:pt x="4777" y="1112"/>
                </a:cubicBezTo>
                <a:cubicBezTo>
                  <a:pt x="4872" y="1079"/>
                  <a:pt x="4747" y="1126"/>
                  <a:pt x="4845" y="1078"/>
                </a:cubicBezTo>
                <a:cubicBezTo>
                  <a:pt x="4883" y="1059"/>
                  <a:pt x="4929" y="1057"/>
                  <a:pt x="4969" y="1044"/>
                </a:cubicBezTo>
                <a:cubicBezTo>
                  <a:pt x="4987" y="992"/>
                  <a:pt x="4996" y="952"/>
                  <a:pt x="5025" y="908"/>
                </a:cubicBezTo>
                <a:cubicBezTo>
                  <a:pt x="5043" y="841"/>
                  <a:pt x="5055" y="780"/>
                  <a:pt x="5105" y="728"/>
                </a:cubicBezTo>
                <a:cubicBezTo>
                  <a:pt x="5163" y="668"/>
                  <a:pt x="5239" y="627"/>
                  <a:pt x="5308" y="581"/>
                </a:cubicBezTo>
                <a:cubicBezTo>
                  <a:pt x="5422" y="506"/>
                  <a:pt x="5490" y="462"/>
                  <a:pt x="5624" y="423"/>
                </a:cubicBezTo>
                <a:cubicBezTo>
                  <a:pt x="5670" y="410"/>
                  <a:pt x="5724" y="389"/>
                  <a:pt x="5771" y="38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 rot="5400000">
            <a:off x="380880" y="48006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秦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410080"/>
            <a:ext cx="7632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42670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魏</a:t>
            </a:r>
            <a:endParaRPr b="0" lang="en-US" sz="2400" spc="1" strike="noStrike">
              <a:ln w="1260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81280" y="2666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赵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5562720"/>
            <a:ext cx="514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咸阳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800600" y="3505320"/>
            <a:ext cx="514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邯郸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077320" y="4114800"/>
            <a:ext cx="457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齐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8381880" y="3200400"/>
            <a:ext cx="7632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74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05920" y="3352680"/>
            <a:ext cx="5140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临淄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74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828800" y="3429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715000" y="4572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62520" y="62485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楚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2d5b"/>
                </a:solidFill>
                <a:latin typeface="Tahoma"/>
                <a:ea typeface="方正楷体简体"/>
              </a:rPr>
              <a:t>       </a:t>
            </a:r>
            <a:r>
              <a:rPr b="1" lang="zh-CN" sz="3200" spc="-1" strike="noStrike">
                <a:solidFill>
                  <a:srgbClr val="892d5b"/>
                </a:solidFill>
                <a:latin typeface="Tahoma"/>
                <a:ea typeface="方正楷体简体"/>
              </a:rPr>
              <a:t>文中的赵太后就</a:t>
            </a:r>
            <a:r>
              <a:rPr b="1" lang="zh-CN" sz="3200" spc="-1" strike="noStrike">
                <a:solidFill>
                  <a:srgbClr val="892d5b"/>
                </a:solidFill>
                <a:latin typeface="宋体"/>
                <a:ea typeface="方正楷体简体"/>
              </a:rPr>
              <a:t>是历史上赫赫有名的赵威后。</a:t>
            </a:r>
            <a:r>
              <a:rPr b="1" lang="zh-CN" sz="3200" spc="-1" strike="noStrike">
                <a:solidFill>
                  <a:srgbClr val="892d5b"/>
                </a:solidFill>
                <a:latin typeface="Tahoma"/>
                <a:ea typeface="方正楷体简体"/>
              </a:rPr>
              <a:t>在《战国策•齐策》里，有一段“威后问齐使”的佳话。她先问收成，后问百姓，最后才问候君王，致使齐使不悦，说她是“先贱而后尊贵”。赵威后据理以对，道出“苟无岁，何有民？尚无民，何有君”的千古名言。</a:t>
            </a:r>
            <a:r>
              <a:rPr b="1" lang="zh-CN" sz="3200" spc="-1" strike="noStrike">
                <a:solidFill>
                  <a:srgbClr val="892d5b"/>
                </a:solidFill>
                <a:latin typeface="宋体"/>
                <a:ea typeface="方正楷体简体"/>
              </a:rPr>
              <a:t>赵威后从此威风八面，青史留名。就是这位青史留名的赵威后，在对待子女的问题上，有时却过于溺爱，甚至蛮不讲理，</a:t>
            </a:r>
            <a:r>
              <a:rPr b="1" lang="zh-CN" sz="3200" spc="-1" strike="noStrike">
                <a:solidFill>
                  <a:srgbClr val="892d5b"/>
                </a:solidFill>
                <a:latin typeface="Tahoma"/>
                <a:ea typeface="方正楷体简体"/>
              </a:rPr>
              <a:t>置国家安危于不顾</a:t>
            </a:r>
            <a:r>
              <a:rPr b="1" lang="zh-CN" sz="3200" spc="-1" strike="noStrike">
                <a:solidFill>
                  <a:srgbClr val="892d5b"/>
                </a:solidFill>
                <a:latin typeface="宋体"/>
                <a:ea typeface="方正楷体简体"/>
              </a:rPr>
              <a:t>，</a:t>
            </a:r>
            <a:r>
              <a:rPr b="1" lang="zh-CN" sz="3200" spc="-1" strike="noStrike">
                <a:solidFill>
                  <a:srgbClr val="892d5b"/>
                </a:solidFill>
                <a:latin typeface="Tahoma"/>
                <a:ea typeface="方正楷体简体"/>
              </a:rPr>
              <a:t>全不像一个开明君主，这才引出了触龙巧说赵太后，换来救援之师的一段故事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362320" y="228600"/>
            <a:ext cx="38098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赵太后其人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09680" y="304920"/>
            <a:ext cx="426744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宋体"/>
              </a:rPr>
              <a:t>教学目的</a:t>
            </a:r>
            <a:endParaRPr b="0" lang="en-US" sz="4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362320"/>
            <a:ext cx="8229600" cy="411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新宋体"/>
              </a:rPr>
              <a:t>了解本文委婉曲折、层层深入、纵横捭阖的论说技巧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新宋体"/>
              </a:rPr>
              <a:t>体悟赵太后与触龙君臣对话中的人情、人性美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131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新宋体"/>
              </a:rPr>
              <a:t>理解文言词义、句式及词语活用，掌握文中谦称、谦词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38280" y="228600"/>
            <a:ext cx="40770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方正魏碑简体"/>
              </a:rPr>
              <a:t>理清思路</a:t>
            </a:r>
            <a:endParaRPr b="0" lang="en-US" sz="8000" spc="1" strike="noStrike">
              <a:ln cap="sq"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方正魏碑简体"/>
              <a:ea typeface="方正魏碑简体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905120"/>
            <a:ext cx="7543800" cy="472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第一部分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（从开始到“老妇必唾其面”）</a:t>
            </a:r>
            <a:r>
              <a:rPr b="1" i="1" lang="zh-CN" sz="2800" spc="-1" strike="noStrike">
                <a:solidFill>
                  <a:srgbClr val="ffffff"/>
                </a:solidFill>
                <a:latin typeface="Tahoma"/>
                <a:ea typeface="隶书"/>
              </a:rPr>
              <a:t>写“说”的背景：太后不肯让子为人质，触龙“说”势不利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第二部分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（从“左师公曰”到“太后之色少解”）</a:t>
            </a:r>
            <a:r>
              <a:rPr b="1" i="1" lang="zh-CN" sz="2800" spc="-1" strike="noStrike">
                <a:solidFill>
                  <a:srgbClr val="ffffff"/>
                </a:solidFill>
                <a:latin typeface="Tahoma"/>
                <a:ea typeface="隶书"/>
              </a:rPr>
              <a:t>写“说”家常，消除太后戒心，缓和紧张局面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第三部分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（从“左师公曰”到“恣君之所使”）</a:t>
            </a:r>
            <a:r>
              <a:rPr b="1" i="1" lang="zh-CN" sz="2800" spc="-1" strike="noStrike">
                <a:solidFill>
                  <a:srgbClr val="ffffff"/>
                </a:solidFill>
                <a:latin typeface="Tahoma"/>
                <a:ea typeface="隶书"/>
              </a:rPr>
              <a:t>写“说”爱子，引起共鸣，旁敲侧击，欲擒故纵，太后心悦诚服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第四部分（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最后一段</a:t>
            </a: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）</a:t>
            </a:r>
            <a:r>
              <a:rPr b="1" i="1" lang="zh-CN" sz="2800" spc="-1" strike="noStrike">
                <a:solidFill>
                  <a:srgbClr val="ffffff"/>
                </a:solidFill>
                <a:latin typeface="Tahoma"/>
                <a:ea typeface="隶书"/>
              </a:rPr>
              <a:t>写“说”的结局：长安君质于齐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3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304920"/>
            <a:ext cx="30481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构提纲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66680" y="34290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7467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方正隶书简体"/>
              </a:rPr>
              <a:t>说</a:t>
            </a:r>
            <a:endParaRPr b="0" lang="en-US" sz="4800" spc="1" strike="noStrike">
              <a:ln w="12600">
                <a:solidFill>
                  <a:srgbClr val="37467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方正隶书简体"/>
              <a:ea typeface="方正隶书简体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52480" y="1981080"/>
            <a:ext cx="914400" cy="3809880"/>
            <a:chOff x="1752480" y="1981080"/>
            <a:chExt cx="914400" cy="3809880"/>
          </a:xfrm>
        </p:grpSpPr>
        <p:sp>
          <p:nvSpPr>
            <p:cNvPr id="177" name=""/>
            <p:cNvSpPr/>
            <p:nvPr/>
          </p:nvSpPr>
          <p:spPr>
            <a:xfrm>
              <a:off x="2133360" y="1981080"/>
              <a:ext cx="0" cy="3809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3360" y="198108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3809880"/>
              <a:ext cx="914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3360" y="579096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743200" y="175248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背景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1219320"/>
            <a:ext cx="914400" cy="1447560"/>
            <a:chOff x="3657600" y="1219320"/>
            <a:chExt cx="914400" cy="1447560"/>
          </a:xfrm>
        </p:grpSpPr>
        <p:sp>
          <p:nvSpPr>
            <p:cNvPr id="183" name=""/>
            <p:cNvSpPr/>
            <p:nvPr/>
          </p:nvSpPr>
          <p:spPr>
            <a:xfrm>
              <a:off x="3657600" y="1981080"/>
              <a:ext cx="914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1219320"/>
              <a:ext cx="0" cy="1447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121932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8480" y="266688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48320" y="10666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秦急攻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95280" y="175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求救于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太后与大臣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1143000"/>
            <a:ext cx="304560" cy="1600200"/>
          </a:xfrm>
          <a:custGeom>
            <a:avLst/>
            <a:gdLst>
              <a:gd name="textAreaLeft" fmla="*/ 0 w 304560"/>
              <a:gd name="textAreaRight" fmla="*/ 10980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81280" y="175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三对矛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9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经过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200400"/>
            <a:ext cx="914400" cy="1447920"/>
            <a:chOff x="3657600" y="3200400"/>
            <a:chExt cx="914400" cy="1447920"/>
          </a:xfrm>
        </p:grpSpPr>
        <p:sp>
          <p:nvSpPr>
            <p:cNvPr id="194" name=""/>
            <p:cNvSpPr/>
            <p:nvPr/>
          </p:nvSpPr>
          <p:spPr>
            <a:xfrm>
              <a:off x="3657600" y="3886200"/>
              <a:ext cx="914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3200400"/>
              <a:ext cx="0" cy="1447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320040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572000" y="297180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一问饮食住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66480" y="3657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二求舒祺之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18760" y="4343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三论王位承袭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304812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5724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三个方面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结果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579132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7467f"/>
                </a:solidFill>
                <a:latin typeface="Times New Roman"/>
              </a:rPr>
              <a:t>长安君质于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57913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8128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矛盾解决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36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彩云简体"/>
                <a:ea typeface="方正彩云简体"/>
              </a:rPr>
              <a:t>情节跌宕起伏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彩云简体"/>
                <a:ea typeface="方正彩云简体"/>
              </a:rPr>
              <a:t>说理正反对比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彩云简体"/>
                <a:ea typeface="方正彩云简体"/>
              </a:rPr>
              <a:t>游说攻心为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彩云简体"/>
                <a:ea typeface="方正彩云简体"/>
              </a:rPr>
              <a:t>运用伏笔回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 rot="20976000">
            <a:off x="533520" y="990360"/>
            <a:ext cx="30477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艺术特色</a:t>
            </a:r>
            <a:endParaRPr b="0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pic>
        <p:nvPicPr>
          <p:cNvPr id="212" name="空灵（一）" descr=""/>
          <p:cNvPicPr/>
          <p:nvPr/>
        </p:nvPicPr>
        <p:blipFill>
          <a:blip r:embed="rId5"/>
          <a:stretch/>
        </p:blipFill>
        <p:spPr>
          <a:xfrm>
            <a:off x="4495680" y="1905120"/>
            <a:ext cx="4419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 rot="5400000">
            <a:off x="-914400" y="25909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劝谏艺术</a:t>
            </a:r>
            <a:endParaRPr b="0" i="1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pic>
        <p:nvPicPr>
          <p:cNvPr id="216" name="空灵（二）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6629400" cy="586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7" name=""/>
          <p:cNvSpPr/>
          <p:nvPr/>
        </p:nvSpPr>
        <p:spPr>
          <a:xfrm>
            <a:off x="2286000" y="380880"/>
            <a:ext cx="622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0040" y="304920"/>
            <a:ext cx="8409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ahoma"/>
                <a:ea typeface="方正隶书简体"/>
              </a:rPr>
              <a:t>大臣</a:t>
            </a: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 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隶书"/>
              </a:rPr>
              <a:t>强谏</a:t>
            </a: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                       太后   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隶书"/>
              </a:rPr>
              <a:t>盛怒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1143000"/>
            <a:ext cx="1752480" cy="76320"/>
          </a:xfrm>
          <a:prstGeom prst="rightArrow">
            <a:avLst>
              <a:gd name="adj1" fmla="val 50000"/>
              <a:gd name="adj2" fmla="val 57405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343400" y="9144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用理智纠正感情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876920" y="1219320"/>
            <a:ext cx="609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失败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1600200"/>
            <a:ext cx="640080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方正隶书简体"/>
              </a:rPr>
              <a:t>         </a:t>
            </a:r>
            <a:r>
              <a:rPr b="1" i="1" lang="zh-CN" sz="2400" spc="-1" strike="noStrike">
                <a:solidFill>
                  <a:srgbClr val="ffff00"/>
                </a:solidFill>
                <a:latin typeface="Tahoma"/>
              </a:rPr>
              <a:t>谈家常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i="1" lang="zh-CN" sz="2400" spc="-1" strike="noStrike">
                <a:solidFill>
                  <a:srgbClr val="ffff00"/>
                </a:solidFill>
                <a:latin typeface="Tahoma"/>
              </a:rPr>
              <a:t>叙寒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ahoma"/>
                <a:ea typeface="方正隶书简体"/>
              </a:rPr>
              <a:t>触  </a:t>
            </a:r>
            <a:r>
              <a:rPr b="1" i="1" lang="zh-CN" sz="2400" spc="-1" strike="noStrike">
                <a:solidFill>
                  <a:srgbClr val="ffff00"/>
                </a:solidFill>
                <a:latin typeface="宋体"/>
              </a:rPr>
              <a:t>谈幼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宋体"/>
              </a:rPr>
              <a:t>      </a:t>
            </a:r>
            <a:r>
              <a:rPr b="1" i="1" lang="zh-CN" sz="2400" spc="-1" strike="noStrike">
                <a:solidFill>
                  <a:srgbClr val="ffff00"/>
                </a:solidFill>
                <a:latin typeface="宋体"/>
              </a:rPr>
              <a:t>托身后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ahoma"/>
                <a:ea typeface="方正隶书简体"/>
              </a:rPr>
              <a:t>龙  </a:t>
            </a:r>
            <a:r>
              <a:rPr b="1" i="1" lang="zh-CN" sz="2400" spc="-1" strike="noStrike">
                <a:solidFill>
                  <a:srgbClr val="ffff00"/>
                </a:solidFill>
                <a:latin typeface="宋体"/>
              </a:rPr>
              <a:t>论王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宋体"/>
              </a:rPr>
              <a:t>      </a:t>
            </a:r>
            <a:r>
              <a:rPr b="1" i="1" lang="zh-CN" sz="2400" spc="-1" strike="noStrike">
                <a:solidFill>
                  <a:srgbClr val="ffff00"/>
                </a:solidFill>
                <a:latin typeface="宋体"/>
              </a:rPr>
              <a:t>辨爱法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19051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61914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133720"/>
            <a:ext cx="2057400" cy="75960"/>
          </a:xfrm>
          <a:prstGeom prst="rightArrow">
            <a:avLst>
              <a:gd name="adj1" fmla="val 50000"/>
              <a:gd name="adj2" fmla="val 67713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1905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太后     色稍解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828800"/>
            <a:ext cx="10382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缓 冲 法</a:t>
            </a:r>
            <a:endParaRPr b="0" lang="en-US" sz="2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220968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成功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3657600"/>
            <a:ext cx="2286000" cy="76320"/>
          </a:xfrm>
          <a:prstGeom prst="rightArrow">
            <a:avLst>
              <a:gd name="adj1" fmla="val 50000"/>
              <a:gd name="adj2" fmla="val 74882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3352680"/>
            <a:ext cx="2666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 </a:t>
            </a: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太后        </a:t>
            </a:r>
            <a:r>
              <a:rPr b="1" i="1" lang="zh-CN" sz="3200" spc="-1" strike="noStrike">
                <a:solidFill>
                  <a:srgbClr val="ffff00"/>
                </a:solidFill>
                <a:latin typeface="Tahoma"/>
                <a:ea typeface="隶书"/>
              </a:rPr>
              <a:t>笑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495680" y="3352680"/>
            <a:ext cx="10382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引诱法</a:t>
            </a:r>
            <a:endParaRPr b="0" lang="en-US" sz="2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24280" y="3733920"/>
            <a:ext cx="609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成功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144792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2666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5181480"/>
            <a:ext cx="2133360" cy="76320"/>
          </a:xfrm>
          <a:prstGeom prst="rightArrow">
            <a:avLst>
              <a:gd name="adj1" fmla="val 50000"/>
              <a:gd name="adj2" fmla="val 69882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952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ahoma"/>
                <a:ea typeface="隶书"/>
              </a:rPr>
              <a:t>太后       </a:t>
            </a:r>
            <a:r>
              <a:rPr b="1" i="1" lang="zh-CN" sz="3200" spc="-1" strike="noStrike">
                <a:solidFill>
                  <a:srgbClr val="ffff00"/>
                </a:solidFill>
                <a:latin typeface="Tahoma"/>
                <a:ea typeface="隶书"/>
              </a:rPr>
              <a:t>诺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419112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0" y="4876920"/>
            <a:ext cx="1285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旁击直入法</a:t>
            </a:r>
            <a:endParaRPr b="0" lang="en-US" sz="2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876920" y="52578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成功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05-24T11:54:15Z</dcterms:created>
  <dc:creator>classroom03</dc:creator>
  <dc:description/>
  <dc:language>en-US</dc:language>
  <cp:lastModifiedBy>nec</cp:lastModifiedBy>
  <dcterms:modified xsi:type="dcterms:W3CDTF">2003-10-29T01:43:35Z</dcterms:modified>
  <cp:revision>42</cp:revision>
  <dc:subject/>
  <dc:title>PowerPoint 演示文稿</dc:title>
</cp:coreProperties>
</file>