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cashreg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338-9E34-4C6D-83FE-86C652BD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2FB5-19F2-4CCD-B4FA-0A5642DC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412-3847-40E0-AE19-FBEEF14C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D0E-E1DD-409D-9AD9-A97078AB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D76-25F7-4126-8061-ED019BDF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AAB-E13E-4D95-AC85-C80846DB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E8BF-D69D-4711-82E5-52B4B8AD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1DAE-4B8E-4461-BAE2-40BBACCF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FD09-4875-4279-822E-2D3F37D8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85E-AA9B-4F90-AF94-796A398A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6832-E79C-417A-B231-D1CDF3F1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BB54-5877-46F0-AA90-A0510B21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86F8-2733-4F44-ABD2-8F3BD7BB7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长江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95280" y="1905120"/>
            <a:ext cx="6400800" cy="21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华文行楷"/>
              </a:rPr>
              <a:t>长江之歌</a:t>
            </a:r>
            <a:endParaRPr b="1" i="1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1长江之歌01"/>
          <p:cNvPicPr/>
          <p:nvPr/>
        </p:nvPicPr>
        <p:blipFill>
          <a:blip r:embed="rId1"/>
          <a:srcRect l="0" t="0" r="0" b="76142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20070509092651617"/>
          <p:cNvPicPr/>
          <p:nvPr/>
        </p:nvPicPr>
        <p:blipFill>
          <a:blip r:embed="rId2"/>
          <a:srcRect l="0" t="0" r="0" b="6628"/>
          <a:stretch/>
        </p:blipFill>
        <p:spPr>
          <a:xfrm>
            <a:off x="228600" y="5715000"/>
            <a:ext cx="706320" cy="762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539640" y="177336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为什么说长江有母亲的情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39640" y="2637000"/>
            <a:ext cx="800100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之所以说长江“有母亲的情怀”是因为长江把这些能源都留给了我们，就像我们的母亲一样，所以说长江“有母亲的情怀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00000" y="1412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诗歌采用了第几人称的写法，表达了作者怎样的思想感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3141720"/>
            <a:ext cx="777240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诗歌采用第二人称的写法，把长江比作母亲。从空间和时间两个角度表达了作者对长江的热爱与依恋的思想感情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《长江之歌》用（     ）的手法，把长江比作（     ）</a:t>
            </a:r>
            <a:r>
              <a:rPr b="1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,</a:t>
            </a:r>
            <a:r>
              <a:rPr b="1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赞颂了长江的（      ）、（      ），表达了对长江的（      ）、（       ）之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84720" y="1341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拟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1916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母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2421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宏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2421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壮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29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热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64000" y="299736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依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6" descr=""/>
          <p:cNvPicPr/>
          <p:nvPr/>
        </p:nvPicPr>
        <p:blipFill>
          <a:blip r:embed="rId1"/>
          <a:stretch/>
        </p:blipFill>
        <p:spPr>
          <a:xfrm>
            <a:off x="457200" y="1887480"/>
            <a:ext cx="8381880" cy="3903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0880" y="1905120"/>
            <a:ext cx="3581640" cy="1363680"/>
          </a:xfrm>
          <a:custGeom>
            <a:avLst/>
            <a:gdLst/>
            <a:ahLst/>
            <a:rect l="l" t="t" r="r" b="b"/>
            <a:pathLst>
              <a:path w="2256" h="859">
                <a:moveTo>
                  <a:pt x="22" y="349"/>
                </a:moveTo>
                <a:cubicBezTo>
                  <a:pt x="88" y="371"/>
                  <a:pt x="0" y="330"/>
                  <a:pt x="70" y="361"/>
                </a:cubicBezTo>
                <a:cubicBezTo>
                  <a:pt x="82" y="366"/>
                  <a:pt x="87" y="377"/>
                  <a:pt x="106" y="382"/>
                </a:cubicBezTo>
                <a:cubicBezTo>
                  <a:pt x="116" y="387"/>
                  <a:pt x="120" y="388"/>
                  <a:pt x="127" y="388"/>
                </a:cubicBezTo>
                <a:cubicBezTo>
                  <a:pt x="134" y="388"/>
                  <a:pt x="142" y="379"/>
                  <a:pt x="151" y="379"/>
                </a:cubicBezTo>
                <a:cubicBezTo>
                  <a:pt x="160" y="379"/>
                  <a:pt x="174" y="386"/>
                  <a:pt x="184" y="391"/>
                </a:cubicBezTo>
                <a:cubicBezTo>
                  <a:pt x="188" y="397"/>
                  <a:pt x="203" y="401"/>
                  <a:pt x="208" y="406"/>
                </a:cubicBezTo>
                <a:cubicBezTo>
                  <a:pt x="219" y="415"/>
                  <a:pt x="226" y="439"/>
                  <a:pt x="226" y="439"/>
                </a:cubicBezTo>
                <a:cubicBezTo>
                  <a:pt x="232" y="448"/>
                  <a:pt x="236" y="454"/>
                  <a:pt x="247" y="463"/>
                </a:cubicBezTo>
                <a:cubicBezTo>
                  <a:pt x="258" y="472"/>
                  <a:pt x="278" y="485"/>
                  <a:pt x="292" y="493"/>
                </a:cubicBezTo>
                <a:cubicBezTo>
                  <a:pt x="305" y="500"/>
                  <a:pt x="320" y="506"/>
                  <a:pt x="334" y="511"/>
                </a:cubicBezTo>
                <a:cubicBezTo>
                  <a:pt x="346" y="515"/>
                  <a:pt x="359" y="516"/>
                  <a:pt x="370" y="523"/>
                </a:cubicBezTo>
                <a:cubicBezTo>
                  <a:pt x="383" y="528"/>
                  <a:pt x="397" y="530"/>
                  <a:pt x="412" y="535"/>
                </a:cubicBezTo>
                <a:cubicBezTo>
                  <a:pt x="427" y="540"/>
                  <a:pt x="447" y="547"/>
                  <a:pt x="460" y="553"/>
                </a:cubicBezTo>
                <a:cubicBezTo>
                  <a:pt x="473" y="557"/>
                  <a:pt x="448" y="560"/>
                  <a:pt x="487" y="571"/>
                </a:cubicBezTo>
                <a:cubicBezTo>
                  <a:pt x="506" y="578"/>
                  <a:pt x="545" y="590"/>
                  <a:pt x="574" y="595"/>
                </a:cubicBezTo>
                <a:cubicBezTo>
                  <a:pt x="603" y="600"/>
                  <a:pt x="641" y="600"/>
                  <a:pt x="661" y="604"/>
                </a:cubicBezTo>
                <a:cubicBezTo>
                  <a:pt x="681" y="608"/>
                  <a:pt x="685" y="610"/>
                  <a:pt x="694" y="619"/>
                </a:cubicBezTo>
                <a:cubicBezTo>
                  <a:pt x="704" y="626"/>
                  <a:pt x="710" y="652"/>
                  <a:pt x="718" y="661"/>
                </a:cubicBezTo>
                <a:cubicBezTo>
                  <a:pt x="726" y="670"/>
                  <a:pt x="734" y="668"/>
                  <a:pt x="742" y="673"/>
                </a:cubicBezTo>
                <a:cubicBezTo>
                  <a:pt x="748" y="678"/>
                  <a:pt x="762" y="688"/>
                  <a:pt x="766" y="694"/>
                </a:cubicBezTo>
                <a:cubicBezTo>
                  <a:pt x="772" y="701"/>
                  <a:pt x="776" y="699"/>
                  <a:pt x="778" y="712"/>
                </a:cubicBezTo>
                <a:cubicBezTo>
                  <a:pt x="782" y="723"/>
                  <a:pt x="777" y="760"/>
                  <a:pt x="781" y="775"/>
                </a:cubicBezTo>
                <a:cubicBezTo>
                  <a:pt x="785" y="790"/>
                  <a:pt x="793" y="794"/>
                  <a:pt x="802" y="802"/>
                </a:cubicBezTo>
                <a:cubicBezTo>
                  <a:pt x="811" y="810"/>
                  <a:pt x="826" y="817"/>
                  <a:pt x="835" y="823"/>
                </a:cubicBezTo>
                <a:cubicBezTo>
                  <a:pt x="842" y="828"/>
                  <a:pt x="849" y="831"/>
                  <a:pt x="856" y="835"/>
                </a:cubicBezTo>
                <a:cubicBezTo>
                  <a:pt x="862" y="838"/>
                  <a:pt x="868" y="845"/>
                  <a:pt x="874" y="847"/>
                </a:cubicBezTo>
                <a:cubicBezTo>
                  <a:pt x="880" y="850"/>
                  <a:pt x="890" y="859"/>
                  <a:pt x="895" y="856"/>
                </a:cubicBezTo>
                <a:cubicBezTo>
                  <a:pt x="903" y="854"/>
                  <a:pt x="896" y="836"/>
                  <a:pt x="904" y="829"/>
                </a:cubicBezTo>
                <a:cubicBezTo>
                  <a:pt x="906" y="821"/>
                  <a:pt x="901" y="811"/>
                  <a:pt x="904" y="805"/>
                </a:cubicBezTo>
                <a:cubicBezTo>
                  <a:pt x="907" y="799"/>
                  <a:pt x="915" y="792"/>
                  <a:pt x="922" y="793"/>
                </a:cubicBezTo>
                <a:cubicBezTo>
                  <a:pt x="929" y="794"/>
                  <a:pt x="934" y="805"/>
                  <a:pt x="946" y="811"/>
                </a:cubicBezTo>
                <a:cubicBezTo>
                  <a:pt x="958" y="815"/>
                  <a:pt x="969" y="829"/>
                  <a:pt x="991" y="829"/>
                </a:cubicBezTo>
                <a:cubicBezTo>
                  <a:pt x="1003" y="831"/>
                  <a:pt x="1008" y="833"/>
                  <a:pt x="1018" y="826"/>
                </a:cubicBezTo>
                <a:cubicBezTo>
                  <a:pt x="1028" y="819"/>
                  <a:pt x="1035" y="799"/>
                  <a:pt x="1051" y="784"/>
                </a:cubicBezTo>
                <a:cubicBezTo>
                  <a:pt x="1079" y="765"/>
                  <a:pt x="1108" y="764"/>
                  <a:pt x="1114" y="733"/>
                </a:cubicBezTo>
                <a:cubicBezTo>
                  <a:pt x="1125" y="721"/>
                  <a:pt x="1107" y="734"/>
                  <a:pt x="1108" y="715"/>
                </a:cubicBezTo>
                <a:cubicBezTo>
                  <a:pt x="1111" y="704"/>
                  <a:pt x="1133" y="680"/>
                  <a:pt x="1135" y="664"/>
                </a:cubicBezTo>
                <a:cubicBezTo>
                  <a:pt x="1137" y="648"/>
                  <a:pt x="1125" y="623"/>
                  <a:pt x="1123" y="616"/>
                </a:cubicBezTo>
                <a:cubicBezTo>
                  <a:pt x="1121" y="609"/>
                  <a:pt x="1118" y="625"/>
                  <a:pt x="1120" y="619"/>
                </a:cubicBezTo>
                <a:cubicBezTo>
                  <a:pt x="1124" y="608"/>
                  <a:pt x="1124" y="582"/>
                  <a:pt x="1135" y="577"/>
                </a:cubicBezTo>
                <a:cubicBezTo>
                  <a:pt x="1144" y="572"/>
                  <a:pt x="1159" y="574"/>
                  <a:pt x="1162" y="565"/>
                </a:cubicBezTo>
                <a:cubicBezTo>
                  <a:pt x="1170" y="558"/>
                  <a:pt x="1160" y="532"/>
                  <a:pt x="1165" y="523"/>
                </a:cubicBezTo>
                <a:cubicBezTo>
                  <a:pt x="1170" y="514"/>
                  <a:pt x="1189" y="524"/>
                  <a:pt x="1189" y="511"/>
                </a:cubicBezTo>
                <a:cubicBezTo>
                  <a:pt x="1189" y="498"/>
                  <a:pt x="1167" y="459"/>
                  <a:pt x="1165" y="442"/>
                </a:cubicBezTo>
                <a:cubicBezTo>
                  <a:pt x="1163" y="425"/>
                  <a:pt x="1170" y="416"/>
                  <a:pt x="1177" y="409"/>
                </a:cubicBezTo>
                <a:cubicBezTo>
                  <a:pt x="1179" y="403"/>
                  <a:pt x="1204" y="399"/>
                  <a:pt x="1210" y="397"/>
                </a:cubicBezTo>
                <a:cubicBezTo>
                  <a:pt x="1230" y="399"/>
                  <a:pt x="1246" y="390"/>
                  <a:pt x="1264" y="400"/>
                </a:cubicBezTo>
                <a:cubicBezTo>
                  <a:pt x="1278" y="404"/>
                  <a:pt x="1280" y="402"/>
                  <a:pt x="1288" y="409"/>
                </a:cubicBezTo>
                <a:cubicBezTo>
                  <a:pt x="1293" y="411"/>
                  <a:pt x="1290" y="409"/>
                  <a:pt x="1294" y="415"/>
                </a:cubicBezTo>
                <a:cubicBezTo>
                  <a:pt x="1298" y="421"/>
                  <a:pt x="1305" y="436"/>
                  <a:pt x="1315" y="445"/>
                </a:cubicBezTo>
                <a:cubicBezTo>
                  <a:pt x="1320" y="459"/>
                  <a:pt x="1353" y="460"/>
                  <a:pt x="1357" y="472"/>
                </a:cubicBezTo>
                <a:cubicBezTo>
                  <a:pt x="1364" y="484"/>
                  <a:pt x="1357" y="509"/>
                  <a:pt x="1360" y="520"/>
                </a:cubicBezTo>
                <a:cubicBezTo>
                  <a:pt x="1362" y="531"/>
                  <a:pt x="1373" y="533"/>
                  <a:pt x="1375" y="538"/>
                </a:cubicBezTo>
                <a:cubicBezTo>
                  <a:pt x="1378" y="546"/>
                  <a:pt x="1381" y="564"/>
                  <a:pt x="1381" y="568"/>
                </a:cubicBezTo>
                <a:cubicBezTo>
                  <a:pt x="1381" y="572"/>
                  <a:pt x="1369" y="559"/>
                  <a:pt x="1372" y="565"/>
                </a:cubicBezTo>
                <a:cubicBezTo>
                  <a:pt x="1375" y="569"/>
                  <a:pt x="1387" y="595"/>
                  <a:pt x="1399" y="604"/>
                </a:cubicBezTo>
                <a:cubicBezTo>
                  <a:pt x="1407" y="611"/>
                  <a:pt x="1416" y="605"/>
                  <a:pt x="1423" y="607"/>
                </a:cubicBezTo>
                <a:cubicBezTo>
                  <a:pt x="1430" y="609"/>
                  <a:pt x="1441" y="613"/>
                  <a:pt x="1444" y="619"/>
                </a:cubicBezTo>
                <a:cubicBezTo>
                  <a:pt x="1449" y="623"/>
                  <a:pt x="1438" y="640"/>
                  <a:pt x="1444" y="643"/>
                </a:cubicBezTo>
                <a:cubicBezTo>
                  <a:pt x="1451" y="647"/>
                  <a:pt x="1477" y="669"/>
                  <a:pt x="1486" y="670"/>
                </a:cubicBezTo>
                <a:cubicBezTo>
                  <a:pt x="1497" y="672"/>
                  <a:pt x="1503" y="659"/>
                  <a:pt x="1510" y="655"/>
                </a:cubicBezTo>
                <a:cubicBezTo>
                  <a:pt x="1522" y="659"/>
                  <a:pt x="1528" y="643"/>
                  <a:pt x="1528" y="643"/>
                </a:cubicBezTo>
                <a:cubicBezTo>
                  <a:pt x="1534" y="645"/>
                  <a:pt x="1536" y="649"/>
                  <a:pt x="1552" y="664"/>
                </a:cubicBezTo>
                <a:cubicBezTo>
                  <a:pt x="1560" y="674"/>
                  <a:pt x="1569" y="697"/>
                  <a:pt x="1579" y="703"/>
                </a:cubicBezTo>
                <a:cubicBezTo>
                  <a:pt x="1589" y="709"/>
                  <a:pt x="1608" y="696"/>
                  <a:pt x="1612" y="703"/>
                </a:cubicBezTo>
                <a:cubicBezTo>
                  <a:pt x="1616" y="710"/>
                  <a:pt x="1600" y="741"/>
                  <a:pt x="1603" y="748"/>
                </a:cubicBezTo>
                <a:cubicBezTo>
                  <a:pt x="1605" y="755"/>
                  <a:pt x="1625" y="754"/>
                  <a:pt x="1633" y="748"/>
                </a:cubicBezTo>
                <a:cubicBezTo>
                  <a:pt x="1641" y="742"/>
                  <a:pt x="1642" y="713"/>
                  <a:pt x="1654" y="709"/>
                </a:cubicBezTo>
                <a:cubicBezTo>
                  <a:pt x="1666" y="705"/>
                  <a:pt x="1693" y="721"/>
                  <a:pt x="1708" y="721"/>
                </a:cubicBezTo>
                <a:cubicBezTo>
                  <a:pt x="1723" y="721"/>
                  <a:pt x="1734" y="726"/>
                  <a:pt x="1744" y="709"/>
                </a:cubicBezTo>
                <a:cubicBezTo>
                  <a:pt x="1752" y="684"/>
                  <a:pt x="1743" y="625"/>
                  <a:pt x="1771" y="616"/>
                </a:cubicBezTo>
                <a:cubicBezTo>
                  <a:pt x="1783" y="612"/>
                  <a:pt x="1804" y="588"/>
                  <a:pt x="1816" y="586"/>
                </a:cubicBezTo>
                <a:cubicBezTo>
                  <a:pt x="1828" y="568"/>
                  <a:pt x="1861" y="573"/>
                  <a:pt x="1840" y="547"/>
                </a:cubicBezTo>
                <a:cubicBezTo>
                  <a:pt x="1835" y="541"/>
                  <a:pt x="1827" y="507"/>
                  <a:pt x="1819" y="505"/>
                </a:cubicBezTo>
                <a:cubicBezTo>
                  <a:pt x="1797" y="499"/>
                  <a:pt x="1806" y="512"/>
                  <a:pt x="1786" y="499"/>
                </a:cubicBezTo>
                <a:cubicBezTo>
                  <a:pt x="1779" y="488"/>
                  <a:pt x="1769" y="498"/>
                  <a:pt x="1762" y="487"/>
                </a:cubicBezTo>
                <a:cubicBezTo>
                  <a:pt x="1756" y="484"/>
                  <a:pt x="1756" y="488"/>
                  <a:pt x="1750" y="484"/>
                </a:cubicBezTo>
                <a:cubicBezTo>
                  <a:pt x="1744" y="480"/>
                  <a:pt x="1732" y="472"/>
                  <a:pt x="1726" y="463"/>
                </a:cubicBezTo>
                <a:cubicBezTo>
                  <a:pt x="1720" y="454"/>
                  <a:pt x="1717" y="436"/>
                  <a:pt x="1714" y="427"/>
                </a:cubicBezTo>
                <a:cubicBezTo>
                  <a:pt x="1712" y="421"/>
                  <a:pt x="1705" y="415"/>
                  <a:pt x="1708" y="409"/>
                </a:cubicBezTo>
                <a:cubicBezTo>
                  <a:pt x="1711" y="403"/>
                  <a:pt x="1705" y="383"/>
                  <a:pt x="1711" y="382"/>
                </a:cubicBezTo>
                <a:cubicBezTo>
                  <a:pt x="1722" y="379"/>
                  <a:pt x="1757" y="387"/>
                  <a:pt x="1774" y="388"/>
                </a:cubicBezTo>
                <a:cubicBezTo>
                  <a:pt x="1787" y="388"/>
                  <a:pt x="1785" y="385"/>
                  <a:pt x="1792" y="385"/>
                </a:cubicBezTo>
                <a:cubicBezTo>
                  <a:pt x="1799" y="385"/>
                  <a:pt x="1804" y="389"/>
                  <a:pt x="1816" y="391"/>
                </a:cubicBezTo>
                <a:cubicBezTo>
                  <a:pt x="1829" y="390"/>
                  <a:pt x="1847" y="403"/>
                  <a:pt x="1867" y="397"/>
                </a:cubicBezTo>
                <a:cubicBezTo>
                  <a:pt x="1882" y="402"/>
                  <a:pt x="1893" y="422"/>
                  <a:pt x="1906" y="424"/>
                </a:cubicBezTo>
                <a:cubicBezTo>
                  <a:pt x="1919" y="426"/>
                  <a:pt x="1942" y="424"/>
                  <a:pt x="1948" y="412"/>
                </a:cubicBezTo>
                <a:cubicBezTo>
                  <a:pt x="1954" y="400"/>
                  <a:pt x="1950" y="369"/>
                  <a:pt x="1939" y="352"/>
                </a:cubicBezTo>
                <a:cubicBezTo>
                  <a:pt x="1912" y="325"/>
                  <a:pt x="1856" y="332"/>
                  <a:pt x="1879" y="310"/>
                </a:cubicBezTo>
                <a:cubicBezTo>
                  <a:pt x="1872" y="301"/>
                  <a:pt x="1867" y="314"/>
                  <a:pt x="1891" y="289"/>
                </a:cubicBezTo>
                <a:cubicBezTo>
                  <a:pt x="1900" y="281"/>
                  <a:pt x="1921" y="273"/>
                  <a:pt x="1933" y="262"/>
                </a:cubicBezTo>
                <a:cubicBezTo>
                  <a:pt x="1945" y="251"/>
                  <a:pt x="1960" y="235"/>
                  <a:pt x="1966" y="223"/>
                </a:cubicBezTo>
                <a:cubicBezTo>
                  <a:pt x="1972" y="211"/>
                  <a:pt x="1963" y="202"/>
                  <a:pt x="1969" y="190"/>
                </a:cubicBezTo>
                <a:cubicBezTo>
                  <a:pt x="1975" y="178"/>
                  <a:pt x="1996" y="154"/>
                  <a:pt x="2005" y="148"/>
                </a:cubicBezTo>
                <a:cubicBezTo>
                  <a:pt x="2015" y="139"/>
                  <a:pt x="2017" y="156"/>
                  <a:pt x="2026" y="151"/>
                </a:cubicBezTo>
                <a:cubicBezTo>
                  <a:pt x="2035" y="146"/>
                  <a:pt x="2056" y="128"/>
                  <a:pt x="2062" y="115"/>
                </a:cubicBezTo>
                <a:cubicBezTo>
                  <a:pt x="2068" y="102"/>
                  <a:pt x="2059" y="85"/>
                  <a:pt x="2062" y="73"/>
                </a:cubicBezTo>
                <a:cubicBezTo>
                  <a:pt x="2064" y="61"/>
                  <a:pt x="2080" y="43"/>
                  <a:pt x="2080" y="43"/>
                </a:cubicBezTo>
                <a:cubicBezTo>
                  <a:pt x="2082" y="31"/>
                  <a:pt x="2090" y="19"/>
                  <a:pt x="2086" y="7"/>
                </a:cubicBezTo>
                <a:cubicBezTo>
                  <a:pt x="2084" y="0"/>
                  <a:pt x="2081" y="23"/>
                  <a:pt x="2074" y="25"/>
                </a:cubicBezTo>
                <a:cubicBezTo>
                  <a:pt x="2066" y="28"/>
                  <a:pt x="2058" y="20"/>
                  <a:pt x="2050" y="19"/>
                </a:cubicBezTo>
                <a:cubicBezTo>
                  <a:pt x="1986" y="11"/>
                  <a:pt x="2256" y="3"/>
                  <a:pt x="1918" y="1"/>
                </a:cubicBezTo>
                <a:lnTo>
                  <a:pt x="22" y="7"/>
                </a:lnTo>
                <a:lnTo>
                  <a:pt x="22" y="34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7840" y="4556160"/>
            <a:ext cx="1941480" cy="1220760"/>
          </a:xfrm>
          <a:custGeom>
            <a:avLst/>
            <a:gdLst/>
            <a:ahLst/>
            <a:rect l="l" t="t" r="r" b="b"/>
            <a:pathLst>
              <a:path w="1223" h="769">
                <a:moveTo>
                  <a:pt x="0" y="205"/>
                </a:moveTo>
                <a:cubicBezTo>
                  <a:pt x="9" y="198"/>
                  <a:pt x="43" y="166"/>
                  <a:pt x="56" y="157"/>
                </a:cubicBezTo>
                <a:cubicBezTo>
                  <a:pt x="69" y="148"/>
                  <a:pt x="71" y="152"/>
                  <a:pt x="80" y="149"/>
                </a:cubicBezTo>
                <a:cubicBezTo>
                  <a:pt x="88" y="148"/>
                  <a:pt x="97" y="140"/>
                  <a:pt x="108" y="141"/>
                </a:cubicBezTo>
                <a:cubicBezTo>
                  <a:pt x="118" y="144"/>
                  <a:pt x="132" y="161"/>
                  <a:pt x="140" y="165"/>
                </a:cubicBezTo>
                <a:cubicBezTo>
                  <a:pt x="145" y="166"/>
                  <a:pt x="152" y="162"/>
                  <a:pt x="156" y="165"/>
                </a:cubicBezTo>
                <a:cubicBezTo>
                  <a:pt x="159" y="168"/>
                  <a:pt x="164" y="168"/>
                  <a:pt x="168" y="169"/>
                </a:cubicBezTo>
                <a:cubicBezTo>
                  <a:pt x="192" y="173"/>
                  <a:pt x="228" y="174"/>
                  <a:pt x="252" y="177"/>
                </a:cubicBezTo>
                <a:cubicBezTo>
                  <a:pt x="298" y="192"/>
                  <a:pt x="244" y="161"/>
                  <a:pt x="288" y="205"/>
                </a:cubicBezTo>
                <a:cubicBezTo>
                  <a:pt x="301" y="217"/>
                  <a:pt x="321" y="235"/>
                  <a:pt x="332" y="249"/>
                </a:cubicBezTo>
                <a:cubicBezTo>
                  <a:pt x="343" y="263"/>
                  <a:pt x="349" y="274"/>
                  <a:pt x="356" y="289"/>
                </a:cubicBezTo>
                <a:cubicBezTo>
                  <a:pt x="358" y="300"/>
                  <a:pt x="362" y="329"/>
                  <a:pt x="372" y="337"/>
                </a:cubicBezTo>
                <a:cubicBezTo>
                  <a:pt x="377" y="346"/>
                  <a:pt x="372" y="362"/>
                  <a:pt x="380" y="365"/>
                </a:cubicBezTo>
                <a:cubicBezTo>
                  <a:pt x="388" y="368"/>
                  <a:pt x="409" y="360"/>
                  <a:pt x="420" y="357"/>
                </a:cubicBezTo>
                <a:cubicBezTo>
                  <a:pt x="432" y="356"/>
                  <a:pt x="437" y="349"/>
                  <a:pt x="448" y="345"/>
                </a:cubicBezTo>
                <a:cubicBezTo>
                  <a:pt x="453" y="343"/>
                  <a:pt x="463" y="343"/>
                  <a:pt x="468" y="341"/>
                </a:cubicBezTo>
                <a:cubicBezTo>
                  <a:pt x="475" y="338"/>
                  <a:pt x="484" y="339"/>
                  <a:pt x="492" y="337"/>
                </a:cubicBezTo>
                <a:cubicBezTo>
                  <a:pt x="525" y="330"/>
                  <a:pt x="490" y="321"/>
                  <a:pt x="524" y="309"/>
                </a:cubicBezTo>
                <a:cubicBezTo>
                  <a:pt x="538" y="304"/>
                  <a:pt x="580" y="291"/>
                  <a:pt x="592" y="289"/>
                </a:cubicBezTo>
                <a:cubicBezTo>
                  <a:pt x="619" y="284"/>
                  <a:pt x="634" y="280"/>
                  <a:pt x="660" y="273"/>
                </a:cubicBezTo>
                <a:cubicBezTo>
                  <a:pt x="671" y="270"/>
                  <a:pt x="696" y="273"/>
                  <a:pt x="696" y="273"/>
                </a:cubicBezTo>
                <a:cubicBezTo>
                  <a:pt x="701" y="269"/>
                  <a:pt x="710" y="276"/>
                  <a:pt x="716" y="273"/>
                </a:cubicBezTo>
                <a:cubicBezTo>
                  <a:pt x="726" y="269"/>
                  <a:pt x="748" y="265"/>
                  <a:pt x="748" y="265"/>
                </a:cubicBezTo>
                <a:cubicBezTo>
                  <a:pt x="755" y="258"/>
                  <a:pt x="765" y="252"/>
                  <a:pt x="772" y="245"/>
                </a:cubicBezTo>
                <a:cubicBezTo>
                  <a:pt x="779" y="237"/>
                  <a:pt x="776" y="226"/>
                  <a:pt x="784" y="217"/>
                </a:cubicBezTo>
                <a:cubicBezTo>
                  <a:pt x="792" y="208"/>
                  <a:pt x="809" y="203"/>
                  <a:pt x="820" y="193"/>
                </a:cubicBezTo>
                <a:cubicBezTo>
                  <a:pt x="836" y="188"/>
                  <a:pt x="852" y="157"/>
                  <a:pt x="852" y="157"/>
                </a:cubicBezTo>
                <a:cubicBezTo>
                  <a:pt x="873" y="143"/>
                  <a:pt x="870" y="157"/>
                  <a:pt x="880" y="133"/>
                </a:cubicBezTo>
                <a:cubicBezTo>
                  <a:pt x="891" y="129"/>
                  <a:pt x="898" y="156"/>
                  <a:pt x="920" y="157"/>
                </a:cubicBezTo>
                <a:cubicBezTo>
                  <a:pt x="940" y="157"/>
                  <a:pt x="981" y="140"/>
                  <a:pt x="1000" y="133"/>
                </a:cubicBezTo>
                <a:cubicBezTo>
                  <a:pt x="1018" y="106"/>
                  <a:pt x="1007" y="140"/>
                  <a:pt x="1036" y="117"/>
                </a:cubicBezTo>
                <a:cubicBezTo>
                  <a:pt x="1045" y="110"/>
                  <a:pt x="1051" y="99"/>
                  <a:pt x="1060" y="93"/>
                </a:cubicBezTo>
                <a:cubicBezTo>
                  <a:pt x="1064" y="90"/>
                  <a:pt x="1068" y="88"/>
                  <a:pt x="1072" y="85"/>
                </a:cubicBezTo>
                <a:cubicBezTo>
                  <a:pt x="1090" y="57"/>
                  <a:pt x="1079" y="64"/>
                  <a:pt x="1100" y="57"/>
                </a:cubicBezTo>
                <a:cubicBezTo>
                  <a:pt x="1107" y="50"/>
                  <a:pt x="1117" y="45"/>
                  <a:pt x="1124" y="37"/>
                </a:cubicBezTo>
                <a:cubicBezTo>
                  <a:pt x="1137" y="21"/>
                  <a:pt x="1128" y="12"/>
                  <a:pt x="1148" y="5"/>
                </a:cubicBezTo>
                <a:cubicBezTo>
                  <a:pt x="1156" y="1"/>
                  <a:pt x="1176" y="0"/>
                  <a:pt x="1184" y="5"/>
                </a:cubicBezTo>
                <a:cubicBezTo>
                  <a:pt x="1192" y="10"/>
                  <a:pt x="1190" y="23"/>
                  <a:pt x="1196" y="37"/>
                </a:cubicBezTo>
                <a:cubicBezTo>
                  <a:pt x="1201" y="52"/>
                  <a:pt x="1216" y="73"/>
                  <a:pt x="1220" y="89"/>
                </a:cubicBezTo>
                <a:cubicBezTo>
                  <a:pt x="1223" y="120"/>
                  <a:pt x="1205" y="131"/>
                  <a:pt x="1212" y="161"/>
                </a:cubicBezTo>
                <a:cubicBezTo>
                  <a:pt x="1210" y="190"/>
                  <a:pt x="1221" y="227"/>
                  <a:pt x="1208" y="253"/>
                </a:cubicBezTo>
                <a:cubicBezTo>
                  <a:pt x="1196" y="278"/>
                  <a:pt x="1184" y="315"/>
                  <a:pt x="1168" y="337"/>
                </a:cubicBezTo>
                <a:cubicBezTo>
                  <a:pt x="1156" y="358"/>
                  <a:pt x="1138" y="365"/>
                  <a:pt x="1128" y="377"/>
                </a:cubicBezTo>
                <a:cubicBezTo>
                  <a:pt x="1118" y="389"/>
                  <a:pt x="1114" y="396"/>
                  <a:pt x="1108" y="409"/>
                </a:cubicBezTo>
                <a:cubicBezTo>
                  <a:pt x="1099" y="422"/>
                  <a:pt x="1097" y="438"/>
                  <a:pt x="1092" y="453"/>
                </a:cubicBezTo>
                <a:cubicBezTo>
                  <a:pt x="1088" y="472"/>
                  <a:pt x="1078" y="506"/>
                  <a:pt x="1072" y="529"/>
                </a:cubicBezTo>
                <a:cubicBezTo>
                  <a:pt x="1066" y="552"/>
                  <a:pt x="1060" y="577"/>
                  <a:pt x="1056" y="593"/>
                </a:cubicBezTo>
                <a:cubicBezTo>
                  <a:pt x="1053" y="604"/>
                  <a:pt x="1051" y="614"/>
                  <a:pt x="1048" y="625"/>
                </a:cubicBezTo>
                <a:cubicBezTo>
                  <a:pt x="1047" y="630"/>
                  <a:pt x="1044" y="641"/>
                  <a:pt x="1044" y="641"/>
                </a:cubicBezTo>
                <a:cubicBezTo>
                  <a:pt x="1043" y="651"/>
                  <a:pt x="1055" y="660"/>
                  <a:pt x="1052" y="681"/>
                </a:cubicBezTo>
                <a:cubicBezTo>
                  <a:pt x="1053" y="696"/>
                  <a:pt x="1057" y="718"/>
                  <a:pt x="1052" y="733"/>
                </a:cubicBezTo>
                <a:cubicBezTo>
                  <a:pt x="1047" y="748"/>
                  <a:pt x="1030" y="762"/>
                  <a:pt x="1024" y="769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5800" y="2433600"/>
            <a:ext cx="2122560" cy="2874960"/>
          </a:xfrm>
          <a:custGeom>
            <a:avLst/>
            <a:gdLst/>
            <a:ahLst/>
            <a:rect l="l" t="t" r="r" b="b"/>
            <a:pathLst>
              <a:path w="1337" h="1811">
                <a:moveTo>
                  <a:pt x="0" y="4"/>
                </a:moveTo>
                <a:cubicBezTo>
                  <a:pt x="2" y="10"/>
                  <a:pt x="3" y="0"/>
                  <a:pt x="8" y="4"/>
                </a:cubicBezTo>
                <a:cubicBezTo>
                  <a:pt x="17" y="9"/>
                  <a:pt x="42" y="34"/>
                  <a:pt x="70" y="44"/>
                </a:cubicBezTo>
                <a:cubicBezTo>
                  <a:pt x="86" y="52"/>
                  <a:pt x="87" y="51"/>
                  <a:pt x="104" y="54"/>
                </a:cubicBezTo>
                <a:cubicBezTo>
                  <a:pt x="121" y="57"/>
                  <a:pt x="155" y="53"/>
                  <a:pt x="174" y="64"/>
                </a:cubicBezTo>
                <a:cubicBezTo>
                  <a:pt x="194" y="74"/>
                  <a:pt x="191" y="102"/>
                  <a:pt x="218" y="122"/>
                </a:cubicBezTo>
                <a:cubicBezTo>
                  <a:pt x="235" y="138"/>
                  <a:pt x="254" y="152"/>
                  <a:pt x="274" y="162"/>
                </a:cubicBezTo>
                <a:cubicBezTo>
                  <a:pt x="294" y="172"/>
                  <a:pt x="312" y="176"/>
                  <a:pt x="336" y="184"/>
                </a:cubicBezTo>
                <a:cubicBezTo>
                  <a:pt x="362" y="195"/>
                  <a:pt x="395" y="194"/>
                  <a:pt x="420" y="208"/>
                </a:cubicBezTo>
                <a:cubicBezTo>
                  <a:pt x="436" y="217"/>
                  <a:pt x="463" y="241"/>
                  <a:pt x="484" y="246"/>
                </a:cubicBezTo>
                <a:cubicBezTo>
                  <a:pt x="535" y="259"/>
                  <a:pt x="648" y="274"/>
                  <a:pt x="648" y="274"/>
                </a:cubicBezTo>
                <a:cubicBezTo>
                  <a:pt x="679" y="280"/>
                  <a:pt x="656" y="276"/>
                  <a:pt x="676" y="294"/>
                </a:cubicBezTo>
                <a:cubicBezTo>
                  <a:pt x="685" y="304"/>
                  <a:pt x="686" y="319"/>
                  <a:pt x="700" y="334"/>
                </a:cubicBezTo>
                <a:cubicBezTo>
                  <a:pt x="714" y="349"/>
                  <a:pt x="747" y="362"/>
                  <a:pt x="758" y="382"/>
                </a:cubicBezTo>
                <a:cubicBezTo>
                  <a:pt x="760" y="408"/>
                  <a:pt x="758" y="431"/>
                  <a:pt x="764" y="456"/>
                </a:cubicBezTo>
                <a:cubicBezTo>
                  <a:pt x="767" y="467"/>
                  <a:pt x="845" y="510"/>
                  <a:pt x="862" y="516"/>
                </a:cubicBezTo>
                <a:cubicBezTo>
                  <a:pt x="880" y="523"/>
                  <a:pt x="872" y="526"/>
                  <a:pt x="874" y="522"/>
                </a:cubicBezTo>
                <a:cubicBezTo>
                  <a:pt x="877" y="518"/>
                  <a:pt x="875" y="502"/>
                  <a:pt x="878" y="492"/>
                </a:cubicBezTo>
                <a:cubicBezTo>
                  <a:pt x="882" y="485"/>
                  <a:pt x="887" y="462"/>
                  <a:pt x="892" y="460"/>
                </a:cubicBezTo>
                <a:cubicBezTo>
                  <a:pt x="901" y="458"/>
                  <a:pt x="917" y="474"/>
                  <a:pt x="930" y="480"/>
                </a:cubicBezTo>
                <a:cubicBezTo>
                  <a:pt x="942" y="484"/>
                  <a:pt x="951" y="495"/>
                  <a:pt x="968" y="496"/>
                </a:cubicBezTo>
                <a:cubicBezTo>
                  <a:pt x="978" y="499"/>
                  <a:pt x="984" y="502"/>
                  <a:pt x="992" y="498"/>
                </a:cubicBezTo>
                <a:cubicBezTo>
                  <a:pt x="1000" y="494"/>
                  <a:pt x="1012" y="479"/>
                  <a:pt x="1018" y="470"/>
                </a:cubicBezTo>
                <a:cubicBezTo>
                  <a:pt x="1026" y="459"/>
                  <a:pt x="1024" y="451"/>
                  <a:pt x="1030" y="446"/>
                </a:cubicBezTo>
                <a:cubicBezTo>
                  <a:pt x="1036" y="441"/>
                  <a:pt x="1043" y="444"/>
                  <a:pt x="1052" y="438"/>
                </a:cubicBezTo>
                <a:cubicBezTo>
                  <a:pt x="1061" y="432"/>
                  <a:pt x="1077" y="424"/>
                  <a:pt x="1084" y="412"/>
                </a:cubicBezTo>
                <a:cubicBezTo>
                  <a:pt x="1092" y="390"/>
                  <a:pt x="1088" y="388"/>
                  <a:pt x="1096" y="364"/>
                </a:cubicBezTo>
                <a:cubicBezTo>
                  <a:pt x="1091" y="340"/>
                  <a:pt x="1083" y="370"/>
                  <a:pt x="1108" y="348"/>
                </a:cubicBezTo>
                <a:cubicBezTo>
                  <a:pt x="1121" y="336"/>
                  <a:pt x="1114" y="330"/>
                  <a:pt x="1114" y="330"/>
                </a:cubicBezTo>
                <a:cubicBezTo>
                  <a:pt x="1099" y="361"/>
                  <a:pt x="1134" y="300"/>
                  <a:pt x="1116" y="328"/>
                </a:cubicBezTo>
                <a:cubicBezTo>
                  <a:pt x="1127" y="331"/>
                  <a:pt x="1159" y="357"/>
                  <a:pt x="1174" y="364"/>
                </a:cubicBezTo>
                <a:cubicBezTo>
                  <a:pt x="1190" y="376"/>
                  <a:pt x="1203" y="382"/>
                  <a:pt x="1212" y="398"/>
                </a:cubicBezTo>
                <a:cubicBezTo>
                  <a:pt x="1221" y="425"/>
                  <a:pt x="1213" y="437"/>
                  <a:pt x="1230" y="460"/>
                </a:cubicBezTo>
                <a:cubicBezTo>
                  <a:pt x="1236" y="468"/>
                  <a:pt x="1243" y="475"/>
                  <a:pt x="1248" y="484"/>
                </a:cubicBezTo>
                <a:cubicBezTo>
                  <a:pt x="1257" y="499"/>
                  <a:pt x="1266" y="515"/>
                  <a:pt x="1272" y="532"/>
                </a:cubicBezTo>
                <a:cubicBezTo>
                  <a:pt x="1276" y="544"/>
                  <a:pt x="1284" y="568"/>
                  <a:pt x="1284" y="568"/>
                </a:cubicBezTo>
                <a:cubicBezTo>
                  <a:pt x="1286" y="578"/>
                  <a:pt x="1295" y="529"/>
                  <a:pt x="1292" y="564"/>
                </a:cubicBezTo>
                <a:cubicBezTo>
                  <a:pt x="1295" y="570"/>
                  <a:pt x="1306" y="592"/>
                  <a:pt x="1302" y="606"/>
                </a:cubicBezTo>
                <a:cubicBezTo>
                  <a:pt x="1298" y="620"/>
                  <a:pt x="1278" y="637"/>
                  <a:pt x="1270" y="648"/>
                </a:cubicBezTo>
                <a:cubicBezTo>
                  <a:pt x="1262" y="659"/>
                  <a:pt x="1260" y="663"/>
                  <a:pt x="1256" y="670"/>
                </a:cubicBezTo>
                <a:cubicBezTo>
                  <a:pt x="1252" y="677"/>
                  <a:pt x="1246" y="682"/>
                  <a:pt x="1248" y="694"/>
                </a:cubicBezTo>
                <a:cubicBezTo>
                  <a:pt x="1250" y="706"/>
                  <a:pt x="1262" y="728"/>
                  <a:pt x="1268" y="742"/>
                </a:cubicBezTo>
                <a:cubicBezTo>
                  <a:pt x="1274" y="756"/>
                  <a:pt x="1278" y="762"/>
                  <a:pt x="1286" y="778"/>
                </a:cubicBezTo>
                <a:cubicBezTo>
                  <a:pt x="1288" y="805"/>
                  <a:pt x="1300" y="812"/>
                  <a:pt x="1316" y="836"/>
                </a:cubicBezTo>
                <a:cubicBezTo>
                  <a:pt x="1320" y="842"/>
                  <a:pt x="1334" y="892"/>
                  <a:pt x="1334" y="892"/>
                </a:cubicBezTo>
                <a:cubicBezTo>
                  <a:pt x="1337" y="915"/>
                  <a:pt x="1329" y="955"/>
                  <a:pt x="1324" y="982"/>
                </a:cubicBezTo>
                <a:cubicBezTo>
                  <a:pt x="1319" y="1007"/>
                  <a:pt x="1308" y="1024"/>
                  <a:pt x="1302" y="1040"/>
                </a:cubicBezTo>
                <a:cubicBezTo>
                  <a:pt x="1295" y="1056"/>
                  <a:pt x="1300" y="1066"/>
                  <a:pt x="1288" y="1080"/>
                </a:cubicBezTo>
                <a:cubicBezTo>
                  <a:pt x="1282" y="1091"/>
                  <a:pt x="1272" y="1099"/>
                  <a:pt x="1268" y="1106"/>
                </a:cubicBezTo>
                <a:cubicBezTo>
                  <a:pt x="1264" y="1113"/>
                  <a:pt x="1269" y="1122"/>
                  <a:pt x="1264" y="1124"/>
                </a:cubicBezTo>
                <a:cubicBezTo>
                  <a:pt x="1259" y="1126"/>
                  <a:pt x="1246" y="1119"/>
                  <a:pt x="1236" y="1118"/>
                </a:cubicBezTo>
                <a:cubicBezTo>
                  <a:pt x="1228" y="1120"/>
                  <a:pt x="1213" y="1113"/>
                  <a:pt x="1206" y="1118"/>
                </a:cubicBezTo>
                <a:cubicBezTo>
                  <a:pt x="1199" y="1123"/>
                  <a:pt x="1197" y="1142"/>
                  <a:pt x="1194" y="1150"/>
                </a:cubicBezTo>
                <a:cubicBezTo>
                  <a:pt x="1192" y="1156"/>
                  <a:pt x="1188" y="1162"/>
                  <a:pt x="1188" y="1168"/>
                </a:cubicBezTo>
                <a:cubicBezTo>
                  <a:pt x="1187" y="1180"/>
                  <a:pt x="1193" y="1175"/>
                  <a:pt x="1192" y="1200"/>
                </a:cubicBezTo>
                <a:cubicBezTo>
                  <a:pt x="1195" y="1208"/>
                  <a:pt x="1204" y="1209"/>
                  <a:pt x="1206" y="1214"/>
                </a:cubicBezTo>
                <a:cubicBezTo>
                  <a:pt x="1208" y="1219"/>
                  <a:pt x="1208" y="1223"/>
                  <a:pt x="1204" y="1230"/>
                </a:cubicBezTo>
                <a:cubicBezTo>
                  <a:pt x="1200" y="1237"/>
                  <a:pt x="1189" y="1243"/>
                  <a:pt x="1184" y="1254"/>
                </a:cubicBezTo>
                <a:cubicBezTo>
                  <a:pt x="1179" y="1265"/>
                  <a:pt x="1174" y="1284"/>
                  <a:pt x="1172" y="1296"/>
                </a:cubicBezTo>
                <a:cubicBezTo>
                  <a:pt x="1170" y="1308"/>
                  <a:pt x="1176" y="1311"/>
                  <a:pt x="1172" y="1324"/>
                </a:cubicBezTo>
                <a:cubicBezTo>
                  <a:pt x="1166" y="1359"/>
                  <a:pt x="1155" y="1346"/>
                  <a:pt x="1146" y="1372"/>
                </a:cubicBezTo>
                <a:cubicBezTo>
                  <a:pt x="1138" y="1384"/>
                  <a:pt x="1125" y="1380"/>
                  <a:pt x="1116" y="1390"/>
                </a:cubicBezTo>
                <a:cubicBezTo>
                  <a:pt x="1107" y="1400"/>
                  <a:pt x="1102" y="1419"/>
                  <a:pt x="1094" y="1430"/>
                </a:cubicBezTo>
                <a:cubicBezTo>
                  <a:pt x="1086" y="1441"/>
                  <a:pt x="1079" y="1449"/>
                  <a:pt x="1070" y="1456"/>
                </a:cubicBezTo>
                <a:cubicBezTo>
                  <a:pt x="1061" y="1463"/>
                  <a:pt x="1048" y="1467"/>
                  <a:pt x="1038" y="1470"/>
                </a:cubicBezTo>
                <a:cubicBezTo>
                  <a:pt x="1028" y="1473"/>
                  <a:pt x="1017" y="1472"/>
                  <a:pt x="1008" y="1476"/>
                </a:cubicBezTo>
                <a:cubicBezTo>
                  <a:pt x="999" y="1480"/>
                  <a:pt x="993" y="1492"/>
                  <a:pt x="982" y="1496"/>
                </a:cubicBezTo>
                <a:cubicBezTo>
                  <a:pt x="972" y="1499"/>
                  <a:pt x="984" y="1493"/>
                  <a:pt x="944" y="1500"/>
                </a:cubicBezTo>
                <a:cubicBezTo>
                  <a:pt x="930" y="1497"/>
                  <a:pt x="915" y="1474"/>
                  <a:pt x="898" y="1476"/>
                </a:cubicBezTo>
                <a:cubicBezTo>
                  <a:pt x="881" y="1478"/>
                  <a:pt x="861" y="1499"/>
                  <a:pt x="844" y="1512"/>
                </a:cubicBezTo>
                <a:cubicBezTo>
                  <a:pt x="827" y="1525"/>
                  <a:pt x="808" y="1539"/>
                  <a:pt x="796" y="1554"/>
                </a:cubicBezTo>
                <a:cubicBezTo>
                  <a:pt x="784" y="1569"/>
                  <a:pt x="783" y="1591"/>
                  <a:pt x="774" y="1600"/>
                </a:cubicBezTo>
                <a:cubicBezTo>
                  <a:pt x="765" y="1611"/>
                  <a:pt x="759" y="1606"/>
                  <a:pt x="740" y="1608"/>
                </a:cubicBezTo>
                <a:cubicBezTo>
                  <a:pt x="721" y="1610"/>
                  <a:pt x="685" y="1610"/>
                  <a:pt x="662" y="1614"/>
                </a:cubicBezTo>
                <a:cubicBezTo>
                  <a:pt x="644" y="1617"/>
                  <a:pt x="622" y="1629"/>
                  <a:pt x="604" y="1632"/>
                </a:cubicBezTo>
                <a:cubicBezTo>
                  <a:pt x="594" y="1633"/>
                  <a:pt x="572" y="1636"/>
                  <a:pt x="562" y="1638"/>
                </a:cubicBezTo>
                <a:cubicBezTo>
                  <a:pt x="538" y="1645"/>
                  <a:pt x="475" y="1681"/>
                  <a:pt x="452" y="1688"/>
                </a:cubicBezTo>
                <a:cubicBezTo>
                  <a:pt x="427" y="1698"/>
                  <a:pt x="425" y="1701"/>
                  <a:pt x="414" y="1700"/>
                </a:cubicBezTo>
                <a:cubicBezTo>
                  <a:pt x="402" y="1700"/>
                  <a:pt x="393" y="1696"/>
                  <a:pt x="384" y="1682"/>
                </a:cubicBezTo>
                <a:cubicBezTo>
                  <a:pt x="376" y="1666"/>
                  <a:pt x="369" y="1619"/>
                  <a:pt x="364" y="1602"/>
                </a:cubicBezTo>
                <a:cubicBezTo>
                  <a:pt x="358" y="1586"/>
                  <a:pt x="361" y="1589"/>
                  <a:pt x="354" y="1582"/>
                </a:cubicBezTo>
                <a:cubicBezTo>
                  <a:pt x="347" y="1575"/>
                  <a:pt x="334" y="1571"/>
                  <a:pt x="324" y="1562"/>
                </a:cubicBezTo>
                <a:cubicBezTo>
                  <a:pt x="311" y="1549"/>
                  <a:pt x="304" y="1543"/>
                  <a:pt x="296" y="1526"/>
                </a:cubicBezTo>
                <a:cubicBezTo>
                  <a:pt x="293" y="1520"/>
                  <a:pt x="258" y="1518"/>
                  <a:pt x="254" y="1514"/>
                </a:cubicBezTo>
                <a:cubicBezTo>
                  <a:pt x="250" y="1510"/>
                  <a:pt x="214" y="1508"/>
                  <a:pt x="208" y="1506"/>
                </a:cubicBezTo>
                <a:cubicBezTo>
                  <a:pt x="195" y="1503"/>
                  <a:pt x="175" y="1516"/>
                  <a:pt x="164" y="1512"/>
                </a:cubicBezTo>
                <a:cubicBezTo>
                  <a:pt x="153" y="1508"/>
                  <a:pt x="152" y="1489"/>
                  <a:pt x="140" y="1484"/>
                </a:cubicBezTo>
                <a:cubicBezTo>
                  <a:pt x="128" y="1479"/>
                  <a:pt x="109" y="1474"/>
                  <a:pt x="90" y="1482"/>
                </a:cubicBezTo>
                <a:cubicBezTo>
                  <a:pt x="71" y="1482"/>
                  <a:pt x="43" y="1518"/>
                  <a:pt x="28" y="1530"/>
                </a:cubicBezTo>
                <a:cubicBezTo>
                  <a:pt x="14" y="1542"/>
                  <a:pt x="8" y="1551"/>
                  <a:pt x="4" y="1556"/>
                </a:cubicBezTo>
                <a:cubicBezTo>
                  <a:pt x="0" y="1561"/>
                  <a:pt x="4" y="1560"/>
                  <a:pt x="4" y="1560"/>
                </a:cubicBezTo>
                <a:cubicBezTo>
                  <a:pt x="4" y="1560"/>
                  <a:pt x="5" y="1557"/>
                  <a:pt x="4" y="1556"/>
                </a:cubicBezTo>
                <a:cubicBezTo>
                  <a:pt x="3" y="1555"/>
                  <a:pt x="1" y="1811"/>
                  <a:pt x="0" y="1552"/>
                </a:cubicBezTo>
                <a:lnTo>
                  <a:pt x="0" y="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60640" y="4145040"/>
            <a:ext cx="2062080" cy="1665360"/>
          </a:xfrm>
          <a:custGeom>
            <a:avLst/>
            <a:gdLst/>
            <a:ahLst/>
            <a:rect l="l" t="t" r="r" b="b"/>
            <a:pathLst>
              <a:path w="1299" h="1049">
                <a:moveTo>
                  <a:pt x="256" y="0"/>
                </a:moveTo>
                <a:cubicBezTo>
                  <a:pt x="258" y="13"/>
                  <a:pt x="266" y="32"/>
                  <a:pt x="268" y="44"/>
                </a:cubicBezTo>
                <a:cubicBezTo>
                  <a:pt x="271" y="67"/>
                  <a:pt x="267" y="127"/>
                  <a:pt x="272" y="146"/>
                </a:cubicBezTo>
                <a:cubicBezTo>
                  <a:pt x="277" y="165"/>
                  <a:pt x="289" y="158"/>
                  <a:pt x="296" y="156"/>
                </a:cubicBezTo>
                <a:cubicBezTo>
                  <a:pt x="311" y="153"/>
                  <a:pt x="306" y="149"/>
                  <a:pt x="314" y="134"/>
                </a:cubicBezTo>
                <a:cubicBezTo>
                  <a:pt x="321" y="125"/>
                  <a:pt x="336" y="100"/>
                  <a:pt x="342" y="94"/>
                </a:cubicBezTo>
                <a:cubicBezTo>
                  <a:pt x="348" y="88"/>
                  <a:pt x="345" y="94"/>
                  <a:pt x="352" y="96"/>
                </a:cubicBezTo>
                <a:cubicBezTo>
                  <a:pt x="358" y="98"/>
                  <a:pt x="378" y="93"/>
                  <a:pt x="384" y="104"/>
                </a:cubicBezTo>
                <a:cubicBezTo>
                  <a:pt x="390" y="115"/>
                  <a:pt x="383" y="147"/>
                  <a:pt x="388" y="160"/>
                </a:cubicBezTo>
                <a:cubicBezTo>
                  <a:pt x="404" y="166"/>
                  <a:pt x="409" y="172"/>
                  <a:pt x="414" y="180"/>
                </a:cubicBezTo>
                <a:cubicBezTo>
                  <a:pt x="417" y="184"/>
                  <a:pt x="412" y="196"/>
                  <a:pt x="412" y="196"/>
                </a:cubicBezTo>
                <a:cubicBezTo>
                  <a:pt x="420" y="227"/>
                  <a:pt x="413" y="262"/>
                  <a:pt x="424" y="292"/>
                </a:cubicBezTo>
                <a:cubicBezTo>
                  <a:pt x="428" y="310"/>
                  <a:pt x="430" y="309"/>
                  <a:pt x="434" y="312"/>
                </a:cubicBezTo>
                <a:cubicBezTo>
                  <a:pt x="439" y="316"/>
                  <a:pt x="447" y="319"/>
                  <a:pt x="454" y="316"/>
                </a:cubicBezTo>
                <a:cubicBezTo>
                  <a:pt x="462" y="315"/>
                  <a:pt x="467" y="295"/>
                  <a:pt x="476" y="294"/>
                </a:cubicBezTo>
                <a:cubicBezTo>
                  <a:pt x="483" y="291"/>
                  <a:pt x="493" y="298"/>
                  <a:pt x="498" y="300"/>
                </a:cubicBezTo>
                <a:cubicBezTo>
                  <a:pt x="503" y="302"/>
                  <a:pt x="505" y="304"/>
                  <a:pt x="508" y="308"/>
                </a:cubicBezTo>
                <a:cubicBezTo>
                  <a:pt x="510" y="311"/>
                  <a:pt x="504" y="298"/>
                  <a:pt x="514" y="322"/>
                </a:cubicBezTo>
                <a:cubicBezTo>
                  <a:pt x="517" y="330"/>
                  <a:pt x="520" y="347"/>
                  <a:pt x="524" y="356"/>
                </a:cubicBezTo>
                <a:cubicBezTo>
                  <a:pt x="528" y="365"/>
                  <a:pt x="535" y="363"/>
                  <a:pt x="540" y="376"/>
                </a:cubicBezTo>
                <a:cubicBezTo>
                  <a:pt x="545" y="389"/>
                  <a:pt x="551" y="422"/>
                  <a:pt x="554" y="434"/>
                </a:cubicBezTo>
                <a:cubicBezTo>
                  <a:pt x="557" y="446"/>
                  <a:pt x="553" y="442"/>
                  <a:pt x="558" y="448"/>
                </a:cubicBezTo>
                <a:cubicBezTo>
                  <a:pt x="562" y="457"/>
                  <a:pt x="573" y="459"/>
                  <a:pt x="582" y="472"/>
                </a:cubicBezTo>
                <a:cubicBezTo>
                  <a:pt x="587" y="479"/>
                  <a:pt x="582" y="484"/>
                  <a:pt x="588" y="492"/>
                </a:cubicBezTo>
                <a:cubicBezTo>
                  <a:pt x="594" y="500"/>
                  <a:pt x="609" y="506"/>
                  <a:pt x="616" y="518"/>
                </a:cubicBezTo>
                <a:cubicBezTo>
                  <a:pt x="623" y="530"/>
                  <a:pt x="623" y="549"/>
                  <a:pt x="628" y="564"/>
                </a:cubicBezTo>
                <a:cubicBezTo>
                  <a:pt x="632" y="580"/>
                  <a:pt x="636" y="598"/>
                  <a:pt x="642" y="612"/>
                </a:cubicBezTo>
                <a:cubicBezTo>
                  <a:pt x="647" y="628"/>
                  <a:pt x="659" y="637"/>
                  <a:pt x="664" y="648"/>
                </a:cubicBezTo>
                <a:cubicBezTo>
                  <a:pt x="669" y="657"/>
                  <a:pt x="670" y="663"/>
                  <a:pt x="672" y="668"/>
                </a:cubicBezTo>
                <a:cubicBezTo>
                  <a:pt x="674" y="673"/>
                  <a:pt x="674" y="674"/>
                  <a:pt x="674" y="676"/>
                </a:cubicBezTo>
                <a:cubicBezTo>
                  <a:pt x="674" y="678"/>
                  <a:pt x="669" y="677"/>
                  <a:pt x="672" y="680"/>
                </a:cubicBezTo>
                <a:cubicBezTo>
                  <a:pt x="675" y="680"/>
                  <a:pt x="674" y="694"/>
                  <a:pt x="692" y="692"/>
                </a:cubicBezTo>
                <a:cubicBezTo>
                  <a:pt x="702" y="690"/>
                  <a:pt x="717" y="670"/>
                  <a:pt x="732" y="666"/>
                </a:cubicBezTo>
                <a:cubicBezTo>
                  <a:pt x="747" y="662"/>
                  <a:pt x="768" y="669"/>
                  <a:pt x="780" y="668"/>
                </a:cubicBezTo>
                <a:cubicBezTo>
                  <a:pt x="791" y="667"/>
                  <a:pt x="794" y="662"/>
                  <a:pt x="802" y="658"/>
                </a:cubicBezTo>
                <a:cubicBezTo>
                  <a:pt x="810" y="654"/>
                  <a:pt x="819" y="649"/>
                  <a:pt x="828" y="644"/>
                </a:cubicBezTo>
                <a:cubicBezTo>
                  <a:pt x="842" y="640"/>
                  <a:pt x="839" y="627"/>
                  <a:pt x="854" y="626"/>
                </a:cubicBezTo>
                <a:cubicBezTo>
                  <a:pt x="858" y="619"/>
                  <a:pt x="855" y="611"/>
                  <a:pt x="860" y="602"/>
                </a:cubicBezTo>
                <a:cubicBezTo>
                  <a:pt x="866" y="598"/>
                  <a:pt x="884" y="606"/>
                  <a:pt x="890" y="604"/>
                </a:cubicBezTo>
                <a:cubicBezTo>
                  <a:pt x="896" y="602"/>
                  <a:pt x="897" y="595"/>
                  <a:pt x="896" y="590"/>
                </a:cubicBezTo>
                <a:cubicBezTo>
                  <a:pt x="895" y="585"/>
                  <a:pt x="887" y="581"/>
                  <a:pt x="884" y="572"/>
                </a:cubicBezTo>
                <a:cubicBezTo>
                  <a:pt x="882" y="564"/>
                  <a:pt x="875" y="553"/>
                  <a:pt x="876" y="538"/>
                </a:cubicBezTo>
                <a:cubicBezTo>
                  <a:pt x="877" y="523"/>
                  <a:pt x="881" y="492"/>
                  <a:pt x="888" y="480"/>
                </a:cubicBezTo>
                <a:cubicBezTo>
                  <a:pt x="894" y="465"/>
                  <a:pt x="907" y="475"/>
                  <a:pt x="918" y="466"/>
                </a:cubicBezTo>
                <a:cubicBezTo>
                  <a:pt x="924" y="460"/>
                  <a:pt x="917" y="453"/>
                  <a:pt x="922" y="444"/>
                </a:cubicBezTo>
                <a:cubicBezTo>
                  <a:pt x="927" y="435"/>
                  <a:pt x="940" y="419"/>
                  <a:pt x="948" y="414"/>
                </a:cubicBezTo>
                <a:cubicBezTo>
                  <a:pt x="956" y="407"/>
                  <a:pt x="962" y="415"/>
                  <a:pt x="968" y="412"/>
                </a:cubicBezTo>
                <a:cubicBezTo>
                  <a:pt x="974" y="409"/>
                  <a:pt x="979" y="414"/>
                  <a:pt x="984" y="396"/>
                </a:cubicBezTo>
                <a:cubicBezTo>
                  <a:pt x="988" y="380"/>
                  <a:pt x="991" y="327"/>
                  <a:pt x="996" y="306"/>
                </a:cubicBezTo>
                <a:cubicBezTo>
                  <a:pt x="1000" y="284"/>
                  <a:pt x="1000" y="274"/>
                  <a:pt x="1008" y="266"/>
                </a:cubicBezTo>
                <a:cubicBezTo>
                  <a:pt x="1014" y="255"/>
                  <a:pt x="1030" y="264"/>
                  <a:pt x="1042" y="258"/>
                </a:cubicBezTo>
                <a:cubicBezTo>
                  <a:pt x="1052" y="257"/>
                  <a:pt x="1062" y="262"/>
                  <a:pt x="1068" y="258"/>
                </a:cubicBezTo>
                <a:cubicBezTo>
                  <a:pt x="1074" y="254"/>
                  <a:pt x="1071" y="234"/>
                  <a:pt x="1080" y="232"/>
                </a:cubicBezTo>
                <a:cubicBezTo>
                  <a:pt x="1089" y="227"/>
                  <a:pt x="1101" y="234"/>
                  <a:pt x="1120" y="248"/>
                </a:cubicBezTo>
                <a:cubicBezTo>
                  <a:pt x="1131" y="252"/>
                  <a:pt x="1139" y="249"/>
                  <a:pt x="1146" y="256"/>
                </a:cubicBezTo>
                <a:cubicBezTo>
                  <a:pt x="1153" y="263"/>
                  <a:pt x="1157" y="279"/>
                  <a:pt x="1160" y="288"/>
                </a:cubicBezTo>
                <a:cubicBezTo>
                  <a:pt x="1163" y="297"/>
                  <a:pt x="1160" y="303"/>
                  <a:pt x="1166" y="308"/>
                </a:cubicBezTo>
                <a:cubicBezTo>
                  <a:pt x="1172" y="313"/>
                  <a:pt x="1188" y="313"/>
                  <a:pt x="1196" y="316"/>
                </a:cubicBezTo>
                <a:cubicBezTo>
                  <a:pt x="1204" y="318"/>
                  <a:pt x="1200" y="323"/>
                  <a:pt x="1214" y="324"/>
                </a:cubicBezTo>
                <a:cubicBezTo>
                  <a:pt x="1226" y="324"/>
                  <a:pt x="1255" y="318"/>
                  <a:pt x="1266" y="318"/>
                </a:cubicBezTo>
                <a:cubicBezTo>
                  <a:pt x="1277" y="318"/>
                  <a:pt x="1275" y="321"/>
                  <a:pt x="1280" y="324"/>
                </a:cubicBezTo>
                <a:cubicBezTo>
                  <a:pt x="1285" y="325"/>
                  <a:pt x="1291" y="331"/>
                  <a:pt x="1294" y="334"/>
                </a:cubicBezTo>
                <a:cubicBezTo>
                  <a:pt x="1297" y="337"/>
                  <a:pt x="1299" y="333"/>
                  <a:pt x="1298" y="340"/>
                </a:cubicBezTo>
                <a:cubicBezTo>
                  <a:pt x="1297" y="347"/>
                  <a:pt x="1291" y="363"/>
                  <a:pt x="1286" y="374"/>
                </a:cubicBezTo>
                <a:cubicBezTo>
                  <a:pt x="1281" y="385"/>
                  <a:pt x="1274" y="398"/>
                  <a:pt x="1270" y="408"/>
                </a:cubicBezTo>
                <a:cubicBezTo>
                  <a:pt x="1266" y="418"/>
                  <a:pt x="1269" y="431"/>
                  <a:pt x="1260" y="436"/>
                </a:cubicBezTo>
                <a:cubicBezTo>
                  <a:pt x="1251" y="442"/>
                  <a:pt x="1229" y="437"/>
                  <a:pt x="1214" y="438"/>
                </a:cubicBezTo>
                <a:cubicBezTo>
                  <a:pt x="1199" y="439"/>
                  <a:pt x="1181" y="442"/>
                  <a:pt x="1172" y="444"/>
                </a:cubicBezTo>
                <a:cubicBezTo>
                  <a:pt x="1162" y="446"/>
                  <a:pt x="1171" y="452"/>
                  <a:pt x="1160" y="452"/>
                </a:cubicBezTo>
                <a:cubicBezTo>
                  <a:pt x="1150" y="450"/>
                  <a:pt x="1131" y="432"/>
                  <a:pt x="1112" y="432"/>
                </a:cubicBezTo>
                <a:cubicBezTo>
                  <a:pt x="1087" y="430"/>
                  <a:pt x="1064" y="446"/>
                  <a:pt x="1048" y="454"/>
                </a:cubicBezTo>
                <a:cubicBezTo>
                  <a:pt x="1034" y="458"/>
                  <a:pt x="1035" y="452"/>
                  <a:pt x="1030" y="456"/>
                </a:cubicBezTo>
                <a:cubicBezTo>
                  <a:pt x="1025" y="460"/>
                  <a:pt x="1018" y="468"/>
                  <a:pt x="1016" y="480"/>
                </a:cubicBezTo>
                <a:cubicBezTo>
                  <a:pt x="1015" y="490"/>
                  <a:pt x="1018" y="515"/>
                  <a:pt x="1020" y="530"/>
                </a:cubicBezTo>
                <a:cubicBezTo>
                  <a:pt x="1020" y="544"/>
                  <a:pt x="1014" y="551"/>
                  <a:pt x="1014" y="562"/>
                </a:cubicBezTo>
                <a:cubicBezTo>
                  <a:pt x="1014" y="573"/>
                  <a:pt x="1014" y="585"/>
                  <a:pt x="1020" y="594"/>
                </a:cubicBezTo>
                <a:cubicBezTo>
                  <a:pt x="1023" y="630"/>
                  <a:pt x="1036" y="614"/>
                  <a:pt x="1050" y="618"/>
                </a:cubicBezTo>
                <a:cubicBezTo>
                  <a:pt x="1056" y="622"/>
                  <a:pt x="1052" y="624"/>
                  <a:pt x="1060" y="622"/>
                </a:cubicBezTo>
                <a:cubicBezTo>
                  <a:pt x="1068" y="620"/>
                  <a:pt x="1088" y="609"/>
                  <a:pt x="1096" y="604"/>
                </a:cubicBezTo>
                <a:cubicBezTo>
                  <a:pt x="1106" y="600"/>
                  <a:pt x="1103" y="599"/>
                  <a:pt x="1108" y="594"/>
                </a:cubicBezTo>
                <a:cubicBezTo>
                  <a:pt x="1113" y="590"/>
                  <a:pt x="1118" y="581"/>
                  <a:pt x="1126" y="578"/>
                </a:cubicBezTo>
                <a:cubicBezTo>
                  <a:pt x="1133" y="577"/>
                  <a:pt x="1147" y="573"/>
                  <a:pt x="1156" y="578"/>
                </a:cubicBezTo>
                <a:cubicBezTo>
                  <a:pt x="1165" y="583"/>
                  <a:pt x="1177" y="591"/>
                  <a:pt x="1180" y="608"/>
                </a:cubicBezTo>
                <a:cubicBezTo>
                  <a:pt x="1174" y="656"/>
                  <a:pt x="1178" y="634"/>
                  <a:pt x="1172" y="678"/>
                </a:cubicBezTo>
                <a:cubicBezTo>
                  <a:pt x="1142" y="706"/>
                  <a:pt x="1123" y="728"/>
                  <a:pt x="1120" y="752"/>
                </a:cubicBezTo>
                <a:cubicBezTo>
                  <a:pt x="1121" y="771"/>
                  <a:pt x="1127" y="790"/>
                  <a:pt x="1132" y="808"/>
                </a:cubicBezTo>
                <a:cubicBezTo>
                  <a:pt x="1133" y="813"/>
                  <a:pt x="1140" y="813"/>
                  <a:pt x="1144" y="816"/>
                </a:cubicBezTo>
                <a:cubicBezTo>
                  <a:pt x="1161" y="830"/>
                  <a:pt x="1167" y="858"/>
                  <a:pt x="1186" y="870"/>
                </a:cubicBezTo>
                <a:cubicBezTo>
                  <a:pt x="1193" y="882"/>
                  <a:pt x="1198" y="884"/>
                  <a:pt x="1196" y="890"/>
                </a:cubicBezTo>
                <a:cubicBezTo>
                  <a:pt x="1194" y="896"/>
                  <a:pt x="1179" y="902"/>
                  <a:pt x="1174" y="906"/>
                </a:cubicBezTo>
                <a:cubicBezTo>
                  <a:pt x="1169" y="910"/>
                  <a:pt x="1167" y="910"/>
                  <a:pt x="1164" y="916"/>
                </a:cubicBezTo>
                <a:cubicBezTo>
                  <a:pt x="1160" y="922"/>
                  <a:pt x="1155" y="920"/>
                  <a:pt x="1154" y="942"/>
                </a:cubicBezTo>
                <a:cubicBezTo>
                  <a:pt x="1152" y="951"/>
                  <a:pt x="1152" y="959"/>
                  <a:pt x="1150" y="972"/>
                </a:cubicBezTo>
                <a:cubicBezTo>
                  <a:pt x="1148" y="985"/>
                  <a:pt x="1144" y="1007"/>
                  <a:pt x="1144" y="1018"/>
                </a:cubicBezTo>
                <a:cubicBezTo>
                  <a:pt x="1144" y="1029"/>
                  <a:pt x="1181" y="1033"/>
                  <a:pt x="1150" y="1038"/>
                </a:cubicBezTo>
                <a:cubicBezTo>
                  <a:pt x="1119" y="1043"/>
                  <a:pt x="1156" y="1048"/>
                  <a:pt x="956" y="1046"/>
                </a:cubicBezTo>
                <a:cubicBezTo>
                  <a:pt x="577" y="1045"/>
                  <a:pt x="399" y="1049"/>
                  <a:pt x="20" y="1044"/>
                </a:cubicBezTo>
                <a:cubicBezTo>
                  <a:pt x="0" y="1044"/>
                  <a:pt x="12" y="1005"/>
                  <a:pt x="18" y="1000"/>
                </a:cubicBezTo>
                <a:cubicBezTo>
                  <a:pt x="28" y="991"/>
                  <a:pt x="21" y="969"/>
                  <a:pt x="34" y="968"/>
                </a:cubicBezTo>
                <a:cubicBezTo>
                  <a:pt x="36" y="926"/>
                  <a:pt x="45" y="905"/>
                  <a:pt x="32" y="902"/>
                </a:cubicBezTo>
                <a:cubicBezTo>
                  <a:pt x="31" y="897"/>
                  <a:pt x="38" y="891"/>
                  <a:pt x="36" y="886"/>
                </a:cubicBezTo>
                <a:cubicBezTo>
                  <a:pt x="34" y="878"/>
                  <a:pt x="40" y="874"/>
                  <a:pt x="38" y="866"/>
                </a:cubicBezTo>
                <a:cubicBezTo>
                  <a:pt x="34" y="850"/>
                  <a:pt x="46" y="838"/>
                  <a:pt x="46" y="838"/>
                </a:cubicBezTo>
                <a:cubicBezTo>
                  <a:pt x="47" y="825"/>
                  <a:pt x="54" y="800"/>
                  <a:pt x="56" y="788"/>
                </a:cubicBezTo>
                <a:cubicBezTo>
                  <a:pt x="58" y="776"/>
                  <a:pt x="57" y="778"/>
                  <a:pt x="60" y="768"/>
                </a:cubicBezTo>
                <a:cubicBezTo>
                  <a:pt x="64" y="758"/>
                  <a:pt x="69" y="742"/>
                  <a:pt x="74" y="726"/>
                </a:cubicBezTo>
                <a:cubicBezTo>
                  <a:pt x="79" y="710"/>
                  <a:pt x="85" y="688"/>
                  <a:pt x="88" y="674"/>
                </a:cubicBezTo>
                <a:cubicBezTo>
                  <a:pt x="93" y="662"/>
                  <a:pt x="85" y="651"/>
                  <a:pt x="94" y="642"/>
                </a:cubicBezTo>
                <a:cubicBezTo>
                  <a:pt x="103" y="633"/>
                  <a:pt x="129" y="629"/>
                  <a:pt x="140" y="620"/>
                </a:cubicBezTo>
                <a:cubicBezTo>
                  <a:pt x="141" y="608"/>
                  <a:pt x="154" y="602"/>
                  <a:pt x="162" y="588"/>
                </a:cubicBezTo>
                <a:cubicBezTo>
                  <a:pt x="170" y="561"/>
                  <a:pt x="185" y="534"/>
                  <a:pt x="196" y="500"/>
                </a:cubicBezTo>
                <a:cubicBezTo>
                  <a:pt x="203" y="468"/>
                  <a:pt x="197" y="441"/>
                  <a:pt x="188" y="400"/>
                </a:cubicBezTo>
                <a:cubicBezTo>
                  <a:pt x="190" y="373"/>
                  <a:pt x="206" y="355"/>
                  <a:pt x="206" y="338"/>
                </a:cubicBezTo>
                <a:cubicBezTo>
                  <a:pt x="206" y="321"/>
                  <a:pt x="195" y="311"/>
                  <a:pt x="190" y="298"/>
                </a:cubicBezTo>
                <a:cubicBezTo>
                  <a:pt x="185" y="285"/>
                  <a:pt x="186" y="265"/>
                  <a:pt x="178" y="258"/>
                </a:cubicBezTo>
                <a:cubicBezTo>
                  <a:pt x="170" y="251"/>
                  <a:pt x="147" y="262"/>
                  <a:pt x="140" y="256"/>
                </a:cubicBezTo>
                <a:cubicBezTo>
                  <a:pt x="127" y="206"/>
                  <a:pt x="134" y="234"/>
                  <a:pt x="136" y="222"/>
                </a:cubicBezTo>
                <a:cubicBezTo>
                  <a:pt x="138" y="210"/>
                  <a:pt x="145" y="197"/>
                  <a:pt x="150" y="184"/>
                </a:cubicBezTo>
                <a:cubicBezTo>
                  <a:pt x="153" y="164"/>
                  <a:pt x="166" y="156"/>
                  <a:pt x="166" y="142"/>
                </a:cubicBezTo>
                <a:cubicBezTo>
                  <a:pt x="166" y="128"/>
                  <a:pt x="153" y="114"/>
                  <a:pt x="152" y="102"/>
                </a:cubicBezTo>
                <a:cubicBezTo>
                  <a:pt x="151" y="90"/>
                  <a:pt x="154" y="79"/>
                  <a:pt x="158" y="68"/>
                </a:cubicBezTo>
                <a:cubicBezTo>
                  <a:pt x="162" y="57"/>
                  <a:pt x="170" y="43"/>
                  <a:pt x="178" y="38"/>
                </a:cubicBezTo>
                <a:cubicBezTo>
                  <a:pt x="186" y="35"/>
                  <a:pt x="198" y="38"/>
                  <a:pt x="204" y="40"/>
                </a:cubicBezTo>
                <a:cubicBezTo>
                  <a:pt x="210" y="42"/>
                  <a:pt x="208" y="59"/>
                  <a:pt x="216" y="52"/>
                </a:cubicBezTo>
                <a:cubicBezTo>
                  <a:pt x="227" y="35"/>
                  <a:pt x="247" y="9"/>
                  <a:pt x="254" y="0"/>
                </a:cubicBezTo>
                <a:lnTo>
                  <a:pt x="25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66840" y="2513160"/>
            <a:ext cx="2868840" cy="2738160"/>
          </a:xfrm>
          <a:custGeom>
            <a:avLst/>
            <a:gdLst/>
            <a:ahLst/>
            <a:rect l="l" t="t" r="r" b="b"/>
            <a:pathLst>
              <a:path w="1807" h="1725">
                <a:moveTo>
                  <a:pt x="707" y="154"/>
                </a:moveTo>
                <a:cubicBezTo>
                  <a:pt x="755" y="186"/>
                  <a:pt x="753" y="213"/>
                  <a:pt x="781" y="254"/>
                </a:cubicBezTo>
                <a:cubicBezTo>
                  <a:pt x="795" y="270"/>
                  <a:pt x="783" y="264"/>
                  <a:pt x="793" y="258"/>
                </a:cubicBezTo>
                <a:cubicBezTo>
                  <a:pt x="799" y="252"/>
                  <a:pt x="813" y="226"/>
                  <a:pt x="819" y="218"/>
                </a:cubicBezTo>
                <a:cubicBezTo>
                  <a:pt x="825" y="209"/>
                  <a:pt x="824" y="223"/>
                  <a:pt x="827" y="208"/>
                </a:cubicBezTo>
                <a:cubicBezTo>
                  <a:pt x="831" y="205"/>
                  <a:pt x="840" y="210"/>
                  <a:pt x="841" y="202"/>
                </a:cubicBezTo>
                <a:cubicBezTo>
                  <a:pt x="842" y="194"/>
                  <a:pt x="835" y="172"/>
                  <a:pt x="831" y="158"/>
                </a:cubicBezTo>
                <a:cubicBezTo>
                  <a:pt x="829" y="144"/>
                  <a:pt x="816" y="134"/>
                  <a:pt x="817" y="120"/>
                </a:cubicBezTo>
                <a:cubicBezTo>
                  <a:pt x="818" y="107"/>
                  <a:pt x="829" y="87"/>
                  <a:pt x="839" y="78"/>
                </a:cubicBezTo>
                <a:cubicBezTo>
                  <a:pt x="849" y="68"/>
                  <a:pt x="865" y="72"/>
                  <a:pt x="875" y="68"/>
                </a:cubicBezTo>
                <a:cubicBezTo>
                  <a:pt x="886" y="66"/>
                  <a:pt x="893" y="69"/>
                  <a:pt x="905" y="68"/>
                </a:cubicBezTo>
                <a:cubicBezTo>
                  <a:pt x="921" y="70"/>
                  <a:pt x="936" y="53"/>
                  <a:pt x="949" y="62"/>
                </a:cubicBezTo>
                <a:cubicBezTo>
                  <a:pt x="958" y="65"/>
                  <a:pt x="962" y="67"/>
                  <a:pt x="967" y="82"/>
                </a:cubicBezTo>
                <a:cubicBezTo>
                  <a:pt x="970" y="92"/>
                  <a:pt x="965" y="108"/>
                  <a:pt x="967" y="120"/>
                </a:cubicBezTo>
                <a:cubicBezTo>
                  <a:pt x="969" y="132"/>
                  <a:pt x="975" y="146"/>
                  <a:pt x="979" y="152"/>
                </a:cubicBezTo>
                <a:cubicBezTo>
                  <a:pt x="983" y="165"/>
                  <a:pt x="974" y="155"/>
                  <a:pt x="991" y="158"/>
                </a:cubicBezTo>
                <a:cubicBezTo>
                  <a:pt x="997" y="160"/>
                  <a:pt x="1004" y="165"/>
                  <a:pt x="1013" y="164"/>
                </a:cubicBezTo>
                <a:cubicBezTo>
                  <a:pt x="1022" y="163"/>
                  <a:pt x="1036" y="153"/>
                  <a:pt x="1047" y="154"/>
                </a:cubicBezTo>
                <a:cubicBezTo>
                  <a:pt x="1058" y="155"/>
                  <a:pt x="1070" y="162"/>
                  <a:pt x="1081" y="170"/>
                </a:cubicBezTo>
                <a:cubicBezTo>
                  <a:pt x="1090" y="181"/>
                  <a:pt x="1106" y="189"/>
                  <a:pt x="1113" y="202"/>
                </a:cubicBezTo>
                <a:cubicBezTo>
                  <a:pt x="1122" y="215"/>
                  <a:pt x="1122" y="219"/>
                  <a:pt x="1135" y="246"/>
                </a:cubicBezTo>
                <a:cubicBezTo>
                  <a:pt x="1141" y="310"/>
                  <a:pt x="1148" y="335"/>
                  <a:pt x="1189" y="362"/>
                </a:cubicBezTo>
                <a:cubicBezTo>
                  <a:pt x="1217" y="404"/>
                  <a:pt x="1211" y="412"/>
                  <a:pt x="1233" y="404"/>
                </a:cubicBezTo>
                <a:cubicBezTo>
                  <a:pt x="1244" y="410"/>
                  <a:pt x="1239" y="401"/>
                  <a:pt x="1253" y="398"/>
                </a:cubicBezTo>
                <a:cubicBezTo>
                  <a:pt x="1262" y="397"/>
                  <a:pt x="1275" y="400"/>
                  <a:pt x="1285" y="398"/>
                </a:cubicBezTo>
                <a:cubicBezTo>
                  <a:pt x="1295" y="396"/>
                  <a:pt x="1306" y="391"/>
                  <a:pt x="1315" y="386"/>
                </a:cubicBezTo>
                <a:cubicBezTo>
                  <a:pt x="1326" y="384"/>
                  <a:pt x="1315" y="369"/>
                  <a:pt x="1339" y="370"/>
                </a:cubicBezTo>
                <a:cubicBezTo>
                  <a:pt x="1349" y="367"/>
                  <a:pt x="1359" y="365"/>
                  <a:pt x="1375" y="370"/>
                </a:cubicBezTo>
                <a:cubicBezTo>
                  <a:pt x="1391" y="375"/>
                  <a:pt x="1423" y="395"/>
                  <a:pt x="1437" y="400"/>
                </a:cubicBezTo>
                <a:cubicBezTo>
                  <a:pt x="1451" y="405"/>
                  <a:pt x="1445" y="394"/>
                  <a:pt x="1459" y="398"/>
                </a:cubicBezTo>
                <a:cubicBezTo>
                  <a:pt x="1481" y="408"/>
                  <a:pt x="1500" y="414"/>
                  <a:pt x="1519" y="422"/>
                </a:cubicBezTo>
                <a:cubicBezTo>
                  <a:pt x="1538" y="430"/>
                  <a:pt x="1554" y="416"/>
                  <a:pt x="1571" y="422"/>
                </a:cubicBezTo>
                <a:cubicBezTo>
                  <a:pt x="1586" y="426"/>
                  <a:pt x="1595" y="444"/>
                  <a:pt x="1607" y="448"/>
                </a:cubicBezTo>
                <a:cubicBezTo>
                  <a:pt x="1617" y="453"/>
                  <a:pt x="1632" y="443"/>
                  <a:pt x="1641" y="444"/>
                </a:cubicBezTo>
                <a:cubicBezTo>
                  <a:pt x="1650" y="445"/>
                  <a:pt x="1651" y="452"/>
                  <a:pt x="1661" y="456"/>
                </a:cubicBezTo>
                <a:cubicBezTo>
                  <a:pt x="1671" y="460"/>
                  <a:pt x="1681" y="458"/>
                  <a:pt x="1699" y="466"/>
                </a:cubicBezTo>
                <a:cubicBezTo>
                  <a:pt x="1743" y="492"/>
                  <a:pt x="1769" y="502"/>
                  <a:pt x="1769" y="502"/>
                </a:cubicBezTo>
                <a:cubicBezTo>
                  <a:pt x="1783" y="514"/>
                  <a:pt x="1797" y="492"/>
                  <a:pt x="1803" y="522"/>
                </a:cubicBezTo>
                <a:cubicBezTo>
                  <a:pt x="1805" y="530"/>
                  <a:pt x="1787" y="543"/>
                  <a:pt x="1781" y="552"/>
                </a:cubicBezTo>
                <a:cubicBezTo>
                  <a:pt x="1775" y="561"/>
                  <a:pt x="1766" y="567"/>
                  <a:pt x="1769" y="578"/>
                </a:cubicBezTo>
                <a:cubicBezTo>
                  <a:pt x="1772" y="589"/>
                  <a:pt x="1796" y="602"/>
                  <a:pt x="1801" y="616"/>
                </a:cubicBezTo>
                <a:cubicBezTo>
                  <a:pt x="1806" y="630"/>
                  <a:pt x="1807" y="645"/>
                  <a:pt x="1797" y="660"/>
                </a:cubicBezTo>
                <a:cubicBezTo>
                  <a:pt x="1772" y="668"/>
                  <a:pt x="1757" y="666"/>
                  <a:pt x="1743" y="706"/>
                </a:cubicBezTo>
                <a:cubicBezTo>
                  <a:pt x="1737" y="732"/>
                  <a:pt x="1739" y="732"/>
                  <a:pt x="1711" y="732"/>
                </a:cubicBezTo>
                <a:cubicBezTo>
                  <a:pt x="1689" y="748"/>
                  <a:pt x="1683" y="778"/>
                  <a:pt x="1683" y="778"/>
                </a:cubicBezTo>
                <a:cubicBezTo>
                  <a:pt x="1667" y="802"/>
                  <a:pt x="1649" y="792"/>
                  <a:pt x="1603" y="814"/>
                </a:cubicBezTo>
                <a:cubicBezTo>
                  <a:pt x="1585" y="827"/>
                  <a:pt x="1597" y="837"/>
                  <a:pt x="1587" y="852"/>
                </a:cubicBezTo>
                <a:cubicBezTo>
                  <a:pt x="1580" y="861"/>
                  <a:pt x="1570" y="857"/>
                  <a:pt x="1559" y="866"/>
                </a:cubicBezTo>
                <a:cubicBezTo>
                  <a:pt x="1548" y="875"/>
                  <a:pt x="1531" y="899"/>
                  <a:pt x="1521" y="906"/>
                </a:cubicBezTo>
                <a:cubicBezTo>
                  <a:pt x="1506" y="914"/>
                  <a:pt x="1503" y="909"/>
                  <a:pt x="1497" y="906"/>
                </a:cubicBezTo>
                <a:cubicBezTo>
                  <a:pt x="1491" y="903"/>
                  <a:pt x="1488" y="898"/>
                  <a:pt x="1483" y="890"/>
                </a:cubicBezTo>
                <a:cubicBezTo>
                  <a:pt x="1477" y="885"/>
                  <a:pt x="1473" y="865"/>
                  <a:pt x="1467" y="860"/>
                </a:cubicBezTo>
                <a:cubicBezTo>
                  <a:pt x="1451" y="852"/>
                  <a:pt x="1400" y="873"/>
                  <a:pt x="1381" y="870"/>
                </a:cubicBezTo>
                <a:cubicBezTo>
                  <a:pt x="1360" y="869"/>
                  <a:pt x="1356" y="861"/>
                  <a:pt x="1343" y="856"/>
                </a:cubicBezTo>
                <a:cubicBezTo>
                  <a:pt x="1327" y="858"/>
                  <a:pt x="1316" y="833"/>
                  <a:pt x="1301" y="840"/>
                </a:cubicBezTo>
                <a:cubicBezTo>
                  <a:pt x="1288" y="846"/>
                  <a:pt x="1282" y="877"/>
                  <a:pt x="1279" y="890"/>
                </a:cubicBezTo>
                <a:cubicBezTo>
                  <a:pt x="1269" y="926"/>
                  <a:pt x="1264" y="988"/>
                  <a:pt x="1231" y="1010"/>
                </a:cubicBezTo>
                <a:cubicBezTo>
                  <a:pt x="1226" y="1026"/>
                  <a:pt x="1211" y="1054"/>
                  <a:pt x="1227" y="1080"/>
                </a:cubicBezTo>
                <a:cubicBezTo>
                  <a:pt x="1231" y="1092"/>
                  <a:pt x="1241" y="1084"/>
                  <a:pt x="1255" y="1086"/>
                </a:cubicBezTo>
                <a:cubicBezTo>
                  <a:pt x="1269" y="1089"/>
                  <a:pt x="1297" y="1090"/>
                  <a:pt x="1309" y="1100"/>
                </a:cubicBezTo>
                <a:cubicBezTo>
                  <a:pt x="1319" y="1150"/>
                  <a:pt x="1313" y="1103"/>
                  <a:pt x="1325" y="1144"/>
                </a:cubicBezTo>
                <a:cubicBezTo>
                  <a:pt x="1329" y="1156"/>
                  <a:pt x="1339" y="1178"/>
                  <a:pt x="1339" y="1178"/>
                </a:cubicBezTo>
                <a:cubicBezTo>
                  <a:pt x="1341" y="1188"/>
                  <a:pt x="1363" y="1172"/>
                  <a:pt x="1367" y="1198"/>
                </a:cubicBezTo>
                <a:cubicBezTo>
                  <a:pt x="1372" y="1204"/>
                  <a:pt x="1370" y="1208"/>
                  <a:pt x="1367" y="1212"/>
                </a:cubicBezTo>
                <a:cubicBezTo>
                  <a:pt x="1364" y="1216"/>
                  <a:pt x="1357" y="1210"/>
                  <a:pt x="1351" y="1220"/>
                </a:cubicBezTo>
                <a:cubicBezTo>
                  <a:pt x="1345" y="1230"/>
                  <a:pt x="1326" y="1253"/>
                  <a:pt x="1329" y="1270"/>
                </a:cubicBezTo>
                <a:cubicBezTo>
                  <a:pt x="1332" y="1287"/>
                  <a:pt x="1358" y="1313"/>
                  <a:pt x="1369" y="1324"/>
                </a:cubicBezTo>
                <a:cubicBezTo>
                  <a:pt x="1379" y="1335"/>
                  <a:pt x="1391" y="1330"/>
                  <a:pt x="1397" y="1334"/>
                </a:cubicBezTo>
                <a:cubicBezTo>
                  <a:pt x="1403" y="1338"/>
                  <a:pt x="1405" y="1344"/>
                  <a:pt x="1405" y="1350"/>
                </a:cubicBezTo>
                <a:cubicBezTo>
                  <a:pt x="1405" y="1356"/>
                  <a:pt x="1406" y="1361"/>
                  <a:pt x="1397" y="1370"/>
                </a:cubicBezTo>
                <a:cubicBezTo>
                  <a:pt x="1388" y="1379"/>
                  <a:pt x="1370" y="1401"/>
                  <a:pt x="1349" y="1406"/>
                </a:cubicBezTo>
                <a:cubicBezTo>
                  <a:pt x="1328" y="1409"/>
                  <a:pt x="1291" y="1402"/>
                  <a:pt x="1269" y="1398"/>
                </a:cubicBezTo>
                <a:cubicBezTo>
                  <a:pt x="1248" y="1392"/>
                  <a:pt x="1235" y="1379"/>
                  <a:pt x="1225" y="1370"/>
                </a:cubicBezTo>
                <a:cubicBezTo>
                  <a:pt x="1212" y="1360"/>
                  <a:pt x="1226" y="1351"/>
                  <a:pt x="1209" y="1346"/>
                </a:cubicBezTo>
                <a:cubicBezTo>
                  <a:pt x="1196" y="1343"/>
                  <a:pt x="1159" y="1353"/>
                  <a:pt x="1145" y="1352"/>
                </a:cubicBezTo>
                <a:cubicBezTo>
                  <a:pt x="1131" y="1351"/>
                  <a:pt x="1131" y="1343"/>
                  <a:pt x="1123" y="1340"/>
                </a:cubicBezTo>
                <a:cubicBezTo>
                  <a:pt x="1117" y="1335"/>
                  <a:pt x="1101" y="1344"/>
                  <a:pt x="1095" y="1336"/>
                </a:cubicBezTo>
                <a:cubicBezTo>
                  <a:pt x="1089" y="1328"/>
                  <a:pt x="1095" y="1303"/>
                  <a:pt x="1087" y="1292"/>
                </a:cubicBezTo>
                <a:cubicBezTo>
                  <a:pt x="1075" y="1282"/>
                  <a:pt x="1058" y="1277"/>
                  <a:pt x="1045" y="1268"/>
                </a:cubicBezTo>
                <a:cubicBezTo>
                  <a:pt x="1033" y="1264"/>
                  <a:pt x="1024" y="1261"/>
                  <a:pt x="1015" y="1262"/>
                </a:cubicBezTo>
                <a:cubicBezTo>
                  <a:pt x="1007" y="1265"/>
                  <a:pt x="1008" y="1282"/>
                  <a:pt x="995" y="1288"/>
                </a:cubicBezTo>
                <a:cubicBezTo>
                  <a:pt x="981" y="1293"/>
                  <a:pt x="939" y="1296"/>
                  <a:pt x="939" y="1296"/>
                </a:cubicBezTo>
                <a:cubicBezTo>
                  <a:pt x="905" y="1340"/>
                  <a:pt x="937" y="1321"/>
                  <a:pt x="919" y="1358"/>
                </a:cubicBezTo>
                <a:cubicBezTo>
                  <a:pt x="913" y="1380"/>
                  <a:pt x="922" y="1419"/>
                  <a:pt x="913" y="1436"/>
                </a:cubicBezTo>
                <a:cubicBezTo>
                  <a:pt x="906" y="1450"/>
                  <a:pt x="886" y="1438"/>
                  <a:pt x="875" y="1444"/>
                </a:cubicBezTo>
                <a:cubicBezTo>
                  <a:pt x="866" y="1451"/>
                  <a:pt x="851" y="1466"/>
                  <a:pt x="847" y="1474"/>
                </a:cubicBezTo>
                <a:cubicBezTo>
                  <a:pt x="838" y="1484"/>
                  <a:pt x="827" y="1481"/>
                  <a:pt x="823" y="1506"/>
                </a:cubicBezTo>
                <a:cubicBezTo>
                  <a:pt x="809" y="1549"/>
                  <a:pt x="801" y="1556"/>
                  <a:pt x="825" y="1624"/>
                </a:cubicBezTo>
                <a:cubicBezTo>
                  <a:pt x="819" y="1648"/>
                  <a:pt x="803" y="1622"/>
                  <a:pt x="789" y="1632"/>
                </a:cubicBezTo>
                <a:cubicBezTo>
                  <a:pt x="782" y="1639"/>
                  <a:pt x="793" y="1658"/>
                  <a:pt x="785" y="1666"/>
                </a:cubicBezTo>
                <a:cubicBezTo>
                  <a:pt x="777" y="1674"/>
                  <a:pt x="751" y="1677"/>
                  <a:pt x="739" y="1682"/>
                </a:cubicBezTo>
                <a:cubicBezTo>
                  <a:pt x="727" y="1685"/>
                  <a:pt x="734" y="1697"/>
                  <a:pt x="711" y="1696"/>
                </a:cubicBezTo>
                <a:cubicBezTo>
                  <a:pt x="699" y="1698"/>
                  <a:pt x="681" y="1690"/>
                  <a:pt x="665" y="1694"/>
                </a:cubicBezTo>
                <a:cubicBezTo>
                  <a:pt x="649" y="1698"/>
                  <a:pt x="624" y="1725"/>
                  <a:pt x="613" y="1722"/>
                </a:cubicBezTo>
                <a:cubicBezTo>
                  <a:pt x="602" y="1719"/>
                  <a:pt x="608" y="1695"/>
                  <a:pt x="601" y="1676"/>
                </a:cubicBezTo>
                <a:cubicBezTo>
                  <a:pt x="585" y="1670"/>
                  <a:pt x="576" y="1625"/>
                  <a:pt x="569" y="1610"/>
                </a:cubicBezTo>
                <a:cubicBezTo>
                  <a:pt x="539" y="1549"/>
                  <a:pt x="551" y="1544"/>
                  <a:pt x="515" y="1516"/>
                </a:cubicBezTo>
                <a:cubicBezTo>
                  <a:pt x="481" y="1474"/>
                  <a:pt x="472" y="1401"/>
                  <a:pt x="467" y="1396"/>
                </a:cubicBezTo>
                <a:cubicBezTo>
                  <a:pt x="452" y="1381"/>
                  <a:pt x="461" y="1342"/>
                  <a:pt x="443" y="1330"/>
                </a:cubicBezTo>
                <a:cubicBezTo>
                  <a:pt x="433" y="1320"/>
                  <a:pt x="418" y="1320"/>
                  <a:pt x="407" y="1322"/>
                </a:cubicBezTo>
                <a:cubicBezTo>
                  <a:pt x="396" y="1324"/>
                  <a:pt x="385" y="1342"/>
                  <a:pt x="377" y="1344"/>
                </a:cubicBezTo>
                <a:cubicBezTo>
                  <a:pt x="369" y="1346"/>
                  <a:pt x="366" y="1355"/>
                  <a:pt x="361" y="1332"/>
                </a:cubicBezTo>
                <a:cubicBezTo>
                  <a:pt x="356" y="1309"/>
                  <a:pt x="354" y="1229"/>
                  <a:pt x="347" y="1204"/>
                </a:cubicBezTo>
                <a:cubicBezTo>
                  <a:pt x="342" y="1174"/>
                  <a:pt x="321" y="1212"/>
                  <a:pt x="319" y="1184"/>
                </a:cubicBezTo>
                <a:cubicBezTo>
                  <a:pt x="314" y="1173"/>
                  <a:pt x="324" y="1150"/>
                  <a:pt x="319" y="1140"/>
                </a:cubicBezTo>
                <a:cubicBezTo>
                  <a:pt x="314" y="1130"/>
                  <a:pt x="300" y="1124"/>
                  <a:pt x="291" y="1122"/>
                </a:cubicBezTo>
                <a:cubicBezTo>
                  <a:pt x="282" y="1112"/>
                  <a:pt x="273" y="1121"/>
                  <a:pt x="265" y="1128"/>
                </a:cubicBezTo>
                <a:cubicBezTo>
                  <a:pt x="257" y="1135"/>
                  <a:pt x="254" y="1157"/>
                  <a:pt x="245" y="1166"/>
                </a:cubicBezTo>
                <a:cubicBezTo>
                  <a:pt x="235" y="1178"/>
                  <a:pt x="217" y="1199"/>
                  <a:pt x="209" y="1184"/>
                </a:cubicBezTo>
                <a:cubicBezTo>
                  <a:pt x="201" y="1169"/>
                  <a:pt x="196" y="1122"/>
                  <a:pt x="199" y="1076"/>
                </a:cubicBezTo>
                <a:cubicBezTo>
                  <a:pt x="189" y="1017"/>
                  <a:pt x="210" y="964"/>
                  <a:pt x="229" y="908"/>
                </a:cubicBezTo>
                <a:cubicBezTo>
                  <a:pt x="234" y="871"/>
                  <a:pt x="245" y="878"/>
                  <a:pt x="237" y="840"/>
                </a:cubicBezTo>
                <a:cubicBezTo>
                  <a:pt x="229" y="811"/>
                  <a:pt x="195" y="765"/>
                  <a:pt x="181" y="736"/>
                </a:cubicBezTo>
                <a:cubicBezTo>
                  <a:pt x="166" y="707"/>
                  <a:pt x="157" y="683"/>
                  <a:pt x="151" y="668"/>
                </a:cubicBezTo>
                <a:cubicBezTo>
                  <a:pt x="145" y="653"/>
                  <a:pt x="137" y="664"/>
                  <a:pt x="145" y="644"/>
                </a:cubicBezTo>
                <a:cubicBezTo>
                  <a:pt x="153" y="624"/>
                  <a:pt x="192" y="570"/>
                  <a:pt x="199" y="548"/>
                </a:cubicBezTo>
                <a:cubicBezTo>
                  <a:pt x="197" y="532"/>
                  <a:pt x="193" y="526"/>
                  <a:pt x="185" y="512"/>
                </a:cubicBezTo>
                <a:cubicBezTo>
                  <a:pt x="178" y="500"/>
                  <a:pt x="169" y="484"/>
                  <a:pt x="157" y="476"/>
                </a:cubicBezTo>
                <a:cubicBezTo>
                  <a:pt x="143" y="467"/>
                  <a:pt x="150" y="440"/>
                  <a:pt x="139" y="422"/>
                </a:cubicBezTo>
                <a:cubicBezTo>
                  <a:pt x="128" y="405"/>
                  <a:pt x="117" y="380"/>
                  <a:pt x="113" y="360"/>
                </a:cubicBezTo>
                <a:cubicBezTo>
                  <a:pt x="112" y="355"/>
                  <a:pt x="66" y="306"/>
                  <a:pt x="61" y="296"/>
                </a:cubicBezTo>
                <a:cubicBezTo>
                  <a:pt x="54" y="278"/>
                  <a:pt x="22" y="294"/>
                  <a:pt x="13" y="280"/>
                </a:cubicBezTo>
                <a:cubicBezTo>
                  <a:pt x="4" y="266"/>
                  <a:pt x="5" y="228"/>
                  <a:pt x="7" y="212"/>
                </a:cubicBezTo>
                <a:cubicBezTo>
                  <a:pt x="0" y="193"/>
                  <a:pt x="21" y="191"/>
                  <a:pt x="27" y="184"/>
                </a:cubicBezTo>
                <a:cubicBezTo>
                  <a:pt x="33" y="177"/>
                  <a:pt x="38" y="180"/>
                  <a:pt x="41" y="172"/>
                </a:cubicBezTo>
                <a:cubicBezTo>
                  <a:pt x="46" y="153"/>
                  <a:pt x="38" y="159"/>
                  <a:pt x="43" y="136"/>
                </a:cubicBezTo>
                <a:cubicBezTo>
                  <a:pt x="46" y="128"/>
                  <a:pt x="62" y="138"/>
                  <a:pt x="61" y="126"/>
                </a:cubicBezTo>
                <a:cubicBezTo>
                  <a:pt x="60" y="114"/>
                  <a:pt x="42" y="79"/>
                  <a:pt x="39" y="62"/>
                </a:cubicBezTo>
                <a:cubicBezTo>
                  <a:pt x="36" y="45"/>
                  <a:pt x="42" y="33"/>
                  <a:pt x="45" y="26"/>
                </a:cubicBezTo>
                <a:cubicBezTo>
                  <a:pt x="48" y="19"/>
                  <a:pt x="35" y="20"/>
                  <a:pt x="57" y="22"/>
                </a:cubicBezTo>
                <a:cubicBezTo>
                  <a:pt x="181" y="0"/>
                  <a:pt x="145" y="33"/>
                  <a:pt x="177" y="38"/>
                </a:cubicBezTo>
                <a:cubicBezTo>
                  <a:pt x="201" y="45"/>
                  <a:pt x="186" y="64"/>
                  <a:pt x="195" y="72"/>
                </a:cubicBezTo>
                <a:cubicBezTo>
                  <a:pt x="201" y="79"/>
                  <a:pt x="209" y="75"/>
                  <a:pt x="215" y="78"/>
                </a:cubicBezTo>
                <a:cubicBezTo>
                  <a:pt x="221" y="81"/>
                  <a:pt x="228" y="79"/>
                  <a:pt x="231" y="88"/>
                </a:cubicBezTo>
                <a:cubicBezTo>
                  <a:pt x="235" y="97"/>
                  <a:pt x="226" y="101"/>
                  <a:pt x="233" y="134"/>
                </a:cubicBezTo>
                <a:cubicBezTo>
                  <a:pt x="236" y="146"/>
                  <a:pt x="248" y="150"/>
                  <a:pt x="251" y="160"/>
                </a:cubicBezTo>
                <a:cubicBezTo>
                  <a:pt x="254" y="170"/>
                  <a:pt x="245" y="181"/>
                  <a:pt x="249" y="192"/>
                </a:cubicBezTo>
                <a:cubicBezTo>
                  <a:pt x="253" y="203"/>
                  <a:pt x="263" y="219"/>
                  <a:pt x="275" y="226"/>
                </a:cubicBezTo>
                <a:cubicBezTo>
                  <a:pt x="287" y="233"/>
                  <a:pt x="311" y="230"/>
                  <a:pt x="319" y="236"/>
                </a:cubicBezTo>
                <a:cubicBezTo>
                  <a:pt x="332" y="241"/>
                  <a:pt x="295" y="250"/>
                  <a:pt x="321" y="262"/>
                </a:cubicBezTo>
                <a:cubicBezTo>
                  <a:pt x="327" y="270"/>
                  <a:pt x="342" y="283"/>
                  <a:pt x="357" y="284"/>
                </a:cubicBezTo>
                <a:cubicBezTo>
                  <a:pt x="372" y="285"/>
                  <a:pt x="393" y="260"/>
                  <a:pt x="409" y="266"/>
                </a:cubicBezTo>
                <a:cubicBezTo>
                  <a:pt x="425" y="272"/>
                  <a:pt x="440" y="311"/>
                  <a:pt x="453" y="320"/>
                </a:cubicBezTo>
                <a:cubicBezTo>
                  <a:pt x="465" y="330"/>
                  <a:pt x="455" y="318"/>
                  <a:pt x="487" y="318"/>
                </a:cubicBezTo>
                <a:cubicBezTo>
                  <a:pt x="491" y="325"/>
                  <a:pt x="476" y="354"/>
                  <a:pt x="477" y="362"/>
                </a:cubicBezTo>
                <a:cubicBezTo>
                  <a:pt x="478" y="370"/>
                  <a:pt x="489" y="368"/>
                  <a:pt x="495" y="368"/>
                </a:cubicBezTo>
                <a:cubicBezTo>
                  <a:pt x="501" y="368"/>
                  <a:pt x="506" y="370"/>
                  <a:pt x="511" y="364"/>
                </a:cubicBezTo>
                <a:cubicBezTo>
                  <a:pt x="516" y="358"/>
                  <a:pt x="511" y="334"/>
                  <a:pt x="525" y="330"/>
                </a:cubicBezTo>
                <a:cubicBezTo>
                  <a:pt x="539" y="326"/>
                  <a:pt x="577" y="343"/>
                  <a:pt x="593" y="340"/>
                </a:cubicBezTo>
                <a:cubicBezTo>
                  <a:pt x="609" y="337"/>
                  <a:pt x="615" y="330"/>
                  <a:pt x="621" y="314"/>
                </a:cubicBezTo>
                <a:cubicBezTo>
                  <a:pt x="630" y="300"/>
                  <a:pt x="619" y="263"/>
                  <a:pt x="627" y="246"/>
                </a:cubicBezTo>
                <a:cubicBezTo>
                  <a:pt x="632" y="231"/>
                  <a:pt x="644" y="232"/>
                  <a:pt x="651" y="226"/>
                </a:cubicBezTo>
                <a:cubicBezTo>
                  <a:pt x="658" y="220"/>
                  <a:pt x="660" y="216"/>
                  <a:pt x="667" y="212"/>
                </a:cubicBezTo>
                <a:cubicBezTo>
                  <a:pt x="674" y="208"/>
                  <a:pt x="687" y="205"/>
                  <a:pt x="695" y="200"/>
                </a:cubicBezTo>
                <a:cubicBezTo>
                  <a:pt x="701" y="194"/>
                  <a:pt x="706" y="190"/>
                  <a:pt x="713" y="184"/>
                </a:cubicBezTo>
                <a:cubicBezTo>
                  <a:pt x="717" y="177"/>
                  <a:pt x="706" y="145"/>
                  <a:pt x="717" y="156"/>
                </a:cubicBezTo>
                <a:cubicBezTo>
                  <a:pt x="734" y="182"/>
                  <a:pt x="767" y="220"/>
                  <a:pt x="781" y="248"/>
                </a:cubicBezTo>
                <a:cubicBezTo>
                  <a:pt x="784" y="254"/>
                  <a:pt x="778" y="235"/>
                  <a:pt x="775" y="230"/>
                </a:cubicBezTo>
                <a:cubicBezTo>
                  <a:pt x="770" y="221"/>
                  <a:pt x="761" y="210"/>
                  <a:pt x="755" y="202"/>
                </a:cubicBezTo>
                <a:cubicBezTo>
                  <a:pt x="750" y="188"/>
                  <a:pt x="750" y="185"/>
                  <a:pt x="741" y="174"/>
                </a:cubicBezTo>
                <a:cubicBezTo>
                  <a:pt x="734" y="166"/>
                  <a:pt x="717" y="159"/>
                  <a:pt x="707" y="15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98960" y="3335400"/>
            <a:ext cx="1444680" cy="1336680"/>
          </a:xfrm>
          <a:custGeom>
            <a:avLst/>
            <a:gdLst/>
            <a:ahLst/>
            <a:rect l="l" t="t" r="r" b="b"/>
            <a:pathLst>
              <a:path w="910" h="842">
                <a:moveTo>
                  <a:pt x="584" y="0"/>
                </a:moveTo>
                <a:cubicBezTo>
                  <a:pt x="604" y="2"/>
                  <a:pt x="625" y="3"/>
                  <a:pt x="644" y="9"/>
                </a:cubicBezTo>
                <a:cubicBezTo>
                  <a:pt x="652" y="11"/>
                  <a:pt x="688" y="49"/>
                  <a:pt x="700" y="57"/>
                </a:cubicBezTo>
                <a:cubicBezTo>
                  <a:pt x="716" y="70"/>
                  <a:pt x="714" y="78"/>
                  <a:pt x="728" y="84"/>
                </a:cubicBezTo>
                <a:cubicBezTo>
                  <a:pt x="739" y="88"/>
                  <a:pt x="758" y="82"/>
                  <a:pt x="767" y="83"/>
                </a:cubicBezTo>
                <a:cubicBezTo>
                  <a:pt x="776" y="84"/>
                  <a:pt x="777" y="85"/>
                  <a:pt x="782" y="90"/>
                </a:cubicBezTo>
                <a:cubicBezTo>
                  <a:pt x="787" y="93"/>
                  <a:pt x="787" y="105"/>
                  <a:pt x="796" y="111"/>
                </a:cubicBezTo>
                <a:cubicBezTo>
                  <a:pt x="804" y="118"/>
                  <a:pt x="823" y="116"/>
                  <a:pt x="832" y="132"/>
                </a:cubicBezTo>
                <a:cubicBezTo>
                  <a:pt x="853" y="156"/>
                  <a:pt x="860" y="150"/>
                  <a:pt x="872" y="162"/>
                </a:cubicBezTo>
                <a:cubicBezTo>
                  <a:pt x="886" y="176"/>
                  <a:pt x="890" y="177"/>
                  <a:pt x="904" y="218"/>
                </a:cubicBezTo>
                <a:cubicBezTo>
                  <a:pt x="902" y="236"/>
                  <a:pt x="910" y="240"/>
                  <a:pt x="878" y="266"/>
                </a:cubicBezTo>
                <a:cubicBezTo>
                  <a:pt x="871" y="279"/>
                  <a:pt x="867" y="288"/>
                  <a:pt x="854" y="294"/>
                </a:cubicBezTo>
                <a:cubicBezTo>
                  <a:pt x="844" y="301"/>
                  <a:pt x="829" y="312"/>
                  <a:pt x="817" y="315"/>
                </a:cubicBezTo>
                <a:cubicBezTo>
                  <a:pt x="805" y="318"/>
                  <a:pt x="793" y="312"/>
                  <a:pt x="781" y="315"/>
                </a:cubicBezTo>
                <a:cubicBezTo>
                  <a:pt x="769" y="318"/>
                  <a:pt x="753" y="328"/>
                  <a:pt x="742" y="333"/>
                </a:cubicBezTo>
                <a:cubicBezTo>
                  <a:pt x="731" y="338"/>
                  <a:pt x="719" y="344"/>
                  <a:pt x="712" y="344"/>
                </a:cubicBezTo>
                <a:cubicBezTo>
                  <a:pt x="705" y="344"/>
                  <a:pt x="704" y="338"/>
                  <a:pt x="698" y="336"/>
                </a:cubicBezTo>
                <a:cubicBezTo>
                  <a:pt x="692" y="336"/>
                  <a:pt x="686" y="330"/>
                  <a:pt x="674" y="333"/>
                </a:cubicBezTo>
                <a:cubicBezTo>
                  <a:pt x="666" y="335"/>
                  <a:pt x="658" y="344"/>
                  <a:pt x="650" y="347"/>
                </a:cubicBezTo>
                <a:cubicBezTo>
                  <a:pt x="642" y="350"/>
                  <a:pt x="633" y="352"/>
                  <a:pt x="626" y="354"/>
                </a:cubicBezTo>
                <a:cubicBezTo>
                  <a:pt x="619" y="357"/>
                  <a:pt x="613" y="354"/>
                  <a:pt x="608" y="359"/>
                </a:cubicBezTo>
                <a:cubicBezTo>
                  <a:pt x="603" y="364"/>
                  <a:pt x="597" y="374"/>
                  <a:pt x="596" y="386"/>
                </a:cubicBezTo>
                <a:cubicBezTo>
                  <a:pt x="593" y="397"/>
                  <a:pt x="603" y="416"/>
                  <a:pt x="602" y="434"/>
                </a:cubicBezTo>
                <a:cubicBezTo>
                  <a:pt x="602" y="445"/>
                  <a:pt x="599" y="444"/>
                  <a:pt x="596" y="450"/>
                </a:cubicBezTo>
                <a:cubicBezTo>
                  <a:pt x="593" y="456"/>
                  <a:pt x="585" y="463"/>
                  <a:pt x="584" y="470"/>
                </a:cubicBezTo>
                <a:cubicBezTo>
                  <a:pt x="583" y="477"/>
                  <a:pt x="585" y="486"/>
                  <a:pt x="590" y="492"/>
                </a:cubicBezTo>
                <a:cubicBezTo>
                  <a:pt x="593" y="506"/>
                  <a:pt x="608" y="494"/>
                  <a:pt x="614" y="507"/>
                </a:cubicBezTo>
                <a:cubicBezTo>
                  <a:pt x="677" y="542"/>
                  <a:pt x="636" y="571"/>
                  <a:pt x="644" y="594"/>
                </a:cubicBezTo>
                <a:cubicBezTo>
                  <a:pt x="649" y="609"/>
                  <a:pt x="679" y="596"/>
                  <a:pt x="718" y="641"/>
                </a:cubicBezTo>
                <a:cubicBezTo>
                  <a:pt x="748" y="705"/>
                  <a:pt x="733" y="697"/>
                  <a:pt x="742" y="723"/>
                </a:cubicBezTo>
                <a:cubicBezTo>
                  <a:pt x="744" y="742"/>
                  <a:pt x="739" y="764"/>
                  <a:pt x="734" y="773"/>
                </a:cubicBezTo>
                <a:cubicBezTo>
                  <a:pt x="729" y="782"/>
                  <a:pt x="719" y="771"/>
                  <a:pt x="713" y="776"/>
                </a:cubicBezTo>
                <a:cubicBezTo>
                  <a:pt x="707" y="781"/>
                  <a:pt x="705" y="803"/>
                  <a:pt x="695" y="806"/>
                </a:cubicBezTo>
                <a:cubicBezTo>
                  <a:pt x="695" y="818"/>
                  <a:pt x="688" y="842"/>
                  <a:pt x="653" y="795"/>
                </a:cubicBezTo>
                <a:cubicBezTo>
                  <a:pt x="643" y="792"/>
                  <a:pt x="623" y="775"/>
                  <a:pt x="620" y="768"/>
                </a:cubicBezTo>
                <a:cubicBezTo>
                  <a:pt x="612" y="759"/>
                  <a:pt x="604" y="765"/>
                  <a:pt x="596" y="755"/>
                </a:cubicBezTo>
                <a:cubicBezTo>
                  <a:pt x="588" y="744"/>
                  <a:pt x="577" y="715"/>
                  <a:pt x="571" y="704"/>
                </a:cubicBezTo>
                <a:cubicBezTo>
                  <a:pt x="567" y="698"/>
                  <a:pt x="563" y="696"/>
                  <a:pt x="560" y="690"/>
                </a:cubicBezTo>
                <a:cubicBezTo>
                  <a:pt x="557" y="684"/>
                  <a:pt x="546" y="684"/>
                  <a:pt x="541" y="680"/>
                </a:cubicBezTo>
                <a:cubicBezTo>
                  <a:pt x="531" y="673"/>
                  <a:pt x="530" y="664"/>
                  <a:pt x="518" y="660"/>
                </a:cubicBezTo>
                <a:cubicBezTo>
                  <a:pt x="512" y="658"/>
                  <a:pt x="485" y="644"/>
                  <a:pt x="485" y="644"/>
                </a:cubicBezTo>
                <a:cubicBezTo>
                  <a:pt x="476" y="641"/>
                  <a:pt x="476" y="636"/>
                  <a:pt x="458" y="639"/>
                </a:cubicBezTo>
                <a:cubicBezTo>
                  <a:pt x="448" y="640"/>
                  <a:pt x="440" y="646"/>
                  <a:pt x="427" y="650"/>
                </a:cubicBezTo>
                <a:cubicBezTo>
                  <a:pt x="414" y="654"/>
                  <a:pt x="391" y="658"/>
                  <a:pt x="379" y="663"/>
                </a:cubicBezTo>
                <a:cubicBezTo>
                  <a:pt x="372" y="664"/>
                  <a:pt x="361" y="673"/>
                  <a:pt x="356" y="678"/>
                </a:cubicBezTo>
                <a:cubicBezTo>
                  <a:pt x="331" y="700"/>
                  <a:pt x="338" y="702"/>
                  <a:pt x="314" y="725"/>
                </a:cubicBezTo>
                <a:cubicBezTo>
                  <a:pt x="304" y="729"/>
                  <a:pt x="304" y="711"/>
                  <a:pt x="299" y="705"/>
                </a:cubicBezTo>
                <a:cubicBezTo>
                  <a:pt x="294" y="699"/>
                  <a:pt x="293" y="683"/>
                  <a:pt x="283" y="686"/>
                </a:cubicBezTo>
                <a:cubicBezTo>
                  <a:pt x="273" y="689"/>
                  <a:pt x="250" y="719"/>
                  <a:pt x="241" y="725"/>
                </a:cubicBezTo>
                <a:cubicBezTo>
                  <a:pt x="233" y="732"/>
                  <a:pt x="236" y="724"/>
                  <a:pt x="232" y="722"/>
                </a:cubicBezTo>
                <a:cubicBezTo>
                  <a:pt x="228" y="720"/>
                  <a:pt x="227" y="711"/>
                  <a:pt x="220" y="711"/>
                </a:cubicBezTo>
                <a:cubicBezTo>
                  <a:pt x="213" y="711"/>
                  <a:pt x="202" y="722"/>
                  <a:pt x="191" y="720"/>
                </a:cubicBezTo>
                <a:cubicBezTo>
                  <a:pt x="180" y="718"/>
                  <a:pt x="159" y="704"/>
                  <a:pt x="152" y="696"/>
                </a:cubicBezTo>
                <a:cubicBezTo>
                  <a:pt x="143" y="690"/>
                  <a:pt x="152" y="677"/>
                  <a:pt x="148" y="671"/>
                </a:cubicBezTo>
                <a:cubicBezTo>
                  <a:pt x="144" y="665"/>
                  <a:pt x="135" y="669"/>
                  <a:pt x="128" y="660"/>
                </a:cubicBezTo>
                <a:cubicBezTo>
                  <a:pt x="115" y="647"/>
                  <a:pt x="112" y="631"/>
                  <a:pt x="104" y="614"/>
                </a:cubicBezTo>
                <a:cubicBezTo>
                  <a:pt x="97" y="601"/>
                  <a:pt x="100" y="567"/>
                  <a:pt x="64" y="575"/>
                </a:cubicBezTo>
                <a:cubicBezTo>
                  <a:pt x="54" y="568"/>
                  <a:pt x="29" y="571"/>
                  <a:pt x="17" y="567"/>
                </a:cubicBezTo>
                <a:cubicBezTo>
                  <a:pt x="11" y="565"/>
                  <a:pt x="4" y="536"/>
                  <a:pt x="5" y="539"/>
                </a:cubicBezTo>
                <a:cubicBezTo>
                  <a:pt x="3" y="529"/>
                  <a:pt x="0" y="523"/>
                  <a:pt x="2" y="513"/>
                </a:cubicBezTo>
                <a:cubicBezTo>
                  <a:pt x="5" y="503"/>
                  <a:pt x="19" y="491"/>
                  <a:pt x="26" y="479"/>
                </a:cubicBezTo>
                <a:cubicBezTo>
                  <a:pt x="31" y="465"/>
                  <a:pt x="44" y="444"/>
                  <a:pt x="44" y="444"/>
                </a:cubicBezTo>
                <a:cubicBezTo>
                  <a:pt x="49" y="409"/>
                  <a:pt x="50" y="394"/>
                  <a:pt x="68" y="366"/>
                </a:cubicBezTo>
                <a:cubicBezTo>
                  <a:pt x="74" y="337"/>
                  <a:pt x="69" y="326"/>
                  <a:pt x="97" y="317"/>
                </a:cubicBezTo>
                <a:cubicBezTo>
                  <a:pt x="106" y="312"/>
                  <a:pt x="98" y="332"/>
                  <a:pt x="124" y="338"/>
                </a:cubicBezTo>
                <a:cubicBezTo>
                  <a:pt x="134" y="344"/>
                  <a:pt x="137" y="352"/>
                  <a:pt x="158" y="353"/>
                </a:cubicBezTo>
                <a:cubicBezTo>
                  <a:pt x="179" y="354"/>
                  <a:pt x="229" y="338"/>
                  <a:pt x="251" y="345"/>
                </a:cubicBezTo>
                <a:cubicBezTo>
                  <a:pt x="266" y="374"/>
                  <a:pt x="260" y="380"/>
                  <a:pt x="289" y="395"/>
                </a:cubicBezTo>
                <a:cubicBezTo>
                  <a:pt x="328" y="382"/>
                  <a:pt x="314" y="361"/>
                  <a:pt x="353" y="348"/>
                </a:cubicBezTo>
                <a:cubicBezTo>
                  <a:pt x="360" y="319"/>
                  <a:pt x="370" y="348"/>
                  <a:pt x="382" y="305"/>
                </a:cubicBezTo>
                <a:cubicBezTo>
                  <a:pt x="384" y="297"/>
                  <a:pt x="397" y="293"/>
                  <a:pt x="404" y="288"/>
                </a:cubicBezTo>
                <a:cubicBezTo>
                  <a:pt x="418" y="279"/>
                  <a:pt x="452" y="276"/>
                  <a:pt x="452" y="276"/>
                </a:cubicBezTo>
                <a:cubicBezTo>
                  <a:pt x="456" y="270"/>
                  <a:pt x="459" y="263"/>
                  <a:pt x="464" y="258"/>
                </a:cubicBezTo>
                <a:cubicBezTo>
                  <a:pt x="469" y="253"/>
                  <a:pt x="458" y="273"/>
                  <a:pt x="478" y="230"/>
                </a:cubicBezTo>
                <a:lnTo>
                  <a:pt x="499" y="216"/>
                </a:lnTo>
                <a:lnTo>
                  <a:pt x="517" y="219"/>
                </a:lnTo>
                <a:lnTo>
                  <a:pt x="524" y="192"/>
                </a:lnTo>
                <a:lnTo>
                  <a:pt x="538" y="162"/>
                </a:lnTo>
                <a:lnTo>
                  <a:pt x="560" y="150"/>
                </a:lnTo>
                <a:lnTo>
                  <a:pt x="581" y="144"/>
                </a:lnTo>
                <a:lnTo>
                  <a:pt x="587" y="114"/>
                </a:lnTo>
                <a:lnTo>
                  <a:pt x="580" y="90"/>
                </a:lnTo>
                <a:lnTo>
                  <a:pt x="551" y="63"/>
                </a:lnTo>
                <a:lnTo>
                  <a:pt x="559" y="45"/>
                </a:lnTo>
                <a:lnTo>
                  <a:pt x="581" y="20"/>
                </a:lnTo>
                <a:lnTo>
                  <a:pt x="58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19840" y="2954160"/>
            <a:ext cx="2100240" cy="1393920"/>
          </a:xfrm>
          <a:custGeom>
            <a:avLst/>
            <a:gdLst/>
            <a:ahLst/>
            <a:rect l="l" t="t" r="r" b="b"/>
            <a:pathLst>
              <a:path w="1323" h="878">
                <a:moveTo>
                  <a:pt x="205" y="330"/>
                </a:moveTo>
                <a:cubicBezTo>
                  <a:pt x="207" y="327"/>
                  <a:pt x="211" y="325"/>
                  <a:pt x="213" y="320"/>
                </a:cubicBezTo>
                <a:cubicBezTo>
                  <a:pt x="215" y="315"/>
                  <a:pt x="218" y="306"/>
                  <a:pt x="217" y="297"/>
                </a:cubicBezTo>
                <a:cubicBezTo>
                  <a:pt x="216" y="288"/>
                  <a:pt x="206" y="281"/>
                  <a:pt x="207" y="264"/>
                </a:cubicBezTo>
                <a:cubicBezTo>
                  <a:pt x="199" y="251"/>
                  <a:pt x="219" y="218"/>
                  <a:pt x="222" y="197"/>
                </a:cubicBezTo>
                <a:cubicBezTo>
                  <a:pt x="226" y="166"/>
                  <a:pt x="265" y="160"/>
                  <a:pt x="288" y="158"/>
                </a:cubicBezTo>
                <a:cubicBezTo>
                  <a:pt x="314" y="149"/>
                  <a:pt x="300" y="138"/>
                  <a:pt x="294" y="117"/>
                </a:cubicBezTo>
                <a:cubicBezTo>
                  <a:pt x="293" y="115"/>
                  <a:pt x="290" y="102"/>
                  <a:pt x="280" y="101"/>
                </a:cubicBezTo>
                <a:cubicBezTo>
                  <a:pt x="268" y="97"/>
                  <a:pt x="262" y="81"/>
                  <a:pt x="250" y="78"/>
                </a:cubicBezTo>
                <a:cubicBezTo>
                  <a:pt x="238" y="66"/>
                  <a:pt x="213" y="75"/>
                  <a:pt x="198" y="47"/>
                </a:cubicBezTo>
                <a:cubicBezTo>
                  <a:pt x="193" y="31"/>
                  <a:pt x="208" y="36"/>
                  <a:pt x="219" y="30"/>
                </a:cubicBezTo>
                <a:cubicBezTo>
                  <a:pt x="225" y="26"/>
                  <a:pt x="250" y="18"/>
                  <a:pt x="250" y="18"/>
                </a:cubicBezTo>
                <a:cubicBezTo>
                  <a:pt x="257" y="17"/>
                  <a:pt x="263" y="14"/>
                  <a:pt x="276" y="18"/>
                </a:cubicBezTo>
                <a:cubicBezTo>
                  <a:pt x="289" y="22"/>
                  <a:pt x="309" y="42"/>
                  <a:pt x="327" y="39"/>
                </a:cubicBezTo>
                <a:cubicBezTo>
                  <a:pt x="370" y="34"/>
                  <a:pt x="355" y="10"/>
                  <a:pt x="385" y="0"/>
                </a:cubicBezTo>
                <a:cubicBezTo>
                  <a:pt x="405" y="15"/>
                  <a:pt x="409" y="14"/>
                  <a:pt x="429" y="30"/>
                </a:cubicBezTo>
                <a:cubicBezTo>
                  <a:pt x="445" y="62"/>
                  <a:pt x="472" y="64"/>
                  <a:pt x="486" y="78"/>
                </a:cubicBezTo>
                <a:cubicBezTo>
                  <a:pt x="499" y="91"/>
                  <a:pt x="529" y="120"/>
                  <a:pt x="529" y="120"/>
                </a:cubicBezTo>
                <a:cubicBezTo>
                  <a:pt x="540" y="128"/>
                  <a:pt x="559" y="150"/>
                  <a:pt x="573" y="155"/>
                </a:cubicBezTo>
                <a:cubicBezTo>
                  <a:pt x="619" y="159"/>
                  <a:pt x="597" y="191"/>
                  <a:pt x="702" y="174"/>
                </a:cubicBezTo>
                <a:cubicBezTo>
                  <a:pt x="747" y="182"/>
                  <a:pt x="749" y="198"/>
                  <a:pt x="772" y="204"/>
                </a:cubicBezTo>
                <a:cubicBezTo>
                  <a:pt x="780" y="206"/>
                  <a:pt x="804" y="203"/>
                  <a:pt x="804" y="203"/>
                </a:cubicBezTo>
                <a:cubicBezTo>
                  <a:pt x="848" y="201"/>
                  <a:pt x="851" y="201"/>
                  <a:pt x="888" y="189"/>
                </a:cubicBezTo>
                <a:cubicBezTo>
                  <a:pt x="907" y="188"/>
                  <a:pt x="913" y="197"/>
                  <a:pt x="918" y="204"/>
                </a:cubicBezTo>
                <a:cubicBezTo>
                  <a:pt x="923" y="211"/>
                  <a:pt x="912" y="224"/>
                  <a:pt x="916" y="230"/>
                </a:cubicBezTo>
                <a:cubicBezTo>
                  <a:pt x="921" y="238"/>
                  <a:pt x="938" y="238"/>
                  <a:pt x="942" y="243"/>
                </a:cubicBezTo>
                <a:cubicBezTo>
                  <a:pt x="946" y="248"/>
                  <a:pt x="939" y="251"/>
                  <a:pt x="937" y="258"/>
                </a:cubicBezTo>
                <a:cubicBezTo>
                  <a:pt x="939" y="270"/>
                  <a:pt x="927" y="275"/>
                  <a:pt x="928" y="285"/>
                </a:cubicBezTo>
                <a:cubicBezTo>
                  <a:pt x="929" y="295"/>
                  <a:pt x="937" y="313"/>
                  <a:pt x="943" y="317"/>
                </a:cubicBezTo>
                <a:cubicBezTo>
                  <a:pt x="944" y="321"/>
                  <a:pt x="964" y="310"/>
                  <a:pt x="967" y="311"/>
                </a:cubicBezTo>
                <a:cubicBezTo>
                  <a:pt x="993" y="326"/>
                  <a:pt x="1006" y="321"/>
                  <a:pt x="1033" y="324"/>
                </a:cubicBezTo>
                <a:cubicBezTo>
                  <a:pt x="1059" y="333"/>
                  <a:pt x="1041" y="330"/>
                  <a:pt x="1071" y="345"/>
                </a:cubicBezTo>
                <a:cubicBezTo>
                  <a:pt x="1083" y="351"/>
                  <a:pt x="1096" y="361"/>
                  <a:pt x="1110" y="363"/>
                </a:cubicBezTo>
                <a:cubicBezTo>
                  <a:pt x="1121" y="367"/>
                  <a:pt x="1134" y="364"/>
                  <a:pt x="1146" y="366"/>
                </a:cubicBezTo>
                <a:cubicBezTo>
                  <a:pt x="1158" y="368"/>
                  <a:pt x="1168" y="367"/>
                  <a:pt x="1183" y="375"/>
                </a:cubicBezTo>
                <a:cubicBezTo>
                  <a:pt x="1207" y="383"/>
                  <a:pt x="1216" y="404"/>
                  <a:pt x="1237" y="414"/>
                </a:cubicBezTo>
                <a:cubicBezTo>
                  <a:pt x="1255" y="423"/>
                  <a:pt x="1280" y="406"/>
                  <a:pt x="1293" y="411"/>
                </a:cubicBezTo>
                <a:cubicBezTo>
                  <a:pt x="1306" y="416"/>
                  <a:pt x="1317" y="434"/>
                  <a:pt x="1318" y="444"/>
                </a:cubicBezTo>
                <a:cubicBezTo>
                  <a:pt x="1323" y="460"/>
                  <a:pt x="1311" y="466"/>
                  <a:pt x="1297" y="471"/>
                </a:cubicBezTo>
                <a:cubicBezTo>
                  <a:pt x="1293" y="478"/>
                  <a:pt x="1282" y="480"/>
                  <a:pt x="1279" y="488"/>
                </a:cubicBezTo>
                <a:cubicBezTo>
                  <a:pt x="1276" y="496"/>
                  <a:pt x="1266" y="510"/>
                  <a:pt x="1266" y="510"/>
                </a:cubicBezTo>
                <a:cubicBezTo>
                  <a:pt x="1261" y="554"/>
                  <a:pt x="1275" y="553"/>
                  <a:pt x="1279" y="569"/>
                </a:cubicBezTo>
                <a:cubicBezTo>
                  <a:pt x="1282" y="583"/>
                  <a:pt x="1287" y="603"/>
                  <a:pt x="1293" y="612"/>
                </a:cubicBezTo>
                <a:cubicBezTo>
                  <a:pt x="1299" y="621"/>
                  <a:pt x="1307" y="610"/>
                  <a:pt x="1312" y="621"/>
                </a:cubicBezTo>
                <a:cubicBezTo>
                  <a:pt x="1318" y="647"/>
                  <a:pt x="1320" y="639"/>
                  <a:pt x="1321" y="680"/>
                </a:cubicBezTo>
                <a:cubicBezTo>
                  <a:pt x="1318" y="688"/>
                  <a:pt x="1305" y="692"/>
                  <a:pt x="1297" y="690"/>
                </a:cubicBezTo>
                <a:cubicBezTo>
                  <a:pt x="1287" y="687"/>
                  <a:pt x="1267" y="681"/>
                  <a:pt x="1267" y="681"/>
                </a:cubicBezTo>
                <a:cubicBezTo>
                  <a:pt x="1240" y="683"/>
                  <a:pt x="1219" y="683"/>
                  <a:pt x="1206" y="711"/>
                </a:cubicBezTo>
                <a:cubicBezTo>
                  <a:pt x="1197" y="729"/>
                  <a:pt x="1173" y="760"/>
                  <a:pt x="1152" y="767"/>
                </a:cubicBezTo>
                <a:cubicBezTo>
                  <a:pt x="1136" y="781"/>
                  <a:pt x="1131" y="782"/>
                  <a:pt x="1117" y="788"/>
                </a:cubicBezTo>
                <a:cubicBezTo>
                  <a:pt x="1103" y="794"/>
                  <a:pt x="1081" y="799"/>
                  <a:pt x="1069" y="804"/>
                </a:cubicBezTo>
                <a:cubicBezTo>
                  <a:pt x="1049" y="812"/>
                  <a:pt x="1056" y="806"/>
                  <a:pt x="1044" y="816"/>
                </a:cubicBezTo>
                <a:cubicBezTo>
                  <a:pt x="1037" y="820"/>
                  <a:pt x="1033" y="827"/>
                  <a:pt x="1027" y="830"/>
                </a:cubicBezTo>
                <a:cubicBezTo>
                  <a:pt x="1021" y="833"/>
                  <a:pt x="1014" y="830"/>
                  <a:pt x="1009" y="836"/>
                </a:cubicBezTo>
                <a:cubicBezTo>
                  <a:pt x="1004" y="842"/>
                  <a:pt x="1003" y="861"/>
                  <a:pt x="996" y="866"/>
                </a:cubicBezTo>
                <a:cubicBezTo>
                  <a:pt x="989" y="870"/>
                  <a:pt x="975" y="865"/>
                  <a:pt x="967" y="869"/>
                </a:cubicBezTo>
                <a:cubicBezTo>
                  <a:pt x="956" y="870"/>
                  <a:pt x="932" y="876"/>
                  <a:pt x="922" y="872"/>
                </a:cubicBezTo>
                <a:cubicBezTo>
                  <a:pt x="912" y="868"/>
                  <a:pt x="906" y="858"/>
                  <a:pt x="904" y="843"/>
                </a:cubicBezTo>
                <a:cubicBezTo>
                  <a:pt x="895" y="827"/>
                  <a:pt x="908" y="795"/>
                  <a:pt x="907" y="780"/>
                </a:cubicBezTo>
                <a:cubicBezTo>
                  <a:pt x="906" y="765"/>
                  <a:pt x="904" y="754"/>
                  <a:pt x="897" y="753"/>
                </a:cubicBezTo>
                <a:cubicBezTo>
                  <a:pt x="867" y="761"/>
                  <a:pt x="881" y="755"/>
                  <a:pt x="865" y="771"/>
                </a:cubicBezTo>
                <a:cubicBezTo>
                  <a:pt x="857" y="779"/>
                  <a:pt x="837" y="769"/>
                  <a:pt x="826" y="771"/>
                </a:cubicBezTo>
                <a:cubicBezTo>
                  <a:pt x="813" y="772"/>
                  <a:pt x="813" y="764"/>
                  <a:pt x="807" y="761"/>
                </a:cubicBezTo>
                <a:cubicBezTo>
                  <a:pt x="801" y="758"/>
                  <a:pt x="797" y="755"/>
                  <a:pt x="790" y="755"/>
                </a:cubicBezTo>
                <a:cubicBezTo>
                  <a:pt x="783" y="755"/>
                  <a:pt x="771" y="761"/>
                  <a:pt x="763" y="762"/>
                </a:cubicBezTo>
                <a:cubicBezTo>
                  <a:pt x="755" y="759"/>
                  <a:pt x="739" y="761"/>
                  <a:pt x="739" y="761"/>
                </a:cubicBezTo>
                <a:cubicBezTo>
                  <a:pt x="708" y="764"/>
                  <a:pt x="704" y="777"/>
                  <a:pt x="681" y="785"/>
                </a:cubicBezTo>
                <a:cubicBezTo>
                  <a:pt x="660" y="782"/>
                  <a:pt x="636" y="769"/>
                  <a:pt x="618" y="758"/>
                </a:cubicBezTo>
                <a:cubicBezTo>
                  <a:pt x="600" y="747"/>
                  <a:pt x="584" y="727"/>
                  <a:pt x="574" y="719"/>
                </a:cubicBezTo>
                <a:cubicBezTo>
                  <a:pt x="564" y="711"/>
                  <a:pt x="563" y="714"/>
                  <a:pt x="555" y="710"/>
                </a:cubicBezTo>
                <a:cubicBezTo>
                  <a:pt x="528" y="699"/>
                  <a:pt x="538" y="696"/>
                  <a:pt x="526" y="695"/>
                </a:cubicBezTo>
                <a:cubicBezTo>
                  <a:pt x="514" y="694"/>
                  <a:pt x="499" y="704"/>
                  <a:pt x="484" y="702"/>
                </a:cubicBezTo>
                <a:cubicBezTo>
                  <a:pt x="471" y="698"/>
                  <a:pt x="460" y="701"/>
                  <a:pt x="438" y="684"/>
                </a:cubicBezTo>
                <a:cubicBezTo>
                  <a:pt x="430" y="681"/>
                  <a:pt x="414" y="692"/>
                  <a:pt x="414" y="692"/>
                </a:cubicBezTo>
                <a:cubicBezTo>
                  <a:pt x="404" y="693"/>
                  <a:pt x="391" y="686"/>
                  <a:pt x="382" y="689"/>
                </a:cubicBezTo>
                <a:cubicBezTo>
                  <a:pt x="373" y="692"/>
                  <a:pt x="358" y="699"/>
                  <a:pt x="358" y="708"/>
                </a:cubicBezTo>
                <a:cubicBezTo>
                  <a:pt x="381" y="720"/>
                  <a:pt x="384" y="732"/>
                  <a:pt x="385" y="741"/>
                </a:cubicBezTo>
                <a:cubicBezTo>
                  <a:pt x="386" y="750"/>
                  <a:pt x="373" y="759"/>
                  <a:pt x="364" y="764"/>
                </a:cubicBezTo>
                <a:cubicBezTo>
                  <a:pt x="355" y="769"/>
                  <a:pt x="344" y="769"/>
                  <a:pt x="331" y="770"/>
                </a:cubicBezTo>
                <a:cubicBezTo>
                  <a:pt x="318" y="771"/>
                  <a:pt x="297" y="769"/>
                  <a:pt x="286" y="771"/>
                </a:cubicBezTo>
                <a:cubicBezTo>
                  <a:pt x="269" y="780"/>
                  <a:pt x="271" y="781"/>
                  <a:pt x="264" y="782"/>
                </a:cubicBezTo>
                <a:cubicBezTo>
                  <a:pt x="257" y="783"/>
                  <a:pt x="256" y="776"/>
                  <a:pt x="246" y="779"/>
                </a:cubicBezTo>
                <a:cubicBezTo>
                  <a:pt x="236" y="782"/>
                  <a:pt x="216" y="796"/>
                  <a:pt x="205" y="798"/>
                </a:cubicBezTo>
                <a:cubicBezTo>
                  <a:pt x="194" y="800"/>
                  <a:pt x="185" y="793"/>
                  <a:pt x="178" y="794"/>
                </a:cubicBezTo>
                <a:cubicBezTo>
                  <a:pt x="158" y="800"/>
                  <a:pt x="170" y="795"/>
                  <a:pt x="163" y="803"/>
                </a:cubicBezTo>
                <a:cubicBezTo>
                  <a:pt x="156" y="811"/>
                  <a:pt x="139" y="833"/>
                  <a:pt x="135" y="845"/>
                </a:cubicBezTo>
                <a:cubicBezTo>
                  <a:pt x="131" y="851"/>
                  <a:pt x="142" y="871"/>
                  <a:pt x="136" y="876"/>
                </a:cubicBezTo>
                <a:cubicBezTo>
                  <a:pt x="133" y="878"/>
                  <a:pt x="113" y="861"/>
                  <a:pt x="112" y="860"/>
                </a:cubicBezTo>
                <a:cubicBezTo>
                  <a:pt x="85" y="836"/>
                  <a:pt x="96" y="854"/>
                  <a:pt x="73" y="843"/>
                </a:cubicBezTo>
                <a:cubicBezTo>
                  <a:pt x="56" y="817"/>
                  <a:pt x="65" y="832"/>
                  <a:pt x="69" y="798"/>
                </a:cubicBezTo>
                <a:cubicBezTo>
                  <a:pt x="68" y="783"/>
                  <a:pt x="61" y="776"/>
                  <a:pt x="57" y="762"/>
                </a:cubicBezTo>
                <a:cubicBezTo>
                  <a:pt x="56" y="758"/>
                  <a:pt x="49" y="753"/>
                  <a:pt x="45" y="752"/>
                </a:cubicBezTo>
                <a:cubicBezTo>
                  <a:pt x="31" y="747"/>
                  <a:pt x="22" y="737"/>
                  <a:pt x="7" y="732"/>
                </a:cubicBezTo>
                <a:cubicBezTo>
                  <a:pt x="0" y="725"/>
                  <a:pt x="1" y="719"/>
                  <a:pt x="3" y="710"/>
                </a:cubicBezTo>
                <a:cubicBezTo>
                  <a:pt x="5" y="701"/>
                  <a:pt x="19" y="686"/>
                  <a:pt x="22" y="675"/>
                </a:cubicBezTo>
                <a:cubicBezTo>
                  <a:pt x="23" y="660"/>
                  <a:pt x="20" y="651"/>
                  <a:pt x="19" y="642"/>
                </a:cubicBezTo>
                <a:cubicBezTo>
                  <a:pt x="18" y="632"/>
                  <a:pt x="17" y="625"/>
                  <a:pt x="19" y="617"/>
                </a:cubicBezTo>
                <a:cubicBezTo>
                  <a:pt x="24" y="607"/>
                  <a:pt x="19" y="597"/>
                  <a:pt x="30" y="596"/>
                </a:cubicBezTo>
                <a:cubicBezTo>
                  <a:pt x="51" y="594"/>
                  <a:pt x="81" y="576"/>
                  <a:pt x="102" y="575"/>
                </a:cubicBezTo>
                <a:cubicBezTo>
                  <a:pt x="118" y="568"/>
                  <a:pt x="130" y="583"/>
                  <a:pt x="144" y="581"/>
                </a:cubicBezTo>
                <a:cubicBezTo>
                  <a:pt x="158" y="579"/>
                  <a:pt x="169" y="567"/>
                  <a:pt x="184" y="563"/>
                </a:cubicBezTo>
                <a:cubicBezTo>
                  <a:pt x="206" y="554"/>
                  <a:pt x="224" y="559"/>
                  <a:pt x="237" y="555"/>
                </a:cubicBezTo>
                <a:cubicBezTo>
                  <a:pt x="250" y="551"/>
                  <a:pt x="254" y="545"/>
                  <a:pt x="262" y="540"/>
                </a:cubicBezTo>
                <a:cubicBezTo>
                  <a:pt x="270" y="536"/>
                  <a:pt x="278" y="526"/>
                  <a:pt x="286" y="522"/>
                </a:cubicBezTo>
                <a:cubicBezTo>
                  <a:pt x="290" y="520"/>
                  <a:pt x="295" y="510"/>
                  <a:pt x="295" y="510"/>
                </a:cubicBezTo>
                <a:cubicBezTo>
                  <a:pt x="305" y="495"/>
                  <a:pt x="314" y="487"/>
                  <a:pt x="322" y="471"/>
                </a:cubicBezTo>
                <a:cubicBezTo>
                  <a:pt x="325" y="456"/>
                  <a:pt x="323" y="441"/>
                  <a:pt x="316" y="429"/>
                </a:cubicBezTo>
                <a:cubicBezTo>
                  <a:pt x="309" y="417"/>
                  <a:pt x="294" y="412"/>
                  <a:pt x="282" y="401"/>
                </a:cubicBezTo>
                <a:cubicBezTo>
                  <a:pt x="268" y="384"/>
                  <a:pt x="255" y="373"/>
                  <a:pt x="244" y="365"/>
                </a:cubicBezTo>
                <a:cubicBezTo>
                  <a:pt x="233" y="357"/>
                  <a:pt x="223" y="357"/>
                  <a:pt x="216" y="351"/>
                </a:cubicBezTo>
                <a:cubicBezTo>
                  <a:pt x="209" y="345"/>
                  <a:pt x="204" y="333"/>
                  <a:pt x="202" y="330"/>
                </a:cubicBezTo>
                <a:cubicBezTo>
                  <a:pt x="196" y="311"/>
                  <a:pt x="209" y="326"/>
                  <a:pt x="205" y="33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6040" y="4033800"/>
            <a:ext cx="1522440" cy="1724040"/>
          </a:xfrm>
          <a:custGeom>
            <a:avLst/>
            <a:gdLst/>
            <a:ahLst/>
            <a:rect l="l" t="t" r="r" b="b"/>
            <a:pathLst>
              <a:path w="959" h="1086">
                <a:moveTo>
                  <a:pt x="78" y="340"/>
                </a:moveTo>
                <a:cubicBezTo>
                  <a:pt x="82" y="351"/>
                  <a:pt x="80" y="351"/>
                  <a:pt x="87" y="361"/>
                </a:cubicBezTo>
                <a:cubicBezTo>
                  <a:pt x="90" y="369"/>
                  <a:pt x="99" y="373"/>
                  <a:pt x="99" y="385"/>
                </a:cubicBezTo>
                <a:cubicBezTo>
                  <a:pt x="99" y="397"/>
                  <a:pt x="87" y="416"/>
                  <a:pt x="90" y="432"/>
                </a:cubicBezTo>
                <a:cubicBezTo>
                  <a:pt x="91" y="445"/>
                  <a:pt x="112" y="468"/>
                  <a:pt x="116" y="481"/>
                </a:cubicBezTo>
                <a:cubicBezTo>
                  <a:pt x="115" y="488"/>
                  <a:pt x="112" y="508"/>
                  <a:pt x="108" y="514"/>
                </a:cubicBezTo>
                <a:cubicBezTo>
                  <a:pt x="101" y="526"/>
                  <a:pt x="89" y="526"/>
                  <a:pt x="78" y="529"/>
                </a:cubicBezTo>
                <a:cubicBezTo>
                  <a:pt x="59" y="535"/>
                  <a:pt x="46" y="547"/>
                  <a:pt x="32" y="561"/>
                </a:cubicBezTo>
                <a:cubicBezTo>
                  <a:pt x="20" y="573"/>
                  <a:pt x="9" y="578"/>
                  <a:pt x="3" y="595"/>
                </a:cubicBezTo>
                <a:cubicBezTo>
                  <a:pt x="2" y="598"/>
                  <a:pt x="0" y="604"/>
                  <a:pt x="0" y="604"/>
                </a:cubicBezTo>
                <a:cubicBezTo>
                  <a:pt x="4" y="618"/>
                  <a:pt x="7" y="623"/>
                  <a:pt x="21" y="628"/>
                </a:cubicBezTo>
                <a:cubicBezTo>
                  <a:pt x="35" y="629"/>
                  <a:pt x="64" y="616"/>
                  <a:pt x="78" y="616"/>
                </a:cubicBezTo>
                <a:cubicBezTo>
                  <a:pt x="92" y="616"/>
                  <a:pt x="99" y="618"/>
                  <a:pt x="104" y="627"/>
                </a:cubicBezTo>
                <a:cubicBezTo>
                  <a:pt x="92" y="645"/>
                  <a:pt x="109" y="656"/>
                  <a:pt x="107" y="673"/>
                </a:cubicBezTo>
                <a:cubicBezTo>
                  <a:pt x="105" y="690"/>
                  <a:pt x="89" y="714"/>
                  <a:pt x="89" y="729"/>
                </a:cubicBezTo>
                <a:cubicBezTo>
                  <a:pt x="93" y="751"/>
                  <a:pt x="82" y="748"/>
                  <a:pt x="104" y="763"/>
                </a:cubicBezTo>
                <a:cubicBezTo>
                  <a:pt x="107" y="765"/>
                  <a:pt x="114" y="763"/>
                  <a:pt x="114" y="763"/>
                </a:cubicBezTo>
                <a:cubicBezTo>
                  <a:pt x="118" y="770"/>
                  <a:pt x="129" y="778"/>
                  <a:pt x="135" y="792"/>
                </a:cubicBezTo>
                <a:cubicBezTo>
                  <a:pt x="141" y="806"/>
                  <a:pt x="142" y="839"/>
                  <a:pt x="147" y="849"/>
                </a:cubicBezTo>
                <a:cubicBezTo>
                  <a:pt x="152" y="859"/>
                  <a:pt x="156" y="852"/>
                  <a:pt x="165" y="850"/>
                </a:cubicBezTo>
                <a:cubicBezTo>
                  <a:pt x="193" y="846"/>
                  <a:pt x="177" y="840"/>
                  <a:pt x="201" y="834"/>
                </a:cubicBezTo>
                <a:cubicBezTo>
                  <a:pt x="202" y="824"/>
                  <a:pt x="204" y="802"/>
                  <a:pt x="207" y="793"/>
                </a:cubicBezTo>
                <a:cubicBezTo>
                  <a:pt x="211" y="782"/>
                  <a:pt x="243" y="803"/>
                  <a:pt x="254" y="807"/>
                </a:cubicBezTo>
                <a:cubicBezTo>
                  <a:pt x="265" y="803"/>
                  <a:pt x="281" y="795"/>
                  <a:pt x="281" y="795"/>
                </a:cubicBezTo>
                <a:cubicBezTo>
                  <a:pt x="292" y="778"/>
                  <a:pt x="316" y="790"/>
                  <a:pt x="333" y="796"/>
                </a:cubicBezTo>
                <a:cubicBezTo>
                  <a:pt x="344" y="795"/>
                  <a:pt x="325" y="794"/>
                  <a:pt x="336" y="792"/>
                </a:cubicBezTo>
                <a:cubicBezTo>
                  <a:pt x="343" y="791"/>
                  <a:pt x="350" y="789"/>
                  <a:pt x="357" y="787"/>
                </a:cubicBezTo>
                <a:cubicBezTo>
                  <a:pt x="364" y="785"/>
                  <a:pt x="373" y="782"/>
                  <a:pt x="378" y="778"/>
                </a:cubicBezTo>
                <a:cubicBezTo>
                  <a:pt x="384" y="775"/>
                  <a:pt x="380" y="763"/>
                  <a:pt x="387" y="762"/>
                </a:cubicBezTo>
                <a:cubicBezTo>
                  <a:pt x="395" y="760"/>
                  <a:pt x="400" y="750"/>
                  <a:pt x="410" y="751"/>
                </a:cubicBezTo>
                <a:cubicBezTo>
                  <a:pt x="420" y="752"/>
                  <a:pt x="439" y="764"/>
                  <a:pt x="446" y="771"/>
                </a:cubicBezTo>
                <a:cubicBezTo>
                  <a:pt x="452" y="774"/>
                  <a:pt x="450" y="781"/>
                  <a:pt x="450" y="792"/>
                </a:cubicBezTo>
                <a:cubicBezTo>
                  <a:pt x="450" y="803"/>
                  <a:pt x="448" y="823"/>
                  <a:pt x="447" y="835"/>
                </a:cubicBezTo>
                <a:cubicBezTo>
                  <a:pt x="447" y="846"/>
                  <a:pt x="443" y="854"/>
                  <a:pt x="441" y="867"/>
                </a:cubicBezTo>
                <a:cubicBezTo>
                  <a:pt x="442" y="875"/>
                  <a:pt x="453" y="878"/>
                  <a:pt x="452" y="886"/>
                </a:cubicBezTo>
                <a:cubicBezTo>
                  <a:pt x="451" y="894"/>
                  <a:pt x="447" y="896"/>
                  <a:pt x="438" y="913"/>
                </a:cubicBezTo>
                <a:cubicBezTo>
                  <a:pt x="424" y="940"/>
                  <a:pt x="407" y="958"/>
                  <a:pt x="399" y="988"/>
                </a:cubicBezTo>
                <a:cubicBezTo>
                  <a:pt x="396" y="1020"/>
                  <a:pt x="380" y="1059"/>
                  <a:pt x="422" y="1053"/>
                </a:cubicBezTo>
                <a:cubicBezTo>
                  <a:pt x="443" y="1046"/>
                  <a:pt x="447" y="1013"/>
                  <a:pt x="468" y="1006"/>
                </a:cubicBezTo>
                <a:cubicBezTo>
                  <a:pt x="475" y="1004"/>
                  <a:pt x="475" y="1017"/>
                  <a:pt x="476" y="1026"/>
                </a:cubicBezTo>
                <a:cubicBezTo>
                  <a:pt x="477" y="1035"/>
                  <a:pt x="475" y="1054"/>
                  <a:pt x="477" y="1063"/>
                </a:cubicBezTo>
                <a:cubicBezTo>
                  <a:pt x="482" y="1074"/>
                  <a:pt x="481" y="1078"/>
                  <a:pt x="488" y="1081"/>
                </a:cubicBezTo>
                <a:cubicBezTo>
                  <a:pt x="495" y="1084"/>
                  <a:pt x="509" y="1086"/>
                  <a:pt x="519" y="1084"/>
                </a:cubicBezTo>
                <a:cubicBezTo>
                  <a:pt x="539" y="1079"/>
                  <a:pt x="538" y="1085"/>
                  <a:pt x="548" y="1072"/>
                </a:cubicBezTo>
                <a:cubicBezTo>
                  <a:pt x="556" y="1069"/>
                  <a:pt x="561" y="1069"/>
                  <a:pt x="567" y="1068"/>
                </a:cubicBezTo>
                <a:cubicBezTo>
                  <a:pt x="573" y="1067"/>
                  <a:pt x="577" y="1072"/>
                  <a:pt x="582" y="1065"/>
                </a:cubicBezTo>
                <a:cubicBezTo>
                  <a:pt x="587" y="1050"/>
                  <a:pt x="591" y="1036"/>
                  <a:pt x="599" y="1026"/>
                </a:cubicBezTo>
                <a:cubicBezTo>
                  <a:pt x="603" y="1014"/>
                  <a:pt x="603" y="1009"/>
                  <a:pt x="615" y="1005"/>
                </a:cubicBezTo>
                <a:cubicBezTo>
                  <a:pt x="629" y="1006"/>
                  <a:pt x="627" y="963"/>
                  <a:pt x="653" y="1006"/>
                </a:cubicBezTo>
                <a:cubicBezTo>
                  <a:pt x="666" y="1024"/>
                  <a:pt x="669" y="1006"/>
                  <a:pt x="680" y="1017"/>
                </a:cubicBezTo>
                <a:cubicBezTo>
                  <a:pt x="692" y="1038"/>
                  <a:pt x="698" y="1038"/>
                  <a:pt x="717" y="1041"/>
                </a:cubicBezTo>
                <a:cubicBezTo>
                  <a:pt x="743" y="1044"/>
                  <a:pt x="735" y="1024"/>
                  <a:pt x="738" y="1015"/>
                </a:cubicBezTo>
                <a:cubicBezTo>
                  <a:pt x="741" y="1006"/>
                  <a:pt x="734" y="994"/>
                  <a:pt x="738" y="984"/>
                </a:cubicBezTo>
                <a:cubicBezTo>
                  <a:pt x="743" y="960"/>
                  <a:pt x="747" y="958"/>
                  <a:pt x="761" y="952"/>
                </a:cubicBezTo>
                <a:cubicBezTo>
                  <a:pt x="775" y="946"/>
                  <a:pt x="808" y="950"/>
                  <a:pt x="824" y="946"/>
                </a:cubicBezTo>
                <a:cubicBezTo>
                  <a:pt x="840" y="942"/>
                  <a:pt x="849" y="926"/>
                  <a:pt x="858" y="925"/>
                </a:cubicBezTo>
                <a:cubicBezTo>
                  <a:pt x="867" y="924"/>
                  <a:pt x="873" y="935"/>
                  <a:pt x="881" y="937"/>
                </a:cubicBezTo>
                <a:cubicBezTo>
                  <a:pt x="889" y="939"/>
                  <a:pt x="900" y="945"/>
                  <a:pt x="905" y="936"/>
                </a:cubicBezTo>
                <a:cubicBezTo>
                  <a:pt x="929" y="915"/>
                  <a:pt x="920" y="906"/>
                  <a:pt x="909" y="883"/>
                </a:cubicBezTo>
                <a:cubicBezTo>
                  <a:pt x="910" y="874"/>
                  <a:pt x="900" y="853"/>
                  <a:pt x="911" y="844"/>
                </a:cubicBezTo>
                <a:cubicBezTo>
                  <a:pt x="931" y="828"/>
                  <a:pt x="947" y="820"/>
                  <a:pt x="959" y="790"/>
                </a:cubicBezTo>
                <a:cubicBezTo>
                  <a:pt x="953" y="767"/>
                  <a:pt x="936" y="792"/>
                  <a:pt x="917" y="754"/>
                </a:cubicBezTo>
                <a:cubicBezTo>
                  <a:pt x="924" y="744"/>
                  <a:pt x="938" y="736"/>
                  <a:pt x="948" y="729"/>
                </a:cubicBezTo>
                <a:cubicBezTo>
                  <a:pt x="950" y="722"/>
                  <a:pt x="952" y="701"/>
                  <a:pt x="944" y="696"/>
                </a:cubicBezTo>
                <a:cubicBezTo>
                  <a:pt x="934" y="689"/>
                  <a:pt x="909" y="682"/>
                  <a:pt x="909" y="682"/>
                </a:cubicBezTo>
                <a:cubicBezTo>
                  <a:pt x="903" y="672"/>
                  <a:pt x="903" y="669"/>
                  <a:pt x="899" y="658"/>
                </a:cubicBezTo>
                <a:cubicBezTo>
                  <a:pt x="896" y="646"/>
                  <a:pt x="882" y="629"/>
                  <a:pt x="882" y="615"/>
                </a:cubicBezTo>
                <a:cubicBezTo>
                  <a:pt x="882" y="601"/>
                  <a:pt x="898" y="584"/>
                  <a:pt x="897" y="574"/>
                </a:cubicBezTo>
                <a:cubicBezTo>
                  <a:pt x="895" y="558"/>
                  <a:pt x="883" y="556"/>
                  <a:pt x="876" y="552"/>
                </a:cubicBezTo>
                <a:cubicBezTo>
                  <a:pt x="869" y="548"/>
                  <a:pt x="860" y="554"/>
                  <a:pt x="855" y="547"/>
                </a:cubicBezTo>
                <a:cubicBezTo>
                  <a:pt x="850" y="540"/>
                  <a:pt x="843" y="523"/>
                  <a:pt x="843" y="511"/>
                </a:cubicBezTo>
                <a:cubicBezTo>
                  <a:pt x="840" y="498"/>
                  <a:pt x="844" y="483"/>
                  <a:pt x="855" y="474"/>
                </a:cubicBezTo>
                <a:cubicBezTo>
                  <a:pt x="875" y="475"/>
                  <a:pt x="877" y="467"/>
                  <a:pt x="884" y="445"/>
                </a:cubicBezTo>
                <a:cubicBezTo>
                  <a:pt x="889" y="430"/>
                  <a:pt x="904" y="405"/>
                  <a:pt x="915" y="394"/>
                </a:cubicBezTo>
                <a:cubicBezTo>
                  <a:pt x="920" y="382"/>
                  <a:pt x="931" y="381"/>
                  <a:pt x="932" y="370"/>
                </a:cubicBezTo>
                <a:cubicBezTo>
                  <a:pt x="933" y="359"/>
                  <a:pt x="921" y="340"/>
                  <a:pt x="920" y="325"/>
                </a:cubicBezTo>
                <a:cubicBezTo>
                  <a:pt x="919" y="310"/>
                  <a:pt x="926" y="294"/>
                  <a:pt x="924" y="280"/>
                </a:cubicBezTo>
                <a:cubicBezTo>
                  <a:pt x="920" y="267"/>
                  <a:pt x="913" y="255"/>
                  <a:pt x="909" y="241"/>
                </a:cubicBezTo>
                <a:cubicBezTo>
                  <a:pt x="907" y="235"/>
                  <a:pt x="912" y="226"/>
                  <a:pt x="912" y="226"/>
                </a:cubicBezTo>
                <a:cubicBezTo>
                  <a:pt x="916" y="213"/>
                  <a:pt x="916" y="212"/>
                  <a:pt x="927" y="205"/>
                </a:cubicBezTo>
                <a:cubicBezTo>
                  <a:pt x="942" y="175"/>
                  <a:pt x="904" y="191"/>
                  <a:pt x="888" y="193"/>
                </a:cubicBezTo>
                <a:cubicBezTo>
                  <a:pt x="874" y="192"/>
                  <a:pt x="856" y="197"/>
                  <a:pt x="846" y="187"/>
                </a:cubicBezTo>
                <a:cubicBezTo>
                  <a:pt x="841" y="182"/>
                  <a:pt x="834" y="169"/>
                  <a:pt x="834" y="169"/>
                </a:cubicBezTo>
                <a:cubicBezTo>
                  <a:pt x="826" y="136"/>
                  <a:pt x="854" y="93"/>
                  <a:pt x="828" y="73"/>
                </a:cubicBezTo>
                <a:cubicBezTo>
                  <a:pt x="797" y="94"/>
                  <a:pt x="789" y="89"/>
                  <a:pt x="771" y="94"/>
                </a:cubicBezTo>
                <a:cubicBezTo>
                  <a:pt x="741" y="91"/>
                  <a:pt x="734" y="66"/>
                  <a:pt x="695" y="78"/>
                </a:cubicBezTo>
                <a:cubicBezTo>
                  <a:pt x="664" y="82"/>
                  <a:pt x="658" y="83"/>
                  <a:pt x="633" y="94"/>
                </a:cubicBezTo>
                <a:cubicBezTo>
                  <a:pt x="624" y="98"/>
                  <a:pt x="606" y="103"/>
                  <a:pt x="606" y="103"/>
                </a:cubicBezTo>
                <a:cubicBezTo>
                  <a:pt x="598" y="104"/>
                  <a:pt x="594" y="98"/>
                  <a:pt x="588" y="96"/>
                </a:cubicBezTo>
                <a:cubicBezTo>
                  <a:pt x="582" y="94"/>
                  <a:pt x="581" y="98"/>
                  <a:pt x="572" y="93"/>
                </a:cubicBezTo>
                <a:cubicBezTo>
                  <a:pt x="563" y="88"/>
                  <a:pt x="552" y="79"/>
                  <a:pt x="534" y="66"/>
                </a:cubicBezTo>
                <a:cubicBezTo>
                  <a:pt x="516" y="40"/>
                  <a:pt x="476" y="17"/>
                  <a:pt x="464" y="16"/>
                </a:cubicBezTo>
                <a:cubicBezTo>
                  <a:pt x="432" y="22"/>
                  <a:pt x="430" y="19"/>
                  <a:pt x="408" y="18"/>
                </a:cubicBezTo>
                <a:cubicBezTo>
                  <a:pt x="386" y="24"/>
                  <a:pt x="382" y="2"/>
                  <a:pt x="371" y="1"/>
                </a:cubicBezTo>
                <a:cubicBezTo>
                  <a:pt x="360" y="0"/>
                  <a:pt x="352" y="8"/>
                  <a:pt x="342" y="9"/>
                </a:cubicBezTo>
                <a:cubicBezTo>
                  <a:pt x="321" y="13"/>
                  <a:pt x="331" y="1"/>
                  <a:pt x="308" y="9"/>
                </a:cubicBezTo>
                <a:cubicBezTo>
                  <a:pt x="300" y="11"/>
                  <a:pt x="292" y="17"/>
                  <a:pt x="293" y="27"/>
                </a:cubicBezTo>
                <a:cubicBezTo>
                  <a:pt x="294" y="37"/>
                  <a:pt x="324" y="36"/>
                  <a:pt x="315" y="70"/>
                </a:cubicBezTo>
                <a:cubicBezTo>
                  <a:pt x="307" y="79"/>
                  <a:pt x="294" y="84"/>
                  <a:pt x="287" y="87"/>
                </a:cubicBezTo>
                <a:cubicBezTo>
                  <a:pt x="280" y="90"/>
                  <a:pt x="277" y="87"/>
                  <a:pt x="270" y="88"/>
                </a:cubicBezTo>
                <a:cubicBezTo>
                  <a:pt x="263" y="89"/>
                  <a:pt x="249" y="90"/>
                  <a:pt x="242" y="91"/>
                </a:cubicBezTo>
                <a:cubicBezTo>
                  <a:pt x="235" y="92"/>
                  <a:pt x="232" y="90"/>
                  <a:pt x="228" y="91"/>
                </a:cubicBezTo>
                <a:cubicBezTo>
                  <a:pt x="224" y="92"/>
                  <a:pt x="220" y="95"/>
                  <a:pt x="216" y="96"/>
                </a:cubicBezTo>
                <a:cubicBezTo>
                  <a:pt x="212" y="97"/>
                  <a:pt x="209" y="100"/>
                  <a:pt x="203" y="100"/>
                </a:cubicBezTo>
                <a:cubicBezTo>
                  <a:pt x="197" y="100"/>
                  <a:pt x="197" y="94"/>
                  <a:pt x="182" y="96"/>
                </a:cubicBezTo>
                <a:cubicBezTo>
                  <a:pt x="120" y="136"/>
                  <a:pt x="137" y="109"/>
                  <a:pt x="114" y="115"/>
                </a:cubicBezTo>
                <a:cubicBezTo>
                  <a:pt x="102" y="117"/>
                  <a:pt x="89" y="126"/>
                  <a:pt x="69" y="156"/>
                </a:cubicBezTo>
                <a:cubicBezTo>
                  <a:pt x="60" y="170"/>
                  <a:pt x="72" y="175"/>
                  <a:pt x="74" y="187"/>
                </a:cubicBezTo>
                <a:cubicBezTo>
                  <a:pt x="76" y="199"/>
                  <a:pt x="77" y="207"/>
                  <a:pt x="81" y="226"/>
                </a:cubicBezTo>
                <a:cubicBezTo>
                  <a:pt x="84" y="248"/>
                  <a:pt x="98" y="286"/>
                  <a:pt x="98" y="304"/>
                </a:cubicBezTo>
                <a:cubicBezTo>
                  <a:pt x="100" y="319"/>
                  <a:pt x="95" y="314"/>
                  <a:pt x="92" y="319"/>
                </a:cubicBezTo>
                <a:cubicBezTo>
                  <a:pt x="89" y="324"/>
                  <a:pt x="83" y="330"/>
                  <a:pt x="81" y="334"/>
                </a:cubicBezTo>
                <a:cubicBezTo>
                  <a:pt x="80" y="346"/>
                  <a:pt x="69" y="331"/>
                  <a:pt x="78" y="34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61280" y="3989520"/>
            <a:ext cx="1323720" cy="1787400"/>
          </a:xfrm>
          <a:custGeom>
            <a:avLst/>
            <a:gdLst/>
            <a:ahLst/>
            <a:rect l="l" t="t" r="r" b="b"/>
            <a:pathLst>
              <a:path w="834" h="1126">
                <a:moveTo>
                  <a:pt x="74" y="956"/>
                </a:moveTo>
                <a:cubicBezTo>
                  <a:pt x="106" y="952"/>
                  <a:pt x="90" y="954"/>
                  <a:pt x="113" y="946"/>
                </a:cubicBezTo>
                <a:cubicBezTo>
                  <a:pt x="168" y="949"/>
                  <a:pt x="187" y="943"/>
                  <a:pt x="220" y="976"/>
                </a:cubicBezTo>
                <a:cubicBezTo>
                  <a:pt x="225" y="990"/>
                  <a:pt x="214" y="1009"/>
                  <a:pt x="203" y="1022"/>
                </a:cubicBezTo>
                <a:cubicBezTo>
                  <a:pt x="199" y="1027"/>
                  <a:pt x="182" y="1034"/>
                  <a:pt x="176" y="1037"/>
                </a:cubicBezTo>
                <a:cubicBezTo>
                  <a:pt x="170" y="1040"/>
                  <a:pt x="158" y="1043"/>
                  <a:pt x="158" y="1043"/>
                </a:cubicBezTo>
                <a:cubicBezTo>
                  <a:pt x="152" y="1052"/>
                  <a:pt x="157" y="1060"/>
                  <a:pt x="151" y="1069"/>
                </a:cubicBezTo>
                <a:cubicBezTo>
                  <a:pt x="149" y="1078"/>
                  <a:pt x="135" y="1102"/>
                  <a:pt x="143" y="1108"/>
                </a:cubicBezTo>
                <a:cubicBezTo>
                  <a:pt x="151" y="1114"/>
                  <a:pt x="182" y="1103"/>
                  <a:pt x="197" y="1105"/>
                </a:cubicBezTo>
                <a:cubicBezTo>
                  <a:pt x="205" y="1110"/>
                  <a:pt x="232" y="1121"/>
                  <a:pt x="232" y="1121"/>
                </a:cubicBezTo>
                <a:cubicBezTo>
                  <a:pt x="256" y="1106"/>
                  <a:pt x="291" y="1098"/>
                  <a:pt x="314" y="1096"/>
                </a:cubicBezTo>
                <a:cubicBezTo>
                  <a:pt x="335" y="1096"/>
                  <a:pt x="346" y="1121"/>
                  <a:pt x="358" y="1124"/>
                </a:cubicBezTo>
                <a:cubicBezTo>
                  <a:pt x="369" y="1126"/>
                  <a:pt x="373" y="1116"/>
                  <a:pt x="382" y="1111"/>
                </a:cubicBezTo>
                <a:cubicBezTo>
                  <a:pt x="399" y="1107"/>
                  <a:pt x="400" y="1110"/>
                  <a:pt x="413" y="1097"/>
                </a:cubicBezTo>
                <a:cubicBezTo>
                  <a:pt x="416" y="1087"/>
                  <a:pt x="427" y="1057"/>
                  <a:pt x="427" y="1057"/>
                </a:cubicBezTo>
                <a:cubicBezTo>
                  <a:pt x="427" y="1042"/>
                  <a:pt x="409" y="1017"/>
                  <a:pt x="409" y="1003"/>
                </a:cubicBezTo>
                <a:cubicBezTo>
                  <a:pt x="409" y="989"/>
                  <a:pt x="424" y="979"/>
                  <a:pt x="430" y="974"/>
                </a:cubicBezTo>
                <a:cubicBezTo>
                  <a:pt x="436" y="969"/>
                  <a:pt x="440" y="974"/>
                  <a:pt x="448" y="970"/>
                </a:cubicBezTo>
                <a:cubicBezTo>
                  <a:pt x="450" y="924"/>
                  <a:pt x="452" y="977"/>
                  <a:pt x="457" y="892"/>
                </a:cubicBezTo>
                <a:cubicBezTo>
                  <a:pt x="457" y="865"/>
                  <a:pt x="454" y="867"/>
                  <a:pt x="467" y="850"/>
                </a:cubicBezTo>
                <a:cubicBezTo>
                  <a:pt x="523" y="785"/>
                  <a:pt x="486" y="799"/>
                  <a:pt x="494" y="785"/>
                </a:cubicBezTo>
                <a:cubicBezTo>
                  <a:pt x="500" y="771"/>
                  <a:pt x="503" y="773"/>
                  <a:pt x="505" y="767"/>
                </a:cubicBezTo>
                <a:cubicBezTo>
                  <a:pt x="507" y="761"/>
                  <a:pt x="504" y="770"/>
                  <a:pt x="506" y="749"/>
                </a:cubicBezTo>
                <a:cubicBezTo>
                  <a:pt x="501" y="695"/>
                  <a:pt x="484" y="682"/>
                  <a:pt x="515" y="643"/>
                </a:cubicBezTo>
                <a:cubicBezTo>
                  <a:pt x="525" y="628"/>
                  <a:pt x="553" y="617"/>
                  <a:pt x="566" y="610"/>
                </a:cubicBezTo>
                <a:cubicBezTo>
                  <a:pt x="574" y="606"/>
                  <a:pt x="599" y="602"/>
                  <a:pt x="599" y="602"/>
                </a:cubicBezTo>
                <a:cubicBezTo>
                  <a:pt x="601" y="567"/>
                  <a:pt x="623" y="598"/>
                  <a:pt x="604" y="547"/>
                </a:cubicBezTo>
                <a:cubicBezTo>
                  <a:pt x="605" y="521"/>
                  <a:pt x="607" y="523"/>
                  <a:pt x="625" y="494"/>
                </a:cubicBezTo>
                <a:cubicBezTo>
                  <a:pt x="633" y="493"/>
                  <a:pt x="630" y="489"/>
                  <a:pt x="641" y="479"/>
                </a:cubicBezTo>
                <a:cubicBezTo>
                  <a:pt x="652" y="469"/>
                  <a:pt x="677" y="441"/>
                  <a:pt x="689" y="433"/>
                </a:cubicBezTo>
                <a:cubicBezTo>
                  <a:pt x="712" y="419"/>
                  <a:pt x="692" y="438"/>
                  <a:pt x="715" y="430"/>
                </a:cubicBezTo>
                <a:cubicBezTo>
                  <a:pt x="720" y="410"/>
                  <a:pt x="737" y="412"/>
                  <a:pt x="754" y="401"/>
                </a:cubicBezTo>
                <a:cubicBezTo>
                  <a:pt x="778" y="391"/>
                  <a:pt x="768" y="385"/>
                  <a:pt x="799" y="377"/>
                </a:cubicBezTo>
                <a:cubicBezTo>
                  <a:pt x="807" y="369"/>
                  <a:pt x="821" y="362"/>
                  <a:pt x="821" y="350"/>
                </a:cubicBezTo>
                <a:cubicBezTo>
                  <a:pt x="824" y="340"/>
                  <a:pt x="819" y="324"/>
                  <a:pt x="821" y="310"/>
                </a:cubicBezTo>
                <a:cubicBezTo>
                  <a:pt x="823" y="296"/>
                  <a:pt x="834" y="277"/>
                  <a:pt x="832" y="265"/>
                </a:cubicBezTo>
                <a:cubicBezTo>
                  <a:pt x="830" y="253"/>
                  <a:pt x="814" y="243"/>
                  <a:pt x="811" y="235"/>
                </a:cubicBezTo>
                <a:cubicBezTo>
                  <a:pt x="808" y="227"/>
                  <a:pt x="816" y="224"/>
                  <a:pt x="814" y="217"/>
                </a:cubicBezTo>
                <a:cubicBezTo>
                  <a:pt x="812" y="210"/>
                  <a:pt x="804" y="204"/>
                  <a:pt x="796" y="194"/>
                </a:cubicBezTo>
                <a:cubicBezTo>
                  <a:pt x="788" y="184"/>
                  <a:pt x="767" y="168"/>
                  <a:pt x="763" y="157"/>
                </a:cubicBezTo>
                <a:cubicBezTo>
                  <a:pt x="759" y="146"/>
                  <a:pt x="769" y="138"/>
                  <a:pt x="770" y="128"/>
                </a:cubicBezTo>
                <a:cubicBezTo>
                  <a:pt x="771" y="118"/>
                  <a:pt x="780" y="105"/>
                  <a:pt x="770" y="95"/>
                </a:cubicBezTo>
                <a:cubicBezTo>
                  <a:pt x="760" y="85"/>
                  <a:pt x="736" y="78"/>
                  <a:pt x="709" y="68"/>
                </a:cubicBezTo>
                <a:cubicBezTo>
                  <a:pt x="672" y="67"/>
                  <a:pt x="649" y="25"/>
                  <a:pt x="605" y="37"/>
                </a:cubicBezTo>
                <a:cubicBezTo>
                  <a:pt x="593" y="36"/>
                  <a:pt x="578" y="60"/>
                  <a:pt x="566" y="58"/>
                </a:cubicBezTo>
                <a:cubicBezTo>
                  <a:pt x="556" y="58"/>
                  <a:pt x="539" y="73"/>
                  <a:pt x="533" y="73"/>
                </a:cubicBezTo>
                <a:cubicBezTo>
                  <a:pt x="527" y="73"/>
                  <a:pt x="525" y="68"/>
                  <a:pt x="527" y="58"/>
                </a:cubicBezTo>
                <a:cubicBezTo>
                  <a:pt x="529" y="48"/>
                  <a:pt x="548" y="22"/>
                  <a:pt x="547" y="13"/>
                </a:cubicBezTo>
                <a:cubicBezTo>
                  <a:pt x="546" y="4"/>
                  <a:pt x="530" y="1"/>
                  <a:pt x="523" y="2"/>
                </a:cubicBezTo>
                <a:cubicBezTo>
                  <a:pt x="513" y="0"/>
                  <a:pt x="513" y="18"/>
                  <a:pt x="503" y="17"/>
                </a:cubicBezTo>
                <a:cubicBezTo>
                  <a:pt x="494" y="17"/>
                  <a:pt x="495" y="20"/>
                  <a:pt x="481" y="22"/>
                </a:cubicBezTo>
                <a:cubicBezTo>
                  <a:pt x="467" y="24"/>
                  <a:pt x="441" y="26"/>
                  <a:pt x="416" y="28"/>
                </a:cubicBezTo>
                <a:cubicBezTo>
                  <a:pt x="389" y="55"/>
                  <a:pt x="410" y="28"/>
                  <a:pt x="328" y="34"/>
                </a:cubicBezTo>
                <a:cubicBezTo>
                  <a:pt x="314" y="35"/>
                  <a:pt x="301" y="53"/>
                  <a:pt x="301" y="53"/>
                </a:cubicBezTo>
                <a:cubicBezTo>
                  <a:pt x="293" y="60"/>
                  <a:pt x="290" y="69"/>
                  <a:pt x="283" y="77"/>
                </a:cubicBezTo>
                <a:cubicBezTo>
                  <a:pt x="276" y="85"/>
                  <a:pt x="281" y="92"/>
                  <a:pt x="260" y="104"/>
                </a:cubicBezTo>
                <a:cubicBezTo>
                  <a:pt x="242" y="126"/>
                  <a:pt x="185" y="145"/>
                  <a:pt x="158" y="152"/>
                </a:cubicBezTo>
                <a:cubicBezTo>
                  <a:pt x="136" y="164"/>
                  <a:pt x="143" y="165"/>
                  <a:pt x="133" y="170"/>
                </a:cubicBezTo>
                <a:cubicBezTo>
                  <a:pt x="123" y="175"/>
                  <a:pt x="107" y="180"/>
                  <a:pt x="100" y="185"/>
                </a:cubicBezTo>
                <a:cubicBezTo>
                  <a:pt x="91" y="194"/>
                  <a:pt x="99" y="192"/>
                  <a:pt x="92" y="202"/>
                </a:cubicBezTo>
                <a:cubicBezTo>
                  <a:pt x="88" y="210"/>
                  <a:pt x="89" y="226"/>
                  <a:pt x="86" y="232"/>
                </a:cubicBezTo>
                <a:cubicBezTo>
                  <a:pt x="83" y="238"/>
                  <a:pt x="79" y="233"/>
                  <a:pt x="76" y="238"/>
                </a:cubicBezTo>
                <a:cubicBezTo>
                  <a:pt x="75" y="246"/>
                  <a:pt x="70" y="252"/>
                  <a:pt x="68" y="260"/>
                </a:cubicBezTo>
                <a:cubicBezTo>
                  <a:pt x="67" y="264"/>
                  <a:pt x="68" y="272"/>
                  <a:pt x="68" y="272"/>
                </a:cubicBezTo>
                <a:cubicBezTo>
                  <a:pt x="70" y="288"/>
                  <a:pt x="76" y="293"/>
                  <a:pt x="83" y="308"/>
                </a:cubicBezTo>
                <a:cubicBezTo>
                  <a:pt x="87" y="316"/>
                  <a:pt x="75" y="329"/>
                  <a:pt x="79" y="337"/>
                </a:cubicBezTo>
                <a:cubicBezTo>
                  <a:pt x="81" y="341"/>
                  <a:pt x="80" y="359"/>
                  <a:pt x="80" y="359"/>
                </a:cubicBezTo>
                <a:cubicBezTo>
                  <a:pt x="103" y="412"/>
                  <a:pt x="89" y="400"/>
                  <a:pt x="59" y="436"/>
                </a:cubicBezTo>
                <a:cubicBezTo>
                  <a:pt x="48" y="457"/>
                  <a:pt x="42" y="471"/>
                  <a:pt x="35" y="494"/>
                </a:cubicBezTo>
                <a:cubicBezTo>
                  <a:pt x="32" y="505"/>
                  <a:pt x="2" y="514"/>
                  <a:pt x="2" y="514"/>
                </a:cubicBezTo>
                <a:cubicBezTo>
                  <a:pt x="0" y="524"/>
                  <a:pt x="5" y="544"/>
                  <a:pt x="7" y="554"/>
                </a:cubicBezTo>
                <a:cubicBezTo>
                  <a:pt x="9" y="564"/>
                  <a:pt x="12" y="573"/>
                  <a:pt x="16" y="577"/>
                </a:cubicBezTo>
                <a:cubicBezTo>
                  <a:pt x="20" y="581"/>
                  <a:pt x="25" y="579"/>
                  <a:pt x="29" y="580"/>
                </a:cubicBezTo>
                <a:cubicBezTo>
                  <a:pt x="33" y="581"/>
                  <a:pt x="37" y="579"/>
                  <a:pt x="40" y="581"/>
                </a:cubicBezTo>
                <a:cubicBezTo>
                  <a:pt x="43" y="583"/>
                  <a:pt x="46" y="585"/>
                  <a:pt x="49" y="589"/>
                </a:cubicBezTo>
                <a:cubicBezTo>
                  <a:pt x="52" y="593"/>
                  <a:pt x="56" y="595"/>
                  <a:pt x="55" y="605"/>
                </a:cubicBezTo>
                <a:cubicBezTo>
                  <a:pt x="56" y="619"/>
                  <a:pt x="39" y="634"/>
                  <a:pt x="44" y="647"/>
                </a:cubicBezTo>
                <a:cubicBezTo>
                  <a:pt x="48" y="657"/>
                  <a:pt x="60" y="698"/>
                  <a:pt x="68" y="709"/>
                </a:cubicBezTo>
                <a:cubicBezTo>
                  <a:pt x="83" y="724"/>
                  <a:pt x="98" y="721"/>
                  <a:pt x="104" y="727"/>
                </a:cubicBezTo>
                <a:cubicBezTo>
                  <a:pt x="110" y="733"/>
                  <a:pt x="109" y="736"/>
                  <a:pt x="107" y="743"/>
                </a:cubicBezTo>
                <a:cubicBezTo>
                  <a:pt x="110" y="757"/>
                  <a:pt x="99" y="761"/>
                  <a:pt x="94" y="767"/>
                </a:cubicBezTo>
                <a:cubicBezTo>
                  <a:pt x="89" y="773"/>
                  <a:pt x="76" y="776"/>
                  <a:pt x="76" y="782"/>
                </a:cubicBezTo>
                <a:cubicBezTo>
                  <a:pt x="73" y="793"/>
                  <a:pt x="88" y="797"/>
                  <a:pt x="94" y="806"/>
                </a:cubicBezTo>
                <a:cubicBezTo>
                  <a:pt x="100" y="810"/>
                  <a:pt x="112" y="804"/>
                  <a:pt x="115" y="809"/>
                </a:cubicBezTo>
                <a:cubicBezTo>
                  <a:pt x="118" y="814"/>
                  <a:pt x="114" y="827"/>
                  <a:pt x="110" y="835"/>
                </a:cubicBezTo>
                <a:cubicBezTo>
                  <a:pt x="106" y="850"/>
                  <a:pt x="100" y="844"/>
                  <a:pt x="89" y="857"/>
                </a:cubicBezTo>
                <a:cubicBezTo>
                  <a:pt x="83" y="864"/>
                  <a:pt x="68" y="869"/>
                  <a:pt x="65" y="877"/>
                </a:cubicBezTo>
                <a:cubicBezTo>
                  <a:pt x="62" y="885"/>
                  <a:pt x="66" y="898"/>
                  <a:pt x="68" y="908"/>
                </a:cubicBezTo>
                <a:cubicBezTo>
                  <a:pt x="70" y="918"/>
                  <a:pt x="78" y="929"/>
                  <a:pt x="79" y="937"/>
                </a:cubicBezTo>
                <a:cubicBezTo>
                  <a:pt x="80" y="945"/>
                  <a:pt x="75" y="952"/>
                  <a:pt x="74" y="956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16880" y="2454120"/>
            <a:ext cx="1304640" cy="1704960"/>
          </a:xfrm>
          <a:custGeom>
            <a:avLst/>
            <a:gdLst/>
            <a:ahLst/>
            <a:rect l="l" t="t" r="r" b="b"/>
            <a:pathLst>
              <a:path w="822" h="1074">
                <a:moveTo>
                  <a:pt x="96" y="681"/>
                </a:moveTo>
                <a:lnTo>
                  <a:pt x="177" y="603"/>
                </a:lnTo>
                <a:cubicBezTo>
                  <a:pt x="177" y="603"/>
                  <a:pt x="186" y="567"/>
                  <a:pt x="186" y="567"/>
                </a:cubicBezTo>
                <a:cubicBezTo>
                  <a:pt x="187" y="563"/>
                  <a:pt x="185" y="557"/>
                  <a:pt x="185" y="557"/>
                </a:cubicBezTo>
                <a:cubicBezTo>
                  <a:pt x="192" y="510"/>
                  <a:pt x="179" y="475"/>
                  <a:pt x="138" y="461"/>
                </a:cubicBezTo>
                <a:cubicBezTo>
                  <a:pt x="114" y="437"/>
                  <a:pt x="75" y="440"/>
                  <a:pt x="60" y="425"/>
                </a:cubicBezTo>
                <a:cubicBezTo>
                  <a:pt x="71" y="401"/>
                  <a:pt x="65" y="386"/>
                  <a:pt x="33" y="375"/>
                </a:cubicBezTo>
                <a:cubicBezTo>
                  <a:pt x="25" y="364"/>
                  <a:pt x="10" y="369"/>
                  <a:pt x="6" y="365"/>
                </a:cubicBezTo>
                <a:cubicBezTo>
                  <a:pt x="2" y="361"/>
                  <a:pt x="0" y="353"/>
                  <a:pt x="6" y="348"/>
                </a:cubicBezTo>
                <a:cubicBezTo>
                  <a:pt x="12" y="319"/>
                  <a:pt x="14" y="330"/>
                  <a:pt x="45" y="336"/>
                </a:cubicBezTo>
                <a:cubicBezTo>
                  <a:pt x="53" y="331"/>
                  <a:pt x="55" y="331"/>
                  <a:pt x="59" y="324"/>
                </a:cubicBezTo>
                <a:cubicBezTo>
                  <a:pt x="63" y="317"/>
                  <a:pt x="64" y="309"/>
                  <a:pt x="68" y="296"/>
                </a:cubicBezTo>
                <a:cubicBezTo>
                  <a:pt x="74" y="282"/>
                  <a:pt x="75" y="253"/>
                  <a:pt x="81" y="245"/>
                </a:cubicBezTo>
                <a:cubicBezTo>
                  <a:pt x="87" y="237"/>
                  <a:pt x="94" y="259"/>
                  <a:pt x="102" y="245"/>
                </a:cubicBezTo>
                <a:cubicBezTo>
                  <a:pt x="116" y="192"/>
                  <a:pt x="108" y="175"/>
                  <a:pt x="128" y="161"/>
                </a:cubicBezTo>
                <a:cubicBezTo>
                  <a:pt x="160" y="163"/>
                  <a:pt x="179" y="158"/>
                  <a:pt x="206" y="195"/>
                </a:cubicBezTo>
                <a:cubicBezTo>
                  <a:pt x="233" y="194"/>
                  <a:pt x="231" y="185"/>
                  <a:pt x="258" y="180"/>
                </a:cubicBezTo>
                <a:cubicBezTo>
                  <a:pt x="272" y="173"/>
                  <a:pt x="296" y="150"/>
                  <a:pt x="302" y="140"/>
                </a:cubicBezTo>
                <a:cubicBezTo>
                  <a:pt x="308" y="130"/>
                  <a:pt x="300" y="124"/>
                  <a:pt x="294" y="117"/>
                </a:cubicBezTo>
                <a:cubicBezTo>
                  <a:pt x="291" y="102"/>
                  <a:pt x="278" y="105"/>
                  <a:pt x="267" y="98"/>
                </a:cubicBezTo>
                <a:cubicBezTo>
                  <a:pt x="256" y="91"/>
                  <a:pt x="234" y="84"/>
                  <a:pt x="228" y="78"/>
                </a:cubicBezTo>
                <a:cubicBezTo>
                  <a:pt x="216" y="69"/>
                  <a:pt x="234" y="67"/>
                  <a:pt x="233" y="63"/>
                </a:cubicBezTo>
                <a:cubicBezTo>
                  <a:pt x="232" y="59"/>
                  <a:pt x="225" y="59"/>
                  <a:pt x="219" y="53"/>
                </a:cubicBezTo>
                <a:cubicBezTo>
                  <a:pt x="213" y="47"/>
                  <a:pt x="200" y="33"/>
                  <a:pt x="198" y="27"/>
                </a:cubicBezTo>
                <a:cubicBezTo>
                  <a:pt x="201" y="9"/>
                  <a:pt x="189" y="21"/>
                  <a:pt x="207" y="15"/>
                </a:cubicBezTo>
                <a:cubicBezTo>
                  <a:pt x="213" y="10"/>
                  <a:pt x="210" y="15"/>
                  <a:pt x="216" y="9"/>
                </a:cubicBezTo>
                <a:cubicBezTo>
                  <a:pt x="225" y="0"/>
                  <a:pt x="214" y="14"/>
                  <a:pt x="230" y="3"/>
                </a:cubicBezTo>
                <a:cubicBezTo>
                  <a:pt x="236" y="30"/>
                  <a:pt x="261" y="7"/>
                  <a:pt x="278" y="30"/>
                </a:cubicBezTo>
                <a:cubicBezTo>
                  <a:pt x="300" y="59"/>
                  <a:pt x="284" y="33"/>
                  <a:pt x="302" y="51"/>
                </a:cubicBezTo>
                <a:cubicBezTo>
                  <a:pt x="318" y="67"/>
                  <a:pt x="307" y="59"/>
                  <a:pt x="324" y="65"/>
                </a:cubicBezTo>
                <a:cubicBezTo>
                  <a:pt x="338" y="76"/>
                  <a:pt x="345" y="88"/>
                  <a:pt x="360" y="98"/>
                </a:cubicBezTo>
                <a:cubicBezTo>
                  <a:pt x="370" y="105"/>
                  <a:pt x="363" y="114"/>
                  <a:pt x="380" y="122"/>
                </a:cubicBezTo>
                <a:cubicBezTo>
                  <a:pt x="397" y="130"/>
                  <a:pt x="442" y="137"/>
                  <a:pt x="461" y="144"/>
                </a:cubicBezTo>
                <a:cubicBezTo>
                  <a:pt x="474" y="152"/>
                  <a:pt x="482" y="156"/>
                  <a:pt x="495" y="165"/>
                </a:cubicBezTo>
                <a:cubicBezTo>
                  <a:pt x="498" y="167"/>
                  <a:pt x="504" y="171"/>
                  <a:pt x="504" y="171"/>
                </a:cubicBezTo>
                <a:cubicBezTo>
                  <a:pt x="508" y="193"/>
                  <a:pt x="525" y="197"/>
                  <a:pt x="536" y="210"/>
                </a:cubicBezTo>
                <a:cubicBezTo>
                  <a:pt x="534" y="217"/>
                  <a:pt x="509" y="236"/>
                  <a:pt x="509" y="243"/>
                </a:cubicBezTo>
                <a:cubicBezTo>
                  <a:pt x="508" y="249"/>
                  <a:pt x="524" y="252"/>
                  <a:pt x="530" y="260"/>
                </a:cubicBezTo>
                <a:cubicBezTo>
                  <a:pt x="536" y="268"/>
                  <a:pt x="534" y="283"/>
                  <a:pt x="546" y="294"/>
                </a:cubicBezTo>
                <a:cubicBezTo>
                  <a:pt x="558" y="305"/>
                  <a:pt x="598" y="311"/>
                  <a:pt x="603" y="324"/>
                </a:cubicBezTo>
                <a:cubicBezTo>
                  <a:pt x="603" y="347"/>
                  <a:pt x="577" y="362"/>
                  <a:pt x="575" y="371"/>
                </a:cubicBezTo>
                <a:cubicBezTo>
                  <a:pt x="573" y="380"/>
                  <a:pt x="585" y="382"/>
                  <a:pt x="593" y="381"/>
                </a:cubicBezTo>
                <a:cubicBezTo>
                  <a:pt x="604" y="380"/>
                  <a:pt x="613" y="368"/>
                  <a:pt x="624" y="366"/>
                </a:cubicBezTo>
                <a:cubicBezTo>
                  <a:pt x="630" y="365"/>
                  <a:pt x="648" y="351"/>
                  <a:pt x="648" y="351"/>
                </a:cubicBezTo>
                <a:cubicBezTo>
                  <a:pt x="680" y="314"/>
                  <a:pt x="674" y="343"/>
                  <a:pt x="707" y="348"/>
                </a:cubicBezTo>
                <a:cubicBezTo>
                  <a:pt x="718" y="351"/>
                  <a:pt x="728" y="362"/>
                  <a:pt x="728" y="372"/>
                </a:cubicBezTo>
                <a:cubicBezTo>
                  <a:pt x="728" y="382"/>
                  <a:pt x="718" y="398"/>
                  <a:pt x="708" y="408"/>
                </a:cubicBezTo>
                <a:cubicBezTo>
                  <a:pt x="694" y="418"/>
                  <a:pt x="678" y="421"/>
                  <a:pt x="666" y="432"/>
                </a:cubicBezTo>
                <a:cubicBezTo>
                  <a:pt x="661" y="437"/>
                  <a:pt x="654" y="453"/>
                  <a:pt x="654" y="453"/>
                </a:cubicBezTo>
                <a:cubicBezTo>
                  <a:pt x="640" y="474"/>
                  <a:pt x="648" y="471"/>
                  <a:pt x="626" y="479"/>
                </a:cubicBezTo>
                <a:cubicBezTo>
                  <a:pt x="623" y="491"/>
                  <a:pt x="614" y="508"/>
                  <a:pt x="617" y="524"/>
                </a:cubicBezTo>
                <a:cubicBezTo>
                  <a:pt x="620" y="540"/>
                  <a:pt x="635" y="557"/>
                  <a:pt x="645" y="573"/>
                </a:cubicBezTo>
                <a:cubicBezTo>
                  <a:pt x="651" y="591"/>
                  <a:pt x="672" y="602"/>
                  <a:pt x="678" y="621"/>
                </a:cubicBezTo>
                <a:cubicBezTo>
                  <a:pt x="684" y="634"/>
                  <a:pt x="675" y="642"/>
                  <a:pt x="686" y="651"/>
                </a:cubicBezTo>
                <a:cubicBezTo>
                  <a:pt x="687" y="660"/>
                  <a:pt x="674" y="673"/>
                  <a:pt x="684" y="677"/>
                </a:cubicBezTo>
                <a:cubicBezTo>
                  <a:pt x="694" y="681"/>
                  <a:pt x="730" y="673"/>
                  <a:pt x="746" y="675"/>
                </a:cubicBezTo>
                <a:cubicBezTo>
                  <a:pt x="772" y="684"/>
                  <a:pt x="749" y="683"/>
                  <a:pt x="779" y="687"/>
                </a:cubicBezTo>
                <a:cubicBezTo>
                  <a:pt x="822" y="686"/>
                  <a:pt x="821" y="681"/>
                  <a:pt x="813" y="728"/>
                </a:cubicBezTo>
                <a:cubicBezTo>
                  <a:pt x="817" y="744"/>
                  <a:pt x="814" y="787"/>
                  <a:pt x="810" y="803"/>
                </a:cubicBezTo>
                <a:cubicBezTo>
                  <a:pt x="806" y="819"/>
                  <a:pt x="794" y="816"/>
                  <a:pt x="789" y="822"/>
                </a:cubicBezTo>
                <a:cubicBezTo>
                  <a:pt x="786" y="839"/>
                  <a:pt x="779" y="831"/>
                  <a:pt x="777" y="837"/>
                </a:cubicBezTo>
                <a:cubicBezTo>
                  <a:pt x="775" y="843"/>
                  <a:pt x="781" y="851"/>
                  <a:pt x="777" y="857"/>
                </a:cubicBezTo>
                <a:cubicBezTo>
                  <a:pt x="773" y="863"/>
                  <a:pt x="764" y="863"/>
                  <a:pt x="755" y="872"/>
                </a:cubicBezTo>
                <a:cubicBezTo>
                  <a:pt x="749" y="884"/>
                  <a:pt x="725" y="899"/>
                  <a:pt x="722" y="912"/>
                </a:cubicBezTo>
                <a:cubicBezTo>
                  <a:pt x="720" y="920"/>
                  <a:pt x="710" y="935"/>
                  <a:pt x="710" y="935"/>
                </a:cubicBezTo>
                <a:cubicBezTo>
                  <a:pt x="706" y="947"/>
                  <a:pt x="715" y="959"/>
                  <a:pt x="711" y="971"/>
                </a:cubicBezTo>
                <a:cubicBezTo>
                  <a:pt x="707" y="983"/>
                  <a:pt x="688" y="1000"/>
                  <a:pt x="683" y="1011"/>
                </a:cubicBezTo>
                <a:cubicBezTo>
                  <a:pt x="678" y="1022"/>
                  <a:pt x="683" y="1032"/>
                  <a:pt x="678" y="1038"/>
                </a:cubicBezTo>
                <a:cubicBezTo>
                  <a:pt x="673" y="1044"/>
                  <a:pt x="662" y="1044"/>
                  <a:pt x="656" y="1047"/>
                </a:cubicBezTo>
                <a:cubicBezTo>
                  <a:pt x="651" y="1049"/>
                  <a:pt x="648" y="1054"/>
                  <a:pt x="644" y="1056"/>
                </a:cubicBezTo>
                <a:cubicBezTo>
                  <a:pt x="640" y="1058"/>
                  <a:pt x="640" y="1058"/>
                  <a:pt x="635" y="1061"/>
                </a:cubicBezTo>
                <a:cubicBezTo>
                  <a:pt x="631" y="1067"/>
                  <a:pt x="615" y="1074"/>
                  <a:pt x="615" y="1074"/>
                </a:cubicBezTo>
                <a:cubicBezTo>
                  <a:pt x="600" y="1044"/>
                  <a:pt x="578" y="1049"/>
                  <a:pt x="552" y="1035"/>
                </a:cubicBezTo>
                <a:cubicBezTo>
                  <a:pt x="538" y="1026"/>
                  <a:pt x="541" y="1036"/>
                  <a:pt x="528" y="1031"/>
                </a:cubicBezTo>
                <a:cubicBezTo>
                  <a:pt x="515" y="1026"/>
                  <a:pt x="493" y="1007"/>
                  <a:pt x="474" y="1005"/>
                </a:cubicBezTo>
                <a:cubicBezTo>
                  <a:pt x="422" y="1008"/>
                  <a:pt x="442" y="1000"/>
                  <a:pt x="411" y="1020"/>
                </a:cubicBezTo>
                <a:cubicBezTo>
                  <a:pt x="371" y="1047"/>
                  <a:pt x="430" y="1008"/>
                  <a:pt x="393" y="1029"/>
                </a:cubicBezTo>
                <a:cubicBezTo>
                  <a:pt x="387" y="1033"/>
                  <a:pt x="375" y="1041"/>
                  <a:pt x="375" y="1041"/>
                </a:cubicBezTo>
                <a:cubicBezTo>
                  <a:pt x="372" y="1040"/>
                  <a:pt x="367" y="1041"/>
                  <a:pt x="366" y="1038"/>
                </a:cubicBezTo>
                <a:cubicBezTo>
                  <a:pt x="361" y="1029"/>
                  <a:pt x="374" y="1013"/>
                  <a:pt x="374" y="1013"/>
                </a:cubicBezTo>
                <a:cubicBezTo>
                  <a:pt x="375" y="1005"/>
                  <a:pt x="386" y="982"/>
                  <a:pt x="384" y="975"/>
                </a:cubicBezTo>
                <a:cubicBezTo>
                  <a:pt x="382" y="968"/>
                  <a:pt x="369" y="970"/>
                  <a:pt x="363" y="971"/>
                </a:cubicBezTo>
                <a:cubicBezTo>
                  <a:pt x="357" y="972"/>
                  <a:pt x="358" y="976"/>
                  <a:pt x="347" y="980"/>
                </a:cubicBezTo>
                <a:cubicBezTo>
                  <a:pt x="326" y="987"/>
                  <a:pt x="316" y="995"/>
                  <a:pt x="294" y="998"/>
                </a:cubicBezTo>
                <a:cubicBezTo>
                  <a:pt x="281" y="1001"/>
                  <a:pt x="260" y="1009"/>
                  <a:pt x="252" y="1002"/>
                </a:cubicBezTo>
                <a:cubicBezTo>
                  <a:pt x="244" y="995"/>
                  <a:pt x="249" y="969"/>
                  <a:pt x="248" y="957"/>
                </a:cubicBezTo>
                <a:cubicBezTo>
                  <a:pt x="247" y="951"/>
                  <a:pt x="248" y="936"/>
                  <a:pt x="246" y="930"/>
                </a:cubicBezTo>
                <a:cubicBezTo>
                  <a:pt x="243" y="926"/>
                  <a:pt x="234" y="930"/>
                  <a:pt x="230" y="929"/>
                </a:cubicBezTo>
                <a:cubicBezTo>
                  <a:pt x="226" y="928"/>
                  <a:pt x="225" y="931"/>
                  <a:pt x="222" y="924"/>
                </a:cubicBezTo>
                <a:cubicBezTo>
                  <a:pt x="216" y="913"/>
                  <a:pt x="214" y="897"/>
                  <a:pt x="210" y="885"/>
                </a:cubicBezTo>
                <a:cubicBezTo>
                  <a:pt x="207" y="877"/>
                  <a:pt x="205" y="874"/>
                  <a:pt x="203" y="866"/>
                </a:cubicBezTo>
                <a:cubicBezTo>
                  <a:pt x="202" y="862"/>
                  <a:pt x="194" y="848"/>
                  <a:pt x="194" y="848"/>
                </a:cubicBezTo>
                <a:cubicBezTo>
                  <a:pt x="195" y="834"/>
                  <a:pt x="199" y="820"/>
                  <a:pt x="204" y="807"/>
                </a:cubicBezTo>
                <a:cubicBezTo>
                  <a:pt x="206" y="802"/>
                  <a:pt x="219" y="794"/>
                  <a:pt x="224" y="789"/>
                </a:cubicBezTo>
                <a:cubicBezTo>
                  <a:pt x="229" y="784"/>
                  <a:pt x="239" y="785"/>
                  <a:pt x="243" y="780"/>
                </a:cubicBezTo>
                <a:cubicBezTo>
                  <a:pt x="247" y="775"/>
                  <a:pt x="252" y="770"/>
                  <a:pt x="249" y="761"/>
                </a:cubicBezTo>
                <a:cubicBezTo>
                  <a:pt x="247" y="752"/>
                  <a:pt x="236" y="730"/>
                  <a:pt x="225" y="725"/>
                </a:cubicBezTo>
                <a:cubicBezTo>
                  <a:pt x="214" y="720"/>
                  <a:pt x="190" y="731"/>
                  <a:pt x="180" y="731"/>
                </a:cubicBezTo>
                <a:cubicBezTo>
                  <a:pt x="170" y="731"/>
                  <a:pt x="176" y="732"/>
                  <a:pt x="167" y="726"/>
                </a:cubicBezTo>
                <a:cubicBezTo>
                  <a:pt x="148" y="722"/>
                  <a:pt x="144" y="707"/>
                  <a:pt x="128" y="696"/>
                </a:cubicBezTo>
                <a:cubicBezTo>
                  <a:pt x="122" y="687"/>
                  <a:pt x="72" y="665"/>
                  <a:pt x="96" y="68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34040" y="2284560"/>
            <a:ext cx="1532160" cy="1303200"/>
          </a:xfrm>
          <a:custGeom>
            <a:avLst/>
            <a:gdLst/>
            <a:ahLst/>
            <a:rect l="l" t="t" r="r" b="b"/>
            <a:pathLst>
              <a:path w="965" h="821">
                <a:moveTo>
                  <a:pt x="21" y="113"/>
                </a:moveTo>
                <a:cubicBezTo>
                  <a:pt x="25" y="102"/>
                  <a:pt x="30" y="93"/>
                  <a:pt x="37" y="83"/>
                </a:cubicBezTo>
                <a:cubicBezTo>
                  <a:pt x="41" y="65"/>
                  <a:pt x="41" y="57"/>
                  <a:pt x="57" y="47"/>
                </a:cubicBezTo>
                <a:cubicBezTo>
                  <a:pt x="66" y="44"/>
                  <a:pt x="91" y="49"/>
                  <a:pt x="100" y="55"/>
                </a:cubicBezTo>
                <a:cubicBezTo>
                  <a:pt x="110" y="61"/>
                  <a:pt x="112" y="72"/>
                  <a:pt x="118" y="82"/>
                </a:cubicBezTo>
                <a:cubicBezTo>
                  <a:pt x="125" y="92"/>
                  <a:pt x="124" y="107"/>
                  <a:pt x="135" y="115"/>
                </a:cubicBezTo>
                <a:cubicBezTo>
                  <a:pt x="171" y="130"/>
                  <a:pt x="170" y="128"/>
                  <a:pt x="213" y="134"/>
                </a:cubicBezTo>
                <a:cubicBezTo>
                  <a:pt x="225" y="132"/>
                  <a:pt x="243" y="125"/>
                  <a:pt x="243" y="125"/>
                </a:cubicBezTo>
                <a:cubicBezTo>
                  <a:pt x="250" y="115"/>
                  <a:pt x="262" y="113"/>
                  <a:pt x="271" y="104"/>
                </a:cubicBezTo>
                <a:cubicBezTo>
                  <a:pt x="278" y="101"/>
                  <a:pt x="280" y="95"/>
                  <a:pt x="285" y="95"/>
                </a:cubicBezTo>
                <a:cubicBezTo>
                  <a:pt x="290" y="96"/>
                  <a:pt x="295" y="106"/>
                  <a:pt x="303" y="113"/>
                </a:cubicBezTo>
                <a:cubicBezTo>
                  <a:pt x="313" y="117"/>
                  <a:pt x="318" y="133"/>
                  <a:pt x="331" y="137"/>
                </a:cubicBezTo>
                <a:cubicBezTo>
                  <a:pt x="357" y="131"/>
                  <a:pt x="331" y="134"/>
                  <a:pt x="349" y="116"/>
                </a:cubicBezTo>
                <a:cubicBezTo>
                  <a:pt x="356" y="110"/>
                  <a:pt x="363" y="102"/>
                  <a:pt x="372" y="97"/>
                </a:cubicBezTo>
                <a:cubicBezTo>
                  <a:pt x="381" y="92"/>
                  <a:pt x="396" y="95"/>
                  <a:pt x="403" y="89"/>
                </a:cubicBezTo>
                <a:cubicBezTo>
                  <a:pt x="411" y="84"/>
                  <a:pt x="410" y="70"/>
                  <a:pt x="415" y="61"/>
                </a:cubicBezTo>
                <a:cubicBezTo>
                  <a:pt x="420" y="52"/>
                  <a:pt x="428" y="40"/>
                  <a:pt x="436" y="32"/>
                </a:cubicBezTo>
                <a:cubicBezTo>
                  <a:pt x="436" y="32"/>
                  <a:pt x="460" y="13"/>
                  <a:pt x="465" y="10"/>
                </a:cubicBezTo>
                <a:cubicBezTo>
                  <a:pt x="478" y="2"/>
                  <a:pt x="490" y="6"/>
                  <a:pt x="505" y="5"/>
                </a:cubicBezTo>
                <a:cubicBezTo>
                  <a:pt x="519" y="0"/>
                  <a:pt x="522" y="14"/>
                  <a:pt x="526" y="26"/>
                </a:cubicBezTo>
                <a:cubicBezTo>
                  <a:pt x="522" y="65"/>
                  <a:pt x="501" y="79"/>
                  <a:pt x="550" y="86"/>
                </a:cubicBezTo>
                <a:cubicBezTo>
                  <a:pt x="565" y="100"/>
                  <a:pt x="597" y="96"/>
                  <a:pt x="616" y="107"/>
                </a:cubicBezTo>
                <a:cubicBezTo>
                  <a:pt x="635" y="118"/>
                  <a:pt x="657" y="140"/>
                  <a:pt x="667" y="152"/>
                </a:cubicBezTo>
                <a:cubicBezTo>
                  <a:pt x="671" y="164"/>
                  <a:pt x="673" y="170"/>
                  <a:pt x="679" y="181"/>
                </a:cubicBezTo>
                <a:cubicBezTo>
                  <a:pt x="690" y="201"/>
                  <a:pt x="698" y="216"/>
                  <a:pt x="708" y="236"/>
                </a:cubicBezTo>
                <a:cubicBezTo>
                  <a:pt x="711" y="242"/>
                  <a:pt x="705" y="248"/>
                  <a:pt x="709" y="254"/>
                </a:cubicBezTo>
                <a:cubicBezTo>
                  <a:pt x="714" y="261"/>
                  <a:pt x="718" y="275"/>
                  <a:pt x="718" y="275"/>
                </a:cubicBezTo>
                <a:cubicBezTo>
                  <a:pt x="721" y="282"/>
                  <a:pt x="725" y="300"/>
                  <a:pt x="733" y="311"/>
                </a:cubicBezTo>
                <a:cubicBezTo>
                  <a:pt x="741" y="322"/>
                  <a:pt x="759" y="334"/>
                  <a:pt x="765" y="344"/>
                </a:cubicBezTo>
                <a:cubicBezTo>
                  <a:pt x="771" y="354"/>
                  <a:pt x="764" y="354"/>
                  <a:pt x="769" y="370"/>
                </a:cubicBezTo>
                <a:cubicBezTo>
                  <a:pt x="774" y="386"/>
                  <a:pt x="791" y="425"/>
                  <a:pt x="796" y="440"/>
                </a:cubicBezTo>
                <a:cubicBezTo>
                  <a:pt x="807" y="469"/>
                  <a:pt x="794" y="450"/>
                  <a:pt x="802" y="461"/>
                </a:cubicBezTo>
                <a:cubicBezTo>
                  <a:pt x="810" y="472"/>
                  <a:pt x="825" y="495"/>
                  <a:pt x="843" y="509"/>
                </a:cubicBezTo>
                <a:cubicBezTo>
                  <a:pt x="865" y="531"/>
                  <a:pt x="885" y="535"/>
                  <a:pt x="910" y="548"/>
                </a:cubicBezTo>
                <a:cubicBezTo>
                  <a:pt x="920" y="553"/>
                  <a:pt x="927" y="563"/>
                  <a:pt x="937" y="569"/>
                </a:cubicBezTo>
                <a:cubicBezTo>
                  <a:pt x="945" y="581"/>
                  <a:pt x="952" y="583"/>
                  <a:pt x="961" y="596"/>
                </a:cubicBezTo>
                <a:cubicBezTo>
                  <a:pt x="965" y="602"/>
                  <a:pt x="951" y="610"/>
                  <a:pt x="951" y="610"/>
                </a:cubicBezTo>
                <a:cubicBezTo>
                  <a:pt x="935" y="615"/>
                  <a:pt x="909" y="617"/>
                  <a:pt x="901" y="617"/>
                </a:cubicBezTo>
                <a:cubicBezTo>
                  <a:pt x="889" y="625"/>
                  <a:pt x="876" y="636"/>
                  <a:pt x="862" y="641"/>
                </a:cubicBezTo>
                <a:cubicBezTo>
                  <a:pt x="856" y="664"/>
                  <a:pt x="864" y="678"/>
                  <a:pt x="871" y="698"/>
                </a:cubicBezTo>
                <a:cubicBezTo>
                  <a:pt x="870" y="709"/>
                  <a:pt x="869" y="752"/>
                  <a:pt x="858" y="763"/>
                </a:cubicBezTo>
                <a:cubicBezTo>
                  <a:pt x="844" y="777"/>
                  <a:pt x="851" y="765"/>
                  <a:pt x="829" y="779"/>
                </a:cubicBezTo>
                <a:cubicBezTo>
                  <a:pt x="826" y="781"/>
                  <a:pt x="820" y="785"/>
                  <a:pt x="820" y="785"/>
                </a:cubicBezTo>
                <a:cubicBezTo>
                  <a:pt x="817" y="790"/>
                  <a:pt x="816" y="804"/>
                  <a:pt x="811" y="811"/>
                </a:cubicBezTo>
                <a:cubicBezTo>
                  <a:pt x="809" y="814"/>
                  <a:pt x="796" y="821"/>
                  <a:pt x="796" y="821"/>
                </a:cubicBezTo>
                <a:cubicBezTo>
                  <a:pt x="770" y="818"/>
                  <a:pt x="767" y="813"/>
                  <a:pt x="748" y="809"/>
                </a:cubicBezTo>
                <a:cubicBezTo>
                  <a:pt x="736" y="806"/>
                  <a:pt x="723" y="816"/>
                  <a:pt x="714" y="815"/>
                </a:cubicBezTo>
                <a:cubicBezTo>
                  <a:pt x="705" y="814"/>
                  <a:pt x="704" y="809"/>
                  <a:pt x="694" y="803"/>
                </a:cubicBezTo>
                <a:cubicBezTo>
                  <a:pt x="681" y="790"/>
                  <a:pt x="671" y="785"/>
                  <a:pt x="654" y="779"/>
                </a:cubicBezTo>
                <a:cubicBezTo>
                  <a:pt x="626" y="782"/>
                  <a:pt x="628" y="787"/>
                  <a:pt x="607" y="794"/>
                </a:cubicBezTo>
                <a:cubicBezTo>
                  <a:pt x="564" y="791"/>
                  <a:pt x="574" y="791"/>
                  <a:pt x="547" y="782"/>
                </a:cubicBezTo>
                <a:cubicBezTo>
                  <a:pt x="518" y="785"/>
                  <a:pt x="509" y="788"/>
                  <a:pt x="481" y="785"/>
                </a:cubicBezTo>
                <a:cubicBezTo>
                  <a:pt x="468" y="776"/>
                  <a:pt x="480" y="781"/>
                  <a:pt x="486" y="761"/>
                </a:cubicBezTo>
                <a:cubicBezTo>
                  <a:pt x="488" y="755"/>
                  <a:pt x="481" y="743"/>
                  <a:pt x="481" y="743"/>
                </a:cubicBezTo>
                <a:cubicBezTo>
                  <a:pt x="480" y="730"/>
                  <a:pt x="479" y="723"/>
                  <a:pt x="471" y="713"/>
                </a:cubicBezTo>
                <a:cubicBezTo>
                  <a:pt x="462" y="702"/>
                  <a:pt x="454" y="692"/>
                  <a:pt x="444" y="680"/>
                </a:cubicBezTo>
                <a:cubicBezTo>
                  <a:pt x="435" y="669"/>
                  <a:pt x="426" y="653"/>
                  <a:pt x="418" y="641"/>
                </a:cubicBezTo>
                <a:cubicBezTo>
                  <a:pt x="415" y="631"/>
                  <a:pt x="418" y="631"/>
                  <a:pt x="418" y="631"/>
                </a:cubicBezTo>
                <a:cubicBezTo>
                  <a:pt x="421" y="615"/>
                  <a:pt x="423" y="611"/>
                  <a:pt x="426" y="595"/>
                </a:cubicBezTo>
                <a:cubicBezTo>
                  <a:pt x="440" y="574"/>
                  <a:pt x="438" y="576"/>
                  <a:pt x="453" y="566"/>
                </a:cubicBezTo>
                <a:cubicBezTo>
                  <a:pt x="459" y="539"/>
                  <a:pt x="475" y="538"/>
                  <a:pt x="489" y="524"/>
                </a:cubicBezTo>
                <a:cubicBezTo>
                  <a:pt x="510" y="520"/>
                  <a:pt x="514" y="506"/>
                  <a:pt x="514" y="506"/>
                </a:cubicBezTo>
                <a:cubicBezTo>
                  <a:pt x="527" y="489"/>
                  <a:pt x="532" y="485"/>
                  <a:pt x="523" y="461"/>
                </a:cubicBezTo>
                <a:cubicBezTo>
                  <a:pt x="519" y="451"/>
                  <a:pt x="489" y="454"/>
                  <a:pt x="483" y="440"/>
                </a:cubicBezTo>
                <a:cubicBezTo>
                  <a:pt x="465" y="436"/>
                  <a:pt x="447" y="455"/>
                  <a:pt x="447" y="455"/>
                </a:cubicBezTo>
                <a:cubicBezTo>
                  <a:pt x="432" y="470"/>
                  <a:pt x="418" y="478"/>
                  <a:pt x="397" y="485"/>
                </a:cubicBezTo>
                <a:cubicBezTo>
                  <a:pt x="369" y="481"/>
                  <a:pt x="364" y="474"/>
                  <a:pt x="388" y="458"/>
                </a:cubicBezTo>
                <a:cubicBezTo>
                  <a:pt x="394" y="449"/>
                  <a:pt x="397" y="440"/>
                  <a:pt x="403" y="431"/>
                </a:cubicBezTo>
                <a:cubicBezTo>
                  <a:pt x="382" y="415"/>
                  <a:pt x="355" y="405"/>
                  <a:pt x="333" y="391"/>
                </a:cubicBezTo>
                <a:cubicBezTo>
                  <a:pt x="321" y="382"/>
                  <a:pt x="337" y="381"/>
                  <a:pt x="334" y="373"/>
                </a:cubicBezTo>
                <a:cubicBezTo>
                  <a:pt x="331" y="365"/>
                  <a:pt x="313" y="355"/>
                  <a:pt x="312" y="344"/>
                </a:cubicBezTo>
                <a:cubicBezTo>
                  <a:pt x="318" y="334"/>
                  <a:pt x="343" y="326"/>
                  <a:pt x="328" y="308"/>
                </a:cubicBezTo>
                <a:cubicBezTo>
                  <a:pt x="325" y="292"/>
                  <a:pt x="327" y="309"/>
                  <a:pt x="313" y="295"/>
                </a:cubicBezTo>
                <a:cubicBezTo>
                  <a:pt x="304" y="286"/>
                  <a:pt x="304" y="278"/>
                  <a:pt x="295" y="269"/>
                </a:cubicBezTo>
                <a:cubicBezTo>
                  <a:pt x="276" y="250"/>
                  <a:pt x="210" y="239"/>
                  <a:pt x="184" y="233"/>
                </a:cubicBezTo>
                <a:cubicBezTo>
                  <a:pt x="161" y="223"/>
                  <a:pt x="175" y="219"/>
                  <a:pt x="165" y="209"/>
                </a:cubicBezTo>
                <a:cubicBezTo>
                  <a:pt x="155" y="199"/>
                  <a:pt x="139" y="188"/>
                  <a:pt x="124" y="175"/>
                </a:cubicBezTo>
                <a:cubicBezTo>
                  <a:pt x="105" y="160"/>
                  <a:pt x="85" y="143"/>
                  <a:pt x="72" y="134"/>
                </a:cubicBezTo>
                <a:cubicBezTo>
                  <a:pt x="59" y="125"/>
                  <a:pt x="52" y="126"/>
                  <a:pt x="43" y="122"/>
                </a:cubicBezTo>
                <a:cubicBezTo>
                  <a:pt x="34" y="118"/>
                  <a:pt x="23" y="109"/>
                  <a:pt x="19" y="107"/>
                </a:cubicBezTo>
                <a:cubicBezTo>
                  <a:pt x="0" y="113"/>
                  <a:pt x="17" y="111"/>
                  <a:pt x="16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8440" y="2222640"/>
            <a:ext cx="7797600" cy="3063600"/>
          </a:xfrm>
          <a:custGeom>
            <a:avLst/>
            <a:gdLst/>
            <a:ahLst/>
            <a:rect l="l" t="t" r="r" b="b"/>
            <a:pathLst>
              <a:path w="4912" h="1930">
                <a:moveTo>
                  <a:pt x="0" y="168"/>
                </a:moveTo>
                <a:cubicBezTo>
                  <a:pt x="18" y="141"/>
                  <a:pt x="22" y="115"/>
                  <a:pt x="40" y="88"/>
                </a:cubicBezTo>
                <a:cubicBezTo>
                  <a:pt x="43" y="51"/>
                  <a:pt x="62" y="44"/>
                  <a:pt x="72" y="8"/>
                </a:cubicBezTo>
                <a:cubicBezTo>
                  <a:pt x="74" y="0"/>
                  <a:pt x="118" y="26"/>
                  <a:pt x="126" y="29"/>
                </a:cubicBezTo>
                <a:cubicBezTo>
                  <a:pt x="135" y="33"/>
                  <a:pt x="103" y="20"/>
                  <a:pt x="111" y="26"/>
                </a:cubicBezTo>
                <a:cubicBezTo>
                  <a:pt x="118" y="31"/>
                  <a:pt x="131" y="28"/>
                  <a:pt x="138" y="32"/>
                </a:cubicBezTo>
                <a:cubicBezTo>
                  <a:pt x="155" y="41"/>
                  <a:pt x="143" y="23"/>
                  <a:pt x="160" y="32"/>
                </a:cubicBezTo>
                <a:cubicBezTo>
                  <a:pt x="212" y="58"/>
                  <a:pt x="243" y="62"/>
                  <a:pt x="282" y="89"/>
                </a:cubicBezTo>
                <a:cubicBezTo>
                  <a:pt x="315" y="100"/>
                  <a:pt x="315" y="81"/>
                  <a:pt x="360" y="74"/>
                </a:cubicBezTo>
                <a:cubicBezTo>
                  <a:pt x="383" y="76"/>
                  <a:pt x="391" y="105"/>
                  <a:pt x="423" y="101"/>
                </a:cubicBezTo>
                <a:cubicBezTo>
                  <a:pt x="455" y="97"/>
                  <a:pt x="509" y="55"/>
                  <a:pt x="552" y="48"/>
                </a:cubicBezTo>
                <a:cubicBezTo>
                  <a:pt x="595" y="51"/>
                  <a:pt x="638" y="49"/>
                  <a:pt x="680" y="56"/>
                </a:cubicBezTo>
                <a:cubicBezTo>
                  <a:pt x="716" y="62"/>
                  <a:pt x="715" y="133"/>
                  <a:pt x="747" y="149"/>
                </a:cubicBezTo>
                <a:cubicBezTo>
                  <a:pt x="767" y="159"/>
                  <a:pt x="822" y="222"/>
                  <a:pt x="843" y="227"/>
                </a:cubicBezTo>
                <a:cubicBezTo>
                  <a:pt x="900" y="313"/>
                  <a:pt x="953" y="311"/>
                  <a:pt x="992" y="408"/>
                </a:cubicBezTo>
                <a:cubicBezTo>
                  <a:pt x="1016" y="467"/>
                  <a:pt x="1044" y="500"/>
                  <a:pt x="1092" y="557"/>
                </a:cubicBezTo>
                <a:cubicBezTo>
                  <a:pt x="1113" y="596"/>
                  <a:pt x="1136" y="593"/>
                  <a:pt x="1149" y="632"/>
                </a:cubicBezTo>
                <a:cubicBezTo>
                  <a:pt x="1163" y="670"/>
                  <a:pt x="1171" y="748"/>
                  <a:pt x="1176" y="788"/>
                </a:cubicBezTo>
                <a:cubicBezTo>
                  <a:pt x="1184" y="827"/>
                  <a:pt x="1179" y="776"/>
                  <a:pt x="1182" y="875"/>
                </a:cubicBezTo>
                <a:cubicBezTo>
                  <a:pt x="1190" y="911"/>
                  <a:pt x="1213" y="968"/>
                  <a:pt x="1224" y="1004"/>
                </a:cubicBezTo>
                <a:cubicBezTo>
                  <a:pt x="1235" y="1040"/>
                  <a:pt x="1248" y="1059"/>
                  <a:pt x="1248" y="1091"/>
                </a:cubicBezTo>
                <a:cubicBezTo>
                  <a:pt x="1248" y="1123"/>
                  <a:pt x="1227" y="1147"/>
                  <a:pt x="1221" y="1196"/>
                </a:cubicBezTo>
                <a:cubicBezTo>
                  <a:pt x="1215" y="1245"/>
                  <a:pt x="1210" y="1338"/>
                  <a:pt x="1212" y="1385"/>
                </a:cubicBezTo>
                <a:cubicBezTo>
                  <a:pt x="1213" y="1408"/>
                  <a:pt x="1219" y="1458"/>
                  <a:pt x="1230" y="1478"/>
                </a:cubicBezTo>
                <a:cubicBezTo>
                  <a:pt x="1240" y="1511"/>
                  <a:pt x="1239" y="1579"/>
                  <a:pt x="1257" y="1610"/>
                </a:cubicBezTo>
                <a:cubicBezTo>
                  <a:pt x="1273" y="1646"/>
                  <a:pt x="1305" y="1698"/>
                  <a:pt x="1323" y="1694"/>
                </a:cubicBezTo>
                <a:cubicBezTo>
                  <a:pt x="1346" y="1664"/>
                  <a:pt x="1334" y="1604"/>
                  <a:pt x="1365" y="1583"/>
                </a:cubicBezTo>
                <a:cubicBezTo>
                  <a:pt x="1374" y="1572"/>
                  <a:pt x="1398" y="1577"/>
                  <a:pt x="1404" y="1613"/>
                </a:cubicBezTo>
                <a:cubicBezTo>
                  <a:pt x="1410" y="1633"/>
                  <a:pt x="1401" y="1678"/>
                  <a:pt x="1398" y="1703"/>
                </a:cubicBezTo>
                <a:cubicBezTo>
                  <a:pt x="1395" y="1728"/>
                  <a:pt x="1380" y="1742"/>
                  <a:pt x="1383" y="1766"/>
                </a:cubicBezTo>
                <a:cubicBezTo>
                  <a:pt x="1386" y="1790"/>
                  <a:pt x="1401" y="1833"/>
                  <a:pt x="1413" y="1847"/>
                </a:cubicBezTo>
                <a:cubicBezTo>
                  <a:pt x="1425" y="1867"/>
                  <a:pt x="1403" y="1852"/>
                  <a:pt x="1455" y="1853"/>
                </a:cubicBezTo>
                <a:cubicBezTo>
                  <a:pt x="1479" y="1850"/>
                  <a:pt x="1534" y="1834"/>
                  <a:pt x="1560" y="1829"/>
                </a:cubicBezTo>
                <a:cubicBezTo>
                  <a:pt x="1586" y="1824"/>
                  <a:pt x="1598" y="1815"/>
                  <a:pt x="1614" y="1820"/>
                </a:cubicBezTo>
                <a:cubicBezTo>
                  <a:pt x="1630" y="1825"/>
                  <a:pt x="1652" y="1845"/>
                  <a:pt x="1656" y="1862"/>
                </a:cubicBezTo>
                <a:cubicBezTo>
                  <a:pt x="1660" y="1879"/>
                  <a:pt x="1629" y="1921"/>
                  <a:pt x="1641" y="1925"/>
                </a:cubicBezTo>
                <a:cubicBezTo>
                  <a:pt x="1652" y="1930"/>
                  <a:pt x="1700" y="1893"/>
                  <a:pt x="1728" y="1889"/>
                </a:cubicBezTo>
                <a:cubicBezTo>
                  <a:pt x="1756" y="1885"/>
                  <a:pt x="1794" y="1904"/>
                  <a:pt x="1809" y="1901"/>
                </a:cubicBezTo>
                <a:cubicBezTo>
                  <a:pt x="1838" y="1891"/>
                  <a:pt x="1815" y="1891"/>
                  <a:pt x="1821" y="1871"/>
                </a:cubicBezTo>
                <a:cubicBezTo>
                  <a:pt x="1827" y="1851"/>
                  <a:pt x="1841" y="1806"/>
                  <a:pt x="1845" y="1781"/>
                </a:cubicBezTo>
                <a:cubicBezTo>
                  <a:pt x="1856" y="1757"/>
                  <a:pt x="1836" y="1745"/>
                  <a:pt x="1845" y="1721"/>
                </a:cubicBezTo>
                <a:cubicBezTo>
                  <a:pt x="1854" y="1697"/>
                  <a:pt x="1877" y="1670"/>
                  <a:pt x="1899" y="1637"/>
                </a:cubicBezTo>
                <a:cubicBezTo>
                  <a:pt x="1965" y="1588"/>
                  <a:pt x="1944" y="1600"/>
                  <a:pt x="1977" y="1523"/>
                </a:cubicBezTo>
                <a:cubicBezTo>
                  <a:pt x="2001" y="1490"/>
                  <a:pt x="2004" y="1462"/>
                  <a:pt x="2040" y="1430"/>
                </a:cubicBezTo>
                <a:cubicBezTo>
                  <a:pt x="2082" y="1410"/>
                  <a:pt x="2177" y="1412"/>
                  <a:pt x="2229" y="1403"/>
                </a:cubicBezTo>
                <a:cubicBezTo>
                  <a:pt x="2279" y="1391"/>
                  <a:pt x="2314" y="1390"/>
                  <a:pt x="2352" y="1376"/>
                </a:cubicBezTo>
                <a:cubicBezTo>
                  <a:pt x="2391" y="1359"/>
                  <a:pt x="2434" y="1323"/>
                  <a:pt x="2463" y="1301"/>
                </a:cubicBezTo>
                <a:cubicBezTo>
                  <a:pt x="2489" y="1294"/>
                  <a:pt x="2505" y="1256"/>
                  <a:pt x="2529" y="1244"/>
                </a:cubicBezTo>
                <a:cubicBezTo>
                  <a:pt x="2538" y="1240"/>
                  <a:pt x="2552" y="1233"/>
                  <a:pt x="2559" y="1226"/>
                </a:cubicBezTo>
                <a:cubicBezTo>
                  <a:pt x="2575" y="1210"/>
                  <a:pt x="2614" y="1233"/>
                  <a:pt x="2634" y="1226"/>
                </a:cubicBezTo>
                <a:cubicBezTo>
                  <a:pt x="2674" y="1231"/>
                  <a:pt x="2654" y="1184"/>
                  <a:pt x="2694" y="1190"/>
                </a:cubicBezTo>
                <a:cubicBezTo>
                  <a:pt x="2726" y="1195"/>
                  <a:pt x="2763" y="1115"/>
                  <a:pt x="2763" y="1115"/>
                </a:cubicBezTo>
                <a:cubicBezTo>
                  <a:pt x="2784" y="1090"/>
                  <a:pt x="2782" y="1050"/>
                  <a:pt x="2808" y="1028"/>
                </a:cubicBezTo>
                <a:cubicBezTo>
                  <a:pt x="2834" y="1006"/>
                  <a:pt x="2875" y="994"/>
                  <a:pt x="2919" y="986"/>
                </a:cubicBezTo>
                <a:cubicBezTo>
                  <a:pt x="2924" y="975"/>
                  <a:pt x="3060" y="983"/>
                  <a:pt x="3072" y="980"/>
                </a:cubicBezTo>
                <a:cubicBezTo>
                  <a:pt x="3096" y="975"/>
                  <a:pt x="3156" y="994"/>
                  <a:pt x="3195" y="989"/>
                </a:cubicBezTo>
                <a:cubicBezTo>
                  <a:pt x="3229" y="988"/>
                  <a:pt x="3246" y="996"/>
                  <a:pt x="3264" y="1016"/>
                </a:cubicBezTo>
                <a:cubicBezTo>
                  <a:pt x="3286" y="1036"/>
                  <a:pt x="3318" y="1076"/>
                  <a:pt x="3327" y="1106"/>
                </a:cubicBezTo>
                <a:cubicBezTo>
                  <a:pt x="3363" y="1103"/>
                  <a:pt x="3359" y="1114"/>
                  <a:pt x="3396" y="1100"/>
                </a:cubicBezTo>
                <a:cubicBezTo>
                  <a:pt x="3428" y="1116"/>
                  <a:pt x="3414" y="1088"/>
                  <a:pt x="3435" y="1109"/>
                </a:cubicBezTo>
                <a:cubicBezTo>
                  <a:pt x="3495" y="1133"/>
                  <a:pt x="3460" y="1107"/>
                  <a:pt x="3480" y="1130"/>
                </a:cubicBezTo>
                <a:cubicBezTo>
                  <a:pt x="3498" y="1150"/>
                  <a:pt x="3487" y="1220"/>
                  <a:pt x="3507" y="1238"/>
                </a:cubicBezTo>
                <a:cubicBezTo>
                  <a:pt x="3517" y="1247"/>
                  <a:pt x="3561" y="1247"/>
                  <a:pt x="3573" y="1253"/>
                </a:cubicBezTo>
                <a:cubicBezTo>
                  <a:pt x="3593" y="1262"/>
                  <a:pt x="3624" y="1256"/>
                  <a:pt x="3645" y="1259"/>
                </a:cubicBezTo>
                <a:cubicBezTo>
                  <a:pt x="3661" y="1264"/>
                  <a:pt x="3664" y="1230"/>
                  <a:pt x="3681" y="1232"/>
                </a:cubicBezTo>
                <a:cubicBezTo>
                  <a:pt x="3712" y="1235"/>
                  <a:pt x="3703" y="1220"/>
                  <a:pt x="3717" y="1202"/>
                </a:cubicBezTo>
                <a:cubicBezTo>
                  <a:pt x="3727" y="1189"/>
                  <a:pt x="3750" y="1163"/>
                  <a:pt x="3750" y="1124"/>
                </a:cubicBezTo>
                <a:cubicBezTo>
                  <a:pt x="3786" y="1106"/>
                  <a:pt x="3789" y="1052"/>
                  <a:pt x="3825" y="1034"/>
                </a:cubicBezTo>
                <a:cubicBezTo>
                  <a:pt x="3833" y="1023"/>
                  <a:pt x="3895" y="1073"/>
                  <a:pt x="3904" y="1064"/>
                </a:cubicBezTo>
                <a:cubicBezTo>
                  <a:pt x="3923" y="1070"/>
                  <a:pt x="3934" y="1076"/>
                  <a:pt x="3954" y="1094"/>
                </a:cubicBezTo>
                <a:cubicBezTo>
                  <a:pt x="3974" y="1112"/>
                  <a:pt x="3996" y="1158"/>
                  <a:pt x="4023" y="1172"/>
                </a:cubicBezTo>
                <a:cubicBezTo>
                  <a:pt x="4050" y="1184"/>
                  <a:pt x="4091" y="1179"/>
                  <a:pt x="4119" y="1178"/>
                </a:cubicBezTo>
                <a:cubicBezTo>
                  <a:pt x="4147" y="1177"/>
                  <a:pt x="4166" y="1185"/>
                  <a:pt x="4191" y="1166"/>
                </a:cubicBezTo>
                <a:cubicBezTo>
                  <a:pt x="4244" y="1163"/>
                  <a:pt x="4245" y="1103"/>
                  <a:pt x="4266" y="1064"/>
                </a:cubicBezTo>
                <a:cubicBezTo>
                  <a:pt x="4282" y="1063"/>
                  <a:pt x="4275" y="1025"/>
                  <a:pt x="4329" y="989"/>
                </a:cubicBezTo>
                <a:cubicBezTo>
                  <a:pt x="4343" y="975"/>
                  <a:pt x="4357" y="956"/>
                  <a:pt x="4362" y="938"/>
                </a:cubicBezTo>
                <a:cubicBezTo>
                  <a:pt x="4380" y="907"/>
                  <a:pt x="4467" y="836"/>
                  <a:pt x="4488" y="809"/>
                </a:cubicBezTo>
                <a:cubicBezTo>
                  <a:pt x="4509" y="782"/>
                  <a:pt x="4481" y="798"/>
                  <a:pt x="4488" y="776"/>
                </a:cubicBezTo>
                <a:cubicBezTo>
                  <a:pt x="4496" y="762"/>
                  <a:pt x="4498" y="695"/>
                  <a:pt x="4530" y="674"/>
                </a:cubicBezTo>
                <a:cubicBezTo>
                  <a:pt x="4560" y="651"/>
                  <a:pt x="4638" y="643"/>
                  <a:pt x="4671" y="638"/>
                </a:cubicBezTo>
                <a:cubicBezTo>
                  <a:pt x="4701" y="635"/>
                  <a:pt x="4716" y="636"/>
                  <a:pt x="4731" y="644"/>
                </a:cubicBezTo>
                <a:cubicBezTo>
                  <a:pt x="4746" y="652"/>
                  <a:pt x="4748" y="687"/>
                  <a:pt x="4761" y="689"/>
                </a:cubicBezTo>
                <a:cubicBezTo>
                  <a:pt x="4774" y="691"/>
                  <a:pt x="4787" y="660"/>
                  <a:pt x="4812" y="659"/>
                </a:cubicBezTo>
                <a:cubicBezTo>
                  <a:pt x="4837" y="658"/>
                  <a:pt x="4891" y="677"/>
                  <a:pt x="4912" y="682"/>
                </a:cubicBezTo>
              </a:path>
            </a:pathLst>
          </a:custGeom>
          <a:noFill/>
          <a:ln w="381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838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长江水系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4560" y="2228760"/>
            <a:ext cx="5221440" cy="3056040"/>
          </a:xfrm>
          <a:custGeom>
            <a:avLst/>
            <a:gdLst/>
            <a:ahLst/>
            <a:rect l="l" t="t" r="r" b="b"/>
            <a:pathLst>
              <a:path w="3289" h="1925">
                <a:moveTo>
                  <a:pt x="0" y="162"/>
                </a:moveTo>
                <a:cubicBezTo>
                  <a:pt x="11" y="129"/>
                  <a:pt x="32" y="85"/>
                  <a:pt x="46" y="54"/>
                </a:cubicBezTo>
                <a:cubicBezTo>
                  <a:pt x="65" y="10"/>
                  <a:pt x="58" y="26"/>
                  <a:pt x="76" y="6"/>
                </a:cubicBezTo>
                <a:cubicBezTo>
                  <a:pt x="89" y="0"/>
                  <a:pt x="111" y="20"/>
                  <a:pt x="124" y="24"/>
                </a:cubicBezTo>
                <a:cubicBezTo>
                  <a:pt x="137" y="27"/>
                  <a:pt x="127" y="14"/>
                  <a:pt x="156" y="24"/>
                </a:cubicBezTo>
                <a:cubicBezTo>
                  <a:pt x="185" y="34"/>
                  <a:pt x="265" y="76"/>
                  <a:pt x="298" y="84"/>
                </a:cubicBezTo>
                <a:cubicBezTo>
                  <a:pt x="332" y="96"/>
                  <a:pt x="339" y="70"/>
                  <a:pt x="356" y="72"/>
                </a:cubicBezTo>
                <a:cubicBezTo>
                  <a:pt x="373" y="74"/>
                  <a:pt x="378" y="100"/>
                  <a:pt x="402" y="98"/>
                </a:cubicBezTo>
                <a:cubicBezTo>
                  <a:pt x="426" y="96"/>
                  <a:pt x="477" y="69"/>
                  <a:pt x="500" y="60"/>
                </a:cubicBezTo>
                <a:cubicBezTo>
                  <a:pt x="523" y="53"/>
                  <a:pt x="528" y="46"/>
                  <a:pt x="542" y="44"/>
                </a:cubicBezTo>
                <a:cubicBezTo>
                  <a:pt x="556" y="42"/>
                  <a:pt x="565" y="45"/>
                  <a:pt x="584" y="46"/>
                </a:cubicBezTo>
                <a:cubicBezTo>
                  <a:pt x="602" y="48"/>
                  <a:pt x="637" y="40"/>
                  <a:pt x="658" y="48"/>
                </a:cubicBezTo>
                <a:cubicBezTo>
                  <a:pt x="676" y="51"/>
                  <a:pt x="682" y="58"/>
                  <a:pt x="690" y="66"/>
                </a:cubicBezTo>
                <a:cubicBezTo>
                  <a:pt x="698" y="74"/>
                  <a:pt x="700" y="83"/>
                  <a:pt x="708" y="96"/>
                </a:cubicBezTo>
                <a:cubicBezTo>
                  <a:pt x="718" y="107"/>
                  <a:pt x="723" y="127"/>
                  <a:pt x="740" y="144"/>
                </a:cubicBezTo>
                <a:cubicBezTo>
                  <a:pt x="757" y="161"/>
                  <a:pt x="789" y="181"/>
                  <a:pt x="808" y="198"/>
                </a:cubicBezTo>
                <a:cubicBezTo>
                  <a:pt x="821" y="224"/>
                  <a:pt x="838" y="219"/>
                  <a:pt x="852" y="244"/>
                </a:cubicBezTo>
                <a:cubicBezTo>
                  <a:pt x="876" y="286"/>
                  <a:pt x="923" y="304"/>
                  <a:pt x="952" y="342"/>
                </a:cubicBezTo>
                <a:cubicBezTo>
                  <a:pt x="960" y="373"/>
                  <a:pt x="1013" y="449"/>
                  <a:pt x="1032" y="474"/>
                </a:cubicBezTo>
                <a:cubicBezTo>
                  <a:pt x="1040" y="498"/>
                  <a:pt x="1072" y="526"/>
                  <a:pt x="1080" y="550"/>
                </a:cubicBezTo>
                <a:cubicBezTo>
                  <a:pt x="1083" y="559"/>
                  <a:pt x="1125" y="599"/>
                  <a:pt x="1132" y="606"/>
                </a:cubicBezTo>
                <a:cubicBezTo>
                  <a:pt x="1157" y="634"/>
                  <a:pt x="1152" y="679"/>
                  <a:pt x="1168" y="712"/>
                </a:cubicBezTo>
                <a:cubicBezTo>
                  <a:pt x="1187" y="749"/>
                  <a:pt x="1152" y="764"/>
                  <a:pt x="1176" y="802"/>
                </a:cubicBezTo>
                <a:cubicBezTo>
                  <a:pt x="1181" y="810"/>
                  <a:pt x="1171" y="818"/>
                  <a:pt x="1178" y="826"/>
                </a:cubicBezTo>
                <a:cubicBezTo>
                  <a:pt x="1185" y="835"/>
                  <a:pt x="1162" y="825"/>
                  <a:pt x="1168" y="834"/>
                </a:cubicBezTo>
                <a:cubicBezTo>
                  <a:pt x="1187" y="862"/>
                  <a:pt x="1186" y="905"/>
                  <a:pt x="1194" y="938"/>
                </a:cubicBezTo>
                <a:cubicBezTo>
                  <a:pt x="1199" y="973"/>
                  <a:pt x="1241" y="993"/>
                  <a:pt x="1246" y="1086"/>
                </a:cubicBezTo>
                <a:cubicBezTo>
                  <a:pt x="1250" y="1122"/>
                  <a:pt x="1224" y="1128"/>
                  <a:pt x="1218" y="1156"/>
                </a:cubicBezTo>
                <a:cubicBezTo>
                  <a:pt x="1212" y="1184"/>
                  <a:pt x="1212" y="1210"/>
                  <a:pt x="1210" y="1252"/>
                </a:cubicBezTo>
                <a:cubicBezTo>
                  <a:pt x="1208" y="1294"/>
                  <a:pt x="1204" y="1367"/>
                  <a:pt x="1208" y="1408"/>
                </a:cubicBezTo>
                <a:cubicBezTo>
                  <a:pt x="1212" y="1449"/>
                  <a:pt x="1219" y="1454"/>
                  <a:pt x="1232" y="1496"/>
                </a:cubicBezTo>
                <a:cubicBezTo>
                  <a:pt x="1234" y="1548"/>
                  <a:pt x="1241" y="1631"/>
                  <a:pt x="1288" y="1662"/>
                </a:cubicBezTo>
                <a:cubicBezTo>
                  <a:pt x="1318" y="1706"/>
                  <a:pt x="1308" y="1700"/>
                  <a:pt x="1328" y="1670"/>
                </a:cubicBezTo>
                <a:cubicBezTo>
                  <a:pt x="1339" y="1636"/>
                  <a:pt x="1341" y="1597"/>
                  <a:pt x="1366" y="1572"/>
                </a:cubicBezTo>
                <a:cubicBezTo>
                  <a:pt x="1374" y="1563"/>
                  <a:pt x="1396" y="1579"/>
                  <a:pt x="1400" y="1608"/>
                </a:cubicBezTo>
                <a:cubicBezTo>
                  <a:pt x="1405" y="1628"/>
                  <a:pt x="1398" y="1665"/>
                  <a:pt x="1396" y="1692"/>
                </a:cubicBezTo>
                <a:cubicBezTo>
                  <a:pt x="1394" y="1719"/>
                  <a:pt x="1382" y="1745"/>
                  <a:pt x="1386" y="1772"/>
                </a:cubicBezTo>
                <a:cubicBezTo>
                  <a:pt x="1388" y="1800"/>
                  <a:pt x="1392" y="1840"/>
                  <a:pt x="1422" y="1852"/>
                </a:cubicBezTo>
                <a:cubicBezTo>
                  <a:pt x="1452" y="1860"/>
                  <a:pt x="1537" y="1829"/>
                  <a:pt x="1566" y="1822"/>
                </a:cubicBezTo>
                <a:cubicBezTo>
                  <a:pt x="1595" y="1817"/>
                  <a:pt x="1586" y="1809"/>
                  <a:pt x="1598" y="1810"/>
                </a:cubicBezTo>
                <a:cubicBezTo>
                  <a:pt x="1610" y="1811"/>
                  <a:pt x="1628" y="1818"/>
                  <a:pt x="1638" y="1828"/>
                </a:cubicBezTo>
                <a:cubicBezTo>
                  <a:pt x="1645" y="1837"/>
                  <a:pt x="1657" y="1853"/>
                  <a:pt x="1656" y="1868"/>
                </a:cubicBezTo>
                <a:cubicBezTo>
                  <a:pt x="1655" y="1883"/>
                  <a:pt x="1619" y="1918"/>
                  <a:pt x="1630" y="1920"/>
                </a:cubicBezTo>
                <a:cubicBezTo>
                  <a:pt x="1641" y="1925"/>
                  <a:pt x="1687" y="1897"/>
                  <a:pt x="1722" y="1882"/>
                </a:cubicBezTo>
                <a:cubicBezTo>
                  <a:pt x="1752" y="1878"/>
                  <a:pt x="1795" y="1908"/>
                  <a:pt x="1812" y="1898"/>
                </a:cubicBezTo>
                <a:cubicBezTo>
                  <a:pt x="1829" y="1888"/>
                  <a:pt x="1820" y="1846"/>
                  <a:pt x="1826" y="1824"/>
                </a:cubicBezTo>
                <a:cubicBezTo>
                  <a:pt x="1829" y="1802"/>
                  <a:pt x="1844" y="1782"/>
                  <a:pt x="1846" y="1764"/>
                </a:cubicBezTo>
                <a:cubicBezTo>
                  <a:pt x="1848" y="1746"/>
                  <a:pt x="1838" y="1731"/>
                  <a:pt x="1840" y="1718"/>
                </a:cubicBezTo>
                <a:cubicBezTo>
                  <a:pt x="1842" y="1705"/>
                  <a:pt x="1845" y="1704"/>
                  <a:pt x="1858" y="1686"/>
                </a:cubicBezTo>
                <a:cubicBezTo>
                  <a:pt x="1863" y="1668"/>
                  <a:pt x="1901" y="1625"/>
                  <a:pt x="1916" y="1612"/>
                </a:cubicBezTo>
                <a:cubicBezTo>
                  <a:pt x="1946" y="1586"/>
                  <a:pt x="1948" y="1552"/>
                  <a:pt x="1976" y="1524"/>
                </a:cubicBezTo>
                <a:cubicBezTo>
                  <a:pt x="1978" y="1518"/>
                  <a:pt x="1993" y="1474"/>
                  <a:pt x="1996" y="1468"/>
                </a:cubicBezTo>
                <a:cubicBezTo>
                  <a:pt x="2003" y="1452"/>
                  <a:pt x="2013" y="1441"/>
                  <a:pt x="2030" y="1432"/>
                </a:cubicBezTo>
                <a:cubicBezTo>
                  <a:pt x="2047" y="1423"/>
                  <a:pt x="2077" y="1416"/>
                  <a:pt x="2096" y="1412"/>
                </a:cubicBezTo>
                <a:cubicBezTo>
                  <a:pt x="2114" y="1406"/>
                  <a:pt x="2124" y="1413"/>
                  <a:pt x="2146" y="1410"/>
                </a:cubicBezTo>
                <a:cubicBezTo>
                  <a:pt x="2168" y="1407"/>
                  <a:pt x="2196" y="1400"/>
                  <a:pt x="2228" y="1394"/>
                </a:cubicBezTo>
                <a:cubicBezTo>
                  <a:pt x="2264" y="1385"/>
                  <a:pt x="2301" y="1379"/>
                  <a:pt x="2338" y="1374"/>
                </a:cubicBezTo>
                <a:cubicBezTo>
                  <a:pt x="2362" y="1362"/>
                  <a:pt x="2384" y="1348"/>
                  <a:pt x="2408" y="1336"/>
                </a:cubicBezTo>
                <a:cubicBezTo>
                  <a:pt x="2443" y="1319"/>
                  <a:pt x="2445" y="1291"/>
                  <a:pt x="2484" y="1278"/>
                </a:cubicBezTo>
                <a:cubicBezTo>
                  <a:pt x="2497" y="1268"/>
                  <a:pt x="2548" y="1224"/>
                  <a:pt x="2560" y="1222"/>
                </a:cubicBezTo>
                <a:cubicBezTo>
                  <a:pt x="2584" y="1217"/>
                  <a:pt x="2606" y="1224"/>
                  <a:pt x="2630" y="1222"/>
                </a:cubicBezTo>
                <a:cubicBezTo>
                  <a:pt x="2640" y="1220"/>
                  <a:pt x="2655" y="1209"/>
                  <a:pt x="2662" y="1202"/>
                </a:cubicBezTo>
                <a:cubicBezTo>
                  <a:pt x="2675" y="1189"/>
                  <a:pt x="2678" y="1198"/>
                  <a:pt x="2686" y="1182"/>
                </a:cubicBezTo>
                <a:cubicBezTo>
                  <a:pt x="2694" y="1174"/>
                  <a:pt x="2722" y="1174"/>
                  <a:pt x="2730" y="1166"/>
                </a:cubicBezTo>
                <a:cubicBezTo>
                  <a:pt x="2741" y="1156"/>
                  <a:pt x="2742" y="1144"/>
                  <a:pt x="2752" y="1124"/>
                </a:cubicBezTo>
                <a:cubicBezTo>
                  <a:pt x="2774" y="1090"/>
                  <a:pt x="2759" y="1068"/>
                  <a:pt x="2792" y="1046"/>
                </a:cubicBezTo>
                <a:cubicBezTo>
                  <a:pt x="2797" y="1032"/>
                  <a:pt x="2803" y="1037"/>
                  <a:pt x="2812" y="1026"/>
                </a:cubicBezTo>
                <a:cubicBezTo>
                  <a:pt x="2827" y="1008"/>
                  <a:pt x="2889" y="981"/>
                  <a:pt x="2898" y="980"/>
                </a:cubicBezTo>
                <a:cubicBezTo>
                  <a:pt x="2942" y="975"/>
                  <a:pt x="2980" y="983"/>
                  <a:pt x="3022" y="972"/>
                </a:cubicBezTo>
                <a:cubicBezTo>
                  <a:pt x="3074" y="976"/>
                  <a:pt x="3136" y="975"/>
                  <a:pt x="3188" y="982"/>
                </a:cubicBezTo>
                <a:cubicBezTo>
                  <a:pt x="3197" y="983"/>
                  <a:pt x="3224" y="991"/>
                  <a:pt x="3232" y="994"/>
                </a:cubicBezTo>
                <a:cubicBezTo>
                  <a:pt x="3257" y="1002"/>
                  <a:pt x="3254" y="1012"/>
                  <a:pt x="3276" y="1028"/>
                </a:cubicBezTo>
                <a:cubicBezTo>
                  <a:pt x="3285" y="1035"/>
                  <a:pt x="3286" y="1036"/>
                  <a:pt x="3289" y="103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3859200"/>
            <a:ext cx="1216080" cy="370080"/>
          </a:xfrm>
          <a:custGeom>
            <a:avLst/>
            <a:gdLst/>
            <a:ahLst/>
            <a:rect l="l" t="t" r="r" b="b"/>
            <a:pathLst>
              <a:path w="766" h="233">
                <a:moveTo>
                  <a:pt x="0" y="74"/>
                </a:moveTo>
                <a:cubicBezTo>
                  <a:pt x="21" y="88"/>
                  <a:pt x="16" y="76"/>
                  <a:pt x="48" y="75"/>
                </a:cubicBezTo>
                <a:cubicBezTo>
                  <a:pt x="69" y="72"/>
                  <a:pt x="95" y="82"/>
                  <a:pt x="116" y="85"/>
                </a:cubicBezTo>
                <a:cubicBezTo>
                  <a:pt x="129" y="92"/>
                  <a:pt x="122" y="75"/>
                  <a:pt x="136" y="89"/>
                </a:cubicBezTo>
                <a:cubicBezTo>
                  <a:pt x="139" y="92"/>
                  <a:pt x="144" y="101"/>
                  <a:pt x="144" y="101"/>
                </a:cubicBezTo>
                <a:cubicBezTo>
                  <a:pt x="149" y="115"/>
                  <a:pt x="151" y="176"/>
                  <a:pt x="162" y="195"/>
                </a:cubicBezTo>
                <a:cubicBezTo>
                  <a:pt x="173" y="214"/>
                  <a:pt x="191" y="211"/>
                  <a:pt x="208" y="217"/>
                </a:cubicBezTo>
                <a:cubicBezTo>
                  <a:pt x="227" y="222"/>
                  <a:pt x="235" y="228"/>
                  <a:pt x="264" y="229"/>
                </a:cubicBezTo>
                <a:cubicBezTo>
                  <a:pt x="282" y="233"/>
                  <a:pt x="299" y="227"/>
                  <a:pt x="316" y="219"/>
                </a:cubicBezTo>
                <a:cubicBezTo>
                  <a:pt x="333" y="210"/>
                  <a:pt x="342" y="201"/>
                  <a:pt x="368" y="193"/>
                </a:cubicBezTo>
                <a:cubicBezTo>
                  <a:pt x="379" y="182"/>
                  <a:pt x="392" y="146"/>
                  <a:pt x="398" y="141"/>
                </a:cubicBezTo>
                <a:cubicBezTo>
                  <a:pt x="409" y="131"/>
                  <a:pt x="402" y="96"/>
                  <a:pt x="416" y="91"/>
                </a:cubicBezTo>
                <a:cubicBezTo>
                  <a:pt x="433" y="78"/>
                  <a:pt x="437" y="57"/>
                  <a:pt x="448" y="41"/>
                </a:cubicBezTo>
                <a:cubicBezTo>
                  <a:pt x="454" y="31"/>
                  <a:pt x="468" y="9"/>
                  <a:pt x="478" y="3"/>
                </a:cubicBezTo>
                <a:cubicBezTo>
                  <a:pt x="483" y="0"/>
                  <a:pt x="514" y="15"/>
                  <a:pt x="514" y="15"/>
                </a:cubicBezTo>
                <a:cubicBezTo>
                  <a:pt x="549" y="18"/>
                  <a:pt x="561" y="30"/>
                  <a:pt x="592" y="45"/>
                </a:cubicBezTo>
                <a:cubicBezTo>
                  <a:pt x="611" y="57"/>
                  <a:pt x="622" y="68"/>
                  <a:pt x="634" y="81"/>
                </a:cubicBezTo>
                <a:cubicBezTo>
                  <a:pt x="646" y="94"/>
                  <a:pt x="651" y="110"/>
                  <a:pt x="664" y="121"/>
                </a:cubicBezTo>
                <a:cubicBezTo>
                  <a:pt x="679" y="136"/>
                  <a:pt x="692" y="144"/>
                  <a:pt x="712" y="149"/>
                </a:cubicBezTo>
                <a:cubicBezTo>
                  <a:pt x="727" y="159"/>
                  <a:pt x="750" y="145"/>
                  <a:pt x="766" y="145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9040" y="3222720"/>
            <a:ext cx="1193760" cy="866520"/>
          </a:xfrm>
          <a:custGeom>
            <a:avLst/>
            <a:gdLst/>
            <a:ahLst/>
            <a:rect l="l" t="t" r="r" b="b"/>
            <a:pathLst>
              <a:path w="752" h="546">
                <a:moveTo>
                  <a:pt x="0" y="546"/>
                </a:moveTo>
                <a:cubicBezTo>
                  <a:pt x="7" y="545"/>
                  <a:pt x="32" y="535"/>
                  <a:pt x="42" y="532"/>
                </a:cubicBezTo>
                <a:cubicBezTo>
                  <a:pt x="52" y="529"/>
                  <a:pt x="52" y="533"/>
                  <a:pt x="60" y="528"/>
                </a:cubicBezTo>
                <a:cubicBezTo>
                  <a:pt x="65" y="512"/>
                  <a:pt x="70" y="507"/>
                  <a:pt x="88" y="502"/>
                </a:cubicBezTo>
                <a:cubicBezTo>
                  <a:pt x="88" y="499"/>
                  <a:pt x="89" y="471"/>
                  <a:pt x="92" y="462"/>
                </a:cubicBezTo>
                <a:cubicBezTo>
                  <a:pt x="99" y="437"/>
                  <a:pt x="126" y="398"/>
                  <a:pt x="142" y="380"/>
                </a:cubicBezTo>
                <a:cubicBezTo>
                  <a:pt x="160" y="359"/>
                  <a:pt x="167" y="341"/>
                  <a:pt x="196" y="334"/>
                </a:cubicBezTo>
                <a:cubicBezTo>
                  <a:pt x="208" y="322"/>
                  <a:pt x="201" y="310"/>
                  <a:pt x="212" y="296"/>
                </a:cubicBezTo>
                <a:cubicBezTo>
                  <a:pt x="214" y="293"/>
                  <a:pt x="224" y="306"/>
                  <a:pt x="224" y="306"/>
                </a:cubicBezTo>
                <a:cubicBezTo>
                  <a:pt x="229" y="302"/>
                  <a:pt x="240" y="276"/>
                  <a:pt x="252" y="262"/>
                </a:cubicBezTo>
                <a:cubicBezTo>
                  <a:pt x="264" y="248"/>
                  <a:pt x="280" y="237"/>
                  <a:pt x="294" y="224"/>
                </a:cubicBezTo>
                <a:cubicBezTo>
                  <a:pt x="299" y="203"/>
                  <a:pt x="313" y="187"/>
                  <a:pt x="334" y="182"/>
                </a:cubicBezTo>
                <a:cubicBezTo>
                  <a:pt x="348" y="168"/>
                  <a:pt x="325" y="156"/>
                  <a:pt x="330" y="138"/>
                </a:cubicBezTo>
                <a:cubicBezTo>
                  <a:pt x="332" y="129"/>
                  <a:pt x="332" y="103"/>
                  <a:pt x="336" y="96"/>
                </a:cubicBezTo>
                <a:cubicBezTo>
                  <a:pt x="348" y="72"/>
                  <a:pt x="342" y="98"/>
                  <a:pt x="352" y="68"/>
                </a:cubicBezTo>
                <a:cubicBezTo>
                  <a:pt x="357" y="56"/>
                  <a:pt x="368" y="42"/>
                  <a:pt x="386" y="34"/>
                </a:cubicBezTo>
                <a:cubicBezTo>
                  <a:pt x="403" y="25"/>
                  <a:pt x="434" y="20"/>
                  <a:pt x="454" y="16"/>
                </a:cubicBezTo>
                <a:cubicBezTo>
                  <a:pt x="470" y="13"/>
                  <a:pt x="489" y="12"/>
                  <a:pt x="504" y="8"/>
                </a:cubicBezTo>
                <a:cubicBezTo>
                  <a:pt x="519" y="7"/>
                  <a:pt x="533" y="0"/>
                  <a:pt x="546" y="2"/>
                </a:cubicBezTo>
                <a:cubicBezTo>
                  <a:pt x="559" y="4"/>
                  <a:pt x="573" y="9"/>
                  <a:pt x="582" y="18"/>
                </a:cubicBezTo>
                <a:cubicBezTo>
                  <a:pt x="591" y="24"/>
                  <a:pt x="592" y="53"/>
                  <a:pt x="598" y="58"/>
                </a:cubicBezTo>
                <a:cubicBezTo>
                  <a:pt x="604" y="63"/>
                  <a:pt x="608" y="52"/>
                  <a:pt x="618" y="46"/>
                </a:cubicBezTo>
                <a:cubicBezTo>
                  <a:pt x="627" y="43"/>
                  <a:pt x="646" y="22"/>
                  <a:pt x="656" y="20"/>
                </a:cubicBezTo>
                <a:cubicBezTo>
                  <a:pt x="666" y="18"/>
                  <a:pt x="672" y="33"/>
                  <a:pt x="680" y="36"/>
                </a:cubicBezTo>
                <a:cubicBezTo>
                  <a:pt x="689" y="37"/>
                  <a:pt x="697" y="37"/>
                  <a:pt x="706" y="38"/>
                </a:cubicBezTo>
                <a:cubicBezTo>
                  <a:pt x="711" y="39"/>
                  <a:pt x="722" y="42"/>
                  <a:pt x="722" y="42"/>
                </a:cubicBezTo>
                <a:cubicBezTo>
                  <a:pt x="730" y="47"/>
                  <a:pt x="746" y="47"/>
                  <a:pt x="752" y="4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047120" y="4038120"/>
            <a:ext cx="524880" cy="337320"/>
            <a:chOff x="4047120" y="4038120"/>
            <a:chExt cx="524880" cy="337320"/>
          </a:xfrm>
        </p:grpSpPr>
        <p:sp>
          <p:nvSpPr>
            <p:cNvPr id="119" name=""/>
            <p:cNvSpPr/>
            <p:nvPr/>
          </p:nvSpPr>
          <p:spPr>
            <a:xfrm>
              <a:off x="4495680" y="419112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47120" y="40381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imes New Roman"/>
                </a:rPr>
                <a:t>重庆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483960" y="3504960"/>
            <a:ext cx="478080" cy="381240"/>
            <a:chOff x="6483960" y="3504960"/>
            <a:chExt cx="478080" cy="381240"/>
          </a:xfrm>
        </p:grpSpPr>
        <p:sp>
          <p:nvSpPr>
            <p:cNvPr id="122" name=""/>
            <p:cNvSpPr/>
            <p:nvPr/>
          </p:nvSpPr>
          <p:spPr>
            <a:xfrm>
              <a:off x="6629400" y="38098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83960" y="3504960"/>
              <a:ext cx="47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imes New Roman"/>
                </a:rPr>
                <a:t>武 汉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647320" y="3580920"/>
            <a:ext cx="424440" cy="381600"/>
            <a:chOff x="5647320" y="3580920"/>
            <a:chExt cx="424440" cy="381600"/>
          </a:xfrm>
        </p:grpSpPr>
        <p:sp>
          <p:nvSpPr>
            <p:cNvPr id="125" name=""/>
            <p:cNvSpPr/>
            <p:nvPr/>
          </p:nvSpPr>
          <p:spPr>
            <a:xfrm>
              <a:off x="5791320" y="38862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47320" y="3580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imes New Roman"/>
                </a:rPr>
                <a:t>宜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858000" y="3657240"/>
            <a:ext cx="609480" cy="457560"/>
            <a:chOff x="6858000" y="3657240"/>
            <a:chExt cx="609480" cy="457560"/>
          </a:xfrm>
        </p:grpSpPr>
        <p:sp>
          <p:nvSpPr>
            <p:cNvPr id="128" name=""/>
            <p:cNvSpPr/>
            <p:nvPr/>
          </p:nvSpPr>
          <p:spPr>
            <a:xfrm>
              <a:off x="7086600" y="40384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8000" y="36572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imes New Roman"/>
                </a:rPr>
                <a:t>湖口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990560" y="2803320"/>
            <a:ext cx="478080" cy="549360"/>
            <a:chOff x="7990560" y="2803320"/>
            <a:chExt cx="478080" cy="549360"/>
          </a:xfrm>
        </p:grpSpPr>
        <p:sp>
          <p:nvSpPr>
            <p:cNvPr id="131" name=""/>
            <p:cNvSpPr/>
            <p:nvPr/>
          </p:nvSpPr>
          <p:spPr>
            <a:xfrm>
              <a:off x="8381880" y="3276720"/>
              <a:ext cx="7632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90560" y="2803320"/>
              <a:ext cx="47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Times New Roman"/>
                </a:rPr>
                <a:t>上 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8458200" y="5415120"/>
            <a:ext cx="345960" cy="376200"/>
          </a:xfrm>
          <a:custGeom>
            <a:avLst/>
            <a:gdLst/>
            <a:ahLst/>
            <a:rect l="l" t="t" r="r" b="b"/>
            <a:pathLst>
              <a:path w="218" h="237">
                <a:moveTo>
                  <a:pt x="0" y="228"/>
                </a:moveTo>
                <a:cubicBezTo>
                  <a:pt x="8" y="196"/>
                  <a:pt x="15" y="162"/>
                  <a:pt x="30" y="132"/>
                </a:cubicBezTo>
                <a:cubicBezTo>
                  <a:pt x="41" y="110"/>
                  <a:pt x="67" y="79"/>
                  <a:pt x="81" y="60"/>
                </a:cubicBezTo>
                <a:cubicBezTo>
                  <a:pt x="92" y="46"/>
                  <a:pt x="99" y="30"/>
                  <a:pt x="117" y="24"/>
                </a:cubicBezTo>
                <a:cubicBezTo>
                  <a:pt x="128" y="16"/>
                  <a:pt x="133" y="7"/>
                  <a:pt x="144" y="0"/>
                </a:cubicBezTo>
                <a:cubicBezTo>
                  <a:pt x="168" y="5"/>
                  <a:pt x="156" y="16"/>
                  <a:pt x="174" y="18"/>
                </a:cubicBezTo>
                <a:cubicBezTo>
                  <a:pt x="218" y="23"/>
                  <a:pt x="216" y="7"/>
                  <a:pt x="216" y="27"/>
                </a:cubicBezTo>
                <a:lnTo>
                  <a:pt x="216" y="237"/>
                </a:lnTo>
                <a:lnTo>
                  <a:pt x="24" y="237"/>
                </a:lnTo>
              </a:path>
            </a:pathLst>
          </a:custGeom>
          <a:solidFill>
            <a:srgbClr val="000000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362320" y="3048120"/>
            <a:ext cx="3047760" cy="901440"/>
            <a:chOff x="2362320" y="3048120"/>
            <a:chExt cx="3047760" cy="901440"/>
          </a:xfrm>
        </p:grpSpPr>
        <p:sp>
          <p:nvSpPr>
            <p:cNvPr id="135" name=""/>
            <p:cNvSpPr/>
            <p:nvPr/>
          </p:nvSpPr>
          <p:spPr>
            <a:xfrm>
              <a:off x="2362320" y="30481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上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24280" y="34290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095880" y="4129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中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3429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下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2" dur="1" nodeType="with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2" dur="1" nodeType="with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2" dur="1" nodeType="with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长江上游最大的城市——重庆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269120" cy="4068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828800" y="56386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长江上游最大的城市——重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28800" y="5897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长江中游最大的城市——武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长江中游最大的城市——武汉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8770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828800" y="5897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长江下游最大的城市——上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长江下游最大的城市——上海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4680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038480" y="5867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雅砻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雅砻江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78204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94360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嘉陵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嘉陵江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572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553080" y="5867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乌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乌江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075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7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44" name="Rectangle 13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Picture 11" descr="1长江之歌01"/>
            <p:cNvPicPr/>
            <p:nvPr/>
          </p:nvPicPr>
          <p:blipFill>
            <a:blip r:embed="rId1"/>
            <a:srcRect l="0" t="0" r="0" b="76142"/>
            <a:stretch/>
          </p:blipFill>
          <p:spPr>
            <a:xfrm>
              <a:off x="0" y="0"/>
              <a:ext cx="91436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5" descr="20070509092651617"/>
            <p:cNvPicPr/>
            <p:nvPr/>
          </p:nvPicPr>
          <p:blipFill>
            <a:blip r:embed="rId2"/>
            <a:srcRect l="0" t="0" r="0" b="6625"/>
            <a:stretch/>
          </p:blipFill>
          <p:spPr>
            <a:xfrm>
              <a:off x="78840" y="5363280"/>
              <a:ext cx="1095120" cy="131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Text Box 18"/>
          <p:cNvSpPr/>
          <p:nvPr/>
        </p:nvSpPr>
        <p:spPr>
          <a:xfrm>
            <a:off x="1752480" y="30481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这首诗是电视系列片《话说长江》主题歌的歌词。作者以雄浑的气势，赞颂了长江的宏伟、壮观，以真切的情感表达了对长江的热爱、依恋之情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WordArt 19"/>
          <p:cNvSpPr txBox="1"/>
          <p:nvPr/>
        </p:nvSpPr>
        <p:spPr>
          <a:xfrm>
            <a:off x="609480" y="22096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隶书"/>
              </a:rPr>
              <a:t>诗歌简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038480" y="6126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洞庭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洞庭湖风光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442296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410080" y="5562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鄱阳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鄱阳湖风光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67662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1长江之歌01"/>
          <p:cNvPicPr/>
          <p:nvPr/>
        </p:nvPicPr>
        <p:blipFill>
          <a:blip r:embed="rId1"/>
          <a:srcRect l="0" t="0" r="0" b="76142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20070509092651617"/>
          <p:cNvPicPr/>
          <p:nvPr/>
        </p:nvPicPr>
        <p:blipFill>
          <a:blip r:embed="rId2"/>
          <a:srcRect l="0" t="0" r="0" b="6625"/>
          <a:stretch/>
        </p:blipFill>
        <p:spPr>
          <a:xfrm>
            <a:off x="228600" y="5257800"/>
            <a:ext cx="1058760" cy="1143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332000" y="234936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是啊！长江源远流长、宏伟博大、多姿多彩；长江古老悠久、气势磅礴、力量无穷。让我们以饱满的热情去赞美长江，表达出我们对这位伟大母亲的依恋之情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900000" y="1700280"/>
            <a:ext cx="1524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隶书"/>
              </a:rPr>
              <a:t>小结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7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50" name="Rectangle 13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Picture 11" descr="1长江之歌01"/>
            <p:cNvPicPr/>
            <p:nvPr/>
          </p:nvPicPr>
          <p:blipFill>
            <a:blip r:embed="rId1"/>
            <a:srcRect l="0" t="0" r="0" b="76142"/>
            <a:stretch/>
          </p:blipFill>
          <p:spPr>
            <a:xfrm>
              <a:off x="0" y="0"/>
              <a:ext cx="91436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5" descr="20070509092651617"/>
            <p:cNvPicPr/>
            <p:nvPr/>
          </p:nvPicPr>
          <p:blipFill>
            <a:blip r:embed="rId2"/>
            <a:srcRect l="0" t="0" r="0" b="6625"/>
            <a:stretch/>
          </p:blipFill>
          <p:spPr>
            <a:xfrm>
              <a:off x="78840" y="5363280"/>
              <a:ext cx="1095120" cy="131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 Box 18"/>
          <p:cNvSpPr/>
          <p:nvPr/>
        </p:nvSpPr>
        <p:spPr>
          <a:xfrm>
            <a:off x="1116000" y="2060640"/>
            <a:ext cx="716292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中国有两条著名的河流——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黄河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长江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。它们孕育了华夏文明，滋养着神州大地上的万千炎黄子孙，因此被誉为我们中华民族的“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母亲河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长江的简介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62320" y="228492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长江之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9360" y="820440"/>
            <a:ext cx="38098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你从雪山走来，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春潮是你的丰采；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你向东海奔去，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惊涛是你的气概，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你用甘甜的乳汁，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哺育各族儿女；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你用健美的臂膀，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挽起高山大海，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我们赞美长江，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你是无穷的源泉；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我们依恋长江，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你有母亲的情怀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6000" y="792000"/>
            <a:ext cx="40975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你从远古走来，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巨浪荡涤着尘埃；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你向未来奔去，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涛声回荡在天外，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你用纯洁的清流，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灌溉花的国土；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你用磅礴的力量，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推动新的时代。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我们赞美长江，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你是无穷的源泉；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我们依恋长江，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你有母亲的情怀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1长江之歌01"/>
          <p:cNvPicPr/>
          <p:nvPr/>
        </p:nvPicPr>
        <p:blipFill>
          <a:blip r:embed="rId1"/>
          <a:srcRect l="0" t="0" r="0" b="76142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0070509092651617"/>
          <p:cNvPicPr/>
          <p:nvPr/>
        </p:nvPicPr>
        <p:blipFill>
          <a:blip r:embed="rId2"/>
          <a:srcRect l="0" t="0" r="0" b="6625"/>
          <a:stretch/>
        </p:blipFill>
        <p:spPr>
          <a:xfrm>
            <a:off x="228600" y="5257800"/>
            <a:ext cx="105876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900000" y="1628640"/>
            <a:ext cx="6375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我们赞美长江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你是无穷的源泉；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我们依恋长江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你有母亲的情怀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981080" y="426708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  <a:ea typeface="隶书"/>
              </a:rPr>
              <a:t>默读，说说读了这句诗想了解什么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1长江之歌01"/>
          <p:cNvPicPr/>
          <p:nvPr/>
        </p:nvPicPr>
        <p:blipFill>
          <a:blip r:embed="rId1"/>
          <a:srcRect l="0" t="0" r="0" b="76142"/>
          <a:stretch/>
        </p:blipFill>
        <p:spPr>
          <a:xfrm>
            <a:off x="0" y="0"/>
            <a:ext cx="9144000" cy="72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20070509092651617"/>
          <p:cNvPicPr/>
          <p:nvPr/>
        </p:nvPicPr>
        <p:blipFill>
          <a:blip r:embed="rId2"/>
          <a:srcRect l="0" t="0" r="0" b="6625"/>
          <a:stretch/>
        </p:blipFill>
        <p:spPr>
          <a:xfrm>
            <a:off x="228600" y="5257800"/>
            <a:ext cx="1058760" cy="1143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684360" y="11970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从哪些地方看出长江是无穷的源泉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187280" y="2205000"/>
            <a:ext cx="70106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你从雪山走来，春潮是你的丰采；</a:t>
            </a:r>
            <a:br>
              <a:rPr sz="3200"/>
            </a:b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你向东海奔去，惊涛是你的气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你从远古走来，巨浪荡涤着尘埃；</a:t>
            </a:r>
            <a:br>
              <a:rPr sz="3200"/>
            </a:b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你向未来奔去，涛声回荡在天外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195640" y="522936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58920" y="4572000"/>
            <a:ext cx="6337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你用纯洁的清流，灌溉花的国土；</a:t>
            </a:r>
            <a:br>
              <a:rPr sz="3200"/>
            </a:b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你用磅礴的力量，推动新的时代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1长江之歌01"/>
          <p:cNvPicPr/>
          <p:nvPr/>
        </p:nvPicPr>
        <p:blipFill>
          <a:blip r:embed="rId1"/>
          <a:srcRect l="0" t="0" r="0" b="7614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20070509092651617"/>
          <p:cNvPicPr/>
          <p:nvPr/>
        </p:nvPicPr>
        <p:blipFill>
          <a:blip r:embed="rId2"/>
          <a:srcRect l="0" t="0" r="0" b="6625"/>
          <a:stretch/>
        </p:blipFill>
        <p:spPr>
          <a:xfrm>
            <a:off x="250920" y="5229360"/>
            <a:ext cx="1058760" cy="1143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468360" y="1197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无穷的源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042920" y="2565360"/>
            <a:ext cx="7620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远古”是指很遥远的古代，长江从远古走来，向未来奔去，时间跨度很大，长江永远不会停息，所以说它是无穷的源泉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971640" y="386064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3.“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灌溉花的国土”，祖国的领土那么大，长江能将它们一起灌溉，所以说它是“无穷的源泉”。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177336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1.“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雪山”在祖国的最西部，“东海”在祖国的最东部，长江能从祖国的最西部走来，向祖国的最东部奔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4797360"/>
            <a:ext cx="770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4.“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推动新的时代”，长江能推动时代的发展，力量是无穷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5950080"/>
            <a:ext cx="678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5661000"/>
            <a:ext cx="7490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之所以说长江是“无穷的源泉”是因为长江资源丰富，她的能源是取之不尽的，是无穷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1长江之歌01"/>
          <p:cNvPicPr/>
          <p:nvPr/>
        </p:nvPicPr>
        <p:blipFill>
          <a:blip r:embed="rId1"/>
          <a:srcRect l="0" t="0" r="0" b="76142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20070509092651617"/>
          <p:cNvPicPr/>
          <p:nvPr/>
        </p:nvPicPr>
        <p:blipFill>
          <a:blip r:embed="rId2"/>
          <a:srcRect l="0" t="0" r="0" b="6625"/>
          <a:stretch/>
        </p:blipFill>
        <p:spPr>
          <a:xfrm>
            <a:off x="228600" y="5257800"/>
            <a:ext cx="1058760" cy="1143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539640" y="1484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从哪些地方看出长江有母亲的情怀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611280" y="206064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黑体"/>
              </a:rPr>
              <a:t>你用甘甜的乳汁，哺育各族儿女；</a:t>
            </a:r>
            <a:br>
              <a:rPr sz="3200"/>
            </a:b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黑体"/>
              </a:rPr>
              <a:t>你用健美的臂膀，挽起高山大海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213000"/>
            <a:ext cx="83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哺育各族儿女：只有母亲才会哺育儿女，在这里把长江看作了母亲，而且长江哺育的是各族儿女，可见这位母亲的胸怀是多么的宽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你用健美的臂膀，挽起高山大海：这里又把长江拟人化了，长江很长，它就像母亲伸长那健美的臂膀，从西至东，把祖国的高山大海拉在手里，让它们紧密联系在一起，永不分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00:09:41Z</dcterms:created>
  <dc:creator>陈泽滨</dc:creator>
  <dc:description/>
  <dc:language>en-US</dc:language>
  <cp:lastModifiedBy>zmj</cp:lastModifiedBy>
  <dcterms:modified xsi:type="dcterms:W3CDTF">2013-04-26T08:28:20Z</dcterms:modified>
  <cp:revision>51</cp:revision>
  <dc:subject/>
  <dc:title>长      江</dc:title>
</cp:coreProperties>
</file>