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5ED-D08A-4D6D-B878-9B0EE533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B2D-2C8D-4060-9D38-459A6CFB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FBE-E72B-4800-863F-992ECE9E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9CF-3404-444E-9DE4-04DB3974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D43-708F-491B-80E4-B126924C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F37-66C7-4081-9CE6-89C9DB40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6ED-B38F-40B1-93E4-12E6D467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DEC-8685-4F4F-B5C8-20D030D1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91D-4D33-44A3-991D-582B8119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14F-EA40-4272-9394-47F457ED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685-A697-4B31-9AC5-D5353CE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F09-6840-4DA2-AF24-82761949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EB18-8FB9-405F-9175-C9FFD61956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600200"/>
            <a:ext cx="51055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长江之歌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用甘甜的乳汁， 哺育各族儿女； </a:t>
            </a:r>
            <a:br>
              <a:rPr sz="3600"/>
            </a:b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用健美的臂膀， 挽起高山大海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05320" y="21337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哺育各族儿女”：只有母亲才会哺育儿女，在这里把长江比作了母亲，而且长江哺育的是各族儿女，可见这位母亲的胸怀是多么宽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用健美的臂膀，挽起高山大海”：这里又把长江拟人化了，长江很长，它就像母亲伸长那健美的臂膀，从西至东，把祖国的高山大海拉在手里，让它们紧密联系在一起，永不分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导学生看地图，并联系实际想象体会“哺育、挽起”的感情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819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057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从哪些地方看出长江是无穷的源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30481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远古”是指很遥远的古代，长江从远古走来，向未来奔去，时间跨度很大，长江永远不会停息，所以说它是无穷的源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导朗读第一句：“走”、“奔”句与第一部分的“走”、“奔”句对比读，体会长江的宏伟气势和永葆青春的活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灌溉花的国土”：祖国的领土那么大，长江能将它们一一灌溉，所以说它是“无穷的源泉”。“推动新的时代”：长江能推动时代的发展，力量是无穷的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1219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想一想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哪些地方看出长江具有母亲的情怀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“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用纯洁的清流，灌溉花的国土”：母爱是纯洁的、神圣的，长江像母亲一样滋润着祖国的每寸土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“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用磅礴的力量，推动新的时代”：母亲的力量是巨大的，长江就像母亲一样，对新时代的发展起着不可估量的作用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05120" y="1219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想一想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28195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长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长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380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里，是我国第一大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流经青海、四川、西藏、云南、重庆、湖北、湖南、江西、安徽、江苏、上海等十一个省市。最后注入东海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3962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长江之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6248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长江之歌》是上世纪八十年代风靡全中国的大型电视纪录片《话说长江》主题歌歌词，这首歌旋律激昂，歌词大气磅礴，通过对中国的母亲河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江的描写与赞美，表达了中国人民热爱祖国的深厚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江之歌”题意是关于长江的歌，唱长江的歌，赞长江的歌。它源远流长，与黄河一起成为中华民族的摇篮，哺育了一代又一代中华儿女，被誉为“母亲河”。它是永远值得赞颂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9144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720" y="685440"/>
            <a:ext cx="2666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学习生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2514240"/>
            <a:ext cx="655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哺（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ǔ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喂（不会取食的婴儿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涤（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í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埃（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āi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尘土、灰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礴（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ó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磅礴：气势盛大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838080"/>
            <a:ext cx="373356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掌握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438280"/>
            <a:ext cx="5790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丰采：美好的仪表举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依恋：留恋，舍不得离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荡涤：洗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尘埃：尘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磅礴：气势盛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灌溉：把水输送到田里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180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结构分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诗共分两个部分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部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写长江源远流长、宏伟博大、多姿多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部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写长江古老悠久、气势磅礴、力量无穷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19360" y="2590920"/>
            <a:ext cx="4190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诗以对长江“赞美”、“依恋”的真挚感情作主线，把长江源远流长、历史悠久、力量无穷、贡献巨大融为一体，给读者以强烈的艺术感染，进而升腾起对祖国大好河山 的热爱之情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赞美长江，你是无穷的源泉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依恋长江，你有母亲的情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662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从雪山走来， 春潮是你的风采； 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向东海奔去， 惊涛是你的气概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19720" y="236196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雪山”在祖国的最西部，“东海”在祖国的最东端，长江能从祖国的最西部走来，向祖国的最东部奔去，说明她的源泉是无穷的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66680" y="2819520"/>
            <a:ext cx="2210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lmF</cp:lastModifiedBy>
  <dcterms:modified xsi:type="dcterms:W3CDTF">2008-09-06T01:52:4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