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move the slide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notes format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C48A-A6E3-44D9-BC9A-7FE0A42121E4}" type="slidenum">
              <a:rPr b="1" i="1" lang="en-US" sz="12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ADFE-37A4-4C5B-8E5A-346F4D8E260C}" type="slidenum">
              <a:rPr b="0" i="1" lang="en-US" sz="1200" spc="-1" strike="sngStrike" u="sng">
                <a:solidFill>
                  <a:srgbClr val="ffffff"/>
                </a:solidFill>
                <a:uFillTx/>
                <a:latin typeface="Times New Roman"/>
              </a:rPr>
              <a:t>&lt;number&gt;</a:t>
            </a:fld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C88-B88E-4706-99BA-544DE161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838-CDA8-4493-841F-71FB649F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8CE-7BBE-4DC8-9994-7D24EC15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686-5DD4-4572-B766-DB356A41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5264-B04C-466B-A52E-A6169B0D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E1AF-56D6-4D0E-A1F4-34C62712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3B79-D419-409D-AC2D-0F4B3276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B726-AE05-44CE-985C-FDD9CF44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CEE9-9912-48B0-8AB8-24AB12FC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D926-2170-4FC3-837B-AE6DEB94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612A-ADCF-434B-A09E-8558694B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F137-3CFE-4ADF-AA50-4364CE0C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449F-BAA6-4A66-A741-0ECA7A66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F050-08F8-416B-880A-F67A7757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E75A-CDFE-49DB-B619-AA810453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6103-0E08-4E21-A651-75D37332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C8B5-D05B-4416-9403-70281962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646A-922D-40AD-888B-C76E6620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3D736-F642-44E6-9494-7A8BAD9B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0E3A-7F97-47F3-9E40-CC100D59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CA78F-6DB8-425D-AA51-88792CEA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9CECE-B49A-44CE-8E00-B6B8DAE4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CC3-02EE-4CED-9A76-5C8C4B76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6F7B6-23B8-4F70-B461-793DA0E3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62EBA-22D1-47A4-B589-77AA76D5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6FEEA-EDEA-4883-9729-44A468EB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6011-8F23-4A8E-80F5-8B834EBF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3F77D-47CA-4619-9B79-2DAE5EFE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B3523-1737-46F0-914A-ADCBA00D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48009-6C68-41A6-9025-034EB7C3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0B6E0-9B8A-4489-AE44-8610FC54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EF737-B4EC-44B9-B4E0-83B50989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CEFCF-D92A-4CE9-A20C-ECDF546A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8B6-D48B-485F-BBBB-8BA89FF6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6A71D-F1DD-41BB-87FB-D7A92FFA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68ED-7C65-443F-A698-0A85C3E7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AD085-69E9-4B75-922D-DB9D43EC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5DD2E-DDEE-4D73-B6B0-AF4A59A3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BEE5C-954D-475E-9C36-A31FA736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A0ED7-C969-444D-94EE-AB8E8160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1D027-E781-4033-8DAD-6EA84FCB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32F52-4E19-4873-A4F2-5CEA93DC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2205C-B653-496E-8AC9-17A8B390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BCFF9-5ED6-4E49-87E4-92C30A0A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A440-2532-42A6-BEC0-23F8EBCD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00D05-9EBF-488C-891E-F568DE0E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5BB9F-2A3A-40AA-B43F-674E62D4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A4A02-C70C-489C-B0DB-6F1668B7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3F62D-A7B8-4DD5-9CD8-1B4A688A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75215-0B60-4AAE-89F2-F2A74899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CC1E3-C635-44DC-8C41-1A9EEEA9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C9AD5-DAE8-446E-8A3A-E9F72193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749BC-FEA4-44AB-86CE-C7E9FD0F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BF227-538B-43F6-A24C-C4C8ADAE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FF79F-D9DC-48DD-8492-06B6DCB4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A59-71B7-4C99-B1A9-B81BD972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AAD5A-BBDC-4445-85AD-8DEC5A15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52C2C-D5FE-4DB0-A6EE-F222B906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1C2D9-83C0-40D6-A342-2F5F6B11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95498-3A6C-49B7-98F9-E7EAE876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BDFB9-DB46-4262-BDD1-3EC9FECF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A2D7A-5585-4B1D-9A0E-78CA6857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B6FE8-9D6A-4835-B1CD-66C6118B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6446F-5715-4FB5-9E5E-11ACC7C6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61B0E-323A-4327-BFF5-E1F0619D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B890B-AE7B-4BD2-96DE-E31930E9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C3A-199B-4E40-8305-F17CFC51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6465B-3D72-46A8-8990-7B2ADFEF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6F12C-D32D-4EF4-B30A-08DB5AC7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38204-555E-4CA9-9B3D-BD0A5572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56F-5458-4197-A05D-049E4C60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7B4F-B3EC-4D50-B900-1E0757BE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2741-6A08-49B4-8451-5F3541520CB1}" type="slidenum">
              <a:rPr b="0" i="1" lang="en-US" sz="14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8673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842" y="160"/>
                </a:moveTo>
                <a:cubicBezTo>
                  <a:pt x="842" y="160"/>
                  <a:pt x="0" y="1368"/>
                  <a:pt x="402" y="2857"/>
                </a:cubicBezTo>
                <a:cubicBezTo>
                  <a:pt x="695" y="4024"/>
                  <a:pt x="915" y="15814"/>
                  <a:pt x="915" y="15814"/>
                </a:cubicBezTo>
                <a:cubicBezTo>
                  <a:pt x="915" y="15814"/>
                  <a:pt x="1538" y="18189"/>
                  <a:pt x="1978" y="18390"/>
                </a:cubicBezTo>
                <a:cubicBezTo>
                  <a:pt x="2417" y="18591"/>
                  <a:pt x="5787" y="19396"/>
                  <a:pt x="5787" y="19396"/>
                </a:cubicBezTo>
                <a:cubicBezTo>
                  <a:pt x="5787" y="19396"/>
                  <a:pt x="6996" y="20000"/>
                  <a:pt x="7472" y="19919"/>
                </a:cubicBezTo>
                <a:cubicBezTo>
                  <a:pt x="7948" y="19879"/>
                  <a:pt x="18534" y="19597"/>
                  <a:pt x="19047" y="19114"/>
                </a:cubicBezTo>
                <a:cubicBezTo>
                  <a:pt x="19523" y="18631"/>
                  <a:pt x="20000" y="8772"/>
                  <a:pt x="19523" y="6720"/>
                </a:cubicBezTo>
                <a:cubicBezTo>
                  <a:pt x="19047" y="4708"/>
                  <a:pt x="14798" y="563"/>
                  <a:pt x="13516" y="643"/>
                </a:cubicBezTo>
                <a:cubicBezTo>
                  <a:pt x="12271" y="684"/>
                  <a:pt x="9120" y="1167"/>
                  <a:pt x="9120" y="1167"/>
                </a:cubicBezTo>
                <a:lnTo>
                  <a:pt x="7252" y="442"/>
                </a:lnTo>
                <a:cubicBezTo>
                  <a:pt x="7252" y="442"/>
                  <a:pt x="5531" y="80"/>
                  <a:pt x="5531" y="80"/>
                </a:cubicBezTo>
                <a:cubicBezTo>
                  <a:pt x="5531" y="80"/>
                  <a:pt x="2893" y="0"/>
                  <a:pt x="842" y="160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42" name="组合 28674"/>
          <p:cNvGrpSpPr/>
          <p:nvPr/>
        </p:nvGrpSpPr>
        <p:grpSpPr>
          <a:xfrm>
            <a:off x="4572000" y="28440"/>
            <a:ext cx="4756320" cy="4338720"/>
            <a:chOff x="4572000" y="28440"/>
            <a:chExt cx="4756320" cy="4338720"/>
          </a:xfrm>
        </p:grpSpPr>
        <p:sp>
          <p:nvSpPr>
            <p:cNvPr id="43" name="任意多边形 28675"/>
            <p:cNvSpPr/>
            <p:nvPr/>
          </p:nvSpPr>
          <p:spPr>
            <a:xfrm>
              <a:off x="4800240" y="28440"/>
              <a:ext cx="788040" cy="300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639" y="13513"/>
                  </a:moveTo>
                  <a:cubicBezTo>
                    <a:pt x="16701" y="11891"/>
                    <a:pt x="17938" y="11351"/>
                    <a:pt x="18762" y="10810"/>
                  </a:cubicBezTo>
                  <a:cubicBezTo>
                    <a:pt x="18762" y="10270"/>
                    <a:pt x="18762" y="10270"/>
                    <a:pt x="18969" y="9189"/>
                  </a:cubicBezTo>
                  <a:cubicBezTo>
                    <a:pt x="20000" y="5945"/>
                    <a:pt x="19587" y="2162"/>
                    <a:pt x="18144" y="0"/>
                  </a:cubicBezTo>
                  <a:cubicBezTo>
                    <a:pt x="18144" y="0"/>
                    <a:pt x="5154" y="0"/>
                    <a:pt x="5154" y="0"/>
                  </a:cubicBezTo>
                  <a:cubicBezTo>
                    <a:pt x="2061" y="1621"/>
                    <a:pt x="0" y="5405"/>
                    <a:pt x="2061" y="11891"/>
                  </a:cubicBezTo>
                  <a:cubicBezTo>
                    <a:pt x="2061" y="11891"/>
                    <a:pt x="5773" y="20000"/>
                    <a:pt x="14639" y="135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4" name="任意多边形 28676"/>
            <p:cNvSpPr/>
            <p:nvPr/>
          </p:nvSpPr>
          <p:spPr>
            <a:xfrm>
              <a:off x="4572000" y="28440"/>
              <a:ext cx="4756320" cy="4338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940" y="2846"/>
                  </a:moveTo>
                  <a:cubicBezTo>
                    <a:pt x="18837" y="1198"/>
                    <a:pt x="18564" y="337"/>
                    <a:pt x="17230" y="37"/>
                  </a:cubicBezTo>
                  <a:cubicBezTo>
                    <a:pt x="17094" y="37"/>
                    <a:pt x="16888" y="0"/>
                    <a:pt x="16615" y="0"/>
                  </a:cubicBezTo>
                  <a:cubicBezTo>
                    <a:pt x="16615" y="0"/>
                    <a:pt x="5367" y="0"/>
                    <a:pt x="5367" y="0"/>
                  </a:cubicBezTo>
                  <a:cubicBezTo>
                    <a:pt x="5333" y="187"/>
                    <a:pt x="5230" y="636"/>
                    <a:pt x="5401" y="636"/>
                  </a:cubicBezTo>
                  <a:cubicBezTo>
                    <a:pt x="5846" y="636"/>
                    <a:pt x="7623" y="786"/>
                    <a:pt x="7692" y="786"/>
                  </a:cubicBezTo>
                  <a:cubicBezTo>
                    <a:pt x="7726" y="786"/>
                    <a:pt x="8547" y="599"/>
                    <a:pt x="8102" y="1048"/>
                  </a:cubicBezTo>
                  <a:cubicBezTo>
                    <a:pt x="7623" y="1535"/>
                    <a:pt x="6564" y="1535"/>
                    <a:pt x="5948" y="1460"/>
                  </a:cubicBezTo>
                  <a:cubicBezTo>
                    <a:pt x="4478" y="1348"/>
                    <a:pt x="5196" y="2097"/>
                    <a:pt x="5743" y="2097"/>
                  </a:cubicBezTo>
                  <a:cubicBezTo>
                    <a:pt x="7452" y="2097"/>
                    <a:pt x="7794" y="2546"/>
                    <a:pt x="7076" y="2659"/>
                  </a:cubicBezTo>
                  <a:cubicBezTo>
                    <a:pt x="6358" y="2771"/>
                    <a:pt x="6222" y="2734"/>
                    <a:pt x="5538" y="2846"/>
                  </a:cubicBezTo>
                  <a:cubicBezTo>
                    <a:pt x="239" y="3782"/>
                    <a:pt x="2017" y="2247"/>
                    <a:pt x="2529" y="2247"/>
                  </a:cubicBezTo>
                  <a:cubicBezTo>
                    <a:pt x="4752" y="2209"/>
                    <a:pt x="4205" y="1385"/>
                    <a:pt x="3658" y="1573"/>
                  </a:cubicBezTo>
                  <a:cubicBezTo>
                    <a:pt x="3111" y="1722"/>
                    <a:pt x="1162" y="1011"/>
                    <a:pt x="888" y="2359"/>
                  </a:cubicBezTo>
                  <a:cubicBezTo>
                    <a:pt x="649" y="3745"/>
                    <a:pt x="1435" y="10561"/>
                    <a:pt x="1230" y="11872"/>
                  </a:cubicBezTo>
                  <a:cubicBezTo>
                    <a:pt x="0" y="20000"/>
                    <a:pt x="6803" y="18239"/>
                    <a:pt x="6803" y="18239"/>
                  </a:cubicBezTo>
                  <a:cubicBezTo>
                    <a:pt x="5333" y="16966"/>
                    <a:pt x="5948" y="15767"/>
                    <a:pt x="5846" y="15093"/>
                  </a:cubicBezTo>
                  <a:cubicBezTo>
                    <a:pt x="5504" y="12921"/>
                    <a:pt x="5264" y="12621"/>
                    <a:pt x="4923" y="12771"/>
                  </a:cubicBezTo>
                  <a:cubicBezTo>
                    <a:pt x="4136" y="13183"/>
                    <a:pt x="4205" y="13408"/>
                    <a:pt x="4307" y="13745"/>
                  </a:cubicBezTo>
                  <a:cubicBezTo>
                    <a:pt x="4854" y="15580"/>
                    <a:pt x="3589" y="14082"/>
                    <a:pt x="3589" y="14082"/>
                  </a:cubicBezTo>
                  <a:cubicBezTo>
                    <a:pt x="3350" y="14232"/>
                    <a:pt x="3247" y="14606"/>
                    <a:pt x="3384" y="14943"/>
                  </a:cubicBezTo>
                  <a:cubicBezTo>
                    <a:pt x="4478" y="17340"/>
                    <a:pt x="3452" y="16704"/>
                    <a:pt x="3213" y="16292"/>
                  </a:cubicBezTo>
                  <a:cubicBezTo>
                    <a:pt x="2085" y="14606"/>
                    <a:pt x="3145" y="13707"/>
                    <a:pt x="3008" y="13183"/>
                  </a:cubicBezTo>
                  <a:cubicBezTo>
                    <a:pt x="2564" y="11048"/>
                    <a:pt x="4034" y="10262"/>
                    <a:pt x="4239" y="9925"/>
                  </a:cubicBezTo>
                  <a:cubicBezTo>
                    <a:pt x="4444" y="9588"/>
                    <a:pt x="4341" y="9475"/>
                    <a:pt x="4410" y="8764"/>
                  </a:cubicBezTo>
                  <a:cubicBezTo>
                    <a:pt x="4649" y="7303"/>
                    <a:pt x="5299" y="8089"/>
                    <a:pt x="5230" y="8539"/>
                  </a:cubicBezTo>
                  <a:cubicBezTo>
                    <a:pt x="5059" y="10262"/>
                    <a:pt x="6017" y="9063"/>
                    <a:pt x="6358" y="8539"/>
                  </a:cubicBezTo>
                  <a:cubicBezTo>
                    <a:pt x="7452" y="6966"/>
                    <a:pt x="7316" y="8576"/>
                    <a:pt x="7145" y="8876"/>
                  </a:cubicBezTo>
                  <a:cubicBezTo>
                    <a:pt x="6940" y="9138"/>
                    <a:pt x="6769" y="9550"/>
                    <a:pt x="6837" y="9737"/>
                  </a:cubicBezTo>
                  <a:cubicBezTo>
                    <a:pt x="7111" y="10599"/>
                    <a:pt x="6598" y="11423"/>
                    <a:pt x="6427" y="11460"/>
                  </a:cubicBezTo>
                  <a:cubicBezTo>
                    <a:pt x="6290" y="11535"/>
                    <a:pt x="5811" y="11760"/>
                    <a:pt x="5811" y="12434"/>
                  </a:cubicBezTo>
                  <a:cubicBezTo>
                    <a:pt x="5846" y="13108"/>
                    <a:pt x="6564" y="14307"/>
                    <a:pt x="6564" y="14794"/>
                  </a:cubicBezTo>
                  <a:cubicBezTo>
                    <a:pt x="6598" y="18426"/>
                    <a:pt x="8068" y="18689"/>
                    <a:pt x="8717" y="18614"/>
                  </a:cubicBezTo>
                  <a:cubicBezTo>
                    <a:pt x="9401" y="18576"/>
                    <a:pt x="15213" y="18352"/>
                    <a:pt x="17606" y="18089"/>
                  </a:cubicBezTo>
                  <a:cubicBezTo>
                    <a:pt x="20000" y="17865"/>
                    <a:pt x="18393" y="17153"/>
                    <a:pt x="17709" y="17153"/>
                  </a:cubicBezTo>
                  <a:cubicBezTo>
                    <a:pt x="15965" y="17153"/>
                    <a:pt x="15521" y="15992"/>
                    <a:pt x="15521" y="15992"/>
                  </a:cubicBezTo>
                  <a:cubicBezTo>
                    <a:pt x="15521" y="15992"/>
                    <a:pt x="15487" y="15168"/>
                    <a:pt x="14735" y="14981"/>
                  </a:cubicBezTo>
                  <a:cubicBezTo>
                    <a:pt x="12854" y="14419"/>
                    <a:pt x="14051" y="13220"/>
                    <a:pt x="14529" y="12921"/>
                  </a:cubicBezTo>
                  <a:cubicBezTo>
                    <a:pt x="14974" y="12659"/>
                    <a:pt x="14700" y="12546"/>
                    <a:pt x="14358" y="12322"/>
                  </a:cubicBezTo>
                  <a:cubicBezTo>
                    <a:pt x="13606" y="11835"/>
                    <a:pt x="13470" y="11235"/>
                    <a:pt x="13538" y="10112"/>
                  </a:cubicBezTo>
                  <a:cubicBezTo>
                    <a:pt x="13572" y="8988"/>
                    <a:pt x="14222" y="9325"/>
                    <a:pt x="14222" y="9325"/>
                  </a:cubicBezTo>
                  <a:cubicBezTo>
                    <a:pt x="14222" y="9325"/>
                    <a:pt x="15316" y="9812"/>
                    <a:pt x="15726" y="9588"/>
                  </a:cubicBezTo>
                  <a:cubicBezTo>
                    <a:pt x="16136" y="9363"/>
                    <a:pt x="15965" y="8951"/>
                    <a:pt x="15760" y="9138"/>
                  </a:cubicBezTo>
                  <a:cubicBezTo>
                    <a:pt x="15555" y="9288"/>
                    <a:pt x="14085" y="9138"/>
                    <a:pt x="13914" y="8352"/>
                  </a:cubicBezTo>
                  <a:cubicBezTo>
                    <a:pt x="13777" y="7565"/>
                    <a:pt x="14290" y="7977"/>
                    <a:pt x="14427" y="8014"/>
                  </a:cubicBezTo>
                  <a:cubicBezTo>
                    <a:pt x="14598" y="8089"/>
                    <a:pt x="14598" y="8239"/>
                    <a:pt x="15008" y="8464"/>
                  </a:cubicBezTo>
                  <a:cubicBezTo>
                    <a:pt x="16000" y="9026"/>
                    <a:pt x="15521" y="8389"/>
                    <a:pt x="15521" y="8389"/>
                  </a:cubicBezTo>
                  <a:cubicBezTo>
                    <a:pt x="15521" y="8389"/>
                    <a:pt x="15521" y="8389"/>
                    <a:pt x="14974" y="7827"/>
                  </a:cubicBezTo>
                  <a:cubicBezTo>
                    <a:pt x="14461" y="7265"/>
                    <a:pt x="13880" y="7453"/>
                    <a:pt x="13299" y="7453"/>
                  </a:cubicBezTo>
                  <a:cubicBezTo>
                    <a:pt x="12752" y="7453"/>
                    <a:pt x="12854" y="7902"/>
                    <a:pt x="12854" y="7902"/>
                  </a:cubicBezTo>
                  <a:cubicBezTo>
                    <a:pt x="12854" y="7902"/>
                    <a:pt x="12752" y="9063"/>
                    <a:pt x="12649" y="10898"/>
                  </a:cubicBezTo>
                  <a:cubicBezTo>
                    <a:pt x="12581" y="12771"/>
                    <a:pt x="12307" y="12996"/>
                    <a:pt x="12205" y="12846"/>
                  </a:cubicBezTo>
                  <a:cubicBezTo>
                    <a:pt x="12102" y="12659"/>
                    <a:pt x="11965" y="11722"/>
                    <a:pt x="11965" y="11423"/>
                  </a:cubicBezTo>
                  <a:cubicBezTo>
                    <a:pt x="11965" y="11161"/>
                    <a:pt x="11794" y="9887"/>
                    <a:pt x="11863" y="8614"/>
                  </a:cubicBezTo>
                  <a:cubicBezTo>
                    <a:pt x="11965" y="7303"/>
                    <a:pt x="12170" y="7865"/>
                    <a:pt x="11418" y="7528"/>
                  </a:cubicBezTo>
                  <a:cubicBezTo>
                    <a:pt x="10632" y="7191"/>
                    <a:pt x="11042" y="6816"/>
                    <a:pt x="11316" y="6816"/>
                  </a:cubicBezTo>
                  <a:cubicBezTo>
                    <a:pt x="11555" y="6816"/>
                    <a:pt x="11965" y="7078"/>
                    <a:pt x="12034" y="6779"/>
                  </a:cubicBezTo>
                  <a:cubicBezTo>
                    <a:pt x="12170" y="5992"/>
                    <a:pt x="12273" y="5280"/>
                    <a:pt x="11863" y="5093"/>
                  </a:cubicBezTo>
                  <a:cubicBezTo>
                    <a:pt x="11008" y="4756"/>
                    <a:pt x="11350" y="4531"/>
                    <a:pt x="11658" y="4419"/>
                  </a:cubicBezTo>
                  <a:cubicBezTo>
                    <a:pt x="11965" y="4307"/>
                    <a:pt x="12034" y="3520"/>
                    <a:pt x="11589" y="3707"/>
                  </a:cubicBezTo>
                  <a:cubicBezTo>
                    <a:pt x="10700" y="4007"/>
                    <a:pt x="10803" y="3183"/>
                    <a:pt x="10974" y="3071"/>
                  </a:cubicBezTo>
                  <a:cubicBezTo>
                    <a:pt x="11111" y="2958"/>
                    <a:pt x="11418" y="3108"/>
                    <a:pt x="11316" y="2322"/>
                  </a:cubicBezTo>
                  <a:cubicBezTo>
                    <a:pt x="11213" y="1535"/>
                    <a:pt x="11863" y="1273"/>
                    <a:pt x="12000" y="1985"/>
                  </a:cubicBezTo>
                  <a:cubicBezTo>
                    <a:pt x="12102" y="2734"/>
                    <a:pt x="12410" y="4194"/>
                    <a:pt x="12615" y="3857"/>
                  </a:cubicBezTo>
                  <a:cubicBezTo>
                    <a:pt x="12820" y="3520"/>
                    <a:pt x="13162" y="2134"/>
                    <a:pt x="13504" y="1535"/>
                  </a:cubicBezTo>
                  <a:cubicBezTo>
                    <a:pt x="13880" y="898"/>
                    <a:pt x="14290" y="1423"/>
                    <a:pt x="14188" y="1760"/>
                  </a:cubicBezTo>
                  <a:cubicBezTo>
                    <a:pt x="13709" y="3295"/>
                    <a:pt x="14564" y="3370"/>
                    <a:pt x="14564" y="3370"/>
                  </a:cubicBezTo>
                  <a:cubicBezTo>
                    <a:pt x="14564" y="3370"/>
                    <a:pt x="14461" y="3595"/>
                    <a:pt x="13982" y="3558"/>
                  </a:cubicBezTo>
                  <a:cubicBezTo>
                    <a:pt x="13059" y="3445"/>
                    <a:pt x="13435" y="4119"/>
                    <a:pt x="13846" y="4307"/>
                  </a:cubicBezTo>
                  <a:cubicBezTo>
                    <a:pt x="14735" y="4644"/>
                    <a:pt x="14153" y="4868"/>
                    <a:pt x="13709" y="4868"/>
                  </a:cubicBezTo>
                  <a:cubicBezTo>
                    <a:pt x="13230" y="4868"/>
                    <a:pt x="13025" y="5018"/>
                    <a:pt x="12923" y="5543"/>
                  </a:cubicBezTo>
                  <a:cubicBezTo>
                    <a:pt x="12615" y="7153"/>
                    <a:pt x="13709" y="6779"/>
                    <a:pt x="13709" y="6779"/>
                  </a:cubicBezTo>
                  <a:cubicBezTo>
                    <a:pt x="15452" y="7303"/>
                    <a:pt x="18051" y="7041"/>
                    <a:pt x="18051" y="7041"/>
                  </a:cubicBezTo>
                  <a:cubicBezTo>
                    <a:pt x="18564" y="7191"/>
                    <a:pt x="18871" y="7078"/>
                    <a:pt x="19076" y="6779"/>
                  </a:cubicBezTo>
                  <a:cubicBezTo>
                    <a:pt x="19076" y="6779"/>
                    <a:pt x="19076" y="3857"/>
                    <a:pt x="19076" y="3857"/>
                  </a:cubicBezTo>
                  <a:cubicBezTo>
                    <a:pt x="19008" y="3483"/>
                    <a:pt x="18974" y="3146"/>
                    <a:pt x="18940" y="2846"/>
                  </a:cubicBezTo>
                  <a:cubicBezTo>
                    <a:pt x="18940" y="2846"/>
                    <a:pt x="7897" y="2883"/>
                    <a:pt x="7897" y="2883"/>
                  </a:cubicBezTo>
                  <a:cubicBezTo>
                    <a:pt x="7965" y="2434"/>
                    <a:pt x="8512" y="2584"/>
                    <a:pt x="8512" y="2584"/>
                  </a:cubicBezTo>
                  <a:cubicBezTo>
                    <a:pt x="8512" y="2584"/>
                    <a:pt x="9504" y="2958"/>
                    <a:pt x="9914" y="2921"/>
                  </a:cubicBezTo>
                  <a:cubicBezTo>
                    <a:pt x="10290" y="2846"/>
                    <a:pt x="10871" y="3483"/>
                    <a:pt x="10017" y="3483"/>
                  </a:cubicBezTo>
                  <a:cubicBezTo>
                    <a:pt x="9128" y="3483"/>
                    <a:pt x="7794" y="3895"/>
                    <a:pt x="7897" y="2883"/>
                  </a:cubicBezTo>
                  <a:cubicBezTo>
                    <a:pt x="7897" y="2883"/>
                    <a:pt x="5846" y="7303"/>
                    <a:pt x="5846" y="7303"/>
                  </a:cubicBezTo>
                  <a:cubicBezTo>
                    <a:pt x="5230" y="7303"/>
                    <a:pt x="1572" y="8876"/>
                    <a:pt x="1538" y="4794"/>
                  </a:cubicBezTo>
                  <a:cubicBezTo>
                    <a:pt x="1538" y="3895"/>
                    <a:pt x="1333" y="3108"/>
                    <a:pt x="2358" y="3670"/>
                  </a:cubicBezTo>
                  <a:cubicBezTo>
                    <a:pt x="3384" y="4194"/>
                    <a:pt x="2461" y="4157"/>
                    <a:pt x="4683" y="4044"/>
                  </a:cubicBezTo>
                  <a:cubicBezTo>
                    <a:pt x="4683" y="4044"/>
                    <a:pt x="6290" y="4119"/>
                    <a:pt x="6529" y="3970"/>
                  </a:cubicBezTo>
                  <a:cubicBezTo>
                    <a:pt x="6803" y="3782"/>
                    <a:pt x="6564" y="3408"/>
                    <a:pt x="7076" y="3408"/>
                  </a:cubicBezTo>
                  <a:cubicBezTo>
                    <a:pt x="7589" y="3370"/>
                    <a:pt x="7521" y="3932"/>
                    <a:pt x="7521" y="3932"/>
                  </a:cubicBezTo>
                  <a:cubicBezTo>
                    <a:pt x="7521" y="3932"/>
                    <a:pt x="7076" y="4644"/>
                    <a:pt x="10427" y="4157"/>
                  </a:cubicBezTo>
                  <a:cubicBezTo>
                    <a:pt x="10837" y="4082"/>
                    <a:pt x="11179" y="4531"/>
                    <a:pt x="10324" y="4531"/>
                  </a:cubicBezTo>
                  <a:cubicBezTo>
                    <a:pt x="9914" y="4569"/>
                    <a:pt x="9299" y="4794"/>
                    <a:pt x="9504" y="5355"/>
                  </a:cubicBezTo>
                  <a:cubicBezTo>
                    <a:pt x="9709" y="5917"/>
                    <a:pt x="9435" y="9588"/>
                    <a:pt x="9435" y="9588"/>
                  </a:cubicBezTo>
                  <a:cubicBezTo>
                    <a:pt x="9435" y="9588"/>
                    <a:pt x="9264" y="10262"/>
                    <a:pt x="8957" y="9176"/>
                  </a:cubicBezTo>
                  <a:cubicBezTo>
                    <a:pt x="8854" y="8801"/>
                    <a:pt x="8957" y="5393"/>
                    <a:pt x="8888" y="5131"/>
                  </a:cubicBezTo>
                  <a:cubicBezTo>
                    <a:pt x="8854" y="4831"/>
                    <a:pt x="7418" y="4569"/>
                    <a:pt x="7350" y="5767"/>
                  </a:cubicBezTo>
                  <a:cubicBezTo>
                    <a:pt x="7316" y="6928"/>
                    <a:pt x="7008" y="7303"/>
                    <a:pt x="5846" y="7303"/>
                  </a:cubicBezTo>
                  <a:cubicBezTo>
                    <a:pt x="5846" y="7303"/>
                    <a:pt x="8102" y="8651"/>
                    <a:pt x="8102" y="8651"/>
                  </a:cubicBezTo>
                  <a:cubicBezTo>
                    <a:pt x="7863" y="8988"/>
                    <a:pt x="7487" y="9250"/>
                    <a:pt x="7623" y="8426"/>
                  </a:cubicBezTo>
                  <a:cubicBezTo>
                    <a:pt x="7794" y="7565"/>
                    <a:pt x="7931" y="6367"/>
                    <a:pt x="7931" y="5805"/>
                  </a:cubicBezTo>
                  <a:cubicBezTo>
                    <a:pt x="7931" y="5805"/>
                    <a:pt x="8341" y="5056"/>
                    <a:pt x="8444" y="5917"/>
                  </a:cubicBezTo>
                  <a:cubicBezTo>
                    <a:pt x="8547" y="6779"/>
                    <a:pt x="8341" y="8277"/>
                    <a:pt x="8102" y="8651"/>
                  </a:cubicBezTo>
                  <a:cubicBezTo>
                    <a:pt x="8102" y="8651"/>
                    <a:pt x="11145" y="10936"/>
                    <a:pt x="11145" y="10936"/>
                  </a:cubicBezTo>
                  <a:cubicBezTo>
                    <a:pt x="11179" y="11985"/>
                    <a:pt x="12136" y="14981"/>
                    <a:pt x="9777" y="14943"/>
                  </a:cubicBezTo>
                  <a:cubicBezTo>
                    <a:pt x="7418" y="14906"/>
                    <a:pt x="7316" y="15318"/>
                    <a:pt x="7350" y="12022"/>
                  </a:cubicBezTo>
                  <a:cubicBezTo>
                    <a:pt x="7384" y="8838"/>
                    <a:pt x="7692" y="9475"/>
                    <a:pt x="7863" y="9887"/>
                  </a:cubicBezTo>
                  <a:cubicBezTo>
                    <a:pt x="7863" y="9887"/>
                    <a:pt x="8649" y="11910"/>
                    <a:pt x="10564" y="10374"/>
                  </a:cubicBezTo>
                  <a:cubicBezTo>
                    <a:pt x="10905" y="10074"/>
                    <a:pt x="11076" y="9850"/>
                    <a:pt x="11145" y="10936"/>
                  </a:cubicBezTo>
                  <a:cubicBezTo>
                    <a:pt x="11145" y="10936"/>
                    <a:pt x="10871" y="4981"/>
                    <a:pt x="10871" y="4981"/>
                  </a:cubicBezTo>
                  <a:cubicBezTo>
                    <a:pt x="11555" y="5543"/>
                    <a:pt x="10803" y="6179"/>
                    <a:pt x="10803" y="6179"/>
                  </a:cubicBezTo>
                  <a:cubicBezTo>
                    <a:pt x="10803" y="6179"/>
                    <a:pt x="10324" y="7078"/>
                    <a:pt x="10700" y="7977"/>
                  </a:cubicBezTo>
                  <a:cubicBezTo>
                    <a:pt x="11076" y="8876"/>
                    <a:pt x="11076" y="9925"/>
                    <a:pt x="10290" y="8951"/>
                  </a:cubicBezTo>
                  <a:cubicBezTo>
                    <a:pt x="9538" y="8014"/>
                    <a:pt x="10017" y="5842"/>
                    <a:pt x="10222" y="5393"/>
                  </a:cubicBezTo>
                  <a:cubicBezTo>
                    <a:pt x="10222" y="5393"/>
                    <a:pt x="10222" y="4419"/>
                    <a:pt x="10871" y="4981"/>
                  </a:cubicBezTo>
                  <a:cubicBezTo>
                    <a:pt x="10871" y="4981"/>
                    <a:pt x="17333" y="6704"/>
                    <a:pt x="17333" y="6704"/>
                  </a:cubicBezTo>
                  <a:cubicBezTo>
                    <a:pt x="17025" y="6928"/>
                    <a:pt x="17333" y="6704"/>
                    <a:pt x="15897" y="6629"/>
                  </a:cubicBezTo>
                  <a:cubicBezTo>
                    <a:pt x="14461" y="6591"/>
                    <a:pt x="15760" y="6067"/>
                    <a:pt x="15760" y="6067"/>
                  </a:cubicBezTo>
                  <a:cubicBezTo>
                    <a:pt x="19316" y="6217"/>
                    <a:pt x="17641" y="6479"/>
                    <a:pt x="17333" y="67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5" name="任意多边形 28677"/>
            <p:cNvSpPr/>
            <p:nvPr/>
          </p:nvSpPr>
          <p:spPr>
            <a:xfrm>
              <a:off x="5702400" y="2068560"/>
              <a:ext cx="382320" cy="454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7021" y="5357"/>
                  </a:moveTo>
                  <a:cubicBezTo>
                    <a:pt x="15744" y="0"/>
                    <a:pt x="0" y="8214"/>
                    <a:pt x="11489" y="20000"/>
                  </a:cubicBezTo>
                  <a:cubicBezTo>
                    <a:pt x="11489" y="20000"/>
                    <a:pt x="20000" y="17500"/>
                    <a:pt x="17021" y="53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6" name="任意多边形 28678"/>
            <p:cNvSpPr/>
            <p:nvPr/>
          </p:nvSpPr>
          <p:spPr>
            <a:xfrm>
              <a:off x="5351760" y="2255040"/>
              <a:ext cx="334080" cy="609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9268" y="7200"/>
                  </a:moveTo>
                  <a:cubicBezTo>
                    <a:pt x="0" y="14400"/>
                    <a:pt x="2926" y="16800"/>
                    <a:pt x="5853" y="18400"/>
                  </a:cubicBezTo>
                  <a:cubicBezTo>
                    <a:pt x="8780" y="20000"/>
                    <a:pt x="14634" y="19733"/>
                    <a:pt x="19512" y="12000"/>
                  </a:cubicBezTo>
                  <a:cubicBezTo>
                    <a:pt x="19512" y="12000"/>
                    <a:pt x="15609" y="8266"/>
                    <a:pt x="18048" y="6400"/>
                  </a:cubicBezTo>
                  <a:cubicBezTo>
                    <a:pt x="20000" y="4266"/>
                    <a:pt x="18536" y="0"/>
                    <a:pt x="9268" y="72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7" name="任意多边形 28679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592" y="1269"/>
                  </a:moveTo>
                  <a:cubicBezTo>
                    <a:pt x="15555" y="2857"/>
                    <a:pt x="3555" y="1269"/>
                    <a:pt x="3555" y="1269"/>
                  </a:cubicBezTo>
                  <a:cubicBezTo>
                    <a:pt x="2222" y="1269"/>
                    <a:pt x="444" y="317"/>
                    <a:pt x="296" y="7936"/>
                  </a:cubicBezTo>
                  <a:cubicBezTo>
                    <a:pt x="0" y="20000"/>
                    <a:pt x="7111" y="18412"/>
                    <a:pt x="8888" y="18412"/>
                  </a:cubicBezTo>
                  <a:cubicBezTo>
                    <a:pt x="10666" y="18412"/>
                    <a:pt x="12444" y="15238"/>
                    <a:pt x="14222" y="17142"/>
                  </a:cubicBezTo>
                  <a:cubicBezTo>
                    <a:pt x="14222" y="17142"/>
                    <a:pt x="15851" y="20000"/>
                    <a:pt x="16740" y="16825"/>
                  </a:cubicBezTo>
                  <a:cubicBezTo>
                    <a:pt x="20000" y="4126"/>
                    <a:pt x="17777" y="0"/>
                    <a:pt x="16592" y="12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8" name="任意多边形 28680"/>
            <p:cNvSpPr/>
            <p:nvPr/>
          </p:nvSpPr>
          <p:spPr>
            <a:xfrm>
              <a:off x="6385320" y="2483280"/>
              <a:ext cx="788040" cy="827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3814" y="980"/>
                  </a:moveTo>
                  <a:cubicBezTo>
                    <a:pt x="11340" y="1960"/>
                    <a:pt x="6391" y="980"/>
                    <a:pt x="6391" y="980"/>
                  </a:cubicBezTo>
                  <a:cubicBezTo>
                    <a:pt x="0" y="1176"/>
                    <a:pt x="3298" y="7647"/>
                    <a:pt x="2474" y="11176"/>
                  </a:cubicBezTo>
                  <a:cubicBezTo>
                    <a:pt x="1649" y="14901"/>
                    <a:pt x="12989" y="20000"/>
                    <a:pt x="16288" y="12156"/>
                  </a:cubicBezTo>
                  <a:cubicBezTo>
                    <a:pt x="20000" y="3921"/>
                    <a:pt x="16288" y="0"/>
                    <a:pt x="13814" y="9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9" name="任意多边形 28681"/>
            <p:cNvSpPr/>
            <p:nvPr/>
          </p:nvSpPr>
          <p:spPr>
            <a:xfrm>
              <a:off x="8197560" y="1645560"/>
              <a:ext cx="805680" cy="15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030" y="0"/>
                  </a:moveTo>
                  <a:cubicBezTo>
                    <a:pt x="0" y="0"/>
                    <a:pt x="3838" y="20000"/>
                    <a:pt x="8080" y="15789"/>
                  </a:cubicBezTo>
                  <a:cubicBezTo>
                    <a:pt x="20000" y="1052"/>
                    <a:pt x="3030" y="0"/>
                    <a:pt x="30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0" name="任意多边形 28682"/>
            <p:cNvSpPr/>
            <p:nvPr/>
          </p:nvSpPr>
          <p:spPr>
            <a:xfrm>
              <a:off x="8466480" y="1613160"/>
              <a:ext cx="619200" cy="380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5526" y="15744"/>
                  </a:moveTo>
                  <a:cubicBezTo>
                    <a:pt x="5526" y="15744"/>
                    <a:pt x="13157" y="20000"/>
                    <a:pt x="18421" y="7234"/>
                  </a:cubicBezTo>
                  <a:cubicBezTo>
                    <a:pt x="20000" y="2978"/>
                    <a:pt x="17105" y="0"/>
                    <a:pt x="12631" y="1276"/>
                  </a:cubicBezTo>
                  <a:cubicBezTo>
                    <a:pt x="10263" y="2127"/>
                    <a:pt x="10263" y="13617"/>
                    <a:pt x="5000" y="13617"/>
                  </a:cubicBezTo>
                  <a:cubicBezTo>
                    <a:pt x="0" y="13617"/>
                    <a:pt x="5526" y="15744"/>
                    <a:pt x="5526" y="157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1" name="任意多边形 28683"/>
            <p:cNvSpPr/>
            <p:nvPr/>
          </p:nvSpPr>
          <p:spPr>
            <a:xfrm>
              <a:off x="844236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7560" y="3243"/>
                  </a:moveTo>
                  <a:cubicBezTo>
                    <a:pt x="13902" y="12432"/>
                    <a:pt x="5853" y="9189"/>
                    <a:pt x="5853" y="9189"/>
                  </a:cubicBezTo>
                  <a:cubicBezTo>
                    <a:pt x="5853" y="9189"/>
                    <a:pt x="0" y="8648"/>
                    <a:pt x="4146" y="14054"/>
                  </a:cubicBezTo>
                  <a:cubicBezTo>
                    <a:pt x="8048" y="20000"/>
                    <a:pt x="12926" y="17297"/>
                    <a:pt x="18536" y="12432"/>
                  </a:cubicBezTo>
                  <a:cubicBezTo>
                    <a:pt x="19024" y="11891"/>
                    <a:pt x="19512" y="11351"/>
                    <a:pt x="20000" y="10810"/>
                  </a:cubicBezTo>
                  <a:cubicBezTo>
                    <a:pt x="20000" y="10810"/>
                    <a:pt x="20000" y="0"/>
                    <a:pt x="20000" y="0"/>
                  </a:cubicBezTo>
                  <a:cubicBezTo>
                    <a:pt x="19268" y="540"/>
                    <a:pt x="18292" y="1081"/>
                    <a:pt x="17560" y="32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2" name="任意多边形 28684"/>
            <p:cNvSpPr/>
            <p:nvPr/>
          </p:nvSpPr>
          <p:spPr>
            <a:xfrm>
              <a:off x="7921440" y="2214720"/>
              <a:ext cx="1122480" cy="268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3043" y="606"/>
                  </a:moveTo>
                  <a:cubicBezTo>
                    <a:pt x="3043" y="606"/>
                    <a:pt x="0" y="4848"/>
                    <a:pt x="1159" y="8484"/>
                  </a:cubicBezTo>
                  <a:cubicBezTo>
                    <a:pt x="2173" y="12121"/>
                    <a:pt x="6956" y="13333"/>
                    <a:pt x="8260" y="13333"/>
                  </a:cubicBezTo>
                  <a:cubicBezTo>
                    <a:pt x="9565" y="13333"/>
                    <a:pt x="13913" y="20000"/>
                    <a:pt x="16956" y="13939"/>
                  </a:cubicBezTo>
                  <a:cubicBezTo>
                    <a:pt x="20000" y="7272"/>
                    <a:pt x="17826" y="5454"/>
                    <a:pt x="16521" y="4848"/>
                  </a:cubicBezTo>
                  <a:cubicBezTo>
                    <a:pt x="15217" y="3636"/>
                    <a:pt x="14782" y="0"/>
                    <a:pt x="11884" y="1818"/>
                  </a:cubicBezTo>
                  <a:cubicBezTo>
                    <a:pt x="5362" y="6666"/>
                    <a:pt x="3043" y="606"/>
                    <a:pt x="3043" y="6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3" name="任意多边形 28685"/>
            <p:cNvSpPr/>
            <p:nvPr/>
          </p:nvSpPr>
          <p:spPr>
            <a:xfrm>
              <a:off x="804384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7500" y="13103"/>
                  </a:moveTo>
                  <a:cubicBezTo>
                    <a:pt x="20000" y="8965"/>
                    <a:pt x="19821" y="0"/>
                    <a:pt x="18392" y="2758"/>
                  </a:cubicBezTo>
                  <a:cubicBezTo>
                    <a:pt x="17142" y="6206"/>
                    <a:pt x="14821" y="6896"/>
                    <a:pt x="13214" y="6896"/>
                  </a:cubicBezTo>
                  <a:cubicBezTo>
                    <a:pt x="11607" y="7586"/>
                    <a:pt x="8035" y="2068"/>
                    <a:pt x="6428" y="4137"/>
                  </a:cubicBezTo>
                  <a:cubicBezTo>
                    <a:pt x="4821" y="6206"/>
                    <a:pt x="357" y="2758"/>
                    <a:pt x="357" y="2758"/>
                  </a:cubicBezTo>
                  <a:cubicBezTo>
                    <a:pt x="0" y="20000"/>
                    <a:pt x="14821" y="17241"/>
                    <a:pt x="17500" y="131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4" name="任意多边形 28686"/>
            <p:cNvSpPr/>
            <p:nvPr/>
          </p:nvSpPr>
          <p:spPr>
            <a:xfrm>
              <a:off x="7987680" y="2661480"/>
              <a:ext cx="934200" cy="771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521" y="11157"/>
                  </a:moveTo>
                  <a:cubicBezTo>
                    <a:pt x="869" y="12631"/>
                    <a:pt x="2434" y="14315"/>
                    <a:pt x="4521" y="11368"/>
                  </a:cubicBezTo>
                  <a:cubicBezTo>
                    <a:pt x="8347" y="6105"/>
                    <a:pt x="8347" y="15157"/>
                    <a:pt x="8695" y="16210"/>
                  </a:cubicBezTo>
                  <a:cubicBezTo>
                    <a:pt x="8869" y="17052"/>
                    <a:pt x="9391" y="20000"/>
                    <a:pt x="10260" y="17684"/>
                  </a:cubicBezTo>
                  <a:cubicBezTo>
                    <a:pt x="10956" y="15578"/>
                    <a:pt x="12173" y="8210"/>
                    <a:pt x="14086" y="10947"/>
                  </a:cubicBezTo>
                  <a:cubicBezTo>
                    <a:pt x="17391" y="16000"/>
                    <a:pt x="20000" y="11368"/>
                    <a:pt x="19304" y="10947"/>
                  </a:cubicBezTo>
                  <a:cubicBezTo>
                    <a:pt x="18434" y="10736"/>
                    <a:pt x="13739" y="7789"/>
                    <a:pt x="13739" y="5684"/>
                  </a:cubicBezTo>
                  <a:cubicBezTo>
                    <a:pt x="13739" y="3368"/>
                    <a:pt x="7304" y="0"/>
                    <a:pt x="6434" y="3368"/>
                  </a:cubicBezTo>
                  <a:cubicBezTo>
                    <a:pt x="5739" y="6947"/>
                    <a:pt x="2086" y="8631"/>
                    <a:pt x="2086" y="8631"/>
                  </a:cubicBezTo>
                  <a:cubicBezTo>
                    <a:pt x="0" y="9263"/>
                    <a:pt x="347" y="9473"/>
                    <a:pt x="521" y="111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5" name="任意多边形 28687"/>
            <p:cNvSpPr/>
            <p:nvPr/>
          </p:nvSpPr>
          <p:spPr>
            <a:xfrm>
              <a:off x="859680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5692" y="4733"/>
                  </a:moveTo>
                  <a:cubicBezTo>
                    <a:pt x="13538" y="5443"/>
                    <a:pt x="9230" y="5798"/>
                    <a:pt x="6769" y="5798"/>
                  </a:cubicBezTo>
                  <a:cubicBezTo>
                    <a:pt x="4000" y="5680"/>
                    <a:pt x="4307" y="6627"/>
                    <a:pt x="6769" y="6982"/>
                  </a:cubicBezTo>
                  <a:cubicBezTo>
                    <a:pt x="9230" y="7337"/>
                    <a:pt x="15076" y="8875"/>
                    <a:pt x="15384" y="10650"/>
                  </a:cubicBezTo>
                  <a:cubicBezTo>
                    <a:pt x="15384" y="12307"/>
                    <a:pt x="15692" y="13609"/>
                    <a:pt x="10461" y="13964"/>
                  </a:cubicBezTo>
                  <a:cubicBezTo>
                    <a:pt x="5538" y="14437"/>
                    <a:pt x="923" y="14674"/>
                    <a:pt x="0" y="17514"/>
                  </a:cubicBezTo>
                  <a:cubicBezTo>
                    <a:pt x="0" y="17514"/>
                    <a:pt x="3076" y="18224"/>
                    <a:pt x="5230" y="18343"/>
                  </a:cubicBezTo>
                  <a:cubicBezTo>
                    <a:pt x="7076" y="18343"/>
                    <a:pt x="12923" y="19289"/>
                    <a:pt x="14461" y="19644"/>
                  </a:cubicBezTo>
                  <a:cubicBezTo>
                    <a:pt x="15692" y="20000"/>
                    <a:pt x="17846" y="19763"/>
                    <a:pt x="19384" y="19171"/>
                  </a:cubicBezTo>
                  <a:cubicBezTo>
                    <a:pt x="19384" y="19171"/>
                    <a:pt x="20000" y="0"/>
                    <a:pt x="20000" y="0"/>
                  </a:cubicBezTo>
                  <a:cubicBezTo>
                    <a:pt x="19692" y="946"/>
                    <a:pt x="17846" y="4260"/>
                    <a:pt x="15692" y="47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56" name="组合 28688"/>
          <p:cNvGrpSpPr/>
          <p:nvPr/>
        </p:nvGrpSpPr>
        <p:grpSpPr>
          <a:xfrm>
            <a:off x="554040" y="36360"/>
            <a:ext cx="7891560" cy="6821280"/>
            <a:chOff x="554040" y="36360"/>
            <a:chExt cx="7891560" cy="6821280"/>
          </a:xfrm>
        </p:grpSpPr>
        <p:sp>
          <p:nvSpPr>
            <p:cNvPr id="57" name="矩形 28689"/>
            <p:cNvSpPr/>
            <p:nvPr/>
          </p:nvSpPr>
          <p:spPr>
            <a:xfrm>
              <a:off x="6091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8" name="任意多边形 28690"/>
            <p:cNvSpPr/>
            <p:nvPr/>
          </p:nvSpPr>
          <p:spPr>
            <a:xfrm>
              <a:off x="609120" y="356760"/>
              <a:ext cx="33480" cy="482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9" name="任意多边形 28691"/>
            <p:cNvSpPr/>
            <p:nvPr/>
          </p:nvSpPr>
          <p:spPr>
            <a:xfrm>
              <a:off x="6091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0" name="任意多边形 28692"/>
            <p:cNvSpPr/>
            <p:nvPr/>
          </p:nvSpPr>
          <p:spPr>
            <a:xfrm>
              <a:off x="6091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1" name="任意多边形 28693"/>
            <p:cNvSpPr/>
            <p:nvPr/>
          </p:nvSpPr>
          <p:spPr>
            <a:xfrm>
              <a:off x="609120" y="2282760"/>
              <a:ext cx="3348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2" name="任意多边形 28694"/>
            <p:cNvSpPr/>
            <p:nvPr/>
          </p:nvSpPr>
          <p:spPr>
            <a:xfrm>
              <a:off x="609120" y="2926080"/>
              <a:ext cx="33480" cy="480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3" name="任意多边形 28695"/>
            <p:cNvSpPr/>
            <p:nvPr/>
          </p:nvSpPr>
          <p:spPr>
            <a:xfrm>
              <a:off x="609120" y="3567240"/>
              <a:ext cx="3348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4" name="任意多边形 28696"/>
            <p:cNvSpPr/>
            <p:nvPr/>
          </p:nvSpPr>
          <p:spPr>
            <a:xfrm>
              <a:off x="6091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5" name="任意多边形 28697"/>
            <p:cNvSpPr/>
            <p:nvPr/>
          </p:nvSpPr>
          <p:spPr>
            <a:xfrm>
              <a:off x="609120" y="4851000"/>
              <a:ext cx="33480" cy="48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6" name="任意多边形 28698"/>
            <p:cNvSpPr/>
            <p:nvPr/>
          </p:nvSpPr>
          <p:spPr>
            <a:xfrm>
              <a:off x="6091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7" name="任意多边形 28699"/>
            <p:cNvSpPr/>
            <p:nvPr/>
          </p:nvSpPr>
          <p:spPr>
            <a:xfrm>
              <a:off x="6091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8" name="矩形 28700"/>
            <p:cNvSpPr/>
            <p:nvPr/>
          </p:nvSpPr>
          <p:spPr>
            <a:xfrm>
              <a:off x="609120" y="677664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9" name="矩形 28701"/>
            <p:cNvSpPr/>
            <p:nvPr/>
          </p:nvSpPr>
          <p:spPr>
            <a:xfrm>
              <a:off x="1316160" y="36360"/>
              <a:ext cx="3276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0" name="任意多边形 28702"/>
            <p:cNvSpPr/>
            <p:nvPr/>
          </p:nvSpPr>
          <p:spPr>
            <a:xfrm>
              <a:off x="1316160" y="356760"/>
              <a:ext cx="32760" cy="482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1" name="任意多边形 28703"/>
            <p:cNvSpPr/>
            <p:nvPr/>
          </p:nvSpPr>
          <p:spPr>
            <a:xfrm>
              <a:off x="1316160" y="1000080"/>
              <a:ext cx="327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2" name="任意多边形 28704"/>
            <p:cNvSpPr/>
            <p:nvPr/>
          </p:nvSpPr>
          <p:spPr>
            <a:xfrm>
              <a:off x="1316160" y="1641240"/>
              <a:ext cx="327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3" name="任意多边形 28705"/>
            <p:cNvSpPr/>
            <p:nvPr/>
          </p:nvSpPr>
          <p:spPr>
            <a:xfrm>
              <a:off x="1316160" y="2282760"/>
              <a:ext cx="3276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4" name="任意多边形 28706"/>
            <p:cNvSpPr/>
            <p:nvPr/>
          </p:nvSpPr>
          <p:spPr>
            <a:xfrm>
              <a:off x="1316160" y="2926080"/>
              <a:ext cx="32760" cy="480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5" name="任意多边形 28707"/>
            <p:cNvSpPr/>
            <p:nvPr/>
          </p:nvSpPr>
          <p:spPr>
            <a:xfrm>
              <a:off x="1316160" y="3567240"/>
              <a:ext cx="3276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6" name="任意多边形 28708"/>
            <p:cNvSpPr/>
            <p:nvPr/>
          </p:nvSpPr>
          <p:spPr>
            <a:xfrm>
              <a:off x="1316160" y="4209840"/>
              <a:ext cx="327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7" name="任意多边形 28709"/>
            <p:cNvSpPr/>
            <p:nvPr/>
          </p:nvSpPr>
          <p:spPr>
            <a:xfrm>
              <a:off x="1316160" y="4851000"/>
              <a:ext cx="32760" cy="48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8" name="任意多边形 28710"/>
            <p:cNvSpPr/>
            <p:nvPr/>
          </p:nvSpPr>
          <p:spPr>
            <a:xfrm>
              <a:off x="1316160" y="5494320"/>
              <a:ext cx="327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9" name="任意多边形 28711"/>
            <p:cNvSpPr/>
            <p:nvPr/>
          </p:nvSpPr>
          <p:spPr>
            <a:xfrm>
              <a:off x="1316160" y="6135480"/>
              <a:ext cx="327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0" name="矩形 28712"/>
            <p:cNvSpPr/>
            <p:nvPr/>
          </p:nvSpPr>
          <p:spPr>
            <a:xfrm>
              <a:off x="1316160" y="6776640"/>
              <a:ext cx="3276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1" name="矩形 28713"/>
            <p:cNvSpPr/>
            <p:nvPr/>
          </p:nvSpPr>
          <p:spPr>
            <a:xfrm>
              <a:off x="2030400" y="36360"/>
              <a:ext cx="3276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2" name="任意多边形 28714"/>
            <p:cNvSpPr/>
            <p:nvPr/>
          </p:nvSpPr>
          <p:spPr>
            <a:xfrm>
              <a:off x="2030400" y="356760"/>
              <a:ext cx="32760" cy="482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3" name="任意多边形 28715"/>
            <p:cNvSpPr/>
            <p:nvPr/>
          </p:nvSpPr>
          <p:spPr>
            <a:xfrm>
              <a:off x="2030400" y="1000080"/>
              <a:ext cx="327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4" name="任意多边形 28716"/>
            <p:cNvSpPr/>
            <p:nvPr/>
          </p:nvSpPr>
          <p:spPr>
            <a:xfrm>
              <a:off x="2030400" y="1641240"/>
              <a:ext cx="327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5" name="任意多边形 28717"/>
            <p:cNvSpPr/>
            <p:nvPr/>
          </p:nvSpPr>
          <p:spPr>
            <a:xfrm>
              <a:off x="2030400" y="2282760"/>
              <a:ext cx="3276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6" name="任意多边形 28718"/>
            <p:cNvSpPr/>
            <p:nvPr/>
          </p:nvSpPr>
          <p:spPr>
            <a:xfrm>
              <a:off x="2030400" y="2926080"/>
              <a:ext cx="32760" cy="480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7" name="任意多边形 28719"/>
            <p:cNvSpPr/>
            <p:nvPr/>
          </p:nvSpPr>
          <p:spPr>
            <a:xfrm>
              <a:off x="2030400" y="3567240"/>
              <a:ext cx="3276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8" name="任意多边形 28720"/>
            <p:cNvSpPr/>
            <p:nvPr/>
          </p:nvSpPr>
          <p:spPr>
            <a:xfrm>
              <a:off x="2030400" y="4209840"/>
              <a:ext cx="327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9" name="任意多边形 28721"/>
            <p:cNvSpPr/>
            <p:nvPr/>
          </p:nvSpPr>
          <p:spPr>
            <a:xfrm>
              <a:off x="2030400" y="4851000"/>
              <a:ext cx="32760" cy="48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0" name="任意多边形 28722"/>
            <p:cNvSpPr/>
            <p:nvPr/>
          </p:nvSpPr>
          <p:spPr>
            <a:xfrm>
              <a:off x="2030400" y="5494320"/>
              <a:ext cx="327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1" name="任意多边形 28723"/>
            <p:cNvSpPr/>
            <p:nvPr/>
          </p:nvSpPr>
          <p:spPr>
            <a:xfrm>
              <a:off x="2030400" y="6135480"/>
              <a:ext cx="327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2" name="矩形 28724"/>
            <p:cNvSpPr/>
            <p:nvPr/>
          </p:nvSpPr>
          <p:spPr>
            <a:xfrm>
              <a:off x="2030400" y="6776640"/>
              <a:ext cx="3276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3" name="矩形 28725"/>
            <p:cNvSpPr/>
            <p:nvPr/>
          </p:nvSpPr>
          <p:spPr>
            <a:xfrm>
              <a:off x="273672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4" name="任意多边形 28726"/>
            <p:cNvSpPr/>
            <p:nvPr/>
          </p:nvSpPr>
          <p:spPr>
            <a:xfrm>
              <a:off x="2736720" y="356760"/>
              <a:ext cx="33120" cy="482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5" name="任意多边形 28727"/>
            <p:cNvSpPr/>
            <p:nvPr/>
          </p:nvSpPr>
          <p:spPr>
            <a:xfrm>
              <a:off x="273672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6" name="任意多边形 28728"/>
            <p:cNvSpPr/>
            <p:nvPr/>
          </p:nvSpPr>
          <p:spPr>
            <a:xfrm>
              <a:off x="273672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7" name="任意多边形 28729"/>
            <p:cNvSpPr/>
            <p:nvPr/>
          </p:nvSpPr>
          <p:spPr>
            <a:xfrm>
              <a:off x="2736720" y="2282760"/>
              <a:ext cx="3312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8" name="任意多边形 28730"/>
            <p:cNvSpPr/>
            <p:nvPr/>
          </p:nvSpPr>
          <p:spPr>
            <a:xfrm>
              <a:off x="2736720" y="2926080"/>
              <a:ext cx="33120" cy="480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9" name="任意多边形 28731"/>
            <p:cNvSpPr/>
            <p:nvPr/>
          </p:nvSpPr>
          <p:spPr>
            <a:xfrm>
              <a:off x="2736720" y="3567240"/>
              <a:ext cx="3312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0" name="任意多边形 28732"/>
            <p:cNvSpPr/>
            <p:nvPr/>
          </p:nvSpPr>
          <p:spPr>
            <a:xfrm>
              <a:off x="273672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1" name="任意多边形 28733"/>
            <p:cNvSpPr/>
            <p:nvPr/>
          </p:nvSpPr>
          <p:spPr>
            <a:xfrm>
              <a:off x="2736720" y="4851000"/>
              <a:ext cx="33120" cy="48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2" name="任意多边形 28734"/>
            <p:cNvSpPr/>
            <p:nvPr/>
          </p:nvSpPr>
          <p:spPr>
            <a:xfrm>
              <a:off x="273672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3" name="任意多边形 28735"/>
            <p:cNvSpPr/>
            <p:nvPr/>
          </p:nvSpPr>
          <p:spPr>
            <a:xfrm>
              <a:off x="273672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4" name="矩形 28736"/>
            <p:cNvSpPr/>
            <p:nvPr/>
          </p:nvSpPr>
          <p:spPr>
            <a:xfrm>
              <a:off x="2736720" y="677664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5" name="矩形 28737"/>
            <p:cNvSpPr/>
            <p:nvPr/>
          </p:nvSpPr>
          <p:spPr>
            <a:xfrm>
              <a:off x="3443040" y="36360"/>
              <a:ext cx="3276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6" name="任意多边形 28738"/>
            <p:cNvSpPr/>
            <p:nvPr/>
          </p:nvSpPr>
          <p:spPr>
            <a:xfrm>
              <a:off x="3443040" y="356760"/>
              <a:ext cx="32760" cy="482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7" name="任意多边形 28739"/>
            <p:cNvSpPr/>
            <p:nvPr/>
          </p:nvSpPr>
          <p:spPr>
            <a:xfrm>
              <a:off x="3443040" y="1000080"/>
              <a:ext cx="327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8" name="任意多边形 28740"/>
            <p:cNvSpPr/>
            <p:nvPr/>
          </p:nvSpPr>
          <p:spPr>
            <a:xfrm>
              <a:off x="3443040" y="1641240"/>
              <a:ext cx="327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9" name="任意多边形 28741"/>
            <p:cNvSpPr/>
            <p:nvPr/>
          </p:nvSpPr>
          <p:spPr>
            <a:xfrm>
              <a:off x="3443040" y="2282760"/>
              <a:ext cx="3276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0" name="任意多边形 28742"/>
            <p:cNvSpPr/>
            <p:nvPr/>
          </p:nvSpPr>
          <p:spPr>
            <a:xfrm>
              <a:off x="3443040" y="2926080"/>
              <a:ext cx="32760" cy="480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1" name="任意多边形 28743"/>
            <p:cNvSpPr/>
            <p:nvPr/>
          </p:nvSpPr>
          <p:spPr>
            <a:xfrm>
              <a:off x="3443040" y="3567240"/>
              <a:ext cx="3276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2" name="任意多边形 28744"/>
            <p:cNvSpPr/>
            <p:nvPr/>
          </p:nvSpPr>
          <p:spPr>
            <a:xfrm>
              <a:off x="3443040" y="4209840"/>
              <a:ext cx="327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3" name="任意多边形 28745"/>
            <p:cNvSpPr/>
            <p:nvPr/>
          </p:nvSpPr>
          <p:spPr>
            <a:xfrm>
              <a:off x="3443040" y="4851000"/>
              <a:ext cx="32760" cy="48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4" name="任意多边形 28746"/>
            <p:cNvSpPr/>
            <p:nvPr/>
          </p:nvSpPr>
          <p:spPr>
            <a:xfrm>
              <a:off x="3443040" y="5494320"/>
              <a:ext cx="327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5" name="任意多边形 28747"/>
            <p:cNvSpPr/>
            <p:nvPr/>
          </p:nvSpPr>
          <p:spPr>
            <a:xfrm>
              <a:off x="3443040" y="6135480"/>
              <a:ext cx="3276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6" name="矩形 28748"/>
            <p:cNvSpPr/>
            <p:nvPr/>
          </p:nvSpPr>
          <p:spPr>
            <a:xfrm>
              <a:off x="3443040" y="6776640"/>
              <a:ext cx="3276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7" name="矩形 28749"/>
            <p:cNvSpPr/>
            <p:nvPr/>
          </p:nvSpPr>
          <p:spPr>
            <a:xfrm>
              <a:off x="415872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8" name="任意多边形 28750"/>
            <p:cNvSpPr/>
            <p:nvPr/>
          </p:nvSpPr>
          <p:spPr>
            <a:xfrm>
              <a:off x="4158720" y="356760"/>
              <a:ext cx="32040" cy="482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9" name="任意多边形 28751"/>
            <p:cNvSpPr/>
            <p:nvPr/>
          </p:nvSpPr>
          <p:spPr>
            <a:xfrm>
              <a:off x="415872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0" name="任意多边形 28752"/>
            <p:cNvSpPr/>
            <p:nvPr/>
          </p:nvSpPr>
          <p:spPr>
            <a:xfrm>
              <a:off x="415872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1" name="任意多边形 28753"/>
            <p:cNvSpPr/>
            <p:nvPr/>
          </p:nvSpPr>
          <p:spPr>
            <a:xfrm>
              <a:off x="4158720" y="2282760"/>
              <a:ext cx="3204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2" name="任意多边形 28754"/>
            <p:cNvSpPr/>
            <p:nvPr/>
          </p:nvSpPr>
          <p:spPr>
            <a:xfrm>
              <a:off x="4158720" y="2926080"/>
              <a:ext cx="32040" cy="480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3" name="任意多边形 28755"/>
            <p:cNvSpPr/>
            <p:nvPr/>
          </p:nvSpPr>
          <p:spPr>
            <a:xfrm>
              <a:off x="4158720" y="3567240"/>
              <a:ext cx="3204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4" name="任意多边形 28756"/>
            <p:cNvSpPr/>
            <p:nvPr/>
          </p:nvSpPr>
          <p:spPr>
            <a:xfrm>
              <a:off x="415872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5" name="任意多边形 28757"/>
            <p:cNvSpPr/>
            <p:nvPr/>
          </p:nvSpPr>
          <p:spPr>
            <a:xfrm>
              <a:off x="4158720" y="4851000"/>
              <a:ext cx="32040" cy="48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6" name="任意多边形 28758"/>
            <p:cNvSpPr/>
            <p:nvPr/>
          </p:nvSpPr>
          <p:spPr>
            <a:xfrm>
              <a:off x="415872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7" name="任意多边形 28759"/>
            <p:cNvSpPr/>
            <p:nvPr/>
          </p:nvSpPr>
          <p:spPr>
            <a:xfrm>
              <a:off x="415872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8" name="矩形 28760"/>
            <p:cNvSpPr/>
            <p:nvPr/>
          </p:nvSpPr>
          <p:spPr>
            <a:xfrm>
              <a:off x="4158720" y="677664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9" name="矩形 28761"/>
            <p:cNvSpPr/>
            <p:nvPr/>
          </p:nvSpPr>
          <p:spPr>
            <a:xfrm>
              <a:off x="4866120" y="36360"/>
              <a:ext cx="313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0" name="任意多边形 28762"/>
            <p:cNvSpPr/>
            <p:nvPr/>
          </p:nvSpPr>
          <p:spPr>
            <a:xfrm>
              <a:off x="4866120" y="356760"/>
              <a:ext cx="31320" cy="482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1" name="任意多边形 28763"/>
            <p:cNvSpPr/>
            <p:nvPr/>
          </p:nvSpPr>
          <p:spPr>
            <a:xfrm>
              <a:off x="4866120" y="100008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2" name="任意多边形 28764"/>
            <p:cNvSpPr/>
            <p:nvPr/>
          </p:nvSpPr>
          <p:spPr>
            <a:xfrm>
              <a:off x="4866120" y="164124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3" name="任意多边形 28765"/>
            <p:cNvSpPr/>
            <p:nvPr/>
          </p:nvSpPr>
          <p:spPr>
            <a:xfrm>
              <a:off x="4866120" y="2282760"/>
              <a:ext cx="3132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4" name="任意多边形 28766"/>
            <p:cNvSpPr/>
            <p:nvPr/>
          </p:nvSpPr>
          <p:spPr>
            <a:xfrm>
              <a:off x="4866120" y="2926080"/>
              <a:ext cx="31320" cy="480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5" name="任意多边形 28767"/>
            <p:cNvSpPr/>
            <p:nvPr/>
          </p:nvSpPr>
          <p:spPr>
            <a:xfrm>
              <a:off x="4866120" y="3567240"/>
              <a:ext cx="3132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6" name="任意多边形 28768"/>
            <p:cNvSpPr/>
            <p:nvPr/>
          </p:nvSpPr>
          <p:spPr>
            <a:xfrm>
              <a:off x="4866120" y="420984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7" name="任意多边形 28769"/>
            <p:cNvSpPr/>
            <p:nvPr/>
          </p:nvSpPr>
          <p:spPr>
            <a:xfrm>
              <a:off x="4866120" y="4851000"/>
              <a:ext cx="31320" cy="48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8" name="任意多边形 28770"/>
            <p:cNvSpPr/>
            <p:nvPr/>
          </p:nvSpPr>
          <p:spPr>
            <a:xfrm>
              <a:off x="4866120" y="549432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9" name="任意多边形 28771"/>
            <p:cNvSpPr/>
            <p:nvPr/>
          </p:nvSpPr>
          <p:spPr>
            <a:xfrm>
              <a:off x="4866120" y="613548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0" name="矩形 28772"/>
            <p:cNvSpPr/>
            <p:nvPr/>
          </p:nvSpPr>
          <p:spPr>
            <a:xfrm>
              <a:off x="4866120" y="6776640"/>
              <a:ext cx="313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1" name="矩形 28773"/>
            <p:cNvSpPr/>
            <p:nvPr/>
          </p:nvSpPr>
          <p:spPr>
            <a:xfrm>
              <a:off x="5572080" y="36360"/>
              <a:ext cx="313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2" name="任意多边形 28774"/>
            <p:cNvSpPr/>
            <p:nvPr/>
          </p:nvSpPr>
          <p:spPr>
            <a:xfrm>
              <a:off x="5572080" y="356760"/>
              <a:ext cx="31320" cy="482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3" name="任意多边形 28775"/>
            <p:cNvSpPr/>
            <p:nvPr/>
          </p:nvSpPr>
          <p:spPr>
            <a:xfrm>
              <a:off x="5572080" y="100008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4" name="任意多边形 28776"/>
            <p:cNvSpPr/>
            <p:nvPr/>
          </p:nvSpPr>
          <p:spPr>
            <a:xfrm>
              <a:off x="5572080" y="164124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5" name="任意多边形 28777"/>
            <p:cNvSpPr/>
            <p:nvPr/>
          </p:nvSpPr>
          <p:spPr>
            <a:xfrm>
              <a:off x="5572080" y="2282760"/>
              <a:ext cx="3132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6" name="任意多边形 28778"/>
            <p:cNvSpPr/>
            <p:nvPr/>
          </p:nvSpPr>
          <p:spPr>
            <a:xfrm>
              <a:off x="5572080" y="2926080"/>
              <a:ext cx="31320" cy="480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7" name="任意多边形 28779"/>
            <p:cNvSpPr/>
            <p:nvPr/>
          </p:nvSpPr>
          <p:spPr>
            <a:xfrm>
              <a:off x="5572080" y="3567240"/>
              <a:ext cx="3132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8" name="任意多边形 28780"/>
            <p:cNvSpPr/>
            <p:nvPr/>
          </p:nvSpPr>
          <p:spPr>
            <a:xfrm>
              <a:off x="5572080" y="420984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9" name="任意多边形 28781"/>
            <p:cNvSpPr/>
            <p:nvPr/>
          </p:nvSpPr>
          <p:spPr>
            <a:xfrm>
              <a:off x="5572080" y="4851000"/>
              <a:ext cx="31320" cy="48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0" name="任意多边形 28782"/>
            <p:cNvSpPr/>
            <p:nvPr/>
          </p:nvSpPr>
          <p:spPr>
            <a:xfrm>
              <a:off x="5572080" y="549432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1" name="任意多边形 28783"/>
            <p:cNvSpPr/>
            <p:nvPr/>
          </p:nvSpPr>
          <p:spPr>
            <a:xfrm>
              <a:off x="5572080" y="613548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2" name="矩形 28784"/>
            <p:cNvSpPr/>
            <p:nvPr/>
          </p:nvSpPr>
          <p:spPr>
            <a:xfrm>
              <a:off x="5572080" y="6776640"/>
              <a:ext cx="313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3" name="矩形 28785"/>
            <p:cNvSpPr/>
            <p:nvPr/>
          </p:nvSpPr>
          <p:spPr>
            <a:xfrm>
              <a:off x="6286320" y="36360"/>
              <a:ext cx="313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4" name="任意多边形 28786"/>
            <p:cNvSpPr/>
            <p:nvPr/>
          </p:nvSpPr>
          <p:spPr>
            <a:xfrm>
              <a:off x="6286320" y="356760"/>
              <a:ext cx="31320" cy="482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5" name="任意多边形 28787"/>
            <p:cNvSpPr/>
            <p:nvPr/>
          </p:nvSpPr>
          <p:spPr>
            <a:xfrm>
              <a:off x="6286320" y="100008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6" name="任意多边形 28788"/>
            <p:cNvSpPr/>
            <p:nvPr/>
          </p:nvSpPr>
          <p:spPr>
            <a:xfrm>
              <a:off x="6286320" y="164124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7" name="任意多边形 28789"/>
            <p:cNvSpPr/>
            <p:nvPr/>
          </p:nvSpPr>
          <p:spPr>
            <a:xfrm>
              <a:off x="6286320" y="2282760"/>
              <a:ext cx="3132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8" name="任意多边形 28790"/>
            <p:cNvSpPr/>
            <p:nvPr/>
          </p:nvSpPr>
          <p:spPr>
            <a:xfrm>
              <a:off x="6286320" y="2926080"/>
              <a:ext cx="31320" cy="480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9" name="任意多边形 28791"/>
            <p:cNvSpPr/>
            <p:nvPr/>
          </p:nvSpPr>
          <p:spPr>
            <a:xfrm>
              <a:off x="6286320" y="3567240"/>
              <a:ext cx="3132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0" name="任意多边形 28792"/>
            <p:cNvSpPr/>
            <p:nvPr/>
          </p:nvSpPr>
          <p:spPr>
            <a:xfrm>
              <a:off x="6286320" y="420984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1" name="任意多边形 28793"/>
            <p:cNvSpPr/>
            <p:nvPr/>
          </p:nvSpPr>
          <p:spPr>
            <a:xfrm>
              <a:off x="6286320" y="4851000"/>
              <a:ext cx="31320" cy="48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2" name="任意多边形 28794"/>
            <p:cNvSpPr/>
            <p:nvPr/>
          </p:nvSpPr>
          <p:spPr>
            <a:xfrm>
              <a:off x="6286320" y="549432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3" name="任意多边形 28795"/>
            <p:cNvSpPr/>
            <p:nvPr/>
          </p:nvSpPr>
          <p:spPr>
            <a:xfrm>
              <a:off x="6286320" y="613548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4" name="矩形 28796"/>
            <p:cNvSpPr/>
            <p:nvPr/>
          </p:nvSpPr>
          <p:spPr>
            <a:xfrm>
              <a:off x="6286320" y="6776640"/>
              <a:ext cx="313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5" name="矩形 28797"/>
            <p:cNvSpPr/>
            <p:nvPr/>
          </p:nvSpPr>
          <p:spPr>
            <a:xfrm>
              <a:off x="699264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6" name="任意多边形 28798"/>
            <p:cNvSpPr/>
            <p:nvPr/>
          </p:nvSpPr>
          <p:spPr>
            <a:xfrm>
              <a:off x="6992640" y="356760"/>
              <a:ext cx="32040" cy="482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7" name="任意多边形 28799"/>
            <p:cNvSpPr/>
            <p:nvPr/>
          </p:nvSpPr>
          <p:spPr>
            <a:xfrm>
              <a:off x="699264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8" name="任意多边形 28800"/>
            <p:cNvSpPr/>
            <p:nvPr/>
          </p:nvSpPr>
          <p:spPr>
            <a:xfrm>
              <a:off x="699264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9" name="任意多边形 28801"/>
            <p:cNvSpPr/>
            <p:nvPr/>
          </p:nvSpPr>
          <p:spPr>
            <a:xfrm>
              <a:off x="6992640" y="2282760"/>
              <a:ext cx="3204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0" name="任意多边形 28802"/>
            <p:cNvSpPr/>
            <p:nvPr/>
          </p:nvSpPr>
          <p:spPr>
            <a:xfrm>
              <a:off x="6992640" y="2926080"/>
              <a:ext cx="32040" cy="480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1" name="任意多边形 28803"/>
            <p:cNvSpPr/>
            <p:nvPr/>
          </p:nvSpPr>
          <p:spPr>
            <a:xfrm>
              <a:off x="6992640" y="3567240"/>
              <a:ext cx="3204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2" name="任意多边形 28804"/>
            <p:cNvSpPr/>
            <p:nvPr/>
          </p:nvSpPr>
          <p:spPr>
            <a:xfrm>
              <a:off x="699264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3" name="任意多边形 28805"/>
            <p:cNvSpPr/>
            <p:nvPr/>
          </p:nvSpPr>
          <p:spPr>
            <a:xfrm>
              <a:off x="6992640" y="4851000"/>
              <a:ext cx="32040" cy="48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4" name="任意多边形 28806"/>
            <p:cNvSpPr/>
            <p:nvPr/>
          </p:nvSpPr>
          <p:spPr>
            <a:xfrm>
              <a:off x="699264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5" name="任意多边形 28807"/>
            <p:cNvSpPr/>
            <p:nvPr/>
          </p:nvSpPr>
          <p:spPr>
            <a:xfrm>
              <a:off x="699264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6" name="矩形 28808"/>
            <p:cNvSpPr/>
            <p:nvPr/>
          </p:nvSpPr>
          <p:spPr>
            <a:xfrm>
              <a:off x="6992640" y="677664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7" name="矩形 28809"/>
            <p:cNvSpPr/>
            <p:nvPr/>
          </p:nvSpPr>
          <p:spPr>
            <a:xfrm>
              <a:off x="7700040" y="36360"/>
              <a:ext cx="313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8" name="任意多边形 28810"/>
            <p:cNvSpPr/>
            <p:nvPr/>
          </p:nvSpPr>
          <p:spPr>
            <a:xfrm>
              <a:off x="7700040" y="356760"/>
              <a:ext cx="31320" cy="482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9" name="任意多边形 28811"/>
            <p:cNvSpPr/>
            <p:nvPr/>
          </p:nvSpPr>
          <p:spPr>
            <a:xfrm>
              <a:off x="7700040" y="100008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0" name="任意多边形 28812"/>
            <p:cNvSpPr/>
            <p:nvPr/>
          </p:nvSpPr>
          <p:spPr>
            <a:xfrm>
              <a:off x="7700040" y="164124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1" name="任意多边形 28813"/>
            <p:cNvSpPr/>
            <p:nvPr/>
          </p:nvSpPr>
          <p:spPr>
            <a:xfrm>
              <a:off x="7700040" y="2282760"/>
              <a:ext cx="3132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2" name="任意多边形 28814"/>
            <p:cNvSpPr/>
            <p:nvPr/>
          </p:nvSpPr>
          <p:spPr>
            <a:xfrm>
              <a:off x="7700040" y="2926080"/>
              <a:ext cx="31320" cy="480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3" name="任意多边形 28815"/>
            <p:cNvSpPr/>
            <p:nvPr/>
          </p:nvSpPr>
          <p:spPr>
            <a:xfrm>
              <a:off x="7700040" y="3567240"/>
              <a:ext cx="3132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4" name="任意多边形 28816"/>
            <p:cNvSpPr/>
            <p:nvPr/>
          </p:nvSpPr>
          <p:spPr>
            <a:xfrm>
              <a:off x="7700040" y="420984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5" name="任意多边形 28817"/>
            <p:cNvSpPr/>
            <p:nvPr/>
          </p:nvSpPr>
          <p:spPr>
            <a:xfrm>
              <a:off x="7700040" y="4851000"/>
              <a:ext cx="31320" cy="48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6" name="任意多边形 28818"/>
            <p:cNvSpPr/>
            <p:nvPr/>
          </p:nvSpPr>
          <p:spPr>
            <a:xfrm>
              <a:off x="7700040" y="549432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7" name="任意多边形 28819"/>
            <p:cNvSpPr/>
            <p:nvPr/>
          </p:nvSpPr>
          <p:spPr>
            <a:xfrm>
              <a:off x="7700040" y="613548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8" name="矩形 28820"/>
            <p:cNvSpPr/>
            <p:nvPr/>
          </p:nvSpPr>
          <p:spPr>
            <a:xfrm>
              <a:off x="7700040" y="6776640"/>
              <a:ext cx="313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9" name="矩形 28821"/>
            <p:cNvSpPr/>
            <p:nvPr/>
          </p:nvSpPr>
          <p:spPr>
            <a:xfrm>
              <a:off x="8414280" y="36360"/>
              <a:ext cx="313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0" name="任意多边形 28822"/>
            <p:cNvSpPr/>
            <p:nvPr/>
          </p:nvSpPr>
          <p:spPr>
            <a:xfrm>
              <a:off x="8414280" y="356760"/>
              <a:ext cx="31320" cy="482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1" name="任意多边形 28823"/>
            <p:cNvSpPr/>
            <p:nvPr/>
          </p:nvSpPr>
          <p:spPr>
            <a:xfrm>
              <a:off x="8414280" y="100008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2" name="任意多边形 28824"/>
            <p:cNvSpPr/>
            <p:nvPr/>
          </p:nvSpPr>
          <p:spPr>
            <a:xfrm>
              <a:off x="8414280" y="164124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3" name="任意多边形 28825"/>
            <p:cNvSpPr/>
            <p:nvPr/>
          </p:nvSpPr>
          <p:spPr>
            <a:xfrm>
              <a:off x="8414280" y="2282760"/>
              <a:ext cx="3132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4" name="任意多边形 28826"/>
            <p:cNvSpPr/>
            <p:nvPr/>
          </p:nvSpPr>
          <p:spPr>
            <a:xfrm>
              <a:off x="8414280" y="2926080"/>
              <a:ext cx="31320" cy="480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5" name="任意多边形 28827"/>
            <p:cNvSpPr/>
            <p:nvPr/>
          </p:nvSpPr>
          <p:spPr>
            <a:xfrm>
              <a:off x="8414280" y="3567240"/>
              <a:ext cx="31320" cy="482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6" name="任意多边形 28828"/>
            <p:cNvSpPr/>
            <p:nvPr/>
          </p:nvSpPr>
          <p:spPr>
            <a:xfrm>
              <a:off x="8414280" y="420984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7" name="任意多边形 28829"/>
            <p:cNvSpPr/>
            <p:nvPr/>
          </p:nvSpPr>
          <p:spPr>
            <a:xfrm>
              <a:off x="8414280" y="4851000"/>
              <a:ext cx="31320" cy="48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8" name="任意多边形 28830"/>
            <p:cNvSpPr/>
            <p:nvPr/>
          </p:nvSpPr>
          <p:spPr>
            <a:xfrm>
              <a:off x="8414280" y="549432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9" name="任意多边形 28831"/>
            <p:cNvSpPr/>
            <p:nvPr/>
          </p:nvSpPr>
          <p:spPr>
            <a:xfrm>
              <a:off x="8414280" y="6135480"/>
              <a:ext cx="31320" cy="480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6666"/>
                  </a:lnTo>
                  <a:lnTo>
                    <a:pt x="20000" y="6666"/>
                  </a:lnTo>
                  <a:lnTo>
                    <a:pt x="20000" y="0"/>
                  </a:lnTo>
                  <a:lnTo>
                    <a:pt x="0" y="0"/>
                  </a:lnTo>
                  <a:lnTo>
                    <a:pt x="0" y="13333"/>
                  </a:lnTo>
                  <a:lnTo>
                    <a:pt x="0" y="20000"/>
                  </a:lnTo>
                  <a:lnTo>
                    <a:pt x="20000" y="20000"/>
                  </a:lnTo>
                  <a:lnTo>
                    <a:pt x="20000" y="13333"/>
                  </a:lnTo>
                  <a:lnTo>
                    <a:pt x="0" y="13333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0" name="矩形 28832"/>
            <p:cNvSpPr/>
            <p:nvPr/>
          </p:nvSpPr>
          <p:spPr>
            <a:xfrm>
              <a:off x="8414280" y="6776640"/>
              <a:ext cx="313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1" name="任意多边形 28833"/>
            <p:cNvSpPr/>
            <p:nvPr/>
          </p:nvSpPr>
          <p:spPr>
            <a:xfrm>
              <a:off x="554040" y="5245560"/>
              <a:ext cx="31320" cy="15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000"/>
                  </a:moveTo>
                  <a:cubicBezTo>
                    <a:pt x="5000" y="20000"/>
                    <a:pt x="20000" y="0"/>
                    <a:pt x="0" y="10000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202" name="组合 28839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203" name="任意多边形 28840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634" y="15000"/>
                  </a:moveTo>
                  <a:cubicBezTo>
                    <a:pt x="16585" y="13750"/>
                    <a:pt x="17560" y="12500"/>
                    <a:pt x="18048" y="12500"/>
                  </a:cubicBezTo>
                  <a:cubicBezTo>
                    <a:pt x="18048" y="12500"/>
                    <a:pt x="18536" y="11250"/>
                    <a:pt x="18536" y="11250"/>
                  </a:cubicBezTo>
                  <a:cubicBezTo>
                    <a:pt x="20000" y="7500"/>
                    <a:pt x="18048" y="1250"/>
                    <a:pt x="15121" y="1250"/>
                  </a:cubicBezTo>
                  <a:cubicBezTo>
                    <a:pt x="15121" y="1250"/>
                    <a:pt x="0" y="0"/>
                    <a:pt x="3902" y="13750"/>
                  </a:cubicBezTo>
                  <a:cubicBezTo>
                    <a:pt x="3902" y="13750"/>
                    <a:pt x="7317" y="20000"/>
                    <a:pt x="14634" y="1500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4" name="任意多边形 28841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7714" y="17202"/>
                  </a:moveTo>
                  <a:cubicBezTo>
                    <a:pt x="15904" y="17202"/>
                    <a:pt x="15523" y="16062"/>
                    <a:pt x="15523" y="16062"/>
                  </a:cubicBezTo>
                  <a:cubicBezTo>
                    <a:pt x="15523" y="16062"/>
                    <a:pt x="15428" y="15233"/>
                    <a:pt x="14666" y="15025"/>
                  </a:cubicBezTo>
                  <a:cubicBezTo>
                    <a:pt x="12857" y="14507"/>
                    <a:pt x="14000" y="13264"/>
                    <a:pt x="14476" y="12953"/>
                  </a:cubicBezTo>
                  <a:cubicBezTo>
                    <a:pt x="14952" y="12746"/>
                    <a:pt x="14666" y="12642"/>
                    <a:pt x="14285" y="12435"/>
                  </a:cubicBezTo>
                  <a:cubicBezTo>
                    <a:pt x="13523" y="11917"/>
                    <a:pt x="13428" y="11295"/>
                    <a:pt x="13523" y="10259"/>
                  </a:cubicBezTo>
                  <a:cubicBezTo>
                    <a:pt x="13523" y="9119"/>
                    <a:pt x="14190" y="9430"/>
                    <a:pt x="14190" y="9430"/>
                  </a:cubicBezTo>
                  <a:cubicBezTo>
                    <a:pt x="14190" y="9430"/>
                    <a:pt x="15238" y="9948"/>
                    <a:pt x="15714" y="9637"/>
                  </a:cubicBezTo>
                  <a:cubicBezTo>
                    <a:pt x="16095" y="9430"/>
                    <a:pt x="15904" y="9119"/>
                    <a:pt x="15714" y="9222"/>
                  </a:cubicBezTo>
                  <a:cubicBezTo>
                    <a:pt x="15523" y="9430"/>
                    <a:pt x="14095" y="9222"/>
                    <a:pt x="13904" y="8497"/>
                  </a:cubicBezTo>
                  <a:cubicBezTo>
                    <a:pt x="13714" y="7668"/>
                    <a:pt x="14285" y="8082"/>
                    <a:pt x="14380" y="8082"/>
                  </a:cubicBezTo>
                  <a:cubicBezTo>
                    <a:pt x="14571" y="8186"/>
                    <a:pt x="14571" y="8393"/>
                    <a:pt x="14952" y="8601"/>
                  </a:cubicBezTo>
                  <a:cubicBezTo>
                    <a:pt x="16000" y="9119"/>
                    <a:pt x="15428" y="8497"/>
                    <a:pt x="15428" y="8497"/>
                  </a:cubicBezTo>
                  <a:cubicBezTo>
                    <a:pt x="15428" y="8497"/>
                    <a:pt x="15428" y="8497"/>
                    <a:pt x="14952" y="7979"/>
                  </a:cubicBezTo>
                  <a:cubicBezTo>
                    <a:pt x="14476" y="7357"/>
                    <a:pt x="13809" y="7564"/>
                    <a:pt x="13238" y="7564"/>
                  </a:cubicBezTo>
                  <a:cubicBezTo>
                    <a:pt x="12666" y="7564"/>
                    <a:pt x="12857" y="8082"/>
                    <a:pt x="12857" y="8082"/>
                  </a:cubicBezTo>
                  <a:cubicBezTo>
                    <a:pt x="12857" y="8082"/>
                    <a:pt x="12761" y="9119"/>
                    <a:pt x="12666" y="10984"/>
                  </a:cubicBezTo>
                  <a:cubicBezTo>
                    <a:pt x="12571" y="12849"/>
                    <a:pt x="12285" y="13056"/>
                    <a:pt x="12190" y="12953"/>
                  </a:cubicBezTo>
                  <a:cubicBezTo>
                    <a:pt x="12095" y="12746"/>
                    <a:pt x="11904" y="11813"/>
                    <a:pt x="11904" y="11502"/>
                  </a:cubicBezTo>
                  <a:cubicBezTo>
                    <a:pt x="11904" y="11191"/>
                    <a:pt x="11714" y="10051"/>
                    <a:pt x="11809" y="8704"/>
                  </a:cubicBezTo>
                  <a:cubicBezTo>
                    <a:pt x="11904" y="7461"/>
                    <a:pt x="12190" y="7979"/>
                    <a:pt x="11428" y="7668"/>
                  </a:cubicBezTo>
                  <a:cubicBezTo>
                    <a:pt x="10571" y="7357"/>
                    <a:pt x="11047" y="6943"/>
                    <a:pt x="11238" y="6943"/>
                  </a:cubicBezTo>
                  <a:cubicBezTo>
                    <a:pt x="11523" y="6943"/>
                    <a:pt x="11904" y="7150"/>
                    <a:pt x="12000" y="6943"/>
                  </a:cubicBezTo>
                  <a:cubicBezTo>
                    <a:pt x="12095" y="6113"/>
                    <a:pt x="12190" y="5388"/>
                    <a:pt x="11809" y="5284"/>
                  </a:cubicBezTo>
                  <a:cubicBezTo>
                    <a:pt x="10952" y="4870"/>
                    <a:pt x="11333" y="4663"/>
                    <a:pt x="11619" y="4559"/>
                  </a:cubicBezTo>
                  <a:cubicBezTo>
                    <a:pt x="11904" y="4455"/>
                    <a:pt x="12000" y="3626"/>
                    <a:pt x="11523" y="3834"/>
                  </a:cubicBezTo>
                  <a:cubicBezTo>
                    <a:pt x="10666" y="4145"/>
                    <a:pt x="10761" y="3316"/>
                    <a:pt x="10952" y="3212"/>
                  </a:cubicBezTo>
                  <a:cubicBezTo>
                    <a:pt x="11142" y="3108"/>
                    <a:pt x="11428" y="3316"/>
                    <a:pt x="11333" y="2487"/>
                  </a:cubicBezTo>
                  <a:cubicBezTo>
                    <a:pt x="11142" y="1761"/>
                    <a:pt x="11809" y="1450"/>
                    <a:pt x="12000" y="2176"/>
                  </a:cubicBezTo>
                  <a:cubicBezTo>
                    <a:pt x="12095" y="2901"/>
                    <a:pt x="12380" y="4352"/>
                    <a:pt x="12571" y="4041"/>
                  </a:cubicBezTo>
                  <a:cubicBezTo>
                    <a:pt x="12761" y="3626"/>
                    <a:pt x="13142" y="2279"/>
                    <a:pt x="13523" y="1658"/>
                  </a:cubicBezTo>
                  <a:cubicBezTo>
                    <a:pt x="13809" y="1036"/>
                    <a:pt x="14285" y="1554"/>
                    <a:pt x="14190" y="1865"/>
                  </a:cubicBezTo>
                  <a:cubicBezTo>
                    <a:pt x="13714" y="3419"/>
                    <a:pt x="14476" y="3523"/>
                    <a:pt x="14476" y="3523"/>
                  </a:cubicBezTo>
                  <a:cubicBezTo>
                    <a:pt x="14476" y="3523"/>
                    <a:pt x="14380" y="3730"/>
                    <a:pt x="14000" y="3730"/>
                  </a:cubicBezTo>
                  <a:cubicBezTo>
                    <a:pt x="13047" y="3626"/>
                    <a:pt x="13428" y="4248"/>
                    <a:pt x="13809" y="4455"/>
                  </a:cubicBezTo>
                  <a:cubicBezTo>
                    <a:pt x="14666" y="4766"/>
                    <a:pt x="14095" y="4974"/>
                    <a:pt x="13619" y="4974"/>
                  </a:cubicBezTo>
                  <a:cubicBezTo>
                    <a:pt x="13238" y="4974"/>
                    <a:pt x="12952" y="5181"/>
                    <a:pt x="12857" y="5699"/>
                  </a:cubicBezTo>
                  <a:cubicBezTo>
                    <a:pt x="12571" y="7253"/>
                    <a:pt x="13714" y="6943"/>
                    <a:pt x="13714" y="6943"/>
                  </a:cubicBezTo>
                  <a:cubicBezTo>
                    <a:pt x="15428" y="7461"/>
                    <a:pt x="18000" y="7150"/>
                    <a:pt x="18000" y="7150"/>
                  </a:cubicBezTo>
                  <a:cubicBezTo>
                    <a:pt x="19904" y="7772"/>
                    <a:pt x="19047" y="4663"/>
                    <a:pt x="18952" y="3005"/>
                  </a:cubicBezTo>
                  <a:cubicBezTo>
                    <a:pt x="18761" y="1347"/>
                    <a:pt x="18571" y="518"/>
                    <a:pt x="17238" y="207"/>
                  </a:cubicBezTo>
                  <a:cubicBezTo>
                    <a:pt x="16000" y="0"/>
                    <a:pt x="8571" y="103"/>
                    <a:pt x="8571" y="103"/>
                  </a:cubicBezTo>
                  <a:cubicBezTo>
                    <a:pt x="8285" y="207"/>
                    <a:pt x="5333" y="103"/>
                    <a:pt x="5333" y="103"/>
                  </a:cubicBezTo>
                  <a:cubicBezTo>
                    <a:pt x="5333" y="103"/>
                    <a:pt x="5142" y="829"/>
                    <a:pt x="5333" y="829"/>
                  </a:cubicBezTo>
                  <a:cubicBezTo>
                    <a:pt x="5809" y="829"/>
                    <a:pt x="7619" y="932"/>
                    <a:pt x="7619" y="932"/>
                  </a:cubicBezTo>
                  <a:cubicBezTo>
                    <a:pt x="7714" y="932"/>
                    <a:pt x="8571" y="829"/>
                    <a:pt x="8095" y="1243"/>
                  </a:cubicBezTo>
                  <a:cubicBezTo>
                    <a:pt x="7619" y="1658"/>
                    <a:pt x="6571" y="1658"/>
                    <a:pt x="5904" y="1658"/>
                  </a:cubicBezTo>
                  <a:cubicBezTo>
                    <a:pt x="4476" y="1554"/>
                    <a:pt x="5142" y="2279"/>
                    <a:pt x="5714" y="2279"/>
                  </a:cubicBezTo>
                  <a:cubicBezTo>
                    <a:pt x="7428" y="2279"/>
                    <a:pt x="7809" y="2694"/>
                    <a:pt x="7047" y="2797"/>
                  </a:cubicBezTo>
                  <a:cubicBezTo>
                    <a:pt x="6380" y="2901"/>
                    <a:pt x="6190" y="2901"/>
                    <a:pt x="5523" y="3005"/>
                  </a:cubicBezTo>
                  <a:cubicBezTo>
                    <a:pt x="190" y="3937"/>
                    <a:pt x="2000" y="2383"/>
                    <a:pt x="2476" y="2383"/>
                  </a:cubicBezTo>
                  <a:cubicBezTo>
                    <a:pt x="4666" y="2383"/>
                    <a:pt x="4190" y="1554"/>
                    <a:pt x="3619" y="1761"/>
                  </a:cubicBezTo>
                  <a:cubicBezTo>
                    <a:pt x="3047" y="1865"/>
                    <a:pt x="1142" y="1139"/>
                    <a:pt x="857" y="2487"/>
                  </a:cubicBezTo>
                  <a:cubicBezTo>
                    <a:pt x="666" y="3834"/>
                    <a:pt x="1428" y="10673"/>
                    <a:pt x="1238" y="11917"/>
                  </a:cubicBezTo>
                  <a:cubicBezTo>
                    <a:pt x="0" y="20000"/>
                    <a:pt x="6761" y="18238"/>
                    <a:pt x="6761" y="18238"/>
                  </a:cubicBezTo>
                  <a:cubicBezTo>
                    <a:pt x="5333" y="16994"/>
                    <a:pt x="5904" y="15854"/>
                    <a:pt x="5809" y="15129"/>
                  </a:cubicBezTo>
                  <a:cubicBezTo>
                    <a:pt x="5428" y="12953"/>
                    <a:pt x="5238" y="12642"/>
                    <a:pt x="4857" y="12849"/>
                  </a:cubicBezTo>
                  <a:cubicBezTo>
                    <a:pt x="4095" y="13264"/>
                    <a:pt x="4190" y="13471"/>
                    <a:pt x="4285" y="13782"/>
                  </a:cubicBezTo>
                  <a:cubicBezTo>
                    <a:pt x="4857" y="15647"/>
                    <a:pt x="3523" y="14196"/>
                    <a:pt x="3523" y="14196"/>
                  </a:cubicBezTo>
                  <a:cubicBezTo>
                    <a:pt x="3333" y="14300"/>
                    <a:pt x="3238" y="14715"/>
                    <a:pt x="3333" y="15025"/>
                  </a:cubicBezTo>
                  <a:cubicBezTo>
                    <a:pt x="4476" y="17409"/>
                    <a:pt x="3428" y="16787"/>
                    <a:pt x="3142" y="16373"/>
                  </a:cubicBezTo>
                  <a:cubicBezTo>
                    <a:pt x="2095" y="14715"/>
                    <a:pt x="3142" y="13782"/>
                    <a:pt x="3047" y="13264"/>
                  </a:cubicBezTo>
                  <a:cubicBezTo>
                    <a:pt x="2571" y="11191"/>
                    <a:pt x="4000" y="10362"/>
                    <a:pt x="4190" y="10051"/>
                  </a:cubicBezTo>
                  <a:cubicBezTo>
                    <a:pt x="4380" y="9637"/>
                    <a:pt x="4285" y="9533"/>
                    <a:pt x="4380" y="8911"/>
                  </a:cubicBezTo>
                  <a:cubicBezTo>
                    <a:pt x="4571" y="7461"/>
                    <a:pt x="5238" y="8186"/>
                    <a:pt x="5238" y="8704"/>
                  </a:cubicBezTo>
                  <a:cubicBezTo>
                    <a:pt x="5047" y="10362"/>
                    <a:pt x="6000" y="9119"/>
                    <a:pt x="6380" y="8601"/>
                  </a:cubicBezTo>
                  <a:cubicBezTo>
                    <a:pt x="7428" y="7046"/>
                    <a:pt x="7333" y="8704"/>
                    <a:pt x="7142" y="9015"/>
                  </a:cubicBezTo>
                  <a:cubicBezTo>
                    <a:pt x="6857" y="9222"/>
                    <a:pt x="6761" y="9637"/>
                    <a:pt x="6761" y="9844"/>
                  </a:cubicBezTo>
                  <a:cubicBezTo>
                    <a:pt x="7047" y="10673"/>
                    <a:pt x="6571" y="11502"/>
                    <a:pt x="6380" y="11606"/>
                  </a:cubicBezTo>
                  <a:cubicBezTo>
                    <a:pt x="6285" y="11606"/>
                    <a:pt x="5809" y="11813"/>
                    <a:pt x="5809" y="12538"/>
                  </a:cubicBezTo>
                  <a:cubicBezTo>
                    <a:pt x="5809" y="13160"/>
                    <a:pt x="6571" y="14404"/>
                    <a:pt x="6571" y="14818"/>
                  </a:cubicBezTo>
                  <a:cubicBezTo>
                    <a:pt x="6571" y="18445"/>
                    <a:pt x="8000" y="18756"/>
                    <a:pt x="8666" y="18652"/>
                  </a:cubicBezTo>
                  <a:cubicBezTo>
                    <a:pt x="9333" y="18549"/>
                    <a:pt x="15142" y="18341"/>
                    <a:pt x="17619" y="18134"/>
                  </a:cubicBezTo>
                  <a:cubicBezTo>
                    <a:pt x="20000" y="17927"/>
                    <a:pt x="18380" y="17202"/>
                    <a:pt x="17714" y="17202"/>
                  </a:cubicBezTo>
                  <a:cubicBezTo>
                    <a:pt x="17714" y="17202"/>
                    <a:pt x="15714" y="6217"/>
                    <a:pt x="15714" y="6217"/>
                  </a:cubicBezTo>
                  <a:cubicBezTo>
                    <a:pt x="19333" y="6321"/>
                    <a:pt x="17619" y="6632"/>
                    <a:pt x="17333" y="6839"/>
                  </a:cubicBezTo>
                  <a:cubicBezTo>
                    <a:pt x="16952" y="7046"/>
                    <a:pt x="17333" y="6839"/>
                    <a:pt x="15904" y="6735"/>
                  </a:cubicBezTo>
                  <a:cubicBezTo>
                    <a:pt x="14476" y="6735"/>
                    <a:pt x="15714" y="6217"/>
                    <a:pt x="15714" y="6217"/>
                  </a:cubicBezTo>
                  <a:cubicBezTo>
                    <a:pt x="15714" y="6217"/>
                    <a:pt x="10857" y="5181"/>
                    <a:pt x="10857" y="5181"/>
                  </a:cubicBezTo>
                  <a:cubicBezTo>
                    <a:pt x="11523" y="5699"/>
                    <a:pt x="10761" y="6321"/>
                    <a:pt x="10761" y="6321"/>
                  </a:cubicBezTo>
                  <a:cubicBezTo>
                    <a:pt x="10761" y="6321"/>
                    <a:pt x="10285" y="7253"/>
                    <a:pt x="10666" y="8082"/>
                  </a:cubicBezTo>
                  <a:cubicBezTo>
                    <a:pt x="11047" y="9015"/>
                    <a:pt x="11047" y="10051"/>
                    <a:pt x="10285" y="9015"/>
                  </a:cubicBezTo>
                  <a:cubicBezTo>
                    <a:pt x="9523" y="8082"/>
                    <a:pt x="10000" y="6010"/>
                    <a:pt x="10190" y="5492"/>
                  </a:cubicBezTo>
                  <a:cubicBezTo>
                    <a:pt x="10190" y="5492"/>
                    <a:pt x="10190" y="4559"/>
                    <a:pt x="10857" y="5181"/>
                  </a:cubicBezTo>
                  <a:cubicBezTo>
                    <a:pt x="10857" y="5181"/>
                    <a:pt x="7904" y="3005"/>
                    <a:pt x="7904" y="3005"/>
                  </a:cubicBezTo>
                  <a:cubicBezTo>
                    <a:pt x="7904" y="2590"/>
                    <a:pt x="8476" y="2694"/>
                    <a:pt x="8476" y="2694"/>
                  </a:cubicBezTo>
                  <a:cubicBezTo>
                    <a:pt x="8476" y="2694"/>
                    <a:pt x="9428" y="3108"/>
                    <a:pt x="9904" y="3108"/>
                  </a:cubicBezTo>
                  <a:cubicBezTo>
                    <a:pt x="10285" y="3005"/>
                    <a:pt x="10857" y="3626"/>
                    <a:pt x="10000" y="3626"/>
                  </a:cubicBezTo>
                  <a:cubicBezTo>
                    <a:pt x="9142" y="3626"/>
                    <a:pt x="7809" y="4041"/>
                    <a:pt x="7904" y="3005"/>
                  </a:cubicBezTo>
                  <a:cubicBezTo>
                    <a:pt x="7904" y="3005"/>
                    <a:pt x="5809" y="7461"/>
                    <a:pt x="5809" y="7461"/>
                  </a:cubicBezTo>
                  <a:cubicBezTo>
                    <a:pt x="5238" y="7461"/>
                    <a:pt x="1523" y="9015"/>
                    <a:pt x="1523" y="4974"/>
                  </a:cubicBezTo>
                  <a:cubicBezTo>
                    <a:pt x="1523" y="4041"/>
                    <a:pt x="1333" y="3212"/>
                    <a:pt x="2285" y="3834"/>
                  </a:cubicBezTo>
                  <a:cubicBezTo>
                    <a:pt x="3333" y="4352"/>
                    <a:pt x="2380" y="4352"/>
                    <a:pt x="4666" y="4145"/>
                  </a:cubicBezTo>
                  <a:cubicBezTo>
                    <a:pt x="4666" y="4145"/>
                    <a:pt x="6285" y="4248"/>
                    <a:pt x="6476" y="4145"/>
                  </a:cubicBezTo>
                  <a:cubicBezTo>
                    <a:pt x="6761" y="3937"/>
                    <a:pt x="6571" y="3523"/>
                    <a:pt x="7047" y="3523"/>
                  </a:cubicBezTo>
                  <a:cubicBezTo>
                    <a:pt x="7619" y="3523"/>
                    <a:pt x="7523" y="4145"/>
                    <a:pt x="7523" y="4145"/>
                  </a:cubicBezTo>
                  <a:cubicBezTo>
                    <a:pt x="7523" y="4145"/>
                    <a:pt x="7047" y="4766"/>
                    <a:pt x="10380" y="4248"/>
                  </a:cubicBezTo>
                  <a:cubicBezTo>
                    <a:pt x="10761" y="4248"/>
                    <a:pt x="11142" y="4663"/>
                    <a:pt x="10285" y="4663"/>
                  </a:cubicBezTo>
                  <a:cubicBezTo>
                    <a:pt x="9904" y="4663"/>
                    <a:pt x="9238" y="4974"/>
                    <a:pt x="9523" y="5492"/>
                  </a:cubicBezTo>
                  <a:cubicBezTo>
                    <a:pt x="9714" y="6010"/>
                    <a:pt x="9428" y="9637"/>
                    <a:pt x="9428" y="9637"/>
                  </a:cubicBezTo>
                  <a:cubicBezTo>
                    <a:pt x="9428" y="9637"/>
                    <a:pt x="9238" y="10362"/>
                    <a:pt x="8952" y="9326"/>
                  </a:cubicBezTo>
                  <a:cubicBezTo>
                    <a:pt x="8857" y="8911"/>
                    <a:pt x="8952" y="5492"/>
                    <a:pt x="8857" y="5284"/>
                  </a:cubicBezTo>
                  <a:cubicBezTo>
                    <a:pt x="8857" y="4974"/>
                    <a:pt x="7333" y="4663"/>
                    <a:pt x="7333" y="5906"/>
                  </a:cubicBezTo>
                  <a:cubicBezTo>
                    <a:pt x="7333" y="7046"/>
                    <a:pt x="6952" y="7357"/>
                    <a:pt x="5809" y="7461"/>
                  </a:cubicBezTo>
                  <a:cubicBezTo>
                    <a:pt x="5809" y="7461"/>
                    <a:pt x="8095" y="8704"/>
                    <a:pt x="8095" y="8704"/>
                  </a:cubicBezTo>
                  <a:cubicBezTo>
                    <a:pt x="7809" y="9119"/>
                    <a:pt x="7428" y="9326"/>
                    <a:pt x="7619" y="8497"/>
                  </a:cubicBezTo>
                  <a:cubicBezTo>
                    <a:pt x="7714" y="7668"/>
                    <a:pt x="7904" y="6528"/>
                    <a:pt x="7904" y="5906"/>
                  </a:cubicBezTo>
                  <a:cubicBezTo>
                    <a:pt x="7904" y="5906"/>
                    <a:pt x="8285" y="5181"/>
                    <a:pt x="8380" y="6010"/>
                  </a:cubicBezTo>
                  <a:cubicBezTo>
                    <a:pt x="8476" y="6839"/>
                    <a:pt x="8285" y="8393"/>
                    <a:pt x="8095" y="8704"/>
                  </a:cubicBezTo>
                  <a:cubicBezTo>
                    <a:pt x="8095" y="8704"/>
                    <a:pt x="9714" y="15025"/>
                    <a:pt x="9714" y="15025"/>
                  </a:cubicBezTo>
                  <a:cubicBezTo>
                    <a:pt x="7428" y="14922"/>
                    <a:pt x="7333" y="15336"/>
                    <a:pt x="7333" y="12124"/>
                  </a:cubicBezTo>
                  <a:cubicBezTo>
                    <a:pt x="7333" y="8911"/>
                    <a:pt x="7714" y="9637"/>
                    <a:pt x="7809" y="9948"/>
                  </a:cubicBezTo>
                  <a:cubicBezTo>
                    <a:pt x="7809" y="9948"/>
                    <a:pt x="8571" y="12020"/>
                    <a:pt x="10571" y="10466"/>
                  </a:cubicBezTo>
                  <a:cubicBezTo>
                    <a:pt x="10857" y="10155"/>
                    <a:pt x="11047" y="9948"/>
                    <a:pt x="11142" y="10984"/>
                  </a:cubicBezTo>
                  <a:cubicBezTo>
                    <a:pt x="11142" y="12124"/>
                    <a:pt x="12095" y="15025"/>
                    <a:pt x="9714" y="1502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5" name="任意多边形 28842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470" y="5000"/>
                  </a:moveTo>
                  <a:cubicBezTo>
                    <a:pt x="15294" y="0"/>
                    <a:pt x="0" y="8000"/>
                    <a:pt x="10588" y="20000"/>
                  </a:cubicBezTo>
                  <a:cubicBezTo>
                    <a:pt x="10588" y="20000"/>
                    <a:pt x="20000" y="17000"/>
                    <a:pt x="16470" y="500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6" name="任意多边形 28843"/>
            <p:cNvSpPr/>
            <p:nvPr/>
          </p:nvSpPr>
          <p:spPr>
            <a:xfrm>
              <a:off x="423720" y="5535360"/>
              <a:ext cx="120600" cy="215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9333" y="7407"/>
                  </a:moveTo>
                  <a:cubicBezTo>
                    <a:pt x="0" y="14074"/>
                    <a:pt x="2666" y="17037"/>
                    <a:pt x="5333" y="18518"/>
                  </a:cubicBezTo>
                  <a:cubicBezTo>
                    <a:pt x="9333" y="20000"/>
                    <a:pt x="14666" y="19259"/>
                    <a:pt x="20000" y="11851"/>
                  </a:cubicBezTo>
                  <a:cubicBezTo>
                    <a:pt x="20000" y="11851"/>
                    <a:pt x="16000" y="8148"/>
                    <a:pt x="17333" y="5925"/>
                  </a:cubicBezTo>
                  <a:cubicBezTo>
                    <a:pt x="20000" y="4444"/>
                    <a:pt x="18666" y="0"/>
                    <a:pt x="9333" y="7407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7" name="任意多边形 28844"/>
            <p:cNvSpPr/>
            <p:nvPr/>
          </p:nvSpPr>
          <p:spPr>
            <a:xfrm>
              <a:off x="352080" y="5101920"/>
              <a:ext cx="385920" cy="183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666" y="1739"/>
                  </a:moveTo>
                  <a:cubicBezTo>
                    <a:pt x="15833" y="2608"/>
                    <a:pt x="3750" y="869"/>
                    <a:pt x="3750" y="869"/>
                  </a:cubicBezTo>
                  <a:cubicBezTo>
                    <a:pt x="2083" y="869"/>
                    <a:pt x="416" y="0"/>
                    <a:pt x="416" y="7826"/>
                  </a:cubicBezTo>
                  <a:cubicBezTo>
                    <a:pt x="0" y="20000"/>
                    <a:pt x="7083" y="18260"/>
                    <a:pt x="9166" y="18260"/>
                  </a:cubicBezTo>
                  <a:cubicBezTo>
                    <a:pt x="10833" y="18260"/>
                    <a:pt x="12500" y="15652"/>
                    <a:pt x="14166" y="17391"/>
                  </a:cubicBezTo>
                  <a:cubicBezTo>
                    <a:pt x="14166" y="17391"/>
                    <a:pt x="15833" y="20000"/>
                    <a:pt x="16666" y="16521"/>
                  </a:cubicBezTo>
                  <a:cubicBezTo>
                    <a:pt x="20000" y="4347"/>
                    <a:pt x="17916" y="0"/>
                    <a:pt x="16666" y="173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8" name="任意多边形 28845"/>
            <p:cNvSpPr/>
            <p:nvPr/>
          </p:nvSpPr>
          <p:spPr>
            <a:xfrm>
              <a:off x="79344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3714" y="1081"/>
                  </a:moveTo>
                  <a:cubicBezTo>
                    <a:pt x="10857" y="1621"/>
                    <a:pt x="6285" y="1081"/>
                    <a:pt x="6285" y="1081"/>
                  </a:cubicBezTo>
                  <a:cubicBezTo>
                    <a:pt x="0" y="1081"/>
                    <a:pt x="2857" y="7567"/>
                    <a:pt x="2285" y="10810"/>
                  </a:cubicBezTo>
                  <a:cubicBezTo>
                    <a:pt x="1714" y="14594"/>
                    <a:pt x="12571" y="20000"/>
                    <a:pt x="16000" y="11891"/>
                  </a:cubicBezTo>
                  <a:cubicBezTo>
                    <a:pt x="20000" y="3783"/>
                    <a:pt x="16000" y="0"/>
                    <a:pt x="13714" y="1081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9" name="任意多边形 28846"/>
            <p:cNvSpPr/>
            <p:nvPr/>
          </p:nvSpPr>
          <p:spPr>
            <a:xfrm>
              <a:off x="1436760" y="5317920"/>
              <a:ext cx="280800" cy="56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2857" y="0"/>
                  </a:moveTo>
                  <a:cubicBezTo>
                    <a:pt x="0" y="0"/>
                    <a:pt x="4000" y="20000"/>
                    <a:pt x="8000" y="14285"/>
                  </a:cubicBezTo>
                  <a:cubicBezTo>
                    <a:pt x="20000" y="2857"/>
                    <a:pt x="2857" y="0"/>
                    <a:pt x="2857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0" name="任意多边形 28847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5185" y="16250"/>
                  </a:moveTo>
                  <a:cubicBezTo>
                    <a:pt x="5185" y="16250"/>
                    <a:pt x="13333" y="20000"/>
                    <a:pt x="18518" y="7500"/>
                  </a:cubicBezTo>
                  <a:cubicBezTo>
                    <a:pt x="20000" y="2500"/>
                    <a:pt x="17037" y="0"/>
                    <a:pt x="12592" y="1250"/>
                  </a:cubicBezTo>
                  <a:cubicBezTo>
                    <a:pt x="9629" y="1250"/>
                    <a:pt x="10370" y="13750"/>
                    <a:pt x="5185" y="13750"/>
                  </a:cubicBezTo>
                  <a:cubicBezTo>
                    <a:pt x="0" y="13750"/>
                    <a:pt x="5185" y="16250"/>
                    <a:pt x="5185" y="1625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1" name="任意多边形 28848"/>
            <p:cNvSpPr/>
            <p:nvPr/>
          </p:nvSpPr>
          <p:spPr>
            <a:xfrm>
              <a:off x="1523880" y="5391000"/>
              <a:ext cx="280800" cy="136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285" y="7058"/>
                  </a:moveTo>
                  <a:cubicBezTo>
                    <a:pt x="11428" y="14117"/>
                    <a:pt x="4571" y="11764"/>
                    <a:pt x="4571" y="11764"/>
                  </a:cubicBezTo>
                  <a:cubicBezTo>
                    <a:pt x="4571" y="11764"/>
                    <a:pt x="0" y="10588"/>
                    <a:pt x="3428" y="15294"/>
                  </a:cubicBezTo>
                  <a:cubicBezTo>
                    <a:pt x="6285" y="20000"/>
                    <a:pt x="10285" y="17647"/>
                    <a:pt x="15428" y="14117"/>
                  </a:cubicBezTo>
                  <a:cubicBezTo>
                    <a:pt x="20000" y="9411"/>
                    <a:pt x="17714" y="0"/>
                    <a:pt x="14285" y="7058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2" name="任意多边形 28849"/>
            <p:cNvSpPr/>
            <p:nvPr/>
          </p:nvSpPr>
          <p:spPr>
            <a:xfrm>
              <a:off x="1339560" y="5519520"/>
              <a:ext cx="393840" cy="95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26" y="5000"/>
                  </a:moveTo>
                  <a:cubicBezTo>
                    <a:pt x="15102" y="3333"/>
                    <a:pt x="14693" y="0"/>
                    <a:pt x="11836" y="1666"/>
                  </a:cubicBezTo>
                  <a:cubicBezTo>
                    <a:pt x="5306" y="6666"/>
                    <a:pt x="2857" y="0"/>
                    <a:pt x="2857" y="0"/>
                  </a:cubicBezTo>
                  <a:cubicBezTo>
                    <a:pt x="2857" y="0"/>
                    <a:pt x="0" y="5000"/>
                    <a:pt x="816" y="8333"/>
                  </a:cubicBezTo>
                  <a:cubicBezTo>
                    <a:pt x="2040" y="11666"/>
                    <a:pt x="6938" y="13333"/>
                    <a:pt x="8163" y="13333"/>
                  </a:cubicBezTo>
                  <a:cubicBezTo>
                    <a:pt x="9387" y="13333"/>
                    <a:pt x="13877" y="20000"/>
                    <a:pt x="16734" y="13333"/>
                  </a:cubicBezTo>
                  <a:cubicBezTo>
                    <a:pt x="20000" y="6666"/>
                    <a:pt x="17959" y="5000"/>
                    <a:pt x="16326" y="500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3" name="任意多边形 28850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500" y="3636"/>
                  </a:moveTo>
                  <a:cubicBezTo>
                    <a:pt x="17000" y="7272"/>
                    <a:pt x="15000" y="7272"/>
                    <a:pt x="13000" y="7272"/>
                  </a:cubicBezTo>
                  <a:cubicBezTo>
                    <a:pt x="11500" y="7272"/>
                    <a:pt x="8000" y="3636"/>
                    <a:pt x="6500" y="5454"/>
                  </a:cubicBezTo>
                  <a:cubicBezTo>
                    <a:pt x="5000" y="7272"/>
                    <a:pt x="500" y="3636"/>
                    <a:pt x="500" y="3636"/>
                  </a:cubicBezTo>
                  <a:cubicBezTo>
                    <a:pt x="0" y="20000"/>
                    <a:pt x="15000" y="18181"/>
                    <a:pt x="17500" y="14545"/>
                  </a:cubicBezTo>
                  <a:cubicBezTo>
                    <a:pt x="20000" y="9090"/>
                    <a:pt x="20000" y="0"/>
                    <a:pt x="18500" y="363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4" name="任意多边形 28851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3658" y="5294"/>
                  </a:moveTo>
                  <a:cubicBezTo>
                    <a:pt x="13658" y="3529"/>
                    <a:pt x="6829" y="0"/>
                    <a:pt x="6341" y="3529"/>
                  </a:cubicBezTo>
                  <a:cubicBezTo>
                    <a:pt x="5365" y="7058"/>
                    <a:pt x="1951" y="8823"/>
                    <a:pt x="1951" y="8823"/>
                  </a:cubicBezTo>
                  <a:cubicBezTo>
                    <a:pt x="0" y="9411"/>
                    <a:pt x="0" y="9411"/>
                    <a:pt x="487" y="11176"/>
                  </a:cubicBezTo>
                  <a:cubicBezTo>
                    <a:pt x="487" y="12941"/>
                    <a:pt x="1951" y="14117"/>
                    <a:pt x="4390" y="11176"/>
                  </a:cubicBezTo>
                  <a:cubicBezTo>
                    <a:pt x="8292" y="5882"/>
                    <a:pt x="8292" y="15294"/>
                    <a:pt x="8292" y="15882"/>
                  </a:cubicBezTo>
                  <a:cubicBezTo>
                    <a:pt x="8780" y="17058"/>
                    <a:pt x="9268" y="20000"/>
                    <a:pt x="10243" y="17647"/>
                  </a:cubicBezTo>
                  <a:cubicBezTo>
                    <a:pt x="10731" y="15294"/>
                    <a:pt x="12195" y="8235"/>
                    <a:pt x="14146" y="11176"/>
                  </a:cubicBezTo>
                  <a:cubicBezTo>
                    <a:pt x="17073" y="15882"/>
                    <a:pt x="20000" y="11176"/>
                    <a:pt x="19024" y="11176"/>
                  </a:cubicBezTo>
                  <a:cubicBezTo>
                    <a:pt x="18536" y="10588"/>
                    <a:pt x="13658" y="7647"/>
                    <a:pt x="13658" y="5294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5" name="任意多边形 28852"/>
            <p:cNvSpPr/>
            <p:nvPr/>
          </p:nvSpPr>
          <p:spPr>
            <a:xfrm>
              <a:off x="1581120" y="5551560"/>
              <a:ext cx="199800" cy="504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7600" y="634"/>
                  </a:moveTo>
                  <a:cubicBezTo>
                    <a:pt x="17600" y="634"/>
                    <a:pt x="16000" y="4761"/>
                    <a:pt x="14400" y="5396"/>
                  </a:cubicBezTo>
                  <a:cubicBezTo>
                    <a:pt x="12000" y="6031"/>
                    <a:pt x="8000" y="6349"/>
                    <a:pt x="5600" y="6349"/>
                  </a:cubicBezTo>
                  <a:cubicBezTo>
                    <a:pt x="3200" y="6031"/>
                    <a:pt x="3200" y="6984"/>
                    <a:pt x="5600" y="7301"/>
                  </a:cubicBezTo>
                  <a:cubicBezTo>
                    <a:pt x="8000" y="7619"/>
                    <a:pt x="13600" y="9206"/>
                    <a:pt x="13600" y="10793"/>
                  </a:cubicBezTo>
                  <a:cubicBezTo>
                    <a:pt x="13600" y="12698"/>
                    <a:pt x="13600" y="13968"/>
                    <a:pt x="9600" y="14285"/>
                  </a:cubicBezTo>
                  <a:cubicBezTo>
                    <a:pt x="4800" y="14603"/>
                    <a:pt x="0" y="14920"/>
                    <a:pt x="0" y="17460"/>
                  </a:cubicBezTo>
                  <a:cubicBezTo>
                    <a:pt x="0" y="17460"/>
                    <a:pt x="2400" y="18095"/>
                    <a:pt x="4000" y="18412"/>
                  </a:cubicBezTo>
                  <a:cubicBezTo>
                    <a:pt x="6400" y="18412"/>
                    <a:pt x="11200" y="19365"/>
                    <a:pt x="12800" y="19682"/>
                  </a:cubicBezTo>
                  <a:cubicBezTo>
                    <a:pt x="14400" y="20000"/>
                    <a:pt x="18400" y="19365"/>
                    <a:pt x="18400" y="18095"/>
                  </a:cubicBezTo>
                  <a:cubicBezTo>
                    <a:pt x="19200" y="16507"/>
                    <a:pt x="19200" y="6349"/>
                    <a:pt x="20000" y="4444"/>
                  </a:cubicBezTo>
                  <a:cubicBezTo>
                    <a:pt x="20000" y="2857"/>
                    <a:pt x="20000" y="952"/>
                    <a:pt x="20000" y="634"/>
                  </a:cubicBezTo>
                  <a:cubicBezTo>
                    <a:pt x="20000" y="317"/>
                    <a:pt x="17600" y="0"/>
                    <a:pt x="17600" y="634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1600200" indent="-228600">
              <a:buClr>
                <a:srgbClr val="e4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2057400" indent="-228600"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B5C7-06C9-4128-8D28-7CECCBB81C35}" type="slidenum">
              <a:rPr b="0" i="1" lang="en-US" sz="14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sngStrike" u="sng">
                <a:solidFill>
                  <a:srgbClr val="000000"/>
                </a:solidFill>
                <a:uFillTx/>
                <a:latin typeface="Arial"/>
              </a:rPr>
              <a:t>&lt;date/time&gt;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sngStrike" u="sng">
                <a:solidFill>
                  <a:srgbClr val="000000"/>
                </a:solidFill>
                <a:uFillTx/>
                <a:latin typeface="Arial"/>
              </a:rPr>
              <a:t>&lt;footer&gt;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6313-C17A-48A1-A278-E20B095650DE}" type="slidenum">
              <a:rPr b="1" i="1" lang="en-US" sz="14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sngStrike" u="sng">
                <a:solidFill>
                  <a:srgbClr val="000000"/>
                </a:solidFill>
                <a:uFillTx/>
                <a:latin typeface="Arial"/>
              </a:rPr>
              <a:t>&lt;date/time&gt;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sngStrike" u="sng">
                <a:solidFill>
                  <a:srgbClr val="000000"/>
                </a:solidFill>
                <a:uFillTx/>
                <a:latin typeface="Arial"/>
              </a:rPr>
              <a:t>&lt;footer&gt;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F4A8-5A7F-43D1-AAAD-2A1EF21A6D5A}" type="slidenum">
              <a:rPr b="1" i="1" lang="en-US" sz="14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sngStrike" u="sng">
                <a:solidFill>
                  <a:srgbClr val="000000"/>
                </a:solidFill>
                <a:uFillTx/>
                <a:latin typeface="Arial"/>
              </a:rPr>
              <a:t>&lt;date/time&gt;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sngStrike" u="sng">
                <a:solidFill>
                  <a:srgbClr val="000000"/>
                </a:solidFill>
                <a:uFillTx/>
                <a:latin typeface="Arial"/>
              </a:rPr>
              <a:t>&lt;footer&gt;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8D09-4811-4C05-8BA6-3BBB7B41D207}" type="slidenum">
              <a:rPr b="1" i="1" lang="en-US" sz="14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sngStrike" u="sng">
                <a:solidFill>
                  <a:srgbClr val="000000"/>
                </a:solidFill>
                <a:uFillTx/>
                <a:latin typeface="Arial"/>
              </a:rPr>
              <a:t>&lt;date/time&gt;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sngStrike" u="sng">
                <a:solidFill>
                  <a:srgbClr val="000000"/>
                </a:solidFill>
                <a:uFillTx/>
                <a:latin typeface="Arial"/>
              </a:rPr>
              <a:t>&lt;footer&gt;</a:t>
            </a:r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3E9B-6E41-4F74-AD94-2C91E9914256}" type="slidenum">
              <a:rPr b="1" i="1" lang="en-US" sz="14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吕氏春秋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标题 5121" descr=""/>
          <p:cNvPicPr/>
          <p:nvPr/>
        </p:nvPicPr>
        <p:blipFill>
          <a:blip r:embed="rId2"/>
          <a:stretch/>
        </p:blipFill>
        <p:spPr>
          <a:xfrm>
            <a:off x="684360" y="625320"/>
            <a:ext cx="798012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文本框1"/>
          <p:cNvSpPr/>
          <p:nvPr/>
        </p:nvSpPr>
        <p:spPr>
          <a:xfrm>
            <a:off x="0" y="3068640"/>
            <a:ext cx="971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等到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179280" y="3860640"/>
            <a:ext cx="885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宋体"/>
              </a:rPr>
              <a:t>译文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宋体"/>
              </a:rPr>
              <a:t>: 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宋体"/>
              </a:rPr>
              <a:t>宋国有一姓丁的人家，家中没有井，需到出门（到远处）打水浇田，因此（他家）经常有一个人住在外面。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3" name="AutoShape 8"/>
          <p:cNvSpPr/>
          <p:nvPr/>
        </p:nvSpPr>
        <p:spPr>
          <a:xfrm>
            <a:off x="0" y="0"/>
            <a:ext cx="1403280" cy="76500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4" name="TextBox 12"/>
          <p:cNvSpPr/>
          <p:nvPr/>
        </p:nvSpPr>
        <p:spPr>
          <a:xfrm>
            <a:off x="0" y="115920"/>
            <a:ext cx="190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黑体"/>
              </a:rPr>
              <a:t>初读展示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5" name="TextBox 15"/>
          <p:cNvSpPr/>
          <p:nvPr/>
        </p:nvSpPr>
        <p:spPr>
          <a:xfrm>
            <a:off x="179280" y="981000"/>
            <a:ext cx="88567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宋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之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丁氏，家无井而出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溉汲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，常一人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居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外。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及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其家穿井，告人曰：“吾穿井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得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一人。”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36" name="图片模式2" descr="BD14868_"/>
          <p:cNvPicPr/>
          <p:nvPr/>
        </p:nvPicPr>
        <p:blipFill>
          <a:blip r:embed="rId1"/>
          <a:stretch/>
        </p:blipFill>
        <p:spPr>
          <a:xfrm>
            <a:off x="4284720" y="14130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37" name="图片模式1" descr="BD14868_"/>
          <p:cNvPicPr/>
          <p:nvPr/>
        </p:nvPicPr>
        <p:blipFill>
          <a:blip r:embed="rId2"/>
          <a:stretch/>
        </p:blipFill>
        <p:spPr>
          <a:xfrm>
            <a:off x="826920" y="292428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BD14868_"/>
          <p:cNvPicPr/>
          <p:nvPr/>
        </p:nvPicPr>
        <p:blipFill>
          <a:blip r:embed="rId3"/>
          <a:stretch/>
        </p:blipFill>
        <p:spPr>
          <a:xfrm>
            <a:off x="2843280" y="292428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439" name="TextBox 9"/>
          <p:cNvSpPr/>
          <p:nvPr/>
        </p:nvSpPr>
        <p:spPr>
          <a:xfrm>
            <a:off x="1258920" y="1557360"/>
            <a:ext cx="6490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的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0" name="TextBox 10"/>
          <p:cNvSpPr/>
          <p:nvPr/>
        </p:nvSpPr>
        <p:spPr>
          <a:xfrm>
            <a:off x="3419640" y="1557360"/>
            <a:ext cx="1800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顺接连词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1" name="TextBox 11"/>
          <p:cNvSpPr/>
          <p:nvPr/>
        </p:nvSpPr>
        <p:spPr>
          <a:xfrm>
            <a:off x="4967280" y="1600200"/>
            <a:ext cx="2347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溉，浇灌、灌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汲，从井里取水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826920" y="2997360"/>
            <a:ext cx="1873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代词，他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3" name="文本框2"/>
          <p:cNvSpPr/>
          <p:nvPr/>
        </p:nvSpPr>
        <p:spPr>
          <a:xfrm>
            <a:off x="2700360" y="3068640"/>
            <a:ext cx="971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告诉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4" name="文本框3"/>
          <p:cNvSpPr/>
          <p:nvPr/>
        </p:nvSpPr>
        <p:spPr>
          <a:xfrm>
            <a:off x="5364000" y="2997360"/>
            <a:ext cx="244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这里指“节省”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5" name="TextBox 16"/>
          <p:cNvSpPr/>
          <p:nvPr/>
        </p:nvSpPr>
        <p:spPr>
          <a:xfrm>
            <a:off x="7381800" y="1528920"/>
            <a:ext cx="806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住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6" name="矩形 17"/>
          <p:cNvSpPr/>
          <p:nvPr/>
        </p:nvSpPr>
        <p:spPr>
          <a:xfrm>
            <a:off x="179280" y="5373720"/>
            <a:ext cx="8785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宋体"/>
              </a:rPr>
              <a:t>等到他家打井（成功）之后，（他）告诉别人说：“我家打井得一个人。” 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矩形 17"/>
          <p:cNvSpPr/>
          <p:nvPr/>
        </p:nvSpPr>
        <p:spPr>
          <a:xfrm>
            <a:off x="179280" y="907920"/>
            <a:ext cx="878544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宋体"/>
              </a:rPr>
              <a:t>有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宋体"/>
              </a:rPr>
              <a:t>闻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宋体"/>
              </a:rPr>
              <a:t>而传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宋体"/>
              </a:rPr>
              <a:t>之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宋体"/>
              </a:rPr>
              <a:t>者，曰：“丁氏穿井得一人。”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宋体"/>
              </a:rPr>
              <a:t>国人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宋体"/>
              </a:rPr>
              <a:t>道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宋体"/>
              </a:rPr>
              <a:t>之，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宋体"/>
              </a:rPr>
              <a:t>闻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宋体"/>
              </a:rPr>
              <a:t>之于宋君。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8" name="图例1"/>
          <p:cNvSpPr/>
          <p:nvPr/>
        </p:nvSpPr>
        <p:spPr>
          <a:xfrm>
            <a:off x="1619280" y="3716280"/>
            <a:ext cx="1081080" cy="432000"/>
          </a:xfrm>
          <a:prstGeom prst="wedgeRoundRectCallout">
            <a:avLst>
              <a:gd name="adj1" fmla="val 37990"/>
              <a:gd name="adj2" fmla="val -213574"/>
              <a:gd name="adj3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9" name="文本框1"/>
          <p:cNvSpPr/>
          <p:nvPr/>
        </p:nvSpPr>
        <p:spPr>
          <a:xfrm>
            <a:off x="1116000" y="1484280"/>
            <a:ext cx="863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听到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08000" y="4437000"/>
            <a:ext cx="889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译文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:    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有听到这话以后就传播的人，说：     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丁家打井，从井中发现了一个人。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”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1116000" y="69228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611280" y="3068640"/>
            <a:ext cx="100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讲述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1547640" y="3716280"/>
            <a:ext cx="115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使听见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4" name="AutoShape 8"/>
          <p:cNvSpPr/>
          <p:nvPr/>
        </p:nvSpPr>
        <p:spPr>
          <a:xfrm>
            <a:off x="0" y="0"/>
            <a:ext cx="1403280" cy="76500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5" name="TextBox 15"/>
          <p:cNvSpPr/>
          <p:nvPr/>
        </p:nvSpPr>
        <p:spPr>
          <a:xfrm>
            <a:off x="0" y="115920"/>
            <a:ext cx="187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黑体"/>
              </a:rPr>
              <a:t>初读展示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56" name="图片模式1" descr="BD14868_"/>
          <p:cNvPicPr/>
          <p:nvPr/>
        </p:nvPicPr>
        <p:blipFill>
          <a:blip r:embed="rId1"/>
          <a:stretch/>
        </p:blipFill>
        <p:spPr>
          <a:xfrm>
            <a:off x="1619280" y="2997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57" name="图片模式2" descr="BD14868_"/>
          <p:cNvPicPr/>
          <p:nvPr/>
        </p:nvPicPr>
        <p:blipFill>
          <a:blip r:embed="rId2"/>
          <a:stretch/>
        </p:blipFill>
        <p:spPr>
          <a:xfrm>
            <a:off x="2843280" y="299736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5"/>
          <p:cNvSpPr/>
          <p:nvPr/>
        </p:nvSpPr>
        <p:spPr>
          <a:xfrm>
            <a:off x="2843280" y="1484280"/>
            <a:ext cx="2449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代词，指丁家人说的那句话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59" name="Picture 6" descr="BD14868_"/>
          <p:cNvPicPr/>
          <p:nvPr/>
        </p:nvPicPr>
        <p:blipFill>
          <a:blip r:embed="rId3"/>
          <a:stretch/>
        </p:blipFill>
        <p:spPr>
          <a:xfrm>
            <a:off x="2484360" y="1413000"/>
            <a:ext cx="144720" cy="144360"/>
          </a:xfrm>
          <a:prstGeom prst="rect">
            <a:avLst/>
          </a:prstGeom>
          <a:ln w="0">
            <a:noFill/>
          </a:ln>
        </p:spPr>
      </p:pic>
      <p:sp>
        <p:nvSpPr>
          <p:cNvPr id="460" name="AutoShape 19"/>
          <p:cNvSpPr/>
          <p:nvPr/>
        </p:nvSpPr>
        <p:spPr>
          <a:xfrm>
            <a:off x="2050920" y="1844640"/>
            <a:ext cx="865440" cy="432000"/>
          </a:xfrm>
          <a:prstGeom prst="wedgeRoundRectCallout">
            <a:avLst>
              <a:gd name="adj1" fmla="val 7606"/>
              <a:gd name="adj2" fmla="val -134444"/>
              <a:gd name="adj3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1" name="TextBox 18"/>
          <p:cNvSpPr/>
          <p:nvPr/>
        </p:nvSpPr>
        <p:spPr>
          <a:xfrm>
            <a:off x="2050920" y="1844640"/>
            <a:ext cx="1297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传播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2" name="Line 2079"/>
          <p:cNvSpPr/>
          <p:nvPr/>
        </p:nvSpPr>
        <p:spPr>
          <a:xfrm>
            <a:off x="2916360" y="3068640"/>
            <a:ext cx="50328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3419640" y="3573360"/>
            <a:ext cx="1112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这件事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4" name="矩形 24"/>
          <p:cNvSpPr/>
          <p:nvPr/>
        </p:nvSpPr>
        <p:spPr>
          <a:xfrm>
            <a:off x="1150920" y="544500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Arial"/>
              </a:rPr>
              <a:t>国都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的人都谈论这件事，使宋国的国君知道这件事。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79280" y="2903040"/>
            <a:ext cx="878544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宋君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令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问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丁氏。丁氏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曰：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，非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井中也。”求闻之若此，不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无闻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179280" y="4437000"/>
            <a:ext cx="885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译文： 宋国国君派人向丁家询问这件事。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3780000" y="1484280"/>
            <a:ext cx="863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向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2484360" y="1557360"/>
            <a:ext cx="1440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这件事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723600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0" name="文本框1"/>
          <p:cNvSpPr/>
          <p:nvPr/>
        </p:nvSpPr>
        <p:spPr>
          <a:xfrm>
            <a:off x="5724360" y="1484280"/>
            <a:ext cx="1295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回答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108000" y="3357720"/>
            <a:ext cx="576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的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743256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611280" y="3429000"/>
            <a:ext cx="93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Times New Roman"/>
              </a:rPr>
              <a:t>使唤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3348000" y="3284640"/>
            <a:ext cx="719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在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5" name="AutoShape 8"/>
          <p:cNvSpPr/>
          <p:nvPr/>
        </p:nvSpPr>
        <p:spPr>
          <a:xfrm>
            <a:off x="0" y="0"/>
            <a:ext cx="1403280" cy="76500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6" name="TextBox 18"/>
          <p:cNvSpPr/>
          <p:nvPr/>
        </p:nvSpPr>
        <p:spPr>
          <a:xfrm>
            <a:off x="0" y="115920"/>
            <a:ext cx="187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黑体"/>
              </a:rPr>
              <a:t>初读展示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77" name="图片模式1" descr="BD14868_"/>
          <p:cNvPicPr/>
          <p:nvPr/>
        </p:nvPicPr>
        <p:blipFill>
          <a:blip r:embed="rId1"/>
          <a:stretch/>
        </p:blipFill>
        <p:spPr>
          <a:xfrm>
            <a:off x="3708360" y="14130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6" descr="BD14868_"/>
          <p:cNvPicPr/>
          <p:nvPr/>
        </p:nvPicPr>
        <p:blipFill>
          <a:blip r:embed="rId2"/>
          <a:stretch/>
        </p:blipFill>
        <p:spPr>
          <a:xfrm>
            <a:off x="826920" y="3284640"/>
            <a:ext cx="144720" cy="144360"/>
          </a:xfrm>
          <a:prstGeom prst="rect">
            <a:avLst/>
          </a:prstGeom>
          <a:ln w="0">
            <a:noFill/>
          </a:ln>
        </p:spPr>
      </p:pic>
      <p:sp>
        <p:nvSpPr>
          <p:cNvPr id="479" name="文本框2"/>
          <p:cNvSpPr/>
          <p:nvPr/>
        </p:nvSpPr>
        <p:spPr>
          <a:xfrm>
            <a:off x="1403280" y="1557360"/>
            <a:ext cx="936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派遣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0" name="文本框3"/>
          <p:cNvSpPr/>
          <p:nvPr/>
        </p:nvSpPr>
        <p:spPr>
          <a:xfrm>
            <a:off x="7380360" y="1484280"/>
            <a:ext cx="1295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得到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1908000" y="3284640"/>
            <a:ext cx="12956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Times New Roman"/>
              </a:rPr>
              <a:t>这里指“发现”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2" name="矩形 18"/>
          <p:cNvSpPr/>
          <p:nvPr/>
        </p:nvSpPr>
        <p:spPr>
          <a:xfrm>
            <a:off x="179280" y="5013360"/>
            <a:ext cx="8785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丁家的人回答说：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“（我说的是打井）节省了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Times New Roman"/>
              </a:rPr>
              <a:t>一个劳动力，不是说从井中发现了一个人。</a:t>
            </a: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”像这样听消息，还不如什么都没听 。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27338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Arial"/>
              </a:rPr>
              <a:t>词语小结： 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Arial"/>
              </a:rPr>
              <a:t>（</a:t>
            </a:r>
            <a:r>
              <a:rPr b="1" i="1" lang="en-US" sz="4000" spc="-1" strike="sng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Arial"/>
              </a:rPr>
              <a:t>）古今异义 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Arial"/>
              </a:rPr>
              <a:t>子将安之？     古义：     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sngStrike" u="sng">
                <a:solidFill>
                  <a:srgbClr val="ffffff"/>
                </a:solidFill>
                <a:uFillTx/>
                <a:latin typeface="Arial"/>
              </a:rPr>
              <a:t>                         </a:t>
            </a: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Arial"/>
              </a:rPr>
              <a:t>今义：  </a:t>
            </a:r>
            <a:br>
              <a:rPr sz="4000"/>
            </a:b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Arial"/>
              </a:rPr>
              <a:t>（</a:t>
            </a:r>
            <a:r>
              <a:rPr b="1" i="1" lang="en-US" sz="4000" spc="-1" strike="sng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Arial"/>
              </a:rPr>
              <a:t>）词性活用  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Arial"/>
              </a:rPr>
              <a:t>我将东徙。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sng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Arial"/>
              </a:rPr>
              <a:t>东  ：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5" name="文本框1"/>
          <p:cNvSpPr/>
          <p:nvPr/>
        </p:nvSpPr>
        <p:spPr>
          <a:xfrm>
            <a:off x="5076720" y="1844640"/>
            <a:ext cx="129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哪里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6" name="文本框3"/>
          <p:cNvSpPr/>
          <p:nvPr/>
        </p:nvSpPr>
        <p:spPr>
          <a:xfrm>
            <a:off x="5003640" y="2637000"/>
            <a:ext cx="1511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平安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7" name="文本框2"/>
          <p:cNvSpPr/>
          <p:nvPr/>
        </p:nvSpPr>
        <p:spPr>
          <a:xfrm>
            <a:off x="1763640" y="5445000"/>
            <a:ext cx="547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方位名词活用为动词。 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1818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Arial"/>
              </a:rPr>
              <a:t>（</a:t>
            </a:r>
            <a:r>
              <a:rPr b="1" i="1" lang="en-US" sz="4000" spc="-1" strike="sng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Arial"/>
              </a:rPr>
              <a:t>）一词多义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7129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sng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之：闻之于宋君 。   </a:t>
            </a:r>
            <a:br>
              <a:rPr sz="3600"/>
            </a:br>
            <a:r>
              <a:rPr b="1" i="1" lang="en-US" sz="3600" spc="-1" strike="sngStrike" u="sng">
                <a:solidFill>
                  <a:srgbClr val="ffffff"/>
                </a:solidFill>
                <a:uFillTx/>
                <a:latin typeface="Arial"/>
              </a:rPr>
              <a:t>       子将安之 ？       </a:t>
            </a:r>
            <a:br>
              <a:rPr sz="3600"/>
            </a:br>
            <a:r>
              <a:rPr b="1" i="1" lang="en-US" sz="3600" spc="-1" strike="sngStrike" u="sng">
                <a:solidFill>
                  <a:srgbClr val="ffffff"/>
                </a:solidFill>
                <a:uFillTx/>
                <a:latin typeface="Arial"/>
              </a:rPr>
              <a:t>       得一人之使。     </a:t>
            </a:r>
            <a:br>
              <a:rPr sz="3600"/>
            </a:b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闻：有闻而传之者 。    </a:t>
            </a:r>
            <a:br>
              <a:rPr sz="3600"/>
            </a:br>
            <a:r>
              <a:rPr b="1" i="1" lang="en-US" sz="3600" spc="-1" strike="sngStrike" u="sng">
                <a:solidFill>
                  <a:srgbClr val="ffffff"/>
                </a:solidFill>
                <a:uFillTx/>
                <a:latin typeface="Arial"/>
              </a:rPr>
              <a:t>         闻之于君 。    </a:t>
            </a:r>
            <a:br>
              <a:rPr sz="3600"/>
            </a:b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以：我以日始出时去人近。     </a:t>
            </a:r>
            <a:br>
              <a:rPr sz="3600"/>
            </a:br>
            <a:r>
              <a:rPr b="1" i="1" lang="en-US" sz="3600" spc="-1" strike="sngStrike" u="sng">
                <a:solidFill>
                  <a:srgbClr val="ffffff"/>
                </a:solidFill>
                <a:uFillTx/>
                <a:latin typeface="Arial"/>
              </a:rPr>
              <a:t>         以故东迁 。              </a:t>
            </a:r>
            <a:br>
              <a:rPr sz="3600"/>
            </a:b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于：闻之于宋君 。        </a:t>
            </a:r>
            <a:br>
              <a:rPr sz="3600"/>
            </a:br>
            <a:r>
              <a:rPr b="1" i="1" lang="en-US" sz="3600" spc="-1" strike="sngStrike" u="sng">
                <a:solidFill>
                  <a:srgbClr val="ffffff"/>
                </a:solidFill>
                <a:uFillTx/>
                <a:latin typeface="Arial"/>
              </a:rPr>
              <a:t>       非得一人于井中 。    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0" name="文本框3"/>
          <p:cNvSpPr/>
          <p:nvPr/>
        </p:nvSpPr>
        <p:spPr>
          <a:xfrm>
            <a:off x="4923360" y="1030320"/>
            <a:ext cx="2140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sng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代词   这件事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1" name="文本框1"/>
          <p:cNvSpPr/>
          <p:nvPr/>
        </p:nvSpPr>
        <p:spPr>
          <a:xfrm>
            <a:off x="4643280" y="1700280"/>
            <a:ext cx="367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动词   去、到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2" name="文本框2"/>
          <p:cNvSpPr/>
          <p:nvPr/>
        </p:nvSpPr>
        <p:spPr>
          <a:xfrm>
            <a:off x="4643280" y="2276640"/>
            <a:ext cx="280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助词   的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3" name="文本框4"/>
          <p:cNvSpPr/>
          <p:nvPr/>
        </p:nvSpPr>
        <p:spPr>
          <a:xfrm>
            <a:off x="4859280" y="2924280"/>
            <a:ext cx="223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听到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4" name="文本框8"/>
          <p:cNvSpPr/>
          <p:nvPr/>
        </p:nvSpPr>
        <p:spPr>
          <a:xfrm>
            <a:off x="4788000" y="3573360"/>
            <a:ext cx="1800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使听到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5" name="文本框9"/>
          <p:cNvSpPr/>
          <p:nvPr/>
        </p:nvSpPr>
        <p:spPr>
          <a:xfrm>
            <a:off x="6341040" y="4149720"/>
            <a:ext cx="732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认为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6" name="文本框7"/>
          <p:cNvSpPr/>
          <p:nvPr/>
        </p:nvSpPr>
        <p:spPr>
          <a:xfrm>
            <a:off x="6341040" y="4724280"/>
            <a:ext cx="732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因为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7" name="文本框5"/>
          <p:cNvSpPr/>
          <p:nvPr/>
        </p:nvSpPr>
        <p:spPr>
          <a:xfrm>
            <a:off x="6156360" y="5445000"/>
            <a:ext cx="122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向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8" name="文本框6"/>
          <p:cNvSpPr/>
          <p:nvPr/>
        </p:nvSpPr>
        <p:spPr>
          <a:xfrm>
            <a:off x="6156360" y="6021360"/>
            <a:ext cx="93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在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24462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sngStrike" u="sng">
                <a:solidFill>
                  <a:srgbClr val="ffffff"/>
                </a:solidFill>
                <a:uFillTx/>
                <a:latin typeface="Arial"/>
              </a:rPr>
              <a:t>质疑： 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2803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Arial"/>
              </a:rPr>
              <a:t>丁家穿井后，告人曰：“吾穿井得一人”。是什么意思？ 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1" name="文本框1"/>
          <p:cNvSpPr/>
          <p:nvPr/>
        </p:nvSpPr>
        <p:spPr>
          <a:xfrm>
            <a:off x="3929040" y="2205000"/>
            <a:ext cx="13190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Arial"/>
              </a:rPr>
              <a:t>意思是我家打井得了一个劳动力。 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2" name="文本框2"/>
          <p:cNvSpPr/>
          <p:nvPr/>
        </p:nvSpPr>
        <p:spPr>
          <a:xfrm>
            <a:off x="611280" y="29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3" name="文本框3"/>
          <p:cNvSpPr/>
          <p:nvPr/>
        </p:nvSpPr>
        <p:spPr>
          <a:xfrm>
            <a:off x="468360" y="2997360"/>
            <a:ext cx="8675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Arial"/>
              </a:rPr>
              <a:t>传说的人把这句话听成了什么意思？  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4" name="文本框6"/>
          <p:cNvSpPr/>
          <p:nvPr/>
        </p:nvSpPr>
        <p:spPr>
          <a:xfrm>
            <a:off x="447840" y="39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5" name="文本框7"/>
          <p:cNvSpPr/>
          <p:nvPr/>
        </p:nvSpPr>
        <p:spPr>
          <a:xfrm>
            <a:off x="2034360" y="3789360"/>
            <a:ext cx="496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听成了姓丁的人家打井挖出了一个人。 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6" name="文本框4"/>
          <p:cNvSpPr/>
          <p:nvPr/>
        </p:nvSpPr>
        <p:spPr>
          <a:xfrm>
            <a:off x="395280" y="4437000"/>
            <a:ext cx="874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这则寓言故事说明了一个什么道理？ 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7" name="文本框5"/>
          <p:cNvSpPr/>
          <p:nvPr/>
        </p:nvSpPr>
        <p:spPr>
          <a:xfrm>
            <a:off x="395280" y="5084640"/>
            <a:ext cx="8516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Arial"/>
              </a:rPr>
              <a:t>告诉人们不可轻信传言并盲目传播，说话、念词不要产生歧义。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Arial"/>
              </a:rPr>
              <a:t>现实生活中有没有类似情况？ 如有，我们应该怎样去对待？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9" name="文本框1"/>
          <p:cNvSpPr/>
          <p:nvPr/>
        </p:nvSpPr>
        <p:spPr>
          <a:xfrm>
            <a:off x="395280" y="2565360"/>
            <a:ext cx="83534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sng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1" i="1" lang="zh-CN" sz="4000" spc="-1" strike="sngStrike" u="sng">
                <a:solidFill>
                  <a:srgbClr val="ffffff"/>
                </a:solidFill>
                <a:uFillTx/>
                <a:latin typeface="Arial"/>
              </a:rPr>
              <a:t>在现实生活中对待传闻都应采取调查研究的审慎的态度、去伪存真的求实精神。不要轻信，不能盲从，更不能以讹传讹。 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23:24:00Z</dcterms:created>
  <dc:creator/>
  <dc:description/>
  <dc:language>en-US</dc:language>
  <cp:lastModifiedBy/>
  <dcterms:modified xsi:type="dcterms:W3CDTF">2018-01-05T06:57:56Z</dcterms:modified>
  <cp:revision>0</cp:revision>
  <dc:subject/>
  <dc:title>PowerPoint Presentation</dc:title>
</cp:coreProperties>
</file>