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0D5E-C955-4A30-B8D3-E3E8E29911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933A-E9C1-45A3-8D3A-C8E9528D9DE2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B8-2D70-4F8D-B27B-42E45747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D35-75B7-4E25-B3D6-D3E6A189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5B6F1-7112-42B9-8836-4C8F0097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361A5-A44C-474F-9F94-7BB35B9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B117B-1193-4CD5-9908-31DB4D3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8619-2D39-4661-975B-629AF1C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222AE-B711-44BC-B909-738E2A07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1D75-96C2-42E4-89D1-FA2D0F0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75429-9585-499A-91FD-FD46E74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F3FFB-2308-460E-9E63-9C025E26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0293C-45D1-4D27-883C-2B3B8252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E8C-6AB2-4F98-B1A9-7DC87E6A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693-F824-4DFB-9239-A9C29884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0F6-0170-4F82-B9CD-A7813B42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CF0-4DCE-4D76-B71E-94B2ED6F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98BB-B599-4B8D-BF50-DBAAF8C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4688-6850-4C82-8B2F-E16EAB90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19A-3BBF-494B-9FCB-3C5BCAF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FB46-70C6-4A1E-BA6C-D2441D5C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8B0B-988F-4BAB-ADAB-89F6914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A7C-2FE8-43C2-928C-74CB4329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FD8D-D00D-4842-9809-04FDB46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2634-7CBC-47A2-9B33-3DE57DB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F5DE-D1B4-4619-960E-A7C31BB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F0AA-7A4C-4387-93FE-EAF0863E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4C2B-23CD-4E7A-BB0D-06E6C050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4DDC-19CB-4EBD-8EE9-1FCB503A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0C07-2E1C-4208-AB6F-01CBAED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D780-6B5D-4194-9B43-D78F3A11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9D6CD-E6D5-47DB-8532-27717E75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6CA7-5DA1-4EAE-A130-D7119AD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2F0-8B68-4082-890F-0A3B688C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75B9-A657-4955-A159-033E270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4C24-09D2-495D-B6AC-98CC245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4CA9-8315-4B6E-8B9C-627866CA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ED3A-7B11-42C9-A111-6B565C7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5A0C-0C24-48B9-8E8E-BC581D3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BD83-84E4-4984-A792-8678106B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1551-50E8-4D3A-BBE4-4222DEF5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58E1-B78D-4BC5-BBB9-9440D76B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E327-6C01-4DA0-AA3F-01087CE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CFC3-029B-4EAE-9877-F4130EA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E0F-04CD-4723-B475-7FF5BEFF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6C79-45C9-4DDA-9DDA-44F45973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D76D9-6345-45A1-8CA1-2E1B5328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09C98-C75B-4BE5-8FE4-8E86676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D3AA-66AF-460A-9336-FC411E5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A0B86-5515-445E-AD3F-8EDCF64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10D90-42A0-4E1F-81D0-718B7A6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85CB-10D2-4A7B-A75B-C77DFF0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EB86-7DB3-4523-BF03-69A09413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9BA6-088A-41C1-AFD0-305D8FB1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99428-0EC0-412E-B5EF-E788488F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5E9-4B20-4AD0-A4B5-D35B225F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66A4-0D18-454F-A9C3-1C55AF3D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59665-252B-463D-A9B5-AE9F4C38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6A49-619C-4A00-A1FA-CD67359B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C2F1-8F87-4310-B9D4-ADEAD298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5693-079B-4E1B-93A3-8B63812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BC9C-E30C-4B29-80C4-BA94D2A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749F1-70BB-450E-A534-0C97F85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1949-9164-4F8F-8CDD-D07CD74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B49BD-00AD-4205-B32C-5B363CF3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6C8B-BAC9-458D-8A9C-DC76BDAB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DE5-4306-4807-874C-E2328D07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53618-0A8F-4D7B-A43B-AFF76D8F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C2CE-1106-4907-B2EB-6146142E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DE188-C577-4AA8-8C59-661068F9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171D-4B0E-4B69-9C69-17AEA222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A48C4-8164-44D7-BF8A-00A7B9F0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4006-E89E-4BE0-B3C1-D21AF891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A8CC-070B-4608-B5D0-CC1E0D9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F6AE-6C52-4CD9-94EE-FB91D82B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3B1C-A69F-4E4F-B781-EBA3428D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6C05-E79C-4619-BC6C-4B72F05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D55-2C7B-43F6-99AA-473F4C3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9C99A-3F9E-4B70-9E87-D897C19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B4E0C-F464-49A7-B740-FD9D0549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A800-E5C0-43C8-9DD4-B8A6C325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CEFE0-54A1-45A4-9D80-FB6CBE64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FD8B-3625-4E03-A0DE-F4399807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4BB2-6B03-44F0-A5C4-F3B9C54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0607-64FC-44AB-90F5-06A0F872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51AAF-A096-43E4-8D9A-81E9182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F25B5-338A-4744-B7B2-5AA88B43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E65EF-A441-4554-A5B5-B8DA27AE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E07-A71B-4071-9C7F-9BF82C0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08A2A-F7E9-4756-BA22-16082FAE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FB6F7-0B46-4289-A01F-D582290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759D7-292B-4160-B7C6-5DD9E81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E4A06-AE46-4B87-9A4D-F512BCA4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B81FC-7A65-4EE5-B321-5B4BFAC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1F845-1336-45B2-A19A-08B45D1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3E32-55F2-43CA-B9DC-B3FD31C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EF9B-FC3D-4D3C-9991-59B8737D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BEE1-AC08-49EA-AFCC-6C1ADAB4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D82A-DB86-445F-9694-9FCF0CAF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5D8-C57E-49AE-9494-B9EB632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2FFD4-FF13-4BB3-8B3B-5673265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3A1E6-DEDA-4FF8-A789-310BD37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296E4-BBBA-45A0-A868-8138F4F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DDA10-4B79-41E6-963A-8605EC3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61CED-B7C3-4375-AC97-9A77CD55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1651-2051-4087-8FFE-D1153A70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0DAC9-4251-42A6-B25E-439D3E43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C03E-054F-49AB-AE57-C27AD16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262D7-24B3-4B2F-B048-5688FD8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B416C-4744-4F44-8ED9-98E1C56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63B0-28C5-4512-AE70-6638BFD7D91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DA1-E225-4B60-9FA0-FC24AFF6897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937D-175B-4D21-A9B4-D7D3EBE06A3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79A-A698-4CDA-B9AD-D2790E41302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18A3-1861-435B-80CD-D0EFEA1F04D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91B-0294-4777-A748-A135F7455B6A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01F4-CDB0-4FB4-932A-AED68D0ECE4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F68-4420-4FDB-B3DE-EBC78C7C0FB1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DF5-5026-4544-8D74-645446A97AC2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  <a:ea typeface="隶书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Users\Administrator\Desktop\03502501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7"/>
          <p:cNvSpPr txBox="1"/>
          <p:nvPr/>
        </p:nvSpPr>
        <p:spPr>
          <a:xfrm rot="612000">
            <a:off x="3924360" y="260280"/>
            <a:ext cx="506088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穿井得人</a:t>
            </a:r>
            <a:endParaRPr b="1" lang="en-US" sz="4000" spc="1" strike="noStrike">
              <a:ln w="1908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5796000" y="2781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腾祥嘉丽大黑简"/>
                <a:ea typeface="腾祥嘉丽大黑简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腾祥嘉丽大黑简"/>
                <a:ea typeface="腾祥嘉丽大黑简"/>
              </a:rPr>
              <a:t>吕氏春秋</a:t>
            </a:r>
            <a:r>
              <a:rPr b="1" lang="en-US" sz="4000" spc="-1" strike="noStrike">
                <a:solidFill>
                  <a:srgbClr val="0000ff"/>
                </a:solidFill>
                <a:latin typeface="腾祥嘉丽大黑简"/>
                <a:ea typeface="腾祥嘉丽大黑简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0" y="3068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79280" y="386064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译文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宋国有一姓丁的人家，家中没有井，需到出门（到远处）打水洗涤，因此（他家）经常有一个人住在外面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0" y="115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翻译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5"/>
          <p:cNvSpPr/>
          <p:nvPr/>
        </p:nvSpPr>
        <p:spPr>
          <a:xfrm>
            <a:off x="179280" y="98100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丁氏，家无井而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溉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常一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家穿井，告人曰：“吾穿井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人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" descr="BD14868_"/>
          <p:cNvPicPr/>
          <p:nvPr/>
        </p:nvPicPr>
        <p:blipFill>
          <a:blip r:embed="rId2"/>
          <a:stretch/>
        </p:blipFill>
        <p:spPr>
          <a:xfrm>
            <a:off x="4284720" y="1413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BD14868_"/>
          <p:cNvPicPr/>
          <p:nvPr/>
        </p:nvPicPr>
        <p:blipFill>
          <a:blip r:embed="rId3"/>
          <a:stretch/>
        </p:blipFill>
        <p:spPr>
          <a:xfrm>
            <a:off x="826920" y="292428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BD14868_"/>
          <p:cNvPicPr/>
          <p:nvPr/>
        </p:nvPicPr>
        <p:blipFill>
          <a:blip r:embed="rId4"/>
          <a:stretch/>
        </p:blipFill>
        <p:spPr>
          <a:xfrm>
            <a:off x="2843280" y="2924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9"/>
          <p:cNvSpPr/>
          <p:nvPr/>
        </p:nvSpPr>
        <p:spPr>
          <a:xfrm>
            <a:off x="1258920" y="1557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0"/>
          <p:cNvSpPr/>
          <p:nvPr/>
        </p:nvSpPr>
        <p:spPr>
          <a:xfrm>
            <a:off x="3419640" y="155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顺接连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1"/>
          <p:cNvSpPr/>
          <p:nvPr/>
        </p:nvSpPr>
        <p:spPr>
          <a:xfrm>
            <a:off x="5003640" y="148428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溉，洗涤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汲水，从下往上打水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826920" y="299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，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700360" y="3068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告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5364000" y="29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里指“节省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6"/>
          <p:cNvSpPr/>
          <p:nvPr/>
        </p:nvSpPr>
        <p:spPr>
          <a:xfrm>
            <a:off x="7667640" y="141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矩形 17"/>
          <p:cNvSpPr/>
          <p:nvPr/>
        </p:nvSpPr>
        <p:spPr>
          <a:xfrm>
            <a:off x="179280" y="53737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等到他家打井（成功）之后，他家的人对别人说：“我家打井得一个人。”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7"/>
          <p:cNvSpPr/>
          <p:nvPr/>
        </p:nvSpPr>
        <p:spPr>
          <a:xfrm>
            <a:off x="179280" y="907920"/>
            <a:ext cx="87854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，曰：“丁氏穿井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人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宋君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19"/>
          <p:cNvSpPr/>
          <p:nvPr/>
        </p:nvSpPr>
        <p:spPr>
          <a:xfrm>
            <a:off x="1619280" y="3716280"/>
            <a:ext cx="1081080" cy="432000"/>
          </a:xfrm>
          <a:prstGeom prst="wedgeRoundRectCallout">
            <a:avLst>
              <a:gd name="adj1" fmla="val 37990"/>
              <a:gd name="adj2" fmla="val -213574"/>
              <a:gd name="adj3" fmla="val 16667"/>
            </a:avLst>
          </a:prstGeom>
          <a:solidFill>
            <a:srgbClr val="ccffff"/>
          </a:solidFill>
          <a:ln w="38160">
            <a:solidFill>
              <a:srgbClr val="ad1f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16000" y="1484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听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08000" y="4437000"/>
            <a:ext cx="88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译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有人听到这话以后就传播给其他人，说：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丁家打井，从井中发现了一个人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116000" y="6922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611280" y="306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谈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1547640" y="3716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使听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3672720" y="29973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向、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0" y="115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翻译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6" descr="BD14868_"/>
          <p:cNvPicPr/>
          <p:nvPr/>
        </p:nvPicPr>
        <p:blipFill>
          <a:blip r:embed="rId2"/>
          <a:stretch/>
        </p:blipFill>
        <p:spPr>
          <a:xfrm>
            <a:off x="1619280" y="29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BD14868_"/>
          <p:cNvPicPr/>
          <p:nvPr/>
        </p:nvPicPr>
        <p:blipFill>
          <a:blip r:embed="rId3"/>
          <a:stretch/>
        </p:blipFill>
        <p:spPr>
          <a:xfrm>
            <a:off x="2843280" y="299736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5"/>
          <p:cNvSpPr/>
          <p:nvPr/>
        </p:nvSpPr>
        <p:spPr>
          <a:xfrm>
            <a:off x="2843280" y="148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，指丁家人说的那句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BD14868_"/>
          <p:cNvPicPr/>
          <p:nvPr/>
        </p:nvPicPr>
        <p:blipFill>
          <a:blip r:embed="rId4"/>
          <a:stretch/>
        </p:blipFill>
        <p:spPr>
          <a:xfrm>
            <a:off x="2484360" y="141300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441" name="AutoShape 19"/>
          <p:cNvSpPr/>
          <p:nvPr/>
        </p:nvSpPr>
        <p:spPr>
          <a:xfrm>
            <a:off x="2050920" y="1844640"/>
            <a:ext cx="865440" cy="432000"/>
          </a:xfrm>
          <a:prstGeom prst="wedgeRoundRectCallout">
            <a:avLst>
              <a:gd name="adj1" fmla="val 7606"/>
              <a:gd name="adj2" fmla="val -134444"/>
              <a:gd name="adj3" fmla="val 16667"/>
            </a:avLst>
          </a:prstGeom>
          <a:solidFill>
            <a:srgbClr val="ccffff"/>
          </a:solidFill>
          <a:ln w="38160">
            <a:solidFill>
              <a:srgbClr val="ad1f1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18"/>
          <p:cNvSpPr/>
          <p:nvPr/>
        </p:nvSpPr>
        <p:spPr>
          <a:xfrm>
            <a:off x="2050920" y="1844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084720" y="148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得到，这里指“发现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403280" y="306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件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079"/>
          <p:cNvSpPr/>
          <p:nvPr/>
        </p:nvSpPr>
        <p:spPr>
          <a:xfrm>
            <a:off x="2916360" y="3068640"/>
            <a:ext cx="50328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419640" y="3573360"/>
            <a:ext cx="11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件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矩形 24"/>
          <p:cNvSpPr/>
          <p:nvPr/>
        </p:nvSpPr>
        <p:spPr>
          <a:xfrm>
            <a:off x="1150920" y="5445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全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人都谈论这件事，（有人）向宋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矩形 25"/>
          <p:cNvSpPr/>
          <p:nvPr/>
        </p:nvSpPr>
        <p:spPr>
          <a:xfrm>
            <a:off x="431640" y="595008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国君（报告），使（他）听到这件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宋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问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于丁氏。丁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，非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井中也。”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79280" y="443700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译文： 宋国国君派人向丁家询问这件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3780000" y="148428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484360" y="155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件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723600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5724360" y="148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回答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108000" y="3357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743256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611280" y="34290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劳动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3348000" y="3284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8"/>
          <p:cNvSpPr/>
          <p:nvPr/>
        </p:nvSpPr>
        <p:spPr>
          <a:xfrm>
            <a:off x="0" y="0"/>
            <a:ext cx="1403280" cy="7650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8"/>
          <p:cNvSpPr/>
          <p:nvPr/>
        </p:nvSpPr>
        <p:spPr>
          <a:xfrm>
            <a:off x="0" y="115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翻译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6" descr="BD14868_"/>
          <p:cNvPicPr/>
          <p:nvPr/>
        </p:nvPicPr>
        <p:blipFill>
          <a:blip r:embed="rId2"/>
          <a:stretch/>
        </p:blipFill>
        <p:spPr>
          <a:xfrm>
            <a:off x="3708360" y="141300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BD14868_"/>
          <p:cNvPicPr/>
          <p:nvPr/>
        </p:nvPicPr>
        <p:blipFill>
          <a:blip r:embed="rId3"/>
          <a:stretch/>
        </p:blipFill>
        <p:spPr>
          <a:xfrm>
            <a:off x="826920" y="3284640"/>
            <a:ext cx="144720" cy="1443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8"/>
          <p:cNvSpPr/>
          <p:nvPr/>
        </p:nvSpPr>
        <p:spPr>
          <a:xfrm>
            <a:off x="1403280" y="155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派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7380360" y="14842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里指“节省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08000" y="328464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里指“发现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矩形 18"/>
          <p:cNvSpPr/>
          <p:nvPr/>
        </p:nvSpPr>
        <p:spPr>
          <a:xfrm>
            <a:off x="179280" y="5013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丁家的人回答说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（我说的是打井）节省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个劳动力，不是说从井中发现了一个人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2010960" y="184464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说话要防止歧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611280" y="29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39528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不要轻信流言蜚语，不要传播未经自己考查的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47840" y="39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395280" y="3789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对待传闻应采取审慎的态度，调查研究，去伪存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2"/>
          <a:stretch/>
        </p:blipFill>
        <p:spPr>
          <a:xfrm>
            <a:off x="237960" y="396720"/>
            <a:ext cx="87728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76500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现实生活中有没有类似情况？ 如果有，我们应该怎样去对待？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250920" y="2565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在现实生活中对待传闻应采取审慎的态度，要有调查研究、去伪存真的求实精神。不要轻信，不能盲从，更不能以讹传讹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2700360" y="0"/>
            <a:ext cx="2951280" cy="1268280"/>
          </a:xfrm>
          <a:prstGeom prst="cloudCallout">
            <a:avLst>
              <a:gd name="adj1" fmla="val -2111"/>
              <a:gd name="adj2" fmla="val 270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Rectangle 2" descr=""/>
          <p:cNvPicPr/>
          <p:nvPr/>
        </p:nvPicPr>
        <p:blipFill>
          <a:blip r:embed="rId2"/>
          <a:stretch/>
        </p:blipFill>
        <p:spPr>
          <a:xfrm>
            <a:off x="2724120" y="85680"/>
            <a:ext cx="3006720" cy="1352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250920" y="119664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1</a:t>
            </a:r>
            <a:r>
              <a:rPr b="1" lang="zh-CN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）古今异义</a:t>
            </a:r>
            <a:r>
              <a:rPr b="1" lang="zh-CN" sz="4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                   </a:t>
            </a:r>
            <a:r>
              <a:rPr b="1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古义：</a:t>
            </a:r>
            <a:r>
              <a:rPr b="1" lang="zh-CN" sz="3500" spc="-1" strike="noStrike">
                <a:solidFill>
                  <a:srgbClr val="4e3b30"/>
                </a:solidFill>
                <a:latin typeface="Arial"/>
                <a:ea typeface="华文楷体"/>
              </a:rPr>
              <a:t>     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             </a:t>
            </a:r>
            <a:r>
              <a:rPr b="1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今义：</a:t>
            </a:r>
            <a:r>
              <a:rPr b="1" lang="zh-CN" sz="4000" spc="-1" strike="noStrike">
                <a:solidFill>
                  <a:srgbClr val="4e3b30"/>
                </a:solidFill>
                <a:latin typeface="Arial"/>
                <a:ea typeface="华文楷体"/>
              </a:rPr>
              <a:t> 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（</a:t>
            </a:r>
            <a:r>
              <a:rPr b="1" lang="en-US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2</a:t>
            </a:r>
            <a:r>
              <a:rPr b="1" lang="zh-CN" sz="3500" spc="-1" strike="noStrike">
                <a:solidFill>
                  <a:srgbClr val="00cc00"/>
                </a:solidFill>
                <a:latin typeface="Franklin Gothic Book"/>
                <a:ea typeface="华文楷体"/>
              </a:rPr>
              <a:t>）词性活用</a:t>
            </a:r>
            <a:r>
              <a:rPr b="1" lang="zh-CN" sz="4300" spc="-1" strike="noStrike">
                <a:solidFill>
                  <a:srgbClr val="00cc00"/>
                </a:solidFill>
                <a:latin typeface="Arial"/>
                <a:ea typeface="华文楷体"/>
              </a:rPr>
              <a:t> 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  <a:ea typeface="华文楷体"/>
              </a:rPr>
              <a:t> 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4211640" y="19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哪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421164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平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3059280" y="4221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方位名词活用为状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矩形 9"/>
          <p:cNvSpPr/>
          <p:nvPr/>
        </p:nvSpPr>
        <p:spPr>
          <a:xfrm>
            <a:off x="960120" y="2205000"/>
            <a:ext cx="15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矩形 11"/>
          <p:cNvSpPr/>
          <p:nvPr/>
        </p:nvSpPr>
        <p:spPr>
          <a:xfrm>
            <a:off x="1394280" y="429264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徙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13"/>
          <p:cNvSpPr/>
          <p:nvPr/>
        </p:nvSpPr>
        <p:spPr>
          <a:xfrm>
            <a:off x="2771640" y="2060640"/>
            <a:ext cx="144720" cy="1079280"/>
          </a:xfrm>
          <a:custGeom>
            <a:avLst/>
            <a:gdLst>
              <a:gd name="textAreaLeft" fmla="*/ 92520 w 144720"/>
              <a:gd name="textAreaRight" fmla="*/ 145080 w 144720"/>
              <a:gd name="textAreaTop" fmla="*/ 21600 h 1079280"/>
              <a:gd name="textAreaBottom" fmla="*/ 10576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4"/>
                  <a:pt x="10800" y="1388"/>
                </a:cubicBezTo>
                <a:lnTo>
                  <a:pt x="10800" y="9412"/>
                </a:lnTo>
                <a:cubicBezTo>
                  <a:pt x="10800" y="10106"/>
                  <a:pt x="5400" y="10800"/>
                  <a:pt x="0" y="10800"/>
                </a:cubicBezTo>
                <a:cubicBezTo>
                  <a:pt x="5400" y="10800"/>
                  <a:pt x="10800" y="11494"/>
                  <a:pt x="10800" y="12188"/>
                </a:cubicBezTo>
                <a:lnTo>
                  <a:pt x="10800" y="20212"/>
                </a:lnTo>
                <a:cubicBezTo>
                  <a:pt x="10800" y="2090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2"/>
          <a:stretch/>
        </p:blipFill>
        <p:spPr>
          <a:xfrm>
            <a:off x="-55440" y="12600"/>
            <a:ext cx="5419440" cy="127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250920" y="980640"/>
            <a:ext cx="712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       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闻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之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于宋君 。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宋体"/>
              </a:rPr>
              <a:t>   </a:t>
            </a:r>
            <a:br>
              <a:rPr sz="3600"/>
            </a:b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宋体"/>
              </a:rPr>
              <a:t>    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子将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之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？</a:t>
            </a: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宋体"/>
              </a:rPr>
              <a:t>       </a:t>
            </a:r>
            <a:br>
              <a:rPr sz="3600"/>
            </a:br>
            <a:r>
              <a:rPr b="1" lang="zh-CN" sz="3600" spc="-1" strike="noStrike">
                <a:solidFill>
                  <a:srgbClr val="4e3b30"/>
                </a:solidFill>
                <a:latin typeface="宋体"/>
                <a:ea typeface="宋体"/>
              </a:rPr>
              <a:t>    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得一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之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使。     </a:t>
            </a:r>
            <a:br>
              <a:rPr sz="2800"/>
            </a:b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     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闻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而传之者 。    </a:t>
            </a:r>
            <a:br>
              <a:rPr sz="2800"/>
            </a:b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闻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之于宋君    </a:t>
            </a:r>
            <a:br>
              <a:rPr sz="2800"/>
            </a:b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     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以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日始出时去人近。     </a:t>
            </a:r>
            <a:br>
              <a:rPr sz="2800"/>
            </a:b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以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故东迁 。              </a:t>
            </a:r>
            <a:br>
              <a:rPr sz="2800"/>
            </a:br>
            <a:r>
              <a:rPr b="1" lang="en-US" sz="2800" spc="-1" strike="noStrike">
                <a:solidFill>
                  <a:srgbClr val="4e3b3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闻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于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宋君 。 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非得一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于</a:t>
            </a:r>
            <a:r>
              <a:rPr b="1" lang="zh-CN" sz="2800" spc="-1" strike="noStrike">
                <a:solidFill>
                  <a:srgbClr val="4e3b30"/>
                </a:solidFill>
                <a:latin typeface="宋体"/>
                <a:ea typeface="宋体"/>
              </a:rPr>
              <a:t>井中。</a:t>
            </a:r>
            <a:r>
              <a:rPr b="1" lang="zh-CN" sz="3600" spc="-1" strike="noStrike">
                <a:solidFill>
                  <a:srgbClr val="4e3b30"/>
                </a:solidFill>
                <a:latin typeface="Arial"/>
                <a:ea typeface="华文楷体"/>
              </a:rPr>
              <a:t>    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4032360" y="981000"/>
            <a:ext cx="17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件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3780000" y="170028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780000" y="234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助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211640" y="28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067280" y="33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听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5369040" y="38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857040" y="43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因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995640" y="4869000"/>
            <a:ext cx="1081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4500720" y="55897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矩形 14"/>
          <p:cNvSpPr/>
          <p:nvPr/>
        </p:nvSpPr>
        <p:spPr>
          <a:xfrm>
            <a:off x="769680" y="162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"/>
          <p:cNvSpPr/>
          <p:nvPr/>
        </p:nvSpPr>
        <p:spPr>
          <a:xfrm>
            <a:off x="1403280" y="134136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1600 h 1295640"/>
              <a:gd name="textAreaBottom" fmla="*/ 12740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9"/>
                  <a:pt x="10800" y="1157"/>
                </a:cubicBezTo>
                <a:lnTo>
                  <a:pt x="10800" y="9643"/>
                </a:lnTo>
                <a:cubicBezTo>
                  <a:pt x="10800" y="10222"/>
                  <a:pt x="5400" y="10800"/>
                  <a:pt x="0" y="10800"/>
                </a:cubicBezTo>
                <a:cubicBezTo>
                  <a:pt x="5400" y="10800"/>
                  <a:pt x="10800" y="11379"/>
                  <a:pt x="10800" y="11957"/>
                </a:cubicBezTo>
                <a:lnTo>
                  <a:pt x="10800" y="20443"/>
                </a:lnTo>
                <a:cubicBezTo>
                  <a:pt x="10800" y="2102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矩形 16"/>
          <p:cNvSpPr/>
          <p:nvPr/>
        </p:nvSpPr>
        <p:spPr>
          <a:xfrm>
            <a:off x="76968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3"/>
          <p:cNvSpPr/>
          <p:nvPr/>
        </p:nvSpPr>
        <p:spPr>
          <a:xfrm>
            <a:off x="1258920" y="299736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1600 h 792000"/>
              <a:gd name="textAreaBottom" fmla="*/ 770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6"/>
                  <a:pt x="10800" y="1892"/>
                </a:cubicBezTo>
                <a:lnTo>
                  <a:pt x="10800" y="8908"/>
                </a:lnTo>
                <a:cubicBezTo>
                  <a:pt x="10800" y="9854"/>
                  <a:pt x="5400" y="10800"/>
                  <a:pt x="0" y="10800"/>
                </a:cubicBezTo>
                <a:cubicBezTo>
                  <a:pt x="5400" y="10800"/>
                  <a:pt x="10800" y="11746"/>
                  <a:pt x="10800" y="12692"/>
                </a:cubicBezTo>
                <a:lnTo>
                  <a:pt x="10800" y="19708"/>
                </a:lnTo>
                <a:cubicBezTo>
                  <a:pt x="10800" y="2065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矩形 18"/>
          <p:cNvSpPr/>
          <p:nvPr/>
        </p:nvSpPr>
        <p:spPr>
          <a:xfrm>
            <a:off x="76968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332000" y="400536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1600 h 792000"/>
              <a:gd name="textAreaBottom" fmla="*/ 770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6"/>
                  <a:pt x="10800" y="1892"/>
                </a:cubicBezTo>
                <a:lnTo>
                  <a:pt x="10800" y="8908"/>
                </a:lnTo>
                <a:cubicBezTo>
                  <a:pt x="10800" y="9854"/>
                  <a:pt x="5400" y="10800"/>
                  <a:pt x="0" y="10800"/>
                </a:cubicBezTo>
                <a:cubicBezTo>
                  <a:pt x="5400" y="10800"/>
                  <a:pt x="10800" y="11746"/>
                  <a:pt x="10800" y="12692"/>
                </a:cubicBezTo>
                <a:lnTo>
                  <a:pt x="10800" y="19708"/>
                </a:lnTo>
                <a:cubicBezTo>
                  <a:pt x="10800" y="2065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矩形 20"/>
          <p:cNvSpPr/>
          <p:nvPr/>
        </p:nvSpPr>
        <p:spPr>
          <a:xfrm>
            <a:off x="769680" y="51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3"/>
          <p:cNvSpPr/>
          <p:nvPr/>
        </p:nvSpPr>
        <p:spPr>
          <a:xfrm>
            <a:off x="1332000" y="508464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1600 h 792360"/>
              <a:gd name="textAreaBottom" fmla="*/ 770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6"/>
                  <a:pt x="10800" y="1892"/>
                </a:cubicBezTo>
                <a:lnTo>
                  <a:pt x="10800" y="8908"/>
                </a:lnTo>
                <a:cubicBezTo>
                  <a:pt x="10800" y="9854"/>
                  <a:pt x="5400" y="10800"/>
                  <a:pt x="0" y="10800"/>
                </a:cubicBezTo>
                <a:cubicBezTo>
                  <a:pt x="5400" y="10800"/>
                  <a:pt x="10800" y="11746"/>
                  <a:pt x="10800" y="12692"/>
                </a:cubicBezTo>
                <a:lnTo>
                  <a:pt x="10800" y="19708"/>
                </a:lnTo>
                <a:cubicBezTo>
                  <a:pt x="10800" y="2065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20"/>
          <p:cNvSpPr/>
          <p:nvPr/>
        </p:nvSpPr>
        <p:spPr>
          <a:xfrm>
            <a:off x="3780000" y="486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向，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4e3b30"/>
              </a:solidFill>
              <a:latin typeface="Franklin Gothic Medium"/>
              <a:ea typeface="隶书"/>
            </a:endParaRPr>
          </a:p>
        </p:txBody>
      </p:sp>
      <p:pic>
        <p:nvPicPr>
          <p:cNvPr id="505" name="Picture 2" descr="BAS001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WordArt 3" descr=""/>
          <p:cNvPicPr/>
          <p:nvPr/>
        </p:nvPicPr>
        <p:blipFill>
          <a:blip r:embed="rId3"/>
          <a:stretch/>
        </p:blipFill>
        <p:spPr>
          <a:xfrm>
            <a:off x="1542960" y="585720"/>
            <a:ext cx="635184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0-27T09:08:24Z</dcterms:modified>
  <cp:revision>52</cp:revision>
  <dc:subject/>
  <dc:title>PowerPoint Presentation</dc:title>
</cp:coreProperties>
</file>