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23.gif" ContentType="image/gif"/>
  <Override PartName="/ppt/media/image4.gif" ContentType="image/gif"/>
  <Override PartName="/ppt/media/image27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jpeg" ContentType="image/jpe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7F9-9160-4271-AFFA-E8653A3F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6FC-B65C-4F5D-ACA3-D92609FC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1F6-79FE-43BA-BC3F-357A9079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63E-7ABA-4E8B-8A54-09470B66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A49-BAA0-450A-B4B0-7B0E1A24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AF1-B188-42BE-9EEC-5733FFAA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70B-E66C-43D6-9F16-143E3E5B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E36-297F-42F1-809E-58EFAD3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BFB-FFE6-49F3-8FBD-B464F336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E10-5F8B-4CA0-A6FC-455D84D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036-1C9F-4E2C-9674-C097E9EA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1B5-BEF1-49D5-942F-2D09B6F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8B84-BC7E-4BFB-84BA-2306BDE48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穿井得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典故，意思是打出一口水井后，还可以得到一个空闲的人力，不用再派人去提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选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吕氏春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书卷二十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行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察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中的一段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吕氏春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吕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是吕不韦组织门客所撰的一部杂家代表著作，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卷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篇。收入人教版七年级上册语文书中，改名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穿井得一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5" descr="t015a59fd5f70bd88f8"/>
          <p:cNvPicPr/>
          <p:nvPr/>
        </p:nvPicPr>
        <p:blipFill>
          <a:blip r:embed="rId1"/>
          <a:stretch/>
        </p:blipFill>
        <p:spPr>
          <a:xfrm>
            <a:off x="0" y="0"/>
            <a:ext cx="140328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人听到这话，传播说：“丁家打井打出了一个人。”都城的人都谈论这件事，一直传到宋国国君那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二层：别人并未懂这话，就把丁氏的话传开了，直传到国君那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3795" descr="t0187f5f51739415419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宋国国君派人去问姓丁的。丁家的人回答说：“得到一个人的劳力，并不是从井中挖出一个人来呀。” 早知道是这个结果，还不如不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三层：丁氏告诉国君使者自己的话的真正意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34819" descr="t01a5d1e22930cde5ea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丁家穿井后，告人曰：“吾穿井得一人”。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意思是我家打井得了一个劳动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传说的人把这句话听成了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听成了姓丁的人家打井挖出了一个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5843" descr="w006"/>
          <p:cNvPicPr/>
          <p:nvPr/>
        </p:nvPicPr>
        <p:blipFill>
          <a:blip r:embed="rId1"/>
          <a:stretch/>
        </p:blipFill>
        <p:spPr>
          <a:xfrm>
            <a:off x="1979640" y="5373720"/>
            <a:ext cx="7164360" cy="1484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5844" descr="1"/>
          <p:cNvPicPr/>
          <p:nvPr/>
        </p:nvPicPr>
        <p:blipFill>
          <a:blip r:embed="rId2"/>
          <a:stretch/>
        </p:blipFill>
        <p:spPr>
          <a:xfrm>
            <a:off x="0" y="3429000"/>
            <a:ext cx="9109080" cy="363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宋君为什么要派人向丁家询问这件事呢？由此看出宋君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因为宋君不太相信那个姓丁的人能够穿井得一人这件事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宋君是一个验证考察，不盲目轻信传言，开明正直的君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6867" descr="t0179ae046cf68e99e6"/>
          <p:cNvPicPr/>
          <p:nvPr/>
        </p:nvPicPr>
        <p:blipFill>
          <a:blip r:embed="rId1"/>
          <a:stretch/>
        </p:blipFill>
        <p:spPr>
          <a:xfrm>
            <a:off x="0" y="4221000"/>
            <a:ext cx="914400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析“得一人之使，非得一人于井中也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此处是纠正不实传闻，告诉他人事实真相。强调“不是挖出一个人而是节省了一个劳动力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穿井得人”这个故事原来是一场误会，造成这个误会的原因是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原因是传播者没有调查事实，道听途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7891" descr="t01f5bbc90a9ca449e3"/>
          <p:cNvPicPr/>
          <p:nvPr/>
        </p:nvPicPr>
        <p:blipFill>
          <a:blip r:embed="rId1"/>
          <a:stretch/>
        </p:blipFill>
        <p:spPr>
          <a:xfrm>
            <a:off x="2195640" y="692280"/>
            <a:ext cx="694836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则寓言故事中的丁氏是个怎样的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是一个勤劳善良、积极进取、词不达意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从这则故事中你明白了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说话要防止产生歧义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不要轻信流言蜚语，不要传播未经自己考查的话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对待传闻应采取审慎的态度，调查研究，去伪存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8915" descr="t018b1162ed32051164"/>
          <p:cNvPicPr/>
          <p:nvPr/>
        </p:nvPicPr>
        <p:blipFill>
          <a:blip r:embed="rId1"/>
          <a:stretch/>
        </p:blipFill>
        <p:spPr>
          <a:xfrm>
            <a:off x="5076720" y="5877000"/>
            <a:ext cx="4067280" cy="98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结合文意，解释下列句中红色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家穿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及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到了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时候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宋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问之于丁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令：命令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传之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：听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国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，闻之于宋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道：谈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39939" descr="t01a0543326f62377e9"/>
          <p:cNvPicPr/>
          <p:nvPr/>
        </p:nvPicPr>
        <p:blipFill>
          <a:blip r:embed="rId1"/>
          <a:stretch/>
        </p:blipFill>
        <p:spPr>
          <a:xfrm>
            <a:off x="6823080" y="1557360"/>
            <a:ext cx="232092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翻译：得一人之使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：得到一个空闲的劳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选出“之”字用法不同的一项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国人道之。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 闻之于宋君。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问之于丁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得一人之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40963"/>
          <p:cNvSpPr/>
          <p:nvPr/>
        </p:nvSpPr>
        <p:spPr>
          <a:xfrm>
            <a:off x="7451640" y="234936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0964"/>
          <p:cNvSpPr/>
          <p:nvPr/>
        </p:nvSpPr>
        <p:spPr>
          <a:xfrm>
            <a:off x="7380360" y="23493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0965"/>
          <p:cNvSpPr/>
          <p:nvPr/>
        </p:nvSpPr>
        <p:spPr>
          <a:xfrm>
            <a:off x="7524720" y="2205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40966" descr="t0123438dbb7cddd585"/>
          <p:cNvPicPr/>
          <p:nvPr/>
        </p:nvPicPr>
        <p:blipFill>
          <a:blip r:embed="rId1"/>
          <a:stretch/>
        </p:blipFill>
        <p:spPr>
          <a:xfrm>
            <a:off x="5724360" y="2997360"/>
            <a:ext cx="3419640" cy="3860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40967" descr="t017c3fb24c7bb306bf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写出文中“于”字的不同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闻之于宋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向、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之于丁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非得一人于井中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介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可用哪个成语概括其内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1987"/>
          <p:cNvSpPr/>
          <p:nvPr/>
        </p:nvSpPr>
        <p:spPr>
          <a:xfrm>
            <a:off x="2627280" y="5950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讹传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41988" descr="t0177c2012190e46588"/>
          <p:cNvPicPr/>
          <p:nvPr/>
        </p:nvPicPr>
        <p:blipFill>
          <a:blip r:embed="rId1"/>
          <a:stretch/>
        </p:blipFill>
        <p:spPr>
          <a:xfrm>
            <a:off x="6732720" y="981000"/>
            <a:ext cx="2411280" cy="39607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1989" descr="t018344d227e9adbd43"/>
          <p:cNvPicPr/>
          <p:nvPr/>
        </p:nvPicPr>
        <p:blipFill>
          <a:blip r:embed="rId2"/>
          <a:stretch/>
        </p:blipFill>
        <p:spPr>
          <a:xfrm>
            <a:off x="0" y="836640"/>
            <a:ext cx="1152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本文的寓意说法有误的一项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不要轻信流言蜚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一家之言，经再三转述，往往会丧失原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对于别人的话，要注意实地调查，掌握第一手材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要勇于揭穿别人的谎言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3011"/>
          <p:cNvSpPr/>
          <p:nvPr/>
        </p:nvSpPr>
        <p:spPr>
          <a:xfrm>
            <a:off x="4067280" y="69228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43012" descr="t0118f9ab21132852f7"/>
          <p:cNvPicPr/>
          <p:nvPr/>
        </p:nvPicPr>
        <p:blipFill>
          <a:blip r:embed="rId1"/>
          <a:stretch/>
        </p:blipFill>
        <p:spPr>
          <a:xfrm>
            <a:off x="7164360" y="836640"/>
            <a:ext cx="1979640" cy="1341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3013" descr="t01111c265b0c57e2ae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隶书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60320" y="1600200"/>
            <a:ext cx="702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Administrator\Desktop\0350250181.jpg"/>
          <p:cNvPicPr/>
          <p:nvPr/>
        </p:nvPicPr>
        <p:blipFill>
          <a:blip r:embed="rId1"/>
          <a:stretch/>
        </p:blipFill>
        <p:spPr>
          <a:xfrm>
            <a:off x="879480" y="0"/>
            <a:ext cx="8264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 rot="612000">
            <a:off x="3924360" y="260280"/>
            <a:ext cx="506088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3399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穿井得一人</a:t>
            </a:r>
            <a:endParaRPr b="1" lang="en-US" sz="1800" spc="1" strike="noStrike">
              <a:ln w="19080">
                <a:solidFill>
                  <a:srgbClr val="333399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5796000" y="2781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腾祥嘉丽大黑简"/>
                <a:ea typeface="腾祥嘉丽大黑简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腾祥嘉丽大黑简"/>
                <a:ea typeface="腾祥嘉丽大黑简"/>
              </a:rPr>
              <a:t>吕氏春秋</a:t>
            </a:r>
            <a:r>
              <a:rPr b="1" lang="en-US" sz="4000" spc="-1" strike="noStrike">
                <a:solidFill>
                  <a:srgbClr val="ff0000"/>
                </a:solidFill>
                <a:latin typeface="腾祥嘉丽大黑简"/>
                <a:ea typeface="腾祥嘉丽大黑简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穿井得一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，你获得了怎样的启示？生活中为获得真知灼见，避免道听途说，应该怎么做？与同学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启示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不要轻信流言蜚语，不要传播未经自己考察的话，切忌道听途说。耳听为虚，眼见为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44036" descr="t012bbb3ac2ee73033c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有闻而传之者的角度来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听到什么传闻之后就外传，要动脑筋想一想是否合乎情理，不要人云亦云，听到风就是雨，以致于以讹传讹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丁氏的角度来讲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交际中，语言的表达很重要，必须做到表达准确、清晰，以避免不必要的误会和歧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5059" descr="t0143bb5f4348a41441"/>
          <p:cNvPicPr/>
          <p:nvPr/>
        </p:nvPicPr>
        <p:blipFill>
          <a:blip r:embed="rId1"/>
          <a:stretch/>
        </p:blipFill>
        <p:spPr>
          <a:xfrm>
            <a:off x="2556000" y="5291280"/>
            <a:ext cx="6588000" cy="156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以宋君的角度来讲：无论什么事情一定要眼见为实，亲自打听才可以下结论，以免造成更大的误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现实生活中对待传闻应采取审慎的态度，要有调查研究、去伪存真的求实精神。不要轻信，不能盲从，更不能以讹传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46083" descr="t0193d63e65beb3b672"/>
          <p:cNvPicPr/>
          <p:nvPr/>
        </p:nvPicPr>
        <p:blipFill>
          <a:blip r:embed="rId1"/>
          <a:stretch/>
        </p:blipFill>
        <p:spPr>
          <a:xfrm>
            <a:off x="0" y="4986360"/>
            <a:ext cx="91440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构完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文按照事情的发展顺序叙述，有开端、发展、结局，最后点出寓意，把抽象的道理用具体、生动的事例充分地表现了出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幽默风趣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中因对话中有一个多义词（“人”，可指人也可指劳动力）而被人误解，结果越传越远，居然传到国君耳朵里去了，最后道出真相，事实与传言相差太大，不禁令人发笑。文章就在笑中教育人们不可轻信传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47107" descr="t01a18ba43a5faea4d5"/>
          <p:cNvPicPr/>
          <p:nvPr/>
        </p:nvPicPr>
        <p:blipFill>
          <a:blip r:embed="rId1"/>
          <a:stretch/>
        </p:blipFill>
        <p:spPr>
          <a:xfrm>
            <a:off x="0" y="0"/>
            <a:ext cx="3348000" cy="69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寓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个寓言故事告诉我们：凡事总要调查研究，才能弄清真相。切不可轻信流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盲目随从，人云亦云；要调查研究，动脑筋想一想，多加分析，以辨真伪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8131" descr="t01e990f56903985822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学习如何对待传闻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朗读背诵文言课文；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整体感知课文，理解文意；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积累一些文言词语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6627" descr="t016d69497a48f62178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吕氏春秋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吕氏春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在秦国丞相吕不韦主持下，集合门客们编撰的一部黄老道家名著。成书于秦始皇统一中国前夕。此书以儒家学说为主干，以道家理论为基础，以名、法、墨、农、兵、阴阳家思想学说为素材，熔诸子百家学说为一炉，闪烁着博大精深的智慧之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27651" descr="2"/>
          <p:cNvPicPr/>
          <p:nvPr/>
        </p:nvPicPr>
        <p:blipFill>
          <a:blip r:embed="rId1"/>
          <a:stretch/>
        </p:blipFill>
        <p:spPr>
          <a:xfrm>
            <a:off x="0" y="0"/>
            <a:ext cx="1476360" cy="17254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7652" descr="zao5"/>
          <p:cNvPicPr/>
          <p:nvPr/>
        </p:nvPicPr>
        <p:blipFill>
          <a:blip r:embed="rId2"/>
          <a:stretch/>
        </p:blipFill>
        <p:spPr>
          <a:xfrm>
            <a:off x="2124000" y="5516640"/>
            <a:ext cx="7020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之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丁氏，家无井而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溉汲，常一人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居外。及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家穿井，告人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曰：“吾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穿井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得一人。”有闻而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之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者曰：“丁氏穿井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得一人。”国人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之，闻之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宋君。宋君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令人问之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丁氏，丁氏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曰：“得一人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使，非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得一人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井中也。”求闻之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此，不若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闻也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8675" descr="w028"/>
          <p:cNvPicPr/>
          <p:nvPr/>
        </p:nvPicPr>
        <p:blipFill>
          <a:blip r:embed="rId1"/>
          <a:stretch/>
        </p:blipFill>
        <p:spPr>
          <a:xfrm>
            <a:off x="0" y="0"/>
            <a:ext cx="133200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8676" descr="w028"/>
          <p:cNvPicPr/>
          <p:nvPr/>
        </p:nvPicPr>
        <p:blipFill>
          <a:blip r:embed="rId2"/>
          <a:stretch/>
        </p:blipFill>
        <p:spPr>
          <a:xfrm>
            <a:off x="5724360" y="5589720"/>
            <a:ext cx="341964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溉汲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打水洗涤。溉：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ai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浇灌。汲：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从井里打水。（取水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居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停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到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时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国人道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全国人都在说这件事。国：古代国都也称“国”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9699" descr="t0147437810cec6e897"/>
          <p:cNvPicPr/>
          <p:nvPr/>
        </p:nvPicPr>
        <p:blipFill>
          <a:blip r:embed="rId1"/>
          <a:stretch/>
        </p:blipFill>
        <p:spPr>
          <a:xfrm>
            <a:off x="6659640" y="2349360"/>
            <a:ext cx="24843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闻之于宋君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件事被宋君听到了。之：代词，指“丁氏穿井得一人”一事，是“闻”的宾语。于：介词：当“被”讲，引进主动者。宋君：宋国国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问之于丁氏向丁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这件事。于：介词；当“向”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劳动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向；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30723" descr="t01d53443349bc66c96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对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回答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若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如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穿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凿通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闻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听到，后一句中的“闻”是“使听见”的意思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令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之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代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1747" descr="t0137d6b7ad8424b8b4"/>
          <p:cNvPicPr/>
          <p:nvPr/>
        </p:nvPicPr>
        <p:blipFill>
          <a:blip r:embed="rId1"/>
          <a:stretch/>
        </p:blipFill>
        <p:spPr>
          <a:xfrm>
            <a:off x="5796000" y="3357720"/>
            <a:ext cx="3348000" cy="3500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1748" descr="t01175ef6020c11b322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译文及分析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宋国有一家姓丁的，家中没有井，须到外面打水浇地，因此经常有一个人住在外面。等到他家打了一眼井之后，便对别人说：“我家打井得到一个人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第一层：叙述宋国姓丁人家自家打了井，趣说为“穿井得一人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32771" descr="t019de67b272733d80f"/>
          <p:cNvPicPr/>
          <p:nvPr/>
        </p:nvPicPr>
        <p:blipFill>
          <a:blip r:embed="rId1"/>
          <a:stretch/>
        </p:blipFill>
        <p:spPr>
          <a:xfrm>
            <a:off x="0" y="0"/>
            <a:ext cx="140328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2772" descr="4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15:10:08Z</dcterms:created>
  <dc:creator>未知用户</dc:creator>
  <dc:description/>
  <dc:language>en-US</dc:language>
  <cp:lastModifiedBy>admin</cp:lastModifiedBy>
  <dcterms:modified xsi:type="dcterms:W3CDTF">2019-05-28T10:03:0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