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applause.wav" ContentType="audio/x-wav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61F-DD09-468E-A09E-8D1A9778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C2F5-A053-4E84-B29C-26A40FA6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0C2C-EDF7-453D-8256-BBA02BCF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EED0-D6B8-4E95-95D0-66B79DF6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EEC-ACCB-4F15-BFCF-3E14329E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92E-683D-4316-B3BE-B78EA420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FE9-72D5-4F2B-9892-49822030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BF3-0830-4E86-8FED-A42E1BA7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5F34-5780-4491-8DEC-1C531F22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550A-0082-4A16-8F41-2AAAFD09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C9D9-82A0-478D-84F9-2B27CE63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B98-78DD-431B-AD38-D913E8E6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7635-0653-41FF-81E7-334C527F90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2987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导  语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1989000"/>
            <a:ext cx="8569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上节课我们学习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蚊子和狮子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讲了怎样对待骄傲自负的问题。这节课，我们再来学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穿井得一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篇课文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723920" y="175212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《列子》，相传战国郑国人列御寇著。《汉书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艺文志》著录《列子》八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《列子》的内容多为民间故事、寓言和神话传说。内有很多脍炙人口而又有教育意义的故事，如《儿童辩日》、《歧路亡羊》、《九方皋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gāo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相马》、《纪昌学射》、《齐人攫（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júe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金》、《杞人忧天》、《愚公移山》等，都是很有价值的文学遗产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990720" y="457200"/>
            <a:ext cx="2520720" cy="1143000"/>
          </a:xfrm>
          <a:prstGeom prst="horizontalScroll">
            <a:avLst>
              <a:gd name="adj" fmla="val 12500"/>
            </a:avLst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666080" y="717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了解名作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7" descr="F:\学习天地\CO_CO\课件\liezi.gif"/>
          <p:cNvPicPr/>
          <p:nvPr/>
        </p:nvPicPr>
        <p:blipFill>
          <a:blip r:embed="rId1"/>
          <a:stretch/>
        </p:blipFill>
        <p:spPr>
          <a:xfrm>
            <a:off x="1143000" y="1676520"/>
            <a:ext cx="358128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8" descr="F:\学习天地\CO_CO\课件素材\其他类\AL28.bmp"/>
          <p:cNvPicPr/>
          <p:nvPr/>
        </p:nvPicPr>
        <p:blipFill>
          <a:blip r:embed="rId1"/>
          <a:stretch/>
        </p:blipFill>
        <p:spPr>
          <a:xfrm>
            <a:off x="609480" y="304920"/>
            <a:ext cx="8229600" cy="6324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208880" y="523440"/>
            <a:ext cx="2305440" cy="85752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564560" y="69840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自 学 检 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743200" y="167652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一）看谁读得好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198240" y="2819520"/>
            <a:ext cx="335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要求：读准字音，读准节奏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读得顺畅，读出感情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2286000" y="16765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（ 二 ）看谁说得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803680" y="253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ubBanner"/>
          <p:cNvSpPr/>
          <p:nvPr/>
        </p:nvSpPr>
        <p:spPr>
          <a:xfrm>
            <a:off x="1143000" y="2438280"/>
            <a:ext cx="7391520" cy="29718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先小组讨论，疏通文意。不求十分精确，只求大致理解，不懂的词句，大家分析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990720" y="457200"/>
            <a:ext cx="2520720" cy="1143000"/>
          </a:xfrm>
          <a:prstGeom prst="horizontalScroll">
            <a:avLst>
              <a:gd name="adj" fmla="val 12500"/>
            </a:avLst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564560" y="69840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行楷"/>
                <a:ea typeface="华文行楷"/>
              </a:rPr>
              <a:t>自 学 检 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1050840" y="453960"/>
            <a:ext cx="763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杞国有人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忧天地崩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身无所</a:t>
            </a:r>
            <a:r>
              <a:rPr b="1" lang="zh-CN" sz="2000" spc="-1" strike="noStrike" u="sng">
                <a:solidFill>
                  <a:srgbClr val="3366ff"/>
                </a:solidFill>
                <a:uFillTx/>
                <a:latin typeface="Times New Roman"/>
              </a:rPr>
              <a:t>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废寝食者。又有忧彼之所忧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590920" y="8380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害怕天塌地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982760" y="87012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无处存身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2437560" y="1309680"/>
            <a:ext cx="45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者，因往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晓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曰：“天，积气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耳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无处无气，若屈伸呼吸，终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224800" y="1676520"/>
            <a:ext cx="92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使他明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2442240" y="2117880"/>
            <a:ext cx="49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天中行止，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奈何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忧崩坠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其人曰：“天果积气，日月星宿，不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2355480" y="3032280"/>
            <a:ext cx="463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坠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耶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晓之者曰：“日月星宿，亦积气中之有光耀者，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只</a:t>
            </a:r>
            <a:r>
              <a:rPr b="1" lang="zh-CN" sz="2000" spc="-1" strike="noStrike" u="sng">
                <a:solidFill>
                  <a:srgbClr val="3366ff"/>
                </a:solidFill>
                <a:uFillTx/>
                <a:latin typeface="Times New Roman"/>
              </a:rPr>
              <a:t>使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7025400" y="3429000"/>
            <a:ext cx="92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即使坠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2356920" y="3946680"/>
            <a:ext cx="45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亦不能有所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中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”其人曰：“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奈地坏何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晓者曰：“地积块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2133720" y="4343400"/>
            <a:ext cx="148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打中击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3809880" y="4343400"/>
            <a:ext cx="26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地塌了怎么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2860920" y="486108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充塞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四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无处无块。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若</a:t>
            </a:r>
            <a:r>
              <a:rPr b="1" lang="zh-CN" sz="2000" spc="-1" strike="noStrike">
                <a:solidFill>
                  <a:srgbClr val="3366ff"/>
                </a:solidFill>
                <a:latin typeface="Times New Roman"/>
              </a:rPr>
              <a:t>躇步此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终日在地上行止，奈何忧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1654560" y="5299200"/>
            <a:ext cx="61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四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3940560" y="5299200"/>
            <a:ext cx="61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踩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1751400" y="5729400"/>
            <a:ext cx="31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其人舍然大喜，晓之者亦舍然大喜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2721960" y="2575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为什么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4654440" y="1736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罢了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1295280" y="3489480"/>
            <a:ext cx="4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吗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"/>
          <p:cNvSpPr/>
          <p:nvPr/>
        </p:nvSpPr>
        <p:spPr>
          <a:xfrm>
            <a:off x="1279440" y="70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1066680" y="457200"/>
            <a:ext cx="2521080" cy="1143000"/>
          </a:xfrm>
          <a:prstGeom prst="horizontalScroll">
            <a:avLst>
              <a:gd name="adj" fmla="val 12500"/>
            </a:avLst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行楷"/>
              </a:rPr>
              <a:t>探讨主旨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757240" y="2362320"/>
            <a:ext cx="34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、“杞人忧天”现在是什么意思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812960" y="444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1905120" y="32767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、联系你的生活，你认为杞人的担忧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可笑的吗？谈谈你的看法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7"/>
          <p:cNvSpPr/>
          <p:nvPr/>
        </p:nvSpPr>
        <p:spPr>
          <a:xfrm>
            <a:off x="127944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1066680" y="457200"/>
            <a:ext cx="2521080" cy="1143000"/>
          </a:xfrm>
          <a:prstGeom prst="horizontalScroll">
            <a:avLst>
              <a:gd name="adj" fmla="val 12500"/>
            </a:avLst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行楷"/>
              </a:rPr>
              <a:t>知识拓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4724280" y="19810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对于战国时的环境，杞人尚且知道忧天，作为现实环境中的你，面对我们今天的环境，杞人的行为对你有什么启发？请以小组为单位，写一段现代版《杞人忧天》的小短剧。要表达出自己的观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1" descr="F:\学习天地\CO_CO\课件\杞人忧天\地球.gif"/>
          <p:cNvPicPr/>
          <p:nvPr/>
        </p:nvPicPr>
        <p:blipFill>
          <a:blip r:embed="rId1"/>
          <a:stretch/>
        </p:blipFill>
        <p:spPr>
          <a:xfrm>
            <a:off x="1219320" y="2209680"/>
            <a:ext cx="318924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3048120" y="2590920"/>
            <a:ext cx="3047760" cy="17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再见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穿井得一人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50560" y="1341360"/>
            <a:ext cx="8713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   宋之丁氏，家无井而出溉汲，常一人居外。及其家穿井，告人曰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吾穿井得一人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有闻而传之者，曰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丁氏穿井得一人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国人道之，闻之于宋君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宋君令人问之于丁氏。丁氏对曰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得一人之使，非得一人于井中也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627280" y="692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吕氏春秋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吕不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穿井得一人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341360"/>
            <a:ext cx="87138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   宋之丁氏，家无井而出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溉汲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人居外。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其家穿井，告人曰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穿井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得一人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627280" y="692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吕氏春秋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吕不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148360" y="2060640"/>
            <a:ext cx="30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从井里打水浇地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627280" y="3645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等到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95280" y="522936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译文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宋国有一家姓丁的，家中没有井，须到外面打水浇地，因此经常有一个人住在外面。等到他家打了一眼井之后，便对别人说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我家打井得到一个人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68360" y="4076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打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穿井得一人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0560" y="1341360"/>
            <a:ext cx="871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   有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而传之者，曰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丁氏穿井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人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国人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道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闻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宋君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627280" y="692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吕氏春秋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吕不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476360" y="198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听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9640" y="4653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译文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: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人听到这话，传播说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丁家打井打出了一个人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都城的人都谈论这件事，这件事被宋君听见了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116000" y="69228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771640" y="3573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谈论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3389040" y="234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代这件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211640" y="3573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听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6245280" y="2421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向、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穿井得一人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宋君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问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丁氏。丁氏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曰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得一人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之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非得一人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井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也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27280" y="692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吕氏春秋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吕不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847520" y="198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0" y="515772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译文： 宋国国君派人去问姓丁的。丁家的人回答说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得到一个人的劳力，并不是从井中挖出一个人来呀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”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早知道是这个结果，还不如不问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851280" y="1989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2771280" y="198900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这件事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723600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6804000" y="1989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回答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3059280" y="256536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7432560" y="115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3132000" y="350028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劳动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6732720" y="3500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24462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质疑：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2803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丁家穿井后，告人曰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吾穿井得一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是什么意思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930480" y="2205000"/>
            <a:ext cx="13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意思是我家打井得了一个劳动力。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11280" y="29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68360" y="299736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传说的人把这句话听成了什么意思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47840" y="39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915360" y="378936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听成了姓丁的人家打井挖出了一个人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395280" y="44370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则寓言故事说明了一个什么道理？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395280" y="5084640"/>
            <a:ext cx="85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告诉人们不可轻信传言并盲目传播，说话、念词不要产生歧义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现实生活中有没有类似情况？ 如有，我们应该怎样去对待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95280" y="256536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在现实生活中对待传闻都应采取调查研究的审慎的态度、去伪存真的求实精神。不要轻信，不能盲从，更不能以讹传讹。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51818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Times New Roman"/>
              </a:rPr>
              <a:t>一词多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7129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闻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于宋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    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得一人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使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   </a:t>
            </a:r>
            <a:br>
              <a:rPr sz="3600"/>
            </a:b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有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而传之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 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 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        </a:t>
            </a:r>
            <a:br>
              <a:rPr sz="3600"/>
            </a:b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闻之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宋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非得一人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井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924800" y="1030320"/>
            <a:ext cx="21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代词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  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这件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643280" y="1700280"/>
            <a:ext cx="367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43280" y="2276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助词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  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85928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听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788000" y="3573360"/>
            <a:ext cx="180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156360" y="4149720"/>
            <a:ext cx="1839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156360" y="4724280"/>
            <a:ext cx="1839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6156360" y="5445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6156360" y="6021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在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600200" y="160020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94400"/>
                </a:solidFill>
                <a:latin typeface="Times New Roman"/>
                <a:ea typeface="华文行楷"/>
              </a:rPr>
              <a:t>杞人忧天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62120" y="6094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94400"/>
                </a:solidFill>
                <a:latin typeface="Times New Roman"/>
                <a:ea typeface="华文行楷"/>
              </a:rPr>
              <a:t>《列子》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F:\学习天地\CO_CO\课件素材\jif\gif036.gif"/>
          <p:cNvPicPr/>
          <p:nvPr/>
        </p:nvPicPr>
        <p:blipFill>
          <a:blip r:embed="rId1"/>
          <a:stretch/>
        </p:blipFill>
        <p:spPr>
          <a:xfrm>
            <a:off x="228600" y="6019920"/>
            <a:ext cx="3276720" cy="83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12-09T03:01:21Z</dcterms:modified>
  <cp:revision>9</cp:revision>
  <dc:subject/>
  <dc:title>PowerPoint Presentation</dc:title>
</cp:coreProperties>
</file>