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7.png" ContentType="image/pn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998-14DF-4AD4-B65F-8F35C280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465-E866-4FD9-8ACE-49A36BFA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F8B-623B-4636-8BDA-A84D9D72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E28-F632-441F-AAA7-0F7A1E02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16A-7799-4227-B9AC-E395B0C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D0E-2D58-4DC6-835A-A4D71AA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E6B-EFF8-42A0-B86F-1E1E846E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6AD-D6A9-4794-AD37-EBD512D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2B1-BD2D-4182-A23A-6FE72EE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F26-30A2-4EF1-B363-B83824D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D5A-753B-48CC-9FEF-8E0E5EA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CD7-3D10-425A-AA6B-86BF7CA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3FD-1F58-4AEC-B575-B65E7AF0E8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AC31-BF02-4289-B2B4-9B82437AA0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55640" y="292428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00"/>
                </a:solidFill>
                <a:latin typeface="方正流行体简体"/>
                <a:ea typeface="方正流行体简体"/>
              </a:rPr>
              <a:t>《春望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     </a:t>
            </a:r>
            <a:r>
              <a:rPr b="0" i="1" lang="zh-CN" sz="80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杜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43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4"/>
          <p:cNvSpPr/>
          <p:nvPr/>
        </p:nvSpPr>
        <p:spPr>
          <a:xfrm>
            <a:off x="900000" y="83664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烽火连三月，家书抵万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5"/>
          <p:cNvSpPr/>
          <p:nvPr/>
        </p:nvSpPr>
        <p:spPr>
          <a:xfrm>
            <a:off x="324000" y="1544760"/>
            <a:ext cx="2016000" cy="80460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战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云形 6"/>
          <p:cNvSpPr/>
          <p:nvPr/>
        </p:nvSpPr>
        <p:spPr>
          <a:xfrm>
            <a:off x="4211640" y="1544760"/>
            <a:ext cx="2376360" cy="98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宋体"/>
              </a:rPr>
              <a:t>值，相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187280" y="31399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连三月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写出战乱时间之长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“抵万金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写出家书的珍贵。这一句写诗人因难与家人通信，家人的安危使他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心里不安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更体现他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对妻子儿女的强烈思念之情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然而，无论在战乱年代还是和平年代，这句话都可以表达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游子的共同心声，是中华儿女的共同心理倾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1908000" y="836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  <a:ea typeface="宋体"/>
              </a:rPr>
              <a:t>白头搔更短，浑欲不胜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云形 5"/>
          <p:cNvSpPr/>
          <p:nvPr/>
        </p:nvSpPr>
        <p:spPr>
          <a:xfrm>
            <a:off x="1332000" y="1539720"/>
            <a:ext cx="2232000" cy="124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634"/>
                </a:solidFill>
                <a:latin typeface="宋体"/>
                <a:ea typeface="宋体"/>
              </a:rPr>
              <a:t>Sāo</a:t>
            </a:r>
            <a:r>
              <a:rPr b="1" lang="zh-CN" sz="2800" spc="-1" strike="noStrike">
                <a:solidFill>
                  <a:srgbClr val="fc3634"/>
                </a:solidFill>
                <a:latin typeface="宋体"/>
                <a:ea typeface="宋体"/>
              </a:rPr>
              <a:t>，用手指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6"/>
          <p:cNvSpPr/>
          <p:nvPr/>
        </p:nvSpPr>
        <p:spPr>
          <a:xfrm>
            <a:off x="3924360" y="1544760"/>
            <a:ext cx="1042920" cy="61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下箭头 9"/>
          <p:cNvSpPr/>
          <p:nvPr/>
        </p:nvSpPr>
        <p:spPr>
          <a:xfrm>
            <a:off x="5364000" y="1539720"/>
            <a:ext cx="71640" cy="621000"/>
          </a:xfrm>
          <a:prstGeom prst="down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4446720" y="2349360"/>
            <a:ext cx="1565280" cy="648000"/>
          </a:xfrm>
          <a:prstGeom prst="rect">
            <a:avLst/>
          </a:prstGeom>
          <a:solidFill>
            <a:srgbClr val="fde9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简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云形 11"/>
          <p:cNvSpPr/>
          <p:nvPr/>
        </p:nvSpPr>
        <p:spPr>
          <a:xfrm>
            <a:off x="6443640" y="1539720"/>
            <a:ext cx="2305080" cy="8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4806"/>
                </a:solidFill>
                <a:latin typeface="宋体"/>
                <a:ea typeface="宋体"/>
              </a:rPr>
              <a:t>禁不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1908000" y="357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搔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字鲜明生动地再现了诗人当时的动作形态，是一处细节描写，它传达出了诗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忧国思家的心理状况。“不胜簪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更表明国家的不安定给诗人带来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难以排遣的愁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25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Arial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9"/>
          <p:cNvSpPr/>
          <p:nvPr/>
        </p:nvSpPr>
        <p:spPr>
          <a:xfrm>
            <a:off x="2700360" y="1486080"/>
            <a:ext cx="613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宋体"/>
              </a:rPr>
              <a:t>、诗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中常使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反衬手法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，即以甲物之是来衬乙物之非。杜甫的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春望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开头两句就使用了这一手法，试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简要分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30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Arial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合作探究</a:t>
              </a:r>
              <a:r>
                <a:rPr b="1" lang="en-US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Rectangle 11"/>
          <p:cNvSpPr/>
          <p:nvPr/>
        </p:nvSpPr>
        <p:spPr>
          <a:xfrm>
            <a:off x="2484360" y="693720"/>
            <a:ext cx="627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国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是指都城长安，是当时政治、经济、文化中心，其繁华热闹可以想见。但目前的长安惟有山河存在，这意味着过去的繁华都城已被叛军糟蹋殆尽，只剩山水。春天是充满希望的季节，这里的“草木深”写出了长安城内杂草丛生。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因此，这一句是用“山河在”、“草木深”反衬了长安城的残破和凄凉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35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Arial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9"/>
          <p:cNvSpPr/>
          <p:nvPr/>
        </p:nvSpPr>
        <p:spPr>
          <a:xfrm>
            <a:off x="2771640" y="836640"/>
            <a:ext cx="60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</a:rPr>
              <a:t>杜甫的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</a:rPr>
              <a:t>春望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感时花溅泪，恨别鸟惊心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</a:rPr>
              <a:t>两句，一种解释为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感伤国事，看到美丽的花儿都禁不住落泪；伤心离别，听到婉转的鸟鸣都害怕 。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</a:rPr>
              <a:t>另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一种解释是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拟人写法，由于战乱，都城破败，仿佛花也因感叹时事而落泪，鸟也因世间的离别而惊心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两种解释虽有区别，但精神是相通的。体会一下作者的感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说你的理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80880" y="5029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41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Arial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合作探究</a:t>
              </a:r>
              <a:r>
                <a:rPr b="1" lang="en-US" sz="40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9"/>
          <p:cNvSpPr/>
          <p:nvPr/>
        </p:nvSpPr>
        <p:spPr>
          <a:xfrm>
            <a:off x="266688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41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2421000"/>
            <a:ext cx="60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634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484360" y="549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解释，一是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触景生情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是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移情于物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但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都是以美景写哀情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并无本质区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2411280" y="2060640"/>
            <a:ext cx="64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第一种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首联交代了写作背景，这样的景象让诗人内心极度忧愁，看到花鸟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触景生情，抒发感时、恨别之思，自然过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第二种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在极度愁苦无以排遣之时，诗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移情于景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以花鸟也感时伤乱来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衬托自己忧愁之深重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并赋予花、鸟以人的情感，更</a:t>
            </a:r>
            <a:r>
              <a:rPr b="1" lang="zh-CN" sz="3200" spc="-1" strike="noStrike">
                <a:solidFill>
                  <a:srgbClr val="f83914"/>
                </a:solidFill>
                <a:latin typeface="Calibri"/>
                <a:ea typeface="宋体"/>
              </a:rPr>
              <a:t>体现诗人“语不惊人死不休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的语言功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179280" y="476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首诗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景交融的写作特色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里可以体现出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24000" y="1800360"/>
            <a:ext cx="61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诗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前四句重在描绘景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山河、草木、花鸟），但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景中有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破、深、溅泪、惊心），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景中有意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感时、恨别）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后四句重在抒情，是借事抒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断“家书”、搔“白头”）。诗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景物有声有色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是一个伟大的现实主义诗人的泣血之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236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50920" y="96840"/>
            <a:ext cx="81374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50920" y="1058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诗人“春望”“望”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50920" y="1844640"/>
            <a:ext cx="360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诗中塑造了一位怎样的诗人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39840" y="3573360"/>
            <a:ext cx="43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46_1"/>
          <p:cNvPicPr/>
          <p:nvPr/>
        </p:nvPicPr>
        <p:blipFill>
          <a:blip r:embed="rId2"/>
          <a:stretch/>
        </p:blipFill>
        <p:spPr>
          <a:xfrm>
            <a:off x="1332000" y="602136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5796000" y="1484280"/>
            <a:ext cx="144360" cy="144360"/>
          </a:xfrm>
          <a:custGeom>
            <a:avLst/>
            <a:gdLst>
              <a:gd name="textAreaLeft" fmla="*/ 9000 w 144360"/>
              <a:gd name="textAreaRight" fmla="*/ 135360 w 14436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5003640" y="278136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93" y="1350"/>
                </a:lnTo>
                <a:lnTo>
                  <a:pt x="1350" y="135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93" y="20250"/>
                </a:lnTo>
                <a:lnTo>
                  <a:pt x="20793" y="135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793" y="2025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143" h="21600">
                <a:moveTo>
                  <a:pt x="4028" y="3756"/>
                </a:moveTo>
                <a:lnTo>
                  <a:pt x="18115" y="10800"/>
                </a:lnTo>
                <a:lnTo>
                  <a:pt x="4028" y="1784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ssh1-2a"/>
          <p:cNvPicPr/>
          <p:nvPr/>
        </p:nvPicPr>
        <p:blipFill>
          <a:blip r:embed="rId1"/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79280" y="533520"/>
            <a:ext cx="751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望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望京城长安破败之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093080" y="5589720"/>
            <a:ext cx="142920" cy="71280"/>
          </a:xfrm>
          <a:custGeom>
            <a:avLst/>
            <a:gdLst>
              <a:gd name="textAreaLeft" fmla="*/ 4320 w 142920"/>
              <a:gd name="textAreaRight" fmla="*/ 138600 w 14292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25118" y="10800"/>
                </a:moveTo>
                <a:lnTo>
                  <a:pt x="14556" y="17844"/>
                </a:lnTo>
                <a:lnTo>
                  <a:pt x="14556" y="3756"/>
                </a:lnTo>
                <a:close/>
              </a:path>
              <a:path fill="darken" w="43200" h="21600">
                <a:moveTo>
                  <a:pt x="26973" y="3756"/>
                </a:moveTo>
                <a:lnTo>
                  <a:pt x="26973" y="17844"/>
                </a:lnTo>
                <a:lnTo>
                  <a:pt x="28644" y="17844"/>
                </a:lnTo>
                <a:lnTo>
                  <a:pt x="28644" y="375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2360" y="140004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望能收到家人来信报平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81080" y="2349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望能顺利到达灵武，酬报国之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24000" y="3213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望官军早日收复京城，中兴国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AED-448B-464D-8EDB-1D5D5C26D5A5}" type="slidenum">
              <a:t>18</a:t>
            </a:fld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mage4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429000" y="457200"/>
            <a:ext cx="50292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诗人形象：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本诗塑造了一位面对春城败象，心念国家兴衰，思家恋亲，老泪纵横，白发萧疏，忧心如焚的诗人形象；是感时恨别的形象，是忧国思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9"/>
          <p:cNvPicPr/>
          <p:nvPr/>
        </p:nvPicPr>
        <p:blipFill>
          <a:blip r:embed="rId2"/>
          <a:stretch/>
        </p:blipFill>
        <p:spPr>
          <a:xfrm>
            <a:off x="0" y="0"/>
            <a:ext cx="33051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7308720" y="5661000"/>
            <a:ext cx="71640" cy="73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032">
                <a:moveTo>
                  <a:pt x="0" y="0"/>
                </a:moveTo>
                <a:lnTo>
                  <a:pt x="21600" y="0"/>
                </a:lnTo>
                <a:lnTo>
                  <a:pt x="21600" y="22032"/>
                </a:lnTo>
                <a:lnTo>
                  <a:pt x="0" y="22032"/>
                </a:lnTo>
                <a:close/>
              </a:path>
              <a:path fill="lightenLess" w="21600" h="22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032">
                <a:moveTo>
                  <a:pt x="21600" y="0"/>
                </a:moveTo>
                <a:lnTo>
                  <a:pt x="21600" y="22032"/>
                </a:lnTo>
                <a:lnTo>
                  <a:pt x="20250" y="20682"/>
                </a:lnTo>
                <a:lnTo>
                  <a:pt x="20250" y="1350"/>
                </a:lnTo>
                <a:close/>
              </a:path>
              <a:path fill="darkenLess" w="21600" h="22032">
                <a:moveTo>
                  <a:pt x="21600" y="22032"/>
                </a:moveTo>
                <a:lnTo>
                  <a:pt x="0" y="22032"/>
                </a:lnTo>
                <a:lnTo>
                  <a:pt x="1350" y="20682"/>
                </a:lnTo>
                <a:lnTo>
                  <a:pt x="20250" y="20682"/>
                </a:lnTo>
                <a:close/>
              </a:path>
              <a:path fill="lighten" w="21600" h="22032">
                <a:moveTo>
                  <a:pt x="0" y="22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0682"/>
                </a:lnTo>
                <a:close/>
              </a:path>
              <a:path fill="darken" w="21600" h="22032">
                <a:moveTo>
                  <a:pt x="3756" y="3972"/>
                </a:moveTo>
                <a:lnTo>
                  <a:pt x="17844" y="11016"/>
                </a:lnTo>
                <a:lnTo>
                  <a:pt x="3756" y="1806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1" descr="图片1"/>
          <p:cNvPicPr/>
          <p:nvPr/>
        </p:nvPicPr>
        <p:blipFill>
          <a:blip r:embed="rId1"/>
          <a:stretch/>
        </p:blipFill>
        <p:spPr>
          <a:xfrm>
            <a:off x="0" y="0"/>
            <a:ext cx="4181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1"/>
          <p:cNvSpPr/>
          <p:nvPr/>
        </p:nvSpPr>
        <p:spPr>
          <a:xfrm>
            <a:off x="380880" y="4495680"/>
            <a:ext cx="1600200" cy="1524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565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534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0"/>
          <p:cNvGrpSpPr/>
          <p:nvPr/>
        </p:nvGrpSpPr>
        <p:grpSpPr>
          <a:xfrm>
            <a:off x="4975200" y="0"/>
            <a:ext cx="3505320" cy="1066680"/>
            <a:chOff x="4975200" y="0"/>
            <a:chExt cx="3505320" cy="1066680"/>
          </a:xfrm>
        </p:grpSpPr>
        <p:sp>
          <p:nvSpPr>
            <p:cNvPr id="47" name="AutoShape 9"/>
            <p:cNvSpPr/>
            <p:nvPr/>
          </p:nvSpPr>
          <p:spPr>
            <a:xfrm>
              <a:off x="4975200" y="0"/>
              <a:ext cx="3505320" cy="1066680"/>
            </a:xfrm>
            <a:prstGeom prst="wedgeEllipseCallout">
              <a:avLst>
                <a:gd name="adj1" fmla="val -68527"/>
                <a:gd name="adj2" fmla="val 142476"/>
              </a:avLst>
            </a:prstGeom>
            <a:solidFill>
              <a:srgbClr val="ffffff"/>
            </a:solidFill>
            <a:ln w="507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600ff"/>
                  </a:solidFill>
                  <a:latin typeface="Calibri"/>
                  <a:ea typeface="宋体"/>
                </a:rPr>
                <a:t>他是谁</a:t>
              </a:r>
              <a:r>
                <a:rPr b="1" lang="en-US" sz="3200" spc="-1" strike="noStrike">
                  <a:solidFill>
                    <a:srgbClr val="4600ff"/>
                  </a:solidFill>
                  <a:latin typeface="Calibri"/>
                  <a:ea typeface="Calibri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0002"/>
            <p:cNvPicPr/>
            <p:nvPr/>
          </p:nvPicPr>
          <p:blipFill>
            <a:blip r:embed="rId2"/>
            <a:stretch/>
          </p:blipFill>
          <p:spPr>
            <a:xfrm>
              <a:off x="5181480" y="228600"/>
              <a:ext cx="438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3" descr="0002"/>
            <p:cNvPicPr/>
            <p:nvPr/>
          </p:nvPicPr>
          <p:blipFill>
            <a:blip r:embed="rId3"/>
            <a:stretch/>
          </p:blipFill>
          <p:spPr>
            <a:xfrm>
              <a:off x="7010280" y="304920"/>
              <a:ext cx="438120" cy="41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21"/>
          <p:cNvGrpSpPr/>
          <p:nvPr/>
        </p:nvGrpSpPr>
        <p:grpSpPr>
          <a:xfrm>
            <a:off x="4419720" y="4114800"/>
            <a:ext cx="4190400" cy="581400"/>
            <a:chOff x="4419720" y="4114800"/>
            <a:chExt cx="4190400" cy="581400"/>
          </a:xfrm>
        </p:grpSpPr>
        <p:sp>
          <p:nvSpPr>
            <p:cNvPr id="51" name="Text Box 7"/>
            <p:cNvSpPr/>
            <p:nvPr/>
          </p:nvSpPr>
          <p:spPr>
            <a:xfrm>
              <a:off x="4665960" y="4114800"/>
              <a:ext cx="39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他的诗多沉郁顿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5" descr="0167"/>
            <p:cNvPicPr/>
            <p:nvPr/>
          </p:nvPicPr>
          <p:blipFill>
            <a:blip r:embed="rId4"/>
            <a:stretch/>
          </p:blipFill>
          <p:spPr>
            <a:xfrm>
              <a:off x="4419720" y="4267080"/>
              <a:ext cx="3096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25"/>
          <p:cNvGrpSpPr/>
          <p:nvPr/>
        </p:nvGrpSpPr>
        <p:grpSpPr>
          <a:xfrm>
            <a:off x="4419720" y="5334120"/>
            <a:ext cx="4723920" cy="1068840"/>
            <a:chOff x="4419720" y="5334120"/>
            <a:chExt cx="4723920" cy="1068840"/>
          </a:xfrm>
        </p:grpSpPr>
        <p:sp>
          <p:nvSpPr>
            <p:cNvPr id="54" name="Text Box 5"/>
            <p:cNvSpPr/>
            <p:nvPr/>
          </p:nvSpPr>
          <p:spPr>
            <a:xfrm>
              <a:off x="4668120" y="5334120"/>
              <a:ext cx="4475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他的诗反映了当时的现实，故被誉为</a:t>
              </a: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“</a:t>
              </a: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诗史</a:t>
              </a: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”</a:t>
              </a: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6" descr="0167"/>
            <p:cNvPicPr/>
            <p:nvPr/>
          </p:nvPicPr>
          <p:blipFill>
            <a:blip r:embed="rId5"/>
            <a:stretch/>
          </p:blipFill>
          <p:spPr>
            <a:xfrm>
              <a:off x="4419720" y="5562720"/>
              <a:ext cx="31212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0"/>
          <p:cNvGrpSpPr/>
          <p:nvPr/>
        </p:nvGrpSpPr>
        <p:grpSpPr>
          <a:xfrm>
            <a:off x="4419720" y="1981080"/>
            <a:ext cx="4267080" cy="581400"/>
            <a:chOff x="4419720" y="1981080"/>
            <a:chExt cx="4267080" cy="581400"/>
          </a:xfrm>
        </p:grpSpPr>
        <p:sp>
          <p:nvSpPr>
            <p:cNvPr id="57" name="Text Box 3"/>
            <p:cNvSpPr/>
            <p:nvPr/>
          </p:nvSpPr>
          <p:spPr>
            <a:xfrm>
              <a:off x="4648320" y="198108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他是唐代最伟大现实主义的诗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7" descr="0002"/>
            <p:cNvPicPr/>
            <p:nvPr/>
          </p:nvPicPr>
          <p:blipFill>
            <a:blip r:embed="rId6"/>
            <a:stretch/>
          </p:blipFill>
          <p:spPr>
            <a:xfrm>
              <a:off x="4419720" y="220968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22"/>
          <p:cNvGrpSpPr/>
          <p:nvPr/>
        </p:nvGrpSpPr>
        <p:grpSpPr>
          <a:xfrm>
            <a:off x="4419720" y="4724280"/>
            <a:ext cx="3647880" cy="581400"/>
            <a:chOff x="4419720" y="4724280"/>
            <a:chExt cx="3647880" cy="581400"/>
          </a:xfrm>
        </p:grpSpPr>
        <p:sp>
          <p:nvSpPr>
            <p:cNvPr id="60" name="Rectangle 23"/>
            <p:cNvSpPr/>
            <p:nvPr/>
          </p:nvSpPr>
          <p:spPr>
            <a:xfrm>
              <a:off x="5375160" y="472428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后人尊称他为</a:t>
              </a: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“</a:t>
              </a: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诗圣</a:t>
              </a: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”</a:t>
              </a:r>
              <a:r>
                <a:rPr b="1" lang="zh-CN" sz="3200" spc="-1" strike="noStrike">
                  <a:solidFill>
                    <a:srgbClr val="800080"/>
                  </a:solidFill>
                  <a:latin typeface="宋体"/>
                  <a:ea typeface="宋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24" descr="0002"/>
            <p:cNvPicPr/>
            <p:nvPr/>
          </p:nvPicPr>
          <p:blipFill>
            <a:blip r:embed="rId7"/>
            <a:stretch/>
          </p:blipFill>
          <p:spPr>
            <a:xfrm>
              <a:off x="4419720" y="486072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29"/>
          <p:cNvGrpSpPr/>
          <p:nvPr/>
        </p:nvGrpSpPr>
        <p:grpSpPr>
          <a:xfrm>
            <a:off x="4419720" y="3048120"/>
            <a:ext cx="4724280" cy="581400"/>
            <a:chOff x="4419720" y="3048120"/>
            <a:chExt cx="4724280" cy="581400"/>
          </a:xfrm>
        </p:grpSpPr>
        <p:sp>
          <p:nvSpPr>
            <p:cNvPr id="63" name="Text Box 27"/>
            <p:cNvSpPr/>
            <p:nvPr/>
          </p:nvSpPr>
          <p:spPr>
            <a:xfrm>
              <a:off x="4648320" y="3048120"/>
              <a:ext cx="449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84241"/>
                  </a:solidFill>
                  <a:latin typeface="Arial"/>
                  <a:ea typeface="宋体"/>
                </a:rPr>
                <a:t>他生活在唐朝由盛转衰的年代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28" descr="0167"/>
            <p:cNvPicPr/>
            <p:nvPr/>
          </p:nvPicPr>
          <p:blipFill>
            <a:blip r:embed="rId8"/>
            <a:stretch/>
          </p:blipFill>
          <p:spPr>
            <a:xfrm>
              <a:off x="4419720" y="3276720"/>
              <a:ext cx="29700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矩形 2"/>
          <p:cNvSpPr/>
          <p:nvPr/>
        </p:nvSpPr>
        <p:spPr>
          <a:xfrm>
            <a:off x="68256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Calibri"/>
                <a:ea typeface="宋体"/>
              </a:rPr>
              <a:t>试概述文章的主题思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042920" y="342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这首诗描述了诗人困居长安时的所见、所闻、所感，抒发了他忧国思家的情感，体现了诗人热爱祖国，眷念亲人的美好情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试以“望”为切入点比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望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春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836640"/>
          <a:ext cx="9144000" cy="5946840"/>
        </p:xfrm>
        <a:graphic>
          <a:graphicData uri="http://schemas.openxmlformats.org/drawingml/2006/table">
            <a:tbl>
              <a:tblPr/>
              <a:tblGrid>
                <a:gridCol w="1979640"/>
                <a:gridCol w="3816360"/>
                <a:gridCol w="3348000"/>
              </a:tblGrid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望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春望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望”的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对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 rowSpan="2"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望”的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视角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远望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近看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近看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远望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望”中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所感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望”中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所寓之情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2"/>
          <p:cNvSpPr/>
          <p:nvPr/>
        </p:nvSpPr>
        <p:spPr>
          <a:xfrm>
            <a:off x="2050920" y="1557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高大连绵的泰山，它神奇秀丽、巍峨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5759280" y="155736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国都沦陷后的残破城池和遍地荒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2124000" y="256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一脉青色横亘于齐鲁之间，无尽无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2050920" y="4581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泰山雄伟壮大，令人心神激荡，豪情满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1908000" y="573408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表达了建功立业的雄心，洋溢着盛唐的浪漫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7"/>
          <p:cNvSpPr/>
          <p:nvPr/>
        </p:nvSpPr>
        <p:spPr>
          <a:xfrm>
            <a:off x="5867280" y="45813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满城破败，凄凉荒芜，使人黯然神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5724360" y="548496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抒发了在战火中对亲人的思念和对国家的忧虑，深沉抑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1979640" y="3645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山南山北分昏晓，细看峰峦层云，决眦目送归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5867280" y="25653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城池残破，花鸟仿佛也在感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5867280" y="3645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满城荒草丛生，荒凉一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这两首诗风格迥异的原因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0920" y="620640"/>
            <a:ext cx="496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从写作背景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从写作题材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从思想感情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2400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望岳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写于社会繁荣的开元盛世，诗人生活优越，是一个意气风发的青年，笔端自然洋溢着蓬勃的朝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184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春望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写于战乱之中，诗人颠沛流离，字里行间既有对国家命运的担忧，又有对家人的牵挂，所以是沉重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50920" y="2924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望岳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以五岳之首泰山为写作对象，它巍峨、高大、秀丽、神奇给人以振奋与昂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50920" y="3716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春望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着眼于沦陷后的国都，荒凉破败的城池、杂乱森郁的草木，让人内心忧戚愁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50920" y="49417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望岳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中的“会当凌绝顶，一览众山小”展现的是不怕困难、敢于攀登绝顶的气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24000" y="573408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春望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中的“白头搔更短，浑欲不胜簪”是因为烽火遍地、家信不通，所以离乱伤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10"/>
          <p:cNvSpPr/>
          <p:nvPr/>
        </p:nvSpPr>
        <p:spPr>
          <a:xfrm>
            <a:off x="7236000" y="0"/>
            <a:ext cx="1655640" cy="647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3634"/>
                </a:solidFill>
                <a:latin typeface="Calibri"/>
                <a:ea typeface="华文新魏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公元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755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年安史之乱爆发。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756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年诗人杜甫得知唐肃宗在灵武即位的消息后，不顾安危投奔唐肃宗而来，想要再有一番作为，结果在投奔灵武途中，被安史叛军掳至长安，过了半年多囚徒一样的生活。这时的首都长安已被抢掠一空，满目荒凉，而家人久别，存亡未卜。第二年（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757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年）暮春，春回大地，鸟语花香，草木茂盛，生机勃勃，但这只能增加诗人的痛苦和伤感。诗人触景生情，感慨万千，写下了这首感时恨别、忧国思亲的五言律诗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--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春望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304920" y="1295280"/>
            <a:ext cx="51814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溅（     ）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抵（     ）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搔（     ）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浑（    ） 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胜（     ）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Arial"/>
                <a:ea typeface="宋体"/>
              </a:rPr>
              <a:t>簪（     ）</a:t>
            </a:r>
            <a:r>
              <a:rPr b="1" lang="en-US" sz="4000" spc="-1" strike="noStrike">
                <a:solidFill>
                  <a:srgbClr val="0f41ff"/>
                </a:solidFill>
                <a:latin typeface="Arial"/>
                <a:ea typeface="宋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29528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634"/>
                </a:solidFill>
                <a:latin typeface="宋体"/>
                <a:ea typeface="宋体"/>
              </a:rPr>
              <a:t>ji</a:t>
            </a:r>
            <a:r>
              <a:rPr b="1" lang="en-US" sz="2800" spc="-1" strike="noStrike">
                <a:solidFill>
                  <a:srgbClr val="fc3634"/>
                </a:solidFill>
                <a:latin typeface="Arial"/>
                <a:ea typeface="宋体"/>
              </a:rPr>
              <a:t>à</a:t>
            </a:r>
            <a:r>
              <a:rPr b="1" lang="en-US" sz="2800" spc="-1" strike="noStrike">
                <a:solidFill>
                  <a:srgbClr val="fc3634"/>
                </a:solidFill>
                <a:latin typeface="宋体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733920" y="1371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溅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371600" y="2209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634"/>
                </a:solidFill>
                <a:latin typeface="Arial"/>
                <a:ea typeface="华文新魏"/>
              </a:rPr>
              <a:t>d</a:t>
            </a:r>
            <a:r>
              <a:rPr b="1" lang="en-US" sz="3200" spc="-1" strike="noStrike">
                <a:solidFill>
                  <a:srgbClr val="fc3634"/>
                </a:solidFill>
                <a:latin typeface="Arial"/>
                <a:ea typeface="宋体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733920" y="2286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值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333440" y="3156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634"/>
                </a:solidFill>
                <a:latin typeface="宋体"/>
                <a:ea typeface="宋体"/>
              </a:rPr>
              <a:t>s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657600" y="3124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用指甲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1295280" y="5943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634"/>
                </a:solidFill>
                <a:latin typeface="宋体"/>
                <a:ea typeface="宋体"/>
              </a:rPr>
              <a:t>z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219320" y="5029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634"/>
                </a:solidFill>
                <a:latin typeface="宋体"/>
                <a:ea typeface="宋体"/>
              </a:rPr>
              <a:t>s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809880" y="4952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能够承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3"/>
          <p:cNvGrpSpPr/>
          <p:nvPr/>
        </p:nvGrpSpPr>
        <p:grpSpPr>
          <a:xfrm>
            <a:off x="4952880" y="533520"/>
            <a:ext cx="3809880" cy="5943240"/>
            <a:chOff x="4952880" y="533520"/>
            <a:chExt cx="3809880" cy="5943240"/>
          </a:xfrm>
        </p:grpSpPr>
        <p:sp>
          <p:nvSpPr>
            <p:cNvPr id="77" name="AutoShape 24"/>
            <p:cNvSpPr/>
            <p:nvPr/>
          </p:nvSpPr>
          <p:spPr>
            <a:xfrm>
              <a:off x="4952880" y="533520"/>
              <a:ext cx="3758040" cy="2201040"/>
            </a:xfrm>
            <a:prstGeom prst="cloudCallout">
              <a:avLst>
                <a:gd name="adj1" fmla="val 15101"/>
                <a:gd name="adj2" fmla="val 1429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宋体"/>
                  <a:ea typeface="宋体"/>
                </a:rPr>
                <a:t>大哥哥，大姐姐，我</a:t>
              </a:r>
              <a:r>
                <a:rPr b="1" lang="zh-CN" sz="2000" spc="-1" strike="noStrike">
                  <a:solidFill>
                    <a:srgbClr val="0f41ff"/>
                  </a:solidFill>
                  <a:latin typeface="宋体"/>
                  <a:ea typeface="宋体"/>
                </a:rPr>
                <a:t>戴上</a:t>
              </a:r>
              <a:r>
                <a:rPr b="1" lang="zh-CN" sz="2000" spc="-1" strike="noStrike">
                  <a:solidFill>
                    <a:srgbClr val="fc3634"/>
                  </a:solidFill>
                  <a:latin typeface="宋体"/>
                  <a:ea typeface="宋体"/>
                </a:rPr>
                <a:t>眼镜仔</a:t>
              </a:r>
              <a:r>
                <a:rPr b="1" lang="zh-CN" sz="2000" spc="-1" strike="noStrike">
                  <a:solidFill>
                    <a:srgbClr val="0f41ff"/>
                  </a:solidFill>
                  <a:latin typeface="宋体"/>
                  <a:ea typeface="宋体"/>
                </a:rPr>
                <a:t>看你</a:t>
              </a:r>
              <a:r>
                <a:rPr b="1" lang="zh-CN" sz="2000" spc="-1" strike="noStrike">
                  <a:solidFill>
                    <a:srgbClr val="ff9900"/>
                  </a:solidFill>
                  <a:latin typeface="宋体"/>
                  <a:ea typeface="宋体"/>
                </a:rPr>
                <a:t>读书啊，</a:t>
              </a:r>
              <a:r>
                <a:rPr b="1" lang="zh-CN" sz="2400" spc="-1" strike="noStrike">
                  <a:solidFill>
                    <a:srgbClr val="fc3634"/>
                  </a:solidFill>
                  <a:latin typeface="宋体"/>
                  <a:ea typeface="宋体"/>
                </a:rPr>
                <a:t>别读错</a:t>
              </a:r>
              <a:r>
                <a:rPr b="1" lang="zh-CN" sz="2000" spc="-1" strike="noStrike">
                  <a:solidFill>
                    <a:srgbClr val="0f41ff"/>
                  </a:solidFill>
                  <a:latin typeface="宋体"/>
                  <a:ea typeface="宋体"/>
                </a:rPr>
                <a:t>了字呀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25" descr="0067"/>
            <p:cNvPicPr/>
            <p:nvPr/>
          </p:nvPicPr>
          <p:blipFill>
            <a:blip r:embed="rId1"/>
            <a:stretch/>
          </p:blipFill>
          <p:spPr>
            <a:xfrm>
              <a:off x="7061400" y="4349160"/>
              <a:ext cx="1701360" cy="21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 Box 20"/>
          <p:cNvSpPr/>
          <p:nvPr/>
        </p:nvSpPr>
        <p:spPr>
          <a:xfrm>
            <a:off x="3657600" y="58672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一种束发的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9"/>
          <p:cNvGrpSpPr/>
          <p:nvPr/>
        </p:nvGrpSpPr>
        <p:grpSpPr>
          <a:xfrm>
            <a:off x="0" y="0"/>
            <a:ext cx="3962520" cy="1191240"/>
            <a:chOff x="0" y="0"/>
            <a:chExt cx="3962520" cy="1191240"/>
          </a:xfrm>
        </p:grpSpPr>
        <p:sp>
          <p:nvSpPr>
            <p:cNvPr id="81" name="Text Box 7"/>
            <p:cNvSpPr/>
            <p:nvPr/>
          </p:nvSpPr>
          <p:spPr>
            <a:xfrm>
              <a:off x="0" y="0"/>
              <a:ext cx="396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3634"/>
                  </a:solidFill>
                  <a:latin typeface="Arial"/>
                  <a:ea typeface="华文新魏"/>
                </a:rPr>
                <a:t>▲</a:t>
              </a:r>
              <a:r>
                <a:rPr b="1" lang="zh-CN" sz="3600" spc="-1" strike="noStrike">
                  <a:solidFill>
                    <a:srgbClr val="d87d00"/>
                  </a:solidFill>
                  <a:latin typeface="Arial"/>
                  <a:ea typeface="华文新魏"/>
                </a:rPr>
                <a:t>读准下面的字，并理解它的含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28" descr="0002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 Box 31"/>
          <p:cNvSpPr/>
          <p:nvPr/>
        </p:nvSpPr>
        <p:spPr>
          <a:xfrm>
            <a:off x="3581280" y="39625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Arial"/>
                <a:ea typeface="华文新魏"/>
              </a:rPr>
              <a:t>简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12193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634"/>
                </a:solidFill>
                <a:latin typeface="Arial"/>
                <a:ea typeface="华文新魏"/>
              </a:rPr>
              <a:t>h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c3634"/>
                </a:solidFill>
                <a:latin typeface="Calibri"/>
                <a:ea typeface="隶书"/>
              </a:rPr>
              <a:t>春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杜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国破山河在，城春草木深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感时花溅泪，恨别鸟惊心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3634"/>
                </a:solidFill>
                <a:latin typeface="Calibri"/>
                <a:ea typeface="华文隶书"/>
              </a:rPr>
              <a:t>烽火连三月，家书抵万金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3634"/>
                </a:solidFill>
                <a:latin typeface="Calibri"/>
                <a:ea typeface="华文隶书"/>
              </a:rPr>
              <a:t>白头搔更短，浑欲不胜簪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514600" y="380880"/>
            <a:ext cx="66294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c3634"/>
                </a:solidFill>
                <a:latin typeface="Times New Roman"/>
              </a:rPr>
              <a:t>春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Times New Roman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Times New Roman"/>
              </a:rPr>
              <a:t>国破山河在，城春草木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41ff"/>
                </a:solidFill>
                <a:latin typeface="Times New Roman"/>
              </a:rPr>
              <a:t>感时花溅泪，恨别鸟惊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Times New Roman"/>
              </a:rPr>
              <a:t>烽火连三月，家书抵万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3634"/>
                </a:solidFill>
                <a:latin typeface="Times New Roman"/>
              </a:rPr>
              <a:t>白头搔更短，浑欲不胜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47636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84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4817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2"/>
          <p:cNvSpPr/>
          <p:nvPr/>
        </p:nvSpPr>
        <p:spPr>
          <a:xfrm>
            <a:off x="324000" y="62064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通过刚才的阅读和翻译，你联想到了一幅怎样的画面？试着跟同学描述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0675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国破山河在，城春草木深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7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云形 8"/>
          <p:cNvSpPr/>
          <p:nvPr/>
        </p:nvSpPr>
        <p:spPr>
          <a:xfrm>
            <a:off x="5219640" y="1413000"/>
            <a:ext cx="2160720" cy="143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指长安城，当时被叛军占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下箭头 9"/>
          <p:cNvSpPr/>
          <p:nvPr/>
        </p:nvSpPr>
        <p:spPr>
          <a:xfrm>
            <a:off x="5796000" y="1268280"/>
            <a:ext cx="46080" cy="360360"/>
          </a:xfrm>
          <a:prstGeom prst="downArrow">
            <a:avLst>
              <a:gd name="adj1" fmla="val 50000"/>
              <a:gd name="adj2" fmla="val 49637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1116000" y="1301760"/>
            <a:ext cx="266400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国都，指京城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Calibri"/>
              </a:rPr>
              <a:t>,</a:t>
            </a: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当时在长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484280" y="34290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本句诗写出了“春望”所见，一个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春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”字表明了季节时令，一个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”字写出了国都战争离乱的残破之景，令人怵目惊心；一个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深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”字写出了长安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之景，令人满目萧然，为全诗渲染悲凉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内容占位符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矩形 6"/>
          <p:cNvSpPr/>
          <p:nvPr/>
        </p:nvSpPr>
        <p:spPr>
          <a:xfrm>
            <a:off x="2050920" y="5493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宋体"/>
              </a:rPr>
              <a:t>感时花溅泪，恨别鸟惊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横卷形 7"/>
          <p:cNvSpPr/>
          <p:nvPr/>
        </p:nvSpPr>
        <p:spPr>
          <a:xfrm>
            <a:off x="1979640" y="1257480"/>
            <a:ext cx="2089080" cy="947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感叹时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8"/>
          <p:cNvSpPr/>
          <p:nvPr/>
        </p:nvSpPr>
        <p:spPr>
          <a:xfrm>
            <a:off x="4932360" y="1257480"/>
            <a:ext cx="1511280" cy="4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伤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9"/>
          <p:cNvSpPr/>
          <p:nvPr/>
        </p:nvSpPr>
        <p:spPr>
          <a:xfrm>
            <a:off x="7164360" y="1257480"/>
            <a:ext cx="1979640" cy="73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使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惊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971640" y="2781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结构上以“感时”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承上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，感伤时局的动荡，“恨别”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启下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，怅恨离别之苦，起到承上启下的作用。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对偶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的修辞手法，使诗句对仗工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横卷形 4"/>
          <p:cNvSpPr/>
          <p:nvPr/>
        </p:nvSpPr>
        <p:spPr>
          <a:xfrm>
            <a:off x="396720" y="0"/>
            <a:ext cx="8207640" cy="141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什么是对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24000" y="2637000"/>
            <a:ext cx="842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6280" y="2789280"/>
            <a:ext cx="842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0" y="1486080"/>
            <a:ext cx="9144000" cy="198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4400" spc="-1" strike="noStrike">
                <a:solidFill>
                  <a:srgbClr val="002060"/>
                </a:solidFill>
                <a:latin typeface="Calibri"/>
                <a:ea typeface="宋体"/>
              </a:rPr>
              <a:t>是用两个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结构相同、字数相等、意义对称</a:t>
            </a:r>
            <a:r>
              <a:rPr b="1" lang="zh-CN" sz="4400" spc="-1" strike="noStrike">
                <a:solidFill>
                  <a:srgbClr val="002060"/>
                </a:solidFill>
                <a:latin typeface="Calibri"/>
                <a:ea typeface="宋体"/>
              </a:rPr>
              <a:t>的词组或句子来表达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相反、相似或相关</a:t>
            </a:r>
            <a:r>
              <a:rPr b="1" lang="zh-CN" sz="4400" spc="-1" strike="noStrike">
                <a:solidFill>
                  <a:srgbClr val="002060"/>
                </a:solidFill>
                <a:latin typeface="Calibri"/>
                <a:ea typeface="宋体"/>
              </a:rPr>
              <a:t>意思的一种修辞方式。俗称对子，在诗词曲赋等韵文中称为对仗。对偶独具艺术特色，看着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整齐醒目</a:t>
            </a:r>
            <a:r>
              <a:rPr b="1" lang="zh-CN" sz="4400" spc="-1" strike="noStrike">
                <a:solidFill>
                  <a:srgbClr val="002060"/>
                </a:solidFill>
                <a:latin typeface="Calibri"/>
                <a:ea typeface="宋体"/>
              </a:rPr>
              <a:t>，听着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铿锵悦耳</a:t>
            </a:r>
            <a:r>
              <a:rPr b="1" lang="zh-CN" sz="4400" spc="-1" strike="noStrike">
                <a:solidFill>
                  <a:srgbClr val="002060"/>
                </a:solidFill>
                <a:latin typeface="Calibri"/>
                <a:ea typeface="宋体"/>
              </a:rPr>
              <a:t>，读来朗朗上口，便于记忆、传诵，为人们喜闻乐见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0T07:48:00Z</dcterms:created>
  <dc:creator>ad</dc:creator>
  <dc:description/>
  <dc:language>en-US</dc:language>
  <cp:lastModifiedBy>ad</cp:lastModifiedBy>
  <dcterms:modified xsi:type="dcterms:W3CDTF">2015-10-22T04:33:56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