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5.jpeg" ContentType="image/jpeg"/>
  <Override PartName="/ppt/media/image9.gif" ContentType="image/gif"/>
  <Override PartName="/ppt/media/image14.jpeg" ContentType="image/jpeg"/>
  <Override PartName="/ppt/media/image1.gif" ContentType="image/gif"/>
  <Override PartName="/ppt/media/image2.jpeg" ContentType="image/jpeg"/>
  <Override PartName="/ppt/media/image4.jpeg" ContentType="image/jpeg"/>
  <Override PartName="/ppt/media/image8.gif" ContentType="image/gif"/>
  <Override PartName="/ppt/media/image6.jpeg" ContentType="image/jpeg"/>
  <Override PartName="/ppt/media/image11.jpeg" ContentType="image/jpeg"/>
  <Override PartName="/ppt/media/image7.png" ContentType="image/png"/>
  <Override PartName="/ppt/media/image5.png" ContentType="image/png"/>
  <Override PartName="/ppt/media/image10.jpeg" ContentType="image/jpeg"/>
  <Override PartName="/ppt/media/image12.gif" ContentType="image/gif"/>
  <Override PartName="/ppt/media/image3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D0683-1A44-4CEE-879F-BC1B89663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FEEBA-4B42-424E-A9C7-EBC033B59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CCA8E-2F2B-47AB-87EE-A4100B44E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52F95-835D-46B4-BAB5-CC1000247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0D969-02CE-40FF-992B-8BA268B53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DDEA6-7636-4727-9C84-6F541D78D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3C555-4E63-41B6-9F41-2800E18EE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A52E3-4278-433C-8191-3B3543E97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CB5A0-D9C6-4EB5-8FD6-1B300374D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D9BA8-A2A5-4044-A5FE-FEA63E4EA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4D0F3-58F6-45EE-B0B4-A0BC49256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F719A-962E-4ADF-B11F-183EF0353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E7147-3897-49BD-A547-34904D8F9B3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写作背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595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唐肃宗至德元载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(756)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六月，安史叛军攻下唐都长安。七月，杜甫听到唐肃宗在灵武即位的消息，便把家小安顿在郎州的羌村，去投奔肃宗。途中他被叛军俘获，带到长安。因他官卑职微，未被囚禁。《春望》写于次年三月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5589720"/>
            <a:ext cx="9144000" cy="12682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0" y="0"/>
            <a:ext cx="9144000" cy="28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请你对“感时花溅泪，恨别鸟惊心”两句诗作简要评析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采用拟人的手法，通过花和鸟来写春天，花因国家战乱而落泪，鸟因人间离别而惊心表达了诗人内心的伤悲。</a:t>
            </a:r>
            <a:br>
              <a:rPr sz="4000"/>
            </a:b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3645000"/>
            <a:ext cx="9144000" cy="32130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" dur="5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、请赏析“烽火连三月，家书抵万金”这一名句的妙处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在战火连绵不断的日子里，消息隔绝。作者用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抵万金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来形容家书的珍贵，表达了对妻子儿女的强烈思念，能激起人强烈的共鸣。</a:t>
            </a:r>
            <a:br>
              <a:rPr sz="4400"/>
            </a:br>
            <a:br>
              <a:rPr sz="4400"/>
            </a:b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4292640"/>
            <a:ext cx="9144000" cy="256536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、本诗尾联中的“搔”字锤炼得好，好在哪里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搔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字是对诗人想解愁而不得的细节描写，传神地表达了诗人内心难以排遣的忧国思家之情。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3573360"/>
            <a:ext cx="9144000" cy="352764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、尾联刻画了诗人怎样的形象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满头白发，愁苦不堪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、全诗表达了诗人怎样的思想感情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忧国思家。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6084720" y="3789360"/>
            <a:ext cx="3059280" cy="306864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主题思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0" y="692280"/>
            <a:ext cx="91440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这首诗通过描绘战乱后长安城的破败荒凉，人事全非的春望之景，表达了自己在连绵战火中家书隔断，期待得到亲人消息的焦虑心情。全诗抒发了诗人忧国伤时、念家悲己的思想感情，感人至深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4859280" y="3860640"/>
            <a:ext cx="4284720" cy="299736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cbf801edca802c022797915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45" name="2011121015441723620" descr=""/>
          <p:cNvPicPr/>
          <p:nvPr/>
        </p:nvPicPr>
        <p:blipFill>
          <a:blip r:embed="rId2"/>
          <a:stretch/>
        </p:blipFill>
        <p:spPr>
          <a:xfrm>
            <a:off x="1835280" y="0"/>
            <a:ext cx="730872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38040" y="981000"/>
            <a:ext cx="1185840" cy="3097440"/>
          </a:xfrm>
          <a:prstGeom prst="rect">
            <a:avLst/>
          </a:prstGeom>
          <a:solidFill>
            <a:srgbClr val="ffff00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  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春望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270036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作者简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3" descr="683d09000f3b784d7aec2c79"/>
          <p:cNvPicPr/>
          <p:nvPr/>
        </p:nvPicPr>
        <p:blipFill>
          <a:blip r:embed="rId1"/>
          <a:stretch/>
        </p:blipFill>
        <p:spPr>
          <a:xfrm>
            <a:off x="0" y="765000"/>
            <a:ext cx="3348000" cy="609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276720" y="189000"/>
            <a:ext cx="5867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0"/>
            <a:ext cx="5580000" cy="34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杜甫（公元７１２－７７０），字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子美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，诗中自称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少陵野老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，后人称他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杜少陵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。他是唐代伟大的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现实主义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诗人。他的诗歌被公认为“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诗史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”，他本人也被看做一代宗师，被尊称为“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诗圣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”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读准字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1196640"/>
            <a:ext cx="91440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白头搔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sāo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更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gèng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短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浑欲不胜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shēng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簪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zān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4005360"/>
            <a:ext cx="9144000" cy="285264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读准节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764640"/>
            <a:ext cx="9144000" cy="609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国破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／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山河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／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在，城春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／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草木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／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深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感时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／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花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／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溅泪，恨别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／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鸟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／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惊心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烽火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／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连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／</a:t>
            </a:r>
            <a:r>
              <a:rPr b="1" lang="zh-CN" sz="4000" spc="-1" strike="noStrike">
                <a:solidFill>
                  <a:srgbClr val="ff0303"/>
                </a:solidFill>
                <a:latin typeface="Arial"/>
              </a:rPr>
              <a:t>三月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，家书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／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抵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／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万金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白头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／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搔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／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更短，浑欲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／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不胜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／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簪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2pzsfjd3iaui9spm" descr=""/>
          <p:cNvPicPr/>
          <p:nvPr/>
        </p:nvPicPr>
        <p:blipFill>
          <a:blip r:embed="rId1"/>
          <a:stretch/>
        </p:blipFill>
        <p:spPr>
          <a:xfrm>
            <a:off x="0" y="4437000"/>
            <a:ext cx="9144000" cy="24210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971640" y="3573360"/>
            <a:ext cx="504720" cy="115092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5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0250" fill="hold"/>
                                        <p:tgtEl>
                                          <p:spTgt spid="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重点字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0" y="980640"/>
            <a:ext cx="9144000" cy="58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①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国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指国都，长安城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②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搔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sāo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抓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③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浑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简直。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④不胜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shēng  zān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簪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因头发短少，连簪子也插不上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627407723088461316" descr=""/>
          <p:cNvPicPr/>
          <p:nvPr/>
        </p:nvPicPr>
        <p:blipFill>
          <a:blip r:embed="rId1"/>
          <a:stretch/>
        </p:blipFill>
        <p:spPr>
          <a:xfrm>
            <a:off x="0" y="4437000"/>
            <a:ext cx="9144000" cy="24210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41148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翻译诗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764640"/>
            <a:ext cx="9144000" cy="609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山河依旧国都早已沦陷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草木茂盛满城都是春天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感伤时局泪水溅湿了花朵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亲人离散鸟啼声更让人心伤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战争连绵了整个春天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珍贵的家书也难相见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满头的白发愈搔愈短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稀疏得简直无法插簪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2f4daecb8a9e0578ed13f438081ebd54 (1)" descr=""/>
          <p:cNvPicPr/>
          <p:nvPr/>
        </p:nvPicPr>
        <p:blipFill>
          <a:blip r:embed="rId1"/>
          <a:stretch/>
        </p:blipFill>
        <p:spPr>
          <a:xfrm>
            <a:off x="6948360" y="189000"/>
            <a:ext cx="2195640" cy="66690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分析诗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764640"/>
            <a:ext cx="9144000" cy="609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首联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山河破败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内心忧虑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颔联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感伤时势 ，睹物伤情。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颈联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战火频频，思念亲人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尾联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挠头叹息 ，忧国思家 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403280" y="1125360"/>
            <a:ext cx="360360" cy="2590920"/>
          </a:xfrm>
          <a:custGeom>
            <a:avLst/>
            <a:gdLst>
              <a:gd name="textAreaLeft" fmla="*/ 230400 w 360360"/>
              <a:gd name="textAreaRight" fmla="*/ 360720 w 360360"/>
              <a:gd name="textAreaTop" fmla="*/ 67320 h 2590920"/>
              <a:gd name="textAreaBottom" fmla="*/ 2523600 h 2590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84360" y="1844640"/>
            <a:ext cx="792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春望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3933720"/>
            <a:ext cx="9144000" cy="29242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" dur="2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" dur="20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" dur="20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" dur="200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0" y="0"/>
            <a:ext cx="9144000" cy="381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阅读理解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分析首联中的“破”和“深”字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本诗首联作者写春望所见一个“破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字，使人怵目惊心；一个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深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字，让人满目凄然（城中春草凄凄，一片破败） 。虽是写景，但实为抒感，寄情于物，托感于景。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2124000" y="4653000"/>
            <a:ext cx="7020000" cy="22050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9-26T14:17:04Z</dcterms:created>
  <dc:creator>User</dc:creator>
  <dc:description/>
  <dc:language>en-US</dc:language>
  <cp:lastModifiedBy>未知用户</cp:lastModifiedBy>
  <dcterms:modified xsi:type="dcterms:W3CDTF">2017-10-26T14:53:32Z</dcterms:modified>
  <cp:revision>57</cp:revision>
  <dc:subject/>
  <dc:title>幻灯片 1</dc:title>
</cp:coreProperties>
</file>