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23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41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31.gif" ContentType="image/gif"/>
  <Override PartName="/ppt/media/camera.wav" ContentType="audio/x-wav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501-541D-4574-82A3-56265A0A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21E-2284-4E90-A426-AD069FFC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B93-0BA7-405A-AC10-512F1E8B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ED6-2CCC-4C7C-8B03-9B1C8D78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C94D-9E60-481B-AF16-E065FFFA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96A1-481D-4BD5-8AAB-AAA5776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B92F-61C9-4379-887F-43C02956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2290-C82D-4D02-82EC-DEE9E233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C663-8D97-4959-A397-DB45DF66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BCB-5B4D-41EB-A8DE-47326FBC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D851-BD58-43DC-9F0A-255472E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849-678A-434B-8396-2F300AEF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457B-5453-4CCD-A100-15242F77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33FA-846B-4A8B-B08B-CC4FD3D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1C27-F2C6-4E58-9903-943212C3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6AA3-2CE2-4089-9724-5CF1B5E6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B1A8-7CD1-4184-BB1F-FA9FB2C9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CE19-2A37-4759-9F08-983545D9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8BF3-CACF-4B98-AED2-6110E8C7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8F4E-BD3F-49FD-AA3B-05EC73A5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954F-7EBF-4DDB-AB77-01ECDD35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4F98-AABC-4AD9-8C1E-7EB53156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A68-0FF8-4B7A-A8FC-AFE3B342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CA0A-D790-403B-A8B6-BF84D539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ACF9-981A-4FF3-A399-C9C8A19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35F2-31FC-4C98-B41C-0C59E0FA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A738-5765-44DE-B095-73D35EE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ECF2-91D6-43DE-B386-F565DDA5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71CA-A248-4E1D-B732-4A947F58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D1C9-5A75-4E56-9A48-433CB15B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D5D4-E6B4-4C30-96E2-BD399ED1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F134-4CDD-4304-9975-81C39E5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C339-5936-45D2-852B-E1A6747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397-0354-4B88-8F1C-410D5F0D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F8A0-8BBA-4044-B7A6-2CFFDD63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AE29-3002-4EE3-9A5E-9C36D888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1560-CD3A-405E-AC10-41CDB75A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0D8A-2A05-403C-8FFA-EBD9F0A6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E4AD-7323-4EB3-8B39-47A7878D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1076-7BB1-422F-86D6-7F95C5F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E1DF-DBA2-4CA6-8513-8CCEEF55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9E081-79A4-40DE-8B35-B559AC83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D29A-703A-4E70-8069-755741D0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27F93-2270-42DD-AC7C-17E9C3AC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9E2-F201-4B79-A98C-40F898E2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5F77-52FD-4516-99E4-A409A9C6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85E79-5407-4DD1-9199-99A1269F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55132-DDA9-4249-A6A4-D09B1E08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DA7BC-29AC-4B48-A0E8-09BA37AF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5510-3CB9-466E-81B4-40241A39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0191-DC96-4837-8656-4C66238C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C1CE-5C8A-4298-A469-86A1DD09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36C72-64A3-417E-9710-14AFCB3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65B3-E71D-469E-AF7A-7E4234BE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401E3-875A-452E-946B-8B404E47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6DF-62EB-4C68-8651-32F51769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3D8E-A3E7-445E-A096-B4686FF5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35A-E681-4632-830C-8BBF8EF5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FC4-64A7-40E8-8280-A1ED3439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D90-77E8-4674-AC48-AF399AEA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8F25-7DB8-4BD5-81D0-2985DACE1C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6D93-5B7F-482D-AD2F-23ADD9257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8CF1-FDCB-4345-8D82-B803250342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7511-23B5-4339-9645-12DA5B6F8BF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CC69-DFC0-4E18-8D19-A67DF38021E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hyperlink" Target="http://zhyz.gdzh.gov.cn/resource/picture/gifdh/dwl/fdl/z.htm" TargetMode="External"/><Relationship Id="rId9" Type="http://schemas.openxmlformats.org/officeDocument/2006/relationships/image" Target="../media/image32.gif"/><Relationship Id="rId10" Type="http://schemas.openxmlformats.org/officeDocument/2006/relationships/hyperlink" Target="http://zhyz.gdzh.gov.cn/resource/picture/gifdh/dwl/fdl/z.htm" TargetMode="External"/><Relationship Id="rId11" Type="http://schemas.openxmlformats.org/officeDocument/2006/relationships/image" Target="../media/image32.gif"/><Relationship Id="rId12" Type="http://schemas.openxmlformats.org/officeDocument/2006/relationships/hyperlink" Target="http://zhyz.gdzh.gov.cn/resource/picture/gifdh/dwl/fdl/z.htm" TargetMode="External"/><Relationship Id="rId13" Type="http://schemas.openxmlformats.org/officeDocument/2006/relationships/image" Target="../media/image32.gif"/><Relationship Id="rId14" Type="http://schemas.openxmlformats.org/officeDocument/2006/relationships/hyperlink" Target="http://zhyz.gdzh.gov.cn/resource/picture/gifdh/dwl/fdl/z.htm" TargetMode="External"/><Relationship Id="rId15" Type="http://schemas.openxmlformats.org/officeDocument/2006/relationships/image" Target="../media/image32.gi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&#26149;.swf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&#26149;.swf" TargetMode="External"/><Relationship Id="rId3" Type="http://schemas.openxmlformats.org/officeDocument/2006/relationships/hyperlink" Target="file:///&#26149;.swf" TargetMode="External"/><Relationship Id="rId4" Type="http://schemas.openxmlformats.org/officeDocument/2006/relationships/hyperlink" Target="file:///&#26149;.swf" TargetMode="External"/><Relationship Id="rId5" Type="http://schemas.openxmlformats.org/officeDocument/2006/relationships/hyperlink" Target="file:///&#26149;.swf" TargetMode="External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华文琥珀"/>
              </a:rPr>
              <a:t>朱自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556000" y="907920"/>
            <a:ext cx="38098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1219320"/>
            <a:ext cx="6048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春草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小草偷偷地从土里钻出来，嫩嫩的，绿绿的。园子里，田野里，瞧去，一大片一大片满是的。坐着，躺着，打两个滚，踢几脚球，赛几趟跑，捉几回迷藏。风轻悄悄的，草软绵绵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324000" y="-228600"/>
            <a:ext cx="9792000" cy="7315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659400" y="289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357336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坐、躺、滚、踢、跑、捉——人（喜悦、高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5640" y="2205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、绿、满、软——草（生机勃勃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838080" y="137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桃树、杏树、梨树，你不让我，我不让你，都开满了花赶趟儿。红的像火，粉的像霞，白的像雪。花里带着甜味；闭了眼，树上仿佛已经满是桃儿、杏儿、梨儿。花下成千成百的蜜蜂嗡嗡的闹着，大小的蝴蝶飞来飞去。野花遍地是：杂样儿，有名字的，没名字的，散在草丛里像眼睛，像星星，还眨呀眨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5335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5335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   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春花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403280" cy="3384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2698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 rot="5400000">
            <a:off x="354600" y="589320"/>
            <a:ext cx="1179360" cy="66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65" name=""/>
          <p:cNvSpPr/>
          <p:nvPr/>
        </p:nvSpPr>
        <p:spPr>
          <a:xfrm>
            <a:off x="1258920" y="476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773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7964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95640" y="1916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08720" y="1916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高低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70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6400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872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虚实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3500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64000" y="3716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3716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色味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58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48000" y="4581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80000" y="458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暗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方位描绘春花的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76360" y="20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92360" y="20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87640" y="3068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56000" y="3860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84360" y="479736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2000" y="515772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748520" y="4762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907920"/>
            <a:ext cx="80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，从视觉上写出了春花竟相开放的情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01560" y="1341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17840" y="17524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，从视觉上写出了春花争艳，万紫千红的景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22480" y="2205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里带着甜味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82720" y="3276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闭了眼，树上仿佛已经满是桃儿、杏儿、梨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67080" y="3716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眼前的春花想到秋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6560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春花的竟相开放，万紫千红，香味浓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4360" y="515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野花遍地是：……散在草丛里像眼睛，像星星，还眨呀眨的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70040" y="595008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，从视觉上 写出了野花闪闪发光、轻轻摆动的明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色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9280" y="2637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”从味觉上写出了花的香味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4572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4221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下成千成百的蜜蜂嗡嗡地闹着，大小的蝴蝶飞来飞去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2209680" y="228600"/>
            <a:ext cx="4496040" cy="30481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3657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3235320"/>
            <a:ext cx="6324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春风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隶书"/>
              </a:rPr>
              <a:t>        “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隶书"/>
              </a:rPr>
              <a:t>吹面不含杨柳风”，不错的，像母亲的手抚摸着你。风里带来些新翻的泥土的气息，混着青草味儿，还有各种花的香，都在微微润湿的空气里酝酿。鸟儿将巢安在繁花嫩叶当中，高兴起来了，呼朋引伴地卖弄清脆的喉咙，唱出宛转的曲子，跟轻风流水应和着。牛背上牧童的短笛，这时候也成天嘹亮地响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15240" y="-28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春风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03280" y="69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2209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3352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、草味、花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4419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流水、短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8640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3352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86400" y="4419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48000" y="54864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感觉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描绘春风柔、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5105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57200" y="533520"/>
            <a:ext cx="44197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春雨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隶书"/>
                <a:ea typeface="隶书"/>
              </a:rPr>
              <a:t>雨是最寻常的，一下就是三两天。可别恼。看，像牛毛，像花针，像细丝，密密地斜织着，人家屋顶上全笼着一层薄烟。树叶儿却绿得发亮，小草儿也青得逼你的眼。傍晚时候，上灯了，一点点黄晕的光，烘托出一片安静而和平的夜。在乡下，小路上，石桥边，有撑起伞慢慢走着的人，地里还有工作的农民，披着蓑戴着笠。他们的房屋，稀稀疏疏的，在雨里静默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373356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 rot="5400000">
            <a:off x="620280" y="97164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雨图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8" name=""/>
          <p:cNvSpPr/>
          <p:nvPr/>
        </p:nvSpPr>
        <p:spPr>
          <a:xfrm>
            <a:off x="2340000" y="404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34290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3429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细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8360" y="508464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81680" y="4419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880" y="23623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29400" y="2346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15000" y="5638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292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0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7632720" cy="4653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迎春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天上风筝渐渐多了，地上孩子也多了。城里乡下，家家户户，老老小小，也赶趟儿似的，一个个都出来了。舒活舒活筋骨，抖擞抖擞精神，各做各的一份儿事去。“一年之际在于春”，刚起头儿，有的是工夫，有的是希望。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-228600" y="-304920"/>
            <a:ext cx="9906120" cy="7429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-304920" y="-514440"/>
            <a:ext cx="10134720" cy="7601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-396720" y="-387360"/>
            <a:ext cx="10287000" cy="7696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-541440" y="-603360"/>
            <a:ext cx="10591920" cy="7905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759636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153640" cy="46306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-26280" y="1023480"/>
            <a:ext cx="20091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人迎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09480" y="495288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范围广    人数多    年龄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抓住特定情境中人的活动来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569440" cy="5977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2849760" y="14839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天像刚落地的娃娃，从头到脚都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0360" y="2133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新的，它生长着。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6680" y="537372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春天像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88440" y="2786760"/>
            <a:ext cx="53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春天像小姑娘，花枝招展的，笑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01600" y="2924280"/>
            <a:ext cx="109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走着。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41640" y="4012200"/>
            <a:ext cx="14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春天像健壮的青年，有铁一般的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91080" y="47239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膊和腰脚，领着我们上前去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38080" y="1447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1447920"/>
            <a:ext cx="6019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天像刚落地的娃娃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天像小姑娘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天像健壮的青年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72880" y="1295280"/>
            <a:ext cx="1399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新          美          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6094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赞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332000" y="765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i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如何写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0920" y="1844640"/>
            <a:ext cx="80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运用各种修辞手法，如比喻、拟人、排比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42920" y="292428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从不同的感官角度来描写，如视觉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听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触觉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47640" y="42210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按照一定的顺序来描写，如从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低、从近到远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40000" y="5589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、虚实结合，动静结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437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905120" y="1066680"/>
            <a:ext cx="579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春》是一篇诗意盎然的抒情散文。春本来是自然界的一个季节，本文用了多种修辞手法赋予它以感情和生命。作者抓住春的主要特征，虚实结合，动静结合，从不同角度，用极富表现力的语言，描绘了大地回春、万物复苏、生机勃发、草木争荣的景象，抒写出作者热爱春天、憧憬未来的欣喜心情。这是一首抒情诗，一幅风景画，更是一曲春的赞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朱自清的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&lt;&lt;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匆匆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&gt;&gt;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唤起了多少中华儿女的反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燕子去了，有再来的时候；杨柳枯了，有再青的时候；桃花谢了，有再开的时候。但是，聪明的，你告诉我，我们的日子为什么一去不复返呢？——是有人偷了他们罢：那是谁？又藏在何处呢？是他们自己逃走了罢：现在又到了哪里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我不知道他们给了我多少日子；但我的手确乎是渐渐空虚了。在默默里算着，八千多日子已经从我手中溜去；像针尖上一滴水滴在大海里，我的日子滴在时间的流里，没有声音，也没有影子。我不禁头涔涔而泪潸潸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去的尽管去了，来的尽管来着；去来的中间，又怎样地匆匆呢？早上我起来的时候，小屋里射进两三方斜斜的太阳。太阳他有脚啊，轻轻巧巧地挪移了；我也茫茫然跟着旋转。于是——洗手的时候，日子从水盆里过去；吃饭的时候，日子从饭碗里过去；默默时，便从凝然的双眼前过去。我觉察他去的匆匆了，伸出手遮挽时，他又从遮挽着的手边过去，天黑时，我躺在床上，他便伶伶俐俐地从我身上跨过，从我脚边飞去了。等我睁开眼和太阳再见，这算又溜走了一日。我掩着面叹息。但是新来的日子的影儿又开始在叹息里闪过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在逃去如飞的日子里，在千门万户的世界里的我能做些什么呢？只有徘徊罢了，只有匆匆罢了；在八千多日的匆匆里，除徘徊外，又剩些什么呢？过去的日子如轻烟，被微风吹散了，如薄雾，被初阳蒸融了；我留着些什么痕迹呢？我何曾留着像游丝样的痕迹呢？我赤裸裸来到这世界，转眼间也将赤裸裸的回去罢？但不能平的，为什么偏要白白走这一遭啊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你聪明的，告诉我，我们的日子为什么一去不复返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115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                    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《春》读后感：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今天我读了《朱自清散文精选》里的《春》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好词：欣欣然、朗润、偷偷地、嫩嫩的、绿绿的、轻悄悄、软绵绵、嗡嗡地、稀稀疏疏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好句：小草偷偷地从土地里钻出来，嫩嫩的，绿绿的。桃树、杏树、梨树，你不让我，我不让你，都开满了花赶躺儿。红的像火，粉的像霞，白的像雪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春，是多么美。我很佩服朱自清，他写的这篇文章把春天的美和那春天的灵活景物都表现了出来。没错，一日之季在于晨，一年之季在于春。再这个美丽的季节里，城里乡下，家家户户，老老少少，就像感趟似的，一个个都出来了。舒活舒活筋骨，抖擞抖擞精神，各做各的一份事去。刚起头儿，有的是工夫，又的是希望。是啊！让我们学生，在新的一年里，抱着希望，好好学习吧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544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在这个不同寻常的春天里</a:t>
            </a:r>
            <a:br>
              <a:rPr sz="3200"/>
            </a:b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新宋体"/>
              </a:rPr>
              <a:t>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新宋体"/>
              </a:rPr>
              <a:t> 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新宋体"/>
              </a:rPr>
              <a:t>  </a:t>
            </a: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新宋体"/>
              </a:rPr>
              <a:t> 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我从来是不喜欢春天的，可是，在这个不同寻常的春天里，我爱上了春天。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对于痴醉于春天的人来说，今年的春天或许有些残酷，来不及欣赏阳春三月的青草初绽，冰雪消融。梨花带雨，樱花飞扬的盛春四月又要与我们擦肩而过。像流水从指尖东去，让我这不爱春的人也倍感痛惜。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我看到路边的杨柳蜕去了冬日的刚强，几点斑驳的翠绿向人们倾诉再次获得新生的欢乐。原来他们整个冬天都在期待着重生，原来他们并不在乎重生后的再一次死亡。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    淡黄的阳光轻洒在身上，没有夏日的热情，没有秋日的悲艳，更没有冬日的感伤。温柔地抚摸着心中那小小的梦想，忘却“化作春泥更护花”的承诺；抛开“寂寞梧桐深院锁清秋”的惆怅；脱去“明朝散发弄扁舟”的桀骜华裳。春天，我是否也该沉浸在这段暂得希望里？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我好像开始依恋春天了！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    是谁在春意稍褪的时候唱起黑色的挽歌，是谁在夜幕降临的时候守望白色的村落，我的水银，我的烟火，还有我长满鸢尾的黑色山坡，这些永远不肯愈合的温柔伤痕，只有在绿树林花那一抹重比一抹的春色的感染下，才肯悄悄逝去。这是我第一次感受到，隐藏在寂寞华裳下所萌动的生命力。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    生命，总要时代轮回。我不想把红尘看破，于是我必须陷入这时代轮回，轮回里的生命，不在乎天长地久，只是那些林林总总的生机能够指引希望。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    在这个不寻常的春天里，我第一次爱上了春天…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403280" y="692280"/>
            <a:ext cx="56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下面的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水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涨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应和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薄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黄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晕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捉迷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宛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转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散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草丛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2521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预习检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24000" y="1844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08360" y="1844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1844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24360" y="1916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0000" y="3284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16360" y="321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0920" y="472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24360" y="4724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36836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740160" y="5544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这篇优美的写景抒情散文抓住春景的特点，描绘了大地春回、生机勃发的动人景象，赞美春的活力带给人以希望和力量，激励人们抓紧春光努力工作，奋发向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写作特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1042920" y="2349360"/>
            <a:ext cx="76932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观察细致，特征突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23840" y="307512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26920" y="321300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、结构严谨，顺序明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2920" y="3933720"/>
            <a:ext cx="6121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、语言生动，流畅优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42920" y="4653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、诗情画意，情景交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9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Times New Roman"/>
              </a:rPr>
              <a:t>你还知道古人笔下描写春天的诗句吗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黑体"/>
                <a:ea typeface="黑体"/>
              </a:rPr>
              <a:t>咏   柳</a:t>
            </a:r>
            <a:br>
              <a:rPr sz="6000"/>
            </a:br>
            <a:r>
              <a:rPr b="1" lang="zh-CN" sz="6000" spc="-1" strike="noStrike">
                <a:solidFill>
                  <a:srgbClr val="008000"/>
                </a:solidFill>
                <a:latin typeface="华文彩云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贺知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碧玉妆成一树高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万条垂下绿丝绦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不知细叶谁裁出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008000"/>
                </a:solidFill>
                <a:latin typeface="Times New Roman"/>
              </a:rPr>
              <a:t>二月春风似剪刀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华文彩云"/>
                <a:ea typeface="黑体"/>
              </a:rPr>
              <a:t>江南春绝句</a:t>
            </a:r>
            <a:br>
              <a:rPr sz="3600"/>
            </a:b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杜　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              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千里莺啼绿映红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水村山郭酒旗风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南朝四百八十寺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多少楼台烟雨中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9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</a:t>
            </a:r>
            <a:r>
              <a:rPr b="1" lang="zh-CN" sz="5400" spc="-1" strike="noStrike">
                <a:solidFill>
                  <a:srgbClr val="008000"/>
                </a:solidFill>
                <a:latin typeface="黑体"/>
                <a:ea typeface="黑体"/>
              </a:rPr>
              <a:t>赋得古草原离别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白居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           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离离原上草，一岁一枯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野火烧不尽，春风吹又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远芳侵古道，晴翠接荒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又送王孙去，萋萋满别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708360" y="1268280"/>
            <a:ext cx="11714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华文彩云"/>
                <a:hlinkClick r:id="rId2"/>
              </a:rPr>
              <a:t>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 rot="21476400">
            <a:off x="1549080" y="1337760"/>
            <a:ext cx="5400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人家屋顶上全笼着一层薄烟。”这“薄烟”的“薄”到底是读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báo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还是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bó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？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6200" y="21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360" y="1197000"/>
            <a:ext cx="87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“薄”是个多音字。它有三种读音：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áo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ó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ò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。我们可以这样来辨别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　　</a:t>
            </a: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读</a:t>
            </a: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bò</a:t>
            </a: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的，只有一个，即薄荷的“薄”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读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ó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，或表示量少（如“薄礼”）体弱（如“单薄”）；或表示态度不庄重、不厚道（如“刻薄”），瞧不起、看得轻（如“鄙薄”“厚今薄古”），或表示迫近、靠近（如“薄暮”“日薄西山”）；还有人的姓（如“薄一波）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　　读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áo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的，或专指扁平的东西，上下两面距离很小的（如“薄被”“薄冰”）；或指感情冷淡（如“薄情”）；或指贫瘠、不肥沃（如“薄田”）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由此可见，句中的“薄烟”的“薄”，读音是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báo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更合适。</a:t>
            </a:r>
            <a:r>
              <a:rPr b="0" lang="zh-CN" sz="2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1325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233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07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53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749400" cy="5860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427640" y="189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朱自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16765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1640" y="1197000"/>
            <a:ext cx="43988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朱自清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(1898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1948)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字佩弦，江苏省扬州市人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散文家、诗人、学者、民主战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有诗文集《踪迹》、散文集《欧游杂记》、《背影》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以及一些文艺论著，收在《朱自清文集》里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散文代表作有：《绿》、《春》、《荷塘月色》、《背影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708360" y="1268280"/>
            <a:ext cx="1171440" cy="113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华文彩云"/>
                <a:hlinkClick r:id="rId2"/>
              </a:rPr>
              <a:t>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92720" y="907920"/>
            <a:ext cx="2736720" cy="5101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春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33660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清文章思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119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盼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5240" y="1117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（总领全文，开启下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3665520" y="188604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总绘春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18080" y="241920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草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8080" y="295272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花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08360" y="350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风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18080" y="40194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雨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18080" y="4552920"/>
            <a:ext cx="28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迎春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42280" y="53020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42280" y="57592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美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99440" y="621648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力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306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二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绘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三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颂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8120" y="190512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52578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532160" y="16556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盼望着，盼望着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1828800"/>
            <a:ext cx="704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362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反复，表达了作者盼春心切的强烈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434340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拟人，宣告春天到来，表达喜春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533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 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-4343400" y="6705720"/>
            <a:ext cx="380880" cy="70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5053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风来了，春天的脚步近了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496040" cy="24084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4114800" cy="24084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152280" y="3124080"/>
            <a:ext cx="8763120" cy="3083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37480" y="6172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太阳的脸红起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25909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水涨起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42800" y="2590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山朗润起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2:45:00Z</dcterms:created>
  <dc:creator/>
  <dc:description/>
  <dc:language>en-US</dc:language>
  <cp:lastModifiedBy>SF</cp:lastModifiedBy>
  <dcterms:modified xsi:type="dcterms:W3CDTF">2011-01-14T13:25:24Z</dcterms:modified>
  <cp:revision>136</cp:revision>
  <dc:subject/>
  <dc:title>春</dc:title>
</cp:coreProperties>
</file>