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type.wav" ContentType="audio/x-wav"/>
  <Override PartName="/ppt/media/image24.jpeg" ContentType="image/jpeg"/>
  <Override PartName="/ppt/media/image23.png" ContentType="image/png"/>
  <Override PartName="/ppt/media/image30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6.png" ContentType="image/png"/>
  <Override PartName="/ppt/media/image11.jpeg" ContentType="image/jpeg"/>
  <Override PartName="/ppt/media/image31.gif" ContentType="image/gif"/>
  <Override PartName="/ppt/media/image12.jpeg" ContentType="image/jpeg"/>
  <Override PartName="/ppt/media/image13.png" ContentType="image/png"/>
  <Override PartName="/ppt/media/image33.gif" ContentType="image/gif"/>
  <Override PartName="/ppt/media/image18.jpeg" ContentType="image/jpeg"/>
  <Override PartName="/ppt/media/image34.gif" ContentType="image/gif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FEA-D92A-4168-81A9-842A15D1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9F7-355B-4EBA-884A-CD062A93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F08-A0ED-40A7-ADC7-A80DA505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EA9-5D3A-47B7-BE54-DA6EB2B7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B615-18AC-4BC1-9070-5EAC8BBE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7D8D-D994-4898-B1E1-4892FF22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EF69-6003-491D-A170-B1C18300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3532-D4E7-4CE3-B6B1-A322F007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5C22-FADA-4B32-881F-066D75CD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4FED-CC52-4F72-8B57-533F5F13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84FC-91EA-45D2-B44D-B8BEC43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36F-E8CF-4BE6-8EBD-003AF189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5CC2-A76A-4CB7-9947-B402DC9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1731-17EC-4C73-8E4C-6D2E2BA3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BBEF-2C76-4A65-8C76-DE7BE562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A051-D1DE-4799-BB24-C88528CA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6BF3-BD47-4E5E-8804-B7411552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3B81-F0C1-48D9-A5B2-B754513F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5B6E-66B3-49F4-BCD1-ED128DB8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DB536-7618-4F55-9210-E6EB62B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8B72-C688-4B9E-8D0C-3243DF5B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E852-8536-4732-BBC2-677ED2C1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128-9EAA-47FB-A993-8A633B72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E805-D557-4EAB-AD1F-6581514A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6032-7594-46F0-8316-8E202E16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5620-ABAD-4792-9279-43E5D47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AFC6-0982-4919-9D70-C7BF4F2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0CA4-64C4-4D09-A484-9ABAAD21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DE60-BADC-4681-9EDE-032A20CC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0BDF-BE68-455F-AA1C-4649301F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C70F-7A36-4C63-8CB3-50D9BCD4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B055-D00A-40DB-8EE3-EAE7765C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26A4-EC60-4F93-B295-784F9301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F86-6020-46A3-B43F-F40BC0D9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4E45-14C0-4CF1-AFB4-3AA45331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342B-835D-432C-8217-E5D692EC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A12B-E17C-42FB-9BC6-E827AD6C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61622-9707-4758-8E69-3744E52B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39FF-CD0E-4784-9F55-71AC4906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9DE5-0B2C-4CAC-9556-0E32BC6C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83AA-7E6F-4B54-B738-43DB81B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B0EC0-D60E-4A43-AE51-2417524B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FE91-2D02-4C6A-A5E9-34C99565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951-CF96-42C8-AB14-FCA9AA48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A88-34D5-42B3-942A-E84CBE8B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80F-08A5-4E36-8E1B-B66A321C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B49-4D32-49D2-8D97-8679C3F3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9D7-39C8-44A1-A198-DAEAF452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05B4-CE40-4A5B-95A1-D4A3CC2C8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0F8E-D9A6-42DA-8A7A-C86B36DCF7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BBA0-A67B-406E-BA17-0E1CBD1C47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987-823E-47B8-B79F-3BD594C48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15.xm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1136.htm" TargetMode="External"/><Relationship Id="rId3" Type="http://schemas.openxmlformats.org/officeDocument/2006/relationships/hyperlink" Target="http://baike.baidu.com/view/15168.htm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977080" y="189000"/>
            <a:ext cx="3058920" cy="6408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7440" y="8604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Arial"/>
                <a:ea typeface="华文行楷"/>
              </a:rPr>
              <a:t>春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3240" y="3363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朱自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4704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写景散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529740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吹面不寒杨柳风”，不错的，像母亲的手抚摸你。风里带来些新翻的泥土的气息，混着青草味儿，还有各种花的香，都在微微润湿的空气里酝酿。鸟儿将巢安在繁花嫩叶当中，高兴起来了，呼朋引伴地卖弄清脆的喉咙，唱出宛转的曲子，跟轻风流水应和着。牛背上牧童的短笛，这时候也成天嘹亮地响着。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0920" y="5187240"/>
            <a:ext cx="87501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雨是最寻常的，一下就是三两天。可别恼。看，像牛毛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像花针，像细丝，密密地斜织着，人家屋顶上全笼着一层 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烟。树叶儿却绿得发亮，小草儿也青得逼你的眼。傍晚 时候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上灯了，一点点黄晕的光，烘托出一片安静而和平的夜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59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548496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乡下，小路上，石桥边，有撑起伞慢慢走着的人，地里还有工作的农民，披着蓑戴着笠。他们的房屋，稀稀疏疏的，在雨里静默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73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5258880"/>
            <a:ext cx="8713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天上风筝渐渐多了，地上孩子也多了。城里乡下，家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户户，老老小小，也赶趟儿似的，一个个都出来了。舒活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活筋骨，抖擞抖擞精神，各做各的一份事去。“一年之计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于春”，刚起头儿，有的是工夫，有的是希望。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314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426240"/>
            <a:ext cx="464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春天像刚落地的娃娃，从头到脚都是新的，它生长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04640"/>
            <a:ext cx="44593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春天像小姑娘，花枝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展的，笑着，走着。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4318560"/>
            <a:ext cx="449748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春天像健壮的青年，有铁一般的胳膊和腰脚，领着我们上前去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155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思考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文章可以分为几个层次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53800" y="1092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一、盼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48720" y="29210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二、绘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59520" y="5791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三、赞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50028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6165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59280" y="1989000"/>
            <a:ext cx="309240" cy="3024360"/>
          </a:xfrm>
          <a:custGeom>
            <a:avLst/>
            <a:gdLst>
              <a:gd name="textAreaLeft" fmla="*/ 197640 w 309240"/>
              <a:gd name="textAreaRight" fmla="*/ 309600 w 30924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75560" y="5877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新、美、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295280"/>
            <a:ext cx="505080" cy="4797720"/>
          </a:xfrm>
          <a:custGeom>
            <a:avLst/>
            <a:gdLst>
              <a:gd name="textAreaLeft" fmla="*/ 0 w 505080"/>
              <a:gd name="textAreaRight" fmla="*/ 182520 w 505080"/>
              <a:gd name="textAreaTop" fmla="*/ 124920 h 4797720"/>
              <a:gd name="textAreaBottom" fmla="*/ 4672800 h 479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88000" y="220500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热爱春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赞美春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热爱自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热爱生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0400" y="17193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0400" y="354816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--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0600" y="64008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--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65160" y="494172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 action="ppaction://hlinksldjump"/>
              </a:rPr>
              <a:t>迎春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93520" y="198900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 action="ppaction://hlinksldjump"/>
              </a:rPr>
              <a:t>春草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93520" y="278136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 action="ppaction://hlinksldjump"/>
              </a:rPr>
              <a:t>春</a:t>
            </a: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 action="ppaction://hlinksldjump"/>
              </a:rPr>
              <a:t>花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65160" y="357336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6" action="ppaction://hlinksldjump"/>
              </a:rPr>
              <a:t>春风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65160" y="428940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7" action="ppaction://hlinksldjump"/>
              </a:rPr>
              <a:t>春雨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42920" y="25653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来、近——春天终于盼来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96000" y="4346640"/>
            <a:ext cx="3348000" cy="2511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059840" y="5054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楷体_GB2312"/>
              </a:rPr>
              <a:t>一、盼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1640" y="17733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反复——盼春的急切心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0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231840"/>
            <a:ext cx="4500720" cy="2411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800600" y="277920"/>
            <a:ext cx="4114800" cy="2408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280" y="3141720"/>
            <a:ext cx="8763120" cy="3083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37480" y="6172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太阳的脸红起来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00720" y="25909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水涨起来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42800" y="256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山朗润起来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00000" y="1125360"/>
            <a:ext cx="72010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总写大地回春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万物复苏的情态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一切、欣欣然、朗润、涨、红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3786120"/>
            <a:ext cx="59054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分别描绘春天的各种美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2720" y="476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二、绘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59280" y="24044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排比、拟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 rot="5400000">
            <a:off x="-800280" y="79992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33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楷体_GB2312"/>
              </a:rPr>
              <a:t>春草图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99ff33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48" name=""/>
          <p:cNvSpPr/>
          <p:nvPr/>
        </p:nvSpPr>
        <p:spPr>
          <a:xfrm>
            <a:off x="2724480" y="3049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春草有什么特点？作者从哪几方面来写草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68840" y="1393920"/>
            <a:ext cx="29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质地：嫩嫩的 （鲜嫩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软绵绵 （柔软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92040" y="22320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颜色：绿绿的 （新鲜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7400" y="281952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范围：满是的 （旺盛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64160" y="83808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长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钻     （生命力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25360" y="1268280"/>
            <a:ext cx="1033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正面描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93840" y="1341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52480" y="95040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侧面描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0" y="1523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带给人欢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91320" y="14382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93120" y="4795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27432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拟人、排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3267000"/>
            <a:ext cx="8934480" cy="3591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4896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作者介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朱自清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98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48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现代</a:t>
            </a: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散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、</a:t>
            </a: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诗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原名朱自华，            字佩弦，号秋实。原籍浙江绍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品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《匆匆》《春》《背影》              《荷塘月色》《桨声灯影里的秦淮河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散文特点：素朴缜密、清隽沉郁，以语言洗炼，文笔清丽著称，极富有真情实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郁达夫评价：“朱自清虽则是一个诗人，可是他的散文仍能满贮着那一种诗意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2278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44480" y="380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春 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148428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先写树上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3645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后写花下：昆虫喧闹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449424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再写遍地：野花种类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5734080"/>
            <a:ext cx="7488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幅“繁花似锦、昆虫喧闹、春意盎然”的图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1027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争先开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162864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色彩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鲜艳、绚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2781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果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2205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甜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00360" y="907920"/>
            <a:ext cx="358920" cy="2449800"/>
          </a:xfrm>
          <a:custGeom>
            <a:avLst/>
            <a:gdLst>
              <a:gd name="textAreaLeft" fmla="*/ 229320 w 358920"/>
              <a:gd name="textAreaRight" fmla="*/ 359280 w 35892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981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拟人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61240" y="1685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比喻、排比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0000" y="2205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实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80000" y="2781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（虚写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4581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拟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40464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花争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绝句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南宋）志南和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417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古木阴中系短篷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杖藜扶我过桥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沾衣欲湿杏花雨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吹面不寒杨柳风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7800" y="1484280"/>
            <a:ext cx="735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春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77920" y="11592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触觉：温暖、舒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引用、比喻、拟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16000" y="1469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嗅觉：芳香、使人陶醉——酝酿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77920" y="234000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④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觉：轻柔——鸟儿、牧童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拟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06920" y="3141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8a95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0920" y="39337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化无形为有形、有声、有味、有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57120" y="3933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（风唱春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0" y="380880"/>
            <a:ext cx="3809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春雨图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0" name=""/>
          <p:cNvSpPr/>
          <p:nvPr/>
        </p:nvSpPr>
        <p:spPr>
          <a:xfrm>
            <a:off x="4098240" y="0"/>
            <a:ext cx="3807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雨有什么特点？作者从哪几方面写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73280" y="1295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形：像牛毛，像花针，像细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16760" y="1828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细密，晶亮，绵长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914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3880" y="692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而细密，滋润万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86120" y="251460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：斜织       薄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03880" y="297180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轻盈   迷蒙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4005360"/>
            <a:ext cx="33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景：叶绿 草青  灯  人   房屋</a:t>
            </a:r>
            <a:r>
              <a:rPr b="1" lang="zh-CN" sz="2800" spc="-1" strike="noStrike">
                <a:solidFill>
                  <a:srgbClr val="339966"/>
                </a:solidFill>
                <a:latin typeface="Times New Roman"/>
                <a:ea typeface="黑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3440" y="46483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滋润万物，气氛和平安静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562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13720" y="573408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春雨的无比喜爱——可别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05440" y="626256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比喻  排比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3500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518148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侧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2421000"/>
            <a:ext cx="19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雨润春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75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457200"/>
            <a:ext cx="281952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c0c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c0c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宋体"/>
              </a:rPr>
              <a:t>迎春图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0c0c0"/>
                  </a:gs>
                  <a:gs pos="100000">
                    <a:srgbClr val="ff0066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21932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前几幅主要写春天的自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美，这一幅由景及人，表现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怎样的精神状态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000" y="3124080"/>
            <a:ext cx="367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人迎春：城乡 老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舒活  抖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年之计在于春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82720" y="4876920"/>
            <a:ext cx="40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颂扬奋发向上的精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未来美好生活的憧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91240" y="123840"/>
            <a:ext cx="43527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1751040" cy="2057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492360" y="3716280"/>
            <a:ext cx="3095640" cy="1911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00600" y="2928960"/>
            <a:ext cx="13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三  颂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40680" y="228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像娃娃——“新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73920" y="762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万物复苏，新的生命的开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12040" y="1628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像小姑娘——“美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93960" y="23623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百花争艳，景色动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7480" y="3141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像青年——“力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35640" y="429264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春天充满活力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91080" y="3733920"/>
            <a:ext cx="21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概括五幅春景图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含义，点明全文中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开头互相呼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37440" y="583560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个比喻依次点明了春天的成长过程。独立成段，是为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强调春的不同成长过程，抒发作者强烈赞美春的真挚感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228600" y="533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中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673280"/>
            <a:ext cx="80769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《春》描绘了花草争荣、生机勃勃的春之图画，赞美、抒写春的创造力以及春天带给人们的无限希望，从而激励人们在大好的春光里辛勤劳作、奋然前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371628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拓展问题：结尾三个比喻，顺序能否呼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4797360"/>
            <a:ext cx="8076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个比喻依次点明了春天的成长过程。独立成段，是为了强调春的不同成长过程，抒发作者强烈赞美春的真挚感情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042800" y="4817880"/>
            <a:ext cx="4007160" cy="2149560"/>
            <a:chOff x="4042800" y="4817880"/>
            <a:chExt cx="4007160" cy="2149560"/>
          </a:xfrm>
        </p:grpSpPr>
        <p:sp>
          <p:nvSpPr>
            <p:cNvPr id="328" name=""/>
            <p:cNvSpPr/>
            <p:nvPr/>
          </p:nvSpPr>
          <p:spPr>
            <a:xfrm rot="9917400">
              <a:off x="4134960" y="5283000"/>
              <a:ext cx="3822840" cy="1218960"/>
            </a:xfrm>
            <a:custGeom>
              <a:avLst/>
              <a:gdLst/>
              <a:ahLst/>
              <a:rect l="l" t="t" r="r" b="b"/>
              <a:pathLst>
                <a:path w="2408" h="768">
                  <a:moveTo>
                    <a:pt x="593" y="678"/>
                  </a:moveTo>
                  <a:cubicBezTo>
                    <a:pt x="822" y="756"/>
                    <a:pt x="1227" y="734"/>
                    <a:pt x="1529" y="731"/>
                  </a:cubicBezTo>
                  <a:cubicBezTo>
                    <a:pt x="1831" y="728"/>
                    <a:pt x="2408" y="768"/>
                    <a:pt x="2405" y="657"/>
                  </a:cubicBezTo>
                  <a:cubicBezTo>
                    <a:pt x="2402" y="546"/>
                    <a:pt x="1888" y="132"/>
                    <a:pt x="1513" y="66"/>
                  </a:cubicBezTo>
                  <a:cubicBezTo>
                    <a:pt x="1138" y="0"/>
                    <a:pt x="306" y="160"/>
                    <a:pt x="153" y="262"/>
                  </a:cubicBezTo>
                  <a:cubicBezTo>
                    <a:pt x="0" y="364"/>
                    <a:pt x="418" y="585"/>
                    <a:pt x="593" y="678"/>
                  </a:cubicBezTo>
                  <a:close/>
                </a:path>
              </a:pathLst>
            </a:custGeom>
            <a:solidFill>
              <a:srgbClr val="8a9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0400" y="5549760"/>
              <a:ext cx="3012840" cy="462960"/>
            </a:xfrm>
            <a:custGeom>
              <a:avLst/>
              <a:gdLst/>
              <a:ahLst/>
              <a:rect l="l" t="t" r="r" b="b"/>
              <a:pathLst>
                <a:path w="1898" h="292">
                  <a:moveTo>
                    <a:pt x="0" y="276"/>
                  </a:moveTo>
                  <a:cubicBezTo>
                    <a:pt x="69" y="279"/>
                    <a:pt x="322" y="292"/>
                    <a:pt x="422" y="292"/>
                  </a:cubicBezTo>
                  <a:cubicBezTo>
                    <a:pt x="522" y="292"/>
                    <a:pt x="505" y="285"/>
                    <a:pt x="600" y="276"/>
                  </a:cubicBezTo>
                  <a:cubicBezTo>
                    <a:pt x="695" y="267"/>
                    <a:pt x="867" y="269"/>
                    <a:pt x="990" y="236"/>
                  </a:cubicBezTo>
                  <a:cubicBezTo>
                    <a:pt x="1113" y="203"/>
                    <a:pt x="1188" y="120"/>
                    <a:pt x="1339" y="81"/>
                  </a:cubicBezTo>
                  <a:cubicBezTo>
                    <a:pt x="1490" y="42"/>
                    <a:pt x="1782" y="17"/>
                    <a:pt x="1898" y="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950760" y="2719440"/>
            <a:ext cx="4200840" cy="1528560"/>
          </a:xfrm>
          <a:custGeom>
            <a:avLst/>
            <a:gdLst/>
            <a:ahLst/>
            <a:rect l="l" t="t" r="r" b="b"/>
            <a:pathLst>
              <a:path w="2476" h="962">
                <a:moveTo>
                  <a:pt x="603" y="814"/>
                </a:moveTo>
                <a:cubicBezTo>
                  <a:pt x="778" y="907"/>
                  <a:pt x="908" y="962"/>
                  <a:pt x="1210" y="958"/>
                </a:cubicBezTo>
                <a:cubicBezTo>
                  <a:pt x="1512" y="954"/>
                  <a:pt x="2355" y="941"/>
                  <a:pt x="2415" y="793"/>
                </a:cubicBezTo>
                <a:cubicBezTo>
                  <a:pt x="2476" y="644"/>
                  <a:pt x="1955" y="133"/>
                  <a:pt x="1580" y="67"/>
                </a:cubicBezTo>
                <a:cubicBezTo>
                  <a:pt x="1205" y="0"/>
                  <a:pt x="326" y="274"/>
                  <a:pt x="163" y="398"/>
                </a:cubicBezTo>
                <a:cubicBezTo>
                  <a:pt x="0" y="522"/>
                  <a:pt x="428" y="721"/>
                  <a:pt x="603" y="814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990720"/>
            <a:ext cx="3017880" cy="2801880"/>
          </a:xfrm>
          <a:custGeom>
            <a:avLst/>
            <a:gdLst/>
            <a:ahLst/>
            <a:rect l="l" t="t" r="r" b="b"/>
            <a:pathLst>
              <a:path w="1779" h="1764">
                <a:moveTo>
                  <a:pt x="229" y="549"/>
                </a:moveTo>
                <a:cubicBezTo>
                  <a:pt x="278" y="711"/>
                  <a:pt x="293" y="788"/>
                  <a:pt x="513" y="979"/>
                </a:cubicBezTo>
                <a:cubicBezTo>
                  <a:pt x="733" y="1170"/>
                  <a:pt x="1372" y="1764"/>
                  <a:pt x="1546" y="1697"/>
                </a:cubicBezTo>
                <a:cubicBezTo>
                  <a:pt x="1720" y="1630"/>
                  <a:pt x="1779" y="860"/>
                  <a:pt x="1558" y="578"/>
                </a:cubicBezTo>
                <a:cubicBezTo>
                  <a:pt x="1337" y="296"/>
                  <a:pt x="442" y="10"/>
                  <a:pt x="221" y="5"/>
                </a:cubicBezTo>
                <a:cubicBezTo>
                  <a:pt x="0" y="0"/>
                  <a:pt x="227" y="436"/>
                  <a:pt x="229" y="549"/>
                </a:cubicBez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152280"/>
            <a:ext cx="1751040" cy="3487680"/>
          </a:xfrm>
          <a:custGeom>
            <a:avLst/>
            <a:gdLst/>
            <a:ahLst/>
            <a:rect l="l" t="t" r="r" b="b"/>
            <a:pathLst>
              <a:path w="1033" h="2195">
                <a:moveTo>
                  <a:pt x="153" y="637"/>
                </a:moveTo>
                <a:cubicBezTo>
                  <a:pt x="37" y="794"/>
                  <a:pt x="0" y="964"/>
                  <a:pt x="7" y="1221"/>
                </a:cubicBezTo>
                <a:cubicBezTo>
                  <a:pt x="14" y="1478"/>
                  <a:pt x="38" y="2169"/>
                  <a:pt x="193" y="2182"/>
                </a:cubicBezTo>
                <a:cubicBezTo>
                  <a:pt x="348" y="2195"/>
                  <a:pt x="841" y="1642"/>
                  <a:pt x="937" y="1297"/>
                </a:cubicBezTo>
                <a:cubicBezTo>
                  <a:pt x="1033" y="952"/>
                  <a:pt x="900" y="220"/>
                  <a:pt x="769" y="110"/>
                </a:cubicBezTo>
                <a:cubicBezTo>
                  <a:pt x="638" y="0"/>
                  <a:pt x="281" y="527"/>
                  <a:pt x="153" y="637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38480" y="1295280"/>
            <a:ext cx="3532320" cy="2595600"/>
          </a:xfrm>
          <a:custGeom>
            <a:avLst/>
            <a:gdLst/>
            <a:ahLst/>
            <a:rect l="l" t="t" r="r" b="b"/>
            <a:pathLst>
              <a:path w="2083" h="1634">
                <a:moveTo>
                  <a:pt x="1228" y="288"/>
                </a:moveTo>
                <a:cubicBezTo>
                  <a:pt x="1036" y="342"/>
                  <a:pt x="1025" y="388"/>
                  <a:pt x="833" y="586"/>
                </a:cubicBezTo>
                <a:cubicBezTo>
                  <a:pt x="641" y="784"/>
                  <a:pt x="0" y="1337"/>
                  <a:pt x="75" y="1476"/>
                </a:cubicBezTo>
                <a:cubicBezTo>
                  <a:pt x="150" y="1615"/>
                  <a:pt x="952" y="1634"/>
                  <a:pt x="1285" y="1420"/>
                </a:cubicBezTo>
                <a:cubicBezTo>
                  <a:pt x="1618" y="1206"/>
                  <a:pt x="2083" y="378"/>
                  <a:pt x="2074" y="189"/>
                </a:cubicBezTo>
                <a:cubicBezTo>
                  <a:pt x="2065" y="0"/>
                  <a:pt x="1404" y="268"/>
                  <a:pt x="1228" y="288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3200400"/>
            <a:ext cx="4287600" cy="1549440"/>
          </a:xfrm>
          <a:custGeom>
            <a:avLst/>
            <a:gdLst/>
            <a:ahLst/>
            <a:rect l="l" t="t" r="r" b="b"/>
            <a:pathLst>
              <a:path w="2528" h="975">
                <a:moveTo>
                  <a:pt x="1770" y="79"/>
                </a:moveTo>
                <a:cubicBezTo>
                  <a:pt x="1575" y="0"/>
                  <a:pt x="1511" y="13"/>
                  <a:pt x="1224" y="29"/>
                </a:cubicBezTo>
                <a:cubicBezTo>
                  <a:pt x="937" y="45"/>
                  <a:pt x="92" y="27"/>
                  <a:pt x="46" y="176"/>
                </a:cubicBezTo>
                <a:cubicBezTo>
                  <a:pt x="0" y="325"/>
                  <a:pt x="560" y="867"/>
                  <a:pt x="951" y="921"/>
                </a:cubicBezTo>
                <a:cubicBezTo>
                  <a:pt x="1341" y="975"/>
                  <a:pt x="2255" y="642"/>
                  <a:pt x="2392" y="501"/>
                </a:cubicBezTo>
                <a:cubicBezTo>
                  <a:pt x="2528" y="361"/>
                  <a:pt x="1900" y="167"/>
                  <a:pt x="1770" y="79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30760" y="4444920"/>
            <a:ext cx="698400" cy="2438280"/>
            <a:chOff x="3830760" y="4444920"/>
            <a:chExt cx="698400" cy="2438280"/>
          </a:xfrm>
        </p:grpSpPr>
        <p:sp>
          <p:nvSpPr>
            <p:cNvPr id="336" name=""/>
            <p:cNvSpPr/>
            <p:nvPr/>
          </p:nvSpPr>
          <p:spPr>
            <a:xfrm>
              <a:off x="3830760" y="4444920"/>
              <a:ext cx="546120" cy="2438280"/>
            </a:xfrm>
            <a:custGeom>
              <a:avLst/>
              <a:gdLst/>
              <a:ahLst/>
              <a:rect l="l" t="t" r="r" b="b"/>
              <a:pathLst>
                <a:path w="344" h="1536">
                  <a:moveTo>
                    <a:pt x="344" y="0"/>
                  </a:moveTo>
                  <a:cubicBezTo>
                    <a:pt x="180" y="276"/>
                    <a:pt x="16" y="552"/>
                    <a:pt x="8" y="768"/>
                  </a:cubicBezTo>
                  <a:cubicBezTo>
                    <a:pt x="0" y="984"/>
                    <a:pt x="248" y="1168"/>
                    <a:pt x="296" y="1296"/>
                  </a:cubicBezTo>
                  <a:cubicBezTo>
                    <a:pt x="344" y="1424"/>
                    <a:pt x="296" y="1496"/>
                    <a:pt x="296" y="1536"/>
                  </a:cubicBezTo>
                </a:path>
              </a:pathLst>
            </a:custGeom>
            <a:noFill/>
            <a:ln w="190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83040" y="4444920"/>
              <a:ext cx="546120" cy="2438280"/>
            </a:xfrm>
            <a:custGeom>
              <a:avLst/>
              <a:gdLst/>
              <a:ahLst/>
              <a:rect l="l" t="t" r="r" b="b"/>
              <a:pathLst>
                <a:path w="344" h="1536">
                  <a:moveTo>
                    <a:pt x="344" y="0"/>
                  </a:moveTo>
                  <a:cubicBezTo>
                    <a:pt x="180" y="276"/>
                    <a:pt x="16" y="552"/>
                    <a:pt x="8" y="768"/>
                  </a:cubicBezTo>
                  <a:cubicBezTo>
                    <a:pt x="0" y="984"/>
                    <a:pt x="248" y="1168"/>
                    <a:pt x="296" y="1296"/>
                  </a:cubicBezTo>
                  <a:cubicBezTo>
                    <a:pt x="344" y="1424"/>
                    <a:pt x="296" y="1496"/>
                    <a:pt x="296" y="1536"/>
                  </a:cubicBezTo>
                </a:path>
              </a:pathLst>
            </a:custGeom>
            <a:noFill/>
            <a:ln w="190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28600" y="4724280"/>
            <a:ext cx="3822480" cy="1394640"/>
            <a:chOff x="228600" y="4724280"/>
            <a:chExt cx="3822480" cy="1394640"/>
          </a:xfrm>
        </p:grpSpPr>
        <p:sp>
          <p:nvSpPr>
            <p:cNvPr id="339" name=""/>
            <p:cNvSpPr/>
            <p:nvPr/>
          </p:nvSpPr>
          <p:spPr>
            <a:xfrm>
              <a:off x="228600" y="4724280"/>
              <a:ext cx="3822480" cy="1219320"/>
            </a:xfrm>
            <a:custGeom>
              <a:avLst/>
              <a:gdLst/>
              <a:ahLst/>
              <a:rect l="l" t="t" r="r" b="b"/>
              <a:pathLst>
                <a:path w="2408" h="768">
                  <a:moveTo>
                    <a:pt x="593" y="678"/>
                  </a:moveTo>
                  <a:cubicBezTo>
                    <a:pt x="822" y="756"/>
                    <a:pt x="1227" y="734"/>
                    <a:pt x="1529" y="731"/>
                  </a:cubicBezTo>
                  <a:cubicBezTo>
                    <a:pt x="1831" y="728"/>
                    <a:pt x="2408" y="768"/>
                    <a:pt x="2405" y="657"/>
                  </a:cubicBezTo>
                  <a:cubicBezTo>
                    <a:pt x="2402" y="546"/>
                    <a:pt x="1888" y="132"/>
                    <a:pt x="1513" y="66"/>
                  </a:cubicBezTo>
                  <a:cubicBezTo>
                    <a:pt x="1138" y="0"/>
                    <a:pt x="306" y="160"/>
                    <a:pt x="153" y="262"/>
                  </a:cubicBezTo>
                  <a:cubicBezTo>
                    <a:pt x="0" y="364"/>
                    <a:pt x="418" y="585"/>
                    <a:pt x="593" y="678"/>
                  </a:cubicBezTo>
                  <a:close/>
                </a:path>
              </a:pathLst>
            </a:custGeom>
            <a:solidFill>
              <a:srgbClr val="8a9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1738400">
              <a:off x="761400" y="5257440"/>
              <a:ext cx="3013200" cy="463680"/>
            </a:xfrm>
            <a:custGeom>
              <a:avLst/>
              <a:gdLst/>
              <a:ahLst/>
              <a:rect l="l" t="t" r="r" b="b"/>
              <a:pathLst>
                <a:path w="1898" h="292">
                  <a:moveTo>
                    <a:pt x="0" y="276"/>
                  </a:moveTo>
                  <a:cubicBezTo>
                    <a:pt x="69" y="279"/>
                    <a:pt x="322" y="292"/>
                    <a:pt x="422" y="292"/>
                  </a:cubicBezTo>
                  <a:cubicBezTo>
                    <a:pt x="522" y="292"/>
                    <a:pt x="505" y="285"/>
                    <a:pt x="600" y="276"/>
                  </a:cubicBezTo>
                  <a:cubicBezTo>
                    <a:pt x="695" y="267"/>
                    <a:pt x="867" y="269"/>
                    <a:pt x="990" y="236"/>
                  </a:cubicBezTo>
                  <a:cubicBezTo>
                    <a:pt x="1113" y="203"/>
                    <a:pt x="1188" y="120"/>
                    <a:pt x="1339" y="81"/>
                  </a:cubicBezTo>
                  <a:cubicBezTo>
                    <a:pt x="1490" y="42"/>
                    <a:pt x="1782" y="17"/>
                    <a:pt x="1898" y="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657600" y="2743200"/>
            <a:ext cx="1828800" cy="175248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638680" y="3429000"/>
            <a:ext cx="1524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迎春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558760" y="1749960"/>
            <a:ext cx="1380600" cy="1452960"/>
            <a:chOff x="5558760" y="1749960"/>
            <a:chExt cx="1380600" cy="1452960"/>
          </a:xfrm>
        </p:grpSpPr>
        <p:sp>
          <p:nvSpPr>
            <p:cNvPr id="344" name=""/>
            <p:cNvSpPr txBox="1"/>
            <p:nvPr/>
          </p:nvSpPr>
          <p:spPr>
            <a:xfrm rot="5371200">
              <a:off x="6210720" y="1865880"/>
              <a:ext cx="838440" cy="611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ccffff"/>
                    </a:solidFill>
                    <a:miter/>
                  </a:ln>
                  <a:gradFill rotWithShape="0">
                    <a:gsLst>
                      <a:gs pos="0">
                        <a:srgbClr val="ccccff"/>
                      </a:gs>
                      <a:gs pos="100000">
                        <a:srgbClr val="ccccff"/>
                      </a:gs>
                    </a:gsLst>
                    <a:lin ang="8100000"/>
                  </a:gradFill>
                  <a:latin typeface="隶书"/>
                </a:rPr>
                <a:t>春</a:t>
              </a:r>
              <a:endParaRPr b="1" lang="en-US" sz="2400" spc="1" strike="noStrike">
                <a:ln w="324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8100000"/>
                </a:gradFill>
                <a:latin typeface="隶书"/>
                <a:ea typeface="隶书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 rot="5371200">
              <a:off x="5448600" y="2475720"/>
              <a:ext cx="838080" cy="610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ccffff"/>
                    </a:solidFill>
                    <a:miter/>
                  </a:ln>
                  <a:gradFill rotWithShape="0">
                    <a:gsLst>
                      <a:gs pos="0">
                        <a:srgbClr val="ccccff"/>
                      </a:gs>
                      <a:gs pos="100000">
                        <a:srgbClr val="ccccff"/>
                      </a:gs>
                    </a:gsLst>
                    <a:lin ang="8100000"/>
                  </a:gradFill>
                  <a:latin typeface="隶书"/>
                </a:rPr>
                <a:t>雨</a:t>
              </a:r>
              <a:endParaRPr b="1" lang="en-US" sz="2400" spc="1" strike="noStrike">
                <a:ln w="324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8100000"/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339800" y="835560"/>
            <a:ext cx="1075680" cy="1757880"/>
            <a:chOff x="4339800" y="835560"/>
            <a:chExt cx="1075680" cy="1757880"/>
          </a:xfrm>
        </p:grpSpPr>
        <p:sp>
          <p:nvSpPr>
            <p:cNvPr id="347" name=""/>
            <p:cNvSpPr txBox="1"/>
            <p:nvPr/>
          </p:nvSpPr>
          <p:spPr>
            <a:xfrm rot="5371200">
              <a:off x="4686840" y="951480"/>
              <a:ext cx="838440" cy="611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33cccc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50000">
                        <a:srgbClr val="ffebfa"/>
                      </a:gs>
                      <a:gs pos="100000">
                        <a:srgbClr val="5e9eff"/>
                      </a:gs>
                    </a:gsLst>
                    <a:lin ang="13500000"/>
                  </a:gradFill>
                  <a:latin typeface="隶书"/>
                </a:rPr>
                <a:t>春</a:t>
              </a:r>
              <a:endParaRPr b="1" lang="en-US" sz="2400" spc="1" strike="noStrike">
                <a:ln w="324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13500000"/>
                </a:gradFill>
                <a:latin typeface="隶书"/>
                <a:ea typeface="隶书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 rot="5371200">
              <a:off x="4229640" y="1865880"/>
              <a:ext cx="838440" cy="611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ccffff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50000">
                        <a:srgbClr val="ffebfa"/>
                      </a:gs>
                      <a:gs pos="100000">
                        <a:srgbClr val="5e9eff"/>
                      </a:gs>
                    </a:gsLst>
                    <a:lin ang="8100000"/>
                  </a:gradFill>
                  <a:latin typeface="隶书"/>
                </a:rPr>
                <a:t>风</a:t>
              </a:r>
              <a:endParaRPr b="1" lang="en-US" sz="2400" spc="1" strike="noStrike">
                <a:ln w="324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586960" y="1292760"/>
            <a:ext cx="1228320" cy="1605240"/>
            <a:chOff x="2586960" y="1292760"/>
            <a:chExt cx="1228320" cy="1605240"/>
          </a:xfrm>
        </p:grpSpPr>
        <p:sp>
          <p:nvSpPr>
            <p:cNvPr id="350" name=""/>
            <p:cNvSpPr txBox="1"/>
            <p:nvPr/>
          </p:nvSpPr>
          <p:spPr>
            <a:xfrm rot="5371200">
              <a:off x="2476440" y="1409040"/>
              <a:ext cx="838440" cy="610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ffff99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春</a:t>
              </a:r>
              <a:endParaRPr b="1" lang="en-US" sz="2400" spc="1" strike="noStrike">
                <a:ln w="324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  <a:ea typeface="隶书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 rot="5371200">
              <a:off x="3086640" y="2170800"/>
              <a:ext cx="838080" cy="611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花</a:t>
              </a:r>
              <a:endParaRPr b="1" lang="en-US" sz="2400" spc="1" strike="noStrike">
                <a:ln w="32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977480" y="3121560"/>
            <a:ext cx="1456200" cy="995760"/>
            <a:chOff x="1977480" y="3121560"/>
            <a:chExt cx="1456200" cy="995760"/>
          </a:xfrm>
        </p:grpSpPr>
        <p:sp>
          <p:nvSpPr>
            <p:cNvPr id="353" name=""/>
            <p:cNvSpPr txBox="1"/>
            <p:nvPr/>
          </p:nvSpPr>
          <p:spPr>
            <a:xfrm rot="5371200">
              <a:off x="1867320" y="3237480"/>
              <a:ext cx="838440" cy="611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99cc00"/>
                    </a:solidFill>
                    <a:miter/>
                  </a:ln>
                  <a:gradFill rotWithShape="0">
                    <a:gsLst>
                      <a:gs pos="0">
                        <a:srgbClr val="156b13"/>
                      </a:gs>
                      <a:gs pos="50000">
                        <a:srgbClr val="ddebcf"/>
                      </a:gs>
                      <a:gs pos="100000">
                        <a:srgbClr val="156b13"/>
                      </a:gs>
                    </a:gsLst>
                    <a:lin ang="13500000"/>
                  </a:gradFill>
                  <a:latin typeface="隶书"/>
                </a:rPr>
                <a:t>春</a:t>
              </a:r>
              <a:endParaRPr b="1" lang="en-US" sz="2400" spc="1" strike="noStrike">
                <a:ln w="324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13500000"/>
                </a:gradFill>
                <a:latin typeface="隶书"/>
                <a:ea typeface="隶书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 rot="5371200">
              <a:off x="2705400" y="3390120"/>
              <a:ext cx="838080" cy="610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99cc00"/>
                    </a:solidFill>
                    <a:miter/>
                  </a:ln>
                  <a:gradFill rotWithShape="0">
                    <a:gsLst>
                      <a:gs pos="0">
                        <a:srgbClr val="156b13"/>
                      </a:gs>
                      <a:gs pos="50000">
                        <a:srgbClr val="ddebcf"/>
                      </a:gs>
                      <a:gs pos="100000">
                        <a:srgbClr val="156b13"/>
                      </a:gs>
                    </a:gsLst>
                    <a:lin ang="8100000"/>
                  </a:gradFill>
                  <a:latin typeface="隶书"/>
                </a:rPr>
                <a:t>草</a:t>
              </a:r>
              <a:endParaRPr b="1" lang="en-US" sz="2400" spc="1" strike="noStrike">
                <a:ln w="324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8100000"/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368000" y="4950360"/>
            <a:ext cx="1456560" cy="843480"/>
            <a:chOff x="1368000" y="4950360"/>
            <a:chExt cx="1456560" cy="843480"/>
          </a:xfrm>
        </p:grpSpPr>
        <p:sp>
          <p:nvSpPr>
            <p:cNvPr id="356" name=""/>
            <p:cNvSpPr txBox="1"/>
            <p:nvPr/>
          </p:nvSpPr>
          <p:spPr>
            <a:xfrm rot="5371200">
              <a:off x="1257840" y="5066280"/>
              <a:ext cx="838440" cy="611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ffcc00"/>
                    </a:solidFill>
                    <a:miter/>
                  </a:ln>
                  <a:gradFill rotWithShape="0">
                    <a:gsLst>
                      <a:gs pos="0">
                        <a:srgbClr val="f8b049"/>
                      </a:gs>
                      <a:gs pos="50000">
                        <a:srgbClr val="fc9fcb"/>
                      </a:gs>
                      <a:gs pos="100000">
                        <a:srgbClr val="f8b049"/>
                      </a:gs>
                    </a:gsLst>
                    <a:lin ang="13500000"/>
                  </a:gradFill>
                  <a:latin typeface="隶书"/>
                </a:rPr>
                <a:t>盼</a:t>
              </a:r>
              <a:endParaRPr b="1" lang="en-US" sz="2400" spc="1" strike="noStrike">
                <a:ln w="32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13500000"/>
                </a:gradFill>
                <a:latin typeface="隶书"/>
                <a:ea typeface="隶书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 rot="5371200">
              <a:off x="2095920" y="5066280"/>
              <a:ext cx="838440" cy="611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ffcc00"/>
                    </a:solidFill>
                    <a:miter/>
                  </a:ln>
                  <a:gradFill rotWithShape="0">
                    <a:gsLst>
                      <a:gs pos="0">
                        <a:srgbClr val="f8b049"/>
                      </a:gs>
                      <a:gs pos="50000">
                        <a:srgbClr val="fc9fcb"/>
                      </a:gs>
                      <a:gs pos="100000">
                        <a:srgbClr val="f8b049"/>
                      </a:gs>
                    </a:gsLst>
                    <a:lin ang="8100000"/>
                  </a:gradFill>
                  <a:latin typeface="隶书"/>
                </a:rPr>
                <a:t>春</a:t>
              </a:r>
              <a:endParaRPr b="1" lang="en-US" sz="2400" spc="1" strike="noStrike">
                <a:ln w="32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8100000"/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254200" y="5331600"/>
            <a:ext cx="1608480" cy="1071720"/>
            <a:chOff x="5254200" y="5331600"/>
            <a:chExt cx="1608480" cy="1071720"/>
          </a:xfrm>
        </p:grpSpPr>
        <p:sp>
          <p:nvSpPr>
            <p:cNvPr id="359" name=""/>
            <p:cNvSpPr txBox="1"/>
            <p:nvPr/>
          </p:nvSpPr>
          <p:spPr>
            <a:xfrm rot="5371200">
              <a:off x="5144040" y="5676120"/>
              <a:ext cx="838080" cy="611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ffff99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13500000"/>
                  </a:gradFill>
                  <a:latin typeface="隶书"/>
                </a:rPr>
                <a:t>颂</a:t>
              </a:r>
              <a:endParaRPr b="1" lang="en-US" sz="2400" spc="1" strike="noStrike">
                <a:ln w="324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13500000"/>
                </a:gradFill>
                <a:latin typeface="隶书"/>
                <a:ea typeface="隶书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 rot="5371200">
              <a:off x="6134400" y="5447520"/>
              <a:ext cx="838080" cy="610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3240">
                    <a:solidFill>
                      <a:srgbClr val="ffff99"/>
                    </a:solidFill>
                    <a:miter/>
                  </a:ln>
                  <a:gradFill rotWithShape="0">
                    <a:gsLst>
                      <a:gs pos="0">
                        <a:srgbClr val="fee7f2"/>
                      </a:gs>
                      <a:gs pos="50000">
                        <a:srgbClr val="fbeac7"/>
                      </a:gs>
                      <a:gs pos="100000">
                        <a:srgbClr val="fee7f2"/>
                      </a:gs>
                    </a:gsLst>
                    <a:lin ang="13500000"/>
                  </a:gradFill>
                  <a:latin typeface="隶书"/>
                </a:rPr>
                <a:t>春</a:t>
              </a:r>
              <a:endParaRPr b="1" lang="en-US" sz="2400" spc="1" strike="noStrike">
                <a:ln w="324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ee7f2"/>
                    </a:gs>
                    <a:gs pos="50000">
                      <a:srgbClr val="fbeac7"/>
                    </a:gs>
                    <a:gs pos="100000">
                      <a:srgbClr val="fee7f2"/>
                    </a:gs>
                  </a:gsLst>
                  <a:lin ang="13500000"/>
                </a:gradFill>
                <a:latin typeface="隶书"/>
                <a:ea typeface="隶书"/>
              </a:endParaRPr>
            </a:p>
          </p:txBody>
        </p:sp>
      </p:grpSp>
      <p:sp>
        <p:nvSpPr>
          <p:cNvPr id="361" name=""/>
          <p:cNvSpPr txBox="1"/>
          <p:nvPr/>
        </p:nvSpPr>
        <p:spPr>
          <a:xfrm>
            <a:off x="3886200" y="3276720"/>
            <a:ext cx="1447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隶书"/>
              </a:rPr>
              <a:t>绘春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隶书"/>
              <a:ea typeface="隶书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304920"/>
            <a:ext cx="18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小结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0" y="1197000"/>
            <a:ext cx="2124000" cy="17287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7524720" y="105264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6481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重点字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077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朗润       嫩绿        抚摸         窠巢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清脆       喉咙        婉转         应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嘹亮       烘托         静默        抖   擞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披蓑戴笠                健壮       酝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4920" y="103824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k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8292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hō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573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dǒu  sǒ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16720" y="2349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yìng  h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234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zhuǎ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94172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yùn nià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941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su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13080" y="501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l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10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rù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1052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f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97960" y="5490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朱自清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98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～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48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：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547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字佩弦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号秋实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原籍浙江绍兴，生于江苏东海。他是五四以来我国最优秀的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散文作家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之一，也是著名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诗人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学者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长期任清华大学教授，一生著述甚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代表作有</a:t>
            </a: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《春》、《背影》、《荷塘月色》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等著名散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012000" y="1501920"/>
            <a:ext cx="29685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20600" y="287280"/>
            <a:ext cx="246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华文行楷"/>
              </a:rPr>
              <a:t>含有“春”的古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71640" y="1143000"/>
            <a:ext cx="741672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眠不觉晓，处处闻啼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忽如一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风来，千树万树梨花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风得意马蹄疾，一日看尽长安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小楼一夜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风，深巷明朝卖杏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几处早莺争暖树，谁家新燕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日出江花红胜火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来江水绿如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竹外桃花三两枝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江水暖鸭先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江潮水连海平，海上明月共潮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色满园关不住，一枝红杏出墙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好雨知时节，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乃发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红豆生南国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楷体"/>
              </a:rPr>
              <a:t>春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楷体"/>
              </a:rPr>
              <a:t>来发几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2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7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2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7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2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7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2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7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2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419120" y="304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黑体"/>
              </a:rPr>
              <a:t>本文写作特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14680" y="836640"/>
            <a:ext cx="50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观察细致，描述生动真切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，注意抓住富有特征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春天的景物进行具体生动的描写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78080" y="2492280"/>
            <a:ext cx="533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诗情画意相融合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。没有直接写自己对春天的热爱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赞美之情，而是用抒情的画笔，赋予各种景物鲜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的感情色彩，情融于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78080" y="3933720"/>
            <a:ext cx="533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语言朴实清新，准确生动，句式富于变化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，在散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中大量使用对称或排比的短语式短句，既流畅又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齐。再加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叠音词和口语词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的使用，使文章活泼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自然，充满诗情画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8000" y="1052640"/>
            <a:ext cx="60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黑体"/>
              </a:rPr>
              <a:t>如何准确形象描述景物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55400" y="213372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、认真观察，力求细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87280" y="2924280"/>
            <a:ext cx="73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、可以从景物的形态，颜色，声音，味道，性质等着笔，调动人的视觉，听觉，嗅觉，味觉，触觉来发现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26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71640" y="49417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、可以实写，也可以虚写（比如通过联想，想象写景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8600" y="26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2360" y="1989000"/>
            <a:ext cx="68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、适当运用一些修辞手法，比如比喻，拟人，排比等增加文章的文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08520" y="1077840"/>
            <a:ext cx="16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、要按照一定的顺序安排景物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3789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课外练笔——请你模仿春景图的写法，写一幅春水图或春山图或春树图。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7651800" cy="5035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79280" y="5985000"/>
            <a:ext cx="87336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723920" y="6092280"/>
            <a:ext cx="354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盼望着，盼望着，东风来了，春天的脚步近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066680" y="456480"/>
            <a:ext cx="6786000" cy="703440"/>
            <a:chOff x="1066680" y="456480"/>
            <a:chExt cx="6786000" cy="703440"/>
          </a:xfrm>
        </p:grpSpPr>
        <p:sp>
          <p:nvSpPr>
            <p:cNvPr id="188" name=""/>
            <p:cNvSpPr/>
            <p:nvPr/>
          </p:nvSpPr>
          <p:spPr>
            <a:xfrm>
              <a:off x="1066680" y="456480"/>
              <a:ext cx="8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41160" y="456480"/>
              <a:ext cx="81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.   .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19720" y="4564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. 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45600" y="45648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9280" y="5462280"/>
            <a:ext cx="9144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切都像刚睡醒的样子，欣欣然张开了眼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山朗润起来了，水涨起来了，太阳的脸红起来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4920" y="533520"/>
            <a:ext cx="8305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360360" y="-28080"/>
            <a:ext cx="9828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草偷偷地从土里钻出来，嫩嫩的，绿绿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园子里，田野里，瞧去，一大片一大片满是 的。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着，躺着，打两个滚，踢几脚球，赛几趟跑，捉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回迷藏。风轻悄悄的，草软绵绵的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72520" y="5084640"/>
            <a:ext cx="142884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桃树、杏树、梨树，你不让我，我不让你，都开满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花赶趟儿。红的像火，粉的像霞，白的像雪。花里带着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味儿；闭了眼，树上仿佛已经满是桃儿、杏儿、梨儿。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下成千成百的蜜蜂嗡嗡地闹着，大小的蝴蝶飞来飞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640" y="5893920"/>
            <a:ext cx="9126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野花遍地是：杂样儿，有名字的，没名字的，散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草丛里，像眼睛，像星星，还眨呀眨的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3:08:58Z</dcterms:created>
  <dc:creator>china</dc:creator>
  <dc:description/>
  <dc:language>en-US</dc:language>
  <cp:lastModifiedBy>微软用户</cp:lastModifiedBy>
  <dcterms:modified xsi:type="dcterms:W3CDTF">2018-09-12T05:53:18Z</dcterms:modified>
  <cp:revision>69</cp:revision>
  <dc:subject/>
  <dc:title>PowerPoint 演示文稿</dc:title>
</cp:coreProperties>
</file>