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4.png" ContentType="image/png"/>
  <Override PartName="/ppt/media/image27.png" ContentType="image/png"/>
  <Override PartName="/ppt/media/image21.jpeg" ContentType="image/jpeg"/>
  <Override PartName="/ppt/media/chimes.wav" ContentType="audio/x-wav"/>
  <Override PartName="/ppt/media/image16.jpeg" ContentType="image/jpeg"/>
  <Override PartName="/ppt/media/image9.gif" ContentType="image/gif"/>
  <Override PartName="/ppt/media/type.wav" ContentType="audio/x-wav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10.gif" ContentType="image/gif"/>
  <Override PartName="/ppt/media/image5.jpeg" ContentType="image/jpeg"/>
  <Override PartName="/ppt/media/voltage.wav" ContentType="audio/x-wav"/>
  <Override PartName="/ppt/media/image3.jpeg" ContentType="image/jpeg"/>
  <Override PartName="/ppt/media/image24.jpeg" ContentType="image/jpeg"/>
  <Override PartName="/ppt/media/image2.png" ContentType="image/png"/>
  <Override PartName="/ppt/media/image25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13.png" ContentType="image/png"/>
  <Override PartName="/ppt/media/image20.gif" ContentType="image/gif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A91-1B4E-4371-954F-18D58349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8AF-52C3-4206-A35A-5365952A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75C04-B940-4965-8096-E16571F4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091AC-BA87-43FE-93C6-144B2155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7BB16-3E64-475C-8D7A-FC730DA1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8FE3E-84EF-40FD-BDEF-7BABBBD6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DA221-7EF5-447A-B232-EDA8CEB5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55E90-EF9F-4105-80F2-FC32FA8A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DDD74-2D62-4196-91F6-39BB231C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19113-BF28-43C7-B77B-8BA52BB0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15D03-B8D6-40D0-BE78-A165A2B4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0E2C0-6657-4FAA-9834-F4F87CAA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746-7492-4C09-9D7C-C914A627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88E31-861A-46EC-954D-AE08FEAC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C25D1-210D-403A-9A06-6AD6CFF3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96695-8D2B-4C75-959E-263F8699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91002-F3B2-4D73-A169-9F928980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8B5C3-3C03-4C9E-849C-FD612EB2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147BA-80E8-4C91-ACFE-BA15DE2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16B0F-A1D6-4ADA-A348-71792C3F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7BE3C-4CBA-4B76-8A3A-ADD48386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16820-B82A-469A-B5C8-A2200326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88AD3-0E61-47B2-B180-74B982EA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5C1-0745-4553-A66A-68FC2007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6ECD5-35CE-436F-895D-1AF7282A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276EE-0F17-4C7E-B00E-4DC7A43E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AACEF-2361-4759-AB43-0807E214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68A8A-A5A6-4BC6-9CE0-23031525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AC413-CA5D-478F-B557-A79685FA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322D3-288F-4320-8BD8-EAB7422F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B78DF-A863-4E3C-98E7-93E651F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A6567-BD4B-4D5C-A04A-8854A6F4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B860E-8E12-4B64-A1F9-5A530ACC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C1F52-EB43-4A37-9112-7E809E8F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40A0-0CD5-45A6-8567-0B4D4AC0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85D4E-512C-40CD-BDE9-72719749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2F3A8-414F-4ED9-8BD6-8BF6317A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C9600-E57F-4778-AE98-3EA08146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457AD-274A-4BB9-A09F-B25FF555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4DE29-86D5-425D-A07C-05B00820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4DCB7-34EF-4ACB-A4E7-08E95668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85F33-11AB-45FC-9939-079AD9FE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455EF-77C5-4022-B164-DD943264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D4F35-1DDB-4188-B406-A125498E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0F4FB-3454-445A-BB45-A476BEF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DAB9-C280-4A13-9F03-FC54327C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54E9A-6161-4247-AD18-45C16F7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6AA52-6093-4399-8905-AC294A16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BDF4E-42E0-4B27-855D-F5B917E0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D1300-3C01-4348-91C6-5BF418BE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6DFAA-E2F0-45AC-BEDC-A566FC14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15355-33C2-4C81-BEF3-E53C7E7F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4D490-B310-4F17-B4BC-6C08E3E8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BF9E2-9B15-48BF-AA6D-9A07FF6A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EC4D6-D0A1-4D12-8962-403C3FF7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BED97-555F-43FA-8101-17A51183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F072-056F-4361-AFE9-A13C05D8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2C275-D145-41B7-B3EB-CD5E7565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D44FA-F270-42E4-9FD7-6A575CC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5FB72-ACCC-44BC-AB51-2A50A2D3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CBB54-1C97-42F9-8D3D-BBF7F40A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C9AD1-29DA-4EED-8412-02D9BEF3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456A0-14C0-4ACC-B367-23789689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DD6B5-24BF-434E-87E1-873A5F24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36740-B010-4629-B5A3-2AC93E9F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08635-DB46-430A-857B-FBD939BE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333F7-3013-45FB-84AB-2106CC2B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CEA4-83E7-4B51-B637-9700E67B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3C6D5-4DDC-4E82-BE07-8B83D58F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33333-D6A9-4E0A-BC3C-3F5CE838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2EFE4-D2A4-41D8-BA17-392C5F2F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2DF0D-57B9-4A75-A751-E3923968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2A3F6-3E2B-4D8E-9469-CB687481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EB270-C152-4F61-B644-3CCC71D7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C2B9D-F5FB-430A-8680-7F01933D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DCA0A-F70D-4C23-9FB1-694BFC04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B2F53-6251-4901-8BB1-9957A5F6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4E88-3D39-4C60-A242-85DC7955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EFA9-EF86-48CB-9986-F2C507C8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594F-AD4E-41E3-94B5-CE3DF470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015-2E84-46FF-8149-D79D6FEE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A04E-FE0A-416D-B603-B63225D8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04D1-0308-4B3F-97D6-D1B96377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06C1-D7DB-41D1-B3F1-BB4AEDB2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C53C-4669-4C30-94A7-9283E198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B541-B71C-476B-8449-A7FDD7A4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ADEB-FBF2-458C-9503-AB937686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425F-47EC-436F-9F6D-3977A34D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7E233-6B4F-4E20-A69F-98149403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148BB-0ECF-41FF-98F6-73F65335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9BB25-C85A-40B6-829F-4371D840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943-49D8-4E24-B797-056903DA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520B-AEEB-4873-92FC-63BE91D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CC11-A012-455B-94FC-ADC2BD45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5807-7820-4FCA-A140-C6A80F7E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1CFB-C329-4D71-B3DD-A86BBFEB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C9AB-8761-4B9C-BFD8-6DB6AB3E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064E-B56B-4BD1-95F7-E7402CD4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E604-2F56-4D3A-9D21-94B0E68C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DB8F0-6D2C-4467-8144-B2471CA3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89512-F62C-47E7-B141-6F87DD4E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47FB-0AA3-4792-B0F9-5948D087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F61-4656-4F6E-A912-551EB892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276DF-37D7-4DB6-9763-CF8C2BB8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6E89-63E9-472C-A83F-C73615B7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F9A1-5800-4C6B-A3B0-CC71C3F0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D2858-1144-47AF-9563-4D56E7A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1C62-446B-4DBB-8AB4-8FF77D4B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8618C-33C6-40C9-AF87-97691707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8119C-F0A4-419D-BBFD-290BE194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0651-6934-47AB-B011-B1BDC737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1CAA-3F31-40D4-82E2-EFDBF2B0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33774-F806-41C8-8E15-897D28A8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9AC-EACA-4FB2-9A85-4FEE65A3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D359-98DC-48AC-BBE1-74AFC9FD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C4656-9A63-4049-B92E-954D776F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78148-ED13-4096-9645-D99C9724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2061A-3A82-4441-843F-17C526DC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D109F-4F81-447D-82DC-77F1DF36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65844-BC9C-4C3F-A1C1-FFB98321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06E35-A3B2-44E1-87EA-9E2ADB8B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A256B-4CF6-4754-A8DE-8A83A660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A22A-9C76-4E8C-9D15-F55C5A81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E2005-AE62-442F-8864-AB0AD3E0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026-824E-4329-A4B6-DFDA28AE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0D9D1-1BEE-43F2-B0A0-C18E3AF6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F8206-B625-4ACC-91B2-94881E5C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E2514-8C87-4FC4-BC9B-06889570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21B67-4F88-4730-9870-43424641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22761-F0E4-48FC-ADA8-6B268861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96467-BD0A-4211-AD40-9726F85C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3C23-59A0-4A79-88C7-EAE73845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AB0C1-0A40-473F-8A24-3AFA23E9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0AF68-007E-499C-BC03-D1B37252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786C-E448-4EB0-A501-7AECDFEB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8EE-DEA5-4AAB-B64A-A331ACFD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8986B-2471-4BAA-8F81-FC112B31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F9D94-2A05-413C-8508-2B97C0DF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707A8-A8D8-40AD-967F-209D9F14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78D56-EB19-4CD8-BDA4-71FEB3CA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505C2-BF00-46DA-9599-D2ABA8E2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83D3A-3845-4F43-B965-2E26C9DE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53002-8667-4514-A1A1-DB3927D9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5394-A3F9-472C-AA63-FF7D48E9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B6708-4573-423B-B27A-3F0A8570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69560-43E2-433C-982B-C31DDF7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0AF-2753-43C5-AEB3-EE30729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2B8FF-24AE-4B15-8B96-CB134458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92BE6-0E8A-42A8-B680-FF474DAC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CB1CA-7F1D-4704-8E84-58B7931D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81EE1-E3B0-4CD3-A9E6-52E7E7B8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92098-E440-473D-BA0A-F0F4F3B3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436E7-0B71-4A33-A44E-3DC06870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8ADC5-59F3-428B-B25A-B31D0555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8089A-AEFC-47C7-BF92-E5AD6600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FFE2C-4A64-43EE-8B1E-C21D8A9F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BCBC4-3DC6-4517-A748-52674614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748-798C-4569-A74A-555C6AE6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BBEB0-7DCF-4CC3-A44E-5BFD69B0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EFEAE-1485-4387-8243-DA4096ED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EE478-3CE5-4D4A-92CA-4B80EA8E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6A548-58CB-4BE8-9DC3-66AD7877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63641-E38F-404B-AF73-4DE16AEA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AF03D-C6BB-4632-A4F5-8F32F22A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60123-697D-4FE7-882A-5113FD5C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2189B-550C-46F2-A003-E04ED37F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BC440-1FC8-4422-9629-D24396B0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698E1-2101-427E-9A4D-DB7B7A4F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906D-ACA3-4B07-A49A-A81A2D112856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5CFA-EAD8-49B0-83FA-0885EFF670A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02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03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EBB8-B890-4AB6-BCCF-86E357671C55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A5DE-4BC3-4A43-A69A-E2A1A5734E87}" type="slidenum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4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4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pic>
        <p:nvPicPr>
          <p:cNvPr id="448" name="直接连接符 12" descr=""/>
          <p:cNvPicPr/>
          <p:nvPr/>
        </p:nvPicPr>
        <p:blipFill>
          <a:blip r:embed="rId6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A257-4A6A-49AA-A449-6112EB330E51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F250-DF62-44C4-83A1-3159B665495F}" type="slidenum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91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92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pic>
        <p:nvPicPr>
          <p:cNvPr id="493" name="直接连接符 12" descr=""/>
          <p:cNvPicPr/>
          <p:nvPr/>
        </p:nvPicPr>
        <p:blipFill>
          <a:blip r:embed="rId6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649A-FA00-4C07-BECB-A06961DD7C91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5DC4-C8AD-42A8-A38F-5686E934DD47}" type="slidenum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53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53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pic>
        <p:nvPicPr>
          <p:cNvPr id="538" name="直接连接符 12" descr=""/>
          <p:cNvPicPr/>
          <p:nvPr/>
        </p:nvPicPr>
        <p:blipFill>
          <a:blip r:embed="rId6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49AE-4AFF-4586-A3B2-431E5938D921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F77-88BF-4324-91FA-93249513346F}" type="slidenum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581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582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08D2-9136-4347-A9BA-12ACC705E8DA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F2D3-E28E-4667-8C8E-D28E5D0E70AF}" type="slidenum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8793-D066-41B8-B761-4E10F3117760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1A35-D97A-415C-8FC3-709A689AB02D}" type="slidenum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0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51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89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90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pic>
        <p:nvPicPr>
          <p:cNvPr id="91" name="直接连接符 12" descr=""/>
          <p:cNvPicPr/>
          <p:nvPr/>
        </p:nvPicPr>
        <p:blipFill>
          <a:blip r:embed="rId6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1FB4-36C0-4B57-81A1-3324E99E0BEF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A93A-A135-4E5B-833E-56FAB0597DB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34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35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88A6-25B3-4721-B420-DA1CE9A5303A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1FA5-BA1C-48D6-93CF-032D2F2C9B6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7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7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pic>
        <p:nvPicPr>
          <p:cNvPr id="180" name="直接连接符 12" descr=""/>
          <p:cNvPicPr/>
          <p:nvPr/>
        </p:nvPicPr>
        <p:blipFill>
          <a:blip r:embed="rId6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0960-DACB-404A-8342-71216420BB65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4BD6-21DA-4D35-911B-A30D58CE379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223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224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pic>
        <p:nvPicPr>
          <p:cNvPr id="225" name="直接连接符 12" descr=""/>
          <p:cNvPicPr/>
          <p:nvPr/>
        </p:nvPicPr>
        <p:blipFill>
          <a:blip r:embed="rId6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F711-A44C-416C-A19A-F34A98275381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2E3F-EA5E-438A-AE2C-3EC34977AFB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26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26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pic>
        <p:nvPicPr>
          <p:cNvPr id="270" name="直接连接符 12" descr=""/>
          <p:cNvPicPr/>
          <p:nvPr/>
        </p:nvPicPr>
        <p:blipFill>
          <a:blip r:embed="rId6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7CD2-0E17-409D-8500-55FCB556401C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BE66-BB0F-4692-A49F-16068E3A5B6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313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314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A222-8435-47F0-A2A0-E1A80C4D15CB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FD3F-C983-4CB9-A734-D475D02683E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357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358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pic>
        <p:nvPicPr>
          <p:cNvPr id="359" name="直接连接符 12" descr=""/>
          <p:cNvPicPr/>
          <p:nvPr/>
        </p:nvPicPr>
        <p:blipFill>
          <a:blip r:embed="rId6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64DB-BB68-49D1-9064-A874EE0F998D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1AC9-2CB1-4E29-B7EB-85AEC6308611}" type="slidenum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hyperlink" Target="http://zhyz.gdzh.gov.cn/resource/picture/gifdh/dwl/fdl/z.htm" TargetMode="External"/><Relationship Id="rId5" Type="http://schemas.openxmlformats.org/officeDocument/2006/relationships/image" Target="../media/image10.gif"/><Relationship Id="rId6" Type="http://schemas.openxmlformats.org/officeDocument/2006/relationships/hyperlink" Target="http://zhyz.gdzh.gov.cn/resource/picture/gifdh/dwl/fdl/z.htm" TargetMode="External"/><Relationship Id="rId7" Type="http://schemas.openxmlformats.org/officeDocument/2006/relationships/image" Target="../media/image10.gif"/><Relationship Id="rId8" Type="http://schemas.openxmlformats.org/officeDocument/2006/relationships/hyperlink" Target="http://zhyz.gdzh.gov.cn/resource/picture/gifdh/dwl/fdl/z.htm" TargetMode="External"/><Relationship Id="rId9" Type="http://schemas.openxmlformats.org/officeDocument/2006/relationships/image" Target="../media/image10.gif"/><Relationship Id="rId10" Type="http://schemas.openxmlformats.org/officeDocument/2006/relationships/image" Target="../media/image9.gif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zhyz.gdzh.gov.cn/resource/picture/gifdh/dwl/fdl/z.htm" TargetMode="External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hyperlink" Target="http://zhyz.gdzh.gov.cn/resource/picture/gifdh/dwl/fdl/z.htm" TargetMode="External"/><Relationship Id="rId8" Type="http://schemas.openxmlformats.org/officeDocument/2006/relationships/image" Target="../media/image10.gif"/><Relationship Id="rId9" Type="http://schemas.openxmlformats.org/officeDocument/2006/relationships/hyperlink" Target="http://zhyz.gdzh.gov.cn/resource/picture/gifdh/dwl/fdl/z.htm" TargetMode="External"/><Relationship Id="rId10" Type="http://schemas.openxmlformats.org/officeDocument/2006/relationships/image" Target="../media/image10.gif"/><Relationship Id="rId11" Type="http://schemas.openxmlformats.org/officeDocument/2006/relationships/hyperlink" Target="http://zhyz.gdzh.gov.cn/resource/picture/gifdh/dwl/fdl/z.htm" TargetMode="External"/><Relationship Id="rId12" Type="http://schemas.openxmlformats.org/officeDocument/2006/relationships/image" Target="../media/image10.gi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zhyz.gdzh.gov.cn/resource/picture/gifdh/dwl/fdl/z.htm" TargetMode="External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voltag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矩形 5" descr=""/>
          <p:cNvPicPr/>
          <p:nvPr/>
        </p:nvPicPr>
        <p:blipFill>
          <a:blip r:embed="rId2"/>
          <a:stretch/>
        </p:blipFill>
        <p:spPr>
          <a:xfrm>
            <a:off x="6353280" y="5424480"/>
            <a:ext cx="2367000" cy="93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AutoShape 4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686800" cy="9795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 txBox="1"/>
          <p:nvPr/>
        </p:nvSpPr>
        <p:spPr>
          <a:xfrm>
            <a:off x="214200" y="1213920"/>
            <a:ext cx="8686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然段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-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然段存在着什么关系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65" name="Picture 8" descr="bee1"/>
          <p:cNvPicPr/>
          <p:nvPr/>
        </p:nvPicPr>
        <p:blipFill>
          <a:blip r:embed="rId2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9" descr="bee1"/>
          <p:cNvPicPr/>
          <p:nvPr/>
        </p:nvPicPr>
        <p:blipFill>
          <a:blip r:embed="rId3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0" descr="00974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1" descr="00974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2" descr="009742">
            <a:hlinkClick r:id="rId8"/>
          </p:cNvPr>
          <p:cNvPicPr/>
          <p:nvPr/>
        </p:nvPicPr>
        <p:blipFill>
          <a:blip r:embed="rId9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3" descr="bee1"/>
          <p:cNvPicPr/>
          <p:nvPr/>
        </p:nvPicPr>
        <p:blipFill>
          <a:blip r:embed="rId10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671" name="AutoShape 3" descr=""/>
          <p:cNvPicPr/>
          <p:nvPr/>
        </p:nvPicPr>
        <p:blipFill>
          <a:blip r:embed="rId11"/>
          <a:stretch/>
        </p:blipFill>
        <p:spPr>
          <a:xfrm>
            <a:off x="571680" y="1571760"/>
            <a:ext cx="2543040" cy="86364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4"/>
          <p:cNvSpPr/>
          <p:nvPr/>
        </p:nvSpPr>
        <p:spPr>
          <a:xfrm>
            <a:off x="0" y="2357280"/>
            <a:ext cx="885816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采用“先总说，后分说”的结构来描绘春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写“山、水、太阳”，总写了春回大地，万   物复苏的整体轮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5"/>
          <p:cNvSpPr/>
          <p:nvPr/>
        </p:nvSpPr>
        <p:spPr>
          <a:xfrm>
            <a:off x="285840" y="407196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山朗润起来了，水涨起来了，太阳的脸红起来了”运用了什么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三个“起来了”照应“刚睡醒”“张开了眼”，运用拟人和排比的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62040"/>
          </a:xfrm>
          <a:prstGeom prst="rect">
            <a:avLst/>
          </a:prstGeom>
          <a:ln w="0">
            <a:noFill/>
          </a:ln>
        </p:spPr>
      </p:pic>
      <p:pic>
        <p:nvPicPr>
          <p:cNvPr id="675" name="图片 58371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2"/>
          <a:stretch/>
        </p:blipFill>
        <p:spPr>
          <a:xfrm>
            <a:off x="2487600" y="326700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676" name="矩形 58384"/>
          <p:cNvSpPr/>
          <p:nvPr/>
        </p:nvSpPr>
        <p:spPr>
          <a:xfrm>
            <a:off x="774720" y="1014480"/>
            <a:ext cx="7564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春草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草报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春花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花争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盼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绘春｛春风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风唱春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颂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春雨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雨润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迎春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迎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标题 1" descr=""/>
          <p:cNvPicPr/>
          <p:nvPr/>
        </p:nvPicPr>
        <p:blipFill>
          <a:blip r:embed="rId1"/>
          <a:stretch/>
        </p:blipFill>
        <p:spPr>
          <a:xfrm>
            <a:off x="457200" y="214200"/>
            <a:ext cx="8686800" cy="103680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-360" y="128592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1" lang="zh-CN" sz="2600" spc="-1" strike="noStrike">
                <a:solidFill>
                  <a:srgbClr val="4e3b30"/>
                </a:solidFill>
                <a:latin typeface="Franklin Gothic Book"/>
              </a:rPr>
              <a:t>小草偷偷地从土里钻出来，嫩嫩的，绿绿的。”这句话好在哪？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Franklin Gothic Book"/>
              </a:rPr>
              <a:t>   </a:t>
            </a:r>
            <a:r>
              <a:rPr b="1" lang="zh-CN" sz="2600" spc="-1" strike="noStrike">
                <a:solidFill>
                  <a:srgbClr val="c00000"/>
                </a:solidFill>
                <a:latin typeface="Franklin Gothic Book"/>
              </a:rPr>
              <a:t>运用拟人的修辞手法。“偷偷地”“钻”写出了小草破土而出的挤劲，写出不经意之间，春草已悄然而出的情景和作者的惊喜之感。这样写是无意识、无感情的小草也似乎有了意识、有了感情。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Franklin Gothic Book"/>
              </a:rPr>
              <a:t>“</a:t>
            </a:r>
            <a:r>
              <a:rPr b="1" lang="zh-CN" sz="2600" spc="-1" strike="noStrike">
                <a:solidFill>
                  <a:srgbClr val="c00000"/>
                </a:solidFill>
                <a:latin typeface="Franklin Gothic Book"/>
              </a:rPr>
              <a:t>坐</a:t>
            </a:r>
            <a:r>
              <a:rPr b="1" lang="zh-CN" sz="2600" spc="-1" strike="noStrike">
                <a:solidFill>
                  <a:srgbClr val="000000"/>
                </a:solidFill>
                <a:latin typeface="Franklin Gothic Book"/>
              </a:rPr>
              <a:t>着，</a:t>
            </a:r>
            <a:r>
              <a:rPr b="1" lang="zh-CN" sz="2600" spc="-1" strike="noStrike">
                <a:solidFill>
                  <a:srgbClr val="c00000"/>
                </a:solidFill>
                <a:latin typeface="Franklin Gothic Book"/>
              </a:rPr>
              <a:t>躺</a:t>
            </a:r>
            <a:r>
              <a:rPr b="1" lang="zh-CN" sz="2600" spc="-1" strike="noStrike">
                <a:solidFill>
                  <a:srgbClr val="000000"/>
                </a:solidFill>
                <a:latin typeface="Franklin Gothic Book"/>
              </a:rPr>
              <a:t>着，</a:t>
            </a:r>
            <a:r>
              <a:rPr b="1" lang="zh-CN" sz="2600" spc="-1" strike="noStrike">
                <a:solidFill>
                  <a:srgbClr val="c00000"/>
                </a:solidFill>
                <a:latin typeface="Franklin Gothic Book"/>
              </a:rPr>
              <a:t>打</a:t>
            </a:r>
            <a:r>
              <a:rPr b="1" lang="zh-CN" sz="2600" spc="-1" strike="noStrike">
                <a:solidFill>
                  <a:srgbClr val="000000"/>
                </a:solidFill>
                <a:latin typeface="Franklin Gothic Book"/>
              </a:rPr>
              <a:t>两个滚，</a:t>
            </a:r>
            <a:r>
              <a:rPr b="1" lang="zh-CN" sz="2600" spc="-1" strike="noStrike">
                <a:solidFill>
                  <a:srgbClr val="c00000"/>
                </a:solidFill>
                <a:latin typeface="Franklin Gothic Book"/>
              </a:rPr>
              <a:t>踢</a:t>
            </a:r>
            <a:r>
              <a:rPr b="1" lang="zh-CN" sz="2600" spc="-1" strike="noStrike">
                <a:solidFill>
                  <a:srgbClr val="000000"/>
                </a:solidFill>
                <a:latin typeface="Franklin Gothic Book"/>
              </a:rPr>
              <a:t>几脚球，</a:t>
            </a:r>
            <a:r>
              <a:rPr b="1" lang="zh-CN" sz="2600" spc="-1" strike="noStrike">
                <a:solidFill>
                  <a:srgbClr val="c00000"/>
                </a:solidFill>
                <a:latin typeface="Franklin Gothic Book"/>
              </a:rPr>
              <a:t>赛</a:t>
            </a:r>
            <a:r>
              <a:rPr b="1" lang="zh-CN" sz="2600" spc="-1" strike="noStrike">
                <a:solidFill>
                  <a:srgbClr val="000000"/>
                </a:solidFill>
                <a:latin typeface="Franklin Gothic Book"/>
              </a:rPr>
              <a:t>几趟跑，</a:t>
            </a:r>
            <a:r>
              <a:rPr b="1" lang="zh-CN" sz="2600" spc="-1" strike="noStrike">
                <a:solidFill>
                  <a:srgbClr val="c00000"/>
                </a:solidFill>
                <a:latin typeface="Franklin Gothic Book"/>
              </a:rPr>
              <a:t>捉</a:t>
            </a:r>
            <a:r>
              <a:rPr b="1" lang="zh-CN" sz="2600" spc="-1" strike="noStrike">
                <a:solidFill>
                  <a:srgbClr val="000000"/>
                </a:solidFill>
                <a:latin typeface="Franklin Gothic Book"/>
              </a:rPr>
              <a:t>几回迷藏。”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Franklin Gothic Book"/>
              </a:rPr>
              <a:t>侧面描写，通过小孩在草上兴致勃勃地嬉戏，侧面烘托春草勃发给人的乐趣。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1100-2EE0-446A-8062-29371CCF2292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359280" y="56437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0" y="4284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Franklin Gothic Book"/>
              </a:rPr>
              <a:t>文章抓住了春草的什么特点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216000" y="192888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坐、躺、滚、踢、跑、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（喜悦、高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428760" y="1214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嫩、绿、满、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草（生机勃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7"/>
          <p:cNvGrpSpPr/>
          <p:nvPr/>
        </p:nvGrpSpPr>
        <p:grpSpPr>
          <a:xfrm>
            <a:off x="2357280" y="2500200"/>
            <a:ext cx="3743280" cy="1552680"/>
            <a:chOff x="2357280" y="2500200"/>
            <a:chExt cx="3743280" cy="1552680"/>
          </a:xfrm>
        </p:grpSpPr>
        <p:sp>
          <p:nvSpPr>
            <p:cNvPr id="685" name="AutoShape 8"/>
            <p:cNvSpPr/>
            <p:nvPr/>
          </p:nvSpPr>
          <p:spPr>
            <a:xfrm>
              <a:off x="3512880" y="2500200"/>
              <a:ext cx="790560" cy="978480"/>
            </a:xfrm>
            <a:prstGeom prst="downArrow">
              <a:avLst>
                <a:gd name="adj1" fmla="val 50000"/>
                <a:gd name="adj2" fmla="val 30931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9"/>
            <p:cNvSpPr/>
            <p:nvPr/>
          </p:nvSpPr>
          <p:spPr>
            <a:xfrm>
              <a:off x="2357280" y="3471480"/>
              <a:ext cx="37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与自然的和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Text Box 10"/>
          <p:cNvSpPr/>
          <p:nvPr/>
        </p:nvSpPr>
        <p:spPr>
          <a:xfrm>
            <a:off x="2000160" y="4357800"/>
            <a:ext cx="107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顺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写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修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3214800" y="43578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由物到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"/>
          <p:cNvSpPr/>
          <p:nvPr/>
        </p:nvSpPr>
        <p:spPr>
          <a:xfrm>
            <a:off x="3214800" y="50007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正面与侧面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3214800" y="5643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692" name="矩形 90114"/>
          <p:cNvSpPr/>
          <p:nvPr/>
        </p:nvSpPr>
        <p:spPr>
          <a:xfrm>
            <a:off x="127080" y="1222200"/>
            <a:ext cx="899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小草偷偷地从土里钻出来，嫩嫩的，绿绿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偷偷”二字写出了不经意之间，春草已悄然而出的情景和作者惊喜的感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钻”写出了春草破土而出的挤劲，表现了春草旺盛的生命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时，这样写使无意识、无情感的小草也似乎有了意识，有了情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“嫩嫩的”写春草的质地；用“绿绿的”写春草的色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90119" descr="《春》图片：春草图1"/>
          <p:cNvPicPr/>
          <p:nvPr/>
        </p:nvPicPr>
        <p:blipFill>
          <a:blip r:embed="rId2"/>
          <a:stretch/>
        </p:blipFill>
        <p:spPr>
          <a:xfrm>
            <a:off x="698400" y="3537000"/>
            <a:ext cx="76136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日期占位符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7475-0C1C-461A-A588-36C630A05911}" type="datetime">
              <a:rPr b="0" lang="zh-CN" sz="1200" spc="-1" strike="noStrike">
                <a:solidFill>
                  <a:srgbClr val="d38e27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1564560" y="1214280"/>
            <a:ext cx="57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不让我，我不让你，都开满了花赶趟儿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285840" y="185724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拟人。写出了春花争春比美、竟相开放、互不相让的动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1227960" y="2928960"/>
            <a:ext cx="47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的像火，粉的像霞，白的像雪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4457160" y="35719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排比。写出了春花争艳，万紫千红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0" y="4143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里带着甜味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闭了眼，树上仿佛已经满是      桃儿、杏儿、梨儿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4536360" y="58579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，由实写到虚写，由眼前的春花想到秋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0" y="521496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甜”从味觉上写出了花的香味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5"/>
          <p:cNvSpPr/>
          <p:nvPr/>
        </p:nvSpPr>
        <p:spPr>
          <a:xfrm>
            <a:off x="428760" y="28584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春花图</a:t>
            </a: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—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花争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日期占位符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D1B5-E973-46E9-BF91-F84FB4EE96BB}" type="datetime">
              <a:rPr b="0" lang="zh-CN" sz="1200" spc="-1" strike="noStrike">
                <a:solidFill>
                  <a:srgbClr val="d38e27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4"/>
          <p:cNvSpPr/>
          <p:nvPr/>
        </p:nvSpPr>
        <p:spPr>
          <a:xfrm>
            <a:off x="0" y="5716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下成千成百的蜜蜂嗡嗡地闹着，大小的蝴蝶飞来飞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9"/>
          <p:cNvSpPr/>
          <p:nvPr/>
        </p:nvSpPr>
        <p:spPr>
          <a:xfrm>
            <a:off x="214200" y="152388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闹”字不仅有嗡嗡的声响，而且呈现出一派喧腾的景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面衬托出春花的竟相开放，万紫千红，香味           浓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0"/>
          <p:cNvSpPr/>
          <p:nvPr/>
        </p:nvSpPr>
        <p:spPr>
          <a:xfrm>
            <a:off x="0" y="364320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野花遍地是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还眨呀眨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1"/>
          <p:cNvSpPr/>
          <p:nvPr/>
        </p:nvSpPr>
        <p:spPr>
          <a:xfrm>
            <a:off x="214200" y="435780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拟人。不但 写出了野花之多，还描绘出野花闪闪发光、轻轻摆动的明丽色彩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3" descr="0097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565200" cy="5018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bee1"/>
          <p:cNvPicPr/>
          <p:nvPr/>
        </p:nvPicPr>
        <p:blipFill>
          <a:blip r:embed="rId3"/>
          <a:stretch/>
        </p:blipFill>
        <p:spPr>
          <a:xfrm>
            <a:off x="7812000" y="692280"/>
            <a:ext cx="461880" cy="5061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" descr="bee1"/>
          <p:cNvPicPr/>
          <p:nvPr/>
        </p:nvPicPr>
        <p:blipFill>
          <a:blip r:embed="rId4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7" descr="bee1"/>
          <p:cNvPicPr/>
          <p:nvPr/>
        </p:nvPicPr>
        <p:blipFill>
          <a:blip r:embed="rId5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8" descr="bee1"/>
          <p:cNvPicPr/>
          <p:nvPr/>
        </p:nvPicPr>
        <p:blipFill>
          <a:blip r:embed="rId6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9" descr="00974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0" descr="00974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1" descr="009742">
            <a:hlinkClick r:id="rId11"/>
          </p:cNvPr>
          <p:cNvPicPr/>
          <p:nvPr/>
        </p:nvPicPr>
        <p:blipFill>
          <a:blip r:embed="rId12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15"/>
          <p:cNvSpPr/>
          <p:nvPr/>
        </p:nvSpPr>
        <p:spPr>
          <a:xfrm>
            <a:off x="642960" y="4287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作者如何全方位的描写春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6"/>
          <p:cNvSpPr/>
          <p:nvPr/>
        </p:nvSpPr>
        <p:spPr>
          <a:xfrm>
            <a:off x="357120" y="15001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上繁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7"/>
          <p:cNvSpPr/>
          <p:nvPr/>
        </p:nvSpPr>
        <p:spPr>
          <a:xfrm>
            <a:off x="2357280" y="150012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中昆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8"/>
          <p:cNvSpPr/>
          <p:nvPr/>
        </p:nvSpPr>
        <p:spPr>
          <a:xfrm>
            <a:off x="4286160" y="150012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下野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9"/>
          <p:cNvSpPr/>
          <p:nvPr/>
        </p:nvSpPr>
        <p:spPr>
          <a:xfrm>
            <a:off x="6000840" y="1500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自上而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0"/>
          <p:cNvSpPr/>
          <p:nvPr/>
        </p:nvSpPr>
        <p:spPr>
          <a:xfrm>
            <a:off x="357120" y="257184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眼前花儿争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1"/>
          <p:cNvSpPr/>
          <p:nvPr/>
        </p:nvSpPr>
        <p:spPr>
          <a:xfrm>
            <a:off x="3143160" y="257184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想象结果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2"/>
          <p:cNvSpPr/>
          <p:nvPr/>
        </p:nvSpPr>
        <p:spPr>
          <a:xfrm>
            <a:off x="5357880" y="257184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由实到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3"/>
          <p:cNvSpPr/>
          <p:nvPr/>
        </p:nvSpPr>
        <p:spPr>
          <a:xfrm>
            <a:off x="285840" y="350028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色彩（红粉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4"/>
          <p:cNvSpPr/>
          <p:nvPr/>
        </p:nvSpPr>
        <p:spPr>
          <a:xfrm>
            <a:off x="3929040" y="35002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5"/>
          <p:cNvSpPr/>
          <p:nvPr/>
        </p:nvSpPr>
        <p:spPr>
          <a:xfrm>
            <a:off x="5715000" y="3500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色味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9"/>
          <p:cNvSpPr/>
          <p:nvPr/>
        </p:nvSpPr>
        <p:spPr>
          <a:xfrm>
            <a:off x="6095880" y="6019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0"/>
          <p:cNvSpPr/>
          <p:nvPr/>
        </p:nvSpPr>
        <p:spPr>
          <a:xfrm>
            <a:off x="4572000" y="4572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全方位描绘春花的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31"/>
          <p:cNvSpPr/>
          <p:nvPr/>
        </p:nvSpPr>
        <p:spPr>
          <a:xfrm>
            <a:off x="1928880" y="178596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32"/>
          <p:cNvSpPr/>
          <p:nvPr/>
        </p:nvSpPr>
        <p:spPr>
          <a:xfrm>
            <a:off x="3929040" y="178596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33"/>
          <p:cNvSpPr/>
          <p:nvPr/>
        </p:nvSpPr>
        <p:spPr>
          <a:xfrm>
            <a:off x="2714760" y="285768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34"/>
          <p:cNvSpPr/>
          <p:nvPr/>
        </p:nvSpPr>
        <p:spPr>
          <a:xfrm>
            <a:off x="3500280" y="37148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6"/>
          <p:cNvSpPr/>
          <p:nvPr/>
        </p:nvSpPr>
        <p:spPr>
          <a:xfrm>
            <a:off x="6000840" y="414324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春风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3"/>
          <p:cNvSpPr/>
          <p:nvPr/>
        </p:nvSpPr>
        <p:spPr>
          <a:xfrm>
            <a:off x="1619280" y="33336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春风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76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日期占位符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CCA2-75A8-4A19-8898-CF305B20998F}" type="datetime">
              <a:rPr b="0" lang="zh-CN" sz="1200" spc="-1" strike="noStrike">
                <a:solidFill>
                  <a:srgbClr val="d38e27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"/>
          <p:cNvSpPr/>
          <p:nvPr/>
        </p:nvSpPr>
        <p:spPr>
          <a:xfrm>
            <a:off x="214200" y="1214280"/>
            <a:ext cx="857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吹面不寒杨柳风’，不错的，像母亲的手抚摸着你。”这句话好在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隶书"/>
              </a:rPr>
              <a:t>这句话运用引用、比喻和拟人的修辞手法，突出春风和煦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隶书"/>
              </a:rPr>
              <a:t>抚摸”一词巧妙地表达了春风的温暖和柔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隶书"/>
              </a:rPr>
              <a:t>这是从触觉的角度写春风的柔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风里带来些新翻的泥土的气息，混着青草味儿，还有各种花的香，都在微微润湿的空气里酝酿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隶书"/>
              </a:rPr>
              <a:t>这是从嗅觉的角度写春风的味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"/>
          <p:cNvSpPr/>
          <p:nvPr/>
        </p:nvSpPr>
        <p:spPr>
          <a:xfrm>
            <a:off x="642960" y="2858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春风图</a:t>
            </a:r>
            <a:r>
              <a:rPr b="0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—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风唱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3"/>
          <p:cNvSpPr/>
          <p:nvPr/>
        </p:nvSpPr>
        <p:spPr>
          <a:xfrm>
            <a:off x="642960" y="17146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404040"/>
                </a:solidFill>
                <a:latin typeface="宋体"/>
              </a:rPr>
              <a:t>流利、有感情地朗读课文，感知课文内容，把握作者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404040"/>
                </a:solidFill>
                <a:latin typeface="宋体"/>
              </a:rPr>
              <a:t>学习作者抓住特点、多角度、按顺序描写景物的写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404040"/>
                </a:solidFill>
                <a:latin typeface="宋体"/>
              </a:rPr>
              <a:t>揣摩、品味本文优美的语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404040"/>
                </a:solidFill>
                <a:latin typeface="宋体"/>
              </a:rPr>
              <a:t>培养热爱大自然、珍惜青春的感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500040" y="14292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仿宋_GB2312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日期占位符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2BE8-76B0-406B-93F3-BD9F3E8428D8}" type="datetime">
              <a:rPr b="0" lang="zh-CN" sz="1200" spc="-1" strike="noStrike">
                <a:solidFill>
                  <a:srgbClr val="d38e27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2"/>
          <p:cNvSpPr/>
          <p:nvPr/>
        </p:nvSpPr>
        <p:spPr>
          <a:xfrm>
            <a:off x="214200" y="571680"/>
            <a:ext cx="89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鸟儿将巢安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跟轻风流水应和着。牛背上牧童的短笛，这时候也成天嘹亮地响着。”这句话好在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隶书"/>
                <a:ea typeface="隶书"/>
              </a:rPr>
              <a:t>拟人，形象生动地写出鸟儿迎春的欢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隶书"/>
              </a:rPr>
              <a:t>这是从听觉的角度写春风的悦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"/>
          <p:cNvSpPr/>
          <p:nvPr/>
        </p:nvSpPr>
        <p:spPr>
          <a:xfrm>
            <a:off x="285840" y="25002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作者从哪些感觉来写春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428760" y="328608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母亲的手抚摸着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4857840" y="32860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触觉   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柔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357120" y="392904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泥土的气息、草味、花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"/>
          <p:cNvSpPr/>
          <p:nvPr/>
        </p:nvSpPr>
        <p:spPr>
          <a:xfrm>
            <a:off x="4857840" y="392904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嗅觉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芳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357120" y="4572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鸟鸣、清风流水、短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4857840" y="45720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悦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11"/>
          <p:cNvSpPr/>
          <p:nvPr/>
        </p:nvSpPr>
        <p:spPr>
          <a:xfrm>
            <a:off x="5572080" y="52862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3929040" y="56437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运用各种感觉描绘春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45600" y="497880"/>
            <a:ext cx="86054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751" name="Picture 3" descr="春雨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4"/>
          <p:cNvSpPr/>
          <p:nvPr/>
        </p:nvSpPr>
        <p:spPr>
          <a:xfrm>
            <a:off x="0" y="260280"/>
            <a:ext cx="2879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  <a:ea typeface="华文彩云"/>
              </a:rPr>
              <a:t>春雨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6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标题 1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686800" cy="10252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 txBox="1"/>
          <p:nvPr/>
        </p:nvSpPr>
        <p:spPr>
          <a:xfrm>
            <a:off x="304920" y="1553760"/>
            <a:ext cx="868680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Boo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</a:rPr>
              <a:t>雨是最寻常的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······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</a:rPr>
              <a:t>可别恼。”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Boo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</a:rPr>
              <a:t>可别恼”口语化，让人倍感亲切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5" name="日期占位符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32E6-B196-428A-A32D-75EAE1BB759B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214200" y="285768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，像牛毛，像花针，像细丝，密密地斜织着，人家屋顶上全笼着一层薄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428760" y="40006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隶书"/>
                <a:ea typeface="隶书"/>
              </a:rPr>
              <a:t>比喻、拟人，写出春雨的细、密、多的特点。“斜织”“薄烟”形象的写出了轻盈、迷蒙的特点。渲染了春雨的轻柔、湿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1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759" name="矩形 98306"/>
          <p:cNvSpPr/>
          <p:nvPr/>
        </p:nvSpPr>
        <p:spPr>
          <a:xfrm>
            <a:off x="585720" y="1053000"/>
            <a:ext cx="803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像牛毛，像花针，像细丝，密密地斜织着，人家屋顶上全笼着一层薄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“斜”字，不说春风，却已含蓄第写出了春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“笼”字准确地写出了这层薄烟的情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98309" descr="《春》图片：春雨图"/>
          <p:cNvPicPr/>
          <p:nvPr/>
        </p:nvPicPr>
        <p:blipFill>
          <a:blip r:embed="rId2"/>
          <a:stretch/>
        </p:blipFill>
        <p:spPr>
          <a:xfrm>
            <a:off x="1042920" y="2924280"/>
            <a:ext cx="69436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4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4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762" name="矩形 96258"/>
          <p:cNvSpPr/>
          <p:nvPr/>
        </p:nvSpPr>
        <p:spPr>
          <a:xfrm>
            <a:off x="50760" y="799920"/>
            <a:ext cx="899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树叶儿却绿得发亮，小草儿也青得逼你的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“逼”字，写出了在春雨的滋润下，小草特别的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图片 96260" descr="《春》图片：春雨图1"/>
          <p:cNvPicPr/>
          <p:nvPr/>
        </p:nvPicPr>
        <p:blipFill>
          <a:blip r:embed="rId2"/>
          <a:stretch/>
        </p:blipFill>
        <p:spPr>
          <a:xfrm>
            <a:off x="1076400" y="2662200"/>
            <a:ext cx="6908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6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1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日期占位符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5677-40DD-4C28-A2B7-B7A7F7542ACD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571680"/>
            <a:ext cx="864396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</a:rPr>
              <a:t>树叶儿却绿得发亮，小草儿也青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逼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</a:rPr>
              <a:t>你的眼。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出雨中植物新而亮的特点，“逼你的眼”突出草之青，激发读者的想象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傍晚的时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雨里静默着。”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三句将视线由植物转到人，从白天写到傍晚。动静结合，有动景，有静景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静默”一词最妙，运用拟人修辞，烘托出春雨中安静和平的气氛，营造了一种妙不可言的意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境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日期占位符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A54E-2108-4AEE-96A2-676F482086EA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214200" y="3571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作者抓住了春雨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214200" y="22147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7"/>
          <p:cNvSpPr/>
          <p:nvPr/>
        </p:nvSpPr>
        <p:spPr>
          <a:xfrm>
            <a:off x="4857840" y="2214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细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8"/>
          <p:cNvSpPr/>
          <p:nvPr/>
        </p:nvSpPr>
        <p:spPr>
          <a:xfrm>
            <a:off x="285840" y="28576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9"/>
          <p:cNvSpPr/>
          <p:nvPr/>
        </p:nvSpPr>
        <p:spPr>
          <a:xfrm>
            <a:off x="4714920" y="2857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轻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0"/>
          <p:cNvSpPr/>
          <p:nvPr/>
        </p:nvSpPr>
        <p:spPr>
          <a:xfrm>
            <a:off x="357120" y="1500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4643280" y="1500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绵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2"/>
          <p:cNvSpPr/>
          <p:nvPr/>
        </p:nvSpPr>
        <p:spPr>
          <a:xfrm>
            <a:off x="3500280" y="3786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3"/>
          <p:cNvSpPr/>
          <p:nvPr/>
        </p:nvSpPr>
        <p:spPr>
          <a:xfrm>
            <a:off x="5143680" y="34290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7"/>
          <p:cNvSpPr/>
          <p:nvPr/>
        </p:nvSpPr>
        <p:spPr>
          <a:xfrm>
            <a:off x="357120" y="457200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本段是如何写春雨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从动景写到静景、从物写到人、由近到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0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0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345600" y="497880"/>
            <a:ext cx="86054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778" name="Picture 3" descr="迎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日期占位符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5DFD-AA3F-4AF2-8849-CFF57C11F0B0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6072120" y="714240"/>
            <a:ext cx="266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  <a:ea typeface="华文彩云"/>
              </a:rPr>
              <a:t>迎春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3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标题 1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686800" cy="102528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天上风筝渐渐多了，地上孩子也多了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Franklin Gothic Book"/>
                <a:ea typeface="宋体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Franklin Gothic Book"/>
                <a:ea typeface="宋体"/>
              </a:rPr>
              <a:t>风筝”既是儿童的玩具，又是春天的信号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城里乡下，家家户户，老老小小，也赶趟儿似的，一个个都出来了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Franklin Gothic Book"/>
                <a:ea typeface="宋体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Franklin Gothic Book"/>
                <a:ea typeface="宋体"/>
              </a:rPr>
              <a:t>赶趟儿”与前文的白花争春相照应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一年之计在于春”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3" name="日期占位符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6747-048F-44B3-91F7-FB0CE3F497BF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-1357200" y="5357880"/>
            <a:ext cx="95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这句俗语激励人们抓紧大好春光，努力工作，奋发向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6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786" name="矩形 94210"/>
          <p:cNvSpPr/>
          <p:nvPr/>
        </p:nvSpPr>
        <p:spPr>
          <a:xfrm>
            <a:off x="114480" y="1204920"/>
            <a:ext cx="899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城里乡下，家家户户，老老小小，也赶趟儿似的，一个个都出来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城里乡下”，说范围之广；“家家户户”，表人数之多；“老老小小”，言年龄之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赶趟儿似的”，“也”照应前文“春花图”中的花的“赶趟儿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前文的“赶趟儿”写百花争春，这里的“赶趟儿”写人在争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图片 94213" descr="《春》图片：迎春图1"/>
          <p:cNvPicPr/>
          <p:nvPr/>
        </p:nvPicPr>
        <p:blipFill>
          <a:blip r:embed="rId2"/>
          <a:stretch/>
        </p:blipFill>
        <p:spPr>
          <a:xfrm>
            <a:off x="584280" y="3403440"/>
            <a:ext cx="738180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8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3" dur="5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8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zzq"/>
          <p:cNvPicPr/>
          <p:nvPr/>
        </p:nvPicPr>
        <p:blipFill>
          <a:blip r:embed="rId1"/>
          <a:stretch/>
        </p:blipFill>
        <p:spPr>
          <a:xfrm>
            <a:off x="0" y="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" descr="朱自清"/>
          <p:cNvPicPr/>
          <p:nvPr/>
        </p:nvPicPr>
        <p:blipFill>
          <a:blip r:embed="rId2"/>
          <a:stretch/>
        </p:blipFill>
        <p:spPr>
          <a:xfrm>
            <a:off x="0" y="3357720"/>
            <a:ext cx="2786040" cy="350028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4"/>
          <p:cNvSpPr/>
          <p:nvPr/>
        </p:nvSpPr>
        <p:spPr>
          <a:xfrm>
            <a:off x="3500280" y="357120"/>
            <a:ext cx="4654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华文琥珀"/>
              </a:rPr>
              <a:t>    </a:t>
            </a:r>
            <a:r>
              <a:rPr b="1" lang="zh-CN" sz="4000" spc="-1" strike="noStrike">
                <a:solidFill>
                  <a:srgbClr val="111111"/>
                </a:solidFill>
                <a:latin typeface="Arial"/>
                <a:ea typeface="华文琥珀"/>
              </a:rPr>
              <a:t>爱国学者朱自清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朱自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89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8)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佩弦，江苏省扬州市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代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散文家、诗人、学者、民主战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诗文集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踪迹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、散文集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欧游杂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背影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及一些文艺论著，收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朱自清文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里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散文主要以描写个人、家庭生活和自然景物为主。代表作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有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背影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、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绿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、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春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、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桨声灯影里的秦淮河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、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荷塘月色</a:t>
            </a:r>
            <a:r>
              <a:rPr b="1" lang="en-US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等。以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文笔清丽</a:t>
            </a:r>
            <a:r>
              <a:rPr b="1" lang="zh-CN" sz="2400" spc="-1" strike="noStrike">
                <a:solidFill>
                  <a:srgbClr val="111111"/>
                </a:solidFill>
                <a:latin typeface="华文新魏"/>
                <a:ea typeface="华文新魏"/>
              </a:rPr>
              <a:t>著称，极富有真情实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789" name="矩形 104450"/>
          <p:cNvSpPr/>
          <p:nvPr/>
        </p:nvSpPr>
        <p:spPr>
          <a:xfrm>
            <a:off x="0" y="2001600"/>
            <a:ext cx="89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104452"/>
          <p:cNvSpPr/>
          <p:nvPr/>
        </p:nvSpPr>
        <p:spPr>
          <a:xfrm>
            <a:off x="384120" y="1119600"/>
            <a:ext cx="8266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宋体"/>
              </a:rPr>
              <a:t>（二）写法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宋体"/>
              </a:rPr>
              <a:t>比较春草图、春花图、春风图、春雨图等图画，完成下面的表格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426960" y="2289240"/>
          <a:ext cx="8265960" cy="2500200"/>
        </p:xfrm>
        <a:graphic>
          <a:graphicData uri="http://schemas.openxmlformats.org/drawingml/2006/table">
            <a:tbl>
              <a:tblPr/>
              <a:tblGrid>
                <a:gridCol w="1424160"/>
                <a:gridCol w="2749320"/>
                <a:gridCol w="2143080"/>
                <a:gridCol w="1949400"/>
              </a:tblGrid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图画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景物特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描写角度（顺序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写作手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春草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嫩、绿、多、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由物到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正面与侧面结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春花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多、艳、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由高到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虚实结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春风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和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触觉、嗅觉、听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多感官描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春雨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细密、轻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由物到人、由近到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动静结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迎春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春到人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由景及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与开头呼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2" name="矩形 104607"/>
          <p:cNvSpPr/>
          <p:nvPr/>
        </p:nvSpPr>
        <p:spPr>
          <a:xfrm>
            <a:off x="250920" y="4986000"/>
            <a:ext cx="736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宋体"/>
              </a:rPr>
              <a:t>迎春图与其他四幅图之间有何关系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宋体"/>
              </a:rPr>
              <a:t>其他四幅图层层铺垫，很好的烘托了迎春图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5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0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0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5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日期占位符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6A06-ADB2-4BF5-8A37-1B839B70BAE5}" type="datetime">
              <a:rPr b="0" lang="zh-CN" sz="1200" spc="-1" strike="noStrike">
                <a:solidFill>
                  <a:srgbClr val="d38e27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838080" y="1447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"/>
          <p:cNvSpPr/>
          <p:nvPr/>
        </p:nvSpPr>
        <p:spPr>
          <a:xfrm>
            <a:off x="214200" y="1103400"/>
            <a:ext cx="842976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天像刚落地的娃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运用比喻和拟人，把春天比作“刚落地的娃娃”，因为它是新生的，突出它的生机勃勃的特点。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天像小姑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运用比喻和拟人，把春天比作“小姑娘”，因为它娇美，突出它的容颜美。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天像健壮的青年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运用比喻和拟人，把春天比作“健壮的青年”，因为它有无穷的活力，突出它的力量美。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Rectangle 2" descr=""/>
          <p:cNvPicPr/>
          <p:nvPr/>
        </p:nvPicPr>
        <p:blipFill>
          <a:blip r:embed="rId1"/>
          <a:stretch/>
        </p:blipFill>
        <p:spPr>
          <a:xfrm>
            <a:off x="457200" y="357120"/>
            <a:ext cx="8686800" cy="887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3" dur="20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矩形 60418"/>
          <p:cNvSpPr/>
          <p:nvPr/>
        </p:nvSpPr>
        <p:spPr>
          <a:xfrm>
            <a:off x="512640" y="717480"/>
            <a:ext cx="811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个句子都运用了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刚落地的娃娃”表现了春天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，像新生命的开始，给人以无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希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花枝招展的”“小姑娘”状写春天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美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令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喜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健壮的青年”，赞美春天充满活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三个句子又构成排比句，三句的顺序，从“娃娃”到“小姑娘”到“青年”，形象地表现了春天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成长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赞美了春天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蓬勃的生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强调了它的“新”“美”“充满活力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日期占位符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6B90-7274-4129-A2D7-4335D6458743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"/>
          <p:cNvSpPr/>
          <p:nvPr/>
        </p:nvSpPr>
        <p:spPr>
          <a:xfrm>
            <a:off x="-714240" y="28584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本文如何写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428760" y="1285920"/>
            <a:ext cx="80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运用各种修辞手法，如比喻、拟人、排比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>
            <a:off x="214200" y="257184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从不同的感官角度来描写，如视觉、听觉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触觉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0" y="378612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按照一定的顺序来描写，如从高到低、从   近到远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6"/>
          <p:cNvSpPr/>
          <p:nvPr/>
        </p:nvSpPr>
        <p:spPr>
          <a:xfrm>
            <a:off x="0" y="507204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虚实结合，动静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468360" y="4437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60240"/>
          </a:xfrm>
          <a:prstGeom prst="rect">
            <a:avLst/>
          </a:prstGeom>
          <a:ln w="0">
            <a:noFill/>
          </a:ln>
        </p:spPr>
      </p:pic>
      <p:sp>
        <p:nvSpPr>
          <p:cNvPr id="806" name="矩形 25603"/>
          <p:cNvSpPr/>
          <p:nvPr/>
        </p:nvSpPr>
        <p:spPr>
          <a:xfrm>
            <a:off x="660240" y="1084320"/>
            <a:ext cx="784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从平时所积累的知识中搜集关于描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“春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诗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豆生南国，春来发几枝？——王维《相思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知细叶谁裁出，二月春风似剪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贺知章《咏柳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是一年春好处，绝胜烟柳满皇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韩愈《早春呈水部张十八员外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几处早莺争暖树，谁家新燕啄春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白居易《钱塘湖春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阳春布德泽，万物生光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汉乐府《长歌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5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0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5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0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5" dur="500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0" dur="500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日期占位符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5FE6-83AF-4DED-929A-B12E5EB4B85A}" type="datetime">
              <a:rPr b="0" lang="zh-CN" sz="1200" spc="-1" strike="noStrike">
                <a:solidFill>
                  <a:srgbClr val="d38e27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矩形 4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5257800" cy="34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AutoShape 2" descr=""/>
          <p:cNvPicPr/>
          <p:nvPr/>
        </p:nvPicPr>
        <p:blipFill>
          <a:blip r:embed="rId1"/>
          <a:stretch/>
        </p:blipFill>
        <p:spPr>
          <a:xfrm>
            <a:off x="324000" y="244440"/>
            <a:ext cx="8424720" cy="9777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 txBox="1"/>
          <p:nvPr/>
        </p:nvSpPr>
        <p:spPr>
          <a:xfrm>
            <a:off x="0" y="1285920"/>
            <a:ext cx="875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蓑笠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suō lì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         </a:t>
            </a: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朗润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lǎng rùn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    </a:t>
            </a: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嗡嗡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wēng wēng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酝酿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yùn niàng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   </a:t>
            </a: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卖弄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mài nòng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   </a:t>
            </a: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婉转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wǎn zhuǎn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应和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yìng hè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       </a:t>
            </a: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嘹亮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liáo liàng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    </a:t>
            </a: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黄晕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huáng yùn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烘托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hōng tuō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    </a:t>
            </a: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风筝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fēng zhēng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    </a:t>
            </a: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静默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jìng mò]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舒活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【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shū huó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】  </a:t>
            </a:r>
            <a:r>
              <a:rPr b="1" lang="zh-CN" sz="2500" spc="-1" strike="noStrike">
                <a:solidFill>
                  <a:srgbClr val="4e3b30"/>
                </a:solidFill>
                <a:latin typeface="Franklin Gothic Book"/>
              </a:rPr>
              <a:t>抖擞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2500" spc="-1" strike="noStrike">
                <a:solidFill>
                  <a:srgbClr val="c00000"/>
                </a:solidFill>
                <a:latin typeface="Franklin Gothic Book"/>
              </a:rPr>
              <a:t>dǒu sǒu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]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457200" y="571680"/>
            <a:ext cx="86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欣欣然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xīn xīn rán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]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繁花嫩叶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【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fán huā nèn yè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】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呼朋引伴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【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hū péng yǐn bàn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】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花枝招展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[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huā zhī zhāo zhǎn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]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日期占位符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3348-E67D-443B-A1F7-A4A51628F922}" type="datetime">
              <a:rPr b="0" lang="zh-CN" sz="1200" spc="-1" strike="noStrike">
                <a:solidFill>
                  <a:srgbClr val="d38e27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"/>
          <p:cNvSpPr/>
          <p:nvPr/>
        </p:nvSpPr>
        <p:spPr>
          <a:xfrm>
            <a:off x="642960" y="428616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1571760" y="31431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和平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hé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571760" y="37148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唱和、应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hè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1571760" y="428616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和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1571760" y="4857840"/>
            <a:ext cx="19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和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ú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1759680" y="542916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和面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"/>
          <p:cNvSpPr/>
          <p:nvPr/>
        </p:nvSpPr>
        <p:spPr>
          <a:xfrm>
            <a:off x="1285920" y="3357720"/>
            <a:ext cx="285840" cy="24285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8880 h 2428560"/>
              <a:gd name="textAreaBottom" fmla="*/ 2389680 h 24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5"/>
                  <a:pt x="10800" y="1110"/>
                </a:cubicBezTo>
                <a:lnTo>
                  <a:pt x="10800" y="9089"/>
                </a:lnTo>
                <a:cubicBezTo>
                  <a:pt x="10800" y="9644"/>
                  <a:pt x="5400" y="10199"/>
                  <a:pt x="0" y="10199"/>
                </a:cubicBezTo>
                <a:cubicBezTo>
                  <a:pt x="5400" y="10199"/>
                  <a:pt x="10800" y="10754"/>
                  <a:pt x="10800" y="11309"/>
                </a:cubicBezTo>
                <a:lnTo>
                  <a:pt x="10800" y="20490"/>
                </a:lnTo>
                <a:cubicBezTo>
                  <a:pt x="10800" y="2104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e4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4643280" y="42148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左大括号 12"/>
          <p:cNvSpPr/>
          <p:nvPr/>
        </p:nvSpPr>
        <p:spPr>
          <a:xfrm>
            <a:off x="5214960" y="3857760"/>
            <a:ext cx="428760" cy="1285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285920"/>
              <a:gd name="textAreaBottom" fmla="*/ 12747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599"/>
                </a:cubicBezTo>
                <a:lnTo>
                  <a:pt x="10800" y="10201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399"/>
                </a:cubicBezTo>
                <a:lnTo>
                  <a:pt x="10800" y="21001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5715000" y="364320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晕头转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5"/>
          <p:cNvSpPr/>
          <p:nvPr/>
        </p:nvSpPr>
        <p:spPr>
          <a:xfrm>
            <a:off x="5715000" y="485784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黄晕、光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ùn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日期占位符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397C-CE1A-4D02-87FF-EE9E47DBA51A}" type="datetime">
              <a:rPr b="0" lang="zh-CN" sz="1200" spc="-1" strike="noStrike">
                <a:solidFill>
                  <a:srgbClr val="d38e27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"/>
          <p:cNvSpPr/>
          <p:nvPr/>
        </p:nvSpPr>
        <p:spPr>
          <a:xfrm>
            <a:off x="0" y="285840"/>
            <a:ext cx="885816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听录音，把握感情基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朗读课文，思考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作者以怎样的心情迎接春天的到来？哪些词可以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你能按照盼春、绘春、赞春的提示把文章分为三个部分吗？具体描绘了哪五幅春景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4"/>
          <p:cNvSpPr/>
          <p:nvPr/>
        </p:nvSpPr>
        <p:spPr>
          <a:xfrm>
            <a:off x="857160" y="38577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盼春。“盼望着”“来了”“近了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日期占位符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041E-592F-42AA-A250-AC2C62889F04}" type="datetime">
              <a:rPr b="0" lang="zh-CN" sz="1200" spc="-1" strike="noStrike">
                <a:solidFill>
                  <a:srgbClr val="d38e27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"/>
          <p:cNvSpPr/>
          <p:nvPr/>
        </p:nvSpPr>
        <p:spPr>
          <a:xfrm>
            <a:off x="380880" y="336600"/>
            <a:ext cx="33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理清文章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3"/>
          <p:cNvSpPr/>
          <p:nvPr/>
        </p:nvSpPr>
        <p:spPr>
          <a:xfrm>
            <a:off x="357120" y="1214280"/>
            <a:ext cx="821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盼春。总领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—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绘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五幅春景图：春草图、春花图、春风图、春雨图、迎春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—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赞春。（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“新”“美”“力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日期占位符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0608-B444-4E5B-910A-6A25C5B0E51F}" type="datetime">
              <a:rPr b="0" lang="zh-CN" sz="1200" spc="-1" strike="noStrike">
                <a:solidFill>
                  <a:srgbClr val="d38e27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"/>
          <p:cNvSpPr/>
          <p:nvPr/>
        </p:nvSpPr>
        <p:spPr>
          <a:xfrm>
            <a:off x="214200" y="21420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课文精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4"/>
          <p:cNvSpPr/>
          <p:nvPr/>
        </p:nvSpPr>
        <p:spPr>
          <a:xfrm>
            <a:off x="428760" y="1071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第一部分：盼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285840" y="185724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盼望着，盼望着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风来了，春天的脚步近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1122120" y="2643120"/>
            <a:ext cx="287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的心情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2149560" y="350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急切、喜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646200" y="4143240"/>
            <a:ext cx="8497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运用了哪些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达了人们对春天的什么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日期占位符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8FA1-4479-4C6B-9638-78A6F532DD61}" type="datetime">
              <a:rPr b="0" lang="zh-CN" sz="1200" spc="-1" strike="noStrike">
                <a:solidFill>
                  <a:srgbClr val="d38e27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140328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盼望着，盼望着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755640" y="24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反复，表达了作者盼春心切的强烈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1116000" y="3573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风来了，春天的脚步近了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1042920" y="458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拟人，宣告春天到来，表达喜春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2:35:44Z</dcterms:created>
  <dc:creator>Liiang</dc:creator>
  <dc:description/>
  <dc:language>en-US</dc:language>
  <cp:lastModifiedBy>Administrator</cp:lastModifiedBy>
  <dcterms:modified xsi:type="dcterms:W3CDTF">2018-09-08T08:25:40Z</dcterms:modified>
  <cp:revision>1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1</vt:lpwstr>
  </property>
</Properties>
</file>