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png" ContentType="image/png"/>
  <Override PartName="/ppt/media/image18.jpeg" ContentType="image/jpeg"/>
  <Override PartName="/ppt/media/image21.jpeg" ContentType="image/jpeg"/>
  <Override PartName="/ppt/media/chimes.wav" ContentType="audio/x-wav"/>
  <Override PartName="/ppt/media/image17.gif" ContentType="image/gif"/>
  <Override PartName="/ppt/media/image27.jpeg" ContentType="image/jpeg"/>
  <Override PartName="/ppt/media/image14.gif" ContentType="image/gif"/>
  <Override PartName="/ppt/media/image3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29.jpeg" ContentType="image/jpeg"/>
  <Override PartName="/ppt/media/image11.png" ContentType="image/png"/>
  <Override PartName="/ppt/media/image12.jpeg" ContentType="image/jpeg"/>
  <Override PartName="/ppt/media/image10.gif" ContentType="image/gif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9.gif" ContentType="image/gif"/>
  <Override PartName="/ppt/media/image16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A31-5BB9-46FB-A7B1-4FEC172A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1DE-295A-485B-8A0B-1D7AFAE0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0CC-B7E7-4FFE-BD05-67BDA1FB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7BD-D0F5-43FC-A7EA-2E641E5E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58EB-BBFA-40B2-A683-04CACC3D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0CB1-A602-45F0-8E2B-73EBDC47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B237-ACCA-420F-AC16-B43776EA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A29D-EE28-42AB-B15A-75DFF983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300F-F526-4D5E-9C34-3265FF39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163C-5458-4E22-B240-71B5F7AC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38D7-6FDF-413F-8FFC-439E776B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624-49DA-4B08-BD1C-C196F9C3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52C0-B068-4ADA-A374-25715DE5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4D72-77B9-412C-B2D8-15CCEDD5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DFB4-1BDA-44F5-96DB-11847C71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BC10-099F-4A78-A11A-234147D4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930A-27E3-4122-BF6C-BA5CFA5C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84F-55B1-44F4-AA84-DA342911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860E-2DF3-4098-9004-5BD89E63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F60A-247D-48FE-8ADE-94BE41FE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6AA38-7290-4E4D-81E3-E4333490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1AA-AB7F-488D-8C28-09FFF65E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1444-F471-4974-BF5D-5D1C00BC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33E7F-8D54-47F3-BAC4-A8CB4464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648C-6DC9-4D85-89B8-22B9B7D8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846B-57D2-4866-AD03-E038BBF4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D1A3-5D76-4E91-820A-76207094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3D95-BA96-42DD-8039-6220702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4157-79F7-4D8A-8021-74183139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87FD-09F4-422E-BED2-66FBFE9E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268AB-77D3-4B29-B11B-8F244894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25E-DB5C-4553-AC3F-2756BE8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959-B446-4D5D-8ED3-19DC8A85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869-891D-4A47-9320-BF44CEF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A04-95A1-4318-B4DE-D38B3EA8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716-E539-4DCF-9A38-C7D571CE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D092-2C70-4F59-84F6-D9C9879A25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9957-D165-4AEB-A72F-61F50EF773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27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6791-598A-4E62-BA74-FC71F2B841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7"/>
          <p:cNvSpPr/>
          <p:nvPr/>
        </p:nvSpPr>
        <p:spPr>
          <a:xfrm>
            <a:off x="0" y="2421000"/>
            <a:ext cx="9144000" cy="2232000"/>
          </a:xfrm>
          <a:prstGeom prst="rect">
            <a:avLst/>
          </a:prstGeom>
          <a:solidFill>
            <a:srgbClr val="ffc000">
              <a:alpha val="38000"/>
            </a:srgbClr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zhyz.gdzh.gov.cn/resource/picture/gifdh/dwl/fdl/z.htm" TargetMode="External"/><Relationship Id="rId3" Type="http://schemas.openxmlformats.org/officeDocument/2006/relationships/image" Target="../media/image14.gif"/><Relationship Id="rId4" Type="http://schemas.openxmlformats.org/officeDocument/2006/relationships/hyperlink" Target="http://zhyz.gdzh.gov.cn/resource/picture/gifdh/dwl/fdl/z.htm" TargetMode="External"/><Relationship Id="rId5" Type="http://schemas.openxmlformats.org/officeDocument/2006/relationships/image" Target="../media/image14.gif"/><Relationship Id="rId6" Type="http://schemas.openxmlformats.org/officeDocument/2006/relationships/hyperlink" Target="http://zhyz.gdzh.gov.cn/resource/picture/gifdh/dwl/fdl/z.htm" TargetMode="External"/><Relationship Id="rId7" Type="http://schemas.openxmlformats.org/officeDocument/2006/relationships/image" Target="../media/image14.gif"/><Relationship Id="rId8" Type="http://schemas.openxmlformats.org/officeDocument/2006/relationships/hyperlink" Target="http://zhyz.gdzh.gov.cn/resource/picture/gifdh/dwl/fdl/z.htm" TargetMode="External"/><Relationship Id="rId9" Type="http://schemas.openxmlformats.org/officeDocument/2006/relationships/image" Target="../media/image14.gif"/><Relationship Id="rId10" Type="http://schemas.openxmlformats.org/officeDocument/2006/relationships/hyperlink" Target="http://zhyz.gdzh.gov.cn/resource/picture/gifdh/dwl/fdl/z.htm" TargetMode="External"/><Relationship Id="rId11" Type="http://schemas.openxmlformats.org/officeDocument/2006/relationships/image" Target="../media/image14.gif"/><Relationship Id="rId12" Type="http://schemas.openxmlformats.org/officeDocument/2006/relationships/hyperlink" Target="http://zhyz.gdzh.gov.cn/resource/picture/gifdh/dwl/fdl/z.htm" TargetMode="External"/><Relationship Id="rId13" Type="http://schemas.openxmlformats.org/officeDocument/2006/relationships/image" Target="../media/image14.gif"/><Relationship Id="rId14" Type="http://schemas.openxmlformats.org/officeDocument/2006/relationships/hyperlink" Target="http://zhyz.gdzh.gov.cn/resource/picture/gifdh/dwl/fdl/z.htm" TargetMode="External"/><Relationship Id="rId15" Type="http://schemas.openxmlformats.org/officeDocument/2006/relationships/image" Target="../media/image14.gif"/><Relationship Id="rId16" Type="http://schemas.openxmlformats.org/officeDocument/2006/relationships/hyperlink" Target="http://zhyz.gdzh.gov.cn/resource/picture/gifdh/dwl/fdl/z.htm" TargetMode="External"/><Relationship Id="rId17" Type="http://schemas.openxmlformats.org/officeDocument/2006/relationships/image" Target="../media/image14.gif"/><Relationship Id="rId18" Type="http://schemas.openxmlformats.org/officeDocument/2006/relationships/hyperlink" Target="http://zhyz.gdzh.gov.cn/resource/picture/gifdh/dwl/fdl/z.htm" TargetMode="External"/><Relationship Id="rId19" Type="http://schemas.openxmlformats.org/officeDocument/2006/relationships/image" Target="../media/image14.gif"/><Relationship Id="rId20" Type="http://schemas.openxmlformats.org/officeDocument/2006/relationships/hyperlink" Target="http://zhyz.gdzh.gov.cn/resource/picture/gifdh/dwl/fdl/z.htm" TargetMode="External"/><Relationship Id="rId21" Type="http://schemas.openxmlformats.org/officeDocument/2006/relationships/image" Target="../media/image14.gif"/><Relationship Id="rId22" Type="http://schemas.openxmlformats.org/officeDocument/2006/relationships/hyperlink" Target="http://zhyz.gdzh.gov.cn/resource/picture/gifdh/dwl/fdl/z.htm" TargetMode="External"/><Relationship Id="rId23" Type="http://schemas.openxmlformats.org/officeDocument/2006/relationships/image" Target="../media/image14.gif"/><Relationship Id="rId24" Type="http://schemas.openxmlformats.org/officeDocument/2006/relationships/hyperlink" Target="http://zhyz.gdzh.gov.cn/resource/picture/gifdh/dwl/fdl/z.htm" TargetMode="External"/><Relationship Id="rId25" Type="http://schemas.openxmlformats.org/officeDocument/2006/relationships/image" Target="../media/image14.gif"/><Relationship Id="rId26" Type="http://schemas.openxmlformats.org/officeDocument/2006/relationships/image" Target="../media/image15.gif"/><Relationship Id="rId27" Type="http://schemas.openxmlformats.org/officeDocument/2006/relationships/image" Target="../media/image15.gif"/><Relationship Id="rId28" Type="http://schemas.openxmlformats.org/officeDocument/2006/relationships/image" Target="../media/image15.gif"/><Relationship Id="rId29" Type="http://schemas.openxmlformats.org/officeDocument/2006/relationships/image" Target="../media/image15.gif"/><Relationship Id="rId30" Type="http://schemas.openxmlformats.org/officeDocument/2006/relationships/image" Target="../media/image15.gif"/><Relationship Id="rId31" Type="http://schemas.openxmlformats.org/officeDocument/2006/relationships/image" Target="../media/image15.gif"/><Relationship Id="rId32" Type="http://schemas.openxmlformats.org/officeDocument/2006/relationships/image" Target="../media/image15.gif"/><Relationship Id="rId33" Type="http://schemas.openxmlformats.org/officeDocument/2006/relationships/image" Target="../media/image15.gif"/><Relationship Id="rId34" Type="http://schemas.openxmlformats.org/officeDocument/2006/relationships/image" Target="../media/image15.gif"/><Relationship Id="rId35" Type="http://schemas.openxmlformats.org/officeDocument/2006/relationships/image" Target="../media/image15.gif"/><Relationship Id="rId36" Type="http://schemas.openxmlformats.org/officeDocument/2006/relationships/image" Target="../media/image15.gif"/><Relationship Id="rId37" Type="http://schemas.openxmlformats.org/officeDocument/2006/relationships/image" Target="../media/image15.gif"/><Relationship Id="rId38" Type="http://schemas.openxmlformats.org/officeDocument/2006/relationships/image" Target="../media/image15.gif"/><Relationship Id="rId39" Type="http://schemas.openxmlformats.org/officeDocument/2006/relationships/image" Target="../media/image15.gif"/><Relationship Id="rId40" Type="http://schemas.openxmlformats.org/officeDocument/2006/relationships/image" Target="../media/image15.gif"/><Relationship Id="rId41" Type="http://schemas.openxmlformats.org/officeDocument/2006/relationships/image" Target="../media/image15.gif"/><Relationship Id="rId42" Type="http://schemas.openxmlformats.org/officeDocument/2006/relationships/image" Target="../media/image15.gif"/><Relationship Id="rId43" Type="http://schemas.openxmlformats.org/officeDocument/2006/relationships/image" Target="../media/image15.gif"/><Relationship Id="rId44" Type="http://schemas.openxmlformats.org/officeDocument/2006/relationships/image" Target="../media/image15.gif"/><Relationship Id="rId45" Type="http://schemas.openxmlformats.org/officeDocument/2006/relationships/image" Target="../media/image15.gif"/><Relationship Id="rId46" Type="http://schemas.openxmlformats.org/officeDocument/2006/relationships/image" Target="../media/image15.gif"/><Relationship Id="rId47" Type="http://schemas.openxmlformats.org/officeDocument/2006/relationships/image" Target="../media/image15.gif"/><Relationship Id="rId48" Type="http://schemas.openxmlformats.org/officeDocument/2006/relationships/image" Target="../media/image15.gif"/><Relationship Id="rId49" Type="http://schemas.openxmlformats.org/officeDocument/2006/relationships/image" Target="../media/image15.gif"/><Relationship Id="rId50" Type="http://schemas.openxmlformats.org/officeDocument/2006/relationships/image" Target="../media/image15.gif"/><Relationship Id="rId51" Type="http://schemas.openxmlformats.org/officeDocument/2006/relationships/image" Target="../media/image15.gif"/><Relationship Id="rId52" Type="http://schemas.openxmlformats.org/officeDocument/2006/relationships/image" Target="../media/image15.gif"/><Relationship Id="rId53" Type="http://schemas.openxmlformats.org/officeDocument/2006/relationships/image" Target="../media/image15.gif"/><Relationship Id="rId54" Type="http://schemas.openxmlformats.org/officeDocument/2006/relationships/image" Target="../media/image15.gif"/><Relationship Id="rId55" Type="http://schemas.openxmlformats.org/officeDocument/2006/relationships/image" Target="../media/image15.gif"/><Relationship Id="rId56" Type="http://schemas.openxmlformats.org/officeDocument/2006/relationships/image" Target="../media/image15.gif"/><Relationship Id="rId57" Type="http://schemas.openxmlformats.org/officeDocument/2006/relationships/image" Target="../media/image15.gif"/><Relationship Id="rId58" Type="http://schemas.openxmlformats.org/officeDocument/2006/relationships/image" Target="../media/image14.gif"/><Relationship Id="rId59" Type="http://schemas.openxmlformats.org/officeDocument/2006/relationships/image" Target="../media/image14.gif"/><Relationship Id="rId60" Type="http://schemas.openxmlformats.org/officeDocument/2006/relationships/image" Target="../media/image14.gif"/><Relationship Id="rId61" Type="http://schemas.openxmlformats.org/officeDocument/2006/relationships/image" Target="../media/image14.gif"/><Relationship Id="rId62" Type="http://schemas.openxmlformats.org/officeDocument/2006/relationships/image" Target="../media/image14.gif"/><Relationship Id="rId63" Type="http://schemas.openxmlformats.org/officeDocument/2006/relationships/image" Target="../media/image14.gif"/><Relationship Id="rId64" Type="http://schemas.openxmlformats.org/officeDocument/2006/relationships/image" Target="../media/image14.gif"/><Relationship Id="rId65" Type="http://schemas.openxmlformats.org/officeDocument/2006/relationships/image" Target="../media/image14.gif"/><Relationship Id="rId66" Type="http://schemas.openxmlformats.org/officeDocument/2006/relationships/image" Target="../media/image14.gif"/><Relationship Id="rId67" Type="http://schemas.openxmlformats.org/officeDocument/2006/relationships/image" Target="../media/image14.gif"/><Relationship Id="rId68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baike.baidu.com/view/15168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85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Calibri"/>
                <a:ea typeface="楷体_GB2312"/>
              </a:rPr>
              <a:t>春</a:t>
            </a:r>
            <a:endParaRPr b="1" lang="en-US" sz="8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04000" y="4725720"/>
            <a:ext cx="2224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  <a:ea typeface="楷体_GB2312"/>
              </a:rPr>
              <a:t>朱自清</a:t>
            </a:r>
            <a:endParaRPr b="0" lang="en-US" sz="4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609480" y="30492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辨析形似字的字音及字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1066680" y="14479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905120" y="1371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219320" y="1371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743200" y="1371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嫩嫩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219320" y="2057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1905120" y="2057400"/>
            <a:ext cx="129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l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743200" y="2057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懒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4648320" y="1219320"/>
            <a:ext cx="304560" cy="1676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4876920" y="1143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486400" y="1143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zh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6400800" y="114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眨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487692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5486400" y="1676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f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6400800" y="1676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泛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4876920" y="2209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5410080" y="220968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biǎ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6400800" y="2209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贬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4648320" y="342900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4876920" y="3352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548640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li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6400800" y="342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嘹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487692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5"/>
          <p:cNvSpPr/>
          <p:nvPr/>
        </p:nvSpPr>
        <p:spPr>
          <a:xfrm>
            <a:off x="5450400" y="3886200"/>
            <a:ext cx="9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li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640080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缭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4876920" y="4419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8"/>
          <p:cNvSpPr/>
          <p:nvPr/>
        </p:nvSpPr>
        <p:spPr>
          <a:xfrm>
            <a:off x="5450400" y="4495680"/>
            <a:ext cx="9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li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6324480" y="44956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星火燎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0"/>
          <p:cNvSpPr/>
          <p:nvPr/>
        </p:nvSpPr>
        <p:spPr>
          <a:xfrm>
            <a:off x="1066680" y="34290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1"/>
          <p:cNvSpPr/>
          <p:nvPr/>
        </p:nvSpPr>
        <p:spPr>
          <a:xfrm>
            <a:off x="1219320" y="3352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2"/>
          <p:cNvSpPr/>
          <p:nvPr/>
        </p:nvSpPr>
        <p:spPr>
          <a:xfrm>
            <a:off x="1752480" y="33526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3"/>
          <p:cNvSpPr/>
          <p:nvPr/>
        </p:nvSpPr>
        <p:spPr>
          <a:xfrm>
            <a:off x="274320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赶趟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4"/>
          <p:cNvSpPr/>
          <p:nvPr/>
        </p:nvSpPr>
        <p:spPr>
          <a:xfrm>
            <a:off x="1219320" y="38862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5"/>
          <p:cNvSpPr/>
          <p:nvPr/>
        </p:nvSpPr>
        <p:spPr>
          <a:xfrm>
            <a:off x="175248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tǎ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6"/>
          <p:cNvSpPr/>
          <p:nvPr/>
        </p:nvSpPr>
        <p:spPr>
          <a:xfrm>
            <a:off x="281952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躺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7"/>
          <p:cNvSpPr/>
          <p:nvPr/>
        </p:nvSpPr>
        <p:spPr>
          <a:xfrm>
            <a:off x="1219320" y="4495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8"/>
          <p:cNvSpPr/>
          <p:nvPr/>
        </p:nvSpPr>
        <p:spPr>
          <a:xfrm>
            <a:off x="1697760" y="44956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tǎ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9"/>
          <p:cNvSpPr/>
          <p:nvPr/>
        </p:nvSpPr>
        <p:spPr>
          <a:xfrm>
            <a:off x="281952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32"/>
          <p:cNvSpPr/>
          <p:nvPr/>
        </p:nvSpPr>
        <p:spPr>
          <a:xfrm>
            <a:off x="685800" y="609480"/>
            <a:ext cx="228600" cy="2590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1"/>
          <p:cNvSpPr/>
          <p:nvPr/>
        </p:nvSpPr>
        <p:spPr>
          <a:xfrm>
            <a:off x="838080" y="685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1371600" y="685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hō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9"/>
          <p:cNvSpPr/>
          <p:nvPr/>
        </p:nvSpPr>
        <p:spPr>
          <a:xfrm>
            <a:off x="2590920" y="685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烘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83808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1371600" y="1295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hǒ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2590920" y="1295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哄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838080" y="1905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13716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ó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3"/>
          <p:cNvSpPr/>
          <p:nvPr/>
        </p:nvSpPr>
        <p:spPr>
          <a:xfrm>
            <a:off x="25909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洪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838080" y="2514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1371600" y="243828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gǒ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2590920" y="2514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拱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9"/>
          <p:cNvSpPr/>
          <p:nvPr/>
        </p:nvSpPr>
        <p:spPr>
          <a:xfrm>
            <a:off x="4800600" y="9144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4952880" y="8380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54864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6095880" y="838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4952880" y="1523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48640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6095880" y="1523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2"/>
          <p:cNvSpPr/>
          <p:nvPr/>
        </p:nvSpPr>
        <p:spPr>
          <a:xfrm>
            <a:off x="4724280" y="251460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48769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5486400" y="2590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u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6324480" y="2590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蓑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876920" y="3276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5410080" y="32767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huā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553080" y="3276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衰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4876920" y="4038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486400" y="40384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ā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1992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悲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210"/>
          <p:cNvPicPr/>
          <p:nvPr/>
        </p:nvPicPr>
        <p:blipFill>
          <a:blip r:embed="rId1"/>
          <a:stretch/>
        </p:blipFill>
        <p:spPr>
          <a:xfrm>
            <a:off x="533520" y="4038480"/>
            <a:ext cx="1855800" cy="18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-223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意思写词语</a:t>
            </a:r>
            <a:endParaRPr b="1" lang="en-US" sz="32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、欢欢喜喜的样子。      （          ）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、呼唤朋友，招引同伴。  （          ）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、比喻姿态优美。        （          ）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、舒展、活动。          （          ）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、明朗润泽。            （　        ） 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、各种气息在空气里像发酵似的越来越浓。（　     ） 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、一年的计划在春季考虑安排。（    　            ）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4861080" y="693720"/>
            <a:ext cx="41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欣欣然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呼朋引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花枝招展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舒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朗润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酝酿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年之计在于春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自学指导一：听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课文范读，整体把握内容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：</a:t>
            </a:r>
            <a:endParaRPr b="1" lang="en-US" sz="32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ff9933"/>
                </a:solidFill>
                <a:latin typeface="楷体"/>
                <a:ea typeface="楷体"/>
              </a:rPr>
              <a:t>、读音正确 ，声音洪亮。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ff9933"/>
                </a:solidFill>
                <a:latin typeface="楷体"/>
                <a:ea typeface="楷体"/>
              </a:rPr>
              <a:t>、把握好感情的变化。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楷体"/>
                <a:ea typeface="楷体"/>
              </a:rPr>
              <a:t>3</a:t>
            </a:r>
            <a:r>
              <a:rPr b="1" lang="zh-CN" sz="4000" spc="-1" strike="noStrike">
                <a:solidFill>
                  <a:srgbClr val="ff9933"/>
                </a:solidFill>
                <a:latin typeface="楷体"/>
                <a:ea typeface="楷体"/>
              </a:rPr>
              <a:t>、读出抑扬顿挫、轻重缓急的美感。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340" name="朗诵示范.mp3" descr=""/>
          <p:cNvPicPr/>
          <p:nvPr/>
        </p:nvPicPr>
        <p:blipFill>
          <a:blip r:embed="rId1"/>
          <a:stretch/>
        </p:blipFill>
        <p:spPr>
          <a:xfrm>
            <a:off x="714240" y="5643720"/>
            <a:ext cx="662040" cy="661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322302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-34920" y="117360"/>
            <a:ext cx="9072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课文都描绘了春的哪些景物？试着用小标题概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抒发了作者怎样的感情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由此看来，课文可以分成几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6360" y="2852640"/>
            <a:ext cx="910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、春草图、春花图、春风图、春雨图、迎春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、对春的喜爱和赞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、三部分：盼春、绘春、颂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"/>
          <p:cNvSpPr/>
          <p:nvPr/>
        </p:nvSpPr>
        <p:spPr>
          <a:xfrm>
            <a:off x="3659400" y="289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春草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图片6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2"/>
          <p:cNvSpPr/>
          <p:nvPr/>
        </p:nvSpPr>
        <p:spPr>
          <a:xfrm>
            <a:off x="7744320" y="189036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春花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0097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00974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4869000"/>
            <a:ext cx="540000" cy="479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00974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0000" y="1413000"/>
            <a:ext cx="539640" cy="479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00974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16000" y="1773360"/>
            <a:ext cx="539640" cy="479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00974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411280" y="2060640"/>
            <a:ext cx="540000" cy="479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009742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435640" y="4365720"/>
            <a:ext cx="539640" cy="479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009742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419640" y="90792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1" descr="00974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492360" y="2852640"/>
            <a:ext cx="540000" cy="479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009742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500720" y="148428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009742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788000" y="2565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009742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009742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6588000" y="5589720"/>
            <a:ext cx="540000" cy="479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bee1"/>
          <p:cNvPicPr/>
          <p:nvPr/>
        </p:nvPicPr>
        <p:blipFill>
          <a:blip r:embed="rId26"/>
          <a:stretch/>
        </p:blipFill>
        <p:spPr>
          <a:xfrm>
            <a:off x="2484360" y="4869000"/>
            <a:ext cx="460440" cy="504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7" descr="bee1"/>
          <p:cNvPicPr/>
          <p:nvPr/>
        </p:nvPicPr>
        <p:blipFill>
          <a:blip r:embed="rId27"/>
          <a:stretch/>
        </p:blipFill>
        <p:spPr>
          <a:xfrm>
            <a:off x="4932360" y="4365720"/>
            <a:ext cx="460440" cy="504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8" descr="bee1"/>
          <p:cNvPicPr/>
          <p:nvPr/>
        </p:nvPicPr>
        <p:blipFill>
          <a:blip r:embed="rId28"/>
          <a:stretch/>
        </p:blipFill>
        <p:spPr>
          <a:xfrm>
            <a:off x="5580000" y="5084640"/>
            <a:ext cx="460440" cy="505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9" descr="bee1"/>
          <p:cNvPicPr/>
          <p:nvPr/>
        </p:nvPicPr>
        <p:blipFill>
          <a:blip r:embed="rId29"/>
          <a:stretch/>
        </p:blipFill>
        <p:spPr>
          <a:xfrm>
            <a:off x="6659640" y="4869000"/>
            <a:ext cx="460440" cy="504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0" descr="bee1"/>
          <p:cNvPicPr/>
          <p:nvPr/>
        </p:nvPicPr>
        <p:blipFill>
          <a:blip r:embed="rId30"/>
          <a:stretch/>
        </p:blipFill>
        <p:spPr>
          <a:xfrm>
            <a:off x="1042920" y="3068640"/>
            <a:ext cx="460440" cy="504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1" descr="bee1"/>
          <p:cNvPicPr/>
          <p:nvPr/>
        </p:nvPicPr>
        <p:blipFill>
          <a:blip r:embed="rId31"/>
          <a:stretch/>
        </p:blipFill>
        <p:spPr>
          <a:xfrm>
            <a:off x="2268360" y="2708280"/>
            <a:ext cx="460440" cy="504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2" descr="bee1"/>
          <p:cNvPicPr/>
          <p:nvPr/>
        </p:nvPicPr>
        <p:blipFill>
          <a:blip r:embed="rId32"/>
          <a:stretch/>
        </p:blipFill>
        <p:spPr>
          <a:xfrm>
            <a:off x="6227640" y="3357720"/>
            <a:ext cx="460440" cy="504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3" descr="bee1"/>
          <p:cNvPicPr/>
          <p:nvPr/>
        </p:nvPicPr>
        <p:blipFill>
          <a:blip r:embed="rId33"/>
          <a:stretch/>
        </p:blipFill>
        <p:spPr>
          <a:xfrm>
            <a:off x="5292720" y="3284640"/>
            <a:ext cx="460440" cy="504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4" descr="bee1"/>
          <p:cNvPicPr/>
          <p:nvPr/>
        </p:nvPicPr>
        <p:blipFill>
          <a:blip r:embed="rId34"/>
          <a:stretch/>
        </p:blipFill>
        <p:spPr>
          <a:xfrm>
            <a:off x="1187280" y="3860640"/>
            <a:ext cx="460440" cy="505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5" descr="bee1"/>
          <p:cNvPicPr/>
          <p:nvPr/>
        </p:nvPicPr>
        <p:blipFill>
          <a:blip r:embed="rId35"/>
          <a:stretch/>
        </p:blipFill>
        <p:spPr>
          <a:xfrm>
            <a:off x="539640" y="1484280"/>
            <a:ext cx="460440" cy="504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6" descr="bee1"/>
          <p:cNvPicPr/>
          <p:nvPr/>
        </p:nvPicPr>
        <p:blipFill>
          <a:blip r:embed="rId36"/>
          <a:stretch/>
        </p:blipFill>
        <p:spPr>
          <a:xfrm>
            <a:off x="1042920" y="4437000"/>
            <a:ext cx="460440" cy="504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7" descr="bee1"/>
          <p:cNvPicPr/>
          <p:nvPr/>
        </p:nvPicPr>
        <p:blipFill>
          <a:blip r:embed="rId37"/>
          <a:stretch/>
        </p:blipFill>
        <p:spPr>
          <a:xfrm>
            <a:off x="5003640" y="692280"/>
            <a:ext cx="586080" cy="439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8" descr="bee1"/>
          <p:cNvPicPr/>
          <p:nvPr/>
        </p:nvPicPr>
        <p:blipFill>
          <a:blip r:embed="rId38"/>
          <a:stretch/>
        </p:blipFill>
        <p:spPr>
          <a:xfrm>
            <a:off x="6156360" y="4149720"/>
            <a:ext cx="585720" cy="439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9" descr="bee1"/>
          <p:cNvPicPr/>
          <p:nvPr/>
        </p:nvPicPr>
        <p:blipFill>
          <a:blip r:embed="rId39"/>
          <a:stretch/>
        </p:blipFill>
        <p:spPr>
          <a:xfrm>
            <a:off x="1476360" y="5157720"/>
            <a:ext cx="585720" cy="439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0" descr="bee1"/>
          <p:cNvPicPr/>
          <p:nvPr/>
        </p:nvPicPr>
        <p:blipFill>
          <a:blip r:embed="rId40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1" descr="bee1"/>
          <p:cNvPicPr/>
          <p:nvPr/>
        </p:nvPicPr>
        <p:blipFill>
          <a:blip r:embed="rId41"/>
          <a:stretch/>
        </p:blipFill>
        <p:spPr>
          <a:xfrm>
            <a:off x="5364000" y="2637000"/>
            <a:ext cx="586080" cy="439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2" descr="bee1"/>
          <p:cNvPicPr/>
          <p:nvPr/>
        </p:nvPicPr>
        <p:blipFill>
          <a:blip r:embed="rId42"/>
          <a:stretch/>
        </p:blipFill>
        <p:spPr>
          <a:xfrm>
            <a:off x="2771640" y="2349360"/>
            <a:ext cx="586080" cy="439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3" descr="bee1"/>
          <p:cNvPicPr/>
          <p:nvPr/>
        </p:nvPicPr>
        <p:blipFill>
          <a:blip r:embed="rId43"/>
          <a:stretch/>
        </p:blipFill>
        <p:spPr>
          <a:xfrm>
            <a:off x="5508720" y="18900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" descr="bee1"/>
          <p:cNvPicPr/>
          <p:nvPr/>
        </p:nvPicPr>
        <p:blipFill>
          <a:blip r:embed="rId44"/>
          <a:stretch/>
        </p:blipFill>
        <p:spPr>
          <a:xfrm>
            <a:off x="7451640" y="981000"/>
            <a:ext cx="585720" cy="439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5" descr="bee1"/>
          <p:cNvPicPr/>
          <p:nvPr/>
        </p:nvPicPr>
        <p:blipFill>
          <a:blip r:embed="rId45"/>
          <a:stretch/>
        </p:blipFill>
        <p:spPr>
          <a:xfrm>
            <a:off x="8317080" y="170028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6" descr="bee1"/>
          <p:cNvPicPr/>
          <p:nvPr/>
        </p:nvPicPr>
        <p:blipFill>
          <a:blip r:embed="rId46"/>
          <a:stretch/>
        </p:blipFill>
        <p:spPr>
          <a:xfrm>
            <a:off x="3203640" y="587700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7" descr="bee1"/>
          <p:cNvPicPr/>
          <p:nvPr/>
        </p:nvPicPr>
        <p:blipFill>
          <a:blip r:embed="rId47"/>
          <a:stretch/>
        </p:blipFill>
        <p:spPr>
          <a:xfrm>
            <a:off x="4643280" y="6021360"/>
            <a:ext cx="586080" cy="439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8" descr="bee1"/>
          <p:cNvPicPr/>
          <p:nvPr/>
        </p:nvPicPr>
        <p:blipFill>
          <a:blip r:embed="rId48"/>
          <a:stretch/>
        </p:blipFill>
        <p:spPr>
          <a:xfrm>
            <a:off x="3851280" y="595008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9" descr="bee1"/>
          <p:cNvPicPr/>
          <p:nvPr/>
        </p:nvPicPr>
        <p:blipFill>
          <a:blip r:embed="rId49"/>
          <a:stretch/>
        </p:blipFill>
        <p:spPr>
          <a:xfrm>
            <a:off x="5867280" y="1916280"/>
            <a:ext cx="586080" cy="439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0" descr="bee1"/>
          <p:cNvPicPr/>
          <p:nvPr/>
        </p:nvPicPr>
        <p:blipFill>
          <a:blip r:embed="rId50"/>
          <a:stretch/>
        </p:blipFill>
        <p:spPr>
          <a:xfrm>
            <a:off x="4500720" y="364500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1" descr="bee1"/>
          <p:cNvPicPr/>
          <p:nvPr/>
        </p:nvPicPr>
        <p:blipFill>
          <a:blip r:embed="rId51"/>
          <a:stretch/>
        </p:blipFill>
        <p:spPr>
          <a:xfrm>
            <a:off x="2195640" y="5661000"/>
            <a:ext cx="585720" cy="439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2" descr="bee1"/>
          <p:cNvPicPr/>
          <p:nvPr/>
        </p:nvPicPr>
        <p:blipFill>
          <a:blip r:embed="rId52"/>
          <a:stretch/>
        </p:blipFill>
        <p:spPr>
          <a:xfrm>
            <a:off x="2340000" y="4149720"/>
            <a:ext cx="585720" cy="439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3" descr="bee1"/>
          <p:cNvPicPr/>
          <p:nvPr/>
        </p:nvPicPr>
        <p:blipFill>
          <a:blip r:embed="rId53"/>
          <a:stretch/>
        </p:blipFill>
        <p:spPr>
          <a:xfrm>
            <a:off x="2124000" y="83664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4" descr="bee1"/>
          <p:cNvPicPr/>
          <p:nvPr/>
        </p:nvPicPr>
        <p:blipFill>
          <a:blip r:embed="rId54"/>
          <a:stretch/>
        </p:blipFill>
        <p:spPr>
          <a:xfrm>
            <a:off x="2411280" y="3213000"/>
            <a:ext cx="586080" cy="439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5" descr="bee1"/>
          <p:cNvPicPr/>
          <p:nvPr/>
        </p:nvPicPr>
        <p:blipFill>
          <a:blip r:embed="rId55"/>
          <a:stretch/>
        </p:blipFill>
        <p:spPr>
          <a:xfrm>
            <a:off x="5580000" y="3789360"/>
            <a:ext cx="585720" cy="439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6" descr="bee1"/>
          <p:cNvPicPr/>
          <p:nvPr/>
        </p:nvPicPr>
        <p:blipFill>
          <a:blip r:embed="rId56"/>
          <a:stretch/>
        </p:blipFill>
        <p:spPr>
          <a:xfrm>
            <a:off x="539640" y="5373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7" descr="bee1"/>
          <p:cNvPicPr/>
          <p:nvPr/>
        </p:nvPicPr>
        <p:blipFill>
          <a:blip r:embed="rId57"/>
          <a:stretch/>
        </p:blipFill>
        <p:spPr>
          <a:xfrm>
            <a:off x="1763640" y="1989000"/>
            <a:ext cx="585720" cy="439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8" descr="009742"/>
          <p:cNvPicPr/>
          <p:nvPr/>
        </p:nvPicPr>
        <p:blipFill>
          <a:blip r:embed="rId58"/>
          <a:stretch/>
        </p:blipFill>
        <p:spPr>
          <a:xfrm>
            <a:off x="3492360" y="4149720"/>
            <a:ext cx="540000" cy="4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9" descr="009742"/>
          <p:cNvPicPr/>
          <p:nvPr/>
        </p:nvPicPr>
        <p:blipFill>
          <a:blip r:embed="rId59"/>
          <a:stretch/>
        </p:blipFill>
        <p:spPr>
          <a:xfrm>
            <a:off x="4643280" y="5300640"/>
            <a:ext cx="540000" cy="479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0" descr="009742"/>
          <p:cNvPicPr/>
          <p:nvPr/>
        </p:nvPicPr>
        <p:blipFill>
          <a:blip r:embed="rId60"/>
          <a:stretch/>
        </p:blipFill>
        <p:spPr>
          <a:xfrm>
            <a:off x="1116000" y="62064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1" descr="009742"/>
          <p:cNvPicPr/>
          <p:nvPr/>
        </p:nvPicPr>
        <p:blipFill>
          <a:blip r:embed="rId61"/>
          <a:stretch/>
        </p:blipFill>
        <p:spPr>
          <a:xfrm>
            <a:off x="1619280" y="537372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2" descr="009742"/>
          <p:cNvPicPr/>
          <p:nvPr/>
        </p:nvPicPr>
        <p:blipFill>
          <a:blip r:embed="rId62"/>
          <a:stretch/>
        </p:blipFill>
        <p:spPr>
          <a:xfrm>
            <a:off x="1692360" y="429264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3" descr="009742"/>
          <p:cNvPicPr/>
          <p:nvPr/>
        </p:nvPicPr>
        <p:blipFill>
          <a:blip r:embed="rId63"/>
          <a:stretch/>
        </p:blipFill>
        <p:spPr>
          <a:xfrm>
            <a:off x="8101080" y="544500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4" descr="009742"/>
          <p:cNvPicPr/>
          <p:nvPr/>
        </p:nvPicPr>
        <p:blipFill>
          <a:blip r:embed="rId64"/>
          <a:stretch/>
        </p:blipFill>
        <p:spPr>
          <a:xfrm>
            <a:off x="6948360" y="620640"/>
            <a:ext cx="540000" cy="479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5" descr="009742"/>
          <p:cNvPicPr/>
          <p:nvPr/>
        </p:nvPicPr>
        <p:blipFill>
          <a:blip r:embed="rId65"/>
          <a:stretch/>
        </p:blipFill>
        <p:spPr>
          <a:xfrm>
            <a:off x="250920" y="2637000"/>
            <a:ext cx="539640" cy="479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6" descr="009742"/>
          <p:cNvPicPr/>
          <p:nvPr/>
        </p:nvPicPr>
        <p:blipFill>
          <a:blip r:embed="rId66"/>
          <a:stretch/>
        </p:blipFill>
        <p:spPr>
          <a:xfrm>
            <a:off x="3635280" y="5373720"/>
            <a:ext cx="540000" cy="479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7" descr="009742"/>
          <p:cNvPicPr/>
          <p:nvPr/>
        </p:nvPicPr>
        <p:blipFill>
          <a:blip r:embed="rId67"/>
          <a:stretch/>
        </p:blipFill>
        <p:spPr>
          <a:xfrm>
            <a:off x="1619280" y="3284640"/>
            <a:ext cx="5396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2"/>
          <p:cNvSpPr/>
          <p:nvPr/>
        </p:nvSpPr>
        <p:spPr>
          <a:xfrm>
            <a:off x="7275960" y="191520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春风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3"/>
          <p:cNvSpPr/>
          <p:nvPr/>
        </p:nvSpPr>
        <p:spPr>
          <a:xfrm>
            <a:off x="7526520" y="1798920"/>
            <a:ext cx="1185840" cy="35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春雨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3" descr="图片sd1.jpg"/>
          <p:cNvPicPr/>
          <p:nvPr/>
        </p:nvPicPr>
        <p:blipFill>
          <a:blip r:embed="rId2"/>
          <a:stretch/>
        </p:blipFill>
        <p:spPr>
          <a:xfrm rot="1273800">
            <a:off x="-338040" y="655560"/>
            <a:ext cx="526392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8604360" y="6165720"/>
            <a:ext cx="539640" cy="35892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2465" h="21600">
                <a:moveTo>
                  <a:pt x="0" y="0"/>
                </a:moveTo>
                <a:lnTo>
                  <a:pt x="32465" y="0"/>
                </a:lnTo>
                <a:lnTo>
                  <a:pt x="32465" y="21600"/>
                </a:lnTo>
                <a:lnTo>
                  <a:pt x="0" y="21600"/>
                </a:lnTo>
                <a:close/>
              </a:path>
              <a:path fill="lightenLess" w="32465" h="21600">
                <a:moveTo>
                  <a:pt x="0" y="0"/>
                </a:moveTo>
                <a:lnTo>
                  <a:pt x="32465" y="0"/>
                </a:lnTo>
                <a:lnTo>
                  <a:pt x="31065" y="1400"/>
                </a:lnTo>
                <a:lnTo>
                  <a:pt x="1400" y="1400"/>
                </a:lnTo>
                <a:close/>
              </a:path>
              <a:path fill="darken" w="32465" h="21600">
                <a:moveTo>
                  <a:pt x="32465" y="0"/>
                </a:moveTo>
                <a:lnTo>
                  <a:pt x="32465" y="21600"/>
                </a:lnTo>
                <a:lnTo>
                  <a:pt x="31065" y="20200"/>
                </a:lnTo>
                <a:lnTo>
                  <a:pt x="31065" y="1400"/>
                </a:lnTo>
                <a:close/>
              </a:path>
              <a:path fill="darkenLess" w="32465" h="21600">
                <a:moveTo>
                  <a:pt x="32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5" y="20200"/>
                </a:lnTo>
                <a:close/>
              </a:path>
              <a:path fill="lighten" w="32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5" h="21600">
                <a:moveTo>
                  <a:pt x="9226" y="10800"/>
                </a:moveTo>
                <a:lnTo>
                  <a:pt x="23239" y="3794"/>
                </a:lnTo>
                <a:lnTo>
                  <a:pt x="2323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图片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62028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alibri"/>
                <a:ea typeface="楷体_GB2312"/>
              </a:rPr>
              <a:t>乱花渐欲迷人眼，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Calibri"/>
                <a:ea typeface="楷体_GB2312"/>
              </a:rPr>
              <a:t>浅草才能没马蹄。</a:t>
            </a:r>
            <a:endParaRPr b="1" lang="en-US" sz="36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1155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文章可以分为几个层次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1153800" y="1092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盼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48720" y="29210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绘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559520" y="5791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赞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7"/>
          <p:cNvSpPr/>
          <p:nvPr/>
        </p:nvSpPr>
        <p:spPr>
          <a:xfrm>
            <a:off x="2411280" y="3500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8"/>
          <p:cNvSpPr/>
          <p:nvPr/>
        </p:nvSpPr>
        <p:spPr>
          <a:xfrm>
            <a:off x="2627280" y="616572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>
            <a:off x="3059280" y="1989000"/>
            <a:ext cx="309240" cy="3024360"/>
          </a:xfrm>
          <a:custGeom>
            <a:avLst/>
            <a:gdLst>
              <a:gd name="textAreaLeft" fmla="*/ 197640 w 309240"/>
              <a:gd name="textAreaRight" fmla="*/ 309600 w 30924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4075560" y="5877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、美、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0"/>
          <p:cNvSpPr/>
          <p:nvPr/>
        </p:nvSpPr>
        <p:spPr>
          <a:xfrm>
            <a:off x="5867280" y="1295280"/>
            <a:ext cx="505080" cy="4797720"/>
          </a:xfrm>
          <a:custGeom>
            <a:avLst/>
            <a:gdLst>
              <a:gd name="textAreaLeft" fmla="*/ 0 w 505080"/>
              <a:gd name="textAreaRight" fmla="*/ 182520 w 505080"/>
              <a:gd name="textAreaTop" fmla="*/ 124920 h 4797720"/>
              <a:gd name="textAreaBottom" fmla="*/ 4672800 h 479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6588000" y="220500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热爱春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赞美春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热爱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热爱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7"/>
          <p:cNvSpPr/>
          <p:nvPr/>
        </p:nvSpPr>
        <p:spPr>
          <a:xfrm>
            <a:off x="590400" y="17193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590400" y="354816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-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9"/>
          <p:cNvSpPr/>
          <p:nvPr/>
        </p:nvSpPr>
        <p:spPr>
          <a:xfrm>
            <a:off x="660600" y="640080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-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3665160" y="4941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迎春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7"/>
          <p:cNvSpPr/>
          <p:nvPr/>
        </p:nvSpPr>
        <p:spPr>
          <a:xfrm>
            <a:off x="3593520" y="198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春草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8"/>
          <p:cNvSpPr/>
          <p:nvPr/>
        </p:nvSpPr>
        <p:spPr>
          <a:xfrm>
            <a:off x="3593520" y="2781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春花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9"/>
          <p:cNvSpPr/>
          <p:nvPr/>
        </p:nvSpPr>
        <p:spPr>
          <a:xfrm>
            <a:off x="3665160" y="35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春风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0"/>
          <p:cNvSpPr/>
          <p:nvPr/>
        </p:nvSpPr>
        <p:spPr>
          <a:xfrm>
            <a:off x="3665160" y="4289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春雨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师生互动，评点第一部分</a:t>
            </a: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宋体"/>
              </a:rPr>
              <a:t>1</a:t>
            </a:r>
            <a:r>
              <a:rPr b="0" lang="zh-CN" sz="4400" spc="-1" strike="noStrike">
                <a:solidFill>
                  <a:srgbClr val="ff9933"/>
                </a:solidFill>
                <a:latin typeface="宋体"/>
              </a:rPr>
              <a:t>、写出了作者怎样的心情？从哪些词可以看出来？</a:t>
            </a:r>
            <a:endParaRPr b="0" lang="en-US" sz="44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宋体"/>
              </a:rPr>
              <a:t>2</a:t>
            </a:r>
            <a:r>
              <a:rPr b="0" lang="zh-CN" sz="4400" spc="-1" strike="noStrike">
                <a:solidFill>
                  <a:srgbClr val="ff9933"/>
                </a:solidFill>
                <a:latin typeface="宋体"/>
              </a:rPr>
              <a:t>、首段在文中有何作用？</a:t>
            </a:r>
            <a:endParaRPr b="0" lang="en-US" sz="44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108000" y="260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盼望着，盼望着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181080" y="981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反复，表达了作者盼春心切的强烈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81080" y="16286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风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来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春天的脚步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近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181080" y="2349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拟人，宣告春天到来，表达喜春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108000" y="30700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明主题，总领全文，开启下文，是全文的依托和铺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65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自学指导二：品读课文绘春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65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品味关键词语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修辞手法的巧妙运用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会使用用圈点勾画的方法做批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0159"/>
          <p:cNvPicPr/>
          <p:nvPr/>
        </p:nvPicPr>
        <p:blipFill>
          <a:blip r:embed="rId1"/>
          <a:stretch/>
        </p:blipFill>
        <p:spPr>
          <a:xfrm>
            <a:off x="0" y="231840"/>
            <a:ext cx="4500720" cy="2411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0132"/>
          <p:cNvPicPr/>
          <p:nvPr/>
        </p:nvPicPr>
        <p:blipFill>
          <a:blip r:embed="rId2"/>
          <a:stretch/>
        </p:blipFill>
        <p:spPr>
          <a:xfrm>
            <a:off x="4800600" y="277920"/>
            <a:ext cx="4114800" cy="2408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24"/>
          <p:cNvPicPr/>
          <p:nvPr/>
        </p:nvPicPr>
        <p:blipFill>
          <a:blip r:embed="rId3"/>
          <a:stretch/>
        </p:blipFill>
        <p:spPr>
          <a:xfrm>
            <a:off x="152280" y="3141720"/>
            <a:ext cx="8763120" cy="308304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5"/>
          <p:cNvSpPr/>
          <p:nvPr/>
        </p:nvSpPr>
        <p:spPr>
          <a:xfrm>
            <a:off x="3237480" y="6172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太阳的脸红起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6300720" y="25909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水涨起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1328400" y="2565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山朗润起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5"/>
          <p:cNvSpPr/>
          <p:nvPr/>
        </p:nvSpPr>
        <p:spPr>
          <a:xfrm>
            <a:off x="900000" y="1125360"/>
            <a:ext cx="7775640" cy="131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楷体_GB2312"/>
              </a:rPr>
              <a:t>1. 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</a:rPr>
              <a:t>总写大地回春、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万物复苏的情态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</a:rPr>
              <a:t>：</a:t>
            </a:r>
            <a:r>
              <a:rPr b="0" lang="zh-CN" sz="4000" spc="-1" strike="noStrike">
                <a:solidFill>
                  <a:srgbClr val="333300"/>
                </a:solidFill>
                <a:latin typeface="楷体_GB2312"/>
              </a:rPr>
              <a:t>一切、欣欣然、朗润、涨、红</a:t>
            </a:r>
            <a:r>
              <a:rPr b="0" lang="en-US" sz="4000" spc="-1" strike="noStrike">
                <a:solidFill>
                  <a:srgbClr val="333300"/>
                </a:solidFill>
                <a:latin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971640" y="3429000"/>
            <a:ext cx="705636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楷体_GB2312"/>
              </a:rPr>
              <a:t>2.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</a:rPr>
              <a:t>分别描绘春天的各种美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1515240" y="3715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绘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5148360" y="249156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排比、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春草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8929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段从哪些方面写春草？体现在文中哪些词语上？分别写出了春草的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108000" y="2278080"/>
            <a:ext cx="115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情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质地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颜色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势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特点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620720" y="227664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偷偷地”“钻”       旺盛的生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嫩嫩的”“软绵绵的”    柔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绿的”               生机勃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大片一大片满是的”   旺盛、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嫩、绿、多、生机勃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8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三段写人在草地的活动，用了什么修辞手法？有何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4920" y="1844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使用了排比的修辞手法，表现人们对春草的异常喜爱，侧面烘托春草长势之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这段在描写手法上有什么特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由景写到人，正面与侧面结合。更能烘托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236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春花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07416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哪几个方面来描绘春花的？写了春花的哪些特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181080" y="2349360"/>
            <a:ext cx="190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姿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颜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味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特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1620720" y="234936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让我，我不让你，都开满了花赶趟儿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的像火，粉的像霞，白的像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繁多、艳丽、芳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风景03"/>
          <p:cNvPicPr/>
          <p:nvPr/>
        </p:nvPicPr>
        <p:blipFill>
          <a:blip r:embed="rId1"/>
          <a:stretch/>
        </p:blipFill>
        <p:spPr>
          <a:xfrm>
            <a:off x="0" y="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4968720" y="838080"/>
            <a:ext cx="48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碧玉妆成一树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65870bb63827b22c"/>
          <p:cNvPicPr/>
          <p:nvPr/>
        </p:nvPicPr>
        <p:blipFill>
          <a:blip r:embed="rId2"/>
          <a:stretch/>
        </p:blipFill>
        <p:spPr>
          <a:xfrm>
            <a:off x="4429080" y="2781360"/>
            <a:ext cx="4694400" cy="4086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1440" y="4508640"/>
            <a:ext cx="43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人间四月芳菲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山寺桃花始盛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什么样的顺序来写的？ 体现在哪些原词上？</a:t>
            </a:r>
            <a:endParaRPr b="1" lang="en-US" sz="4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1260360" y="1628640"/>
            <a:ext cx="568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由高到低从上到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树上、花下、遍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、在写法上有什么特别？</a:t>
            </a:r>
            <a:endParaRPr b="1" lang="en-US" sz="4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alibri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楷体_GB2312"/>
              </a:rPr>
              <a:t>虚实结合、静动结合</a:t>
            </a:r>
            <a:endParaRPr b="0" lang="en-US" sz="4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1748520" y="4762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不让我，我不让你，都开满了花赶趟儿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395280" y="907920"/>
            <a:ext cx="80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拟人，从视觉上写出了春花竟相开放、春花争艳的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501560" y="1341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的像火，粉的像霞，白的像雪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3513600" y="17524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排比，从视觉上写出了春花艳丽的景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1122480" y="2205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里带着甜味儿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582720" y="32767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闭了眼，树上仿佛已经满是桃儿、杏儿、梨儿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1617120" y="37180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，由眼前的春花想到秋实。（春华秋实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692800" y="465300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面衬托春花的繁多、艳丽、芳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685800" y="5159520"/>
            <a:ext cx="84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野花遍地是：……散在草丛里像眼睛，像星星，还眨呀眨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4360320" y="5661000"/>
            <a:ext cx="64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拟人，从视觉上 写出了野花闪闪发光、轻轻摆动的明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色彩，强化动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179280" y="2637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通感</a:t>
            </a:r>
            <a:r>
              <a:rPr b="1" lang="zh-CN" sz="2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甜”从味觉上写出了花的芳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380880" y="4572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755640" y="4221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下成千成百的蜜蜂嗡嗡地闹着，大小的蝴蝶飞来飞去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34920" y="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品味修辞之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通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-100080" y="981000"/>
            <a:ext cx="92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感就是把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不同感官的感觉沟通起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“以感觉写感觉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颜色似乎会有温度，声音似乎会有形象。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如说“光亮”，也说“响亮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仿佛视觉和听觉相通，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如“热闹”和“冷静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感觉和听觉相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丰富表情达意的审美情趣，起到增强文采的艺术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朱自清《荷塘月色》里的“ 微风过处送来缕缕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清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仿佛远处高楼上渺茫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歌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似的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-30600" y="1599840"/>
            <a:ext cx="91407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节课你学会如何学习写景散文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1620720" y="2492280"/>
            <a:ext cx="662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写了景物的什么特点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写作顺序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用了什么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当堂检测</a:t>
            </a:r>
            <a:endParaRPr b="1" lang="en-US" sz="32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-32040" y="764640"/>
            <a:ext cx="90327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、常识填空。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《春》的作者是 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______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，字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___ 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，号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___ 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，江苏扬州人。散文家、诗人、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_____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、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_____  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。作品有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________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、  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___________ 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、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_____</a:t>
            </a:r>
            <a:r>
              <a:rPr b="0" lang="zh-CN" sz="4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等。</a:t>
            </a:r>
            <a:r>
              <a:rPr b="0" lang="zh-CN" sz="2400" spc="-1" strike="noStrike">
                <a:solidFill>
                  <a:srgbClr val="ff9933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252360" y="1413000"/>
            <a:ext cx="907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               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朱自清      佩弦      秋实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者   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民主战士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《背影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《荷塘月色》《绿》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比较下边各组中的两个句子，说说哪句表达效果更好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-30600" y="1600200"/>
            <a:ext cx="91407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盼望着，盼望着，东风来了，春天的脚步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着，春风来了，春天的脚步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1409760" y="1041480"/>
            <a:ext cx="546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08000" y="3502080"/>
            <a:ext cx="90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句表达效果更好。用两个“盼望着”，更好地表达出盼望春天的急切心情。②句中“春风”“春天”不如①句中的“东风”“春天”有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23640" y="44280"/>
            <a:ext cx="84582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①小草偷偷地从土里钻出来，嫩嫩的，  绿绿的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②小草从土里长出来了，嫩的，绿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6360" y="1989000"/>
            <a:ext cx="91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句表达效果好。“偷偷”写春草不知不觉地就长出来，更富于情趣；“钻”比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”更能显示春草旺盛的生命力；“嫩嫩”“绿绿”，用叠词，更能表达对春草的喜爱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第二课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把握文章写景顺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学习文章严谨而精美的结构安排；欣赏用词精当、生动、准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理解运用比喻、排比、拟人等修辞手法的作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132000" y="18446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第一课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预习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910908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下列多音字选择正确的读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水涨起来了（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ǎng     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跟轻风流水应和着（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é       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è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……混着青草味儿（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ún  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散在草丛里（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ǎn          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3421080" y="1557360"/>
            <a:ext cx="464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B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B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春风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785520"/>
            <a:ext cx="91440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楷体_GB2312"/>
              </a:rPr>
              <a:t>、读第五自然段，从哪些感觉写出春风的特征？</a:t>
            </a:r>
            <a:r>
              <a:rPr b="1" lang="zh-CN" sz="3200" spc="-1" strike="noStrike">
                <a:solidFill>
                  <a:srgbClr val="00cc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0" y="2071800"/>
            <a:ext cx="1658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触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嗅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听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1428840" y="1989000"/>
            <a:ext cx="768024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吹面不寒杨柳风’，不错的，像母亲的手抚摸着你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泥土气息草味花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儿将巢安在繁花嫩叶中……成天嘹亮地响着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和煦、芳香、悦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43080" y="500040"/>
            <a:ext cx="660096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吹面不寒杨柳风”，不错的，像母亲的手抚摸着你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用了什么修辞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风“像母亲的手抚摸着你”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是什么感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71560" y="3357360"/>
            <a:ext cx="468468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这句话用了引用、比喻、拟人的修辞。这是温暖、亲切、慈爱、幸福的感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564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卖弄”一词如何理解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57578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卖弄”一词贬词褒用，再现鸟儿筑巢迎风时的欢乐情景，同时突出春天生机勃勃的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0" y="8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读第六自然段，作者抓住了春雨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96720" y="1773360"/>
            <a:ext cx="4496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5508720" y="1773360"/>
            <a:ext cx="208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时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细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轻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793800" y="19692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8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草儿也青得逼你的眼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中“逼”字好在哪里？</a:t>
            </a: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“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逼’字生动活泼，富有动感，突出雨中植物新而闪光，充满生机的特点。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360" y="5490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傍晚时候，上灯了，一点点黄晕的光，烘托出一片安静而和平的夜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不是写春雨，能否删去？</a:t>
            </a: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4940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alibri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Calibri"/>
                <a:ea typeface="楷体_GB2312"/>
              </a:rPr>
              <a:t>不能。这句话虽未写雨景，却衬托了雨夜的寂静和祥和，给人一种温馨的感觉。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000" y="475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这一段的写景顺序怎样？传达怎样的气氛？</a:t>
            </a:r>
            <a:br>
              <a:rPr sz="4000"/>
            </a:b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8360" y="170136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alibri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Calibri"/>
                <a:ea typeface="楷体_GB2312"/>
              </a:rPr>
              <a:t>动静结合、由景到人、由近到远传达出一种寂静祥和的气氛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迎春图</a:t>
            </a:r>
            <a:endParaRPr b="1" lang="en-US" sz="4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6360" y="1341000"/>
            <a:ext cx="9001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、迎春图写出了人们什么样的精神状态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自然春景图有何联系？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0" y="2925720"/>
            <a:ext cx="91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舒活舒活筋骨抖擞抖擞精神”——积极进取、奋发向上的精神状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由景及人，春到人欢，与开头呼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一年之计在于春”有何含义？</a:t>
            </a: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楷体_GB2312"/>
              </a:rPr>
              <a:t>激励人们把握春光，奋发向上。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微软雅黑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714680" y="1428840"/>
            <a:ext cx="678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．了解作者及其代表作品；理解并积累文中的生字、新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．理清文章思路；体会比喻，拟人等修辞手法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．体会作者对春天无限热爱的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08000" y="285840"/>
            <a:ext cx="907416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学习第三部分，运用什么修辞手法？写出了春的什么特点？这三个句子可否调换位置？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36360" y="2205000"/>
            <a:ext cx="907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用比喻、排比、拟人的修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现春天“新”、“美”、“力”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能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因为这三个比喻句是从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娃娃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”写到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姑娘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”又写到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年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”，按照喻体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生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丽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成长顺序排列，形象地写出了春天不同时段的不同景象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-104760" y="836640"/>
            <a:ext cx="12542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200" spc="-1" strike="noStrike">
                <a:solidFill>
                  <a:srgbClr val="1f497d"/>
                </a:solidFill>
                <a:latin typeface="Arial Black"/>
                <a:ea typeface="楷体_GB2312"/>
              </a:rPr>
              <a:t>春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182880" y="1996560"/>
            <a:ext cx="85068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喜爱 赞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116000" y="333360"/>
            <a:ext cx="431640" cy="4032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476360" y="189000"/>
            <a:ext cx="13683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盼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绘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-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颂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700360" y="260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盼……来……近……</a:t>
            </a:r>
            <a:r>
              <a:rPr b="1" lang="zh-CN" sz="1800" spc="-1" strike="noStrike">
                <a:solidFill>
                  <a:srgbClr val="ff3300"/>
                </a:solidFill>
                <a:latin typeface="Verdana"/>
              </a:rPr>
              <a:t>急切心情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2556000" y="1341360"/>
            <a:ext cx="244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楷体_GB2312"/>
              </a:rPr>
              <a:t>总体轮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497d"/>
                </a:solidFill>
                <a:latin typeface="Arial"/>
                <a:ea typeface="黑体"/>
              </a:rPr>
              <a:t>    </a:t>
            </a:r>
            <a:r>
              <a:rPr b="1" lang="zh-CN" sz="1800" spc="-1" strike="noStrike">
                <a:solidFill>
                  <a:srgbClr val="1f497d"/>
                </a:solidFill>
                <a:latin typeface="Arial"/>
                <a:ea typeface="黑体"/>
              </a:rPr>
              <a:t>山（朗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497d"/>
                </a:solidFill>
                <a:latin typeface="Arial"/>
                <a:ea typeface="黑体"/>
              </a:rPr>
              <a:t>    </a:t>
            </a:r>
            <a:r>
              <a:rPr b="1" lang="zh-CN" sz="1800" spc="-1" strike="noStrike">
                <a:solidFill>
                  <a:srgbClr val="1f497d"/>
                </a:solidFill>
                <a:latin typeface="Arial"/>
                <a:ea typeface="黑体"/>
              </a:rPr>
              <a:t>水（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497d"/>
                </a:solidFill>
                <a:latin typeface="Arial"/>
                <a:ea typeface="黑体"/>
              </a:rPr>
              <a:t>    </a:t>
            </a:r>
            <a:r>
              <a:rPr b="1" lang="zh-CN" sz="1800" spc="-1" strike="noStrike">
                <a:solidFill>
                  <a:srgbClr val="1f497d"/>
                </a:solidFill>
                <a:latin typeface="Arial"/>
                <a:ea typeface="黑体"/>
              </a:rPr>
              <a:t>太阳（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3060720" y="42940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三个比喻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4142880" y="1701720"/>
            <a:ext cx="45468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Verdana"/>
              </a:rPr>
              <a:t>局部描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572000" y="1052640"/>
            <a:ext cx="431640" cy="2736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1"/>
          <p:cNvSpPr/>
          <p:nvPr/>
        </p:nvSpPr>
        <p:spPr>
          <a:xfrm>
            <a:off x="4572000" y="836640"/>
            <a:ext cx="367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1f497d"/>
                </a:solidFill>
                <a:latin typeface="黑体"/>
                <a:ea typeface="黑体"/>
              </a:rPr>
              <a:t>春草图（草报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1f497d"/>
                </a:solidFill>
                <a:latin typeface="黑体"/>
                <a:ea typeface="黑体"/>
              </a:rPr>
              <a:t>春花图（花争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1f497d"/>
                </a:solidFill>
                <a:latin typeface="黑体"/>
                <a:ea typeface="黑体"/>
              </a:rPr>
              <a:t>春风图（风唱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1f497d"/>
                </a:solidFill>
                <a:latin typeface="黑体"/>
                <a:ea typeface="黑体"/>
              </a:rPr>
              <a:t>春雨图（雨润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1f497d"/>
                </a:solidFill>
                <a:latin typeface="黑体"/>
                <a:ea typeface="黑体"/>
              </a:rPr>
              <a:t>迎春图（人迎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364000" y="4076640"/>
            <a:ext cx="214560" cy="1152720"/>
          </a:xfrm>
          <a:custGeom>
            <a:avLst/>
            <a:gdLst>
              <a:gd name="textAreaLeft" fmla="*/ 137160 w 214560"/>
              <a:gd name="textAreaRight" fmla="*/ 214920 w 2145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3"/>
          <p:cNvSpPr/>
          <p:nvPr/>
        </p:nvSpPr>
        <p:spPr>
          <a:xfrm>
            <a:off x="5653080" y="3860640"/>
            <a:ext cx="2160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黑体"/>
              </a:rPr>
              <a:t>娃娃—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黑体"/>
              </a:rPr>
              <a:t>姑娘—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黑体"/>
              </a:rPr>
              <a:t>青年—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8287560" y="260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</a:rPr>
              <a:t>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8101080" y="22766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8215200" y="4221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</a:rPr>
              <a:t>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17"/>
          <p:cNvCxnSpPr>
            <a:endCxn id="535" idx="0"/>
          </p:cNvCxnSpPr>
          <p:nvPr/>
        </p:nvCxnSpPr>
        <p:spPr>
          <a:xfrm>
            <a:off x="8532360" y="133992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AutoShape 18"/>
          <p:cNvCxnSpPr/>
          <p:nvPr/>
        </p:nvCxnSpPr>
        <p:spPr>
          <a:xfrm>
            <a:off x="8532360" y="3212640"/>
            <a:ext cx="1080" cy="864360"/>
          </a:xfrm>
          <a:prstGeom prst="straightConnector1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440" y="-12600"/>
            <a:ext cx="91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学指导三：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如何写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108000" y="765000"/>
            <a:ext cx="92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运用各种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修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法，如比喻、拟人、排比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-22320" y="1486080"/>
            <a:ext cx="913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从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不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感官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角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来描写，如视觉、听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触觉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36360" y="249408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按照一定的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顺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来描写，如从高到低、从近到远、从上到下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0" y="35020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、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虚实结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动静结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积累拓展</a:t>
            </a: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、成语中的“春”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、古诗中的“春”</a:t>
            </a:r>
            <a:endParaRPr b="0" lang="en-US" sz="4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alibri"/>
                <a:ea typeface="楷体_GB2312"/>
              </a:rPr>
              <a:t>描写春天的成语</a:t>
            </a:r>
            <a:endParaRPr b="1" lang="en-US" sz="4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875196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暖花开       春风满面       春回大地 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风化雨       春光明媚       春意盎然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万紫千红       生机勃勃       绚丽多姿       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枯木逢春       和风细雨       桃红柳绿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描绘春天的诗句</a:t>
            </a: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80" y="1600200"/>
            <a:ext cx="903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眠不觉晓，处处闻啼鸟。</a:t>
            </a:r>
            <a:endParaRPr b="0" lang="en-US" sz="36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——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唐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孟浩然《春晓》</a:t>
            </a:r>
            <a:endParaRPr b="0" lang="en-US" sz="36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好雨知时节，当春乃发生。</a:t>
            </a:r>
            <a:endParaRPr b="0" lang="en-US" sz="36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——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唐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杜甫《春夜喜雨》</a:t>
            </a:r>
            <a:endParaRPr b="0" lang="en-US" sz="36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日出江花红胜火，春来江水绿如蓝。</a:t>
            </a:r>
            <a:endParaRPr b="0" lang="en-US" sz="36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——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唐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白居易《忆江南》</a:t>
            </a:r>
            <a:endParaRPr b="0" lang="en-US" sz="36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6720" y="-223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当堂检测</a:t>
            </a:r>
            <a:endParaRPr b="1" lang="en-US" sz="4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0" y="909360"/>
            <a:ext cx="95392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为红色字选择正确的义项。</a:t>
            </a: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呼朋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引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伴（    ）  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指引  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B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招引</a:t>
            </a: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欣欣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然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张开了眼（    ） 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然而  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B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的样子  </a:t>
            </a: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一年之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计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在于春（    ）  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计算 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B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打算</a:t>
            </a: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跟轻风流水应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着（    ）</a:t>
            </a: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声音相呼应  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B</a:t>
            </a:r>
            <a:r>
              <a:rPr b="0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．依照别人的样子做</a:t>
            </a: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2786040" y="1500120"/>
            <a:ext cx="6357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40" y="274320"/>
            <a:ext cx="9180720" cy="416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出下列语句的修辞方法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盼望着，盼望着，东风来了，春天的脚步近了。（           ）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山朗润起来了，水涨起来了，太阳的脸红起来了。（           ）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红的像火，粉的像霞，白的像雪。（          ）</a:t>
            </a:r>
            <a:endParaRPr b="1" lang="en-US" sz="36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252360" y="1486080"/>
            <a:ext cx="712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拟人、反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拟人、排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比喻、排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1019160" cy="7621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0" y="189000"/>
            <a:ext cx="37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Arial"/>
                <a:ea typeface="华文隶书"/>
              </a:rPr>
              <a:t>作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324000" y="1484280"/>
            <a:ext cx="777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6600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6600ff"/>
                </a:solidFill>
                <a:latin typeface="黑体"/>
                <a:ea typeface="黑体"/>
              </a:rPr>
              <a:t>、课文最后三段用了什么修辞方法？请你根据这种形式再仿写出三个这样的句子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6600ff"/>
                </a:solidFill>
                <a:latin typeface="黑体"/>
                <a:ea typeface="黑体"/>
              </a:rPr>
              <a:t>、整理所收集到的关于春的诗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1828800" y="243828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09"/>
          <p:cNvPicPr/>
          <p:nvPr/>
        </p:nvPicPr>
        <p:blipFill>
          <a:blip r:embed="rId1"/>
          <a:stretch/>
        </p:blipFill>
        <p:spPr>
          <a:xfrm>
            <a:off x="-35712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"/>
          <p:cNvSpPr/>
          <p:nvPr/>
        </p:nvSpPr>
        <p:spPr>
          <a:xfrm>
            <a:off x="1285920" y="2286000"/>
            <a:ext cx="6867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隶书"/>
                <a:ea typeface="隶书"/>
              </a:rPr>
              <a:t>课后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仿照本文，通过视觉、听觉、味觉、触觉、嗅觉等角度来描写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校园的秋色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写一段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字左右的文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489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Calibri"/>
              </a:rPr>
              <a:t>作者介绍</a:t>
            </a:r>
            <a:endParaRPr b="1" lang="en-US" sz="6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朱自清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9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48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：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 现代散文家、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诗人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。原名朱自华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字佩弦，号秋实。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原籍浙江绍兴。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是我国优秀的散文作家、诗人、学者。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期任清华大学教授，一生著述甚多。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作品：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匆匆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背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荷塘月色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桨声灯影里的秦淮河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》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散文特点：素朴缜密、清隽沉郁，以语言洗炼，文笔清丽著称，极富有真情实感。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郁达夫评价：“朱自清虽则是一个诗人，可是他的散文仍能满贮着那一种诗意。”</a:t>
            </a: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225" name="Picture 8" descr="zhuziqing"/>
          <p:cNvPicPr/>
          <p:nvPr/>
        </p:nvPicPr>
        <p:blipFill>
          <a:blip r:embed="rId3"/>
          <a:stretch/>
        </p:blipFill>
        <p:spPr>
          <a:xfrm>
            <a:off x="7308720" y="0"/>
            <a:ext cx="1835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预习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-247680" y="907920"/>
            <a:ext cx="92012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给下列红色字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涨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应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薄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烟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晕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     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抖擞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嘹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亮    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酝酿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烘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托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朗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润         披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戴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-174600" y="1268280"/>
            <a:ext cx="90615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z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ng           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è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n            w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n         dǒu sǒ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l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        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n n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ng       hō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n            suō 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252360" y="1917720"/>
            <a:ext cx="91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476360" y="1413000"/>
            <a:ext cx="32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g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涨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476360" y="2565360"/>
            <a:ext cx="33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zhàng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涨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 flipH="1">
            <a:off x="1331280" y="1628640"/>
            <a:ext cx="75960" cy="1368720"/>
          </a:xfrm>
          <a:custGeom>
            <a:avLst/>
            <a:gdLst>
              <a:gd name="textAreaLeft" fmla="*/ -360 w 75960"/>
              <a:gd name="textAreaRight" fmla="*/ 27000 w 7596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1357200" y="35712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多音字辨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685800" y="1295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1447920" y="990720"/>
            <a:ext cx="152280" cy="144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52388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362320" y="914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散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523880" y="1752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286000" y="1752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038480" y="12952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4800600" y="990720"/>
            <a:ext cx="152280" cy="144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952880" y="8380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y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579132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头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952880" y="1752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579132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85800" y="40384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1371600" y="3124080"/>
            <a:ext cx="228600" cy="2667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752480" y="334476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3048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362320" y="2971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1600200" y="3733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362320" y="3733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1523880" y="4495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hu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362320" y="4495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1523880" y="518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hu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2362320" y="5181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洗两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4038480" y="38098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6"/>
          <p:cNvSpPr/>
          <p:nvPr/>
        </p:nvSpPr>
        <p:spPr>
          <a:xfrm>
            <a:off x="4800600" y="3124080"/>
            <a:ext cx="152280" cy="221004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7"/>
          <p:cNvSpPr/>
          <p:nvPr/>
        </p:nvSpPr>
        <p:spPr>
          <a:xfrm>
            <a:off x="49528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579132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厚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9"/>
          <p:cNvSpPr/>
          <p:nvPr/>
        </p:nvSpPr>
        <p:spPr>
          <a:xfrm>
            <a:off x="4952880" y="3809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0"/>
          <p:cNvSpPr/>
          <p:nvPr/>
        </p:nvSpPr>
        <p:spPr>
          <a:xfrm>
            <a:off x="5791320" y="38098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1"/>
          <p:cNvSpPr/>
          <p:nvPr/>
        </p:nvSpPr>
        <p:spPr>
          <a:xfrm>
            <a:off x="4952880" y="4648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Times New Roman"/>
              </a:rPr>
              <a:t>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5791320" y="46483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3" descr="530"/>
          <p:cNvPicPr/>
          <p:nvPr/>
        </p:nvPicPr>
        <p:blipFill>
          <a:blip r:embed="rId1"/>
          <a:stretch/>
        </p:blipFill>
        <p:spPr>
          <a:xfrm>
            <a:off x="7543800" y="4952880"/>
            <a:ext cx="1219320" cy="1432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2:35:44Z</dcterms:created>
  <dc:creator>Liiang</dc:creator>
  <dc:description/>
  <cp:keywords/>
  <dc:language>en-US</dc:language>
  <cp:lastModifiedBy>xm</cp:lastModifiedBy>
  <dcterms:modified xsi:type="dcterms:W3CDTF">2018-09-05T01:56:36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