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1A6-597F-4556-97C0-D5F252D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941-B2E8-463C-9C2D-7F9607F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FEC-F7B4-4978-8EA5-6E623678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CBB-91E9-49D7-AF34-E3DF7DFF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464-F88D-4351-82FC-26BCDDD4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65F-FBDF-4A31-9232-C3BB1A9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9F9-A69F-4708-BA87-FFE4E9C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B95-3258-4914-B456-B4F5159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561-E920-4070-B9FE-0D66933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939-D905-4546-99B3-E26DA0E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FAC-A1C8-4667-8031-4C2E9B9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5ED-851A-43D9-84B5-BE9FD819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39A0-34E5-49DE-9E77-CEE12C177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hyperlink" Target="http://zhyz.gdzh.gov.cn/resource/picture/gifdh/dwl/fdl/z.htm" TargetMode="External"/><Relationship Id="rId6" Type="http://schemas.openxmlformats.org/officeDocument/2006/relationships/image" Target="../media/image15.gif"/><Relationship Id="rId7" Type="http://schemas.openxmlformats.org/officeDocument/2006/relationships/hyperlink" Target="http://zhyz.gdzh.gov.cn/resource/picture/gifdh/dwl/fdl/z.htm" TargetMode="External"/><Relationship Id="rId8" Type="http://schemas.openxmlformats.org/officeDocument/2006/relationships/image" Target="../media/image15.gif"/><Relationship Id="rId9" Type="http://schemas.openxmlformats.org/officeDocument/2006/relationships/hyperlink" Target="http://zhyz.gdzh.gov.cn/resource/picture/gifdh/dwl/fdl/z.htm" TargetMode="External"/><Relationship Id="rId10" Type="http://schemas.openxmlformats.org/officeDocument/2006/relationships/image" Target="../media/image15.gif"/><Relationship Id="rId11" Type="http://schemas.openxmlformats.org/officeDocument/2006/relationships/hyperlink" Target="http://zhyz.gdzh.gov.cn/resource/picture/gifdh/dwl/fdl/z.htm" TargetMode="External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6455625_12381669236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324480" y="41911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77120" y="38862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2011040909255042"/>
          <p:cNvPicPr/>
          <p:nvPr/>
        </p:nvPicPr>
        <p:blipFill>
          <a:blip r:embed="rId1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2008228173826588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bee1"/>
          <p:cNvPicPr/>
          <p:nvPr/>
        </p:nvPicPr>
        <p:blipFill>
          <a:blip r:embed="rId1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bee1"/>
          <p:cNvPicPr/>
          <p:nvPr/>
        </p:nvPicPr>
        <p:blipFill>
          <a:blip r:embed="rId2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bee1"/>
          <p:cNvPicPr/>
          <p:nvPr/>
        </p:nvPicPr>
        <p:blipFill>
          <a:blip r:embed="rId3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bee1"/>
          <p:cNvPicPr/>
          <p:nvPr/>
        </p:nvPicPr>
        <p:blipFill>
          <a:blip r:embed="rId4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0974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00974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009742">
            <a:hlinkClick r:id="rId9"/>
          </p:cNvPr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00974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4"/>
          <p:cNvSpPr txBox="1"/>
          <p:nvPr/>
        </p:nvSpPr>
        <p:spPr>
          <a:xfrm rot="5400000">
            <a:off x="810000" y="637200"/>
            <a:ext cx="117972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905120" y="762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iddle_20110326_f828afa34209712cb8ebJ52lnbmkmD7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04920" y="9907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cb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8600" y="1905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04920" y="2590920"/>
            <a:ext cx="3962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泥土的气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28600" y="4572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800600" y="1905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触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648320" y="3352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嗅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648320" y="4572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5562720"/>
            <a:ext cx="52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用各种感觉描绘春风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和煦、芳香、悦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03848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图片7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304920" y="228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春风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4038480" y="20574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4038480" y="34290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4038480" y="4724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-289080" y="2286000"/>
            <a:ext cx="45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0" y="220968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 flipH="1">
            <a:off x="3505320" y="2666880"/>
            <a:ext cx="457200" cy="1981440"/>
          </a:xfrm>
          <a:custGeom>
            <a:avLst/>
            <a:gdLst>
              <a:gd name="textAreaLeft" fmla="*/ 292680 w 457200"/>
              <a:gd name="textAreaRight" fmla="*/ 45792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50054kqk1ydqk1jdov1v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5" descr="1602572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676520" y="4572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cb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0" y="2895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705720" y="2895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密亮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62120" y="38862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705720" y="3809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38080" y="182880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629400" y="1905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600200" y="53341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4038480" y="48769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-148320" y="228600"/>
            <a:ext cx="1399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春雨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5715000" y="2057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57150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571500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2009616163621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046880" y="1219320"/>
            <a:ext cx="21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1111cb"/>
                </a:solidFill>
                <a:latin typeface="Arial"/>
              </a:rPr>
              <a:t>“ </a:t>
            </a:r>
            <a:r>
              <a:rPr b="1" lang="zh-CN" sz="4000" spc="-1" strike="noStrike">
                <a:solidFill>
                  <a:srgbClr val="1111cb"/>
                </a:solidFill>
                <a:latin typeface="Arial"/>
              </a:rPr>
              <a:t>一年之计在于春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-1751040" y="2362320"/>
            <a:ext cx="1135224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激励人们把握时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奋发向上，辛勤劳作，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抒发了作者热爱生活，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要创造美好生活，积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上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1%20(5)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95280" y="380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迎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u=1081274744,256289160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846_58050_557072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3166855136912850599"/>
          <p:cNvPicPr/>
          <p:nvPr/>
        </p:nvPicPr>
        <p:blipFill>
          <a:blip r:embed="rId3"/>
          <a:stretch/>
        </p:blipFill>
        <p:spPr>
          <a:xfrm>
            <a:off x="0" y="350532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39740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颂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71000" y="12193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像娃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41008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万物复苏，新的生命的开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218960" y="24382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像小姑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050520" y="2438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百花争艳，景色动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147320" y="37339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像青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911200" y="3581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春天充满活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57200" y="5257800"/>
            <a:ext cx="82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cb"/>
                </a:solidFill>
                <a:latin typeface="Times New Roman"/>
                <a:ea typeface="黑体"/>
              </a:rPr>
              <a:t>　　三个比喻依次点明了春天的成长过程。独立成段，抒发作者强烈赞美春的真挚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4495680" y="1371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4495680" y="3809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4495680" y="2590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4572000" y="46483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685800" y="1371600"/>
            <a:ext cx="76320" cy="2743200"/>
          </a:xfrm>
          <a:custGeom>
            <a:avLst/>
            <a:gdLst>
              <a:gd name="textAreaLeft" fmla="*/ 48960 w 76320"/>
              <a:gd name="textAreaRight" fmla="*/ 76320 w 763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4618080" y="191628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ZWZHUZ01"/>
          <p:cNvPicPr/>
          <p:nvPr/>
        </p:nvPicPr>
        <p:blipFill>
          <a:blip r:embed="rId1"/>
          <a:stretch/>
        </p:blipFill>
        <p:spPr>
          <a:xfrm>
            <a:off x="0" y="0"/>
            <a:ext cx="3352680" cy="4648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600360" y="0"/>
            <a:ext cx="485784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朱自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89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48)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佩弦，江苏省扬州市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散文家、诗人、学者、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诗文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踪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散文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欧游杂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背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及一些文艺论著，收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朱自清文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里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散文代表作有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荷塘月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背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228600" y="114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一）盼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77000" y="1143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１）总领全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743200" y="16765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２）总绘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3200" y="23623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３）春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666880" y="297180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４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春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35053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５）春风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666880" y="40384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６）春雨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2666880" y="457200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７）迎春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2743200" y="510552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新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811960" y="5697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美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743200" y="617220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力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二）绘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三）颂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12408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18456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2514600" y="1676520"/>
            <a:ext cx="152280" cy="327636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2857680" y="5638680"/>
            <a:ext cx="54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2933640" y="5715000"/>
            <a:ext cx="54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3"/>
          <p:cNvSpPr/>
          <p:nvPr/>
        </p:nvSpPr>
        <p:spPr>
          <a:xfrm>
            <a:off x="2514600" y="5181480"/>
            <a:ext cx="76320" cy="129564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297180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　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464832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cb"/>
                </a:solidFill>
                <a:latin typeface="Arial"/>
              </a:rPr>
              <a:t>朱自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6327720" y="2514600"/>
            <a:ext cx="546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励人们奋发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5181480" y="1371600"/>
            <a:ext cx="533520" cy="5105520"/>
          </a:xfrm>
          <a:custGeom>
            <a:avLst/>
            <a:gdLst>
              <a:gd name="textAreaLeft" fmla="*/ 0 w 533520"/>
              <a:gd name="textAreaRight" fmla="*/ 192600 w 5335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ca8e12899c6089f9814f78aabe80b888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1219320" y="6094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i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1844640"/>
            <a:ext cx="4952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、运用各种修辞手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819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二、从不同的感官角度来描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3733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三、按照一定的顺序来描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0" y="4572000"/>
            <a:ext cx="5029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4572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41148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Oval 3"/>
          <p:cNvSpPr/>
          <p:nvPr/>
        </p:nvSpPr>
        <p:spPr>
          <a:xfrm>
            <a:off x="685800" y="3276720"/>
            <a:ext cx="3048120" cy="8380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38080" y="4191120"/>
            <a:ext cx="60343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5029200"/>
            <a:ext cx="7086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把握好感情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14400" y="5791320"/>
            <a:ext cx="761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53352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600" y="114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一）盼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220640" y="11174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１）（总领全文，开启下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76720" y="170028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２）总绘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76720" y="23493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３）春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348000" y="292428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４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春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48000" y="342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５）春风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348000" y="400536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６）春雨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348000" y="45086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７）迎春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16760" y="5013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新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488400" y="55166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美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402360" y="6093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力</a:t>
            </a:r>
            <a:r>
              <a:rPr b="1" lang="zh-CN" sz="2400" spc="-1" strike="noStrike">
                <a:solidFill>
                  <a:srgbClr val="001414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二）绘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楷体_GB2312"/>
                <a:ea typeface="楷体_GB2312"/>
              </a:rPr>
              <a:t>（三）颂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12408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18456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3124080" y="1600200"/>
            <a:ext cx="152640" cy="3276720"/>
          </a:xfrm>
          <a:custGeom>
            <a:avLst/>
            <a:gdLst>
              <a:gd name="textAreaLeft" fmla="*/ 97560 w 152640"/>
              <a:gd name="textAreaRight" fmla="*/ 153000 w 1526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857680" y="5638680"/>
            <a:ext cx="54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2933640" y="5715000"/>
            <a:ext cx="54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3200400" y="5181480"/>
            <a:ext cx="76320" cy="129564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0023aeaa2e7a0c24309141"/>
          <p:cNvPicPr/>
          <p:nvPr/>
        </p:nvPicPr>
        <p:blipFill>
          <a:blip r:embed="rId1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90920" y="3808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盼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106720" y="1981080"/>
            <a:ext cx="3993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作者的心情怎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873600" y="3505320"/>
            <a:ext cx="459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Arial"/>
              </a:rPr>
              <a:t>急切、喜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348000" y="549360"/>
            <a:ext cx="338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盼 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6961947_091351708118_2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0159"/>
          <p:cNvPicPr/>
          <p:nvPr/>
        </p:nvPicPr>
        <p:blipFill>
          <a:blip r:embed="rId2"/>
          <a:stretch/>
        </p:blipFill>
        <p:spPr>
          <a:xfrm>
            <a:off x="0" y="0"/>
            <a:ext cx="4724280" cy="3352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0" y="2637000"/>
            <a:ext cx="464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朗润起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132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7672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水涨起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86000" y="6156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太阳的脸红起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6983609_144820242196_2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18960" y="1447920"/>
            <a:ext cx="76928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抓住了春草的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4920" y="3276720"/>
            <a:ext cx="883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、躺、滚、踢、跑、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（喜悦、高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828800" y="2438280"/>
            <a:ext cx="815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、绿、满、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　 （生机勃勃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3352680" y="4191120"/>
            <a:ext cx="3743280" cy="1722240"/>
            <a:chOff x="3352680" y="4191120"/>
            <a:chExt cx="3743280" cy="1722240"/>
          </a:xfrm>
        </p:grpSpPr>
        <p:sp>
          <p:nvSpPr>
            <p:cNvPr id="96" name="AutoShape 8"/>
            <p:cNvSpPr/>
            <p:nvPr/>
          </p:nvSpPr>
          <p:spPr>
            <a:xfrm>
              <a:off x="4937040" y="419112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3352680" y="5270760"/>
              <a:ext cx="3743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4"/>
          <p:cNvSpPr/>
          <p:nvPr/>
        </p:nvSpPr>
        <p:spPr>
          <a:xfrm>
            <a:off x="3733920" y="380880"/>
            <a:ext cx="2209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春草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632244_23534174910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5T02:21:58Z</dcterms:created>
  <dc:creator/>
  <dc:description/>
  <dc:language>en-US</dc:language>
  <cp:lastModifiedBy>微软用户</cp:lastModifiedBy>
  <dcterms:modified xsi:type="dcterms:W3CDTF">2018-09-15T02:22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40</vt:lpwstr>
  </property>
  <property fmtid="{D5CDD505-2E9C-101B-9397-08002B2CF9AE}" pid="3" name="Version">
    <vt:r8>1</vt:r8>
  </property>
</Properties>
</file>