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3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861-76CE-4F12-9904-3DF287D6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297-DCE5-4480-A397-6E660E70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17D-9A91-4542-B186-DEB402A1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4A0-ECCB-4368-A55D-36F162F0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11E-A7BA-4184-B8D8-08F0B334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AE5-649F-4062-BAA1-65B40110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9B8-5674-4AE8-B009-D68F2D8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240-E2A2-4D0F-BA0A-FB331770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653-4054-49B8-8F89-2F9D5C8E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734-E21B-42A2-8501-3612AEC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22E-C58F-414F-9872-F4C0B2A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2F7-2B9D-4BDA-B4BE-9D1691E9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994-6F81-4F17-8322-14DD3EF73C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30000"/>
          </a:blip>
          <a:srcRect l="0" t="0" r="3001" b="20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304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两年前，战士们来到荒芜人烟的小岛上，垒出“海岛田”撒下蔬菜籽、西瓜籽，由于没有昆虫授粉，一个西瓜也没有结。今年战士们用人工授粉，结出小瓜，谁知又被暴风雨袭击。那个唯一残存的小瓜在战士们精心的照料下，才结出了第一个大西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343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（体会到战士们为了西瓜的生长，付出了许多心血。它凝结着战士们建岛、爱岛的深情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30000"/>
          </a:blip>
          <a:srcRect l="0" t="0" r="3001" b="20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00200" y="10666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好像一股甜丝丝的甘浆，流进了每个战士的心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666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（体会到这个西瓜是战士们对祖国、对小岛无限热爱的结晶，是战士们在艰苦的生活中创造出来的美好果实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30000"/>
          </a:blip>
          <a:srcRect l="0" t="0" r="3001" b="20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我就不信，这些小精灵会不爱我们祖国的宝岛，会不愿在这里安居乐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2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（体会到战士相信小昆虫会在岛上愉快地生活、劳动。这段话充分地表明边防战士们早已作出了在海岛扎根的打算，并努力地在这里建设着自己的家园。同时，又反映出他们为保卫祖国而不怕艰苦，自觉在那“比大陆苦得多差得多”的环境中生活的高尚品质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3997" t="3269" r="14004" b="14925"/>
          <a:stretch/>
        </p:blipFill>
        <p:spPr>
          <a:xfrm>
            <a:off x="7081920" y="0"/>
            <a:ext cx="20620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175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80880" y="609480"/>
            <a:ext cx="4038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华文新魏"/>
              </a:rPr>
              <a:t>说句心里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21279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782" b="208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838080"/>
            <a:ext cx="3504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中宋"/>
              <a:ea typeface="华文中宋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264" t="5303" r="3509" b="98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95280" y="1981080"/>
            <a:ext cx="6172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彩色的翅膀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731960" cy="1351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332000" y="0"/>
            <a:ext cx="1817640" cy="1801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086600" y="5603760"/>
            <a:ext cx="1798560" cy="125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236232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想想这篇课文主要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想想小高为什么把昆虫带往宝石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了课文，你们有什么样的感受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8600" y="404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整体感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85800" y="6095880"/>
            <a:ext cx="5256360" cy="582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10666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想想这篇课文主要写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19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　  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</a:rPr>
              <a:t>（课文记叙了一位扎根海岛的战士，利用回家探亲的机会捕捉小昆虫，并将它们带上海岛来，给他们种植的蔬菜瓜果传授花粉的事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11430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高为什么把昆虫带往宝石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1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</a:rPr>
              <a:t>（因为小高想让小昆虫在海岛安居乐业，为海岛的瓜果蔬菜传播花粉。只有这样才有要能有所收获，小岛才能越变越美丽，岛上的生活才能越来越美好。所以，把昆虫带往宝石岛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66680" y="10666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了课文，你们有什么样的感受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438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</a:rPr>
              <a:t>　  （文章透露出来的是感动，战士带着昆虫归队，大家对那个来之不易的瓜的爱，扩大开来，是对海岛对祖国的爱，那样的爱由那彩色的翅膀舞动着，没有豪言壮语，只是字里行间里所透露出来的浓浓的爱。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5264" t="5303" r="3509" b="98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07600" y="6094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思考感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17640" cy="180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5334120"/>
            <a:ext cx="1798560" cy="1253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09680" y="5867280"/>
            <a:ext cx="5256360" cy="582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28954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体会下面句子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30000"/>
          </a:blip>
          <a:srcRect l="0" t="0" r="3001" b="20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小高把他的大提包扔在一边，怀里却紧紧地抱着一只纸箱子。“紧闭着嘴唇，两眼直发愣。”、“可是小高的嘴唇又紧闭了，脸色比先前还难看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200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（体会到因为海面上波涛起伏，船身前后晃荡，小高担心纸箱被损坏；另外纸箱里装着的小昆虫，在小高心中比什么都重要，他要保护它们。而且小高在晕船，身体极不舒服的情况下紧紧抱着纸箱的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7-08-16T09:18:00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