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514-F610-46E7-A6C8-72B387C3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4D2-C6CB-4593-BE41-7065C757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F62-79BB-4615-9188-145BB07F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585-D1D5-4D77-94B6-BB6B81D3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DFCA-DFBF-4916-9D75-532DD73C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AE8-741D-47B6-80DE-771C52A3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C070-1A39-4232-B25E-C73AFE5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C463-1E76-47DB-BFE7-C5D66E5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5A9C-71AC-4E2E-94D7-616D65DB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C68E-841B-43D2-86BB-A46F9F0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7384-AE80-4B46-9759-0D02510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D6D-9AE7-4EE5-950F-3256E04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601-BAE0-4B8E-8508-C76A1B0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02D-1B14-4342-833A-CC48DEE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2789-49AF-415C-8358-9901EFB9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8AC-FC59-41BC-8F4C-E320DA21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1696-2686-46A5-AC3E-2757DA71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E46-2449-4968-ACB2-E75EEBD5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7FE-FBB5-4833-A7A7-EC2EE778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D84-6050-4C2F-AD43-66CE6976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3CE-A009-403A-B70E-13F13A57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CC7D-0C49-46CD-9BFB-32D0003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DD9-0B25-4E93-9184-C68B7D3F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325-6991-4898-B9A9-5A8CEEA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D415-8A05-4731-BB84-5C08680B076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882B-9940-4D89-BAB8-C7B199497B4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24000" y="299736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1d1d"/>
                </a:solidFill>
                <a:latin typeface="Arial"/>
                <a:ea typeface="黑体"/>
              </a:rPr>
              <a:t>把掌声分给她一半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981000"/>
            <a:ext cx="65880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北师大版小学语文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六年级上册第四单元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30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红湾小学      屈爱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再读课文，从整体感受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54064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一、本文主要写了什么内容？（用一句话概括）：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本文记叙了女排队长孙晋芳的事迹，赞美了她刻苦训练，勇于拼搏的精神及率直、聪慧、胸怀宽广的个性。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二、文中主要写了孙晋芳的哪些事例？（训练学生的概括能力）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⒈雍容大将，技艺高超。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⒉苦练球技，挥洒自如。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⒊误会郎平，开阔心胸。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⒋了解队友，配合默契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三、这些事例可以看出孙晋芳怎样的体育精神？文中哪些语句可以体现出来？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团结：与郎平消除误会； </a:t>
            </a:r>
            <a:br>
              <a:rPr sz="18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拼搏奋进：走廊练球的场景 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05000" y="435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华文新魏"/>
              </a:rPr>
              <a:t>品读课文，讨论交流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1083600"/>
            <a:ext cx="6840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⒈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原来漂亮蓬松的头发，变得湿淋淋的，粘到一块去了。运动衣衫的颜色被汗水浸染得由浅变深，只要轻轻一拧就可以拧出一滩汗水。</a:t>
            </a:r>
            <a:br>
              <a:rPr sz="2400"/>
            </a:b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生动的描写出孙晋芳训练时肯吃苦，顽强拼搏的精神。）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894040"/>
            <a:ext cx="6842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廊顶仿佛突然升高了，墙壁和门窗也似乎向两边闪开，狭小的走廊啊，宛如变成了一个无边无垠的空间。</a:t>
            </a:r>
            <a:br>
              <a:rPr sz="2400"/>
            </a:b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通过抒情感慨空间得变化，赞扬孙晋芳的球技，形象衬托出她传球技艺高超。） 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4892760"/>
            <a:ext cx="6696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⒊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更神的，还是孙晋芳的双手，仿佛变成了两块磁石，吸引着飞舞的白球；仿佛有了魔法，可以随意把球送到想送的地方。</a:t>
            </a:r>
            <a:br>
              <a:rPr sz="2400"/>
            </a:b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用比喻写出孙晋芳可以任意地控制排球，形象生动地写出了她技艺高超。）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1488960"/>
            <a:ext cx="7128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⒋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孙晋芳恨自己心胸不宽阔，她懂得了自己的喜怒哀乐、自己的情绪起伏会直接影响队员，影响胜负，决心继续磨炼自己，要把心海中的暗礁一块一块炸平。</a:t>
            </a: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暗礁比喻心中的狭隘“炸平”生动表现要除去心中狭隘的决心。）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3256920"/>
            <a:ext cx="712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⒌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透过那细眯的眼缝，闪射出来的却是机敏、聪慧而又幽默的目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外貌描写中渗透出人们对孙晋芳的喜爱，可见抒情十记叙的文字更加感人，容易与读者产生共鸣。）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4878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⒍</a:t>
            </a:r>
            <a:r>
              <a:rPr b="1" lang="zh-CN" sz="2400" spc="-1" strike="noStrike" u="sng">
                <a:solidFill>
                  <a:srgbClr val="3366ff"/>
                </a:solidFill>
                <a:uFillTx/>
                <a:latin typeface="Arial"/>
              </a:rPr>
              <a:t>一幕幕惊心动魄的战斗场面，就由她导演出来；一支支悦耳的乐曲，由她指挥而生。</a:t>
            </a:r>
            <a:br>
              <a:rPr sz="2400"/>
            </a:br>
            <a:br>
              <a:rPr sz="2400"/>
            </a:b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（形象地写出孙晋芳在比赛中的主导作用，她是比赛场上的灵魂。） </a:t>
            </a:r>
            <a:br>
              <a:rPr sz="24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94080" y="2595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华文新魏"/>
              </a:rPr>
              <a:t>品读课文，讨论交流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540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在文中对孙晋芳个人的作用如何作高度评价的？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者把孙晋芳比喻成连接珍珠的金线，这个比喻打的很好，形象生动的写出孙晋芳在女排中发挥的作用，类似的比喻你也能打两个吗？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63060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24000" y="623736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场上一分钟，场下十年功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1134000"/>
            <a:ext cx="770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1d1d"/>
                </a:solidFill>
                <a:latin typeface="Arial"/>
                <a:ea typeface="华文细黑"/>
              </a:rPr>
              <a:t>课文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中国女排姑娘们比为一颗颗璀璨的珍珠，那么，孙晋芳就是一条闪闪发光的金线，把颗颗珍珠串连在一起，中国女排才成为闪耀着奇光异彩的战斗集体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3437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这个比喻很好，类似的比喻你也能写两个吗？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女排比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部精彩的戏，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那么孙晋芳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_____ ___________________________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如果把女排比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曲优美的乐章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那么孙晋芳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___ _____________________________________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149720"/>
            <a:ext cx="854064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每一份成就都离不开运动员的奋斗，中国女排的辉煌成就也是全体队员拼搏的结果，而课文说应该把欢呼声和掌声分给孙晋芳一半合适吗？ 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（是她组织全队的进攻，为得每一分创造了必要的条件，如果没有她，女排便没有了灵魂，也就不会取得辉煌的成绩。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192240"/>
            <a:ext cx="5618160" cy="381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04000" y="1844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辉煌岁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拓展训练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体坛上像孙晋芳一样有着“顽强、拼搏、团结、协作”精神的运动员还有许多，你知道他们的哪些事迹，讲给同学们听听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顽强、拼搏、团结、协作”是运动员恪守的体育精神，在我们的日常生活中，是否也需要这种精神，谈谈你的经历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各行各业中有许多人不计个人得失为祖国赢得了荣誉，你知道的有哪些，讲给大家听听。 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540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请描写你熟悉或喜欢的一位运动员顽强拼搏的精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279432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24000" y="292428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98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年中国女排首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世界杯冠军时的郎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3360" y="2492280"/>
            <a:ext cx="854064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把掌声分给她一半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孙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晋——顽强——拼搏——团结——协作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芳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祖国的荣誉高于一切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8920" y="1052640"/>
            <a:ext cx="223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板书设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88000" y="2057040"/>
            <a:ext cx="43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孙晋芳，著名女子排球运动员。安徽宿县人。生于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55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。身高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75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米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7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入苏州市业余体校进行排球训练，同年入 江苏排球队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76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被选入国家排球集训队，任中国女排队长。比赛经验丰富，能传、吊、扣，是组织快攻多变战术的核心，战术意识强，曾多次参加国际比赛，为世界著名二传手。在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77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第二届世界杯赛中获第四名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78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第八届世 界女排锦标赛获第六名，同年参加第八届亚洲运动会女排比赛获亚军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79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第二届亚洲排球锦标赛获冠军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在第三届世界杯赛中首次获冠军（她获“最佳运动员奖”、“优秀运动员奖”和“最佳二传手奖”），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获第九届世界女排锦标赛冠军和第九届亚洲运动会女排比赛冠军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获运动健将称号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3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获国家体委颁发的体育运动荣誉奖章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被评为全国十名最佳运动员之一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年被评为中华人民共和国成立三十五年来杰出运动员之一。</a:t>
            </a:r>
            <a:br>
              <a:rPr sz="1800"/>
            </a:b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37465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05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⒈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理解文中所体现的团结、拼搏、奋进的体育精神，从而认识到“祖国的荣誉高于一切”的民族精神。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⒉掌握多角度塑造人物的方法。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⒊揣摩文中议论和抒情的作用。 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2270880"/>
            <a:ext cx="662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d1d"/>
                </a:solidFill>
                <a:latin typeface="黑体"/>
                <a:ea typeface="黑体"/>
              </a:rPr>
              <a:t>自学提纲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文中主要写了孙晋芳的哪些事例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这些事例可以看出孙晋芳怎样的体育精神？文中哪些语句可以体现出来？用不同符号划出来，多读一读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463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奥运会上，女排姑娘获得了奥运会的金牌，五星红旗在高昂的国歌声中徐徐身升起，我们激动兴奋，我们为中国而骄傲，我们为自己是中国人而自豪，但同学可知道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月，中国女排夺得了第三届世界杯女排赛的桂冠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夺得第九届世界杯女排锦标赛冠军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8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洛杉矶奥运会上再登冠军奖台，实现了几代人梦寐以求的“三连冠”宏愿。那时的女排令全国人民为之热血沸腾，女排的精神鼓舞着亿万探索前进的人们。女排的精神就是敢于拼搏的中华民族精神。女排之所以取得这样辉煌的成绩，离不开当时的女排队长孙晋芳。今天就让我们走进她，看看她究竟有什么法宝，让女排成为中国人心中的长城。 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5040360" cy="357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700360" y="4653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女排，中国的骄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406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请学生自由朗读课文，初步理解课文内容，并扫除字词障碍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87280" y="2852640"/>
            <a:ext cx="64072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亲昵  默契  饶恕 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蓬松  荣誉  爽朗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璀璨        顷刻间 </a:t>
            </a:r>
            <a:br>
              <a:rPr sz="4400"/>
            </a:b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倔强        脾气倔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19280" y="21337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正确认读生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53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化险为夷   得心应手  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挥洒自如   弱不禁风 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眼花缭乱   梦寐以求  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无边无垠   从容不迫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一锤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cuí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定音：比喻凭某个人一句话把事情最后决定下来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从容不迫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ò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做事得心应手，不紧张，不忙乱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眼花缭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lióo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乱：看到纷繁或新奇的东西而使眼睛发花，感到迷乱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梦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mèi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以求：睡梦中还在寻找追求，形容愿望十分迫切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袅袅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niǎo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青烟：回旋上升的青色烟气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cuǐ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càn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（珠玉等）光亮鲜明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默契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qì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形容彼此无需用语言表达，即可心灵相通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饶恕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sù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宽恕；该处罚而不给予处罚。 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暗礁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jiōo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：比喻潜在的障碍或危险。 </a:t>
            </a:r>
            <a:br>
              <a:rPr sz="2000"/>
            </a:b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理解词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8:42Z</dcterms:created>
  <dc:creator/>
  <dc:description/>
  <dc:language>en-US</dc:language>
  <cp:lastModifiedBy>china</cp:lastModifiedBy>
  <dcterms:modified xsi:type="dcterms:W3CDTF">2011-09-11T16:08:09Z</dcterms:modified>
  <cp:revision>33</cp:revision>
  <dc:subject/>
  <dc:title>幻灯片 1</dc:title>
</cp:coreProperties>
</file>