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voltage.wav" ContentType="audio/x-wav"/>
  <Override PartName="/ppt/media/camera.wav" ContentType="audio/x-wav"/>
  <Override PartName="/ppt/media/wind.wav" ContentType="audio/x-wav"/>
  <Override PartName="/ppt/media/chimes.wav" ContentType="audio/x-wav"/>
  <Override PartName="/ppt/media/image16.jpeg" ContentType="image/jpeg"/>
  <Override PartName="/ppt/media/hammer.wav" ContentType="audio/x-wav"/>
  <Override PartName="/ppt/media/image12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suction.wav" ContentType="audio/x-wav"/>
  <Override PartName="/ppt/media/applause.wav" ContentType="audio/x-wav"/>
  <Override PartName="/ppt/media/image6.jpeg" ContentType="image/jpeg"/>
  <Override PartName="/ppt/media/breeze.wav" ContentType="audio/x-wav"/>
  <Override PartName="/ppt/media/image18.jpeg" ContentType="image/jpeg"/>
  <Override PartName="/ppt/media/click.wav" ContentType="audio/x-wav"/>
  <Override PartName="/ppt/media/image15.jpeg" ContentType="image/jpeg"/>
  <Override PartName="/ppt/media/type.wav" ContentType="audio/x-wav"/>
  <Override PartName="/ppt/media/image13.jpeg" ContentType="image/jpeg"/>
  <Override PartName="/ppt/media/image11.png" ContentType="image/png"/>
  <Override PartName="/ppt/media/image10.jpeg" ContentType="image/jpeg"/>
  <Override PartName="/ppt/media/image9.jpeg" ContentType="image/jpeg"/>
  <Override PartName="/ppt/media/image14.jpeg" ContentType="image/jpeg"/>
  <Override PartName="/ppt/media/image8.png" ContentType="image/png"/>
  <Override PartName="/ppt/media/laser.wav" ContentType="audio/x-wav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EFD-830A-4440-B664-AB1D19D6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0AB-5F21-4AE1-BF38-F0045FA3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F35-1783-4E9F-B0E1-EA1A960E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725-6570-434D-810A-EC47AE4A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94E-9EFD-4B02-A398-41328F57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4C5-80BA-4090-A936-F34C6043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163-006D-428D-B109-A5990882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476-A6EF-4DDA-9E85-1B678ADC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828-85CF-43ED-9D3D-73E5DB50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D37-A1A3-4CA3-98C1-99F448CB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179-BA86-4B50-A45D-6D535FE5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807-20D7-4004-ABF1-1223A31E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0E09-C6A0-4829-9D58-5BDCD0CE65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wind.wav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wind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ind.wav"/><Relationship Id="rId3" Type="http://schemas.openxmlformats.org/officeDocument/2006/relationships/audio" Target="../media/hammer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1700"/>
            </a:gs>
            <a:gs pos="50000">
              <a:srgbClr val="ff3300"/>
            </a:gs>
            <a:gs pos="100000">
              <a:srgbClr val="75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134720" cy="7238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357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透过那细眯的眼缝，闪射出来的却是机敏、聪慧而又幽默的目光。他的神态从容不迫，颇有一种大将风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341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身材匀称，体格结实健美。两只眼睛总是细眯着，一流汗，就眯得更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765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外貌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213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神态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134720" cy="7238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620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多么险恶的来球，只要经过他的手一调整，一缓冲，顷刻间就化险为夷，变得平和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2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说向她飞来的球像一团熊熊燃烧的烈火，那么，从她手里飞走的球已经变成一缕袅袅青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5229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运用比喻的手法，突出孙晋芳技艺的高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20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多么险恶的来球，只要经过他的手一调整，一缓冲，顷刻间就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化险为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变得平和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2421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化险为夷：指化危为安，这里指把险恶的球变得平和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134720" cy="7238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2349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们仔细阅读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，把孙晋芳苦练球技的句子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134720" cy="7238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765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来蓬松漂亮的头发，变得湿淋淋的，粘到一块儿去了。运动衣衫的颜色被汗水浸染得由浅变深，只要轻轻一拧就可以拧出一滩汗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2852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运用外貌描写，生动体现了孙晋芳训练时肯吃苦、顽强拼搏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13472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4000" y="765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廊顶仿佛升高了，墙壁和门窗也似乎向两旁闪开，狭小的走廊啊，宛如变成了一个无边无垠的空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14172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通过空间变化的描写，衬托出孙晋芳球技的高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134720" cy="7238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神的，还是孙晋芳的双手，仿佛变成了两块磁石，吸引着飞舞的白球；仿佛有了魔法，可以随意把球送到想送的地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3068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用比喻的手法，写出孙晋芳可以任意的控制排球，生动形象的写出了她的球技高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5280" y="227664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一双挥洒自如的手固然是至关重要的，作为一名优秀的二传手，还必须具有宽大的胸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76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过渡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5229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承上启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24210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认真阅读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7---9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自然段，这几段主要写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620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中写了那场访日比赛，中国队失利，主要作用是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637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说明二传手与主攻手的配合非常重要，为后文写孙晋芳将自己磨练得心胸宽广作铺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47628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18240"/>
            <a:ext cx="87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孙晋芳恨自己心胸不宽阔，她懂得了自己的喜怒哀乐、自己的情绪起伏会直接影响队员，影响胜负，决心继续磨炼自己，要把心海中的暗礁一块一块炸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924280"/>
            <a:ext cx="50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暗礁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比喻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心中的狭隘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2492280"/>
            <a:ext cx="287280" cy="2160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0720" y="2492280"/>
            <a:ext cx="287280" cy="2160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407664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从这句话你体会到孙晋芳有怎样的品格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55468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有宽大的胸怀，顾全大局的品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533520" y="-228600"/>
            <a:ext cx="10211040" cy="7543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Q版卡通矢量人物图库 - 儿童58 - 儿童向量图58"/>
          <p:cNvPicPr/>
          <p:nvPr/>
        </p:nvPicPr>
        <p:blipFill>
          <a:blip r:embed="rId2"/>
          <a:stretch/>
        </p:blipFill>
        <p:spPr>
          <a:xfrm>
            <a:off x="0" y="3882960"/>
            <a:ext cx="2484360" cy="2279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92360" y="1125360"/>
            <a:ext cx="6483240" cy="253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把掌声分给她一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3284640"/>
            <a:ext cx="287640" cy="2887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141720"/>
            <a:ext cx="1942920" cy="288720"/>
          </a:xfrm>
          <a:custGeom>
            <a:avLst/>
            <a:gdLst>
              <a:gd name="textAreaLeft" fmla="*/ 332640 w 1942920"/>
              <a:gd name="textAreaRight" fmla="*/ 1445400 w 194292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98" hR="21600" stAng="10800000" swAng="-5400000"/>
                <a:lnTo>
                  <a:pt x="12368" y="21600"/>
                </a:lnTo>
                <a:arcTo wR="7398" hR="21600" stAng="5400000" swAng="-2645297"/>
                <a:lnTo>
                  <a:pt x="21177" y="7200"/>
                </a:lnTo>
                <a:lnTo>
                  <a:pt x="17280" y="0"/>
                </a:lnTo>
                <a:lnTo>
                  <a:pt x="12537" y="7200"/>
                </a:lnTo>
                <a:lnTo>
                  <a:pt x="14372" y="7200"/>
                </a:lnTo>
                <a:arcTo wR="7398" hR="21600" stAng="2754703" swAng="2227466"/>
                <a:lnTo>
                  <a:pt x="9883" y="20345"/>
                </a:lnTo>
                <a:arcTo wR="7398" hR="21600" stAng="5817831" swAng="4982169"/>
                <a:close/>
              </a:path>
              <a:path fill="darkenLess" w="21600" h="21600">
                <a:moveTo>
                  <a:pt x="0" y="0"/>
                </a:moveTo>
                <a:arcTo wR="7398" hR="21600" stAng="10800000" swAng="-5400000"/>
                <a:lnTo>
                  <a:pt x="12368" y="21600"/>
                </a:lnTo>
                <a:arcTo wR="7398" hR="21600" stAng="5400000" swAng="417831"/>
                <a:lnTo>
                  <a:pt x="9883" y="20345"/>
                </a:lnTo>
                <a:arcTo wR="7398" hR="21600" stAng="5817831" swAng="4982169"/>
                <a:close/>
              </a:path>
            </a:pathLst>
          </a:cu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458136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孙晋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458316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孙</a:t>
            </a:r>
            <a:r>
              <a:rPr b="1" lang="zh-CN" sz="6000" spc="-1" strike="noStrike">
                <a:solidFill>
                  <a:srgbClr val="cc0099"/>
                </a:solidFill>
                <a:latin typeface="Arial"/>
              </a:rPr>
              <a:t>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3645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宋体"/>
              </a:rPr>
              <a:t>jì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18900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郎平的性格爽朗，兴奋时容易跳早，球要给高些；她身体疲惫时，容易跳不起来，球要给近网，不给远网。招娣敢打敢拼，是 一员虎将，但有点愣，发急时，不能轻易给她球，而要提醒她：“招娣，别急！别急！”毛毛勇敢倔强，技术全面，什么球都能打，不过给球还是宁近勿远，宁矮不高，宁快不慢。晓兰性格内向，稳得住。亚琼不能埋怨，要多鼓励。梁艳年轻，眼疾手快，给球的速度要跟得上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869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说明了“船呀，终于撑进了她的心海。她熟知每一个同伴的性格、脾气、体质和技术，比赛时总号着她们的脉搏给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609480" y="-533520"/>
            <a:ext cx="10134360" cy="8001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29000" y="25146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6206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作者在文中对孙晋芳个人的作用如何作高度评价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？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2430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如果把中国女排姑娘们比为一颗颗璀璨的珍珠，那么，孙晋芳就是一条闪闪发光的金线，把颗颗珍珠串连在一起，中国女排才成为闪耀着奇光异彩的战斗集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2781360"/>
            <a:ext cx="576108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213000"/>
            <a:ext cx="424800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80880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比喻很好，类似的比喻你也能写两个吗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把女排比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一部精彩的戏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孙晋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把女排比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一曲优美的乐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那么孙晋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__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119700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把掌声分给孙晋芳一半”你觉得对吗？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35002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对。因为二传手在比赛中起着非常重要的作用，却又是无名英雄，还得常常忍受责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61040" y="1066680"/>
            <a:ext cx="850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冰释前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28080" y="1066680"/>
            <a:ext cx="8506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祖国荣誉高于一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71080" y="1066680"/>
            <a:ext cx="850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体育精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543000" y="1066680"/>
            <a:ext cx="2191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细致的了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43000" y="1066680"/>
            <a:ext cx="21913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充分的信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543000" y="1066680"/>
            <a:ext cx="2191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默契的配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543000" y="1066680"/>
            <a:ext cx="21913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战术的组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-30240"/>
            <a:ext cx="7164360" cy="6888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3520" y="762120"/>
            <a:ext cx="8353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幕幕惊心动魄的战斗场面，就由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导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出来；一支支悦耳的乐曲，由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而生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12960" y="337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0481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位观众写信赞扬她：“… …看你打球，使人想起了听交响乐。在你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下，可以演奏出各种各样不同的优美乐章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6922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中国女排队长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155736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世界优秀二传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23493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带领中国女排实现“三连冠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40384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场上灵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3809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352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39636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Arial"/>
              </a:rPr>
              <a:t>一锤定音    空旷      磁石 脾气</a:t>
            </a:r>
            <a:r>
              <a:rPr b="1" lang="zh-CN" sz="6400" spc="-1" strike="noStrike">
                <a:solidFill>
                  <a:srgbClr val="ff3300"/>
                </a:solidFill>
                <a:latin typeface="Arial"/>
              </a:rPr>
              <a:t>倔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</a:rPr>
              <a:t>       口吻      饶恕  疲惫          </a:t>
            </a:r>
            <a:r>
              <a:rPr b="1" lang="zh-CN" sz="6400" spc="-1" strike="noStrike">
                <a:solidFill>
                  <a:srgbClr val="ff3300"/>
                </a:solidFill>
                <a:latin typeface="Arial"/>
              </a:rPr>
              <a:t>倔</a:t>
            </a:r>
            <a:r>
              <a:rPr b="1" lang="zh-CN" sz="6400" spc="-1" strike="noStrike">
                <a:solidFill>
                  <a:srgbClr val="000000"/>
                </a:solidFill>
                <a:latin typeface="Arial"/>
              </a:rPr>
              <a:t>强      埋怨         三连冠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chu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kuà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08720" y="-1000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宋体"/>
              </a:rPr>
              <a:t>c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484280"/>
            <a:ext cx="13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宋体"/>
              </a:rPr>
              <a:t>ju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1484280"/>
            <a:ext cx="13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宋体"/>
              </a:rPr>
              <a:t>wě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96360" y="1557360"/>
            <a:ext cx="136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宋体"/>
              </a:rPr>
              <a:t>sh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141720"/>
            <a:ext cx="136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宋体"/>
              </a:rPr>
              <a:t>bè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314172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jià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10160" y="3068640"/>
            <a:ext cx="136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宋体"/>
              </a:rPr>
              <a:t>ju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3141720"/>
            <a:ext cx="13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宋体"/>
              </a:rPr>
              <a:t>m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6360" y="49417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宋体"/>
              </a:rPr>
              <a:t>ɡu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333360"/>
            <a:ext cx="8893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熊  膊   廊  逆  脉  虎  梁   幕   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20640"/>
            <a:ext cx="19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宋体"/>
              </a:rPr>
              <a:t>xió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69228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宋体"/>
              </a:rPr>
              <a:t>b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62064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宋体"/>
              </a:rPr>
              <a:t>lá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54936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宋体"/>
              </a:rPr>
              <a:t>n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04000" y="549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宋体"/>
              </a:rPr>
              <a:t>mà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213000"/>
            <a:ext cx="10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宋体"/>
              </a:rPr>
              <a:t>h</a:t>
            </a:r>
            <a:r>
              <a:rPr b="1" lang="zh-CN" sz="5400" spc="-1" strike="noStrike">
                <a:solidFill>
                  <a:srgbClr val="cc0099"/>
                </a:solidFill>
                <a:latin typeface="Arial"/>
              </a:rPr>
              <a:t>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314172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宋体"/>
              </a:rPr>
              <a:t>liá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3141720"/>
            <a:ext cx="10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宋体"/>
              </a:rPr>
              <a:t>m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32130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宋体"/>
              </a:rPr>
              <a:t>zhǎ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hu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音：比喻凭某个人一句话把事情最后决定下来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容不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做事得心应手，不紧张，不忙乱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眼花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l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乱：看到纷繁或新奇的东西而使眼睛发花，感到迷乱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梦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mè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求：睡梦中还在寻找追求，形容愿望十分迫切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袅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niǎ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烟：回旋上升的青色烟气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u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à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（珠玉等）光亮鲜明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q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形容彼此无需用语言表达，即可心灵相通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饶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h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宽恕；该处罚而不给予处罚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暗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比喻潜在的障碍或危险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0000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理解词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0666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内行的观众，却总把自己的掌声和欢呼声，分一半给场上的灵魂——二传手。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首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5812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该把欢呼声和掌声分一半给她！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尾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32200" y="231624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190512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467480" y="2895480"/>
            <a:ext cx="3049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00760" y="1371600"/>
            <a:ext cx="911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首 尾 照 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134720" cy="723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400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一想，课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写了孙晋芳的哪些事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8000" y="1989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⒈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雍容大度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，技艺高超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78136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苦练球技，挥洒自如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第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364500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误会郎平，开阔心胸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第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6---9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437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了解队友，配合默契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第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134720" cy="7238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5280" y="2349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们仔细阅读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，把印象深刻的句子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2:09:56Z</dcterms:created>
  <dc:creator>微软用户</dc:creator>
  <dc:description/>
  <dc:language>en-US</dc:language>
  <cp:lastModifiedBy>微软用户</cp:lastModifiedBy>
  <dcterms:modified xsi:type="dcterms:W3CDTF">2013-10-25T02:46:34Z</dcterms:modified>
  <cp:revision>51</cp:revision>
  <dc:subject/>
  <dc:title>幻灯片 1</dc:title>
</cp:coreProperties>
</file>