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714-2179-426B-8354-01632832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E53-592E-4778-94EF-88A1478A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71F91-465C-42A8-94F1-95092958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C1FB8-3527-4D43-AB12-146D83D8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97BE6-7B35-49E9-A84C-25E6BD4C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F92E7-17C1-40AA-8131-6779E3AD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BC8A9-7411-4903-A1A2-4BB54503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9F1BA-E3B2-4284-AC5A-4D19AAF4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3EAD9-D7B8-4763-B266-A27DE700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2388E-5328-470B-A693-695D6180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4DA95-FC21-4626-BCCB-DFF1D1C7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E8FA6-B017-48D4-B15F-93A2DCF1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534-3FEC-49D9-9213-B1F50D67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DD0DD-4545-41A3-930A-BAF8C671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1DE71-09EB-4878-870D-85E403F2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E443D-8892-463D-BC92-961BBF78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B4E0A-3D35-4A5A-85B2-7FCD7154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DF958-80CA-4636-B0F2-6F7E29EA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344FC-A807-4938-8209-98280639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B6650-7FA6-460B-A681-B488FC90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A142A-BC5C-40C1-9355-00F11DB2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AF8A6-33F3-4677-8946-75FD1E8C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26AB1-170C-459F-A7FE-EE352D4F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5D1-CFA5-46E9-9622-C01DACA3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4B654-A519-4A61-AD6E-24DC8CBD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36203-746E-4E29-A3BA-11071F19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D9055-D86A-4D8E-9F6F-7CA3229A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C8AF8-37FD-490B-9F25-2D56A661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93D38-351C-48B3-B356-477EBBDF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1736E-0B95-4940-A480-E75AC873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1F41C-DF07-429A-B810-8976839E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F2A05-432A-46E8-8067-1B268BC2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A5780-1EF1-4669-8B3E-64595285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2813E-FFC5-4CD5-9E48-0034A554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7777-C543-4B5F-A524-6220C0E1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2BF5D-EC91-4849-988A-EABD546F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E4988-762E-4097-886A-33AFD943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C9D4B-DF6F-4E5A-83F3-D8AD360D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B3057-1CB3-4F83-ABFB-30B6C9E6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DB49E-9526-4C9E-9DAA-CD47AEC1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222C6-2A39-4007-AC00-921B38CE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14A93-6F6C-47FC-807B-7C5059ED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4028D-4E1D-49DE-BE09-A35636B9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BC230-34AC-4D23-8BC4-D7BAA314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7127B-7193-4A58-9D93-0F85C334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8F92-7774-4C4D-B5A2-52A5ABEA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4C3A5-682E-4BB7-A9F2-A8DADD37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774CC-74AB-4CB5-BF00-613422D3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21FB6-324D-4836-9318-64525670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FBC93-4F17-4A09-B831-4D744C13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6EA1C-FFEC-47F0-B634-2A6990D9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A7BA3-AAA5-4C05-BF0E-B96A3916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4852E-91CB-48E3-8707-9E7FB21A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1DF7D-9297-4BB8-B843-C42430BE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56C5E-8F4E-444D-85E1-C7CF6F67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D92FA-2C02-4904-AE40-7518E15E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9986-459B-4116-B17B-C2977232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D97C7-302C-428E-9B88-907DE6F6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616A6-C3DE-4A1B-A745-1326F7EF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36949-61C8-4E3F-8E1C-744A7651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4885C-F141-429D-826D-436855D0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C3B11-E294-4039-B55D-2276D8DE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7619B-BDD1-4814-93DD-4C163C18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8C710-5634-4098-80F1-18839724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BFC6C-67AF-48BE-A3AA-CE18628E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31FF7-1E07-4D7C-994B-1C132780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2A055-4569-45AC-9F6D-560BA3EA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EA42-4A97-4E5A-B13C-A3EE8F45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6DAB9-D46D-4993-B756-90B07EFB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5A2FA-76D8-4BC2-89AA-21388C70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2AAA7-13D6-47FF-ACF4-861E1B99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48D7C1-AC9A-4554-91A4-D94F5574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B0016-8688-4178-9223-F1D0D137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5D3E8-56CE-4E59-BE55-92BE81FA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C53FEF-8852-4EC7-8743-3770CFED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8AA5D-F41C-40D0-B4F8-99E50287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2172F-1609-4B60-B696-98EDA62E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D7E32-5A05-4B61-827F-231F33F2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5CE7-C67E-4B38-AA7B-819DE8C8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4A6A2-B2E2-4719-809D-6718AE47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B7085-A758-4D15-BA71-14C2B915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88FB0-A350-425E-AFB5-636ABFF7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12798-7FC8-41B0-9FF8-4CB95881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D4DAB9-BE81-4B06-98F3-F42156F4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24985-626A-410F-BF19-183A773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884EE-2F1E-4C23-A41A-809821DE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5C99B-EC45-47A9-A0C2-2E62D0C6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215D0-48C0-41B5-8BBD-5199D948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B1485-0021-4BA4-B4C8-4D1CDA61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D023-6F24-4A9D-B747-E8FB5F98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BD7E1A-E725-43CA-A051-B7C4853F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F6942-4A0F-47F7-9B1C-20AD1B36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C34D6-FE33-41D6-8A7F-A4F5EF17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20579C-485B-4CF7-A9B7-A790B329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9665C6-2398-46BE-AE0B-1702ADE6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39C58-17D1-4E1A-8C53-F8D58F60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3AEBC-0022-4561-B7F7-69DC0C3E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6C395-A8E3-433E-9E23-D53D5F60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71A2C-D973-4A6B-B9EF-43DBA22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DA321-10C5-435D-B173-2FC9768B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A8A3-D007-4CDF-864F-C797C78A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CA9B8-22AA-4325-847A-CE22DC8A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36223-49F6-4AD1-8B36-D481B183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9187D8-D908-4FC8-81E8-C302894E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8B6D9-293C-426D-88EB-C9670A88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CA3A1-0FE8-44AB-854F-58FE0CF4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B0479-B443-48D5-B45C-78890377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8421B7-671B-407A-8E84-EDC613F1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7CA9DC-DDE2-4243-BE1C-9B9EBBAF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F7BF9-1E5B-468A-8923-480E2FBB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D2122-2EC8-410C-AEA6-E2D68274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0EE-963E-4B7B-8628-9E568916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AE83-B30C-40B4-8B0B-4660C330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4C5526-3F82-48B9-B648-958175F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1F7FC0-16C8-4DFC-AE5B-C24C1650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670F64-5EB0-4F28-9F37-ABEC2F52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206AE-8364-47B5-B687-D0071332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860D4-F9FF-43D5-A76A-D24E4D54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733583-D90D-4B15-9FF1-6AFAF482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92E0E3-18D1-464A-AEAD-9C7063E0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4D8CF-9A32-4428-B050-F730C99B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58DE3-24BC-4C28-8352-6CC3CA19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602957-18E2-4273-BE52-A880BDBB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8578-2730-4ECF-B7DA-C12F8F38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875437-221A-4A60-8F94-C9696970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110217-511E-4464-A141-B0C9DE2D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FA43D-37EB-46DF-8119-1A05EFA5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85565-401A-4235-BA6C-392EDAB3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C419CE-3D3D-4750-BC84-1ECCA341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F3DF54-C526-4D55-913B-1D437CF9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E7D39-E4C1-4874-B2F3-3F8AD291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C829F7-616C-411C-85E4-78D774AC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85BFCD-281D-4994-8879-E7B72F14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2E78BC-1989-4DFB-89C7-F0F5EFFF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8D61-BA77-447F-850B-8D9392AF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95D13-7F61-4D0A-9100-1B0A1636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91D72-70C7-4992-8E9E-5D5F159A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AE5E0B-6C42-459A-ADF3-2FF03E8A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B720A5-DC1B-4632-891E-D1331DD8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464E3C-A595-4D34-9E08-28E2CC51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D53451-31BE-479F-996C-C57A1084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3DACAA-5315-4FBD-AAF9-ED12197A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2F7F1A-511E-4F52-9CDD-B8D83B43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3F946D-BB4B-43AA-B75C-A88640D1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FA3E4-BEE6-467C-9B18-C6D6F0E6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C524-5221-4200-AA95-AD085DE6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2EBFD-F718-4176-98F6-02BCD6CD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BC623-4C6E-4D9D-A98C-BDD022D6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5197E6-C482-4E02-831E-58DD8DCE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1B9B2-9480-4DA5-ABDC-6C5C1733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59A16-17DE-40D9-AA21-D80DA92F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DF804-E2CC-4A45-9D0A-E7C4BCD6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91781-1252-4514-8693-48F5EB5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378C0-D36D-4ED5-9AD6-DE908CD4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A3221F-CFB4-4A51-856D-3E60AC7B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5B7DA9-A6D4-4E4D-B620-DC739A8E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C1F6-CE76-476F-B5C1-8555F5C8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84412-CB80-4E12-87F9-ABB0B78D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5DE98F-3E74-4107-87BF-8875AA10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E14EDD-216D-489B-B6E0-E5C2C7AB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D43818-1C58-4137-BE9C-BAF80520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9D815-C544-41DD-8D4A-6B2C21B5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AB9DBB-66B3-463A-A1C2-0BAB02F8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FA866A-F136-4427-BE94-E3EB5AF0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548ECB-DA7A-40A9-9D8F-2D91C6F5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3F0B15-69EA-4184-A2C5-CA482B91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419A41-118B-47DF-ABA3-3132B957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172D8-6C78-4BBB-9DA0-FDDE3364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460425-1CD0-46F7-8F8C-673CD38F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1CFFFE-FE25-4496-8B65-9A3A1007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9E6954-E7B7-4B6D-AA63-ED36FFF3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0DBCED-3267-4130-9676-B3D64B50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3F7D67-EEBB-479D-961D-7A78A9FE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1F9848-7967-42D0-8E9A-07E7D538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F6A6AC-B80F-4E69-8E8D-7A41C895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C86706-3C9B-4BDA-B0B6-D142210E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E15C99-3BE7-4711-8DBE-2E8E0233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9D05E8-09EB-4366-BB07-A2C294D5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57052-E95A-4CC0-9597-45258607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F55D52-46DC-48D8-B192-73072773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519D5C-16A4-450B-82E1-53977D4D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A90E16-D611-48C7-9C32-1713EB62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B35A03-8F2D-4BCC-8663-8B2CF5B5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6BF3D6-5930-40F3-A964-19E4263F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20DB98-36B3-4048-8BBF-73F20F58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DE051D-9AAC-4967-822D-B1CFA982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E23849-19C9-4C19-9758-32292CAD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78A40D-93C8-4144-87A8-BAD73D7C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18255F-A6F9-470F-ABD7-03EB03BF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EC98-C10B-48B3-BBA4-81EFEFA3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48328C-B10C-4847-AB9D-9B1B8FAC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41C7C6-59C3-49FF-A629-AD6EDD9A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81F740-6241-4274-9F55-13B81B73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21C1A7-6612-45AA-BD31-EBBFB43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ADDC34-DF60-4EF5-B348-517CE5ED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67ACC8-2F30-41E5-A997-A0181A85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879559-35D3-4FD3-BFEB-B218E0CB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7CE5E8-5D9D-4EDF-8D48-85FACCCB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1E2BFC-AB81-4E61-B2B0-78F734AA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126DF4-5AFA-438E-BDC5-C64289B5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D647-8CB3-49C3-A24D-35FEDE89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A54435-9269-4A44-926C-72A38592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BC9FD4-AD00-4B58-A1EE-DB569B0C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B1CC15-C362-4EC5-9F52-0E300D44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B01484-CD50-4FA4-9D2F-0C1F4C05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588948-12C3-4697-B2EA-D0E6180E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990340-3832-454E-8179-8499BBA2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7CF7E9-3DB7-4EA5-9246-16DC6DD6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864C15-CC3C-4203-B297-4065E90B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E8F3FA-0A3E-4989-9AE0-A4A96EA1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34A11A-5B6C-4B59-AF41-1EAF6DC1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1C9F-0B95-44D3-9E73-80A44A74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7D4CC4-4B6C-477D-A936-74354414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BF224F-9CBC-431A-B2EC-AF2DF401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71570A-70FA-49BE-8AD5-4176A95D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FF5ED7-A835-4F49-847F-DD2BBAAD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7ECDFC-F3D7-4934-A57C-FBAACE4C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897D23-8D06-4B23-9AD7-43546DC0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48D803-A237-48B2-8FB7-47AA8D34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4839BA-91D2-41F7-9814-158B721F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D5B9AC-D72E-4AB5-97A2-28F4F357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6D26BF-CB09-45A8-AB0F-CEAC7B4C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C55-E16C-4F2F-BBB0-EFB73D21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381B-824A-433A-ACBF-6B6352C6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5806F3-4A6D-4F17-83E2-A68E937F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E8A0-DE17-4C4F-B690-9C138B49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836F-7F19-4DDF-B5CA-9ADF63AF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E16AC-1FFC-4447-833B-D1E417E4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511EB-6C2C-426B-AF16-45C5615E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BE01-6787-4012-839B-3863E877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47EA7-D25D-4FD3-9C0B-180522AE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6ADBA-AA2B-4FE5-A6DB-34EAB892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3B24A-4EB8-4E28-9149-DF8D663D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36463-4968-4BD5-84F2-0A125553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920-72C2-42A7-8115-A364F386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8B397-DDA7-4D8F-A0D6-C6EDD7E7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889F-91F2-416B-9970-E2B43B8A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A2D32-1DF6-40D9-B100-A429E449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9956C-F93C-4388-A56B-4F04B331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B62C-8CB9-4080-860F-72E4C0D1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6067A-DBF1-4D5F-94FB-62029539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5C02-D6C2-42E3-A777-4003F1AE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E0179-919D-43FA-99A6-370D8D0E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138B1-3C68-4180-ACCF-DCA9816F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BDFFB-F5FE-41DB-82A8-297466E4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443-5519-47C2-B061-B18FEE77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2957F-D099-4BA2-BFAF-C6164E31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C4AC6-CB91-49BA-BF8C-B8CDB9E5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9B565-05C3-41D8-9D17-A5CD9691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B53CE-F412-4981-AA71-6C3988F5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4EFB0-0372-4EC8-8205-1BF4851D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335BF-C311-415B-8622-124BCC14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6A042-815C-4D8A-8CB7-0A285E01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DEAA0-4A81-4C8D-A77A-1F254E6D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837D-CD59-405B-B6D8-3C0CCA1D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24786-756C-46FB-932C-B048E739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449-29B3-447D-B773-52970EF3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0215E-008A-46A1-8C4C-9F074D4D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866BA-AF76-486E-9ABA-87800120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C73C5-7B18-4F1E-8C5B-886E3950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A9ADF-AB28-490C-B166-CF762B3F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0A531-5A62-4630-AC9E-FFE709EE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FD90B-E709-4369-BA5A-035453FA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F1978-0EAE-4661-88BE-67E8CC3A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8C153-8744-4094-8375-350C5E24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D9C4B-D15D-4187-A2EE-420184D4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6D738-032A-4EA0-8413-00B46D64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CEF-8D7C-4ED0-872B-F932828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32F32-A4E1-479B-A304-B5517D54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0EA9A-2A13-4FE3-8490-4131A9C8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0A85E-35E8-474F-92EA-DDEB52CF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B9B94-59DE-4166-85CF-FB0EA0FB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F940E-7A59-4EDF-8048-64E5F622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D93FA-4614-4334-AB7B-351E5CC8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7869F-B11F-4B7F-833F-DFCF2BB8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5C2B9-32FA-4F36-A63B-616349B3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8AF52-76F3-44E2-81C7-5F8485FC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55A15-42FD-47B4-A597-792A99D9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9D4-C7AE-4324-B54F-7859C0F5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1BC22-C524-408C-8A4B-73316869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2B094-0C83-4FB9-83FD-CB49C216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5D18B-1399-4DDD-BB85-FF757973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A0C4E-9F0D-4D30-B26F-83CA0B70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FE986-7AD1-4E22-A6B0-E65A7886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663CB-E922-4C35-940B-569BCA46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BF26A-9ED6-4FCA-B1B8-AB8BD8DB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35472-0100-4E6D-AAEF-B967322F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E45AD-200A-4EEF-BD9C-4740DFC2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E0FAA-2D0A-4E8E-BCAD-7D0F3190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709-F40F-4134-A9CE-B1DDC50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35581-7DCD-4FF4-AE7A-7280A630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FD9F1-4125-4553-8FF2-A305291E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FBB72-1695-4BE4-96D5-E10805AC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C4265-635D-49ED-BE97-EF5D2999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56E75-D394-4B0E-992B-7642B43E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EED38-150B-42A4-A050-F59DEB9E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1F747-2A81-4539-ACFF-722E8554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7B2BE-17E4-451C-855D-9BC93F88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6FFB0-6311-4D5E-A806-385E4500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93554-6CF9-4EF1-A489-9EE0E812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046B-BB84-473B-808D-228AFA063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B88B-AB42-4AEE-8780-EE373C8B049E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A9C3-F9C5-499B-BC85-9A8793830F3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B5BF-627D-4276-8581-12ABB77AF1DE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A002-571A-4450-B700-55EA5B70B832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67F6-4195-4199-AF31-E1D012711BB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F68A-3288-4CE4-8A18-2D2A7910D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758F-0655-4C6C-9991-0E66241C5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52F9-5D47-4195-B349-23A577732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AE9A-71EF-4F34-81BF-FB8A401CF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CD2F-4AD1-47D4-A401-816C970AF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975B-23F3-484A-84FC-32F770CB48D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A178-3C4D-4CDC-BC4D-EDC78B811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7F20-423A-4F32-A060-3EC58D7F7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A894-CC41-4791-AD5F-9B2AC0804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D7E3-2A4A-4513-83F5-C3C9F0076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D28A-C9FE-43A2-8ACF-CD050C229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B940-1474-413C-9AB2-BA3A46E18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B2AF-6F65-49DE-B8F7-19FD052D6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DDE3-46C5-4B01-9277-F3E4E0095677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8CBE-FBCD-4FBE-AD8E-10901C24458B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48EA-77ED-4E75-BBDD-25D31F89E170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D0DF-14E6-47E5-A763-D3A5D5EB90C2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BC2E-A423-459D-BD67-A3068BC817CB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2BCC-E122-44BA-A305-D4EE26AE38E9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32788" descr="无字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6" name="文本框 32776"/>
          <p:cNvSpPr/>
          <p:nvPr/>
        </p:nvSpPr>
        <p:spPr>
          <a:xfrm>
            <a:off x="1343160" y="581040"/>
            <a:ext cx="671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列子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一则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文本框 32789"/>
          <p:cNvSpPr/>
          <p:nvPr/>
        </p:nvSpPr>
        <p:spPr>
          <a:xfrm>
            <a:off x="3257640" y="2128680"/>
            <a:ext cx="362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隶书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伯牙善鼓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32796"/>
          <p:cNvSpPr/>
          <p:nvPr/>
        </p:nvSpPr>
        <p:spPr>
          <a:xfrm>
            <a:off x="1258920" y="58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/>
          </p:nvPr>
        </p:nvSpPr>
        <p:spPr>
          <a:xfrm>
            <a:off x="213840" y="356760"/>
            <a:ext cx="8929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初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霖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造崩山之音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曲每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钟子期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辄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穷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       伯牙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舍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叹曰：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善哉，善哉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子之听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志想象犹吾心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于何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逃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哉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4"/>
          <p:cNvSpPr/>
          <p:nvPr/>
        </p:nvSpPr>
        <p:spPr>
          <a:xfrm>
            <a:off x="0" y="77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起先弹奏雨水连绵的乐曲，再奏出山岩崩塌的音乐。每奏一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9"/>
          <p:cNvSpPr/>
          <p:nvPr/>
        </p:nvSpPr>
        <p:spPr>
          <a:xfrm>
            <a:off x="76320" y="2031840"/>
            <a:ext cx="39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钟子期总能悟透其中的旨趣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11"/>
          <p:cNvSpPr/>
          <p:nvPr/>
        </p:nvSpPr>
        <p:spPr>
          <a:xfrm>
            <a:off x="179280" y="5251320"/>
            <a:ext cx="83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从哪里让我的琴声逃过你的耳朵呢？（</a:t>
            </a:r>
            <a:r>
              <a:rPr b="1" lang="zh-CN" sz="2000" spc="-1" strike="noStrike">
                <a:solidFill>
                  <a:srgbClr val="001a19"/>
                </a:solidFill>
                <a:latin typeface="Arial"/>
              </a:rPr>
              <a:t>我又怎么能在琴声中隐匿自己的心声呢？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9"/>
          <p:cNvSpPr/>
          <p:nvPr/>
        </p:nvSpPr>
        <p:spPr>
          <a:xfrm>
            <a:off x="351000" y="32004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您的听力好啊，好啊！            心志和想象如同我的心意。（</a:t>
            </a:r>
            <a:r>
              <a:rPr b="1" lang="zh-CN" sz="2000" spc="-1" strike="noStrike">
                <a:solidFill>
                  <a:srgbClr val="001a19"/>
                </a:solidFill>
                <a:latin typeface="Arial"/>
              </a:rPr>
              <a:t>你听琴时所想到的，就像我弹琴时所想到的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112647"/>
          <p:cNvSpPr/>
          <p:nvPr/>
        </p:nvSpPr>
        <p:spPr>
          <a:xfrm>
            <a:off x="1860480" y="0"/>
            <a:ext cx="15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琴曲的一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112648"/>
          <p:cNvSpPr/>
          <p:nvPr/>
        </p:nvSpPr>
        <p:spPr>
          <a:xfrm>
            <a:off x="3765600" y="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112649"/>
          <p:cNvSpPr/>
          <p:nvPr/>
        </p:nvSpPr>
        <p:spPr>
          <a:xfrm>
            <a:off x="900000" y="119700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立即，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112650"/>
          <p:cNvSpPr/>
          <p:nvPr/>
        </p:nvSpPr>
        <p:spPr>
          <a:xfrm>
            <a:off x="2006640" y="11970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a19"/>
                </a:solidFill>
                <a:latin typeface="Arial"/>
              </a:rPr>
              <a:t>穷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112652"/>
          <p:cNvSpPr/>
          <p:nvPr/>
        </p:nvSpPr>
        <p:spPr>
          <a:xfrm>
            <a:off x="4788000" y="119700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放下琴，意思是停止弹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112654"/>
          <p:cNvSpPr/>
          <p:nvPr/>
        </p:nvSpPr>
        <p:spPr>
          <a:xfrm>
            <a:off x="179280" y="0"/>
            <a:ext cx="19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久下不停的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112655"/>
          <p:cNvSpPr/>
          <p:nvPr/>
        </p:nvSpPr>
        <p:spPr>
          <a:xfrm>
            <a:off x="2954160" y="1197000"/>
            <a:ext cx="7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旨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112656"/>
          <p:cNvSpPr/>
          <p:nvPr/>
        </p:nvSpPr>
        <p:spPr>
          <a:xfrm>
            <a:off x="900000" y="40766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使琴声逃脱对方的想象。   逃，使动用法，使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逃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112657"/>
          <p:cNvSpPr/>
          <p:nvPr/>
        </p:nvSpPr>
        <p:spPr>
          <a:xfrm>
            <a:off x="1193760" y="47498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a19"/>
                </a:solidFill>
                <a:latin typeface="Arial"/>
              </a:rPr>
              <a:t>从哪里，怎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112659"/>
          <p:cNvSpPr/>
          <p:nvPr/>
        </p:nvSpPr>
        <p:spPr>
          <a:xfrm>
            <a:off x="4067280" y="2031840"/>
            <a:ext cx="48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伯牙于是放下琴，感叹地说：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38280" y="207720"/>
            <a:ext cx="390024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a19"/>
                </a:solidFill>
                <a:latin typeface="Arial"/>
              </a:rPr>
              <a:t>古今异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1600200"/>
            <a:ext cx="316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泰山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逢暴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霖雨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琴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崩山之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3"/>
          <p:cNvSpPr/>
          <p:nvPr/>
        </p:nvSpPr>
        <p:spPr>
          <a:xfrm>
            <a:off x="3619440" y="907920"/>
            <a:ext cx="8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4"/>
          <p:cNvSpPr/>
          <p:nvPr/>
        </p:nvSpPr>
        <p:spPr>
          <a:xfrm>
            <a:off x="7176960" y="90792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5"/>
          <p:cNvSpPr/>
          <p:nvPr/>
        </p:nvSpPr>
        <p:spPr>
          <a:xfrm>
            <a:off x="2919240" y="160020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的北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6"/>
          <p:cNvSpPr/>
          <p:nvPr/>
        </p:nvSpPr>
        <p:spPr>
          <a:xfrm>
            <a:off x="6912000" y="1600200"/>
            <a:ext cx="16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阴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7"/>
          <p:cNvSpPr/>
          <p:nvPr/>
        </p:nvSpPr>
        <p:spPr>
          <a:xfrm>
            <a:off x="2948040" y="2273400"/>
            <a:ext cx="28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突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8"/>
          <p:cNvSpPr/>
          <p:nvPr/>
        </p:nvSpPr>
        <p:spPr>
          <a:xfrm>
            <a:off x="6966000" y="227340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小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9"/>
          <p:cNvSpPr/>
          <p:nvPr/>
        </p:nvSpPr>
        <p:spPr>
          <a:xfrm>
            <a:off x="3025800" y="2941560"/>
            <a:ext cx="25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琴曲的一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10"/>
          <p:cNvSpPr/>
          <p:nvPr/>
        </p:nvSpPr>
        <p:spPr>
          <a:xfrm>
            <a:off x="6431040" y="2941560"/>
            <a:ext cx="26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操心；操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11"/>
          <p:cNvSpPr/>
          <p:nvPr/>
        </p:nvSpPr>
        <p:spPr>
          <a:xfrm>
            <a:off x="3006720" y="3645000"/>
            <a:ext cx="45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穷尽，这里用为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12"/>
          <p:cNvSpPr/>
          <p:nvPr/>
        </p:nvSpPr>
        <p:spPr>
          <a:xfrm>
            <a:off x="7176960" y="3645000"/>
            <a:ext cx="15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贫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13"/>
          <p:cNvSpPr/>
          <p:nvPr/>
        </p:nvSpPr>
        <p:spPr>
          <a:xfrm>
            <a:off x="3232080" y="428796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拿，拿过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14"/>
          <p:cNvSpPr/>
          <p:nvPr/>
        </p:nvSpPr>
        <p:spPr>
          <a:xfrm>
            <a:off x="3192480" y="4867200"/>
            <a:ext cx="19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弹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文本框 15"/>
          <p:cNvSpPr/>
          <p:nvPr/>
        </p:nvSpPr>
        <p:spPr>
          <a:xfrm>
            <a:off x="6877080" y="4287960"/>
            <a:ext cx="17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援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16"/>
          <p:cNvSpPr/>
          <p:nvPr/>
        </p:nvSpPr>
        <p:spPr>
          <a:xfrm>
            <a:off x="6405480" y="486720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锣鼓；鼓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17"/>
          <p:cNvSpPr/>
          <p:nvPr/>
        </p:nvSpPr>
        <p:spPr>
          <a:xfrm>
            <a:off x="3578400" y="5554800"/>
            <a:ext cx="28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创作，这里也是弹奏的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18"/>
          <p:cNvSpPr/>
          <p:nvPr/>
        </p:nvSpPr>
        <p:spPr>
          <a:xfrm>
            <a:off x="6877080" y="5554800"/>
            <a:ext cx="16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制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0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0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5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3882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52560" y="620640"/>
            <a:ext cx="925344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善”字在文中出现了几次？意思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伯牙如何“善”鼓琴，钟子期又如何“善”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文中得出一个什么成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人根据伯牙和子期的故事，为了纪念这知音之情，谱成了一首乐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流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“高山流水”这个成语常用来比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篇古文所蕴含的道理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115715"/>
          <p:cNvSpPr/>
          <p:nvPr/>
        </p:nvSpPr>
        <p:spPr>
          <a:xfrm>
            <a:off x="214200" y="96516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六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；“善鼓琴”“善听”中的“善”：擅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善哉”中的“善”：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115716"/>
          <p:cNvSpPr/>
          <p:nvPr/>
        </p:nvSpPr>
        <p:spPr>
          <a:xfrm>
            <a:off x="214200" y="2066760"/>
            <a:ext cx="84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伯牙把自己的情怀寄托于琴音，琴技炉火纯青，而钟子期有很高的音乐鉴赏能力，无论伯牙如何弹奏，钟子期都能准确道出伯牙的心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115717"/>
          <p:cNvSpPr/>
          <p:nvPr/>
        </p:nvSpPr>
        <p:spPr>
          <a:xfrm>
            <a:off x="1030320" y="313992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山流水（遇知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115718"/>
          <p:cNvSpPr/>
          <p:nvPr/>
        </p:nvSpPr>
        <p:spPr>
          <a:xfrm>
            <a:off x="222120" y="5019840"/>
            <a:ext cx="84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高山流水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多比喻知音或知己，也比喻乐曲高雅精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115719"/>
          <p:cNvSpPr/>
          <p:nvPr/>
        </p:nvSpPr>
        <p:spPr>
          <a:xfrm>
            <a:off x="142920" y="596124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道理：纯真友谊的基础是理解；知音难得，知己难求，要懂得珍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14691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主旨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250920" y="1449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本文讲述了一个千古流传的“高山流水遇知音”的故事。故事的主人公伯牙与钟子期的真挚情谊令人感动。表达了朋友间相互理解、相互欣赏的真挚情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108567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120" name="文本框 108546"/>
          <p:cNvSpPr/>
          <p:nvPr/>
        </p:nvSpPr>
        <p:spPr>
          <a:xfrm>
            <a:off x="-544320" y="1341360"/>
            <a:ext cx="12776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伯牙善鼓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直接连接符 108547"/>
          <p:cNvSpPr/>
          <p:nvPr/>
        </p:nvSpPr>
        <p:spPr>
          <a:xfrm flipV="1">
            <a:off x="900000" y="1483920"/>
            <a:ext cx="863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直接连接符 108548"/>
          <p:cNvSpPr/>
          <p:nvPr/>
        </p:nvSpPr>
        <p:spPr>
          <a:xfrm>
            <a:off x="900000" y="285264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108549"/>
          <p:cNvSpPr/>
          <p:nvPr/>
        </p:nvSpPr>
        <p:spPr>
          <a:xfrm>
            <a:off x="1979640" y="1268280"/>
            <a:ext cx="22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伯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108550"/>
          <p:cNvSpPr/>
          <p:nvPr/>
        </p:nvSpPr>
        <p:spPr>
          <a:xfrm>
            <a:off x="4500720" y="1268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108551"/>
          <p:cNvSpPr/>
          <p:nvPr/>
        </p:nvSpPr>
        <p:spPr>
          <a:xfrm>
            <a:off x="1908000" y="342900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钟子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108552"/>
          <p:cNvSpPr/>
          <p:nvPr/>
        </p:nvSpPr>
        <p:spPr>
          <a:xfrm>
            <a:off x="4500720" y="342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必得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矩形 108560"/>
          <p:cNvSpPr/>
          <p:nvPr/>
        </p:nvSpPr>
        <p:spPr>
          <a:xfrm flipH="1">
            <a:off x="3348000" y="1052640"/>
            <a:ext cx="12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108562"/>
          <p:cNvSpPr/>
          <p:nvPr/>
        </p:nvSpPr>
        <p:spPr>
          <a:xfrm flipH="1">
            <a:off x="3348000" y="3284640"/>
            <a:ext cx="12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矩形 108563"/>
          <p:cNvSpPr/>
          <p:nvPr/>
        </p:nvSpPr>
        <p:spPr>
          <a:xfrm>
            <a:off x="5292720" y="162864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108566"/>
          <p:cNvSpPr/>
          <p:nvPr/>
        </p:nvSpPr>
        <p:spPr>
          <a:xfrm>
            <a:off x="6659640" y="206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音难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2"/>
          <a:stretch/>
        </p:blipFill>
        <p:spPr>
          <a:xfrm>
            <a:off x="-612720" y="-49320"/>
            <a:ext cx="10225080" cy="6907320"/>
          </a:xfrm>
          <a:prstGeom prst="rect">
            <a:avLst/>
          </a:prstGeom>
          <a:ln w="0">
            <a:noFill/>
          </a:ln>
        </p:spPr>
      </p:pic>
      <p:sp>
        <p:nvSpPr>
          <p:cNvPr id="1133" name="Rectangle 4"/>
          <p:cNvSpPr/>
          <p:nvPr/>
        </p:nvSpPr>
        <p:spPr>
          <a:xfrm>
            <a:off x="395280" y="1368000"/>
            <a:ext cx="910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是关于俞伯牙和钟子期因为音乐而结交的故事。现在比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解自己，和自己心意相通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5"/>
          <p:cNvSpPr/>
          <p:nvPr/>
        </p:nvSpPr>
        <p:spPr>
          <a:xfrm>
            <a:off x="431640" y="299736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后人根据伯牙和子期的故事，为了纪念这知音之情，谱成了一首乐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山流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今天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山流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这个成语常用来比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美妙的音乐或知音知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88560" y="25200"/>
            <a:ext cx="872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于交友的成语或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88920" y="863640"/>
            <a:ext cx="8912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刎颈之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即生死之交，哪怕砍头也不变心的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莫逆之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指非常要好或情投意合的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忘年之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年岁差别大，行辈不同而交情深厚的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总角之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幼年就相识的朋友。（古代儿童将头发分作左右两半，在头顶各扎成一个结，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管鲍之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形容自己与好朋友之间亲密无间、彼此信任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2544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海之内，皆兄弟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君子之交淡若水，小人之交甘若醴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君子的交谊淡得像清水一样，小人的交情甜得像甜酒一样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内存知己，天涯若比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近朱者赤，近墨者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路遥知马力，日久见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贞观年间，薛仁贵与妻子住在一个破窑洞中，衣食无着落，全靠王茂生夫妇接济。后来，薛仁贵参军，在跟随唐太宗御驾东征时，因薛仁贵平辽功劳特别大，被封为“平辽王”。一登龙门，身价百倍，前来王府送礼祝贺的文武大臣络绎不绝，可都被薛仁贵婉言谢绝了。他惟一收下的是普通老百姓王茂生送来的“美酒两坛”。一打开酒坛，负责启封的执事官吓得面如土色，因为坛中装的不是美酒而是清水！“启禀王爷，此人如此大胆戏弄王爷，请王爷重重地惩罚他！”岂料薛仁贵听了，不但没有生气，而且命令执事官取来大碗，当众饮下三大碗王茂生送来的清水。在场的文武百官不解其意，薛仁贵喝完三大碗清水之后说：“我过去落难时，全靠王兄弟夫妇经常资助，没有他们就没有我今天的荣华富贵。如今我美酒不沾，厚礼不收，却偏偏要收下王兄弟送来的清水，因为我知道王兄弟贫寒，送清水也是王兄的一番美意。”这就叫君子之交淡如水。”此后，薛仁贵与王茂生一家关系甚密，“君子之交淡如水”的佳话也就流传了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0" name="矩形 1" descr=""/>
          <p:cNvPicPr/>
          <p:nvPr/>
        </p:nvPicPr>
        <p:blipFill>
          <a:blip r:embed="rId1"/>
          <a:stretch/>
        </p:blipFill>
        <p:spPr>
          <a:xfrm>
            <a:off x="2614680" y="42840"/>
            <a:ext cx="37861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图片 122883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325440" y="1520640"/>
            <a:ext cx="8229600" cy="31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练习册上的相关习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本篇文章的学习，谈谈你对“知音”的理解，字数不得少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826920" y="907920"/>
            <a:ext cx="73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熟练的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结合课下注释，翻译课文，并积累重点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说出文中阐述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外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忆昔去年春，江边曾会君。今日重来访，不见知音人。但见一抔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土，惨然伤我心！伤心伤心复伤心，不忍泪珠纷。来欢去何苦，江畔起愁云。此曲终兮不复弹，三尺瑶琴为君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2"/>
          <p:cNvSpPr/>
          <p:nvPr/>
        </p:nvSpPr>
        <p:spPr>
          <a:xfrm>
            <a:off x="1384200" y="3218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2" name="Text Box 4"/>
          <p:cNvSpPr/>
          <p:nvPr/>
        </p:nvSpPr>
        <p:spPr>
          <a:xfrm>
            <a:off x="2916360" y="260280"/>
            <a:ext cx="338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列 子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Picture 7" descr="d833c895d143ad4bbeb50f8383025aafa50f06dd"/>
          <p:cNvPicPr/>
          <p:nvPr/>
        </p:nvPicPr>
        <p:blipFill>
          <a:blip r:embed="rId2"/>
          <a:stretch/>
        </p:blipFill>
        <p:spPr>
          <a:xfrm>
            <a:off x="396720" y="1628640"/>
            <a:ext cx="2928960" cy="4313520"/>
          </a:xfrm>
          <a:prstGeom prst="rect">
            <a:avLst/>
          </a:prstGeom>
          <a:ln w="0">
            <a:noFill/>
          </a:ln>
        </p:spPr>
      </p:pic>
      <p:sp>
        <p:nvSpPr>
          <p:cNvPr id="1034" name="Text Box 9"/>
          <p:cNvSpPr/>
          <p:nvPr/>
        </p:nvSpPr>
        <p:spPr>
          <a:xfrm>
            <a:off x="3492360" y="1557360"/>
            <a:ext cx="532764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传为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战国时道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派代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列御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著，其内容多为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民间故事，寓言和神话传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思想与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庄子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似。代表故事有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杞人忧天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杨布打狗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愚公移山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Text Box 2"/>
          <p:cNvSpPr/>
          <p:nvPr/>
        </p:nvSpPr>
        <p:spPr>
          <a:xfrm>
            <a:off x="1384200" y="3218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9"/>
          <p:cNvSpPr/>
          <p:nvPr/>
        </p:nvSpPr>
        <p:spPr>
          <a:xfrm>
            <a:off x="179280" y="765000"/>
            <a:ext cx="878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前，杞国有一个人，他常会想到一些奇怪的问题。一天，他坐在门前乘凉，自言自语的说：“假如有一天，天塌了下来，那该怎么办呢？我们岂不是无路可逃，活活地被压死，这不就太冤枉了吗？” 他每天为这个问题发愁，朋友见他终日精神恍惚，脸色憔悴，都替他担心，但是，当大家知道原因后，都劝他说：“老兄啊！你何必为这件事自寻烦恼呢？天怎么会塌下来呢？再说即使真的塌下来，那也不是你发愁就可以解决的啊，想开点吧！”可是，无论人家怎么说，他都不相信，仍然为这个不必要的问题担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来的人根据这个故事，引申成“杞人忧天”的成语，意在唤醒人们不要为一些不切实际的事情而忧愁。它与“庸人自扰”的意义大致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矩形 1" descr=""/>
          <p:cNvPicPr/>
          <p:nvPr/>
        </p:nvPicPr>
        <p:blipFill>
          <a:blip r:embed="rId2"/>
          <a:stretch/>
        </p:blipFill>
        <p:spPr>
          <a:xfrm>
            <a:off x="2987640" y="0"/>
            <a:ext cx="3456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2"/>
          <p:cNvSpPr/>
          <p:nvPr/>
        </p:nvSpPr>
        <p:spPr>
          <a:xfrm>
            <a:off x="1384200" y="3218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7" descr="d833c895d143ad4bbeb50f8383025aafa50f06dd"/>
          <p:cNvPicPr/>
          <p:nvPr/>
        </p:nvPicPr>
        <p:blipFill>
          <a:blip r:embed="rId2"/>
          <a:stretch/>
        </p:blipFill>
        <p:spPr>
          <a:xfrm>
            <a:off x="312840" y="1484280"/>
            <a:ext cx="2928960" cy="4313160"/>
          </a:xfrm>
          <a:prstGeom prst="rect">
            <a:avLst/>
          </a:prstGeom>
          <a:ln w="0">
            <a:noFill/>
          </a:ln>
        </p:spPr>
      </p:pic>
      <p:sp>
        <p:nvSpPr>
          <p:cNvPr id="1042" name="Text Box 9"/>
          <p:cNvSpPr/>
          <p:nvPr/>
        </p:nvSpPr>
        <p:spPr>
          <a:xfrm>
            <a:off x="3525840" y="1355760"/>
            <a:ext cx="53276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杨朱的弟弟叫杨布，有一天，他穿了件白色的衣服出门去。天下雨了，他把白色衣服脱下，穿着一套黑色的衣服回家来。他家的狗认不出杨布，就迎上去汪汪地对着他大叫。杨布非常恼火， 拿了根棍子就要去打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杨朱看见了，说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快不要打狗了，你自己也会是这个样子的。假如你的狗出去的时候是白的，回来的时候变成黑的了，那你能够不奇怪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寓意：当朋友误解自己的时候，不要脑子发热，动怒发火；而应该设身处地，换位思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矩形 1" descr=""/>
          <p:cNvPicPr/>
          <p:nvPr/>
        </p:nvPicPr>
        <p:blipFill>
          <a:blip r:embed="rId3"/>
          <a:stretch/>
        </p:blipFill>
        <p:spPr>
          <a:xfrm>
            <a:off x="4359240" y="426960"/>
            <a:ext cx="224316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0" descr=""/>
          <p:cNvPicPr/>
          <p:nvPr/>
        </p:nvPicPr>
        <p:blipFill>
          <a:blip r:embed="rId2"/>
          <a:stretch/>
        </p:blipFill>
        <p:spPr>
          <a:xfrm>
            <a:off x="0" y="-81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6" name="Text Box 5"/>
          <p:cNvSpPr/>
          <p:nvPr/>
        </p:nvSpPr>
        <p:spPr>
          <a:xfrm>
            <a:off x="2700360" y="700200"/>
            <a:ext cx="5770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子心胸豁达，贫富不移，荣辱不惊。因家中贫穷，常常吃不饱肚子。有人劝郑国执政子阳资助列子，以博得好士之名，于是子阳就派人送他十车粮食，他却不肯收受实物。妻子埋怨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听说有道的人，妻子孩子都能快乐地生活，现在我却常常挨饿。宰相送粮食给你，你却不接受，我真是命苦啊。列子笑着对妻子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阳并不真的了解我，听了别人的话才送粮给我。以后也可能听别人的话怪罪我，所以我不能接受。一年后郑国发生变乱，子阳被杀，其党众多被株连致死，御寇得以安然无恙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Picture 12" descr="aa18972bd40735fa6c0e23b99e510fb30f240837"/>
          <p:cNvPicPr/>
          <p:nvPr/>
        </p:nvPicPr>
        <p:blipFill>
          <a:blip r:embed="rId3"/>
          <a:stretch/>
        </p:blipFill>
        <p:spPr>
          <a:xfrm>
            <a:off x="0" y="1700280"/>
            <a:ext cx="2484360" cy="4608360"/>
          </a:xfrm>
          <a:prstGeom prst="rect">
            <a:avLst/>
          </a:prstGeom>
          <a:ln w="0">
            <a:noFill/>
          </a:ln>
        </p:spPr>
      </p:pic>
      <p:sp>
        <p:nvSpPr>
          <p:cNvPr id="1048" name="WordArt 14"/>
          <p:cNvSpPr txBox="1"/>
          <p:nvPr/>
        </p:nvSpPr>
        <p:spPr>
          <a:xfrm>
            <a:off x="611280" y="30240"/>
            <a:ext cx="2286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列子的故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268360" y="54900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伯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246560" y="2276640"/>
            <a:ext cx="4330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伯牙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春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战国时期晋国的上大夫，春秋时著名的琴师，擅弹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古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是琴不是筝），技艺高超，既是弹琴能手，又是作曲家，被人尊为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琴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图片 109571" descr="c9fcc3cec3fdfc03ee7b9999d53f8794a4c2268b"/>
          <p:cNvPicPr/>
          <p:nvPr/>
        </p:nvPicPr>
        <p:blipFill>
          <a:blip r:embed="rId1"/>
          <a:stretch/>
        </p:blipFill>
        <p:spPr>
          <a:xfrm>
            <a:off x="34920" y="1989000"/>
            <a:ext cx="42116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钟子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628880" y="1916280"/>
            <a:ext cx="411948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钟子期，名徽，字子期。春秋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楚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今湖北武汉汉阳）人。相传钟子期是一个戴斗笠、披蓑衣、背扁担、拿板斧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樵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图片 110595" descr="152-1118"/>
          <p:cNvPicPr/>
          <p:nvPr/>
        </p:nvPicPr>
        <p:blipFill>
          <a:blip r:embed="rId1"/>
          <a:stretch/>
        </p:blipFill>
        <p:spPr>
          <a:xfrm>
            <a:off x="1116000" y="1773360"/>
            <a:ext cx="34560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伯牙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鼓琴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钟子期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听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伯牙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鼓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在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山，钟子期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：“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善哉</a:t>
            </a:r>
            <a:r>
              <a:rPr b="1" lang="zh-CN" sz="3200" spc="-1" strike="noStrike">
                <a:solidFill>
                  <a:srgbClr val="001a19"/>
                </a:solidFill>
                <a:latin typeface="Arial"/>
              </a:rPr>
              <a:t>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峨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兮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泰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志在流水。钟子期曰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善哉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洋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兮若江河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伯牙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钟子期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。伯牙游于泰山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ù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逢暴雨，止于岩下。心悲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乃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琴而鼓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4"/>
          <p:cNvSpPr/>
          <p:nvPr/>
        </p:nvSpPr>
        <p:spPr>
          <a:xfrm>
            <a:off x="0" y="90792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伯牙擅长弹琴， 钟子期善于听音乐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1428840" y="213372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钟子期说：“好啊！高耸的样子呀像泰山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0" y="3213000"/>
            <a:ext cx="26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伯牙又向往流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11"/>
          <p:cNvSpPr/>
          <p:nvPr/>
        </p:nvSpPr>
        <p:spPr>
          <a:xfrm>
            <a:off x="0" y="5842080"/>
            <a:ext cx="93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突然遇到暴雨，被困在山岩下。心里悲愁，就拿琴弹了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2405160" y="3200400"/>
            <a:ext cx="66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钟子期说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好啊！宽广的样子啊像长江黄河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9"/>
          <p:cNvSpPr/>
          <p:nvPr/>
        </p:nvSpPr>
        <p:spPr>
          <a:xfrm>
            <a:off x="0" y="4437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凡是伯牙想象的情景，钟子期一定能知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111624"/>
          <p:cNvSpPr/>
          <p:nvPr/>
        </p:nvSpPr>
        <p:spPr>
          <a:xfrm>
            <a:off x="468360" y="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擅长，善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111625"/>
          <p:cNvSpPr/>
          <p:nvPr/>
        </p:nvSpPr>
        <p:spPr>
          <a:xfrm>
            <a:off x="6949440" y="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志趣，心意所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111626"/>
          <p:cNvSpPr/>
          <p:nvPr/>
        </p:nvSpPr>
        <p:spPr>
          <a:xfrm>
            <a:off x="3668760" y="1268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好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111627"/>
          <p:cNvSpPr/>
          <p:nvPr/>
        </p:nvSpPr>
        <p:spPr>
          <a:xfrm>
            <a:off x="4834080" y="1268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山高耸的样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111628"/>
          <p:cNvSpPr/>
          <p:nvPr/>
        </p:nvSpPr>
        <p:spPr>
          <a:xfrm>
            <a:off x="5725440" y="2421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水流宽广的样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111629"/>
          <p:cNvSpPr/>
          <p:nvPr/>
        </p:nvSpPr>
        <p:spPr>
          <a:xfrm>
            <a:off x="869040" y="3573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想象的情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111630"/>
          <p:cNvSpPr/>
          <p:nvPr/>
        </p:nvSpPr>
        <p:spPr>
          <a:xfrm>
            <a:off x="3327480" y="3573360"/>
            <a:ext cx="14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懂得，知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111631"/>
          <p:cNvSpPr/>
          <p:nvPr/>
        </p:nvSpPr>
        <p:spPr>
          <a:xfrm>
            <a:off x="7659720" y="3573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山的北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文本框 111632"/>
          <p:cNvSpPr/>
          <p:nvPr/>
        </p:nvSpPr>
        <p:spPr>
          <a:xfrm>
            <a:off x="400680" y="47973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同“猝”，突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111633"/>
          <p:cNvSpPr/>
          <p:nvPr/>
        </p:nvSpPr>
        <p:spPr>
          <a:xfrm>
            <a:off x="5953320" y="544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于是，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文本框 111634"/>
          <p:cNvSpPr/>
          <p:nvPr/>
        </p:nvSpPr>
        <p:spPr>
          <a:xfrm>
            <a:off x="6415920" y="47242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拿，拿过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文本框 111636"/>
          <p:cNvSpPr/>
          <p:nvPr/>
        </p:nvSpPr>
        <p:spPr>
          <a:xfrm>
            <a:off x="5003640" y="907920"/>
            <a:ext cx="33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伯牙弹琴时，心里向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111638"/>
          <p:cNvSpPr/>
          <p:nvPr/>
        </p:nvSpPr>
        <p:spPr>
          <a:xfrm>
            <a:off x="0" y="21337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登高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111639"/>
          <p:cNvSpPr/>
          <p:nvPr/>
        </p:nvSpPr>
        <p:spPr>
          <a:xfrm>
            <a:off x="5711760" y="44370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伯牙在泰山的北面游览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54:08Z</dcterms:created>
  <dc:creator>Billgates</dc:creator>
  <dc:description/>
  <dc:language>en-US</dc:language>
  <cp:lastModifiedBy>zwq</cp:lastModifiedBy>
  <dcterms:modified xsi:type="dcterms:W3CDTF">2017-03-06T06:10:45Z</dcterms:modified>
  <cp:revision>180</cp:revision>
  <dc:subject/>
  <dc:title>幻灯片 1</dc:title>
</cp:coreProperties>
</file>