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2A6A-43A2-44EE-89D8-E1B4B0A83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2BD7-9889-4571-96AA-955BDC368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9F36-92F2-4AA2-8648-A4B595D9D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92BE-75A2-40E3-8E9D-47E9ACAE3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9617-41AF-403E-9CC6-380053BEE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BAB2-ACA1-4FC0-93B8-E99AA4785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E011-ECA9-41D5-AE04-562FD541E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81C6-9423-410C-AEB8-A4D5798D5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F3EA-0640-4912-9A78-B43AADE8F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A8D0-025D-4528-A9D3-07DAECDA4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0158-7A1B-4E16-91D4-6C8A0AEB3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4282-824E-4911-B2D9-AC95A6AF7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6623B-E630-4107-8EF3-4D5F193DBFC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867280" y="573408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cc"/>
                </a:solidFill>
                <a:latin typeface="Arial"/>
              </a:rPr>
              <a:t>重庆丰都兴义中学 陈良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-612720" y="-49320"/>
            <a:ext cx="10225080" cy="69073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95280" y="1611720"/>
            <a:ext cx="910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知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是关于俞伯牙和钟子期因为音乐而结交的故事。现在比喻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了解自己，和自己心意相通的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31640" y="2997360"/>
            <a:ext cx="871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、后人根据伯牙和子期的故事，为了纪念这知音之情，谱成了一首乐曲《高山流水》。今天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高山流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这个成语常用来比喻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美妙的音乐或知音知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课外拓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忆昔去年春，江边曾会君。今日重来访，不见知音人。但见一抔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ó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土，惨然伤我心！伤心伤心复伤心，不忍泪珠纷。来欢去何苦，江畔起愁云。此曲终兮不复弹，三尺瑶琴为君死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善鼓琴的伯牙，名满天下的伯牙，居然从此绝弦，让我们带着对文章的理解，一起再读课文，体会其中惺惺相惜的知己情！</a:t>
            </a:r>
            <a:r>
              <a:rPr b="1" lang="zh-CN" sz="3200" spc="-1" strike="noStrike">
                <a:solidFill>
                  <a:srgbClr val="cc00cc"/>
                </a:solidFill>
                <a:latin typeface="Arial"/>
              </a:rPr>
              <a:t>读过此文，想想你应该树立怎样的交友观念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Arial"/>
              </a:rPr>
              <a:t>关于知音难觅或乐曲高妙的诗文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摔破瑶琴凤尾寒，子期不在对谁弹。春风满面皆朋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欲觅知音难上难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宋代王安石《伯牙》诗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：“千载朱弦无此悲，欲弹孤绝鬼神疑。故人舍我归黄壤，流水高山深相知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唐代孟浩然《夏日南亭怀辛大》诗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：“欲取鸣琴弹，恨无知音赏。感此怀故人，中宵劳梦想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些诗都是写琴曲的高妙，听琴的乐趣，或者比喻高妙的作品或知音、知己等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作   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58560" y="2276640"/>
            <a:ext cx="74372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完成《导学案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背诵全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 rot="5400000">
            <a:off x="4393080" y="2816640"/>
            <a:ext cx="4319640" cy="936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伯牙善鼓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826920" y="907920"/>
            <a:ext cx="73440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能熟练的朗读课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能结合课下注释，翻译课文，并积累重点字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能说出文中阐述的道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初读课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9640" y="220500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自读课文，要求读准字音，读出停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再读课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627280" y="2133720"/>
            <a:ext cx="5616720" cy="29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自由朗读课文，结合课下注释翻译全文，同桌之间可以讨论，如有不会，做好标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翻译课文重点词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99760" y="170028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善：    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鼓：     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志：          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峨峨：              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洋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得：      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卒：              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操：          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逃：  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善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翻译句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伯牙鼓琴，志在高山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钟子期曰：“善哉，峨峨兮若泰山！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伯牙所念，钟子期必得之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曲每奏，钟子期辄穷其趣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子之听夫志，想象犹吾心也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吾于何逃声哉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-115920"/>
            <a:ext cx="9144000" cy="6973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50920" y="1339920"/>
            <a:ext cx="850716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Arial"/>
                <a:ea typeface="黑体"/>
              </a:rPr>
              <a:t> 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4520" y="765000"/>
            <a:ext cx="576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“伯牙善鼓琴，钟子期善听”具体表现在哪里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462920" y="1700280"/>
            <a:ext cx="37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伯牙善鼓琴：心中所想便可以弹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钟子期善听：伯牙弹奏，子期便可以领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0560" y="3357720"/>
            <a:ext cx="36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、文中主要的描写方法是什么？好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246920" y="4149720"/>
            <a:ext cx="37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语言描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通过对话，表现出伯牙善鼓琴，子期善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二人是心意相通的知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描述简洁，中心突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140360" y="0"/>
            <a:ext cx="2570040" cy="80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问题探究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、从伯牙和子期的故事中，你读到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4360" y="3429000"/>
            <a:ext cx="770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cc"/>
                </a:solidFill>
                <a:latin typeface="Arial"/>
              </a:rPr>
              <a:t>    </a:t>
            </a:r>
            <a:r>
              <a:rPr b="1" lang="zh-CN" sz="4400" spc="-1" strike="noStrike">
                <a:solidFill>
                  <a:srgbClr val="cc00cc"/>
                </a:solidFill>
                <a:latin typeface="Arial"/>
              </a:rPr>
              <a:t>知己难遇，知音难求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6T03:14:19Z</dcterms:created>
  <dc:creator>未知用户</dc:creator>
  <dc:description/>
  <dc:language>en-US</dc:language>
  <cp:lastModifiedBy>AutoBVT</cp:lastModifiedBy>
  <dcterms:modified xsi:type="dcterms:W3CDTF">2017-02-28T07:28:12Z</dcterms:modified>
  <cp:revision>28</cp:revision>
  <dc:subject/>
  <dc:title>幻灯片 1</dc:title>
</cp:coreProperties>
</file>