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7B9-25DB-4879-B142-C4FD77AC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12C-1A8F-4B77-BA28-C8947717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642-EC97-4BC0-BDF5-CFDA8321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35C-6D2F-4F20-ADA4-59E5BD3F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716-CA9A-4C1C-9823-7C04F9A3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75E-5D0A-4E72-BDD6-AC8E9934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6BB-5C89-4A29-BCA2-7F926787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E38-99FD-489C-8207-6EBA297D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51F-79A9-4C55-AA2C-F108200C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7E9-F150-49DC-BB3B-D8C80334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349-D92A-459E-B959-42C9ABB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9C2-81B7-4EE3-8E72-7719958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3EFC-45A2-4137-B8A8-F42D5BF227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3141720"/>
            <a:ext cx="25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列子》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0028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《伯牙善鼓琴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476280"/>
            <a:ext cx="63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揭秘“知音”的由来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3058560" y="573408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绵阳市三台县万安中学   朱丽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忆昔去年春，江边曾会君。今日重来访，不见知音人。但见一抔土，惨然伤我心！伤心伤心复伤心，不忍泪珠纷。来欢去何苦，江畔起愁云。子期子期兮，你我千金义，历尽天涯无足语，此曲终兮不复弹，三尺瑶琴为君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8420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16360" y="260280"/>
            <a:ext cx="338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《列 子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857320" cy="4313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360" y="1557360"/>
            <a:ext cx="532764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列子》相传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战国时道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派代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列御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著，其内容多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民间故事，寓言和神话传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思想与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《庄子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似。代表故事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《杞人忧天》《杨布打狗》《愚公移山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48000" y="-457200"/>
            <a:ext cx="669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子心胸豁达，贫富不移，荣辱不惊。因家中贫穷，常常吃不饱肚子，以致面黄肌瘦。有人劝郑国执政子阳资助列子，以搏个好士之名，于是子阳就派人送他十车粮食，他再三致谢，却不肯收受实物。妻子埋怨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听说有道的人，妻子孩子都能快乐地生活，现在我却常常挨饿。宰相送粮食给你你却不接受，我真是命苦啊。列子笑着对妻子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阳并不真的了解我，听了别人的话才送粮给我。以后也可能听别人的话怪罪我，所以我不能接受。一年后郑国发生变乱，子阳被杀，其党众多被株连致死，御寇得以安然无恙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484360" cy="460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0"/>
            <a:ext cx="2286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列子的故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《伯牙善鼓琴》</a:t>
            </a:r>
            <a:br>
              <a:rPr sz="4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伯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鼓琴，钟子期善听。伯牙鼓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琴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登高山。钟子期曰：“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善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峨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兮若泰山！”志在流水，钟子期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曰：“善哉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洋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兮若江河！”伯牙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所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钟子期必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0280" y="1052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擅长，善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324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意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504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好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000" y="3716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山高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2280" y="4941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盛大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8120" y="5143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心中想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59800" y="5719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获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74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伯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游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于泰山之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卒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逢暴雨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止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于岩下；心悲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乃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琴而鼓之。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初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霖雨之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造崩山之音。曲每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奏，钟子期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辄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4000" y="1092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游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88520" y="1085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北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89440" y="119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通“猝”，突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55520" y="126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15440" y="24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9880" y="249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20880" y="256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起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22360" y="3755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大雨琴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18440" y="3716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8640" y="5195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44160" y="5191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穷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57200" y="51912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旨趣、意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伯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乃舍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而叹曰：“善哉，善哉，</a:t>
            </a:r>
            <a:br>
              <a:rPr sz="4400"/>
            </a:br>
            <a:br>
              <a:rPr sz="4400"/>
            </a:b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子之听夫志，想象犹吾心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吾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于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逃声哉？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48520" y="155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4880" y="155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停止弹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47360" y="2892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4160" y="443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哪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1339920"/>
            <a:ext cx="8507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97920" y="765000"/>
            <a:ext cx="53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“伯牙善鼓琴，钟子期善听”具体表现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2920" y="17002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伯牙善鼓琴：心中所想便可以弹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钟子期善听：伯牙弹奏，子期便可以领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0560" y="3357720"/>
            <a:ext cx="3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文中主要的描写方法是什么？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6920" y="4149720"/>
            <a:ext cx="37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言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过对话，表现出伯牙善鼓琴，子期善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人是心意相通的知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描述简洁，中心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40360" y="0"/>
            <a:ext cx="25700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问题探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306000" y="1341360"/>
            <a:ext cx="1277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伯牙善鼓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900000" y="141264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85264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47840" y="1258920"/>
            <a:ext cx="22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伯牙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鼓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志在登高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342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子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36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峨峨兮若泰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志在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3716280"/>
            <a:ext cx="30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洋洋兮若江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191628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1916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90792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44000" y="981000"/>
            <a:ext cx="458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0440" y="1484280"/>
            <a:ext cx="29235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音难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己难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612720" y="-49320"/>
            <a:ext cx="1022508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396720" y="863280"/>
            <a:ext cx="98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“知音”是关于俞伯牙和钟子期因为音乐而结交的      故事。现在比喻了解自己，和自己心意相通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468360" y="1916280"/>
            <a:ext cx="98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后人根据伯牙和子期的故事，为了纪念这知音之情，谱成了一首乐曲《高山流水》。今天“高山流水”这个成语常用来比喻美妙的音乐或知音知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541440" y="3716280"/>
            <a:ext cx="9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《伯牙绝弦》（《伯牙碎琴》）中，“子期死，伯牙谓世再无知音，乃破琴绝弦，终身不复鼓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54:08Z</dcterms:created>
  <dc:creator>Billgates</dc:creator>
  <dc:description/>
  <dc:language>en-US</dc:language>
  <cp:lastModifiedBy>User</cp:lastModifiedBy>
  <dcterms:modified xsi:type="dcterms:W3CDTF">2013-05-21T12:17:17Z</dcterms:modified>
  <cp:revision>161</cp:revision>
  <dc:subject/>
  <dc:title>幻灯片 1</dc:title>
</cp:coreProperties>
</file>