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FF24-6BBC-46DC-A062-7AEF77C3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1EEE-C394-4B9A-B4E3-4DC80E7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D60B-A135-4BC9-9520-BFF52451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9EBE-9128-4097-93DD-4397182C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C13-DEBF-4363-AD8B-06EDAD10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395A-868A-42F1-952C-B9B29501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1371-33AC-4693-9297-D20B2B8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713C-E2F3-4AC9-BD9F-315733B2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615C-669C-4CCC-BF45-0D41A75F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58CE-41ED-49D6-8A76-FA09C02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B492-8DF4-46FD-AD51-1B83A68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9CB7-C1FC-4EFD-A14A-5272E87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DB43-C33C-477C-9A19-DE8303D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D59D-FDA2-48AE-B7DA-74FB6B70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9F0B-64B6-479E-A040-1C057BB7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07EF-98B1-4C77-A8FA-62188B54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499-4CDC-4A2C-89FC-5E1215AA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9B46-32CB-4F3F-9EC5-96D1C98D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7CE1-3AC5-44F1-ABAE-C07A7C54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8AFC-DC20-46C6-9E6B-2E8CAF2C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CCDB-7AA2-40C6-BB81-73F0E681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D73B-D139-4067-A5C4-A2E59BB4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2F8D-813B-4B7C-B681-A79BE92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F773-E128-41E7-85AC-2C197AD2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15BA-3A8E-4BA6-B8A7-38616D4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695E-B7F4-413D-A52D-5FC5B4A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0ED9-B2FA-4AC2-8640-E6023625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2B2C-62FA-4A0B-A186-5E74C03C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A2FB-577C-4882-9EF6-EFF8D810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BCBE-BF8F-4496-B8D0-CEA97E6B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8470-2136-4817-844D-1710073E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2996-4E6A-4BBF-AF7B-4F00B045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3D93-947F-432A-A2A8-62DD6E51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C07C-2A20-450B-A04E-3836D2EC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C14B-E611-4D71-A8AD-4067B503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F894-A337-4410-8C72-A642CC6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C9B4-DCF1-44A5-83AF-42BA90B7D4F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015-546F-451E-8C0A-2105B67A33C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5736-720E-4E39-BE75-3CB426775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0" t="15800" r="11103" b="21151"/>
          <a:stretch/>
        </p:blipFill>
        <p:spPr>
          <a:xfrm>
            <a:off x="826920" y="4581360"/>
            <a:ext cx="1219320" cy="15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84360" y="1844640"/>
            <a:ext cx="6659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000000"/>
                </a:solidFill>
                <a:latin typeface="Arial"/>
              </a:rPr>
              <a:t>不义而富且贵</a:t>
            </a:r>
            <a:r>
              <a:rPr b="1" lang="zh-CN" sz="7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7700" spc="-1" strike="noStrike">
                <a:solidFill>
                  <a:srgbClr val="000000"/>
                </a:solidFill>
                <a:latin typeface="Arial"/>
              </a:rPr>
              <a:t>于我如浮云 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50560" y="691920"/>
            <a:ext cx="626436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在这里又提到富贵与道的关系问题。只要合乎于道，富贵就可以去追求；不合乎于道，富贵就不能去追求。那么，他就去做自己喜欢做的事情。从此处可以看到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孔子不反对做官，不反对发财，但必须符合于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是原则问题，孔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明自己不会违背原则去追求富贵荣华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3979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50920" y="692280"/>
            <a:ext cx="6408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  子曰：“饭疏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饮水，曲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而枕之，乐亦在其中矣。不义而富且贵，于我如浮云。”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35280" y="3716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疏食，饭，这里是“吃”的意思，作动词。疏食即粗粮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曲肱：肱，音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ｎｇ，胳膊，由肩至肘的部位。曲肱，即弯着胳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179280" y="4797360"/>
            <a:ext cx="1371600" cy="1773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835280" y="3716280"/>
            <a:ext cx="70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孔子说：“吃粗粮，喝白水，弯着胳膊当枕头，乐趣也就在这中间了。用不正当的手段得来的富贵，对于我来讲就像是天上的浮云一样。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7400" y="333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合注释疏通课文第三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123640" y="549360"/>
            <a:ext cx="676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孔子极力提倡“安贫乐道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认为有理想、有志向的君子，不会总是为自己的吃穿住而奔波的，“饭疏食饮水，曲肱而枕之”，对于有理想的人来讲，可以说是乐在其中。同时，他还提出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符合于道的富贵荣华，他是坚决不予接受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对待这些东西，如天上的浮云一般。这种思想深深影响了古代的知识分子，也为一般老百姓所接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3705120"/>
          <a:ext cx="171432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705120"/>
                    <a:ext cx="17143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1640" y="836280"/>
            <a:ext cx="59767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 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子曰：“富与贵，是人之所欲也，不以其道得之，不处也；贫与贱，是人之所恶也，不以其道得之，不去也。君子去仁，恶乎成名？君子无终食之间违仁，造次必于是，颠沛必于是。”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rcRect l="14318" t="0" r="14318" b="0"/>
          <a:stretch/>
        </p:blipFill>
        <p:spPr>
          <a:xfrm>
            <a:off x="0" y="5084640"/>
            <a:ext cx="1371600" cy="177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49120" y="404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合注释疏通课文第四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360" y="476280"/>
            <a:ext cx="64436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富裕和显贵是人人都想要得到的，但不以正当的方法得到的，就不要去享受它；贫穷与低贱是人人都厌恶的，但不用正当的方法去摆脱它，就不会摆脱的。君子如果离开了仁德，又怎么能叫君子呢？君子没有一顿饭的时间背离仁德的，就是在最紧迫的时刻也必须按照仁德办事，就是在颠沛流离的时候，也一定会按仁德去办事的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516720" y="479736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的一个学生，叫做子贡。一次，吴越大军隆冬远征北方，吴王夫差强征丝棉，造成丝棉紧缺，价格走高。子贡抓住商机，从各国低价收购，然后到吴国高价贩卖，被抢购一空。还有记载，他是依靠智商生财。子贡预测市场凭的是智商，使其经商获得了空前成功。为追忆先师，他用木头雕刻孔子像，诸侯将相前来祭拜时，都想用重金请一尊雕像。子贡从中看准商机，就招募专业工匠批量生产，回报颇丰。此外，他还跨国经营。《史记》记载，子贡很善于贱买贵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贡好废举，与时转货资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曹国和鲁国之间做生意“鬻财于曹、鲁之间”。他发现各国王侯贵族以佩戴珠宝为时尚，他就专门生产贵重配饰跨国营销，赢得收益。子贡到各国做买卖需要进见诸侯时，各国的君主都以平等的礼节来会见他，这足以说明他的生意做得很大，已是春秋时代的商界巨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620640"/>
            <a:ext cx="88200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世称子贡为“儒商第一人”。儒商亦儒亦商，即信守儒家思想的商人。孔子开创了儒学，其门下“七十子徒，赐最为饶益”（《史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仲尼弟子列传》）。可见在中国历史上，既是学者同时又是富翁的，应当首推子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能够追求和谐、诚信为本、崇仁立德、义利兼顾，就是仁义。在《论语》中多处记载着子贡与孔子探讨“信”的问题。他深知“信”乃立足之本，没有了“信”，一切都不可能存在，极力奉行“言必信、行必果”。“一言九鼎”，使他在经商中赢得了很好的信誉，立于不败之地。他还敢为人先，把握商道规律，义中取利的正确义利观和适应市场的能力，达到了“义利双赢”的经商最高境界。所谓“君子爱财，取之有道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475920"/>
            <a:ext cx="70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段，反映了孔子的理欲观。以往的孔子研究中往往忽略了这一段内容，似乎孔子主张人们只要仁、义，不要利、欲。事实上并非如此。任何人都不会甘愿过贫穷困顿、流离失所的生活，都希望得到富贵安逸。但这必须通过正当的手段和途径去获取。否则宁守清贫而不去享受富贵。这种观念在今天仍有其不可低估的价值。这一章值得研究者们仔细推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56280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265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spcBef>
                <a:spcPts val="275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义与君子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孔子关于君子的论述很多，他的学生也经常问什么样的人才是君子，孔子做了很多回答，但是始终包含一个“义”字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rcRect l="14318" t="0" r="14318" b="0"/>
          <a:stretch/>
        </p:blipFill>
        <p:spPr>
          <a:xfrm>
            <a:off x="179280" y="4680000"/>
            <a:ext cx="12304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79280" y="620280"/>
            <a:ext cx="7056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原文】 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子问公叔文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于公明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曰：“信乎，夫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不言，不笑，不取乎？”公明贾对曰：“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告者过也。夫子时然后言，人不厌其言；乐然后笑，人不厌其笑；义然后取，人不厌其取。”子曰：“其然？岂其然乎？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60360" y="4365720"/>
            <a:ext cx="82803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【注释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公叔之子：卫国大夫公孙拔，卫献公之子。谥号“文”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公明贾：姓公明字贾。卫国人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夫子：文中指公叔文子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以：此处是“这个”的意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3979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108000" y="4968720"/>
            <a:ext cx="1138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0920" y="692280"/>
            <a:ext cx="655308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向公明贾问到公叔文子，说：“先生他不说、不笑、不取钱财，是真的吗？”公明贾回答道：“这是告诉你话的那个人的过错。先生他到该说时才说，因此别人不厌恶他说话；快乐时才笑，因此别人不厌恶他笑；合于礼要求的财利他才取，因此别人不厌恶他取。”孔子说：“原来这样，难道真是这样吗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562800" y="497988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63588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00000" y="692280"/>
            <a:ext cx="5761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在这里通过评价公叔文子，进一步阐释“义然后取”的思想，只要合乎于义、礼，公叔文子并非不说、不笑、不取钱财。这就是有高尚人格者之所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4152960"/>
          <a:ext cx="171468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152960"/>
                    <a:ext cx="171468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86200" y="3027240"/>
            <a:ext cx="45720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有两种东西，我对它们的思考越是深沉和持久，它们在我心灵中唤起的惊奇和敬畏就会日新月异，不断增长，这就是我头上的星空和心中的道德定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康德</a:t>
            </a:r>
            <a:r>
              <a:rPr b="0" lang="zh-CN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21004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406440"/>
            <a:ext cx="8785440" cy="64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7d"/>
                </a:solidFill>
                <a:latin typeface="Arial"/>
              </a:rPr>
              <a:t>义” 不仅仅是君子的行为规范，他也为君子带来好的社会影响。就像这位公叔文子，该取时才取，人不厌其取。这就是“义”对于君子的好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义而取往往带来灾祸。周朝时，有个人叫陶答子，他在陶城做官三年，名声并不怎么好，但他的家产财富却翻了三倍。他的妻子劝他说：“没有能力而做大官，这是祸害；没有功劳而家昌盛，这是积灾。现在你只贪求富贵越来越多。我听说南山有玄豹，在雾雨中隐藏七天而不下来觅食，为什么呢？它是想润泽皮毛长成斑纹，为的是能够隐藏自己躲避祸害。猪不择食长得肥壮了，就会被杀掉。现在你不修德而家越来越富有，灾祸就要到了。”陶答子没有听妻子的话，反而将其赶出家门。结果仅过了一年，陶答子就因事发被处以死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孔子认为，具备完善人格的人，应当富有智慧、克制、勇敢、多才多艺和礼乐修饰。谈到这里，孔子还认为，有完善人格的人，应当做到在见利见危和久居贫困的时候，能够思义、授命、不忘平生之言，尤其是本章提出“见利思义”的主张，即遇到有利可图的事情，要考虑是否符合义，不义则不为。这句话对后世产生了极大影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47592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原文】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子路问成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。子曰：“若臧武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之知，公绰之不欲，卞庄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之勇，冉求之艺，文之以礼乐，亦可以为成人矣。”曰：“今之成人者何必然？见利思义，见危授命，久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不忘平生之言，亦可以为成人矣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250920" y="4869000"/>
            <a:ext cx="1136520" cy="1771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419640" y="4292640"/>
            <a:ext cx="531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注释】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人：人格完备的完人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臧武仲：鲁国大夫臧孙纥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卞庄子：鲁国卞邑大夫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久要：长久处于穷困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4000" y="549000"/>
            <a:ext cx="6480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路问怎样做才是一个完美的人。孔子说：“如果具有臧武仲的智慧，孟公绰的克制，卞庄子的勇敢，冉求那样多才多艺，再用礼乐加以修饰，也就可以算是一个完人了。”孔子又说：“现在的完人何必一定要这样呢？见到财利想到义的要求，遇到危险能献出生命，长久处于穷困还不忘平日的诺言，这样也可以成为一位完美的人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562800" y="479736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-360" y="476280"/>
            <a:ext cx="6948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谈人格完善的问题。孔子认为，具备完善人格的人，应当富有智慧、克制、勇敢、多才多艺和礼乐修饰。谈到这里，孔子还认为，有完善人格的人，应当做到在见利见危和久居贫困的时候，能够思义、授命、不忘平生之言，这样做就符合于义。尤其是本章提出“见利思义”的主张，即遇到有利可图的事情，要考虑是否符合义，不义则不为。这句话对后世产生了极大影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62800" y="479736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1856880"/>
            <a:ext cx="64818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孔子认为的君子不是不食人间烟火的，他也知道一个人不可能具有那麽多的美好品德，所以孔子提出君子，完人是要能够先满足精神再满足物质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24360" y="549360"/>
            <a:ext cx="489564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译文】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说：“君子有九种要思考的事：看的时候，要思考看清与否；听的时候，要思考是否听清楚；自己的脸色，要思考是否温和，容貌要思考是否谦恭；言谈的时候，要思考是否忠诚；办事要思考是否谨慎严肃；遇到疑问，要思考是否应该向别人询问；忿怒时，要思考是否有后患，获取财利时，要思考是否合乎义的准则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620280"/>
            <a:ext cx="360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孔子曰：“君子有九思：视思明，听思聪，色思温，貌思恭，言思忠，事思敬，疑思问，忿思难，见得思义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03280" y="4365720"/>
          <a:ext cx="121140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365720"/>
                    <a:ext cx="121140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5280" y="691920"/>
            <a:ext cx="59738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通过孔子所谈的“君子有九思”，把人的言行举止的各个方面都考虑到了，他要求自己和学生们一言一行都要认真思考和自我反省，这里包括个人道德修养的各种规范，如温、良、恭、俭、让、忠、孝、仁、义、礼、智等等，所有这些，是孔子关于道德修养学说的组成部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39640" y="32778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应该是要求。一言一行都要认真思考和自我反省，这里包括个人道德修养的各种规范，如温、良、恭、俭、让、忠、孝、仁、义、礼、智等等，所有这些，是孔子关于道德修养学说的组成部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692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孔子所谈的“君子有九思”，是对君子的“赞赏”还是“要求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692280"/>
            <a:ext cx="5470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子曰：“君子之于天下也，无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也，无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也，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之与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4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。” 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448000" y="3716280"/>
            <a:ext cx="66960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：音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意为亲近、厚待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莫：疏远、冷淡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：适宜、妥当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：亲近、相近、靠近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250920" y="4797360"/>
            <a:ext cx="1136520" cy="1771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484360" y="3906720"/>
            <a:ext cx="5472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孔子说：“君子对于天下的人和事，没有固定的厚薄亲疏，只是按照义去做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250920" y="4869000"/>
            <a:ext cx="1136520" cy="1771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68360" y="1052640"/>
            <a:ext cx="6048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章里孔子提出对君子要求的基本点之一：“义之与比。”有高尚人格的君子为人公正、友善，处世严肃灵活，不会厚此薄彼。本章谈论的仍是个人的道德修养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50560" y="692280"/>
            <a:ext cx="59022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子曰：“德之不修，学之不讲，闻义不能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，不善不能改，是吾忧也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55640" y="4076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徙：音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迁移。此处指靠近义、做到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3357720"/>
            <a:ext cx="55450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（许多人）对品德不去修养，学问不去讲求，听到义不能去做，有了不善的事不能改正，这些都是我所忧虑的事情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476280"/>
            <a:ext cx="6192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秋末年，天下大乱。孔子慨叹世人不能自见其过而自责，对此，他万分忧虑。他把道德修养、读书学习和知错即改三个方面的问题相提并论，在他看来，三者之间也有内在联系，因为进行道德修养和学习各种知识，最重要的就是要能够及时改正自己的过失或“不善”，只有这样，修养才可以完善，知识才可以丰富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楷体_GB2312"/>
              </a:rPr>
              <a:t>★★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楷体_GB2312"/>
              </a:rPr>
              <a:t>不管时代潮流和社会风尚怎样，人总是可以凭着自己的高贵品质，超脱时代和社会，走自己的正确道路。现在，许多人都为冰箱、汽车、房子而奔波、追逐、竞争。但是，也有不少人不追求这些物质的东西，他们追求理想和真理，得到了内心的自由和安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0920" y="1341360"/>
            <a:ext cx="6408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原文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子路曰：“君子尚勇乎？”子曰：“君子义以为上。君子有勇而无义为乱，小人有勇而无义为盗。”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9280" y="3573360"/>
            <a:ext cx="633744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路说：“君子崇尚勇敢吗？”孔子答道：“君子以义作为最高尚的品德，君子有勇无义就会作乱，小人有勇无义就会偷盗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76760" y="403920"/>
            <a:ext cx="188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“义”和“勇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9120" y="90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合注释疏通课文第八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3429000"/>
            <a:ext cx="64818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二章里孔子提出对君子要求的基本点之一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义之与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义以为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”有高尚人格的君子处世严肃灵活，不会厚此薄彼。谈论的仍是个人的道德修养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0560" y="692280"/>
            <a:ext cx="5833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  子曰：“非其鬼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而祭之；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也。见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不为，无勇也。”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0920" y="3213000"/>
            <a:ext cx="6858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鬼：有两种解释：一是指鬼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是指死去的祖先。这里泛指鬼神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谄：音ｃ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ｎ ，谄媚、阿谀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：人应该做的事就是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250920" y="4797360"/>
            <a:ext cx="1182600" cy="1843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124000" y="3068640"/>
            <a:ext cx="5977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不是你应该祭的鬼神，你却去祭它，这就是谄媚。见到应该挺身而出的事情，却袖手旁观，就是怯懦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24000" y="691920"/>
            <a:ext cx="61927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本章中，孔子又提出“义”和“勇”的概念，这都是儒家有关塑造高尚人格的规范。《论语集解》注：义，所宜为。符合于仁、礼要求的，就是义。“勇”，就是果敢，勇敢。孔子把“勇”作为实行“仁”的条件之一，“勇”，必须符合“仁、义、礼、智”，才算是勇，否则就是“乱”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63588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孔子说：“见义不为，无勇也。”所以，君子应当见义而为。又说：“仁者必有勇，勇者未必有仁。”也就是说，具有仁义德性的人，必定有勇。勇于什么呢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勇于仁，勇于义。但有勇的人却不一定具有仁义的德性，因为有些所谓勇者，只是勇于做坏事，为非作歹，或者只是不问青红皂白的勇。所以孔子强调说：“君子以义为上。君子有勇而无义为乱，小人有勇而无义为盗。”君子应始终把义作为至高无上的准则。如果只是有勇而无义，就会犯上作乱。只有把义与勇相融相合，统为一体才能真正做到见义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此，我们可以看出，义与勇的关系其实像马车与马车夫，马车可以跑得飞快，但没有车夫掌握方向就会迷路，义是勇的方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49114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章谈论的是关于“义”的思考，“义之与比”“义以为上 ”有高尚人格的君子处世严肃灵活，不会厚此薄彼。符合于仁、礼要求的，就是义。“勇”，就是果敢，勇敢。孔子把“勇”作为实行“仁”的条件之一，“勇”，必须符合“仁、义、礼、智”，才算是勇，否则就是“乱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讨论：是生计重要还是道德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159000"/>
            <a:ext cx="3886200" cy="24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青年报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报道，邹云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被评为“中华食雕九大赚钱名刀”，并先后被评为“中国烹饪雕刻大师”、“中华厨神”，可现在一个大厨师彻底被各大酒店拒之门外，原因是他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拒烹野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381400" cy="3171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个厨师要与传统的习惯和人性的贪婪去较量，看上去有点“自不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力”，引来很多人的嘲笑，认为他太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他也认识到：只有溶到社会中去才有更大的作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办食雕学习班，教授烹饪理念、知识、技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组织弟子宣传以各种方式“拒烹野味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号召其他饭店厨师加入“拒烹野味”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发起百万厨师参与全国“拒烹野味”签名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有一颗“拒烹野味”的公德心，人品可敬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毅然走上“拒烹野味”的道路，勇气可嘉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坚持初衷不改，行为积极有效，做法可赞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3124080" cy="99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553080" y="3733920"/>
            <a:ext cx="1905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思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089120" y="152280"/>
            <a:ext cx="1826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华文隶书"/>
              </a:rPr>
              <a:t>朗读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8200" y="609588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8800" y="0"/>
                </a:lnTo>
                <a:lnTo>
                  <a:pt x="0" y="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8800" y="21600"/>
                </a:lnTo>
                <a:lnTo>
                  <a:pt x="28800" y="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800" y="216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8800" h="21600">
                <a:moveTo>
                  <a:pt x="6350" y="8050"/>
                </a:moveTo>
                <a:lnTo>
                  <a:pt x="11440" y="8050"/>
                </a:lnTo>
                <a:lnTo>
                  <a:pt x="16520" y="2750"/>
                </a:lnTo>
                <a:lnTo>
                  <a:pt x="16520" y="18850"/>
                </a:lnTo>
                <a:lnTo>
                  <a:pt x="11440" y="13550"/>
                </a:lnTo>
                <a:lnTo>
                  <a:pt x="6350" y="13550"/>
                </a:lnTo>
                <a:close/>
              </a:path>
              <a:path fill="darken" w="28800" h="21600">
                <a:moveTo>
                  <a:pt x="18420" y="10800"/>
                </a:moveTo>
                <a:lnTo>
                  <a:pt x="22450" y="10800"/>
                </a:lnTo>
              </a:path>
              <a:path fill="darken" w="28800" h="21600">
                <a:moveTo>
                  <a:pt x="18420" y="8050"/>
                </a:moveTo>
                <a:lnTo>
                  <a:pt x="22450" y="4870"/>
                </a:lnTo>
              </a:path>
              <a:path fill="darken" w="28800" h="21600">
                <a:moveTo>
                  <a:pt x="18420" y="13550"/>
                </a:moveTo>
                <a:lnTo>
                  <a:pt x="22450" y="16730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8137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义，它是一种道德，它是最高道德的一种形式，一个重要的环节。由仁这个最高的道德，通过具体的器物来实现，中间有很多环节，义是其中的一个非常重要的环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240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但是我们在现实生活中，往往经常看到人们把“义”与其他一些概念进行挂钩，比如“利”，比如“君子”，比如“勇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86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和义都有着怎样的关系，接下来我们一起来听听孔子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9360" y="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仁义和富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仁”是《论语》中出现频率最高的词之一。一次孔子说“克己复礼为仁”，一次孔子说“仁者爱人”。把这两个定义联系起来，可以把孔子的意思理解成为：加强自身修养，恢复（保持或服从）礼的要求，在礼的原则内，真心地关心别人。 “仁”是内心思想，“义”是符合“仁”的行为。在《论语》中，“仁”和“义”有时可以互通。在《论语》中，“富贵”常被简称为“利”。“仁义”和“富贵”的关系问题也是他的学生们最关心的问题之一，因而也是孔子多次论述的问题。先看看孔子这方面的论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4000" y="1255680"/>
            <a:ext cx="63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子曰：“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而可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也；虽执鞭之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，吾亦为之。如不可求，从吾所好。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85812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注释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富：指升官发财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：指合于道，可以去求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执鞭之士：古代为天子、诸侯和官员出入时手执皮鞭开路的人。意思指地位低下的职事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4318" t="0" r="14318" b="0"/>
          <a:stretch/>
        </p:blipFill>
        <p:spPr>
          <a:xfrm>
            <a:off x="179280" y="5084640"/>
            <a:ext cx="1044720" cy="1627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3979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32000" y="4159440"/>
            <a:ext cx="756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如果富贵合乎于道就可以去追求，虽然是给人执鞭的下等差事，我也愿意去做。如果富贵不合于道就不必去追求，那就还是按我的爱好去干事。”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02680" y="40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合注释疏通课文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2:06:55Z</dcterms:created>
  <dc:creator/>
  <dc:description/>
  <dc:language>en-US</dc:language>
  <cp:lastModifiedBy>zhang</cp:lastModifiedBy>
  <dcterms:modified xsi:type="dcterms:W3CDTF">2009-12-05T08:06:24Z</dcterms:modified>
  <cp:revision>13</cp:revision>
  <dc:subject/>
  <dc:title>幻灯片 1</dc:title>
</cp:coreProperties>
</file>