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0A29-945B-4381-A599-BD796E84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DB16-C551-4445-972A-8CF1EC05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F8A1-978B-4375-B598-EECF8E32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9DE7-5801-4A77-879E-31CB6226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35E5-37B2-4A80-9D79-67F4E1F9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91D1-89E0-4AFE-B0FE-83A76D40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869E-226A-4296-9602-69FA16D8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2CBB-6660-4CFF-A998-63BA6178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6325-70FA-4D37-991F-74D50FDB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573C-DC5B-4CAA-8F95-9C462C87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50F7-C978-4A1C-9534-F4A0522B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D972-5BA1-4EF7-82E2-B7A5ED28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6159-4316-4418-83CD-4E26C4F3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2FD8-145C-495E-B891-E95B870F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B912-816E-4783-92C7-1B1634D8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EBBB-3199-40A7-8123-D3473823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A858-1BBA-4963-8A63-24942D89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03B9-2FC8-4C3D-BFC9-1C1E4DE1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EB7E-BFF5-488D-893E-A77DE34C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0C9D-3579-4AB4-8D6A-501EF7D6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8829E-7B0C-459D-B8A5-71DDF38C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77E3-C999-4709-86AB-7964D585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BF4A-8C4E-4A62-BF3C-A44B5A9B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9F4D-40B7-4F49-B9CD-AD3E1C0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4F44-0F1E-4B99-B3DF-31C0B04E2350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7856-6D46-4CB4-9A7E-EE844E86D70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2200" y="981000"/>
            <a:ext cx="677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341360"/>
            <a:ext cx="733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迷你简启体"/>
                <a:ea typeface="迷你简启体"/>
              </a:rPr>
              <a:t>先 秦 诸 子 散 文 选 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1700280"/>
            <a:ext cx="439272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第五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迷你简雁翎"/>
                <a:ea typeface="迷你简雁翎"/>
              </a:rPr>
              <a:t>不义而富且贵于我如浮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50560" y="691920"/>
            <a:ext cx="626436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在这里又提到富贵与道的关系问题。只要合乎于道，富贵就可以去追求；不合乎于道，富贵就不能去追求。那么，他就去做自己喜欢做的事情。从此处可以看到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孔子不反对做官，不反对发财，但必须符合于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是原则问题，孔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明自己不会违背原则去追求富贵荣华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3979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123640" y="549360"/>
            <a:ext cx="6769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·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孔子极力提倡“安贫乐道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认为有理想、有志向的君子，不会总是为自己的吃穿住而奔波的，“饭疏食饮水，曲肱而枕之”，对于有理想的人来讲，可以说是乐在其中。同时，他还提出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符合于道的富贵荣华，他是坚决不予接受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对待这些东西，如天上的浮云一般。这种思想深深影响了古代的知识分子，也为一般老百姓所接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3705120"/>
          <a:ext cx="171432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705120"/>
                    <a:ext cx="17143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475920"/>
            <a:ext cx="70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·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段，反映了孔子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义利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以往的孔子研究中往往忽略了这一段内容，似乎孔子主张人们只要仁、义，不要利、欲。事实上并非如此。任何人都不会甘愿过贫穷困顿、流离失所的生活，都希望得到富贵安逸。但这必须通过正当的手段和途径去获取。否则宁守清贫而不去享受富贵。这种观念在今天仍有其不可低估的价值。这一章值得研究者们仔细推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6280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26920" y="1557360"/>
            <a:ext cx="756144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迷你简启体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这三则主要是谈义与富贵的问题，可以看出，孔子不反对发财做官，但前提必须符合道义；他提倡“安贫乐道”，认为有理想，有志向的君子不总是为自己的吃穿住而奔波，他乐于在贫困中享受道义；他指出，人们都不会甘愿过贫困流离的生活，都希望得到富贵安逸，但必须通过正当的手段和途径获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449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子的一个学生，叫做子贡。一次，吴越大军隆冬远征北方，吴王夫差强征丝棉，造成丝棉紧缺，价格走高。子贡抓住商机，从各国低价收购，然后到吴国高价贩卖，被抢购一空。还有记载，他是依靠智商生财。子贡预测市场凭的是智商，使其经商获得了空前成功。为追忆先师，他用木头雕刻孔子像，诸侯将相前来祭拜时，都想用重金请一尊雕像。子贡从中看准商机，就招募专业工匠批量生产，回报颇丰。此外，他还跨国经营。《史记》记载，子贡很善于贱买贵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贡好废举，与时转货资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在曹国和鲁国之间做生意“鬻财于曹、鲁之间”。他发现各国王侯贵族以佩戴珠宝为时尚，他就专门生产贵重配饰跨国营销，赢得收益。子贡到各国做买卖需要进见诸侯时，各国的君主都以平等的礼节来会见他，这足以说明他的生意做得很大，已是春秋时代的商界巨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1844640"/>
            <a:ext cx="7056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世称子贡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雁翎"/>
              </a:rPr>
              <a:t>儒商第一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儒商亦儒亦商，即信守儒家思想的商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孔子开创了儒学，其门下“七十子徒，赐最为饶益”（《史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仲尼弟子列传》）。可见在中国历史上，既是学者同时又是富翁的，应当首推子贡。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他的财富地取得，是靠聪明才智的，是符合道义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0"/>
            <a:ext cx="352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迷你简启体"/>
              </a:rPr>
              <a:t>趁热打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985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spcBef>
                <a:spcPts val="275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迷你简启体"/>
              </a:rPr>
              <a:t>二、义与君子</a:t>
            </a:r>
            <a:br>
              <a:rPr sz="66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孔子关于君子的论述很多，他的学生也经常问什么样的人才是君子，孔子做了很多回答，但是始终包含一个“义”字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rcRect l="14318" t="0" r="14318" b="0"/>
          <a:stretch/>
        </p:blipFill>
        <p:spPr>
          <a:xfrm>
            <a:off x="179280" y="4680000"/>
            <a:ext cx="12304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692280"/>
            <a:ext cx="8964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2·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子问公叔文子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公明贾曰：“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信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乎，夫子不言，不笑，不取乎？”公明贾对曰：“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告者过也。夫子时然后言，人不厌其言；乐然后笑，人不厌其笑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义然后取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，人不厌其取。”子曰：“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其然？岂其然乎？”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2000" y="1197000"/>
            <a:ext cx="3672000" cy="1440000"/>
          </a:xfrm>
          <a:prstGeom prst="wedgeEllipseCallout">
            <a:avLst>
              <a:gd name="adj1" fmla="val -62106"/>
              <a:gd name="adj2" fmla="val -4834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启体"/>
              </a:rPr>
              <a:t>以：后面省略“之”，即“以之告者过也”，以：介词，把，拿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42100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子路问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成人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。子曰：“若臧武仲之知，公绰之不欲，卞庄子之勇，冉求之艺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文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之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礼乐，亦可以为成人矣。”曰：“今之成人者何必然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见利思义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，见危授命，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要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不忘平生之言，亦可以为成人矣。”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1125360"/>
            <a:ext cx="3024360" cy="936720"/>
          </a:xfrm>
          <a:prstGeom prst="wedgeRoundRectCallout">
            <a:avLst>
              <a:gd name="adj1" fmla="val 50837"/>
              <a:gd name="adj2" fmla="val 5423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启体"/>
              </a:rPr>
              <a:t>原来这样，难道真是这样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052640"/>
            <a:ext cx="1584000" cy="647640"/>
          </a:xfrm>
          <a:prstGeom prst="wedgeEllipseCallout">
            <a:avLst>
              <a:gd name="adj1" fmla="val 146995"/>
              <a:gd name="adj2" fmla="val -7255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介词，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1728720" cy="792360"/>
          </a:xfrm>
          <a:prstGeom prst="wedgeEllipseCallout">
            <a:avLst>
              <a:gd name="adj1" fmla="val -62305"/>
              <a:gd name="adj2" fmla="val 7043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完美无缺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1773360"/>
            <a:ext cx="1728720" cy="792000"/>
          </a:xfrm>
          <a:prstGeom prst="wedgeEllipseCallout">
            <a:avLst>
              <a:gd name="adj1" fmla="val -93250"/>
              <a:gd name="adj2" fmla="val 102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动词，修饰，装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2852640"/>
            <a:ext cx="1511280" cy="792360"/>
          </a:xfrm>
          <a:prstGeom prst="wedgeEllipseCallout">
            <a:avLst>
              <a:gd name="adj1" fmla="val 68069"/>
              <a:gd name="adj2" fmla="val 7906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通“约”，贫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4437000"/>
            <a:ext cx="8280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7·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子曰：“君子之于天下也，无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适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也，无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莫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也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义之与比。” 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3068640"/>
            <a:ext cx="2160360" cy="1152360"/>
          </a:xfrm>
          <a:prstGeom prst="wedgeEllipseCallout">
            <a:avLst>
              <a:gd name="adj1" fmla="val -78875"/>
              <a:gd name="adj2" fmla="val 833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di,</a:t>
            </a: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专注，或亲近，厚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5084640"/>
            <a:ext cx="1511280" cy="649440"/>
          </a:xfrm>
          <a:prstGeom prst="wedgeRoundRectCallout">
            <a:avLst>
              <a:gd name="adj1" fmla="val 18907"/>
              <a:gd name="adj2" fmla="val -115768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疏远，冷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5229360"/>
            <a:ext cx="3383280" cy="1224000"/>
          </a:xfrm>
          <a:prstGeom prst="wedgeRoundRectCallout">
            <a:avLst>
              <a:gd name="adj1" fmla="val -76324"/>
              <a:gd name="adj2" fmla="val -7166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即：与义比之。跟义靠近，并列。与，介词，跟，同；之，助词，提宾标志。比，并列，靠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5516640"/>
            <a:ext cx="78487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·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子曰：“</a:t>
            </a:r>
            <a:r>
              <a:rPr b="1" lang="zh-CN" sz="2800" spc="-1" strike="noStrike" u="sng">
                <a:solidFill>
                  <a:srgbClr val="00007d"/>
                </a:solidFill>
                <a:uFillTx/>
                <a:latin typeface="Arial"/>
              </a:rPr>
              <a:t>德之不修，学之不讲，闻义不能徙，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不善不能改，是吾忧也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8964720" cy="765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迷你简启体"/>
              </a:rPr>
              <a:t>阅读下面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迷你简启体"/>
              </a:rPr>
              <a:t>4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迷你简启体"/>
              </a:rPr>
              <a:t>个章节，注意画线词与句子的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562800" y="497988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63588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00000" y="692280"/>
            <a:ext cx="5761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·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在这里通过评价公叔文子，进一步阐释“义然后取”的思想，只要合乎于义、礼，公叔文子并非不说、不笑、不取钱财。这就是有高尚人格者之所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9280" y="4152960"/>
          <a:ext cx="1714680" cy="27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152960"/>
                    <a:ext cx="171468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-360" y="476280"/>
            <a:ext cx="6948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谈人格完善的问题。孔子认为，具备完善人格的人，应当富有智慧、克制、勇敢、多才多艺和礼乐修饰。谈到这里，孔子还认为，有完善人格的人，应当做到在见利见危和久居贫困的时候，能够思义、授命、不忘平生之言，这样做就符合于义。尤其是本章提出“见利思义”的主张，即遇到有利可图的事情，要考虑是否符合义，不义则不为。这句话对后世产生了极大影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562800" y="479736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2124720"/>
            <a:ext cx="6481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·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孔子认为的君子不是不食人间烟火的，他也知道一个人不可能具有那麽多的美好品德，所以孔子提出君子，完人是要能够先满足精神再满足物质就可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95280" y="691920"/>
            <a:ext cx="59738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·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通过孔子所谈的“君子有九思”，把人的言行举止的各个方面都考虑到了，他要求自己和学生们一言一行都要认真思考和自我反省，这里包括个人道德修养的各种规范，如温、良、恭、俭、让、忠、孝、仁、义、礼、智等等，所有这些，是孔子关于道德修养学说的组成部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9640" y="327780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应该是要求。一言一行都要认真思考和自我反省，这里包括个人道德修养的各种规范，如温、良、恭、俭、让、忠、孝、仁、义、礼、智等等，所有这些，是孔子关于道德修养学说的组成部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558972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孔子所谈的“君子有九思”，是对君子的“赞赏”还是“要求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347640" y="1557000"/>
            <a:ext cx="56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有两种东西，我对它们的思考越是深沉和持久，它们在我心灵中唤起的惊奇和敬畏就会日新月异，不断增长，这就是我头上的星空和心中的道德定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康德</a:t>
            </a:r>
            <a:r>
              <a:rPr b="0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203640" cy="4465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482436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创设情景，导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250920" y="4869000"/>
            <a:ext cx="1136520" cy="1771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68360" y="1052640"/>
            <a:ext cx="6048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章里孔子提出对君子要求的基本点之一：“义之与比。”有高尚人格的君子为人公正、友善，处世严肃灵活，不会厚此薄彼。本章谈论的仍是个人的道德修养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50920" y="476280"/>
            <a:ext cx="6192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秋末年，天下大乱。孔子慨叹世人不能自见其过而自责，对此，他万分忧虑。他把道德修养、读书学习和知错即改三个方面的问题相提并论，在他看来，三者之间也有内在联系，因为进行道德修养和学习各种知识，最重要的就是要能够及时改正自己的过失或“不善”，只有这样，修养才可以完善，知识才可以丰富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13744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四则主要讲“义与君子（人格）”的问题，重点阐述人格完善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孔子认为，具备完善人格的人，应当富有</a:t>
            </a:r>
            <a:r>
              <a:rPr b="1" lang="zh-CN" sz="2800" spc="-1" strike="noStrike">
                <a:solidFill>
                  <a:srgbClr val="00007d"/>
                </a:solidFill>
                <a:latin typeface="迷你简雁翎"/>
                <a:ea typeface="迷你简雁翎"/>
              </a:rPr>
              <a:t>智慧、克制、勇敢、多才多艺和礼乐修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君子要九思，要加强道德修养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他指出君子要明白“义然后取”“见利思义”“见得思义”“义之与比”，这样才是真正的君子。</a:t>
            </a:r>
            <a:r>
              <a:rPr b="1" lang="zh-CN" sz="2800" spc="-1" strike="noStrike">
                <a:solidFill>
                  <a:srgbClr val="00007d"/>
                </a:solidFill>
                <a:latin typeface="黑体"/>
                <a:ea typeface="黑体"/>
              </a:rPr>
              <a:t>“义” 不仅仅是君子的行为规范，他也为君子带来好的社会影响。就像公叔文子，该取时才取，人不厌其取。这就是“义”对于君子的好处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些都对后世产生了极大影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0"/>
            <a:ext cx="5975280" cy="1268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99"/>
                </a:solidFill>
                <a:latin typeface="Arial"/>
                <a:ea typeface="迷你简启体"/>
              </a:rPr>
              <a:t>小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1484280"/>
            <a:ext cx="77774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启体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启体"/>
              </a:rPr>
              <a:t>不义而取往往带来灾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启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启体"/>
              </a:rPr>
              <a:t>周朝时，有个人叫陶答子，他在陶城做官三年，名声并不怎么好，但他的家产财富却翻了三倍。他的妻子劝他说：“没有能力而做大官，这是祸害；没有功劳而家昌盛，这是积灾。现在你只贪求富贵越来越多。我听说南山有玄豹，在雾雨中隐藏七天而不下来觅食，为什么呢？它是想润泽皮毛长成斑纹，为的是能够隐藏自己躲避祸害。猪不择食长得肥壮了，就会被杀掉。现在你不修德而家越来越富有，灾祸就要到了。”陶答子没有听妻子的话，反而将其赶出家门。结果仅过了一年，陶答子就因事发被处以死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33360"/>
            <a:ext cx="352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迷你简启体"/>
              </a:rPr>
              <a:t>趁热打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920" y="1341360"/>
            <a:ext cx="6408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原文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子路曰：“君子尚勇乎？”子曰：“君子义以为上。君子有勇而无义为乱，小人有勇而无义为盗。”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3573360"/>
            <a:ext cx="633744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路说：“君子崇尚勇敢吗？”孔子答道：“君子以义作为最高尚的品德，君子有勇无义就会作乱，小人有勇无义就会偷盗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0200" y="40356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三、“义”和“勇”</a:t>
            </a:r>
            <a:r>
              <a:rPr b="0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3429000"/>
            <a:ext cx="64818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二章里孔子提出对君子要求的基本点之一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义之与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义以为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”有高尚人格的君子处世严肃灵活，不会厚此薄彼。谈论的仍是个人的道德修养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50560" y="692280"/>
            <a:ext cx="5833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  子曰：“非其鬼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而祭之；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也。见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不为，无勇也。”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50920" y="3213000"/>
            <a:ext cx="6858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鬼：有两种解释：一是指鬼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是指死去的祖先。这里泛指鬼神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谄：音ｃ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ｎ ，谄媚、阿谀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义：人应该做的事就是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250920" y="4797360"/>
            <a:ext cx="1182600" cy="1843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124000" y="3068640"/>
            <a:ext cx="5977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不是你应该祭的鬼神，你却去祭它，这就是谄媚。见到应该挺身而出的事情，却袖手旁观，就是怯懦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24000" y="691920"/>
            <a:ext cx="61927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本章中，孔子又提出“义”和“勇”的概念，这都是儒家有关塑造高尚人格的规范。《论语集解》注：义，所宜为。符合于仁、礼要求的，就是义。“勇”，就是果敢，勇敢。孔子把“勇”作为实行“仁”的条件之一，“勇”，必须符合“仁、义、礼、智”，才算是勇，否则就是“乱”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63588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孔子说：“见义不为，无勇也。”所以，君子应当见义而为。又说：“仁者必有勇，勇者未必有仁。”也就是说，具有仁义德性的人，必定有勇。勇于什么呢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勇于仁，勇于义。但有勇的人却不一定具有仁义的德性，因为有些所谓勇者，只是勇于做坏事，为非作歹，或者只是不问青红皂白的勇。所以孔子强调说：“君子以义为上。君子有勇而无义为乱，小人有勇而无义为盗。”君子应始终把义作为至高无上的准则。如果只是有勇而无义，就会犯上作乱。只有把义与勇相融相合，统为一体才能真正做到见义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此，我们可以看出，义与勇的关系其实像马车与马车夫，马车可以跑得飞快，但没有车夫掌握方向就会迷路，义是勇的方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49114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章谈论的是关于“义”的思考，“义之与比”“义以为上 ”有高尚人格的君子处世严肃灵活，不会厚此薄彼。符合于仁、礼要求的，就是义。“勇”，就是果敢，勇敢。孔子把“勇”作为实行“仁”的条件之一，“勇”，必须符合“仁、义、礼、智”，才算是勇，否则就是“乱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1·</a:t>
            </a: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由以上这三点：义与富贵，义与君子，义与勇敢我们可以看到，对于富贵的取得要符合道义，对于君子人格的完善也要按照道义的要求来办事，对于勇敢，不能只勇而无义，否则就会出乱，出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2·</a:t>
            </a: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义，是一种道德，是一个具有根本意义的道德原则，它是最高道德的一种形式，一个重要的环节。而义则是通过礼来实现。</a:t>
            </a:r>
            <a:r>
              <a:rPr b="1" lang="zh-CN" sz="28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符合于仁、礼要求的，就是义，符合“仁、义、礼、智”，才算是勇，否则就是“乱”。它们都是实现仁的重要手段和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73600" y="495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全文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讨论：是生计重要还是道德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3159000"/>
            <a:ext cx="3886200" cy="24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青年报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报道，邹云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被评为“中华食雕九大赚钱名刀”，并先后被评为“中国烹饪雕刻大师”、“中华厨神”，可现在一个大厨师彻底被各大酒店拒之门外，原因是他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拒烹野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381400" cy="31719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5280" y="476280"/>
            <a:ext cx="396072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99"/>
                </a:solidFill>
                <a:latin typeface="Arial"/>
              </a:rPr>
              <a:t>拓展提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836640"/>
            <a:ext cx="45720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★★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不管时代潮流和社会风尚怎样，人总是可以凭着自己的高贵品质，超脱时代和社会，走自己的正确道路。现在，许多人都为冰箱、汽车、房子而奔波、追逐、竞争。但是，也有不少人不追求这些物质的东西，他们追求理想和真理，得到了内心的自由和安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1480" y="907920"/>
            <a:ext cx="3422880" cy="5113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580000" y="5867280"/>
            <a:ext cx="3124440" cy="9907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厨师要与传统的习惯和人性的贪婪去较量，看上去有点“自不量力”，引来很多人的嘲笑，认为他太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他也认识到：只有溶到社会中去才有更大的作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办食雕学习班，教授烹饪理念、知识、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组织弟子宣传以各种方式“拒烹野味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号召其他饭店厨师加入“拒烹野味”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发起百万厨师参与全国“拒烹野味”签名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一颗“拒烹野味”的公德心，人品可敬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毅然走上“拒烹野味”的道路，勇气可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坚持初衷不改，行为积极有效，做法可赞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 rot="20869200">
            <a:off x="7092720" y="4797000"/>
            <a:ext cx="1904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思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197000"/>
            <a:ext cx="453708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内容与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637000"/>
            <a:ext cx="799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确本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的含义，掌握重点的实虚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确“义”的内涵，理解“义”与“富贵”“君子”“勇敢”的关系，并对我们有什么启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4581360"/>
            <a:ext cx="4248360" cy="1656000"/>
          </a:xfrm>
          <a:prstGeom prst="wedgeEllipseCallout">
            <a:avLst>
              <a:gd name="adj1" fmla="val -75263"/>
              <a:gd name="adj2" fmla="val -1881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黑体"/>
              </a:rPr>
              <a:t>中心是关于“义”的问题的探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1752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476280"/>
            <a:ext cx="830556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·  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日克己复礼，（                 ）  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非礼勿视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            )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非礼勿言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            )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己所不欲，勿施于人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),(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举直措诸枉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  )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5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夫仁者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    )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己欲达而达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6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士不可以不弘毅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   )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501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志士仁人，无求生以害仁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            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8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仁者安仁，（            ）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33360"/>
            <a:ext cx="1441440" cy="244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迷你霹雳体"/>
              </a:rPr>
              <a:t> </a:t>
            </a: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迷你霹雳体"/>
              </a:rPr>
              <a:t>复习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0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（克己复礼为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620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天下天下归仁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141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非礼勿听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1341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非礼勿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2133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在邦无怨，     在家无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278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能使枉者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357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己欲立而立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4292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任重而道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有杀身以成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8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知者利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1125360"/>
            <a:ext cx="4897440" cy="865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迷你霹雳体"/>
              </a:rPr>
              <a:t>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迷你霹雳体"/>
              </a:rPr>
              <a:t>·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迷你霹雳体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2421000"/>
            <a:ext cx="748980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7d"/>
                </a:solidFill>
                <a:latin typeface="黑体"/>
                <a:ea typeface="黑体"/>
              </a:rPr>
              <a:t>熟读课文，处理好重点字词</a:t>
            </a:r>
            <a:r>
              <a:rPr b="0" lang="zh-CN" sz="4400" spc="-1" strike="noStrike">
                <a:solidFill>
                  <a:srgbClr val="00007d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三名学生诵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学生完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1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页“基础自主学习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--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5280" y="1197000"/>
            <a:ext cx="835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阅读全文，疏通文意后，请同学们思考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课是集中阐述“义”的相关问题。为了很好的说明问题，孔子都涉及了哪些与“义”有关的问题？试加以概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章节进行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40360" cy="981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迷你霹雳体"/>
              </a:rPr>
              <a:t>四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迷你霹雳体"/>
              </a:rPr>
              <a:t>·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迷你霹雳体"/>
              </a:rPr>
              <a:t>疏通文意，解读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321300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明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义与富贵（利），义与君子，义与勇敢等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·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章节可分为三大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义与富贵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1  3  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义与君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人格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2  5  6  7  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义与勇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8   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迷你简启体"/>
              </a:rPr>
              <a:t>一、义和富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仁”是《论语》中出现频率最高的词之一。一次孔子说“克己复礼为仁”，一次孔子说“仁者爱人”。把这两个定义联系起来，可以把孔子的意思理解成为：加强自身修养，恢复（保持或服从）礼的要求，在礼的原则内，真心地关心别人。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雁翎"/>
              </a:rPr>
              <a:t>“仁”是内心思想，“义”是符合“仁”的行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《论语》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，“仁”和“义”有时可以互通。“富贵”常被简称为“利”。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仁义”和“富贵”的关系问题也是他的学生们最关心的问题之一，因而也是孔子多次论述的问题。先看看孔子这方面的论述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549360"/>
            <a:ext cx="7201080" cy="936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迷你霹雳体"/>
              </a:rPr>
              <a:t>五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迷你霹雳体"/>
              </a:rPr>
              <a:t>·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迷你霹雳体"/>
              </a:rPr>
              <a:t>研讨分析，明确重点章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12985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·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子曰：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而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可求也；虽执鞭之士，吾亦为之。如不可求，从吾所好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276640"/>
            <a:ext cx="856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·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子曰：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饭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疏食饮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水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，曲肱而枕之，乐亦在其中矣。不义而富且贵，于我如浮云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645000"/>
            <a:ext cx="820908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· 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子曰：“富与贵，是人之所欲也，不以其道得之，不处也；贫与贱，是人之所恶也，不以其道得之，不去也。君子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去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仁，恶乎成名？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君子无终食之间违仁，造次必于是，颠沛必于是。”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8459640" cy="1081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启体"/>
              </a:rPr>
              <a:t>阅读下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启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启体"/>
              </a:rPr>
              <a:t>个章节，注意画线词与句子的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2:06:55Z</dcterms:created>
  <dc:creator/>
  <dc:description/>
  <dc:language>en-US</dc:language>
  <cp:lastModifiedBy>微软用户</cp:lastModifiedBy>
  <dcterms:modified xsi:type="dcterms:W3CDTF">2011-03-04T07:33:08Z</dcterms:modified>
  <cp:revision>29</cp:revision>
  <dc:subject/>
  <dc:title>幻灯片 1</dc:title>
</cp:coreProperties>
</file>