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8B2-B413-4202-9443-340A102A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F38-37B3-4876-A36F-83FC0FCA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F74-516B-4BD1-B5D9-78A96F48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560-C58F-46CF-810E-8D8B6EF7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284-9E61-4745-BCA1-D12B1E8C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BA7-0500-4723-A57C-C587D903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3AF-F745-46D6-A304-FAC56DAE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C30-42FA-4A3D-8256-4BEC55A9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ED1-A5D9-4821-8670-F51F282E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CFF-8F2A-4966-9862-4DDD6DAA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799-0DB6-49A4-A4D2-261E9ECA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481-5ECA-4665-BA24-F0E16029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78C7-5CE4-46EA-9BDC-043ABDD78A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620640"/>
            <a:ext cx="7488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不义而富且贵</a:t>
            </a:r>
            <a:r>
              <a:rPr b="1" lang="en-US" sz="4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,</a:t>
            </a:r>
            <a:r>
              <a:rPr b="1" lang="zh-CN" sz="4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于我如浮云 </a:t>
            </a:r>
            <a:endParaRPr b="1" lang="en-US" sz="4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42" name=""/>
          <p:cNvSpPr/>
          <p:nvPr/>
        </p:nvSpPr>
        <p:spPr>
          <a:xfrm>
            <a:off x="3419640" y="4149720"/>
            <a:ext cx="5327640" cy="642600"/>
          </a:xfrm>
          <a:prstGeom prst="rect">
            <a:avLst/>
          </a:prstGeom>
          <a:solidFill>
            <a:srgbClr val="ffff9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义，它是一种道德，它是最高道德的一种形式，一个重要的环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50560" y="189000"/>
            <a:ext cx="62276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一段，反映了孔子的理欲观。以往的孔子研究中往往忽略了这一段内容，似乎孔子主张人们只要仁、义，不要利、欲。事实上并非如此。任何人都不会甘愿过贫穷困顿、流离失所的生活，都希望得到富贵安逸。但这必须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过正当的手段和途径去获取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否则宁守清贫而不去享受富贵。这种观念在今天仍有其不可低估的价值。这一章值得研究者们仔细推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56280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5904000"/>
          </a:xfrm>
          <a:prstGeom prst="rect">
            <a:avLst/>
          </a:prstGeom>
          <a:solidFill>
            <a:srgbClr val="ffffff">
              <a:alpha val="66000"/>
            </a:srgbClr>
          </a:solidFill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的一个学生，叫做子贡。一次，吴越大军隆冬远征北方，吴王夫差强征丝棉，造成丝棉紧缺，价格走高。子贡抓住商机，从各国低价收购，然后到吴国高价贩卖，被抢购一空。还有记载，他是依靠智商生财。子贡预测市场凭的是智商，使其经商获得了空前成功。为追忆先师，他用木头雕刻孔子像，诸侯将相前来祭拜时，都想用重金请一尊雕像。子贡从中看准商机，就招募专业工匠批量生产，回报颇丰。此外，他还跨国经营。《史记》记载，子贡很善于贱买贵卖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贡好废举，与时转货资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曹国和鲁国之间做生意“鬻财于曹、鲁之间”。他发现各国王侯贵族以佩戴珠宝为时尚，他就专门生产贵重配饰跨国营销，赢得收益。子贡到各国做买卖需要进见诸侯时，各国的君主都以平等的礼节来会见他，这足以说明他的生意做得很大，已是春秋时代的商界巨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后世称子贡为“儒商第一人”。儒商亦儒亦商，即信守儒家思想的商人。孔子开创了儒学，其门下“七十子徒，赐最为饶益”（《史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仲尼弟子列传》）。可见在中国历史上，既是学者同时又是富翁的，应当首推子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4043520" cy="6080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儒商楷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036000" cy="60213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儒商亦儒亦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信守儒家思想的商人。孔子开创了儒学，其门下“七十子徒，赐最为饶益”（《史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仲尼弟子列传》）。可见在中国历史上，既是学者同时又是富翁的，应当首推子贡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追求和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在处理人与人之间的关系上，他的格言是“我不欲人之加诸我也，吾亦欲无加诸人”（《论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治长》）、“己所不欲，勿施于人”（《论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卫灵公》），做到互相尊重，平等相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诚信为本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在《论语》中多处记载着子贡与孔子探讨“信”的问题。他深知“信”乃立足之本，没有了“信”，一切都不可能存在，极力奉行“言必信、行必果”。“一言九鼎”，使他在经商中赢得了很好的信誉，立于不败之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崇仁立德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坚持“以德立人，崇实务本”。子贡和范蠡都因货殖发财而名扬于世，他们交往富者，同时也抚恤贫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义利兼顾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敢为人先，把握商道规律，义中取利的正确义利观和适应市场的能力，达到了“义利双赢”的经商最高境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5473800" cy="5867280"/>
          </a:xfrm>
          <a:prstGeom prst="rect">
            <a:avLst/>
          </a:prstGeom>
          <a:solidFill>
            <a:srgbClr val="ffffff">
              <a:alpha val="45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追求和谐、诚信为本、崇仁立德、义利兼顾，就是仁义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《论语》中多处记载着子贡与孔子探讨“信”的问题。他深知“信”乃立足之本，没有了“信”，一切都不可能存在，极力奉行“言必信、行必果”。“一言九鼎”，使他在经商中赢得了很好的信誉，立于不败之地。他还敢为人先，把握商道规律，义中取利的正确义利观和适应市场的能力，达到了“义利双赢”的经商最高境界。所谓“君子爱财，取之有道。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454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5472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spcBef>
                <a:spcPts val="275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孔子关于君子的论述很多，他的学生也经常问什么样的人才是君子，孔子做了很多回答，但是始终包含一个“义”字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179280" y="4680000"/>
            <a:ext cx="1230480" cy="191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4319640" cy="7642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二、义与君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865840" y="0"/>
            <a:ext cx="327816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9280" y="620640"/>
            <a:ext cx="7056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问公叔文子于公明贾曰：“信乎，夫子不言，不笑，不取乎？”公明贾对曰：“以告者过也。夫子时然后言，人不厌其言；乐然后笑，人不厌其笑；义然后取，人不厌其取。”子曰：“其然？岂其然乎？”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1928520" cy="3386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213000"/>
            <a:ext cx="8640720" cy="3240360"/>
          </a:xfrm>
          <a:prstGeom prst="rect">
            <a:avLst/>
          </a:prstGeom>
          <a:solidFill>
            <a:srgbClr val="ffffff">
              <a:alpha val="52000"/>
            </a:srgbClr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向公明贾问到公叔文子，说：“先生他不说、不笑、不取钱财，是真的吗？”公明贾回答道：“这是告诉你话的那个人的过错。先生他到该说时才说，因此别人不厌恶他说话；快乐时才笑，因此别人不厌恶他笑；合于礼要求的财利他才取，因此别人不厌恶他取。”孔子说：“原来这样，难道真是这样吗？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58920" y="115920"/>
            <a:ext cx="6553080" cy="619272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在这里通过评价公叔文子，进一步阐释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义然后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的思想，只要合乎于义、礼，公叔文子并非不说、不笑、不取钱财。这就是有高尚人格者之所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义” 不仅仅是君子的行为规范，他也为君子带来好的社会影响。就像这位公叔文子，该取时才取，人不厌其取。这就是“义”对于君子的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0" y="-243000"/>
            <a:ext cx="158760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4152960"/>
            <a:ext cx="171468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7921440" cy="5038560"/>
          </a:xfrm>
          <a:prstGeom prst="rect">
            <a:avLst/>
          </a:prstGeom>
          <a:solidFill>
            <a:srgbClr val="ccffff">
              <a:alpha val="37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义而取往往带来灾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朝时，有个人叫陶答子，他在陶城做官三年，名声并不怎么好，但他的家产财富却翻了三倍。他的妻子劝他说：“没有能力而做大官，这是祸害；没有功劳而家昌盛，这是积灾。现在你只贪求富贵越来越多。我听说南山有玄豹，在雾雨中隐藏七天而不下来觅食，为什么呢？它是想润泽皮毛长成斑纹，为的是能够隐藏自己躲避祸害。猪不择食长得肥壮了，就会被杀掉。现在你不修德而家越来越富有，灾祸就要到了。”陶答子没有听妻子的话，反而将其赶出家门。结果仅过了一年，陶答子就因事发被处以死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47592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路问成人。子曰：“若臧武仲之知，公绰之不欲，卞庄子之勇，冉求之艺，文之以礼乐，亦可以为成人矣。”曰：“今之成人者何必然？见利思义，见危授命，久要不忘平生之言，亦可以为成人矣。”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3588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141720"/>
            <a:ext cx="8351640" cy="3527280"/>
          </a:xfrm>
          <a:prstGeom prst="rect">
            <a:avLst/>
          </a:prstGeom>
          <a:solidFill>
            <a:srgbClr val="ffffff">
              <a:alpha val="52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子路问怎样做才是一个完美的人。孔子说：“如果具有臧武仲的智慧，孟公绰的克制，卞庄子的勇敢，冉求那样多才多艺，再用礼乐加以修饰，也就可以算是一个完人了。”孔子又说：“现在的完人何必一定要这样呢？见到财利想到义的要求，遇到危险能献出生命，长久处于穷困还不忘平日的诺言，这样也可以成为一位完美的人。”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360" y="260280"/>
            <a:ext cx="7272360" cy="6191280"/>
          </a:xfrm>
          <a:prstGeom prst="rect">
            <a:avLst/>
          </a:prstGeom>
          <a:solidFill>
            <a:srgbClr val="ccff99">
              <a:alpha val="45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章谈人格完善的问题。孔子认为，具备完善人格的人，应当富有智慧、克制、勇敢、多才多艺和礼乐修饰。谈到这里，孔子还认为，有完善人格的人，应当做到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见利见危和久居贫困的时候，能够思义、授命、不忘平生之言，这样做就符合于义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尤其是本章提出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见利思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的主张，即遇到有利可图的事情，要考虑是否符合义，不义则不为。这句话对后世产生了极大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孔子认为的君子不是不食人间烟火的，他也知道一个人不可能具有那麽多的美好品德，所以孔子提出君子，完人是要能够先满足精神再满足物质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565800">
            <a:off x="7079760" y="4227480"/>
            <a:ext cx="1884600" cy="2521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5155560"/>
            <a:ext cx="6481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03280" y="620280"/>
            <a:ext cx="5940360" cy="5040360"/>
          </a:xfrm>
          <a:prstGeom prst="rect">
            <a:avLst/>
          </a:prstGeom>
          <a:solidFill>
            <a:srgbClr val="ffff99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两种东西，我对它们的思考越是深沉和持久，它们在我心灵中唤起的惊奇和敬畏就会日新月异，不断增长，这就是我头上的星空和心中的道德定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康德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2625840" cy="3622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84720" y="333360"/>
            <a:ext cx="4678200" cy="6048360"/>
          </a:xfrm>
          <a:prstGeom prst="rect">
            <a:avLst/>
          </a:prstGeom>
          <a:solidFill>
            <a:srgbClr val="ffffff">
              <a:alpha val="17000"/>
            </a:srgbClr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君子有九种要思考的事：看的时候，要思考看清与否；听的时候，要思考是否听清楚；自己的脸色，要思考是否温和，容貌要思考是否谦恭；言谈的时候，要思考是否忠诚；办事要思考是否谨慎严肃；遇到疑问，要思考是否应该向别人询问；忿怒时，要思考是否有后患，获取财利时，要思考是否合乎义的准则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907560"/>
            <a:ext cx="360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曰：“君子有九思：视思明，听思聪，色思温，貌思恭，言思忠，事思敬，疑思问，忿思难，见得思义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1871640" cy="2370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189000"/>
            <a:ext cx="5472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章通过孔子所谈的“君子有九思”，把人的言行举止的各个方面都考虑到了，他要求自己和学生们一言一行都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认真思考和自我反省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里包括个人道德修养的各种规范，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温、良、恭、俭、让、忠、孝、仁、义、礼、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等，所有这些，是孔子关于道德修养学说的组成部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51640" y="476280"/>
            <a:ext cx="3348000" cy="4979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964720" cy="1150920"/>
          </a:xfrm>
          <a:prstGeom prst="rect">
            <a:avLst/>
          </a:prstGeom>
          <a:solidFill>
            <a:srgbClr val="ccffff">
              <a:alpha val="18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孔子所谈的“君子有九思”，是对君子的“赞赏”还是“要求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458080"/>
            <a:ext cx="8496000" cy="5814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应该是要求。一言一行都要认真思考和自我反省，这里包括个人道德修养的各种规范，如温、良、恭、俭、让、忠、孝、仁、义、礼、智等等，所有这些，是孔子关于道德修养学说的组成部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8642160" cy="2637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23640" y="692280"/>
            <a:ext cx="6119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子曰：“君子之于天下也，无适也，无莫也，义之与比。”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14318" t="0" r="14318" b="0"/>
          <a:stretch/>
        </p:blipFill>
        <p:spPr>
          <a:xfrm>
            <a:off x="250920" y="4797360"/>
            <a:ext cx="1136520" cy="1771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2924280"/>
            <a:ext cx="6624720" cy="194472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君子对于天下的人和事，没有固定的厚薄亲疏，只是按照义去做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14318" t="0" r="14318" b="0"/>
          <a:stretch/>
        </p:blipFill>
        <p:spPr>
          <a:xfrm>
            <a:off x="250920" y="4869000"/>
            <a:ext cx="113652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333360"/>
            <a:ext cx="54007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一章里孔子提出对君子要求的基本点之一：“义之与比。”有高尚人格的君子为人公正、友善，处世严肃灵活，不会厚此薄彼。本章谈论的仍是个人的道德修养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0920" y="692280"/>
            <a:ext cx="66261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德之不修，学之不讲，闻义不能徙，不善不能改，是吾忧也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979880"/>
            <a:ext cx="3132000" cy="1878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2276640"/>
            <a:ext cx="6769080" cy="2376360"/>
          </a:xfrm>
          <a:prstGeom prst="rect">
            <a:avLst/>
          </a:prstGeom>
          <a:solidFill>
            <a:srgbClr val="ffffff">
              <a:alpha val="45000"/>
            </a:srgbClr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（许多人）对品德不去修养，学问不去讲求，听到义不能去做，有了不善的事不能改正，这些都是我所忧虑的事情。”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47040" y="0"/>
            <a:ext cx="249696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920" y="115920"/>
            <a:ext cx="6192720" cy="61214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春秋末年，天下大乱。孔子慨叹世人不能自见其过而自责，对此，他万分忧虑。他把道德修养、读书学习和知错即改三个方面的问题相提并论，在他看来，三者之间也有内在联系，因为进行道德修养和学习各种知识，最重要的就是要能够及时改正自己的过失或“不善”，只有这样，修养才可以完善，知识才可以丰富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557000"/>
            <a:ext cx="6481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路曰：“君子尚勇乎？”子曰：“君子义以为上。君子有勇而无义为乱，小人有勇而无义为盗。”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12000" y="544500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3141720"/>
            <a:ext cx="7705800" cy="1728720"/>
          </a:xfrm>
          <a:prstGeom prst="rect">
            <a:avLst/>
          </a:prstGeom>
          <a:solidFill>
            <a:srgbClr val="ccffcc">
              <a:alpha val="38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路说：“君子崇尚勇敢吗？”孔子答道：“君子以义作为最高尚的品德，君子有勇无义就会作乱，小人有勇无义就会偷盗。”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49160" y="27720"/>
            <a:ext cx="2289960" cy="70344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三、“义”和“勇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6640"/>
            <a:ext cx="1332000" cy="581400"/>
          </a:xfrm>
          <a:prstGeom prst="rect">
            <a:avLst/>
          </a:prstGeom>
          <a:solidFill>
            <a:srgbClr val="00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640" y="259920"/>
            <a:ext cx="7561440" cy="3025800"/>
          </a:xfrm>
          <a:prstGeom prst="rect">
            <a:avLst/>
          </a:prstGeom>
          <a:solidFill>
            <a:srgbClr val="ccffcc">
              <a:alpha val="34000"/>
            </a:srgbClr>
          </a:solidFill>
          <a:ln w="5724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二章里孔子提出对君子要求的基本点之一：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义之与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义以为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”有高尚人格的君子处世严肃灵活，不会厚此薄彼。谈论的仍是个人的道德修养问题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784836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8000" y="1052640"/>
            <a:ext cx="6408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子曰：“非其鬼而祭之；谄也。见义不为，无勇也。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14318" t="0" r="14318" b="0"/>
          <a:stretch/>
        </p:blipFill>
        <p:spPr>
          <a:xfrm>
            <a:off x="324000" y="5014800"/>
            <a:ext cx="1182600" cy="1843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2997360"/>
            <a:ext cx="7129440" cy="2016000"/>
          </a:xfrm>
          <a:prstGeom prst="rect">
            <a:avLst/>
          </a:prstGeom>
          <a:solidFill>
            <a:srgbClr val="ffffff">
              <a:alpha val="55000"/>
            </a:srgbClr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孔子说：“不是你应该祭的鬼神，你却去祭它，这就是谄媚。见到应该挺身而出的事情，却袖手旁观，就是怯懦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1476360" cy="581400"/>
          </a:xfrm>
          <a:prstGeom prst="rect">
            <a:avLst/>
          </a:prstGeom>
          <a:solidFill>
            <a:srgbClr val="00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635280" y="404640"/>
            <a:ext cx="5127840" cy="56167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管时代潮流和社会风尚怎样，人总是可以凭着自己的高贵品质，超脱时代和社会，走自己的正确道路。现在，许多人都为冰箱、汽车、房子而奔波、追逐、竞争。但是，也有不少人不追求这些物质的东西，他们追求理想和真理，得到了内心的自由和安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95280" y="189000"/>
            <a:ext cx="5689440" cy="5904000"/>
          </a:xfrm>
          <a:prstGeom prst="rect">
            <a:avLst/>
          </a:prstGeom>
          <a:solidFill>
            <a:srgbClr val="ffffff">
              <a:alpha val="58000"/>
            </a:srgbClr>
          </a:solidFill>
          <a:ln w="5724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本章中，孔子又提出“义”和“勇”的概念，这都是儒家有关塑造高尚人格的规范。《论语集解》注：义，所宜为。符合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仁、礼要求的，就是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“勇”，就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果敢，勇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孔子把“勇”作为实行“仁”的条件之一，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勇”，必须符合“仁、义、礼、智”，才算是勇，否则就是“乱”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205680" y="0"/>
            <a:ext cx="293832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446436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见义不为，无勇也。”所以，君子应当见义而为。又说：“仁者必有勇，勇者未必有仁。”也就是说，具有仁义德性的人，必定有勇。勇于什么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勇于仁，勇于义。但有勇的人却不一定具有仁义的德性，因为有些所谓勇者，只是勇于做坏事，为非作歹，或者只是不问青红皂白的勇。所以孔子强调说：“君子以义为上。君子有勇而无义为乱，小人有勇而无义为盗。”君子应始终把义作为至高无上的准则。如果只是有勇而无义，就会犯上作乱。只有把义与勇相融相合，统为一体才能真正做到见义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5013360"/>
            <a:ext cx="8496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由此，我们可以看出，义与勇的关系其实像马车与马车夫，马车可以跑得飞快，但没有车夫掌握方向就会迷路，义是勇的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3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3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总  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80000" y="1268280"/>
            <a:ext cx="5256000" cy="499752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章谈论的是关于“义”的思考，“义之与比”“义以为上 ”有高尚人格的君子处世严肃灵活，不会厚此薄彼。符合于仁、礼要求的，就是义。“勇”，就是果敢，勇敢。孔子把“勇”作为实行“仁”的条件之一，“勇”，必须符合“仁、义、礼、智”，才算是勇，否则就是“乱”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351792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5976720" cy="518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仁”是《论语》中出现频率最高的词之一。一次孔子说“克己复礼为仁”，一次孔子说“仁者爱人”。把这两个定义联系起来，可以把孔子的意思理解成为：加强自身修养，恢复（保持或服从）礼的要求，在礼的原则内，真心地关心别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仁”是内心思想，“义”是符合“仁”的行为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《论语》中，“仁”和“义”有时可以互通。在《论语》中，“富贵”常被简称为“利”。“仁义”和“富贵”的关系问题也是他的学生们最关心的问题之一，因而也是孔子多次论述的问题。先看看孔子这方面的论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624720" y="44280"/>
            <a:ext cx="2519280" cy="6813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12520" y="0"/>
            <a:ext cx="2527560" cy="7642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一、仁义和富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4810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富而可求也；虽执鞭之士，吾亦为之。如不可求，从吾所好。”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179280" y="5084640"/>
            <a:ext cx="1044720" cy="1627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05480" y="0"/>
            <a:ext cx="2738520" cy="3736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3492720"/>
            <a:ext cx="7561440" cy="642600"/>
          </a:xfrm>
          <a:prstGeom prst="rect">
            <a:avLst/>
          </a:prstGeom>
          <a:solidFill>
            <a:srgbClr val="ffffff">
              <a:alpha val="63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如果富贵合乎于道就可以去追求，虽然是给人执鞭的下等差事，我也愿意去做。如果富贵不合于道就不必去追求，那就还是按我的爱好去干事。”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0920" y="115920"/>
            <a:ext cx="5184720" cy="6192720"/>
          </a:xfrm>
          <a:prstGeom prst="rect">
            <a:avLst/>
          </a:prstGeom>
          <a:solidFill>
            <a:srgbClr val="ffffff">
              <a:alpha val="45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在这里又提到富贵与道的关系问题。只要合乎于道，富贵就可以去追求；不合乎于道，富贵就不能去追求。那么，他就去做自己喜欢做的事情。从此处可以看到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孔子不反对做官，不反对发财，但必须符合于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是原则问题，孔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明自己不会违背原则去追求富贵荣华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73000">
            <a:off x="5866920" y="2060280"/>
            <a:ext cx="2779920" cy="3784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692280"/>
            <a:ext cx="6408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</a:rPr>
              <a:t> 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曰：“饭疏食饮水，曲肱而枕之，乐亦在其中矣。不义而富且贵，于我如浮云。”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14318" t="0" r="14318" b="0"/>
          <a:stretch/>
        </p:blipFill>
        <p:spPr>
          <a:xfrm>
            <a:off x="324000" y="5229360"/>
            <a:ext cx="1371600" cy="1628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2421000"/>
            <a:ext cx="6697440" cy="1556280"/>
          </a:xfrm>
          <a:prstGeom prst="rect">
            <a:avLst/>
          </a:prstGeom>
          <a:solidFill>
            <a:srgbClr val="ffffff">
              <a:alpha val="48000"/>
            </a:srgbClr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  <a:ea typeface="黑体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 孔子说：“吃粗粮，喝白水，弯着胳膊当枕头，乐趣也就在这中间了。用不正当的手段得来的富贵，对于我来讲就像是天上的浮云一样。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340000" y="189000"/>
            <a:ext cx="6624720" cy="6408720"/>
          </a:xfrm>
          <a:prstGeom prst="rect">
            <a:avLst/>
          </a:prstGeom>
          <a:solidFill>
            <a:srgbClr val="ccffff">
              <a:alpha val="38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极力提倡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安贫乐道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认为有理想、有志向的君子，不会总是为自己的吃穿住而奔波的，“饭疏食饮水，曲肱而枕之”，对于有理想的人来讲，可以说是乐在其中。同时，他还提出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符合于道的富贵荣华，他是坚决不予接受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对待这些东西，如天上的浮云一般。这种思想深深影响了古代的知识分子，也为一般老百姓所接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198252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8000" y="620280"/>
            <a:ext cx="5976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曰：“富与贵，是人之所欲也，不以其道得之，不处也；贫与贱，是人之所恶也，不以其道得之，不去也。君子去仁，恶乎成名？君子无终食之间违仁，造次必于是，颠沛必于是。”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381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4000" y="3213000"/>
            <a:ext cx="8064360" cy="3095640"/>
          </a:xfrm>
          <a:prstGeom prst="rect">
            <a:avLst/>
          </a:prstGeom>
          <a:solidFill>
            <a:srgbClr val="ffff99">
              <a:alpha val="40000"/>
            </a:srgbClr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富裕和显贵是人人都想要得到的，但不以正当的方法得到的，就不要去享受它；贫穷与低贱是人人都厌恶的，但不用正当的方法去摆脱它，就不会摆脱的。君子如果离开了仁德，又怎么能叫君子呢？君子没有一顿饭的时间背离仁德的，就是在最紧迫的时刻也必须按照仁德办事，就是在颠沛流离的时候，也一定会按仁德去办事的。”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2:06:55Z</dcterms:created>
  <dc:creator/>
  <dc:description/>
  <dc:language>en-US</dc:language>
  <cp:lastModifiedBy>zmj</cp:lastModifiedBy>
  <dcterms:modified xsi:type="dcterms:W3CDTF">2012-03-03T12:16:27Z</dcterms:modified>
  <cp:revision>19</cp:revision>
  <dc:subject/>
  <dc:title>幻灯片 1</dc:title>
</cp:coreProperties>
</file>