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132B-8F96-45A8-8725-C8083F38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847D-0CA7-4036-866D-70F8CC5F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91DA-D998-41EC-8A10-AEFEE01D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9CFB-1508-4D0E-8584-5C6D7B59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7712-5D8D-4CA4-AE20-7E3DED1F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71D8-CB8E-45F6-9AE1-32AC5A9A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4563-B2C8-462D-A660-4B1E20D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6734-10B7-4E8B-B455-BD6E6054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F1D1-2645-46BA-BC57-A0B84973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4BF6-5888-4324-B38C-20D2182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303F-C75F-48D9-B198-32AA9D5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F198-676F-44E8-A00D-0BB7D028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0D19-653F-4987-A474-66A9B0DF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E063-1948-4251-8C27-808D209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E84A-1B72-44F9-8CF4-B3C8349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178C-DA7E-4DEA-85E0-44D3BDF6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FDE7-61E6-491C-A53B-154F24F7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0D00-8A14-4AB9-98EC-6F19BBB4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70D6-1D7F-4265-98E7-D67DD528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AD48-E38A-479D-9D41-A0801EBC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6183-63F0-4648-B726-B8F3F2B0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2746-CED4-4614-9504-107CC11E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CD50-82AB-460D-90B7-0DC54235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FD2B-6476-44C1-993B-5E6729F2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6D57-A60E-4DBF-9D91-A8F0EDE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3D43-D663-4CFB-8AB5-BF9203E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9A7A-FE7C-4530-8DD9-816B7916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8866-5002-4049-B369-237C8D20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9EF04-0515-44EB-9C2D-1AFE561E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DFD4-8891-4506-996E-0AD7439D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3A6C-914F-419D-90E9-DA1ECA1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27DB-BBDF-40AC-AFE8-D049CF6C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DC08-93DC-4E6F-93E1-EC3087E8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71BB-BBE4-453D-9B4F-0F5D69A4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BD8F-F97B-4B6D-97E9-B3902AF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9648-882D-49AC-97BC-79CD316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F1A3-95BC-4F70-AF85-756695218D0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组合 62467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矩形 62468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矩形 62469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矩形 62470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矩形 62471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矩形 62472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矩形 6247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矩形 62474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矩形 62475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矩形 62476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DA56-CB88-4E97-9D1C-65B66230A4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75782" descr="pic_01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6348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矩形 63490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6349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组合 6349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7" name="矩形 63493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63494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63495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63496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63497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63498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63499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矩形 63500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矩形 6350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502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BDA5-F491-44E1-AB58-7AE4DF771A51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7169" descr="孔子头像 副本"/>
          <p:cNvPicPr/>
          <p:nvPr/>
        </p:nvPicPr>
        <p:blipFill>
          <a:blip r:embed="rId1"/>
          <a:stretch/>
        </p:blipFill>
        <p:spPr>
          <a:xfrm>
            <a:off x="324000" y="54936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7170" descr="印章02"/>
          <p:cNvPicPr/>
          <p:nvPr/>
        </p:nvPicPr>
        <p:blipFill>
          <a:blip r:embed="rId2"/>
          <a:srcRect l="0" t="15800" r="11103" b="21151"/>
          <a:stretch/>
        </p:blipFill>
        <p:spPr>
          <a:xfrm>
            <a:off x="263520" y="3657600"/>
            <a:ext cx="2568600" cy="3187800"/>
          </a:xfrm>
          <a:prstGeom prst="rect">
            <a:avLst/>
          </a:prstGeom>
          <a:ln w="0">
            <a:noFill/>
          </a:ln>
        </p:spPr>
      </p:pic>
      <p:sp>
        <p:nvSpPr>
          <p:cNvPr id="150" name="矩形 7173"/>
          <p:cNvSpPr/>
          <p:nvPr/>
        </p:nvSpPr>
        <p:spPr>
          <a:xfrm>
            <a:off x="2443320" y="1171440"/>
            <a:ext cx="6659280" cy="2735280"/>
          </a:xfrm>
          <a:prstGeom prst="rect">
            <a:avLst/>
          </a:prstGeom>
          <a:solidFill>
            <a:srgbClr val="ebebf5"/>
          </a:solidFill>
          <a:ln w="9360">
            <a:solidFill>
              <a:srgbClr val="0000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ff0000"/>
                </a:solidFill>
                <a:latin typeface="Arial"/>
              </a:rPr>
              <a:t>不义而富且贵</a:t>
            </a:r>
            <a:r>
              <a:rPr b="1" lang="en-US" sz="77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7700" spc="-1" strike="noStrike">
                <a:solidFill>
                  <a:srgbClr val="ff0000"/>
                </a:solidFill>
                <a:latin typeface="Arial"/>
              </a:rPr>
              <a:t>于我如浮云 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7175" descr="chema"/>
          <p:cNvPicPr/>
          <p:nvPr/>
        </p:nvPicPr>
        <p:blipFill>
          <a:blip r:embed="rId3"/>
          <a:stretch/>
        </p:blipFill>
        <p:spPr>
          <a:xfrm>
            <a:off x="6521400" y="463860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"/>
          <p:cNvSpPr/>
          <p:nvPr/>
        </p:nvSpPr>
        <p:spPr>
          <a:xfrm>
            <a:off x="3906720" y="5095800"/>
            <a:ext cx="16131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朔城区一中       李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1920" y="177840"/>
            <a:ext cx="6696360" cy="6294240"/>
          </a:xfrm>
          <a:prstGeom prst="rect">
            <a:avLst/>
          </a:prstGeom>
          <a:solidFill>
            <a:srgbClr val="e7e7f1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 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孔子在这里又提到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富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关系问题。只要合乎于道，富贵就可以去追求；不合乎于道，富贵就不能去追求。那么，他就去做自己喜欢做的事情。从此处可以看到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孔子不反对做官，不反对发财，但必须符合于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这是原则问题，孔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明自己不会违背原则去追求富贵荣华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9219" descr="孔子头像 副本"/>
          <p:cNvPicPr/>
          <p:nvPr/>
        </p:nvPicPr>
        <p:blipFill>
          <a:blip r:embed="rId1"/>
          <a:stretch/>
        </p:blipFill>
        <p:spPr>
          <a:xfrm>
            <a:off x="6372360" y="0"/>
            <a:ext cx="2916000" cy="39798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220" descr="chema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78920" y="163440"/>
            <a:ext cx="8729640" cy="172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en-US" sz="3600" spc="-1" strike="noStrike">
                <a:solidFill>
                  <a:srgbClr val="00007d"/>
                </a:solidFill>
                <a:latin typeface="黑体"/>
                <a:ea typeface="黑体"/>
              </a:rPr>
              <a:t>  </a:t>
            </a:r>
            <a:r>
              <a:rPr b="1" lang="zh-CN" sz="3600" spc="-1" strike="noStrike">
                <a:solidFill>
                  <a:srgbClr val="00007d"/>
                </a:solidFill>
                <a:latin typeface="黑体"/>
                <a:ea typeface="黑体"/>
              </a:rPr>
              <a:t>子曰：“饭疏食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黑体"/>
                <a:ea typeface="黑体"/>
              </a:rPr>
              <a:t>饮水，曲肱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7d"/>
                </a:solidFill>
                <a:latin typeface="黑体"/>
                <a:ea typeface="黑体"/>
              </a:rPr>
              <a:t>而枕之，乐亦在其中矣。不义而富且贵，于我如浮云。”</a:t>
            </a:r>
            <a:r>
              <a:rPr b="1" lang="en-US" sz="3600" spc="-1" strike="noStrike">
                <a:solidFill>
                  <a:srgbClr val="00007d"/>
                </a:solidFill>
                <a:latin typeface="黑体"/>
                <a:ea typeface="黑体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291"/>
          <p:cNvSpPr/>
          <p:nvPr/>
        </p:nvSpPr>
        <p:spPr>
          <a:xfrm>
            <a:off x="179280" y="1892160"/>
            <a:ext cx="87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疏食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里是“吃”的意思，作动词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疏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粗粮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曲肱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音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ｎｇ，胳膊，由肩至肘的部位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曲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弯着胳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2293"/>
          <p:cNvSpPr/>
          <p:nvPr/>
        </p:nvSpPr>
        <p:spPr>
          <a:xfrm>
            <a:off x="179280" y="4444920"/>
            <a:ext cx="8869320" cy="1068840"/>
          </a:xfrm>
          <a:prstGeom prst="rect">
            <a:avLst/>
          </a:prstGeom>
          <a:solidFill>
            <a:srgbClr val="e7e7f1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吃粗粮，喝白水，弯着胳膊当枕头，乐趣也就在这中间了。用不正当的手段得来的富贵，对于我来讲就像是天上的浮云一样。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15560" y="549360"/>
            <a:ext cx="8901000" cy="59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孔子极力提倡“安贫乐道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认为有理想、有志向的君子，不会总是为自己的吃穿住而奔波的，“饭疏食饮水，曲肱而枕之”，对于有理想的人来讲，可以说是乐在其中。同时，他还提出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符合于道的富贵荣华，他是坚决不予接受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对待这些东西，如天上的浮云一般。这种思想深深影响了古代的知识分子，也为一般老百姓所接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47680" y="196560"/>
            <a:ext cx="8718480" cy="650556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 </a:t>
            </a:r>
            <a:r>
              <a:rPr b="1" lang="en-US" sz="3200" spc="-1" strike="noStrike">
                <a:solidFill>
                  <a:srgbClr val="00007d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7d"/>
                </a:solidFill>
                <a:latin typeface="黑体"/>
                <a:ea typeface="黑体"/>
              </a:rPr>
              <a:t>子曰：“富与贵，是人之所欲也，不以其道得之，不处也；贫与贱，是人之所恶也，不以其道得之，不去也。君子去仁，恶乎成名？君子无终食之间违仁，造次必于是，颠沛必于是。”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富裕和显贵是人人都想要得到的，但不以正当的方法得到的，就不要去享受它；贫穷与低贱是人人都厌恶的，但不用正当的方法去摆脱它，就不会摆脱的。君子如果离开了仁德，又怎么能叫君子呢？君子没有一顿饭的时间背离仁德的，就是在最紧迫的时刻也必须按照仁德办事，就是在颠沛流离的时候，也一定会按仁德去办事的。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的一个学生，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子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一次，吴越大军隆冬远征北方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吴王夫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征丝棉，造成丝棉紧缺，价格走高。子贡抓住商机，从各国低价收购，然后到吴国高价贩卖，被抢购一空。还有记载，他是依靠智商生财。子贡预测市场凭的是智商，使其经商获得了空前成功。为追忆先师，他用木头雕刻孔子像，诸侯将相前来祭拜时，都想用重金请一尊雕像。子贡从中看准商机，就招募专业工匠批量生产，回报颇丰。此外，他还跨国经营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载，子贡很善于贱买贵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贡好废举，与时转货资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曹国和鲁国之间做生意“鬻财于曹、鲁之间”。他发现各国王侯贵族以佩戴珠宝为时尚，他就专门生产贵重配饰跨国营销，赢得收益。子贡到各国做买卖需要进见诸侯时，各国的君主都以平等的礼节来会见他，这足以说明他的生意做得很大，已是春秋时代的商界巨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8611"/>
          <p:cNvSpPr/>
          <p:nvPr/>
        </p:nvSpPr>
        <p:spPr>
          <a:xfrm>
            <a:off x="144360" y="439560"/>
            <a:ext cx="8820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世称子贡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儒商第一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儒商亦儒亦商，即信守儒家思想的商人。孔子开创了儒学，其门下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七十子徒，赐最为饶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仲尼弟子列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可见在中国历史上，既是学者同时又是富翁的，应当首推子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能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求和谐、诚信为本、崇仁立德、义利兼顾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，就是仁义。在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论语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中多处记载着子贡与孔子探讨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”的问题。他深知“信”乃立足之本，没有了“信”，一切都不可能存在，极力奉行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言必信、行必果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”。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言九鼎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”，使他在经商中赢得了很好的信誉，立于不败之地。他还敢为人先，把握商道规律，义中取利的正确义利观和适应市场的能力，达到了“义利双赢”的经商最高境界。所谓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君子爱财，取之有道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7840" y="322200"/>
            <a:ext cx="8788320" cy="6323040"/>
          </a:xfrm>
          <a:prstGeom prst="rect">
            <a:avLst/>
          </a:prstGeom>
          <a:solidFill>
            <a:srgbClr val="e7e7f1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一段，反映了孔子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理欲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以往的孔子研究中往往忽略了这一段内容，似乎孔子主张人们只要仁、义，不要利、欲。事实上并非如此。任何人都不会甘愿过贫穷困顿、流离失所的生活，都希望得到富贵安逸。但这必须通过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正当的手段和途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去获取。否则宁守清贫而不去享受富贵。这种观念在今天仍有其不可低估的价值。这一章值得研究者们仔细推敲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9320" y="406080"/>
            <a:ext cx="6265800" cy="439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spcBef>
                <a:spcPts val="3376"/>
              </a:spcBef>
              <a:spcAft>
                <a:spcPts val="33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义与君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孔子关于君子的论述很多，他的学生也经常问什么样的人才是君子，孔子做了很多回答，但是始终包含一个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”字。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70659" descr="孔子头像 副本"/>
          <p:cNvPicPr/>
          <p:nvPr/>
        </p:nvPicPr>
        <p:blipFill>
          <a:blip r:embed="rId1"/>
          <a:stretch/>
        </p:blipFill>
        <p:spPr>
          <a:xfrm>
            <a:off x="644364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0660" descr="chema"/>
          <p:cNvPicPr/>
          <p:nvPr/>
        </p:nvPicPr>
        <p:blipFill>
          <a:blip r:embed="rId2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70661" descr="印章03"/>
          <p:cNvPicPr/>
          <p:nvPr/>
        </p:nvPicPr>
        <p:blipFill>
          <a:blip r:embed="rId3"/>
          <a:srcRect l="14318" t="0" r="14318" b="0"/>
          <a:stretch/>
        </p:blipFill>
        <p:spPr>
          <a:xfrm>
            <a:off x="179280" y="4680000"/>
            <a:ext cx="12304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07640" y="120240"/>
            <a:ext cx="8948520" cy="23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 </a:t>
            </a:r>
            <a:r>
              <a:rPr b="1" lang="en-US" sz="2800" spc="-1" strike="noStrike">
                <a:solidFill>
                  <a:srgbClr val="00007d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7d"/>
                </a:solidFill>
                <a:latin typeface="黑体"/>
                <a:ea typeface="黑体"/>
              </a:rPr>
              <a:t>子问公叔文子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7d"/>
                </a:solidFill>
                <a:latin typeface="黑体"/>
                <a:ea typeface="黑体"/>
              </a:rPr>
              <a:t>于公明贾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7d"/>
                </a:solidFill>
                <a:latin typeface="黑体"/>
                <a:ea typeface="黑体"/>
              </a:rPr>
              <a:t>曰：“信乎，夫子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7d"/>
                </a:solidFill>
                <a:latin typeface="黑体"/>
                <a:ea typeface="黑体"/>
              </a:rPr>
              <a:t>不言，不笑，不取乎？”公明贾对曰：“以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7d"/>
                </a:solidFill>
                <a:latin typeface="黑体"/>
                <a:ea typeface="黑体"/>
              </a:rPr>
              <a:t>告者过也。夫子时然后言，人不厌其言；乐然后笑，人不厌其笑；义然后取，人不厌其取。”子曰：“其然？岂其然乎？”</a:t>
            </a:r>
            <a:r>
              <a:rPr b="1" lang="en-US" sz="2800" spc="-1" strike="noStrike">
                <a:solidFill>
                  <a:srgbClr val="00007d"/>
                </a:solidFill>
                <a:latin typeface="黑体"/>
                <a:ea typeface="黑体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242"/>
          <p:cNvSpPr/>
          <p:nvPr/>
        </p:nvSpPr>
        <p:spPr>
          <a:xfrm>
            <a:off x="108000" y="2608200"/>
            <a:ext cx="8948520" cy="2059920"/>
          </a:xfrm>
          <a:prstGeom prst="rect">
            <a:avLst/>
          </a:prstGeom>
          <a:solidFill>
            <a:srgbClr val="f7fc7e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注释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公叔之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卫国大夫公孙拔，卫献公之子。谥号“文”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公明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姓公明字贾。卫国人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夫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文中指公叔文子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4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此处是“这个”的意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孔子向公明贾问到公叔文子，说：“先生他不说、不笑、不取钱财，是真的吗？”公明贾回答道：“这是告诉你话的那个人的过错。先生他到该说时才说，因此别人不厌恶他说话；快乐时才笑，因此别人不厌恶他笑；合于礼要求的财利他才取，因此别人不厌恶他取。”孔子说：“原来这样，难道真是这样吗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44035"/>
          <p:cNvSpPr/>
          <p:nvPr/>
        </p:nvSpPr>
        <p:spPr>
          <a:xfrm>
            <a:off x="-903240" y="677880"/>
            <a:ext cx="655308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44036" descr="chema"/>
          <p:cNvPicPr/>
          <p:nvPr/>
        </p:nvPicPr>
        <p:blipFill>
          <a:blip r:embed="rId1"/>
          <a:stretch/>
        </p:blipFill>
        <p:spPr>
          <a:xfrm>
            <a:off x="6562800" y="497988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44037" descr="孔子头像 副本"/>
          <p:cNvPicPr/>
          <p:nvPr/>
        </p:nvPicPr>
        <p:blipFill>
          <a:blip r:embed="rId2"/>
          <a:stretch/>
        </p:blipFill>
        <p:spPr>
          <a:xfrm>
            <a:off x="663588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4038"/>
          <p:cNvSpPr/>
          <p:nvPr/>
        </p:nvSpPr>
        <p:spPr>
          <a:xfrm>
            <a:off x="179280" y="190440"/>
            <a:ext cx="6802560" cy="570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孔子在这里通过评价公叔文子，进一步阐释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义然后取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”的思想，只要合乎于义、礼，公叔文子并非不说、不笑、不取钱财。这就是有高尚人格者之所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对象 44039" descr=""/>
          <p:cNvPicPr/>
          <p:nvPr/>
        </p:nvPicPr>
        <p:blipFill>
          <a:blip r:embed="rId3"/>
          <a:stretch/>
        </p:blipFill>
        <p:spPr>
          <a:xfrm>
            <a:off x="179280" y="4695840"/>
            <a:ext cx="17146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79280" y="128520"/>
            <a:ext cx="8785440" cy="668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7d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义</a:t>
            </a:r>
            <a:r>
              <a:rPr b="1" lang="zh-CN" sz="2800" spc="-1" strike="noStrike">
                <a:solidFill>
                  <a:srgbClr val="00007d"/>
                </a:solidFill>
                <a:latin typeface="黑体"/>
                <a:ea typeface="黑体"/>
              </a:rPr>
              <a:t>” 不仅仅是君子的行为规范，他也为君子带来好的社会影响。就像这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公叔文子</a:t>
            </a:r>
            <a:r>
              <a:rPr b="1" lang="zh-CN" sz="2800" spc="-1" strike="noStrike">
                <a:solidFill>
                  <a:srgbClr val="00007d"/>
                </a:solidFill>
                <a:latin typeface="黑体"/>
                <a:ea typeface="黑体"/>
              </a:rPr>
              <a:t>，该取时才取，人不厌其取。这就是“义”对于君子的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义而取往往带来灾祸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朝时，有个人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陶答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他在陶城做官三年，名声并不怎么好，但他的家产财富却翻了三倍。他的妻子劝他说：“没有能力而做大官，这是祸害；没有功劳而家昌盛，这是积灾。现在你只贪求富贵越来越多。我听说南山有玄豹，在雾雨中隐藏七天而不下来觅食，为什么呢？它是想润泽皮毛长成斑纹，为的是能够隐藏自己躲避祸害。猪不择食长得肥壮了，就会被杀掉。现在你不修德而家越来越富有，灾祸就要到了。”陶答子没有听妻子的话，反而将其赶出家门。结果仅过了一年，陶答子就因事发被处以死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46160" y="552600"/>
            <a:ext cx="4892760" cy="594360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有两种东西，我对它们的思考越是深沉和持久，它们在我心灵中唤起的惊奇和敬畏就会日新月异，不断增长，这就是我头上的星空和心中的道德定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           </a:t>
            </a:r>
            <a:r>
              <a:rPr b="1" lang="en-US" sz="3600" spc="-1" strike="noStrike">
                <a:solidFill>
                  <a:srgbClr val="660033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康德</a:t>
            </a:r>
            <a:r>
              <a:rPr b="0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81922" descr="康德"/>
          <p:cNvPicPr/>
          <p:nvPr/>
        </p:nvPicPr>
        <p:blipFill>
          <a:blip r:embed="rId1"/>
          <a:stretch/>
        </p:blipFill>
        <p:spPr>
          <a:xfrm>
            <a:off x="162000" y="1181160"/>
            <a:ext cx="3259080" cy="4495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34720" y="423360"/>
            <a:ext cx="8646840" cy="6069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孔子认为，具备完善人格的人，应当富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智慧、克制、勇敢、多才多艺和礼乐修饰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。谈到这里，孔子还认为，有完善人格的人，应当做到在见利见危和久居贫困的时候，能够思义、授命、不忘平生之言，尤其是本章提出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见利思义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”的主张，即遇到有利可图的事情，要考虑是否符合义，不义则不为。这句话对后世产生了极大影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76320" y="72720"/>
            <a:ext cx="8991360" cy="17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7d"/>
                </a:solidFill>
                <a:latin typeface="黑体"/>
                <a:ea typeface="黑体"/>
              </a:rPr>
              <a:t>子路问成人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7d"/>
                </a:solidFill>
                <a:latin typeface="黑体"/>
                <a:ea typeface="黑体"/>
              </a:rPr>
              <a:t>。子曰：“若臧武仲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7d"/>
                </a:solidFill>
                <a:latin typeface="黑体"/>
                <a:ea typeface="黑体"/>
              </a:rPr>
              <a:t>之知，公绰之不欲，卞庄子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7d"/>
                </a:solidFill>
                <a:latin typeface="黑体"/>
                <a:ea typeface="黑体"/>
              </a:rPr>
              <a:t>之勇，冉求之艺，文之以礼乐，亦可以为成人矣。”曰：“今之成人者何必然？见利思义，见危授命，久要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7d"/>
                </a:solidFill>
                <a:latin typeface="黑体"/>
                <a:ea typeface="黑体"/>
              </a:rPr>
              <a:t>不忘平生之言，亦可以为成人矣。”</a:t>
            </a:r>
            <a:r>
              <a:rPr b="1" lang="en-US" sz="2400" spc="-1" strike="noStrike">
                <a:solidFill>
                  <a:srgbClr val="00007d"/>
                </a:solidFill>
                <a:latin typeface="黑体"/>
                <a:ea typeface="黑体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6389"/>
          <p:cNvSpPr/>
          <p:nvPr/>
        </p:nvSpPr>
        <p:spPr>
          <a:xfrm>
            <a:off x="76320" y="1876320"/>
            <a:ext cx="899136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注释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成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人格完备的完人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臧武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鲁国大夫臧孙纥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卞庄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鲁国卞邑大夫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久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长久处于穷困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子路问怎样做才是一个完美的人。孔子说：“如果具有臧武仲的智慧，孟公绰的克制，卞庄子的勇敢，冉求那样多才多艺，再用礼乐加以修饰，也就可以算是一个完人了。”孔子又说：“现在的完人何必一定要这样呢？见到财利想到义的要求，遇到危险能献出生命，长久处于穷困还不忘平日的诺言，这样也可以成为一位完美的人。”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-360" y="476280"/>
            <a:ext cx="6948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格完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问题。孔子认为，具备完善人格的人，应当富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智慧、克制、勇敢、多才多艺和礼乐修饰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到这里，孔子还认为，有完善人格的人，应当做到在见利见危和久居贫困的时候，能够思义、授命、不忘平生之言，这样做就符合于义。尤其是本章提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见利思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的主张，即遇到有利可图的事情，要考虑是否符合义，不义则不为。这句话对后世产生了极大影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18438" descr="孔子头像 副本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8439" descr="chema"/>
          <p:cNvPicPr/>
          <p:nvPr/>
        </p:nvPicPr>
        <p:blipFill>
          <a:blip r:embed="rId2"/>
          <a:stretch/>
        </p:blipFill>
        <p:spPr>
          <a:xfrm>
            <a:off x="6562800" y="479736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201" name="矩形 18440"/>
          <p:cNvSpPr/>
          <p:nvPr/>
        </p:nvSpPr>
        <p:spPr>
          <a:xfrm>
            <a:off x="233280" y="2898000"/>
            <a:ext cx="6481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孔子认为的君子不是不食人间烟火的，他也知道一个人不可能具有那麽多的美好品德，所以孔子提出的君子、完人是要能够先满足精神再满足物质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9466"/>
          <p:cNvSpPr/>
          <p:nvPr/>
        </p:nvSpPr>
        <p:spPr>
          <a:xfrm>
            <a:off x="3316320" y="109440"/>
            <a:ext cx="5670360" cy="62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君子有九种要思考的事：看的时候，要思考看清与否；听的时候，要思考是否听清楚；自己的脸色，要思考是否温和，容貌要思考是否谦恭；言谈的时候，要思考是否忠诚；办事要思考是否谨慎严肃；遇到疑问，要思考是否应该向别人询问；忿怒时，要思考是否有后患，获取财利时，要思考是否合乎义的准则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20880" y="109440"/>
            <a:ext cx="3335400" cy="5772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孔子曰：“君子有九思：视思明，听思聪，色思温，貌思恭，言思忠，事思敬，疑思问，忿思难，见得思义。”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内容占位符 19467" descr=""/>
          <p:cNvPicPr/>
          <p:nvPr/>
        </p:nvPicPr>
        <p:blipFill>
          <a:blip r:embed="rId1"/>
          <a:stretch/>
        </p:blipFill>
        <p:spPr>
          <a:xfrm>
            <a:off x="2103480" y="5381640"/>
            <a:ext cx="121140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691920"/>
            <a:ext cx="59738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通过孔子所谈的“君子有九思”，把人的言行举止的各个方面都考虑到了，他要求自己和学生们一言一行都要认真思考和自我反省，这里包括个人道德修养的各种规范，如温、良、恭、俭、让、忠、孝、仁、义、礼、智等等，所有这些，是孔子关于道德修养学说的组成部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20483" descr="孔子头像 副本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0484" descr="chema"/>
          <p:cNvPicPr/>
          <p:nvPr/>
        </p:nvPicPr>
        <p:blipFill>
          <a:blip r:embed="rId2"/>
          <a:stretch/>
        </p:blipFill>
        <p:spPr>
          <a:xfrm>
            <a:off x="6372360" y="472428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208" name="矩形 20485"/>
          <p:cNvSpPr/>
          <p:nvPr/>
        </p:nvSpPr>
        <p:spPr>
          <a:xfrm>
            <a:off x="539640" y="32778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应该是要求。一言一行都要认真思考和自我反省，这里包括个人道德修养的各种规范，如温、良、恭、俭、让、忠、孝、仁、义、礼、智等等，所有这些，是孔子关于道德修养学说的组成部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0486"/>
          <p:cNvSpPr/>
          <p:nvPr/>
        </p:nvSpPr>
        <p:spPr>
          <a:xfrm>
            <a:off x="468360" y="692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孔子所谈的“君子有九思”，是对君子的“赞赏”还是“要求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692280"/>
            <a:ext cx="5470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子曰：“君子之于天下也，无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也，无莫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也，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之与比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4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。”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21506" descr="孔子头像 副本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212" name="矩形 21508"/>
          <p:cNvSpPr/>
          <p:nvPr/>
        </p:nvSpPr>
        <p:spPr>
          <a:xfrm>
            <a:off x="2448000" y="3716280"/>
            <a:ext cx="66960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：音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意为亲近、厚待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莫：疏远、冷淡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：适宜、妥当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：亲近、相近、靠近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21509" descr="印章03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250920" y="4797360"/>
            <a:ext cx="1136520" cy="1771560"/>
          </a:xfrm>
          <a:prstGeom prst="rect">
            <a:avLst/>
          </a:prstGeom>
          <a:ln w="0">
            <a:noFill/>
          </a:ln>
        </p:spPr>
      </p:pic>
      <p:sp>
        <p:nvSpPr>
          <p:cNvPr id="214" name="矩形 21510"/>
          <p:cNvSpPr/>
          <p:nvPr/>
        </p:nvSpPr>
        <p:spPr>
          <a:xfrm>
            <a:off x="2484360" y="3906720"/>
            <a:ext cx="5472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君子对于天下的人和事，没有固定的厚薄亲疏，只是按照义去做。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2531" descr="孔子头像 副本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2532" descr="印章03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250920" y="4869000"/>
            <a:ext cx="1136520" cy="1771560"/>
          </a:xfrm>
          <a:prstGeom prst="rect">
            <a:avLst/>
          </a:prstGeom>
          <a:ln w="0">
            <a:noFill/>
          </a:ln>
        </p:spPr>
      </p:pic>
      <p:sp>
        <p:nvSpPr>
          <p:cNvPr id="217" name="矩形 22533"/>
          <p:cNvSpPr/>
          <p:nvPr/>
        </p:nvSpPr>
        <p:spPr>
          <a:xfrm>
            <a:off x="162000" y="593640"/>
            <a:ext cx="6311880" cy="18543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评析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章里孔子提出对君子要求的基本点之一：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义之与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”有高尚人格的君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人公正、友善，处世严肃灵活，不会厚此薄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本章谈论的仍是个人的道德修养问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22535" descr="chema"/>
          <p:cNvPicPr/>
          <p:nvPr/>
        </p:nvPicPr>
        <p:blipFill>
          <a:blip r:embed="rId3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65240" y="120240"/>
            <a:ext cx="640224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子曰：“德之不修，学之不讲，闻义不能徙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，不善不能改，是吾忧也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4578" descr="孔子头像 副本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221" name="矩形 24580"/>
          <p:cNvSpPr/>
          <p:nvPr/>
        </p:nvSpPr>
        <p:spPr>
          <a:xfrm>
            <a:off x="165240" y="2749680"/>
            <a:ext cx="88977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徙：音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迁移。此处指靠近义、做到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4581"/>
          <p:cNvSpPr/>
          <p:nvPr/>
        </p:nvSpPr>
        <p:spPr>
          <a:xfrm>
            <a:off x="165240" y="3979800"/>
            <a:ext cx="8715240" cy="2532240"/>
          </a:xfrm>
          <a:prstGeom prst="rect">
            <a:avLst/>
          </a:prstGeom>
          <a:solidFill>
            <a:srgbClr val="e7e7f1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（许多人）对品德不去修养，学问不去讲求，听到义不能去做，有了不善的事不能改正，这些都是我所忧虑的事情。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476280"/>
            <a:ext cx="6192720" cy="612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秋末年，天下大乱。孔子慨叹世人不能自见其过而自责，对此，他万分忧虑。他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道德修养、读书学习和知错即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个方面的问题相提并论，在他看来，三者之间也有内在联系，因为进行道德修养和学习各种知识，最重要的就是要能够及时改正自己的过失或“不善”，只有这样，修养才可以完善，知识才可以丰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25603" descr="chema"/>
          <p:cNvPicPr/>
          <p:nvPr/>
        </p:nvPicPr>
        <p:blipFill>
          <a:blip r:embed="rId1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25604" descr="孔子头像 副本"/>
          <p:cNvPicPr/>
          <p:nvPr/>
        </p:nvPicPr>
        <p:blipFill>
          <a:blip r:embed="rId2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78920" y="853560"/>
            <a:ext cx="8774280" cy="20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原文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子路曰：“君子尚勇乎？”子曰：“君子义以为上。君子有勇而无义为乱，小人有勇而无义为盗。”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23556" descr="chema"/>
          <p:cNvPicPr/>
          <p:nvPr/>
        </p:nvPicPr>
        <p:blipFill>
          <a:blip r:embed="rId1"/>
          <a:stretch/>
        </p:blipFill>
        <p:spPr>
          <a:xfrm>
            <a:off x="6372360" y="4797360"/>
            <a:ext cx="2581200" cy="1878120"/>
          </a:xfrm>
          <a:prstGeom prst="rect">
            <a:avLst/>
          </a:prstGeom>
          <a:ln w="0">
            <a:noFill/>
          </a:ln>
        </p:spPr>
      </p:pic>
      <p:sp>
        <p:nvSpPr>
          <p:cNvPr id="228" name="矩形 23557"/>
          <p:cNvSpPr/>
          <p:nvPr/>
        </p:nvSpPr>
        <p:spPr>
          <a:xfrm>
            <a:off x="179280" y="3573360"/>
            <a:ext cx="633744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路说：“君子崇尚勇敢吗？”孔子答道：“君子以义作为最高尚的品德，君子有勇无义就会作乱，小人有勇无义就会偷盗。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3558"/>
          <p:cNvSpPr/>
          <p:nvPr/>
        </p:nvSpPr>
        <p:spPr>
          <a:xfrm>
            <a:off x="179280" y="147600"/>
            <a:ext cx="4950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、“义”和“勇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3560"/>
          <p:cNvSpPr/>
          <p:nvPr/>
        </p:nvSpPr>
        <p:spPr>
          <a:xfrm>
            <a:off x="250920" y="3429000"/>
            <a:ext cx="64818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二章里孔子提出对君子要求的基本点之一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义之与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义以为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”有高尚人格的君子处世严肃灵活，不会厚此薄彼。谈论的仍是个人的道德修养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8760" y="882720"/>
            <a:ext cx="4697280" cy="5508720"/>
          </a:xfrm>
          <a:prstGeom prst="rect">
            <a:avLst/>
          </a:prstGeom>
          <a:solidFill>
            <a:srgbClr val="ebebf5"/>
          </a:solidFill>
          <a:ln w="9360">
            <a:solidFill>
              <a:srgbClr val="00003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楷体_GB2312"/>
              </a:rPr>
              <a:t>★★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不管时代潮流和社会风尚怎样，人总是可以凭着自己的高贵品质，超脱时代和社会，走自己的正确道路。现在，许多人都为冰箱、汽车、房子而奔波、追逐、竞争。但是，也有不少人不追求这些物质的东西，他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追求理想和真理，得到了内心的自由和安宁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82946" descr="897987"/>
          <p:cNvPicPr/>
          <p:nvPr/>
        </p:nvPicPr>
        <p:blipFill>
          <a:blip r:embed="rId1"/>
          <a:stretch/>
        </p:blipFill>
        <p:spPr>
          <a:xfrm>
            <a:off x="5111640" y="1349280"/>
            <a:ext cx="4003920" cy="4575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560" y="692280"/>
            <a:ext cx="5833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  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子曰：“非其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而祭之；谄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也。见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</a:rPr>
              <a:t>不为，无勇也。”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6626" descr="孔子头像 副本"/>
          <p:cNvPicPr/>
          <p:nvPr/>
        </p:nvPicPr>
        <p:blipFill>
          <a:blip r:embed="rId1"/>
          <a:stretch/>
        </p:blipFill>
        <p:spPr>
          <a:xfrm>
            <a:off x="6372360" y="0"/>
            <a:ext cx="2508120" cy="3979800"/>
          </a:xfrm>
          <a:prstGeom prst="rect">
            <a:avLst/>
          </a:prstGeom>
          <a:ln w="0">
            <a:noFill/>
          </a:ln>
        </p:spPr>
      </p:pic>
      <p:sp>
        <p:nvSpPr>
          <p:cNvPr id="233" name="矩形 26627"/>
          <p:cNvSpPr/>
          <p:nvPr/>
        </p:nvSpPr>
        <p:spPr>
          <a:xfrm>
            <a:off x="2050920" y="3213000"/>
            <a:ext cx="6858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鬼：有两种解释：一是指鬼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是指死去的祖先。这里泛指鬼神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谄：音ｃ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ｎ ，谄媚、阿谀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：人应该做的事就是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26628" descr="印章03"/>
          <p:cNvPicPr/>
          <p:nvPr/>
        </p:nvPicPr>
        <p:blipFill>
          <a:blip r:embed="rId2"/>
          <a:srcRect l="14318" t="0" r="14318" b="0"/>
          <a:stretch/>
        </p:blipFill>
        <p:spPr>
          <a:xfrm>
            <a:off x="250920" y="4797360"/>
            <a:ext cx="1182600" cy="1843200"/>
          </a:xfrm>
          <a:prstGeom prst="rect">
            <a:avLst/>
          </a:prstGeom>
          <a:ln w="0">
            <a:noFill/>
          </a:ln>
        </p:spPr>
      </p:pic>
      <p:sp>
        <p:nvSpPr>
          <p:cNvPr id="235" name="矩形 26629"/>
          <p:cNvSpPr/>
          <p:nvPr/>
        </p:nvSpPr>
        <p:spPr>
          <a:xfrm>
            <a:off x="2124000" y="3068640"/>
            <a:ext cx="5977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不是你应该祭的鬼神，你却去祭它，这就是谄媚。见到应该挺身而出的事情，却袖手旁观，就是怯懦。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79280" y="317160"/>
            <a:ext cx="8640720" cy="579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本章中，孔子又提出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和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的概念，这都是儒家有关塑造高尚人格的规范。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论语集解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注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所宜为。符合于仁、礼要求的，就是义。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就是果敢，勇敢。孔子把“勇”作为实行“仁”的条件之一，“勇”，必须符合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仁、义、礼、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才算是勇，否则就是“乱”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27652" descr="chema"/>
          <p:cNvPicPr/>
          <p:nvPr/>
        </p:nvPicPr>
        <p:blipFill>
          <a:blip r:embed="rId1"/>
          <a:stretch/>
        </p:blipFill>
        <p:spPr>
          <a:xfrm>
            <a:off x="6427800" y="4894200"/>
            <a:ext cx="25812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169920"/>
            <a:ext cx="8785440" cy="628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7d"/>
                </a:solidFill>
                <a:latin typeface="黑体"/>
                <a:ea typeface="黑体"/>
              </a:rPr>
              <a:t>孔子说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见义不为，无勇也</a:t>
            </a:r>
            <a:r>
              <a:rPr b="1" lang="zh-CN" sz="3200" spc="-1" strike="noStrike">
                <a:solidFill>
                  <a:srgbClr val="00007d"/>
                </a:solidFill>
                <a:latin typeface="黑体"/>
                <a:ea typeface="黑体"/>
              </a:rPr>
              <a:t>。”所以，君子应当见义而为。又说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仁者必有勇，勇者未必有仁</a:t>
            </a:r>
            <a:r>
              <a:rPr b="1" lang="zh-CN" sz="3200" spc="-1" strike="noStrike">
                <a:solidFill>
                  <a:srgbClr val="00007d"/>
                </a:solidFill>
                <a:latin typeface="黑体"/>
                <a:ea typeface="黑体"/>
              </a:rPr>
              <a:t>。”也就是说，具有仁义德性的人，必定有勇。勇于什么呢</a:t>
            </a:r>
            <a:r>
              <a:rPr b="1" lang="en-US" sz="3200" spc="-1" strike="noStrike">
                <a:solidFill>
                  <a:srgbClr val="00007d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7d"/>
                </a:solidFill>
                <a:latin typeface="黑体"/>
                <a:ea typeface="黑体"/>
              </a:rPr>
              <a:t>勇于仁，勇于义。但有勇的人却不一定具有仁义的德性，因为有些所谓勇者，只是勇于做坏事，为非作歹，或者只是不问青红皂白的勇。所以孔子强调说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君子以义为上。君子有勇而无义为乱，小人有勇而无义为盗</a:t>
            </a:r>
            <a:r>
              <a:rPr b="1" lang="zh-CN" sz="3200" spc="-1" strike="noStrike">
                <a:solidFill>
                  <a:srgbClr val="00007d"/>
                </a:solidFill>
                <a:latin typeface="黑体"/>
                <a:ea typeface="黑体"/>
              </a:rPr>
              <a:t>。”君子应始终把义作为至高无上的准则。如果只是有勇而无义，就会犯上作乱。只有把义与勇相融相合，统为一体才能真正做到见义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由此，我们可以看出，义与勇的关系其实像马车与马车夫，马车可以跑得飞快，但没有车夫掌握方向就会迷路，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义是勇的方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09440" y="201600"/>
            <a:ext cx="8925120" cy="62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总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章谈论的是关于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”的思考，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义之与比”“义以为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”，有高尚人格的君子处世严肃灵活，不会厚此薄彼。符合于仁、礼要求的，就是义。“勇”，就是果敢，勇敢。孔子把“勇”作为实行“仁”的条件之一，“勇”，必须符合“仁、义、礼、智”，才算是勇，否则就是“乱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讨论：是生计重要还是道德重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5160" y="2125440"/>
            <a:ext cx="5527800" cy="440532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青年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报道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邹云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0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被评为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华食雕九大赚钱名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并先后被评为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国烹饪雕刻大师”、“中华厨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可现在一个大厨师彻底被各大酒店拒之门外，原因是他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拒烹野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83971" descr="邹云翔"/>
          <p:cNvPicPr/>
          <p:nvPr/>
        </p:nvPicPr>
        <p:blipFill>
          <a:blip r:embed="rId1"/>
          <a:stretch/>
        </p:blipFill>
        <p:spPr>
          <a:xfrm>
            <a:off x="5867280" y="2327400"/>
            <a:ext cx="2819520" cy="3754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58760" y="153720"/>
            <a:ext cx="8826480" cy="655452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厨师要与传统的习惯和人性的贪婪去较量，看上去有点“自不量力”，引来很多人的嘲笑，认为他太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他也认识到：只有溶到社会中去才有更大的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办食雕学习班，教授烹饪理念、知识、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组织弟子宣传以各种方式“拒烹野味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号召其他饭店厨师加入“拒烹野味”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发起百万厨师参与全国“拒烹野味”签名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1818ff"/>
                </a:solidFill>
                <a:latin typeface="黑体"/>
                <a:ea typeface="黑体"/>
              </a:rPr>
              <a:t>有一颗“拒烹野味”的公德心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品可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18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1818ff"/>
                </a:solidFill>
                <a:latin typeface="黑体"/>
                <a:ea typeface="黑体"/>
              </a:rPr>
              <a:t>毅然走上“拒烹野味”的道路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勇气可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18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1818ff"/>
                </a:solidFill>
                <a:latin typeface="黑体"/>
                <a:ea typeface="黑体"/>
              </a:rPr>
              <a:t>坚持初衷不改，行为积极有效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做法可赞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7043"/>
          <p:cNvSpPr txBox="1"/>
          <p:nvPr/>
        </p:nvSpPr>
        <p:spPr>
          <a:xfrm>
            <a:off x="28440" y="5718240"/>
            <a:ext cx="1905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思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80897" descr="a002309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动作按钮: 声音 80899"/>
          <p:cNvSpPr/>
          <p:nvPr/>
        </p:nvSpPr>
        <p:spPr>
          <a:xfrm>
            <a:off x="8458200" y="60958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8406"/>
                </a:moveTo>
                <a:lnTo>
                  <a:pt x="11824" y="8406"/>
                </a:lnTo>
                <a:lnTo>
                  <a:pt x="16245" y="3794"/>
                </a:lnTo>
                <a:lnTo>
                  <a:pt x="16245" y="17806"/>
                </a:lnTo>
                <a:lnTo>
                  <a:pt x="11824" y="13194"/>
                </a:lnTo>
                <a:lnTo>
                  <a:pt x="7394" y="13194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21406" y="10800"/>
                </a:lnTo>
              </a:path>
              <a:path fill="darken" w="28800" h="21600">
                <a:moveTo>
                  <a:pt x="17899" y="8406"/>
                </a:moveTo>
                <a:lnTo>
                  <a:pt x="21406" y="5639"/>
                </a:lnTo>
              </a:path>
              <a:path fill="darken" w="28800" h="21600">
                <a:moveTo>
                  <a:pt x="17899" y="13194"/>
                </a:moveTo>
                <a:lnTo>
                  <a:pt x="214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03280" y="934920"/>
            <a:ext cx="8137440" cy="5678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义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，它是一种道德，它是最高道德的一种形式，一个重要的环节。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仁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这个最高的道德，通过具体的器物来实现，中间有很多环节，义是其中的一个非常重要的环节。但是我们在现实生活中，往往看到人们把“义”与其他一些概念进行挂钩，比如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利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”，比如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君子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”，比如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勇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”。这些和义都有着怎样的关系，接下来我们一起来听听孔子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6563"/>
          <p:cNvSpPr/>
          <p:nvPr/>
        </p:nvSpPr>
        <p:spPr>
          <a:xfrm>
            <a:off x="395280" y="348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66565"/>
          <p:cNvSpPr/>
          <p:nvPr/>
        </p:nvSpPr>
        <p:spPr>
          <a:xfrm>
            <a:off x="728280" y="173160"/>
            <a:ext cx="8514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6680" y="155160"/>
            <a:ext cx="8810640" cy="6264360"/>
          </a:xfrm>
          <a:prstGeom prst="rect">
            <a:avLst/>
          </a:prstGeom>
          <a:solidFill>
            <a:srgbClr val="f7fc7e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仁义和富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仁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”是</a:t>
            </a:r>
            <a:r>
              <a:rPr b="1" lang="en-US" sz="3200" spc="-1" strike="noStrike">
                <a:solidFill>
                  <a:srgbClr val="0000e4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e4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中出现频率最高的词之一。一次孔子说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克己复礼为仁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”，一次孔子说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仁者爱人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”。把这两个定义联系起来，可以把孔子的意思理解成为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加强自身修养，恢复（保持或服从）礼的要求，在礼的原则内，真心地关心别人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。 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仁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”是内心思想，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义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”是符合“仁”的行为。在</a:t>
            </a:r>
            <a:r>
              <a:rPr b="1" lang="en-US" sz="3200" spc="-1" strike="noStrike">
                <a:solidFill>
                  <a:srgbClr val="0000e4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e4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中，“仁”和“义”有时可以互通。在</a:t>
            </a:r>
            <a:r>
              <a:rPr b="1" lang="en-US" sz="3200" spc="-1" strike="noStrike">
                <a:solidFill>
                  <a:srgbClr val="0000e4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e4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中，“富贵”常被简称为“利”。“仁义”和“富贵”的关系问题也是他的学生们最关心的问题之一，因而也是孔子多次论述的问题。先看看孔子这方面的论述。</a:t>
            </a:r>
            <a:r>
              <a:rPr b="0" lang="zh-CN" sz="3200" spc="-1" strike="noStrike">
                <a:solidFill>
                  <a:srgbClr val="0000e4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8675"/>
          <p:cNvSpPr/>
          <p:nvPr/>
        </p:nvSpPr>
        <p:spPr>
          <a:xfrm>
            <a:off x="297000" y="449640"/>
            <a:ext cx="8548560" cy="1068840"/>
          </a:xfrm>
          <a:prstGeom prst="rect">
            <a:avLst/>
          </a:prstGeom>
          <a:solidFill>
            <a:srgbClr val="f7fc7e"/>
          </a:solidFill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原文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子曰：“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而可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也；虽执鞭之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，吾亦为之。如不可求，从吾所好。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8676"/>
          <p:cNvSpPr/>
          <p:nvPr/>
        </p:nvSpPr>
        <p:spPr>
          <a:xfrm>
            <a:off x="297000" y="2138400"/>
            <a:ext cx="8548560" cy="1434600"/>
          </a:xfrm>
          <a:prstGeom prst="rect">
            <a:avLst/>
          </a:prstGeom>
          <a:solidFill>
            <a:srgbClr val="b2b2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注释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指升官发财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指合于道，可以去求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执鞭之士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代为天子、诸侯和官员出入时手执皮鞭开路的人。意思指地位低下的职事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28678" descr="印章03"/>
          <p:cNvPicPr/>
          <p:nvPr/>
        </p:nvPicPr>
        <p:blipFill>
          <a:blip r:embed="rId1"/>
          <a:srcRect l="14318" t="0" r="14318" b="0"/>
          <a:stretch/>
        </p:blipFill>
        <p:spPr>
          <a:xfrm>
            <a:off x="179280" y="5084640"/>
            <a:ext cx="1044720" cy="1627200"/>
          </a:xfrm>
          <a:prstGeom prst="rect">
            <a:avLst/>
          </a:prstGeom>
          <a:ln w="0">
            <a:noFill/>
          </a:ln>
        </p:spPr>
      </p:pic>
      <p:sp>
        <p:nvSpPr>
          <p:cNvPr id="171" name="矩形 28682"/>
          <p:cNvSpPr/>
          <p:nvPr/>
        </p:nvSpPr>
        <p:spPr>
          <a:xfrm>
            <a:off x="1108080" y="4753800"/>
            <a:ext cx="7737480" cy="1130040"/>
          </a:xfrm>
          <a:prstGeom prst="rect">
            <a:avLst/>
          </a:prstGeom>
          <a:solidFill>
            <a:srgbClr val="e7e7f1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如果富贵合乎于道就可以去追求，虽然是给人执鞭的下等差事，我也愿意去做。如果富贵不合于道就不必去追求，那就还是按我的爱好去干事。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2:06:55Z</dcterms:created>
  <dc:creator/>
  <dc:description/>
  <dc:language>en-US</dc:language>
  <cp:lastModifiedBy>芬</cp:lastModifiedBy>
  <dcterms:modified xsi:type="dcterms:W3CDTF">2019-03-12T09:23:06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