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1CCE-D7E8-48DB-9767-E1F5FBC7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1D2-3897-476C-8F6A-492A66EA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433-AB96-461F-857A-3BCC3B53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4B30-1A16-48B1-BB25-B0D2FD0C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8940-CEE5-4036-BA66-62A71BBD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0725-D137-4568-8C85-A6E2CD73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0BDB-880D-482B-85D1-E9FE4368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E3DA-D4DF-427F-865F-DE2E9B9A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9ADF-A339-4585-BA31-455E3062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208E-4E3B-46F7-9E85-5D050454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9B0D-4573-44CE-952D-45CD59D3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97F-5DA6-4357-BFFB-CBE0E942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17DF-145B-4E5A-8151-42932742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122F-3731-468B-8E35-E79E83F7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8DD2-3E16-4B42-A64A-EA37940D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DEEF-0FCB-4BD2-88CE-4860A8B2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F482-93F2-4334-B080-7044961E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8F40A-58FC-4BF8-9029-3DC12460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10C2E-0A78-40F0-9FBF-73124B72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55964-7BF7-48D0-9743-15562B70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6361D-5751-4EC4-95E9-07BB6FAF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351F2-1887-47FE-9556-0BBACD26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C52-C8E3-4E0F-B2B2-EE77D7B0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FDE59-8306-460F-8330-BCF45CD2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ADBD3-5C35-442C-A965-109E5205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0B6B-F071-4DD0-973A-FB33D7B6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3DB77-961E-47D2-989C-9882CFC4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AF12D-52E6-43E9-BA77-F101C814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01B1-173E-4AE0-8B45-9A9E0B60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D8919-9F48-4355-8D24-2672D68F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561-7A28-45D4-BC40-C11C3D17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9C2-9381-4979-9954-44F89378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2AF-ECFB-4126-8E58-D0EA03DC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5B7-9349-45B2-81C5-9FF02C1C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EF4-B382-4874-8CFC-011B3ADB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4F3-8708-446E-B15A-75A296FD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0A57-AE1E-4DB0-904F-068DA75603F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9E3C-1371-43FB-9E05-D9FE8B640DE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A50A-9D02-4C2A-804D-2DCB4A3E38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524720" y="551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材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197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设想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34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法指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 rot="10809600">
            <a:off x="-5040" y="219960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50028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465300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过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5911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板书设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 rot="10809600">
            <a:off x="-360" y="1052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 rot="10809600">
            <a:off x="-360" y="335736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 rot="10809600">
            <a:off x="-360" y="4508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 rot="10809600">
            <a:off x="-360" y="573336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411280" y="115920"/>
            <a:ext cx="4753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变形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/>
          <p:nvPr/>
        </p:nvSpPr>
        <p:spPr>
          <a:xfrm>
            <a:off x="2987640" y="2637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弗兰茨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·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卡夫卡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4221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  <a:ea typeface="华文行楷"/>
              </a:rPr>
              <a:t>一个人变甲虫的故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32000" y="4724280"/>
            <a:ext cx="3168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804000" y="3716280"/>
            <a:ext cx="108108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7524720" y="551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材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1197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设想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234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法指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 rot="10809600">
            <a:off x="-5040" y="219960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500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465300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教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过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5911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板书设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 rot="10809600">
            <a:off x="-360" y="1052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 rot="10809600">
            <a:off x="-360" y="335736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 rot="10809600">
            <a:off x="-360" y="4508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 rot="10809600">
            <a:off x="-360" y="573336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03280" y="836640"/>
            <a:ext cx="3456000" cy="57636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547640" y="83664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三、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“变”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分析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63640" y="1916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、格里高尔为什么会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华文隶书"/>
              </a:rPr>
              <a:t>变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为甲虫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763640" y="263700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、格里高尔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华文隶书"/>
              </a:rPr>
              <a:t>变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形前后境遇及心情有何不同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763640" y="3357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、家人即同事对格里高尔的态度有何转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华文隶书"/>
              </a:rPr>
              <a:t>变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92360" y="4365720"/>
            <a:ext cx="70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总结：</a:t>
            </a:r>
            <a:r>
              <a:rPr b="1" lang="zh-CN" sz="2800" spc="-1" strike="noStrike">
                <a:solidFill>
                  <a:srgbClr val="b81814"/>
                </a:solidFill>
                <a:latin typeface="方正舒体"/>
                <a:ea typeface="方正舒体"/>
              </a:rPr>
              <a:t>势利而冷漠的社会！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1814"/>
                </a:solidFill>
                <a:latin typeface="方正舒体"/>
                <a:ea typeface="方正舒体"/>
              </a:rPr>
              <a:t>              </a:t>
            </a:r>
            <a:r>
              <a:rPr b="1" lang="zh-CN" sz="2800" spc="-1" strike="noStrike">
                <a:solidFill>
                  <a:srgbClr val="b81814"/>
                </a:solidFill>
                <a:latin typeface="方正舒体"/>
                <a:ea typeface="方正舒体"/>
              </a:rPr>
              <a:t>脆弱而虚伪的亲情！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1814"/>
                </a:solidFill>
                <a:latin typeface="方正舒体"/>
                <a:ea typeface="方正舒体"/>
              </a:rPr>
              <a:t>              </a:t>
            </a:r>
            <a:r>
              <a:rPr b="1" lang="zh-CN" sz="2800" spc="-1" strike="noStrike">
                <a:solidFill>
                  <a:srgbClr val="b81814"/>
                </a:solidFill>
                <a:latin typeface="方正舒体"/>
                <a:ea typeface="方正舒体"/>
              </a:rPr>
              <a:t>不堪重负而扭曲的心灵 ！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7524720" y="551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材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1197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设想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234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法指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 rot="10809600">
            <a:off x="-5040" y="219960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500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465300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教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过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5911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板书设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9600">
            <a:off x="-360" y="1052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 rot="10809600">
            <a:off x="-360" y="335736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 rot="10809600">
            <a:off x="-360" y="4508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 rot="10809600">
            <a:off x="-360" y="573336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32000" y="907920"/>
            <a:ext cx="4824360" cy="57492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403280" y="90792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四、分析细节  揣摩感情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87280" y="2133720"/>
            <a:ext cx="781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、格里高尔变形后身体感觉如何？ 通过具体事例说明 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4360" y="2924280"/>
            <a:ext cx="76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  <a:ea typeface="宋体"/>
              </a:rPr>
              <a:t>2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  <a:ea typeface="宋体"/>
              </a:rPr>
              <a:t>、用一个词语来概括格里高尔起床开门的经过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4360" y="371628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  <a:ea typeface="宋体"/>
              </a:rPr>
              <a:t>3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  <a:ea typeface="宋体"/>
              </a:rPr>
              <a:t>、 高尔为什么要如此艰难地挣扎着去开门呢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3640" y="4724280"/>
            <a:ext cx="53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1814"/>
                </a:solidFill>
                <a:latin typeface="方正舒体"/>
                <a:ea typeface="方正舒体"/>
              </a:rPr>
              <a:t>痛苦、艰难，但格里高尔心 中牵    挂的永远是家人，是工作！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35280" y="4724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总结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524720" y="551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材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197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设想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234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法指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 rot="10809600">
            <a:off x="-5040" y="219960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500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465300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教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过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5911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板书设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 rot="10809600">
            <a:off x="-360" y="1052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 rot="10809600">
            <a:off x="-360" y="335736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 rot="10809600">
            <a:off x="-360" y="4508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 rot="10809600">
            <a:off x="-360" y="573336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32000" y="836640"/>
            <a:ext cx="3095640" cy="57636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76360" y="836640"/>
            <a:ext cx="295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五、拓展探究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19280" y="2060640"/>
            <a:ext cx="705636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、如果你的生活中有类似格里高尔这样的人，你将怎样评价他？说说你的理由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19280" y="400536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、文学和现实生活中，有没有这样的变形人呢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68360" y="321300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1814"/>
                </a:solidFill>
                <a:latin typeface="方正舒体"/>
                <a:ea typeface="方正舒体"/>
              </a:rPr>
              <a:t>仁者见仁，智者见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40000" y="4724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1814"/>
                </a:solidFill>
                <a:latin typeface="方正舒体"/>
                <a:ea typeface="方正舒体"/>
              </a:rPr>
              <a:t>变形人何其多！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69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7605720"/>
          </a:xfrm>
          <a:prstGeom prst="rect">
            <a:avLst/>
          </a:prstGeom>
          <a:ln w="0">
            <a:noFill/>
          </a:ln>
        </p:spPr>
      </p:pic>
    </p:spTree>
  </p:cSld>
  <p:transition advTm="1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-900000" y="0"/>
            <a:ext cx="100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3076560" y="24541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10480" y="5126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advTm="1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材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1197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设想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234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法指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0809600">
            <a:off x="-5040" y="2199600"/>
            <a:ext cx="11206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500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465300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教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过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5911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板书设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 rot="10809600">
            <a:off x="-360" y="1052280"/>
            <a:ext cx="112068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 rot="10809600">
            <a:off x="-360" y="3357360"/>
            <a:ext cx="112068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 rot="10809600">
            <a:off x="-360" y="4508280"/>
            <a:ext cx="112068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 rot="10809600">
            <a:off x="-360" y="5733360"/>
            <a:ext cx="11206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58920" y="476280"/>
            <a:ext cx="309708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76360" y="549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六、课堂小结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32000" y="1844640"/>
            <a:ext cx="7812000" cy="24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天生我材必有用，</a:t>
            </a:r>
            <a:r>
              <a:rPr b="1" lang="zh-CN" sz="4400" spc="-1" strike="noStrike">
                <a:solidFill>
                  <a:srgbClr val="9900ff"/>
                </a:solidFill>
                <a:latin typeface="华文行楷"/>
                <a:ea typeface="华文行楷"/>
              </a:rPr>
              <a:t>变形</a:t>
            </a: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之后还复来。——李白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从明天起，做一个幸福的</a:t>
            </a:r>
            <a:r>
              <a:rPr b="1" lang="zh-CN" sz="4400" spc="-1" strike="noStrike">
                <a:solidFill>
                  <a:srgbClr val="9900ff"/>
                </a:solidFill>
                <a:latin typeface="华文行楷"/>
                <a:ea typeface="华文行楷"/>
              </a:rPr>
              <a:t>虫</a:t>
            </a: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。              ——海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我是</a:t>
            </a:r>
            <a:r>
              <a:rPr b="1" lang="zh-CN" sz="4400" spc="-1" strike="noStrike">
                <a:solidFill>
                  <a:srgbClr val="9900ff"/>
                </a:solidFill>
                <a:latin typeface="华文行楷"/>
                <a:ea typeface="华文行楷"/>
              </a:rPr>
              <a:t>虫子</a:t>
            </a: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，我怕谁。                            ——王朔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7524720" y="551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材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1197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设想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234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法指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 rot="10809600">
            <a:off x="-5040" y="219960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500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4653000"/>
            <a:ext cx="111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教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过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5911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板书设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 rot="10809600">
            <a:off x="-360" y="1052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 rot="10809600">
            <a:off x="-360" y="335736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 rot="10809600">
            <a:off x="-360" y="4508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0809600">
            <a:off x="-360" y="573336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32000" y="836640"/>
            <a:ext cx="2087640" cy="57636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32000" y="836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六、作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35280" y="24922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课外阅读卡夫卡的</a:t>
            </a: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《审判》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，再次领悟现代主义手法，感受人类的生存困境。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7524720" y="551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材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1197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设想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234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法指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 rot="10809600">
            <a:off x="-5040" y="219960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500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465300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过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5911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板书设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 rot="10809600">
            <a:off x="-360" y="1052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 rot="10809600">
            <a:off x="-360" y="335736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 rot="10809600">
            <a:off x="-360" y="4508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 rot="10809600">
            <a:off x="-360" y="573336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32000" y="836640"/>
            <a:ext cx="2087640" cy="57636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76360" y="836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板书设计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547640" y="2492280"/>
            <a:ext cx="1511640" cy="45972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ahoma"/>
              </a:rPr>
              <a:t>冷漠 势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79640" y="3789360"/>
            <a:ext cx="649440" cy="45972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ahoma"/>
              </a:rPr>
              <a:t>虫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19280" y="5084640"/>
            <a:ext cx="1441440" cy="45972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ahoma"/>
              </a:rPr>
              <a:t>生存困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19640" y="2708280"/>
            <a:ext cx="647640" cy="144360"/>
          </a:xfrm>
          <a:prstGeom prst="rightArrow">
            <a:avLst>
              <a:gd name="adj1" fmla="val 50000"/>
              <a:gd name="adj2" fmla="val 11215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19640" y="4005360"/>
            <a:ext cx="642600" cy="147600"/>
          </a:xfrm>
          <a:prstGeom prst="rightArrow">
            <a:avLst>
              <a:gd name="adj1" fmla="val 50000"/>
              <a:gd name="adj2" fmla="val 108841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19640" y="5229360"/>
            <a:ext cx="647640" cy="142920"/>
          </a:xfrm>
          <a:prstGeom prst="rightArrow">
            <a:avLst>
              <a:gd name="adj1" fmla="val 50000"/>
              <a:gd name="adj2" fmla="val 11328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211640" y="2349360"/>
            <a:ext cx="720720" cy="9352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11640" y="3573360"/>
            <a:ext cx="720720" cy="9352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11640" y="4797360"/>
            <a:ext cx="720720" cy="9352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292720" y="2708280"/>
            <a:ext cx="649440" cy="144360"/>
          </a:xfrm>
          <a:prstGeom prst="rightArrow">
            <a:avLst>
              <a:gd name="adj1" fmla="val 50000"/>
              <a:gd name="adj2" fmla="val 112469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292720" y="4005360"/>
            <a:ext cx="647640" cy="144360"/>
          </a:xfrm>
          <a:prstGeom prst="rightArrow">
            <a:avLst>
              <a:gd name="adj1" fmla="val 50000"/>
              <a:gd name="adj2" fmla="val 11215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92720" y="5157720"/>
            <a:ext cx="649440" cy="142920"/>
          </a:xfrm>
          <a:prstGeom prst="rightArrow">
            <a:avLst>
              <a:gd name="adj1" fmla="val 50000"/>
              <a:gd name="adj2" fmla="val 113602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27640" y="2060640"/>
            <a:ext cx="73080" cy="136836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32720" y="2205000"/>
            <a:ext cx="1152360" cy="45972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ahoma"/>
              </a:rPr>
              <a:t>自己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32720" y="2924280"/>
            <a:ext cx="1152360" cy="45972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ahoma"/>
              </a:rPr>
              <a:t>他人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300720" y="3789360"/>
            <a:ext cx="1584360" cy="45972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ahoma"/>
              </a:rPr>
              <a:t>人性 人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5084640"/>
            <a:ext cx="1512720" cy="45972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ahoma"/>
              </a:rPr>
              <a:t>心要坚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84720" y="2492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变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84720" y="37162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形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284720" y="5013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476000" y="1700280"/>
            <a:ext cx="720108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1814"/>
                </a:solidFill>
                <a:latin typeface="Times New Roman"/>
              </a:rPr>
              <a:t>《变形记》是本单元中阅读难度最大的一篇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）、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17000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字的超长篇幅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）、现代主义的艺术手法：荒诞离奇的情节，时空倒错、逻辑混乱、思维跳跃的意识流特征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“异化”的主题深奥抽象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1835280" y="836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教材特点：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教材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197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设想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34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法指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0809600">
            <a:off x="-5040" y="219960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500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465300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过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5911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板书设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 rot="10809600">
            <a:off x="-360" y="1052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 rot="10809600">
            <a:off x="-360" y="335736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 rot="10809600">
            <a:off x="-360" y="4508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 rot="10809600">
            <a:off x="-360" y="573336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524720" y="551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教材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197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设想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34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法指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 rot="10809600">
            <a:off x="-5040" y="219960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500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65300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过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911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板书设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 rot="10809600">
            <a:off x="-360" y="1052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 rot="10809600">
            <a:off x="-360" y="335736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 rot="10809600">
            <a:off x="-360" y="4508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 rot="10809600">
            <a:off x="-360" y="573336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63640" y="907920"/>
            <a:ext cx="2210040" cy="60984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</a:rPr>
              <a:t>教学重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50920" y="1773360"/>
            <a:ext cx="626436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、分析格里高尔变形前后自己及周围人一系列变化，突破人物分析和情节把握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、通过对典型的心理和动作描写的揣摩，透析人性和人情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4869000"/>
            <a:ext cx="54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认识思考“现代人的生存困惑”问题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63640" y="3933720"/>
            <a:ext cx="2210040" cy="60984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08000" y="39337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</a:rPr>
              <a:t>教学难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7524720" y="551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材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197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教学设想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34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法指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 rot="10809600">
            <a:off x="-5040" y="219960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500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465300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过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911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板书设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 rot="10809600">
            <a:off x="-360" y="1052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10809600">
            <a:off x="-360" y="335736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 rot="10809600">
            <a:off x="-360" y="4508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 rot="10809600">
            <a:off x="-360" y="573336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63640" y="1844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、从“变”字入手，窥斑见豹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63640" y="3357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、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40000" y="3284640"/>
            <a:ext cx="56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用“情”字扣心弦，达到与“变形人”的感情沟通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7524720" y="551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材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197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设想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34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教法指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 rot="10809600">
            <a:off x="-5040" y="219960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500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465300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过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911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板书设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 rot="10809600">
            <a:off x="-360" y="1052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 rot="10809600">
            <a:off x="-360" y="335736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 rot="10809600">
            <a:off x="-360" y="4508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 rot="10809600">
            <a:off x="-360" y="573336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92360" y="-171360"/>
            <a:ext cx="374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90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263880" indent="-263880">
              <a:lnSpc>
                <a:spcPct val="140000"/>
              </a:lnSpc>
              <a:spcBef>
                <a:spcPts val="3200"/>
              </a:spcBef>
              <a:spcAft>
                <a:spcPts val="3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、 导读法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24000" y="1484280"/>
            <a:ext cx="597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ahoma"/>
                <a:ea typeface="隶书"/>
              </a:rPr>
              <a:t>指导学生课下预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ahoma"/>
                <a:ea typeface="隶书"/>
              </a:rPr>
              <a:t>引导学生了解作者的思想和创作风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95640" y="2565360"/>
            <a:ext cx="280800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200"/>
              </a:spcBef>
              <a:spcAft>
                <a:spcPts val="3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、 点拨法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4797360"/>
            <a:ext cx="345600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200"/>
              </a:spcBef>
              <a:spcAft>
                <a:spcPts val="3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、 讨论法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3200"/>
              </a:spcBef>
              <a:spcAft>
                <a:spcPts val="3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24000" y="3500280"/>
            <a:ext cx="56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ahoma"/>
                <a:ea typeface="隶书"/>
              </a:rPr>
              <a:t>在难以突破理解的地方，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ahoma"/>
                <a:ea typeface="隶书"/>
              </a:rPr>
              <a:t>在情感需要升华的地方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95640" y="57340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ahoma"/>
                <a:ea typeface="隶书"/>
              </a:rPr>
              <a:t>交流知识，讨论问题，张扬个性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24720" y="551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材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1197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设想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234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法指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 rot="10809600">
            <a:off x="-5040" y="219960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500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465300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过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5911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板书设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 rot="10809600">
            <a:off x="-360" y="1052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 rot="10809600">
            <a:off x="-360" y="335736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 rot="10809600">
            <a:off x="-360" y="4508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 rot="10809600">
            <a:off x="-360" y="573336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58920" y="1844640"/>
            <a:ext cx="655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一、营造自由、民主、轻松的气氛，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让学生在自主中学会探究学习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84360" y="3429000"/>
            <a:ext cx="5113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二、将心比心，设身处地的为他人着想的换位思考方法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524720" y="551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材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197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设想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234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法指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 rot="10809600">
            <a:off x="-5040" y="219960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500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465300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教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过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5911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板书设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 rot="10809600">
            <a:off x="-360" y="1052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 rot="10809600">
            <a:off x="-360" y="335736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 rot="10809600">
            <a:off x="-360" y="4508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 rot="10809600">
            <a:off x="-360" y="573336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24000" y="333360"/>
            <a:ext cx="4537080" cy="64764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24000" y="1413000"/>
            <a:ext cx="4537080" cy="64764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24000" y="5805360"/>
            <a:ext cx="4537080" cy="6480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24000" y="4724280"/>
            <a:ext cx="4537080" cy="6480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24000" y="2492280"/>
            <a:ext cx="4537080" cy="64764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24000" y="3573360"/>
            <a:ext cx="4537080" cy="64764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51640" y="105264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95640" y="148428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二、作者及现代主义文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68360" y="256536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三、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“变”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分析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95640" y="3573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四、分析细节  揣摩感情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68360" y="4797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五、拓展探究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68360" y="5805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六、课堂小结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404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一、导入新课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7524720" y="551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材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1197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设想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234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法指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 rot="10809600">
            <a:off x="-5040" y="219960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500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465300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教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过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5911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板书设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 rot="10809600">
            <a:off x="-360" y="1052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 rot="10809600">
            <a:off x="-360" y="335736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 rot="10809600">
            <a:off x="-360" y="4508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 rot="10809600">
            <a:off x="-360" y="573336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8028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763640" y="177336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66"/>
                </a:solidFill>
                <a:latin typeface="Tahoma"/>
                <a:ea typeface="华文隶书"/>
              </a:rPr>
              <a:t>有人形容目前的中学生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条件变好了，心绪变坏了；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知识增多了，压力沉重了；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手段先进了，精神苦闷了；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能力增强了，感情脆弱了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403280" y="620640"/>
            <a:ext cx="3097440" cy="64764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76360" y="620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一、导入新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524720" y="551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材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197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学设想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234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教法指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 rot="10809600">
            <a:off x="-5040" y="219960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500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学法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465300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教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隶书"/>
              </a:rPr>
              <a:t>过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5911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隶书"/>
              </a:rPr>
              <a:t>板书设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 rot="10809600">
            <a:off x="-360" y="1052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 rot="10809600">
            <a:off x="-360" y="335736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0809600">
            <a:off x="-360" y="4508280"/>
            <a:ext cx="1120680" cy="759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 rot="10809600">
            <a:off x="-360" y="5733360"/>
            <a:ext cx="1120680" cy="76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58920" y="765000"/>
            <a:ext cx="4753080" cy="6480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87280" y="765000"/>
            <a:ext cx="48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二、作者及现代主义文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6148440" y="1484280"/>
            <a:ext cx="2995560" cy="3861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300720" y="5548320"/>
            <a:ext cx="2665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06600"/>
                </a:solidFill>
                <a:latin typeface="隶书"/>
                <a:ea typeface="隶书"/>
              </a:rPr>
              <a:t>弗兰茨</a:t>
            </a:r>
            <a:r>
              <a:rPr b="1" lang="zh-CN" sz="2400" spc="-1" strike="noStrike">
                <a:solidFill>
                  <a:srgbClr val="006600"/>
                </a:solidFill>
                <a:latin typeface="隶书"/>
                <a:ea typeface="隶书"/>
              </a:rPr>
              <a:t>·</a:t>
            </a:r>
            <a:r>
              <a:rPr b="1" lang="zh-CN" sz="2400" spc="-1" strike="noStrike">
                <a:solidFill>
                  <a:srgbClr val="006600"/>
                </a:solidFill>
                <a:latin typeface="隶书"/>
                <a:ea typeface="隶书"/>
              </a:rPr>
              <a:t>卡夫卡     </a:t>
            </a:r>
            <a:r>
              <a:rPr b="1" lang="zh-CN" sz="2000" spc="-1" strike="noStrike">
                <a:solidFill>
                  <a:srgbClr val="006600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006600"/>
                </a:solidFill>
                <a:latin typeface="隶书"/>
                <a:ea typeface="隶书"/>
              </a:rPr>
              <a:t>1883-1924</a:t>
            </a:r>
            <a:r>
              <a:rPr b="1" lang="zh-CN" sz="2000" spc="-1" strike="noStrike">
                <a:solidFill>
                  <a:srgbClr val="006600"/>
                </a:solidFill>
                <a:latin typeface="隶书"/>
                <a:ea typeface="隶书"/>
              </a:rPr>
              <a:t>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隶书"/>
                <a:ea typeface="隶书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92360" y="3624120"/>
            <a:ext cx="4103640" cy="23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ahoma"/>
              </a:rPr>
              <a:t>现代主义文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81814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b81814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b81814"/>
                </a:solidFill>
                <a:latin typeface="Tahoma"/>
              </a:rPr>
              <a:t>、反对写实，强调表现作   家的心 灵主观感受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81814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b81814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b81814"/>
                </a:solidFill>
                <a:latin typeface="Tahoma"/>
              </a:rPr>
              <a:t>、情节荒诞离奇，细节真实细腻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81814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92360" y="1700280"/>
            <a:ext cx="431964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ahoma"/>
              </a:rPr>
              <a:t>卡夫卡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ahoma"/>
              </a:rPr>
              <a:t>奥地利小说家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ahoma"/>
              </a:rPr>
              <a:t>现代派文学的鼻祖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16:00:41Z</dcterms:created>
  <dc:creator>Administrator</dc:creator>
  <dc:description/>
  <dc:language>en-US</dc:language>
  <cp:lastModifiedBy>USER</cp:lastModifiedBy>
  <dcterms:modified xsi:type="dcterms:W3CDTF">2010-07-16T09:33:26Z</dcterms:modified>
  <cp:revision>85</cp:revision>
  <dc:subject/>
  <dc:title>变形记</dc:title>
</cp:coreProperties>
</file>