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82D0-2795-4213-8C9B-7F047AB9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34EF-EC90-4508-9D07-FD4D8EFD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B8AC-1016-4FD4-9B09-AE3AEE7B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172C-92B2-4F26-9FD1-DF6DF86D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D2BE-8864-4653-9FA5-248E3E82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93BE-11F9-4BF5-A135-53880056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BDEE-48EA-4E24-A69C-BB0F6B7E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32CE-3240-4BDD-AD05-FAD11D36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C5F3-B93C-413E-9F0F-8B9EE231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42C3-2A9F-4783-8294-D7AFB3B4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2F01-A50E-4B47-9DA6-A903BC00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BA9C-B008-4C4C-BCF0-2B3DCAF9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BCE1-453C-4F69-95AF-58FFCD4B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A4B2-DF51-415B-9208-B2B9BD5B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00CF-60AF-4233-AC24-CA38AB5A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CD07-7AC1-416B-97F2-64BDAF5C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20E2-EE0A-4C2A-A022-481FBD9A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4DB3-2A30-4FA4-B80B-92FEEFB4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7DA2-6D50-4674-81B5-6D0791E9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3DFF-8B7B-4BAF-B0C0-9E5B01E3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FB35-3D5A-49C3-9E0C-1987754A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80F8-F3FA-41BA-B466-238FD992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E9FE-62A0-4B26-9E05-238B111B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1EAC-3932-4198-803C-15B97BFE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7160-D2B8-43F6-9A61-B7B6B9662590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D817-CAD1-4FC1-B06A-917BE9859D8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n5461.org/Photo_Show.asp?PhotoID=7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2160360" cy="3284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 rot="21239400">
            <a:off x="2123640" y="765000"/>
            <a:ext cx="5545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704"/>
                <a:gd name="adj2" fmla="val -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变形记（节选）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3640" y="4149720"/>
            <a:ext cx="23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卡夫卡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３、格里高尔变成甲虫是一种象征，象征着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773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格里高尔变成甲虫象征人的异化，人性异化，人际关系异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3213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４、小说描写人变成虫的情节荒诞、变形，可为什么在读者的体验、联想中觉得真实可信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5157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是因为作者在整体荒诞的情节中运用了细节真实和心理真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788000" y="620640"/>
            <a:ext cx="3593880" cy="5666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476280"/>
            <a:ext cx="4392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者用写实的手法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仅写出了主人的身份和心理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而且写出了甲虫的行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符合甲虫的习性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即使写亲人的变化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也是符合社会生活的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种荒诞变形的艺术构思和写实的叙述方式的结合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具有强烈的象征意味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使作品荒诞得令人震惊和信服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740720" y="6093000"/>
            <a:ext cx="144360" cy="28872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288720"/>
              <a:gd name="textAreaBottom" fmla="*/ 279360 h 288720"/>
            </a:gdLst>
            <a:ahLst/>
            <a:rect l="textAreaLeft" t="textAreaTop" r="textAreaRight" b="textAreaBottom"/>
            <a:pathLst>
              <a:path w="21600" h="43146">
                <a:moveTo>
                  <a:pt x="0" y="0"/>
                </a:moveTo>
                <a:lnTo>
                  <a:pt x="21600" y="0"/>
                </a:lnTo>
                <a:lnTo>
                  <a:pt x="21600" y="43146"/>
                </a:lnTo>
                <a:lnTo>
                  <a:pt x="0" y="43146"/>
                </a:lnTo>
                <a:close/>
              </a:path>
              <a:path fill="lightenLess" w="21600" h="431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46">
                <a:moveTo>
                  <a:pt x="21600" y="0"/>
                </a:moveTo>
                <a:lnTo>
                  <a:pt x="21600" y="43146"/>
                </a:lnTo>
                <a:lnTo>
                  <a:pt x="20200" y="41746"/>
                </a:lnTo>
                <a:lnTo>
                  <a:pt x="20200" y="1400"/>
                </a:lnTo>
                <a:close/>
              </a:path>
              <a:path fill="darkenLess" w="21600" h="43146">
                <a:moveTo>
                  <a:pt x="21600" y="43146"/>
                </a:moveTo>
                <a:lnTo>
                  <a:pt x="0" y="43146"/>
                </a:lnTo>
                <a:lnTo>
                  <a:pt x="1400" y="41746"/>
                </a:lnTo>
                <a:lnTo>
                  <a:pt x="20200" y="41746"/>
                </a:lnTo>
                <a:close/>
              </a:path>
              <a:path fill="lighten" w="21600" h="43146">
                <a:moveTo>
                  <a:pt x="0" y="43146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46"/>
                </a:lnTo>
                <a:close/>
              </a:path>
              <a:path fill="darken" w="21600" h="43146">
                <a:moveTo>
                  <a:pt x="10800" y="14610"/>
                </a:moveTo>
                <a:lnTo>
                  <a:pt x="13376" y="17221"/>
                </a:lnTo>
                <a:lnTo>
                  <a:pt x="13376" y="15481"/>
                </a:lnTo>
                <a:lnTo>
                  <a:pt x="15152" y="15481"/>
                </a:lnTo>
                <a:lnTo>
                  <a:pt x="15152" y="18997"/>
                </a:lnTo>
                <a:lnTo>
                  <a:pt x="17763" y="21573"/>
                </a:lnTo>
                <a:lnTo>
                  <a:pt x="16109" y="21573"/>
                </a:lnTo>
                <a:lnTo>
                  <a:pt x="16109" y="28762"/>
                </a:lnTo>
                <a:lnTo>
                  <a:pt x="5491" y="28762"/>
                </a:lnTo>
                <a:lnTo>
                  <a:pt x="5491" y="21573"/>
                </a:lnTo>
                <a:lnTo>
                  <a:pt x="3837" y="21573"/>
                </a:lnTo>
                <a:close/>
              </a:path>
              <a:path fill="darkenLess" w="21600" h="43146">
                <a:moveTo>
                  <a:pt x="13376" y="17221"/>
                </a:moveTo>
                <a:lnTo>
                  <a:pt x="13376" y="15481"/>
                </a:lnTo>
                <a:lnTo>
                  <a:pt x="15152" y="15481"/>
                </a:lnTo>
                <a:lnTo>
                  <a:pt x="15152" y="18997"/>
                </a:lnTo>
                <a:close/>
              </a:path>
              <a:path fill="darkenLess" w="21600" h="43146">
                <a:moveTo>
                  <a:pt x="9877" y="25072"/>
                </a:moveTo>
                <a:lnTo>
                  <a:pt x="11723" y="25072"/>
                </a:lnTo>
                <a:lnTo>
                  <a:pt x="11723" y="28762"/>
                </a:lnTo>
                <a:lnTo>
                  <a:pt x="16109" y="28762"/>
                </a:lnTo>
                <a:lnTo>
                  <a:pt x="16109" y="21573"/>
                </a:lnTo>
                <a:lnTo>
                  <a:pt x="5491" y="21573"/>
                </a:lnTo>
                <a:lnTo>
                  <a:pt x="5491" y="28762"/>
                </a:lnTo>
                <a:lnTo>
                  <a:pt x="9877" y="28762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探讨格里高尔的人格形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63280" y="2637000"/>
            <a:ext cx="6193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忠厚、善良、富有责任感的个性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向往自由、争取自由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812000" y="630864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14448" y="3837"/>
                </a:moveTo>
                <a:lnTo>
                  <a:pt x="17024" y="6448"/>
                </a:lnTo>
                <a:lnTo>
                  <a:pt x="17024" y="4707"/>
                </a:lnTo>
                <a:lnTo>
                  <a:pt x="18800" y="4707"/>
                </a:lnTo>
                <a:lnTo>
                  <a:pt x="18800" y="8224"/>
                </a:lnTo>
                <a:lnTo>
                  <a:pt x="21411" y="10800"/>
                </a:lnTo>
                <a:lnTo>
                  <a:pt x="19757" y="10800"/>
                </a:lnTo>
                <a:lnTo>
                  <a:pt x="19757" y="17989"/>
                </a:lnTo>
                <a:lnTo>
                  <a:pt x="9139" y="17989"/>
                </a:lnTo>
                <a:lnTo>
                  <a:pt x="9139" y="10800"/>
                </a:lnTo>
                <a:lnTo>
                  <a:pt x="7485" y="10800"/>
                </a:lnTo>
                <a:close/>
              </a:path>
              <a:path fill="darkenLess" w="28896" h="21600">
                <a:moveTo>
                  <a:pt x="17024" y="6448"/>
                </a:moveTo>
                <a:lnTo>
                  <a:pt x="17024" y="4707"/>
                </a:lnTo>
                <a:lnTo>
                  <a:pt x="18800" y="4707"/>
                </a:lnTo>
                <a:lnTo>
                  <a:pt x="18800" y="8224"/>
                </a:lnTo>
                <a:close/>
              </a:path>
              <a:path fill="darkenLess" w="28896" h="21600">
                <a:moveTo>
                  <a:pt x="13525" y="14299"/>
                </a:moveTo>
                <a:lnTo>
                  <a:pt x="15371" y="14299"/>
                </a:lnTo>
                <a:lnTo>
                  <a:pt x="15371" y="17989"/>
                </a:lnTo>
                <a:lnTo>
                  <a:pt x="19757" y="17989"/>
                </a:lnTo>
                <a:lnTo>
                  <a:pt x="19757" y="10800"/>
                </a:lnTo>
                <a:lnTo>
                  <a:pt x="9139" y="10800"/>
                </a:lnTo>
                <a:lnTo>
                  <a:pt x="9139" y="17989"/>
                </a:lnTo>
                <a:lnTo>
                  <a:pt x="13525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00720" y="765000"/>
            <a:ext cx="4400280" cy="54864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6699"/>
                </a:solidFill>
                <a:latin typeface="Arial"/>
                <a:ea typeface="隶书"/>
              </a:rPr>
              <a:t>探讨小说的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043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华文新魏"/>
              </a:rPr>
              <a:t>小说用象征的手法表现了这样的主题：人与人之间，包括伦常之间，表面亲亲热热，内心里却是极为陌生和孤独的。人的变形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华文新魏"/>
              </a:rPr>
              <a:t>旨在逃离难以忍受的异化环境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华文新魏"/>
              </a:rPr>
              <a:t>是孤独和绝望的折射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6248520" y="59436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14383" y="3837"/>
                </a:moveTo>
                <a:lnTo>
                  <a:pt x="16959" y="6448"/>
                </a:lnTo>
                <a:lnTo>
                  <a:pt x="16959" y="4707"/>
                </a:lnTo>
                <a:lnTo>
                  <a:pt x="18735" y="4707"/>
                </a:lnTo>
                <a:lnTo>
                  <a:pt x="18735" y="8224"/>
                </a:lnTo>
                <a:lnTo>
                  <a:pt x="21346" y="10800"/>
                </a:lnTo>
                <a:lnTo>
                  <a:pt x="19692" y="10800"/>
                </a:lnTo>
                <a:lnTo>
                  <a:pt x="19692" y="17989"/>
                </a:lnTo>
                <a:lnTo>
                  <a:pt x="9074" y="17989"/>
                </a:lnTo>
                <a:lnTo>
                  <a:pt x="9074" y="10800"/>
                </a:lnTo>
                <a:lnTo>
                  <a:pt x="7420" y="10800"/>
                </a:lnTo>
                <a:close/>
              </a:path>
              <a:path fill="darkenLess" w="28766" h="21600">
                <a:moveTo>
                  <a:pt x="16959" y="6448"/>
                </a:moveTo>
                <a:lnTo>
                  <a:pt x="16959" y="4707"/>
                </a:lnTo>
                <a:lnTo>
                  <a:pt x="18735" y="4707"/>
                </a:lnTo>
                <a:lnTo>
                  <a:pt x="18735" y="8224"/>
                </a:lnTo>
                <a:close/>
              </a:path>
              <a:path fill="darkenLess" w="28766" h="21600">
                <a:moveTo>
                  <a:pt x="13460" y="14299"/>
                </a:moveTo>
                <a:lnTo>
                  <a:pt x="15306" y="14299"/>
                </a:lnTo>
                <a:lnTo>
                  <a:pt x="15306" y="17989"/>
                </a:lnTo>
                <a:lnTo>
                  <a:pt x="19692" y="17989"/>
                </a:lnTo>
                <a:lnTo>
                  <a:pt x="19692" y="10800"/>
                </a:lnTo>
                <a:lnTo>
                  <a:pt x="9074" y="10800"/>
                </a:lnTo>
                <a:lnTo>
                  <a:pt x="9074" y="17989"/>
                </a:lnTo>
                <a:lnTo>
                  <a:pt x="13460" y="1798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227640" y="4869000"/>
            <a:ext cx="2737080" cy="1989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7d"/>
                </a:solidFill>
                <a:latin typeface="Arial"/>
                <a:ea typeface="隶书"/>
              </a:rPr>
              <a:t>用心理描写的方法刻画人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7d"/>
                </a:solidFill>
                <a:latin typeface="华文行楷"/>
                <a:ea typeface="华文行楷"/>
              </a:rPr>
              <a:t>通过心理描写表现格里高尔过去的生活</a:t>
            </a:r>
            <a:r>
              <a:rPr b="1" lang="zh-CN" sz="6000" spc="-1" strike="noStrike">
                <a:solidFill>
                  <a:srgbClr val="00007d"/>
                </a:solidFill>
                <a:latin typeface="华文行楷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00007d"/>
                </a:solidFill>
                <a:latin typeface="华文行楷"/>
                <a:ea typeface="华文行楷"/>
              </a:rPr>
              <a:t>变甲虫后的思想感情和个性特点</a:t>
            </a:r>
            <a:r>
              <a:rPr b="1" lang="zh-CN" sz="6000" spc="-1" strike="noStrike">
                <a:solidFill>
                  <a:srgbClr val="00007d"/>
                </a:solidFill>
                <a:latin typeface="华文行楷"/>
                <a:ea typeface="华文行楷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202608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7d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7d"/>
                </a:solidFill>
                <a:latin typeface="楷体_GB2312"/>
                <a:ea typeface="楷体_GB2312"/>
              </a:rPr>
              <a:t>认识小说所揭示的西方现代社会“现代人的困惑”问题，引导学生思考人的生存问题。体会作品揭示的资本主义社会的人际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7d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7d"/>
                </a:solidFill>
                <a:latin typeface="楷体_GB2312"/>
                <a:ea typeface="楷体_GB2312"/>
              </a:rPr>
              <a:t>理解小说反映的生活真实和艺术真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7d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7d"/>
                </a:solidFill>
                <a:latin typeface="楷体_GB2312"/>
                <a:ea typeface="楷体_GB2312"/>
              </a:rPr>
              <a:t>了解并领会小说寓真实于荒诞的隐喻表现手法和</a:t>
            </a:r>
            <a:r>
              <a:rPr b="1" lang="zh-CN" sz="2800" spc="-1" strike="noStrike">
                <a:solidFill>
                  <a:srgbClr val="00007d"/>
                </a:solidFill>
                <a:latin typeface="楷体_GB2312"/>
                <a:ea typeface="楷体_GB2312"/>
              </a:rPr>
              <a:t>心理描写塑造人物的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60280"/>
            <a:ext cx="81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60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明确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59640" y="5181480"/>
            <a:ext cx="2484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弗兰茨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·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卡夫卡（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1883---1924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），奥地利小说家。初誉为“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20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世纪最优秀作家之一”“传奇英雄和圣徒式的人物”。主要作品有长篇小说《审判》《城堡》《美国》等。其作品把虚幻的离奇荒诞现象和现实的本质真实结合起来，就构成了真正的“卡夫卡式”的小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754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隶书"/>
              </a:rPr>
              <a:t>卡夫卡善于运用象征、夸张、变形的艺术手法，揭示现代社会所面临的困境和“现代人的困惑”。作品情节荒诞不经，却蕴含深意。卡夫卡生前长期同父亲不和，体弱多病，一生未婚；身后获得殊荣，被尊为西方现代主义文学的先驱和大师。他的创作对他以后的现代主义各派都产生了重大影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685800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564000" y="5516640"/>
            <a:ext cx="51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5516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57340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卡夫卡铜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3336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西方现代派文学又称现代主义或先锋主义，是指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世纪末叶以来，在现实主义、浪漫主义、自然主义之外的一种文学流派。现代派是一个总称，其中包括后期象征主义、未来主义、表现主义、意识流、新小说、存在主义、荒诞派、黑色幽默、魔幻现实主义、垮掉的一代、迷惘的一代、愤怒的青年等等。它是当代资产阶级文学的重要流派。西方现代派是资本主义进入帝国主义时期出现的。此时，统治阶级和人民的矛盾日益尖锐，资本主义经济危机不断发生，资本主义国家之间也矛盾重重。由此引发了严重的思想危机。知识分子感到生活空虚、精神苦闷，而产生了“世纪末的悲哀”，认识现实是荒诞的不可理解的，因而退到“自我”里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情节脉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、写格里高尔发现自己变成“巨大的甲虫”，惊慌而又忧郁，父亲发现后，把他赶回了自己的卧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二、写格里高尔变了，养成了甲虫的习性，却保留了人的意识。他失业了，仍关心着怎样还清父亲的债务，送妹妹上音乐学院。可是，一个月后，他成了全家的累赘。父亲、母亲、妹妹对他改变了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、写为了生存，家人只好打工挣钱，并且忍受不了格里高尔这个负担。原来一直爱着他的妹妹终于提出把他弄走。格里高尔又饿又病，陷入绝望。最后，“他怀着深情的爱意回忆他的一家人”死了。父亲、母亲、妹妹开始过着自己养活自己的新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086600" y="63244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04280" y="13413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情节的发展由两条线索交互展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47400" y="19890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格里高尔：变成甲虫——成为累赘——绝望而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068640"/>
            <a:ext cx="813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里亲人：惊慌、同情——逐渐憎恨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他弄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764240" y="1836720"/>
            <a:ext cx="155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95760" y="425448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问题探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836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隶书"/>
              </a:rPr>
              <a:t>１、细读课文，找出格里高尔变形的原因，说说是什么使格里高尔失去了人的本质，异化为非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3166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工作的辛苦、饮食的低劣、友情淡薄、心里烦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9120" y="487512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14972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（２）还债的心理压力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受老板的气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使格里高尔生活在重压之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3120" y="5445000"/>
            <a:ext cx="88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隶书"/>
              </a:rPr>
              <a:t>社会的原因、家庭的原因、心理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11592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7d"/>
                </a:solidFill>
                <a:latin typeface="隶书"/>
                <a:ea typeface="隶书"/>
              </a:rPr>
              <a:t>、课文中的格里高尔是一个”虫形而人心“的异类，但在他身上，我们仍然能看到人的一些特征。找出课文中描写这一特征的语句，并思考作者这样写与本文的主旨是否矛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2349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不是为了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过眼下我还是 起床为妙，因为火车五点钟就要开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343368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隶书"/>
              </a:rPr>
              <a:t>这些语句表明格里高尔是“虫形而人心”的异类。他的人格形象集中在两个方面，一是挣钱养家，显示他忠厚、善良，可以说，对父母他是个孝子，对妹妹他是个好哥哥，对公司他是个富有责任感的好职员；一是争取自由，还清父债而追求时来运转，自由独立，但最终在无奈与平和中追求另外一种超脱－－－－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3:44:53Z</dcterms:created>
  <dc:creator>shx</dc:creator>
  <dc:description/>
  <dc:language>en-US</dc:language>
  <cp:lastModifiedBy>BenQ CUSTOMER</cp:lastModifiedBy>
  <dcterms:modified xsi:type="dcterms:W3CDTF">2008-06-13T08:25:56Z</dcterms:modified>
  <cp:revision>30</cp:revision>
  <dc:subject/>
  <dc:title>幻灯片 1</dc:title>
</cp:coreProperties>
</file>