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FF0A-BBD9-4E2A-8BEA-F5A2B61402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5A46-079D-4451-A95D-56048996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E95-09CC-4F7B-AEB6-38C33CAE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68F-5C3C-43B7-8893-806C30C1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DB41-991B-41C5-9CB6-A3BA8495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130-DF78-4A80-AA3A-E35584CB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3E8-B8DA-4F65-91A9-2F28FC90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947-9F7C-46E5-926C-028C79A9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A65-F20A-4FD9-8F77-C096525C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9A8-01C8-423C-9E0E-DCB61C10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1DD-0366-45CD-ACA0-0E1E37E5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AFE-50BF-4BE2-BAEE-3260078F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020-F55E-4297-80E0-CFD0A486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328B-A3ED-44DA-BAC3-AFDCFE0EDF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52680" y="3581280"/>
            <a:ext cx="3200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泊秦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杜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1447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写迷蒙的月色和轻烟笼罩着寒水和岸沙。这是秦淮河美丽的夜景，着墨不多而风情毕现，意境非常淡雅。连用两个“笼”字，用字妥帖而有韵味。烟、寒水、月、沙，都是最能反映秦淮河风貌的特有景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853452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858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诗人在此用了曲笔。试想一下，歌女所唱，还不是为取悦寻欢作乐的达官贵人吗？可见“不知亡国恨”的是那些听歌的家伙。“不知”二字，凸现出诗人的感慨之深；一个“犹”字，凸现出诗人的忧愤之切。在杜牧看来，晚唐政局已经危机四伏，达官贵人不以国事为重，仍然过着纸醉金迷的生活，今日听亡国之音取乐，明日有可能自己就要上演亡国的悲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86104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6187"/>
                </a:moveTo>
                <a:lnTo>
                  <a:pt x="17806" y="9181"/>
                </a:lnTo>
                <a:lnTo>
                  <a:pt x="17806" y="231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71600" y="533520"/>
            <a:ext cx="5638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本诗主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者借古讽今，抨击了那些沉迷酒色、不理朝政的上层人物，表达了诗人对国家命运的关怀和忧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541520"/>
            <a:ext cx="6858000" cy="5316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09480" y="0"/>
            <a:ext cx="5639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8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请你参与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457200"/>
            <a:ext cx="1190520" cy="121428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182520 h 1214280"/>
              <a:gd name="textAreaBottom" fmla="*/ 10317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499" stAng="-5400000" swAng="5400000"/>
                <a:lnTo>
                  <a:pt x="21600" y="15101"/>
                </a:lnTo>
                <a:arcTo wR="21600" hR="6499" stAng="0" swAng="911544"/>
                <a:lnTo>
                  <a:pt x="16035" y="19455"/>
                </a:lnTo>
                <a:lnTo>
                  <a:pt x="0" y="17299"/>
                </a:lnTo>
                <a:lnTo>
                  <a:pt x="16035" y="10853"/>
                </a:lnTo>
                <a:lnTo>
                  <a:pt x="16035" y="10853"/>
                </a:lnTo>
                <a:arcTo wR="21600" hR="6499" stAng="911544" swAng="-19067"/>
                <a:lnTo>
                  <a:pt x="16193" y="10800"/>
                </a:lnTo>
                <a:arcTo wR="21600" hR="6499" stAng="-892477" swAng="-4507523"/>
                <a:close/>
              </a:path>
              <a:path fill="darkenLess" w="21600" h="21600">
                <a:moveTo>
                  <a:pt x="0" y="0"/>
                </a:moveTo>
                <a:arcTo wR="21600" hR="6499" stAng="-5400000" swAng="5400000"/>
                <a:lnTo>
                  <a:pt x="21600" y="15101"/>
                </a:lnTo>
                <a:arcTo wR="21600" hR="6499" stAng="0" swAng="-892477"/>
                <a:lnTo>
                  <a:pt x="16193" y="10800"/>
                </a:lnTo>
                <a:arcTo wR="21600" hR="6499" stAng="-892477" swAng="-4507523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93320" y="1828800"/>
            <a:ext cx="850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你能给大家介绍一下你所知道的秦淮河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4911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33520" y="5486400"/>
            <a:ext cx="44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秦淮</a:t>
            </a:r>
            <a:r>
              <a:rPr b="0" lang="en-US" sz="54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——</a:t>
            </a:r>
            <a:r>
              <a:rPr b="0" lang="zh-CN" sz="5400" spc="-1" strike="noStrike">
                <a:solidFill>
                  <a:srgbClr val="a50021"/>
                </a:solidFill>
                <a:latin typeface="Times New Roman"/>
                <a:ea typeface="方正舒体"/>
              </a:rPr>
              <a:t>我梦中的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7924680" cy="4952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62120" y="380880"/>
            <a:ext cx="7848360" cy="488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85800" y="380880"/>
            <a:ext cx="7924680" cy="4937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85800" y="351000"/>
            <a:ext cx="7924680" cy="492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9480" y="304920"/>
            <a:ext cx="800100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41360" y="4222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Arial Unicode MS"/>
              </a:rPr>
              <a:t>秦淮河的水是碧阴阴的；看起来厚而不腻，或者是六朝金粉所凝么？我们初上船的时 候，天色还未断黑，那漾漾的柔波是这样的恬静，委婉，使我们一面有水阔天空之想，一面 又憧憬着纸醉金迷之境了。等到灯火明时，阴阴的变为沉沉了：黯淡的水光，像梦一般；那 偶然闪烁着的光芒，就是梦的眼睛了。我们坐在舱前，因了那隆起的顶棚，仿佛总是昂着首 向前走着似的；于是飘飘然如御风而行的我们，看着那些自在的湾泊着的船，船里走马灯般 的人物，便像是下界一般，迢迢的远了，又像在雾里看花，尽朦朦胧胧的。这时我们已过了 利涉桥，望见东关头了。沿路听见断续的歌声：有从沿河的妓楼飘来的，有从河上船里度来 的。我们明知那些歌声，只是些因袭的言词，从生涩的歌喉里机械的发出来的；但它们经了 夏夜的微风的吹漾和水波的摇拂，袅娜着到我们耳边的时候，已经不单是她们的歌声，而混 着微风和河水的密语了。于是我们不得不被牵惹着，震撼着，相与浮沉于这歌声里了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节选自朱自清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桨声灯影里的秦淮河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692280"/>
            <a:ext cx="8496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教学反思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此诗在教学过程中要引导学生了解作者借古讽今的两个背景：一个是唐王朝晚期的社会状况，一个是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玉树后庭花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历史典故中包含的寓意。同时，学生对“商女”的理解普遍不正确，要加以解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46720" y="0"/>
            <a:ext cx="269532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10900"/>
                </a:solidFill>
                <a:latin typeface="Arial"/>
                <a:ea typeface="黑体"/>
              </a:rPr>
              <a:t>绝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10900"/>
                </a:solidFill>
                <a:latin typeface="Arial"/>
              </a:rPr>
              <a:t>李清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Arial"/>
              </a:rPr>
              <a:t>生当做人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Arial"/>
              </a:rPr>
              <a:t>死亦为鬼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Arial"/>
              </a:rPr>
              <a:t>至今思项羽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Arial"/>
                <a:ea typeface="Arial"/>
              </a:rPr>
              <a:t>不肯过江东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00520" cy="4648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91320" y="0"/>
            <a:ext cx="2452680" cy="4710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4800600"/>
            <a:ext cx="8534160" cy="1251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imes New Roman"/>
                <a:ea typeface="黑体"/>
              </a:rPr>
              <a:t>评</a:t>
            </a: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诗中歌颂了项羽这位失败的英雄，同时也</a:t>
            </a:r>
            <a:r>
              <a:rPr b="0" lang="zh-CN" sz="32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隐讽赵构的昏庸和南宋政权苟且偷安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这既是咏史诗，也是言志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154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71800" y="6094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古诗欣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6172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7301"/>
                </a:moveTo>
                <a:lnTo>
                  <a:pt x="6244" y="7301"/>
                </a:lnTo>
                <a:lnTo>
                  <a:pt x="6627" y="7667"/>
                </a:lnTo>
                <a:lnTo>
                  <a:pt x="15836" y="7667"/>
                </a:lnTo>
                <a:lnTo>
                  <a:pt x="16393" y="8224"/>
                </a:lnTo>
                <a:lnTo>
                  <a:pt x="16393" y="8772"/>
                </a:lnTo>
                <a:lnTo>
                  <a:pt x="18238" y="8772"/>
                </a:lnTo>
                <a:lnTo>
                  <a:pt x="18603" y="8224"/>
                </a:lnTo>
                <a:lnTo>
                  <a:pt x="19343" y="8224"/>
                </a:lnTo>
                <a:lnTo>
                  <a:pt x="19343" y="13376"/>
                </a:lnTo>
                <a:lnTo>
                  <a:pt x="18603" y="13376"/>
                </a:lnTo>
                <a:lnTo>
                  <a:pt x="18238" y="12828"/>
                </a:lnTo>
                <a:lnTo>
                  <a:pt x="16393" y="12828"/>
                </a:lnTo>
                <a:lnTo>
                  <a:pt x="16393" y="14107"/>
                </a:lnTo>
                <a:lnTo>
                  <a:pt x="6810" y="14107"/>
                </a:lnTo>
                <a:lnTo>
                  <a:pt x="6810" y="9877"/>
                </a:lnTo>
                <a:lnTo>
                  <a:pt x="6627" y="9877"/>
                </a:lnTo>
                <a:lnTo>
                  <a:pt x="6244" y="10243"/>
                </a:lnTo>
                <a:lnTo>
                  <a:pt x="5330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81080" y="3808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烟笼寒水月笼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9680" y="5943600"/>
            <a:ext cx="58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夜泊秦淮近酒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154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09680" y="4343400"/>
            <a:ext cx="4343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商女不知亡国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隔江犹唱后庭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391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124080" y="1523880"/>
            <a:ext cx="533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泊秦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华文行楷"/>
              </a:rPr>
              <a:t>杜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烟笼寒水月笼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夜泊秦淮近酒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商女不知亡国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隔江犹唱</a:t>
            </a:r>
            <a:r>
              <a:rPr b="0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后庭花</a:t>
            </a:r>
            <a:r>
              <a:rPr b="0" lang="en-US" sz="3600" spc="-1" strike="noStrike">
                <a:solidFill>
                  <a:srgbClr val="3333cc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14400" y="5791320"/>
          <a:ext cx="723960" cy="47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791320"/>
                    <a:ext cx="723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28600" y="304920"/>
            <a:ext cx="3063960" cy="265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1</a:t>
            </a:r>
            <a:r>
              <a:rPr b="0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你最欣赏这首诗的哪些句子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你认为作者听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3</a:t>
            </a:r>
            <a:r>
              <a:rPr b="0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这首诗实际上是批评谁？哪个字最有力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49400" y="1143000"/>
            <a:ext cx="261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烟笼寒水月笼沙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夜泊秦淮近酒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12952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写景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夜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124080"/>
            <a:ext cx="350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交代时间、地点“近酒家”引出下文“商女”的出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2057400"/>
            <a:ext cx="4191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商女不知亡国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隔江犹唱后庭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22860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362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抒发了作者的忧愤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5181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名句欣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烟笼寒水月笼沙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362320"/>
            <a:ext cx="701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3:29:02Z</dcterms:created>
  <dc:creator>bluewater</dc:creator>
  <dc:description/>
  <cp:keywords/>
  <dc:language>en-US</dc:language>
  <cp:lastModifiedBy>zmj</cp:lastModifiedBy>
  <cp:lastPrinted>1899-12-30T00:00:00Z</cp:lastPrinted>
  <dcterms:modified xsi:type="dcterms:W3CDTF">2011-09-17T11:43:45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