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8.jpeg" ContentType="image/jpeg"/>
  <Override PartName="/ppt/media/image2.gif" ContentType="image/gif"/>
  <Override PartName="/ppt/media/image12.gif" ContentType="image/gif"/>
  <Override PartName="/ppt/media/image3.jpeg" ContentType="image/jpeg"/>
  <Override PartName="/ppt/media/image7.gif" ContentType="image/gif"/>
  <Override PartName="/ppt/media/image11.gif" ContentType="image/gif"/>
  <Override PartName="/ppt/media/image6.gif" ContentType="image/gif"/>
  <Override PartName="/ppt/media/image9.png" ContentType="image/png"/>
  <Override PartName="/ppt/media/image10.gif" ContentType="image/gif"/>
  <Override PartName="/ppt/media/image23.gif" ContentType="image/gif"/>
  <Override PartName="/ppt/media/image22.gif" ContentType="image/gif"/>
  <Override PartName="/ppt/media/image5.gif" ContentType="image/gif"/>
  <Override PartName="/ppt/media/image4.gif" ContentType="image/gif"/>
  <Override PartName="/ppt/media/image21.gif" ContentType="image/gif"/>
  <Override PartName="/ppt/media/image19.gif" ContentType="image/gif"/>
  <Override PartName="/ppt/media/image1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9D8-0EC9-47D1-89B5-E5606696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D5C-4BD2-48EC-8C84-C85A65EF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F2D-39D9-4928-B829-9EB3684F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74A0-1531-4C1F-A387-BEF84F1E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7FA-D0E6-4C05-B266-4B6D99C5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F1A3-39D1-403C-86F9-638BB1BA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28D-9963-4BA6-8622-BD1A9AD9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3A7-1DC8-490A-8FA4-88B3D514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141-5B59-4BCD-98B4-EB9A97BC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0D3-F854-478D-AC6F-04906C33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0F2E-474D-4331-85EC-04968B7F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3C8B-7FFB-466F-A783-576990A3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349C-C43B-464E-83F6-3E7A3FCA06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朝古都金陵的秦淮河两岸历来是达官贵人们享乐游宴的场所，“秦淮”也逐渐成为奢靡生活的代称。诗人夜泊于此，眼见灯红酒绿，耳闻淫歌艳曲，触景生情，又想到唐朝国势日衰，当权者昏庸荒淫，便感慨万千，写下了这首诗：《泊秦淮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00" cy="1224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前两句（写景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淡烟寒水，朦胧凄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后两句（抒情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批判权贵，忧国忧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诗歌赏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首句写景，先竭力渲染水边夜色的清淡素雅；二句叙事，点明夜泊地点；三、四句感怀，由“近酒家”引出商女之歌，酒家多有歌妓，自然洒脱；由歌曲之靡靡，牵出“不知亡国恨”，抨击豪绅权贵沉溺于声色，含蓄深沉；由“亡国恨”推出“后庭花”的曲调，借陈后主之尸，鞭笞权贵的荒淫，深刻犀利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5440" cy="1413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211640" y="6093000"/>
            <a:ext cx="1360440" cy="765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783560" y="6308640"/>
            <a:ext cx="1360440" cy="549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诗中运用的形象的动词描绘了一幅迷茫、冷落景色的诗句是哪两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烟笼寒水月笼沙，夜泊秦淮近酒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达诗人关心国家命运而无比忧愤的诗句是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哪两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商女不知亡国恨，隔江犹唱《后庭花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95640" y="5877000"/>
            <a:ext cx="6948360" cy="981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第一句中两个“笼”字好在哪里？请做简要分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两个“笼”字，将烟、水、月、沙四种景物融为一体，贴切传神地勾画出秦淮河两岸朦胧淡雅的景象，创造出一种冷清愁寂的氛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“犹”字蕴含了哪些丰富的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象地写出了晚唐统治者重蹈覆辙，正沿着亡国路走下去的情形，表现出诗人对国家命运的关切和忧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740720" y="3357720"/>
            <a:ext cx="1403280" cy="1079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诗的后两句表达了诗人怎样的思想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两句描绘了晚唐时表面上是歌舞升平的情景，用委婉含蓄的曲笔手法，表达了诗人忧国忧民的思想感情。作者表面上批判的是歌女，实际上批评的是沉迷于声色、不理朝政的晚唐统治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5445000"/>
            <a:ext cx="9144000" cy="1629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泊秦淮》是杜牧游金陵，夜泊秦淮时所作。流经城内的秦淮河两岸，从六朝以来，一直是权贵富豪纵情声色、寻欢作乐的地方。诗人泊舟于此，眼见灯红酒绿，耳闻淫歌艳曲，触景生情，借古讽今，写下了这首七绝，抨击那些沉湎酒色、不理朝政的上层人物，表达了诗人对国家命运的关怀和忧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672000" y="5877000"/>
            <a:ext cx="5472000" cy="981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52520" cy="1279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借古讽今，抨击了那些沉迷酒色、不理朝政的上层人物，表达了诗人对国家命运的关怀和忧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48000" y="3500280"/>
            <a:ext cx="579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泊秦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杜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03280" y="3500280"/>
            <a:ext cx="158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9900"/>
                </a:solidFill>
                <a:latin typeface="Arial"/>
              </a:rPr>
              <a:t>政治讽刺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累词汇，复习有关杜牧的文学常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体会诗人对国家命运的关切，对世风日下和时局动荡的忧愤之情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诗人情景交融，借古讽今的艺术手法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背诵、默写诗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64000" y="4797360"/>
            <a:ext cx="3780000" cy="2060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2411280" cy="1052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题目解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泊”，停泊、靠岸之意。“秦淮”即秦淮河。诗人夜晚泊舟秦淮河畔，借写眼前之景而抒现实之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首诗是即景感怀的，金 陵曾是六朝都城，繁华一时。目睹如今的唐朝国势日衰，当权者昏庸荒淫，不免要重蹈六朝覆辙，诗人不禁无限感伤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5445000"/>
            <a:ext cx="9144000" cy="141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1386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-387360"/>
            <a:ext cx="2700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作者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56000" y="0"/>
            <a:ext cx="6588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杜牧（公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0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5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），字牧之，号樊川居士，汉族，京兆万年（今陕西西安）人，唐代诗人。杜牧人称“小杜”，以别于杜甫。与李商隐并称“小李杜”。因晚年居长安南樊川别墅，故后世称“杜樊川”，著有《樊川文集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2484360" cy="6021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朗读诗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泊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秦淮    杜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烟笼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寒水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笼沙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夜泊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秦淮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酒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商女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知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亡国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恨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隔江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犹唱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后庭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花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936720" cy="165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5419800"/>
            <a:ext cx="9144000" cy="14382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236000" y="0"/>
            <a:ext cx="1908000" cy="3789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32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注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秦淮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即秦淮河，发源于江苏句容大茅山与溧水东庐山两山间，经南京流入长江。相传为秦始皇南巡会稽时开凿的，用来疏通淮水，故称秦淮河。历代均为繁华的游赏之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烟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烟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泊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停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580000" y="4365720"/>
            <a:ext cx="3564000" cy="2492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商女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卖唱为生的歌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后庭花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歌曲《玉树后庭花》的简称。南朝陈皇帝陈叔宝（即陈后主）溺于声色，作此曲与后宫美女寻欢作乐，终致亡国，所以后世把此曲作为亡国之音的代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914400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烟雾弥漫秋水，月光笼罩白沙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小船夜泊秦淮，靠近岸边酒家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歌女为人作乐，那知亡国之恨？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她们在岸那边，还唱着后庭花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91440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8T05:09:12Z</dcterms:created>
  <dc:creator>未知用户</dc:creator>
  <dc:description/>
  <dc:language>en-US</dc:language>
  <cp:lastModifiedBy>未知用户</cp:lastModifiedBy>
  <dcterms:modified xsi:type="dcterms:W3CDTF">2017-03-31T07:42:03Z</dcterms:modified>
  <cp:revision>11</cp:revision>
  <dc:subject/>
  <dc:title>幻灯片 1</dc:title>
</cp:coreProperties>
</file>