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4.jpeg" ContentType="image/jpeg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C0EB-4B56-451F-B30C-25EF7636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7D4-9140-4886-A223-380654C9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1F8-47C0-49EC-A334-8C6D30DB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623-A240-4C7E-8CFF-6E03BA03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412-7153-4532-9EC2-7C913940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C49-95A8-40E7-82E3-445BA5D1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118-074F-4A1F-8C60-414C2AA2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41A-2B40-4477-8E13-5E1E677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0D4-8240-43C9-90EC-9B8B68C6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72D-71FC-40E5-AC7D-45FC2BF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D36-1218-4B77-8B53-891096B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A6B-86C3-4575-A757-A33F2CD6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466-1157-4735-AE49-86C0B4960F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49" descr="泊秦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051"/>
          <p:cNvSpPr/>
          <p:nvPr/>
        </p:nvSpPr>
        <p:spPr>
          <a:xfrm>
            <a:off x="6257880" y="54403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2052"/>
          <p:cNvSpPr/>
          <p:nvPr/>
        </p:nvSpPr>
        <p:spPr>
          <a:xfrm>
            <a:off x="5776200" y="609480"/>
            <a:ext cx="2271600" cy="143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泊秦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文本框 2053"/>
          <p:cNvSpPr/>
          <p:nvPr/>
        </p:nvSpPr>
        <p:spPr>
          <a:xfrm>
            <a:off x="6081840" y="2325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唐   杜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2289"/>
          <p:cNvSpPr/>
          <p:nvPr/>
        </p:nvSpPr>
        <p:spPr>
          <a:xfrm>
            <a:off x="4876920" y="304920"/>
            <a:ext cx="3581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a50021"/>
                </a:solidFill>
                <a:latin typeface="Times New Roman"/>
              </a:rPr>
              <a:t>这是一首托古讽时诗，意在借贾谊的遭遇，抒写诗人怀才不遇的感慨。诗选取汉文帝宣室召见贾谊，夜半倾谈的情节，写文帝不能识贤，任贤；“不问苍生问鬼神”却揭露了晚唐皇帝服药求仙，荒于政事，不能任贤，不顾民生的昏庸特性。诗寓慨于讽，讽刺效果颇好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12290"/>
          <p:cNvSpPr/>
          <p:nvPr/>
        </p:nvSpPr>
        <p:spPr>
          <a:xfrm>
            <a:off x="799200" y="847800"/>
            <a:ext cx="3106800" cy="46652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6000" spc="-1" strike="noStrike">
                <a:solidFill>
                  <a:srgbClr val="a50021"/>
                </a:solidFill>
                <a:latin typeface="隶书"/>
                <a:ea typeface="隶书"/>
              </a:rPr>
              <a:t>贾生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李商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宣室求贤访逐臣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贾生才调更无伦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怜夜半虚前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问苍生问鬼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4337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14338"/>
          <p:cNvSpPr/>
          <p:nvPr/>
        </p:nvSpPr>
        <p:spPr>
          <a:xfrm>
            <a:off x="2414880" y="914400"/>
            <a:ext cx="4447800" cy="3750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隶书"/>
              </a:rPr>
              <a:t>本节课到此结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隶书"/>
              </a:rPr>
              <a:t>谢谢大家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074" descr="it1"/>
          <p:cNvPicPr/>
          <p:nvPr/>
        </p:nvPicPr>
        <p:blipFill>
          <a:blip r:embed="rId1"/>
          <a:stretch/>
        </p:blipFill>
        <p:spPr>
          <a:xfrm>
            <a:off x="0" y="1541520"/>
            <a:ext cx="6858000" cy="5316480"/>
          </a:xfrm>
          <a:prstGeom prst="rect">
            <a:avLst/>
          </a:prstGeom>
          <a:ln w="0">
            <a:noFill/>
          </a:ln>
        </p:spPr>
      </p:pic>
      <p:sp>
        <p:nvSpPr>
          <p:cNvPr id="46" name="矩形 3077"/>
          <p:cNvSpPr txBox="1"/>
          <p:nvPr/>
        </p:nvSpPr>
        <p:spPr>
          <a:xfrm>
            <a:off x="609480" y="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请你参与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右弧形箭头 3078"/>
          <p:cNvSpPr/>
          <p:nvPr/>
        </p:nvSpPr>
        <p:spPr>
          <a:xfrm>
            <a:off x="7162920" y="457200"/>
            <a:ext cx="1190520" cy="121428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185400 h 1214280"/>
              <a:gd name="textAreaBottom" fmla="*/ 101772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599" stAng="-5400000" swAng="5400000"/>
                <a:lnTo>
                  <a:pt x="21600" y="14801"/>
                </a:lnTo>
                <a:arcTo wR="21600" hR="6599" stAng="0" swAng="1012959"/>
                <a:lnTo>
                  <a:pt x="15324" y="19652"/>
                </a:lnTo>
                <a:lnTo>
                  <a:pt x="0" y="17299"/>
                </a:lnTo>
                <a:lnTo>
                  <a:pt x="15324" y="11050"/>
                </a:lnTo>
                <a:lnTo>
                  <a:pt x="15324" y="11250"/>
                </a:lnTo>
                <a:arcTo wR="21600" hR="6599" stAng="1012959" swAng="-195611"/>
                <a:lnTo>
                  <a:pt x="16922" y="10700"/>
                </a:lnTo>
                <a:arcTo wR="21600" hR="6599" stAng="-817348" swAng="-4582652"/>
                <a:close/>
              </a:path>
              <a:path fill="darkenLess" w="21600" h="21600">
                <a:moveTo>
                  <a:pt x="0" y="0"/>
                </a:moveTo>
                <a:arcTo wR="21600" hR="6599" stAng="-5400000" swAng="5400000"/>
                <a:lnTo>
                  <a:pt x="21600" y="14801"/>
                </a:lnTo>
                <a:arcTo wR="21600" hR="6599" stAng="0" swAng="-817348"/>
                <a:lnTo>
                  <a:pt x="16922" y="10700"/>
                </a:lnTo>
                <a:arcTo wR="21600" hR="6599" stAng="-817348" swAng="-458265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文本框 3079"/>
          <p:cNvSpPr/>
          <p:nvPr/>
        </p:nvSpPr>
        <p:spPr>
          <a:xfrm>
            <a:off x="8293320" y="1828800"/>
            <a:ext cx="85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你能给大家介绍一下你所知道的秦淮河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4097" descr="2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49118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4098"/>
          <p:cNvSpPr/>
          <p:nvPr/>
        </p:nvSpPr>
        <p:spPr>
          <a:xfrm>
            <a:off x="2333520" y="5486400"/>
            <a:ext cx="44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秦淮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我梦中的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片 4099" descr="1"/>
          <p:cNvPicPr/>
          <p:nvPr/>
        </p:nvPicPr>
        <p:blipFill>
          <a:blip r:embed="rId2"/>
          <a:stretch/>
        </p:blipFill>
        <p:spPr>
          <a:xfrm>
            <a:off x="685800" y="30492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100" descr="3"/>
          <p:cNvPicPr/>
          <p:nvPr/>
        </p:nvPicPr>
        <p:blipFill>
          <a:blip r:embed="rId3"/>
          <a:stretch/>
        </p:blipFill>
        <p:spPr>
          <a:xfrm>
            <a:off x="762120" y="380880"/>
            <a:ext cx="7848360" cy="4889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101" descr="4"/>
          <p:cNvPicPr/>
          <p:nvPr/>
        </p:nvPicPr>
        <p:blipFill>
          <a:blip r:embed="rId4"/>
          <a:stretch/>
        </p:blipFill>
        <p:spPr>
          <a:xfrm>
            <a:off x="685800" y="380880"/>
            <a:ext cx="7924680" cy="4937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102" descr="QHH"/>
          <p:cNvPicPr/>
          <p:nvPr/>
        </p:nvPicPr>
        <p:blipFill>
          <a:blip r:embed="rId5"/>
          <a:stretch/>
        </p:blipFill>
        <p:spPr>
          <a:xfrm>
            <a:off x="685800" y="351000"/>
            <a:ext cx="7924680" cy="49244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103" descr="U461P1T1D3029436F21DT20040316141204"/>
          <p:cNvPicPr/>
          <p:nvPr/>
        </p:nvPicPr>
        <p:blipFill>
          <a:blip r:embed="rId6"/>
          <a:stretch/>
        </p:blipFill>
        <p:spPr>
          <a:xfrm>
            <a:off x="609480" y="304920"/>
            <a:ext cx="80010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5121"/>
          <p:cNvSpPr/>
          <p:nvPr/>
        </p:nvSpPr>
        <p:spPr>
          <a:xfrm>
            <a:off x="441360" y="422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Arial Unicode MS"/>
              </a:rPr>
              <a:t>秦淮河的水是碧阴阴的；看起来厚而不腻，或者是六朝金粉所凝么？我们初上船的时 候，天色还未断黑，那漾漾的柔波是这样的恬静，委婉，使我们一面有水阔天空之想，一面 又憧憬着纸醉金迷之境了。等到灯火明时，阴阴的变为沉沉了：黯淡的水光，像梦一般；那 偶然闪烁着的光芒，就是梦的眼睛了。我们坐在舱前，因了那隆起的顶棚，仿佛总是昂着首 向前走着似的；于是飘飘然如御风而行的我们，看着那些自在的湾泊着的船，船里走马灯般 的人物，便像是下界一般，迢迢的远了，又像在雾里看花，尽朦朦胧胧的。这时我们已过了 利涉桥，望见东关头了。沿路听见断续的歌声：有从沿河的妓楼飘来的，有从河上船里度来 的。我们明知那些歌声，只是些因袭的言词，从生涩的歌喉里机械的发出来的；但它们经了 夏夜的微风的吹漾和水波的摇拂，袅娜着到我们耳边的时候，已经不单是她们的歌声，而混 着微风和河水的密语了。于是我们不得不被牵惹着，震撼着，相与浮沉于这歌声里了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节选自朱自清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桨声灯影里的秦淮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6145" descr="PM_0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6146"/>
          <p:cNvSpPr/>
          <p:nvPr/>
        </p:nvSpPr>
        <p:spPr>
          <a:xfrm>
            <a:off x="3124080" y="1523880"/>
            <a:ext cx="533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泊秦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烟笼寒水月笼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夜泊秦淮近酒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商女不知亡国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隔江犹唱</a:t>
            </a:r>
            <a:r>
              <a:rPr b="0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后庭花</a:t>
            </a:r>
            <a:r>
              <a:rPr b="0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对象 6147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7239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6148"/>
          <p:cNvSpPr/>
          <p:nvPr/>
        </p:nvSpPr>
        <p:spPr>
          <a:xfrm>
            <a:off x="228600" y="304920"/>
            <a:ext cx="3063960" cy="265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你最欣赏这首诗的哪些句子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你认为作者听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这首诗实际上是批评谁？哪个字最有力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169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7170"/>
          <p:cNvSpPr/>
          <p:nvPr/>
        </p:nvSpPr>
        <p:spPr>
          <a:xfrm>
            <a:off x="1876320" y="8380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隶书"/>
              </a:rPr>
              <a:t>口头作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7171"/>
          <p:cNvSpPr/>
          <p:nvPr/>
        </p:nvSpPr>
        <p:spPr>
          <a:xfrm>
            <a:off x="533520" y="2514600"/>
            <a:ext cx="586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  <a:ea typeface="隶书"/>
              </a:rPr>
              <a:t>    </a:t>
            </a:r>
            <a:r>
              <a:rPr b="0" lang="zh-CN" sz="4800" spc="-1" strike="noStrike">
                <a:solidFill>
                  <a:srgbClr val="a50021"/>
                </a:solidFill>
                <a:latin typeface="Times New Roman"/>
                <a:ea typeface="隶书"/>
              </a:rPr>
              <a:t>根据这首诗的内容，你认为杜牧看到了什么？如果你是杜牧，你想说些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199" descr="pic132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03260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8194"/>
          <p:cNvSpPr/>
          <p:nvPr/>
        </p:nvSpPr>
        <p:spPr>
          <a:xfrm>
            <a:off x="2409480" y="1219320"/>
            <a:ext cx="283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彩云"/>
              </a:rPr>
              <a:t>学习迁移</a:t>
            </a:r>
            <a:r>
              <a:rPr b="0" lang="zh-CN" sz="60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8195"/>
          <p:cNvSpPr/>
          <p:nvPr/>
        </p:nvSpPr>
        <p:spPr>
          <a:xfrm>
            <a:off x="74628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8197"/>
          <p:cNvSpPr/>
          <p:nvPr/>
        </p:nvSpPr>
        <p:spPr>
          <a:xfrm>
            <a:off x="2057400" y="2590920"/>
            <a:ext cx="55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50021"/>
                </a:solidFill>
                <a:latin typeface="Times New Roman"/>
                <a:ea typeface="幼圆"/>
              </a:rPr>
              <a:t>欣赏一些借古讽今的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3313" descr="隋宫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4253040"/>
          </a:xfrm>
          <a:prstGeom prst="rect">
            <a:avLst/>
          </a:prstGeom>
          <a:ln w="0">
            <a:noFill/>
          </a:ln>
        </p:spPr>
      </p:pic>
      <p:sp>
        <p:nvSpPr>
          <p:cNvPr id="69" name="矩形 13314"/>
          <p:cNvSpPr/>
          <p:nvPr/>
        </p:nvSpPr>
        <p:spPr>
          <a:xfrm>
            <a:off x="0" y="-163440"/>
            <a:ext cx="2971800" cy="709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隋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_x000b__x000c_"/>
              </a:rPr>
              <a:t>          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  <a:ea typeface="_x000b__x000c_"/>
              </a:rPr>
              <a:t>李商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紫泉宫殿锁烟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欲取芜城作帝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玉玺不缘归日角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锦帆应是到天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于今腐草无萤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终古垂杨有暮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地下若逢陈后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岂宜重问后庭花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3315"/>
          <p:cNvSpPr/>
          <p:nvPr/>
        </p:nvSpPr>
        <p:spPr>
          <a:xfrm>
            <a:off x="3108240" y="4343400"/>
            <a:ext cx="603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imes New Roman"/>
                <a:ea typeface="_x000b__x000c_"/>
              </a:rPr>
              <a:t>这是一首咏史诗。题目“隋宫”，指的是隋炀帝杨广在江都营建的行宫江都宫、显福宫和临江宫等。此诗批判了历史上荒淫无度，穷奢极欲的君王，对他们的亡国行径给予了嘲讽。全诗借古喻今，内容深刻，手法巧妙，风趣而又有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文本框 9217"/>
          <p:cNvSpPr/>
          <p:nvPr/>
        </p:nvSpPr>
        <p:spPr>
          <a:xfrm>
            <a:off x="3798000" y="0"/>
            <a:ext cx="21924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10900"/>
                </a:solidFill>
                <a:latin typeface="Arial"/>
                <a:ea typeface="黑体"/>
              </a:rPr>
              <a:t>绝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10900"/>
                </a:solidFill>
                <a:latin typeface="Arial"/>
              </a:rPr>
              <a:t>李清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生当做人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死亦为鬼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至今思项羽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不肯过江东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图片 9220" descr="清照5"/>
          <p:cNvPicPr/>
          <p:nvPr/>
        </p:nvPicPr>
        <p:blipFill>
          <a:blip r:embed="rId1"/>
          <a:stretch/>
        </p:blipFill>
        <p:spPr>
          <a:xfrm>
            <a:off x="0" y="0"/>
            <a:ext cx="2900520" cy="4648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9222" descr="xcbw2"/>
          <p:cNvPicPr/>
          <p:nvPr/>
        </p:nvPicPr>
        <p:blipFill>
          <a:blip r:embed="rId2"/>
          <a:stretch/>
        </p:blipFill>
        <p:spPr>
          <a:xfrm>
            <a:off x="6691320" y="0"/>
            <a:ext cx="2452680" cy="471024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9223"/>
          <p:cNvSpPr/>
          <p:nvPr/>
        </p:nvSpPr>
        <p:spPr>
          <a:xfrm>
            <a:off x="304920" y="4800600"/>
            <a:ext cx="8534160" cy="1251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黑体"/>
              </a:rPr>
              <a:t>评</a:t>
            </a: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诗中歌颂了项羽这位失败的英雄，同时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隐讽赵构的昏庸和南宋政权苟且偷安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这既是咏史诗，也是言志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6:34:21Z</dcterms:created>
  <dc:creator>lilie</dc:creator>
  <dc:description/>
  <dc:language>en-US</dc:language>
  <cp:lastModifiedBy>admin</cp:lastModifiedBy>
  <dcterms:modified xsi:type="dcterms:W3CDTF">2019-05-24T07:54:3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