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drumroll.wav" ContentType="audio/x-wav"/>
  <Override PartName="/ppt/media/image24.jpeg" ContentType="image/jpeg"/>
  <Override PartName="/ppt/media/image3.jpeg" ContentType="image/jpeg"/>
  <Override PartName="/ppt/media/image5.jpeg" ContentType="image/jpeg"/>
  <Override PartName="/ppt/media/image26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8.jpeg" ContentType="image/jpeg"/>
  <Override PartName="/ppt/media/whoosh.wav" ContentType="audio/x-wav"/>
  <Override PartName="/ppt/media/image11.jpeg" ContentType="image/jpeg"/>
  <Override PartName="/ppt/media/image9.jpeg" ContentType="image/jpeg"/>
  <Override PartName="/ppt/media/image25.jpeg" ContentType="image/jpeg"/>
  <Override PartName="/ppt/media/image4.jpeg" ContentType="image/jpeg"/>
  <Override PartName="/ppt/media/image27.jpeg" ContentType="image/jpeg"/>
  <Override PartName="/ppt/media/image6.jpeg" ContentType="image/jpeg"/>
  <Override PartName="/ppt/media/type.wav" ContentType="audio/x-wav"/>
  <Override PartName="/ppt/media/image2.jpeg" ContentType="image/jpeg"/>
  <Override PartName="/ppt/media/image23.jpeg" ContentType="image/jpeg"/>
  <Override PartName="/ppt/media/laser.wav" ContentType="audio/x-wav"/>
  <Override PartName="/ppt/media/image12.jpeg" ContentType="image/jpeg"/>
  <Override PartName="/ppt/media/image13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gif" ContentType="image/gif"/>
  <Override PartName="/ppt/media/carbrake.wav" ContentType="audio/x-wav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33520" y="6629400"/>
            <a:ext cx="8359560" cy="0"/>
          </a:xfrm>
          <a:prstGeom prst="line">
            <a:avLst/>
          </a:prstGeom>
          <a:ln cap="rnd" w="2844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33520" y="6581880"/>
            <a:ext cx="8359560" cy="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drumroll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typ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5257800" y="0"/>
            <a:ext cx="3886200" cy="5562720"/>
          </a:xfrm>
          <a:prstGeom prst="rect">
            <a:avLst/>
          </a:prstGeom>
          <a:ln w="0">
            <a:noFill/>
          </a:ln>
        </p:spPr>
      </p:pic>
      <p:sp>
        <p:nvSpPr>
          <p:cNvPr id="39" name=""/>
          <p:cNvSpPr/>
          <p:nvPr/>
        </p:nvSpPr>
        <p:spPr>
          <a:xfrm>
            <a:off x="380880" y="137160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晓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762120" y="380880"/>
            <a:ext cx="3429000" cy="11692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语文版八年级上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第六课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28600" y="2362320"/>
            <a:ext cx="4800600" cy="70344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别了，“不列颠尼亚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4267080"/>
            <a:ext cx="52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553080" y="57150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7c80"/>
                </a:solidFill>
                <a:latin typeface="Times New Roman"/>
                <a:ea typeface="华文行楷"/>
              </a:rPr>
              <a:t>香 港 街 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9640" y="404640"/>
            <a:ext cx="8159760" cy="581400"/>
          </a:xfrm>
          <a:prstGeom prst="rect">
            <a:avLst/>
          </a:prstGeom>
          <a:gradFill rotWithShape="0">
            <a:gsLst>
              <a:gs pos="0">
                <a:srgbClr val="d3e8f7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华文行楷"/>
                <a:ea typeface="华文行楷"/>
              </a:rPr>
              <a:t>第一场景：</a:t>
            </a:r>
            <a:r>
              <a:rPr b="1" lang="zh-CN" sz="3200" spc="-1" strike="noStrike">
                <a:solidFill>
                  <a:srgbClr val="ff6600"/>
                </a:solidFill>
                <a:latin typeface="华文行楷"/>
                <a:ea typeface="华文行楷"/>
              </a:rPr>
              <a:t>4</a:t>
            </a:r>
            <a:r>
              <a:rPr b="1" lang="zh-CN" sz="3200" spc="-1" strike="noStrike">
                <a:solidFill>
                  <a:srgbClr val="ff6600"/>
                </a:solidFill>
                <a:latin typeface="华文行楷"/>
                <a:ea typeface="华文行楷"/>
              </a:rPr>
              <a:t>点</a:t>
            </a:r>
            <a:r>
              <a:rPr b="1" lang="zh-CN" sz="3200" spc="-1" strike="noStrike">
                <a:solidFill>
                  <a:srgbClr val="ff6600"/>
                </a:solidFill>
                <a:latin typeface="华文行楷"/>
                <a:ea typeface="华文行楷"/>
              </a:rPr>
              <a:t>30</a:t>
            </a:r>
            <a:r>
              <a:rPr b="1" lang="zh-CN" sz="3200" spc="-1" strike="noStrike">
                <a:solidFill>
                  <a:srgbClr val="ff6600"/>
                </a:solidFill>
                <a:latin typeface="华文行楷"/>
                <a:ea typeface="华文行楷"/>
              </a:rPr>
              <a:t>分，末任港督彭定康告别  港督府，降下港督旗帜。</a:t>
            </a:r>
            <a:r>
              <a:rPr b="1" lang="zh-CN" sz="2400" spc="-1" strike="noStrike">
                <a:solidFill>
                  <a:srgbClr val="ff6600"/>
                </a:solidFill>
                <a:latin typeface="MingLiU"/>
                <a:ea typeface="MingLiU"/>
              </a:rPr>
              <a:t>（第三自然段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6062760" cy="4921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78200" y="2349360"/>
            <a:ext cx="911880" cy="3657600"/>
          </a:xfrm>
          <a:prstGeom prst="rect">
            <a:avLst/>
          </a:prstGeom>
          <a:solidFill>
            <a:srgbClr val="ff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ff"/>
                </a:solidFill>
                <a:latin typeface="Times New Roman"/>
              </a:rPr>
              <a:t>彭定康和女儿离开总督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68360" y="333360"/>
            <a:ext cx="8231040" cy="581400"/>
          </a:xfrm>
          <a:prstGeom prst="rect">
            <a:avLst/>
          </a:prstGeom>
          <a:solidFill>
            <a:srgbClr val="cc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华文行楷"/>
                <a:ea typeface="华文行楷"/>
              </a:rPr>
              <a:t>第二场景：</a:t>
            </a:r>
            <a:r>
              <a:rPr b="1" lang="zh-CN" sz="3200" spc="-1" strike="noStrike">
                <a:solidFill>
                  <a:srgbClr val="ff6600"/>
                </a:solidFill>
                <a:latin typeface="华文行楷"/>
                <a:ea typeface="华文行楷"/>
              </a:rPr>
              <a:t>6</a:t>
            </a:r>
            <a:r>
              <a:rPr b="1" lang="zh-CN" sz="3200" spc="-1" strike="noStrike">
                <a:solidFill>
                  <a:srgbClr val="ff6600"/>
                </a:solidFill>
                <a:latin typeface="华文行楷"/>
                <a:ea typeface="华文行楷"/>
              </a:rPr>
              <a:t>时</a:t>
            </a:r>
            <a:r>
              <a:rPr b="1" lang="zh-CN" sz="3200" spc="-1" strike="noStrike">
                <a:solidFill>
                  <a:srgbClr val="ff6600"/>
                </a:solidFill>
                <a:latin typeface="华文行楷"/>
                <a:ea typeface="华文行楷"/>
              </a:rPr>
              <a:t>15</a:t>
            </a:r>
            <a:r>
              <a:rPr b="1" lang="zh-CN" sz="3200" spc="-1" strike="noStrike">
                <a:solidFill>
                  <a:srgbClr val="ff6600"/>
                </a:solidFill>
                <a:latin typeface="华文行楷"/>
                <a:ea typeface="华文行楷"/>
              </a:rPr>
              <a:t>分，在添马舰军营东面广场举行象征英国统治结束的告别仪式，降下英国国旗。</a:t>
            </a:r>
            <a:r>
              <a:rPr b="1" lang="zh-CN" sz="2400" spc="-1" strike="noStrike">
                <a:solidFill>
                  <a:srgbClr val="ff6600"/>
                </a:solidFill>
                <a:latin typeface="MingLiU"/>
                <a:ea typeface="MingLiU"/>
              </a:rPr>
              <a:t>（第五自然段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6648480" cy="4619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485840" y="2743200"/>
            <a:ext cx="911880" cy="32767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彭定康接过降下的旗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eecae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3520" y="380880"/>
            <a:ext cx="7926120" cy="5814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Times New Roman"/>
                <a:ea typeface="华文行楷"/>
              </a:rPr>
              <a:t>第三场景：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行楷"/>
              </a:rPr>
              <a:t>子夜时分，中英香港交接仪式，米字旗香港最后一次降落，五星红旗升起。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  <a:ea typeface="MingLiU"/>
              </a:rPr>
              <a:t>（第八自然段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00000" y="2008080"/>
            <a:ext cx="748188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3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4360" y="260280"/>
            <a:ext cx="7632720" cy="9471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华文行楷"/>
                <a:ea typeface="华文行楷"/>
              </a:rPr>
              <a:t>第四场景：</a:t>
            </a:r>
            <a:r>
              <a:rPr b="1" lang="zh-CN" sz="3200" spc="-1" strike="noStrike">
                <a:solidFill>
                  <a:srgbClr val="ff6600"/>
                </a:solidFill>
                <a:latin typeface="华文行楷"/>
                <a:ea typeface="华文行楷"/>
              </a:rPr>
              <a:t>7</a:t>
            </a:r>
            <a:r>
              <a:rPr b="1" lang="zh-CN" sz="3200" spc="-1" strike="noStrike">
                <a:solidFill>
                  <a:srgbClr val="ff6600"/>
                </a:solidFill>
                <a:latin typeface="华文行楷"/>
                <a:ea typeface="华文行楷"/>
              </a:rPr>
              <a:t>月</a:t>
            </a:r>
            <a:r>
              <a:rPr b="1" lang="zh-CN" sz="3200" spc="-1" strike="noStrike">
                <a:solidFill>
                  <a:srgbClr val="ff6600"/>
                </a:solidFill>
                <a:latin typeface="华文行楷"/>
                <a:ea typeface="华文行楷"/>
              </a:rPr>
              <a:t>1</a:t>
            </a:r>
            <a:r>
              <a:rPr b="1" lang="zh-CN" sz="3200" spc="-1" strike="noStrike">
                <a:solidFill>
                  <a:srgbClr val="ff6600"/>
                </a:solidFill>
                <a:latin typeface="华文行楷"/>
                <a:ea typeface="华文行楷"/>
              </a:rPr>
              <a:t>日零点</a:t>
            </a:r>
            <a:r>
              <a:rPr b="1" lang="zh-CN" sz="3200" spc="-1" strike="noStrike">
                <a:solidFill>
                  <a:srgbClr val="ff6600"/>
                </a:solidFill>
                <a:latin typeface="华文行楷"/>
                <a:ea typeface="华文行楷"/>
              </a:rPr>
              <a:t>40</a:t>
            </a:r>
            <a:r>
              <a:rPr b="1" lang="zh-CN" sz="3200" spc="-1" strike="noStrike">
                <a:solidFill>
                  <a:srgbClr val="ff6600"/>
                </a:solidFill>
                <a:latin typeface="华文行楷"/>
                <a:ea typeface="华文行楷"/>
              </a:rPr>
              <a:t>分，查尔斯王子和彭定康登上“不列颠尼亚”号离开香港。    </a:t>
            </a:r>
            <a:r>
              <a:rPr b="1" lang="zh-CN" sz="2400" spc="-1" strike="noStrike">
                <a:solidFill>
                  <a:srgbClr val="ff6600"/>
                </a:solidFill>
                <a:latin typeface="MingLiU"/>
              </a:rPr>
              <a:t>（第十自然段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457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28600"/>
            <a:ext cx="426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75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75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75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75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920" y="3808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b8d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1b8dff"/>
                </a:solidFill>
                <a:latin typeface="Times New Roman"/>
              </a:rPr>
              <a:t>这篇特写在报道新闻事实时，还适当的运用一些背景材料。请找出来（在哪些段落里），体会它们在文章中的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49200" y="2057400"/>
            <a:ext cx="319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99"/>
                </a:solidFill>
                <a:latin typeface="华文新魏"/>
                <a:ea typeface="华文新魏"/>
              </a:rPr>
              <a:t>如：第</a:t>
            </a:r>
            <a:r>
              <a:rPr b="1" lang="zh-CN" sz="3200" spc="-1" strike="noStrike">
                <a:solidFill>
                  <a:srgbClr val="ff6699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ff6699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6699"/>
                </a:solidFill>
                <a:latin typeface="华文新魏"/>
                <a:ea typeface="华文新魏"/>
              </a:rPr>
              <a:t>7</a:t>
            </a:r>
            <a:r>
              <a:rPr b="1" lang="zh-CN" sz="3200" spc="-1" strike="noStrike">
                <a:solidFill>
                  <a:srgbClr val="ff6699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6699"/>
                </a:solidFill>
                <a:latin typeface="华文新魏"/>
                <a:ea typeface="华文新魏"/>
              </a:rPr>
              <a:t>11</a:t>
            </a:r>
            <a:r>
              <a:rPr b="1" lang="zh-CN" sz="3200" spc="-1" strike="noStrike">
                <a:solidFill>
                  <a:srgbClr val="ff6699"/>
                </a:solidFill>
                <a:latin typeface="华文新魏"/>
                <a:ea typeface="华文新魏"/>
              </a:rPr>
              <a:t>自然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306864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华文新魏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6600ff"/>
                </a:solidFill>
                <a:latin typeface="华文新魏"/>
                <a:ea typeface="华文新魏"/>
              </a:rPr>
              <a:t>背景中有历史事件回顾，港督府的修建，英国统治香港的天数，英国米字旗和港督旗的升降等，都有准确的记载，虽然只写了一天中发生的事件，但有很大的历史跨度，容量非常大，使人在丰富的知识中感受到深厚的历史内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6" dur="3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95280" y="1052640"/>
            <a:ext cx="6351480" cy="1434600"/>
          </a:xfrm>
          <a:prstGeom prst="rect">
            <a:avLst/>
          </a:prstGeom>
          <a:noFill/>
          <a:ln w="792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华文细黑"/>
                <a:ea typeface="华文细黑"/>
              </a:rPr>
              <a:t>        </a:t>
            </a:r>
            <a:r>
              <a:rPr b="1" lang="zh-CN" sz="2800" spc="-1" strike="noStrike">
                <a:solidFill>
                  <a:srgbClr val="1b8dff"/>
                </a:solidFill>
                <a:latin typeface="华文新魏"/>
                <a:ea typeface="华文新魏"/>
              </a:rPr>
              <a:t>本文通过描述中英香港交接仪式的四个场景，出色地记录了象征英国殖民统治的“不列颠尼亚”号撤离香港的最后历史时刻，充分表现了香港回归这一深刻的历史主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003640" y="3613320"/>
            <a:ext cx="3853080" cy="3244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24000" y="3639960"/>
            <a:ext cx="4103640" cy="3218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877080" y="0"/>
            <a:ext cx="2266920" cy="1784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515600" y="22860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请同学们概括本文的中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85800" y="6172200"/>
            <a:ext cx="388620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香港紫荆花广场升旗仪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10552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859560" y="3657600"/>
            <a:ext cx="11552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华文新魏"/>
                <a:ea typeface="华文新魏"/>
              </a:rPr>
              <a:t>香    港    中    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4360" y="2133720"/>
            <a:ext cx="37335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99"/>
                </a:solidFill>
                <a:latin typeface="Times New Roman"/>
                <a:ea typeface="华文行楷"/>
              </a:rPr>
              <a:t>中国政府为什么能成功地恢复对香港行使主权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533520"/>
            <a:ext cx="685800" cy="685800"/>
          </a:xfrm>
          <a:custGeom>
            <a:avLst/>
            <a:gdLst>
              <a:gd name="textAreaLeft" fmla="*/ 282600 w 685800"/>
              <a:gd name="textAreaRight" fmla="*/ 403200 w 685800"/>
              <a:gd name="textAreaTop" fmla="*/ 282600 h 685800"/>
              <a:gd name="textAreaBottom" fmla="*/ 403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258920" y="404640"/>
            <a:ext cx="3384360" cy="8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175e75"/>
                    </a:gs>
                    <a:gs pos="50000">
                      <a:srgbClr val="33ccff"/>
                    </a:gs>
                    <a:gs pos="100000">
                      <a:srgbClr val="175e75"/>
                    </a:gs>
                  </a:gsLst>
                  <a:lin ang="81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拓展延伸</a:t>
            </a:r>
            <a:endParaRPr b="1" lang="en-US" sz="24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175e75"/>
                  </a:gs>
                  <a:gs pos="50000">
                    <a:srgbClr val="33ccff"/>
                  </a:gs>
                  <a:gs pos="100000">
                    <a:srgbClr val="175e75"/>
                  </a:gs>
                </a:gsLst>
                <a:lin ang="81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209680" y="312408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香  港  回  归  场  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0" y="3646440"/>
            <a:ext cx="4572000" cy="32115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3200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1892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0" y="3624120"/>
            <a:ext cx="441972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305920" cy="5715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62120" y="59436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99"/>
                </a:solidFill>
                <a:latin typeface="Times New Roman"/>
              </a:rPr>
              <a:t>香   港   会   展   中   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-76320" y="-57240"/>
            <a:ext cx="9220320" cy="6915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9640" y="765000"/>
            <a:ext cx="792504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ff"/>
                </a:solidFill>
                <a:latin typeface="Times New Roman"/>
                <a:ea typeface="华文彩云"/>
              </a:rPr>
              <a:t>别了，“不列颠尼亚”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838080" y="58672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b8dff"/>
                </a:solidFill>
                <a:latin typeface="华文细黑"/>
                <a:ea typeface="华文细黑"/>
              </a:rPr>
              <a:t>香  港  维  多  利  亚  港  夜  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788000" y="260280"/>
            <a:ext cx="4356000" cy="6445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717720" y="4724280"/>
            <a:ext cx="10335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Times New Roman"/>
                <a:ea typeface="华文新魏"/>
              </a:rPr>
              <a:t>住 港 三 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1628640"/>
            <a:ext cx="4032360" cy="2806200"/>
          </a:xfrm>
          <a:prstGeom prst="rect">
            <a:avLst/>
          </a:prstGeom>
          <a:noFill/>
          <a:ln w="698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Times New Roman"/>
                <a:ea typeface="隶书"/>
              </a:rPr>
              <a:t>          </a:t>
            </a:r>
            <a:r>
              <a:rPr b="1" lang="zh-CN" sz="3200" spc="-1" strike="noStrike">
                <a:solidFill>
                  <a:srgbClr val="9933ff"/>
                </a:solidFill>
                <a:latin typeface="Times New Roman"/>
                <a:ea typeface="隶书"/>
              </a:rPr>
              <a:t>写一篇读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9933ff"/>
                </a:solidFill>
                <a:latin typeface="Times New Roman"/>
                <a:ea typeface="隶书"/>
              </a:rPr>
              <a:t>感，语言要简洁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9933ff"/>
                </a:solidFill>
                <a:latin typeface="Times New Roman"/>
                <a:ea typeface="隶书"/>
              </a:rPr>
              <a:t>能把感想写得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9933ff"/>
                </a:solidFill>
                <a:latin typeface="Times New Roman"/>
                <a:ea typeface="隶书"/>
              </a:rPr>
              <a:t>理有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189000"/>
            <a:ext cx="761760" cy="838080"/>
          </a:xfrm>
          <a:custGeom>
            <a:avLst/>
            <a:gdLst>
              <a:gd name="textAreaLeft" fmla="*/ 313920 w 761760"/>
              <a:gd name="textAreaRight" fmla="*/ 447840 w 76176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1b8d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476360" y="189000"/>
            <a:ext cx="2881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5000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课后练笔</a:t>
            </a:r>
            <a:endParaRPr b="1" lang="en-US" sz="2400" spc="1" strike="noStrike">
              <a:ln w="1260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5000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0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0" dur="3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62120" y="6172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天安门广场庆祝香港回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8195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447920" y="3200400"/>
            <a:ext cx="549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403280" y="3573360"/>
            <a:ext cx="6248520" cy="20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6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  谢  收  看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1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859280" y="4724280"/>
            <a:ext cx="2952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华文新魏"/>
              </a:rPr>
              <a:t>香港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0000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227664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体裁：通讯（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特写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437000"/>
            <a:ext cx="78487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99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7c80"/>
                </a:solidFill>
                <a:latin typeface="Times New Roman"/>
              </a:rPr>
              <a:t>通讯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是新闻的一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现在我们回忆一下，新闻可分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284720" y="0"/>
            <a:ext cx="4859280" cy="4268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9280" y="404640"/>
            <a:ext cx="762120" cy="838440"/>
          </a:xfrm>
          <a:custGeom>
            <a:avLst/>
            <a:gdLst>
              <a:gd name="textAreaLeft" fmla="*/ 313920 w 762120"/>
              <a:gd name="textAreaRight" fmla="*/ 448200 w 762120"/>
              <a:gd name="textAreaTop" fmla="*/ 345600 h 838440"/>
              <a:gd name="textAreaBottom" fmla="*/ 492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1b8d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00000" y="260280"/>
            <a:ext cx="3311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行楷"/>
              </a:rPr>
              <a:t>知识积累</a:t>
            </a:r>
            <a:endParaRPr b="1" lang="en-US" sz="24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d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19720" y="2133720"/>
            <a:ext cx="3657600" cy="4724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0880" y="7621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新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68580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338"/>
                </a:lnTo>
                <a:cubicBezTo>
                  <a:pt x="10800" y="10238"/>
                  <a:pt x="5400" y="11138"/>
                  <a:pt x="0" y="11138"/>
                </a:cubicBezTo>
                <a:cubicBezTo>
                  <a:pt x="5400" y="11138"/>
                  <a:pt x="10800" y="12038"/>
                  <a:pt x="10800" y="1293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3808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消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12193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通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38280" y="106668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914400"/>
            <a:ext cx="167652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人物通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1523880"/>
            <a:ext cx="167652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事件通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914400"/>
            <a:ext cx="160020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工作通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1523880"/>
            <a:ext cx="160020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风貌通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299736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  <a:ea typeface="华文行楷"/>
              </a:rPr>
              <a:t>新闻最主要的特征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927200" y="2666880"/>
            <a:ext cx="911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ff"/>
                </a:solidFill>
                <a:latin typeface="Times New Roman"/>
                <a:ea typeface="MingLiU"/>
              </a:rPr>
              <a:t> </a:t>
            </a:r>
            <a:r>
              <a:rPr b="1" lang="zh-CN" sz="2400" spc="-1" strike="noStrike">
                <a:solidFill>
                  <a:srgbClr val="3399ff"/>
                </a:solidFill>
                <a:latin typeface="Times New Roman"/>
                <a:ea typeface="MingLiU"/>
              </a:rPr>
              <a:t>香 港 回 归 纪 念 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4221000"/>
            <a:ext cx="3505320" cy="1295640"/>
          </a:xfrm>
          <a:custGeom>
            <a:avLst/>
            <a:gdLst>
              <a:gd name="textAreaLeft" fmla="*/ 800280 w 3505320"/>
              <a:gd name="textAreaRight" fmla="*/ 2705040 w 350532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42920" y="458136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用事实说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9640" y="3716280"/>
            <a:ext cx="3200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9900ff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新闻的标题有什么特点呢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除了</a:t>
            </a:r>
            <a:r>
              <a:rPr b="1" lang="zh-CN" sz="2800" spc="-1" strike="noStrike">
                <a:solidFill>
                  <a:srgbClr val="ff6699"/>
                </a:solidFill>
                <a:latin typeface="Times New Roman"/>
                <a:ea typeface="MingLiU"/>
              </a:rPr>
              <a:t>主标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还有哪些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16000" y="5950080"/>
            <a:ext cx="2362320" cy="52056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MingLiU"/>
              </a:rPr>
              <a:t>  </a:t>
            </a:r>
            <a:r>
              <a:rPr b="1" lang="zh-CN" sz="2800" spc="-1" strike="noStrike">
                <a:solidFill>
                  <a:srgbClr val="ff6699"/>
                </a:solidFill>
                <a:latin typeface="Times New Roman"/>
                <a:ea typeface="MingLiU"/>
              </a:rPr>
              <a:t>引标和副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7650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9900ff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9900ff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新闻正文一般分为哪几个部分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16000" y="1484280"/>
            <a:ext cx="5257800" cy="52056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99"/>
                </a:solidFill>
                <a:latin typeface="Times New Roman"/>
                <a:ea typeface="MingLiU"/>
              </a:rPr>
              <a:t>标题、导语、主体、背景和结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227664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9900ff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9900ff"/>
                </a:solidFill>
                <a:latin typeface="华文新魏"/>
                <a:ea typeface="华文新魏"/>
              </a:rPr>
              <a:t>、哪几部分是缺一不可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1080" y="3068640"/>
            <a:ext cx="506880" cy="52056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99"/>
                </a:solidFill>
                <a:latin typeface="Times New Roman"/>
                <a:ea typeface="MingLiU"/>
              </a:rPr>
              <a:t>标题、导语、主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211640" y="3276720"/>
            <a:ext cx="4932360" cy="3581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04920" y="152280"/>
            <a:ext cx="685800" cy="762120"/>
          </a:xfrm>
          <a:custGeom>
            <a:avLst/>
            <a:gdLst>
              <a:gd name="textAreaLeft" fmla="*/ 282600 w 685800"/>
              <a:gd name="textAreaRight" fmla="*/ 403200 w 685800"/>
              <a:gd name="textAreaTop" fmla="*/ 313920 h 762120"/>
              <a:gd name="textAreaBottom" fmla="*/ 4482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76360" y="189000"/>
            <a:ext cx="3311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互动课堂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7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7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7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7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8600" y="228600"/>
            <a:ext cx="868680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d9ff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本文是一篇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特写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，特写也称新闻速写、新闻素描，要求用类似于电影的“特写镜头”的手法反映事实，是作者深入新闻事件现场，或某些重要和精彩的场面，生动、形象地将所报道的事实再现在读者面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82520" y="2971800"/>
            <a:ext cx="87789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71640" y="0"/>
            <a:ext cx="6372360" cy="56404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643280" y="595008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b8dff"/>
                </a:solidFill>
                <a:latin typeface="Times New Roman"/>
                <a:ea typeface="华文新魏"/>
              </a:rPr>
              <a:t>香港 维多利亚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22860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本文正文由的那几个部分组成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2349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cc99"/>
                </a:solidFill>
                <a:latin typeface="Times New Roman"/>
                <a:ea typeface="华文新魏"/>
              </a:rPr>
              <a:t>、导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b8dff"/>
                </a:solidFill>
                <a:latin typeface="Times New Roman"/>
                <a:ea typeface="华文新魏"/>
              </a:rPr>
              <a:t>（第</a:t>
            </a:r>
            <a:r>
              <a:rPr b="1" lang="zh-CN" sz="2800" spc="-1" strike="noStrike">
                <a:solidFill>
                  <a:srgbClr val="1b8dff"/>
                </a:solidFill>
                <a:latin typeface="Times New Roman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b8dff"/>
                </a:solidFill>
                <a:latin typeface="Times New Roman"/>
                <a:ea typeface="华文新魏"/>
              </a:rPr>
              <a:t>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3716280"/>
            <a:ext cx="273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cc99"/>
                </a:solidFill>
                <a:latin typeface="华文新魏"/>
                <a:ea typeface="华文新魏"/>
              </a:rPr>
              <a:t>、主体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b8dff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1b8dff"/>
                </a:solidFill>
                <a:latin typeface="华文新魏"/>
                <a:ea typeface="华文新魏"/>
              </a:rPr>
              <a:t>2—10</a:t>
            </a:r>
            <a:r>
              <a:rPr b="1" lang="zh-CN" sz="2800" spc="-1" strike="noStrike">
                <a:solidFill>
                  <a:srgbClr val="1b8dff"/>
                </a:solidFill>
                <a:latin typeface="华文新魏"/>
                <a:ea typeface="华文新魏"/>
              </a:rPr>
              <a:t>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5013360"/>
            <a:ext cx="2374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cc99"/>
                </a:solidFill>
                <a:latin typeface="华文新魏"/>
                <a:ea typeface="华文新魏"/>
              </a:rPr>
              <a:t>、结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b8dff"/>
                </a:solidFill>
                <a:latin typeface="华文新魏"/>
                <a:ea typeface="华文新魏"/>
              </a:rPr>
              <a:t>（最后</a:t>
            </a:r>
            <a:r>
              <a:rPr b="1" lang="zh-CN" sz="2800" spc="-1" strike="noStrike">
                <a:solidFill>
                  <a:srgbClr val="1b8dff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b8dff"/>
                </a:solidFill>
                <a:latin typeface="华文新魏"/>
                <a:ea typeface="华文新魏"/>
              </a:rPr>
              <a:t>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2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bd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80880" y="3049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华文新魏"/>
              </a:rPr>
              <a:t>特写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往往采用文学手法，集中、突出地描述某一重大事件的发生现场，或某些重要和精彩的场面，生动形象地将所报道的事实再现在读者面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236232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9966ff"/>
                </a:solidFill>
                <a:latin typeface="黑体"/>
                <a:ea typeface="黑体"/>
              </a:rPr>
              <a:t>本文主体部分就是选取</a:t>
            </a:r>
            <a:r>
              <a:rPr b="1" lang="zh-CN" sz="2800" spc="-1" strike="noStrike">
                <a:solidFill>
                  <a:srgbClr val="9966ff"/>
                </a:solidFill>
                <a:latin typeface="黑体"/>
                <a:ea typeface="黑体"/>
              </a:rPr>
              <a:t>97</a:t>
            </a:r>
            <a:r>
              <a:rPr b="1" lang="zh-CN" sz="2800" spc="-1" strike="noStrike">
                <a:solidFill>
                  <a:srgbClr val="9966ff"/>
                </a:solidFill>
                <a:latin typeface="黑体"/>
                <a:ea typeface="黑体"/>
              </a:rPr>
              <a:t>香港回归，英国撤退时的几个重要场景。请快速阅读课文，找出这几个场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四个场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657600" y="3340080"/>
            <a:ext cx="548640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7T15:53:18Z</dcterms:created>
  <dc:creator/>
  <dc:description/>
  <dc:language>en-US</dc:language>
  <cp:lastModifiedBy>微软用户</cp:lastModifiedBy>
  <dcterms:modified xsi:type="dcterms:W3CDTF">2011-02-26T04:44:59Z</dcterms:modified>
  <cp:revision>29</cp:revision>
  <dc:subject/>
  <dc:title>PowerPoint 演示文稿</dc:title>
</cp:coreProperties>
</file>