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4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038-298D-45B5-9176-8335387E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B63-8E6E-439F-82FE-58FC1461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D62-0929-4F6E-BBE3-AEAB05D3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2F4-09C9-4DC9-AAB7-739BCAA0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8638-D990-4A59-8B90-1BCCAA98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62AE-D923-4A01-9B87-866B528F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64EE-C32A-42BF-9555-392C77AE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55C8-F305-425D-8A6C-7D4A4190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C625-0FE2-47AD-9920-32A856CC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FC83-6BF0-42D5-8A89-86CF1227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3A7A-479C-46FE-9979-31E998D7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63E-A6DC-468F-93BC-156CB1EE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ADA3-9CB9-4FB7-B3CC-A7921243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34EF-8817-42FC-8236-7613B3C9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9AA4-2793-4BD4-95DE-F24D84CF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FF6F-67AE-4E1F-BD87-A93BCAFC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063E-10CD-42EA-A907-1A1AF77B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DA6-C6A8-4D50-8D6D-AF093036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D26-F077-48E2-9BA6-AFED687E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99C-E3A5-46A5-8000-80928FA0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984-058F-4466-9C05-90C9F612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A23-EB0C-46A5-863D-13EF0D73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589-BE94-45A8-A07C-E0972E98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6FA-2446-4867-90BF-8C99797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CCE0-D70E-4E05-BF63-BF18DE109A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9BAA-E896-494C-AC36-840F4A5369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7.wmf"/><Relationship Id="rId4" Type="http://schemas.openxmlformats.org/officeDocument/2006/relationships/slide" Target="slide11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" Target="slide10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34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-76320" y="-5724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39640" y="765000"/>
            <a:ext cx="79250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  <a:ea typeface="华文彩云"/>
              </a:rPr>
              <a:t>别了，“不列颠尼亚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7171" descr="手捧刚刚降下的英国国旗，彭定康神情黯然"/>
          <p:cNvPicPr/>
          <p:nvPr/>
        </p:nvPicPr>
        <p:blipFill>
          <a:blip r:embed="rId2"/>
          <a:stretch/>
        </p:blipFill>
        <p:spPr>
          <a:xfrm>
            <a:off x="1619280" y="0"/>
            <a:ext cx="60339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7172"/>
          <p:cNvSpPr/>
          <p:nvPr/>
        </p:nvSpPr>
        <p:spPr>
          <a:xfrm>
            <a:off x="177120" y="549360"/>
            <a:ext cx="9118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方正小标宋简体"/>
              </a:rPr>
              <a:t>手捧刚刚降下的英国国旗，彭定康神情黯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7175"/>
          <p:cNvGrpSpPr/>
          <p:nvPr/>
        </p:nvGrpSpPr>
        <p:grpSpPr>
          <a:xfrm>
            <a:off x="8101080" y="-100080"/>
            <a:ext cx="1224000" cy="6337440"/>
            <a:chOff x="8101080" y="-100080"/>
            <a:chExt cx="1224000" cy="6337440"/>
          </a:xfrm>
        </p:grpSpPr>
        <p:sp>
          <p:nvSpPr>
            <p:cNvPr id="116" name="任意多边形 7176"/>
            <p:cNvSpPr/>
            <p:nvPr/>
          </p:nvSpPr>
          <p:spPr>
            <a:xfrm>
              <a:off x="8294760" y="-100080"/>
              <a:ext cx="10303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图片 7177" descr="j0217698"/>
            <p:cNvPicPr/>
            <p:nvPr/>
          </p:nvPicPr>
          <p:blipFill>
            <a:blip r:embed="rId3"/>
            <a:stretch/>
          </p:blipFill>
          <p:spPr>
            <a:xfrm>
              <a:off x="8101080" y="1341360"/>
              <a:ext cx="738000" cy="66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图片 7173" descr="j02854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44000" y="6093000"/>
            <a:ext cx="42840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8195" descr="1997年7月1日英军卷旗走人"/>
          <p:cNvPicPr/>
          <p:nvPr/>
        </p:nvPicPr>
        <p:blipFill>
          <a:blip r:embed="rId2"/>
          <a:stretch/>
        </p:blipFill>
        <p:spPr>
          <a:xfrm>
            <a:off x="1692360" y="0"/>
            <a:ext cx="52210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8196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方正小标宋简体"/>
                <a:ea typeface="方正小标宋简体"/>
              </a:rPr>
              <a:t>英军卷旗走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8199"/>
          <p:cNvGrpSpPr/>
          <p:nvPr/>
        </p:nvGrpSpPr>
        <p:grpSpPr>
          <a:xfrm>
            <a:off x="8101080" y="-100080"/>
            <a:ext cx="1224000" cy="6337440"/>
            <a:chOff x="8101080" y="-100080"/>
            <a:chExt cx="1224000" cy="6337440"/>
          </a:xfrm>
        </p:grpSpPr>
        <p:sp>
          <p:nvSpPr>
            <p:cNvPr id="122" name="任意多边形 8200"/>
            <p:cNvSpPr/>
            <p:nvPr/>
          </p:nvSpPr>
          <p:spPr>
            <a:xfrm>
              <a:off x="8294760" y="-100080"/>
              <a:ext cx="10303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图片 8201" descr="j0217698"/>
            <p:cNvPicPr/>
            <p:nvPr/>
          </p:nvPicPr>
          <p:blipFill>
            <a:blip r:embed="rId3"/>
            <a:stretch/>
          </p:blipFill>
          <p:spPr>
            <a:xfrm>
              <a:off x="8101080" y="1341360"/>
              <a:ext cx="73800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动作按钮: 上一张 8198"/>
          <p:cNvSpPr/>
          <p:nvPr/>
        </p:nvSpPr>
        <p:spPr>
          <a:xfrm>
            <a:off x="8317080" y="6021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34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-76320" y="-5724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539640" y="765000"/>
            <a:ext cx="7925040" cy="243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  <a:ea typeface="华文彩云"/>
              </a:rPr>
              <a:t>   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华文彩云"/>
              </a:rPr>
              <a:t>《别了，“不列颠尼亚”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隶二简体"/>
                <a:ea typeface="方正隶二简体"/>
              </a:rPr>
              <a:t>获第</a:t>
            </a:r>
            <a:r>
              <a:rPr b="0" lang="en-US" sz="3600" spc="-1" strike="noStrike">
                <a:solidFill>
                  <a:srgbClr val="ff0000"/>
                </a:solidFill>
                <a:latin typeface="方正隶二简体"/>
                <a:ea typeface="方正隶二简体"/>
              </a:rPr>
              <a:t>8</a:t>
            </a:r>
            <a:r>
              <a:rPr b="0" lang="zh-CN" sz="3600" spc="-1" strike="noStrike">
                <a:solidFill>
                  <a:srgbClr val="ff0000"/>
                </a:solidFill>
                <a:latin typeface="方正隶二简体"/>
                <a:ea typeface="方正隶二简体"/>
              </a:rPr>
              <a:t>届“中国新闻奖”消息类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3000" y="1770120"/>
            <a:ext cx="855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别了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,‘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不列颠尼亚’”这一标题有何内涵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有什么独到之处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内容占位符 46083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1333800" cy="123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3840" y="1930320"/>
            <a:ext cx="855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这篇特写在报道新闻事实时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还适当的运用一些背景材料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请找出来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在哪些段落里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),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体会它们在文章中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内容占位符 46083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1333800" cy="123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问  题  探  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1494000"/>
            <a:ext cx="85500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这篇新闻在报道香港回归这样宏大的场景时叙述沉着而冷静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没有直接的议论和抒情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但我们能感受到丰富而细腻的情感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这种情感是怎样表达出来的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再读课文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找一找哪些句子能够传达出作者的情感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并谈谈你的理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内容占位符 46083" descr=""/>
          <p:cNvPicPr/>
          <p:nvPr/>
        </p:nvPicPr>
        <p:blipFill>
          <a:blip r:embed="rId2"/>
          <a:stretch/>
        </p:blipFill>
        <p:spPr>
          <a:xfrm>
            <a:off x="6673680" y="179280"/>
            <a:ext cx="169560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" y="1930320"/>
            <a:ext cx="855036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面色凝重的彭定康注视着港督旗帜在“日落余音”的号角声中降下旗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内容占位符 46083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1333800" cy="123804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"/>
          <p:cNvSpPr/>
          <p:nvPr/>
        </p:nvSpPr>
        <p:spPr>
          <a:xfrm>
            <a:off x="1603800" y="3181320"/>
            <a:ext cx="53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、“港督旗帜在‘日落余音’的号角声中降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旗杆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、“停泊在港湾中的皇家游轮‘不列颠尼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号和邻近大厦上悬挂的巨幅紫荆花图案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恰好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成这个‘日落仪式’的背景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000" y="1930320"/>
            <a:ext cx="855036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、“大英帝国从海上来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又从海上去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内容占位符 46083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1333800" cy="123804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1"/>
          <p:cNvSpPr/>
          <p:nvPr/>
        </p:nvSpPr>
        <p:spPr>
          <a:xfrm>
            <a:off x="3616560" y="2979720"/>
            <a:ext cx="19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、根据传统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每一位港督离任时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都举行降旗仪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但这一次不同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永远都不会有另一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"/>
          <p:cNvSpPr/>
          <p:nvPr/>
        </p:nvSpPr>
        <p:spPr>
          <a:xfrm>
            <a:off x="1350000" y="4587840"/>
            <a:ext cx="586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将于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1997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年年底退役的“不列颠尼亚”号很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消失在南海的夜幕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9219" descr="7月1日凌晨，天安门广场万众欢腾，喜迎香港回归祖国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9220"/>
          <p:cNvSpPr/>
          <p:nvPr/>
        </p:nvSpPr>
        <p:spPr>
          <a:xfrm>
            <a:off x="0" y="609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7</a:t>
            </a:r>
            <a:r>
              <a:rPr b="1" lang="zh-CN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月</a:t>
            </a:r>
            <a:r>
              <a:rPr b="1" lang="en-US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日凌晨，天安门广场万众欢腾，喜迎香港回归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9223"/>
          <p:cNvGrpSpPr/>
          <p:nvPr/>
        </p:nvGrpSpPr>
        <p:grpSpPr>
          <a:xfrm>
            <a:off x="8101080" y="-100080"/>
            <a:ext cx="1224000" cy="6337440"/>
            <a:chOff x="8101080" y="-100080"/>
            <a:chExt cx="1224000" cy="6337440"/>
          </a:xfrm>
        </p:grpSpPr>
        <p:sp>
          <p:nvSpPr>
            <p:cNvPr id="148" name="任意多边形 9224"/>
            <p:cNvSpPr/>
            <p:nvPr/>
          </p:nvSpPr>
          <p:spPr>
            <a:xfrm>
              <a:off x="8294760" y="-100080"/>
              <a:ext cx="10303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图片 9225" descr="j0217698"/>
            <p:cNvPicPr/>
            <p:nvPr/>
          </p:nvPicPr>
          <p:blipFill>
            <a:blip r:embed="rId3"/>
            <a:stretch/>
          </p:blipFill>
          <p:spPr>
            <a:xfrm>
              <a:off x="8101080" y="1341360"/>
              <a:ext cx="738000" cy="669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87042"/>
          <p:cNvSpPr/>
          <p:nvPr/>
        </p:nvSpPr>
        <p:spPr>
          <a:xfrm>
            <a:off x="539640" y="177336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如果你是现场记者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,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面对观看实况转播的亿万观众，你想说些什么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延  伸  拓  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香港回归交接仪式" descr=""/>
          <p:cNvPicPr/>
          <p:nvPr/>
        </p:nvPicPr>
        <p:blipFill>
          <a:blip r:embed="rId2"/>
          <a:stretch/>
        </p:blipFill>
        <p:spPr>
          <a:xfrm>
            <a:off x="9360" y="57240"/>
            <a:ext cx="9069480" cy="67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4276"/>
          <p:cNvSpPr/>
          <p:nvPr/>
        </p:nvSpPr>
        <p:spPr>
          <a:xfrm>
            <a:off x="857160" y="4586400"/>
            <a:ext cx="662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3f1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e13f1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13f1f"/>
                </a:solidFill>
                <a:latin typeface="Arial"/>
              </a:rPr>
              <a:t>彭定康的车轮原地转起了圈子，但历史的车轮是不会在原地转圈的。</a:t>
            </a:r>
            <a:r>
              <a:rPr b="0" lang="zh-CN" sz="2800" spc="-1" strike="noStrike">
                <a:solidFill>
                  <a:srgbClr val="e13f1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4277"/>
          <p:cNvSpPr/>
          <p:nvPr/>
        </p:nvSpPr>
        <p:spPr>
          <a:xfrm>
            <a:off x="1116000" y="1989000"/>
            <a:ext cx="6553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按惯例，历任港督离港前都要坐车绕总督府两圈，彭定康也不例外。只是不同的是，彭定康没有继任了。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4278"/>
          <p:cNvSpPr/>
          <p:nvPr/>
        </p:nvSpPr>
        <p:spPr>
          <a:xfrm>
            <a:off x="14245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凰卫视的解说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54279"/>
          <p:cNvSpPr/>
          <p:nvPr/>
        </p:nvSpPr>
        <p:spPr>
          <a:xfrm>
            <a:off x="2208960" y="3860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中央电视台记者白岩松的现场解说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延  伸  拓  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标题 53251" descr=""/>
          <p:cNvPicPr/>
          <p:nvPr/>
        </p:nvPicPr>
        <p:blipFill>
          <a:blip r:embed="rId2"/>
          <a:stretch/>
        </p:blipFill>
        <p:spPr>
          <a:xfrm>
            <a:off x="6767640" y="274680"/>
            <a:ext cx="1473120" cy="1859040"/>
          </a:xfrm>
          <a:prstGeom prst="rect">
            <a:avLst/>
          </a:prstGeom>
          <a:ln w="0">
            <a:noFill/>
          </a:ln>
        </p:spPr>
      </p:pic>
      <p:sp>
        <p:nvSpPr>
          <p:cNvPr id="159" name="矩形 53252"/>
          <p:cNvSpPr/>
          <p:nvPr/>
        </p:nvSpPr>
        <p:spPr>
          <a:xfrm>
            <a:off x="1403280" y="54936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诗  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3253"/>
          <p:cNvSpPr/>
          <p:nvPr/>
        </p:nvSpPr>
        <p:spPr>
          <a:xfrm>
            <a:off x="2340000" y="1700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总督府前车马稀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3254"/>
          <p:cNvSpPr/>
          <p:nvPr/>
        </p:nvSpPr>
        <p:spPr>
          <a:xfrm>
            <a:off x="2340000" y="27558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缓降慢别米字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53255"/>
          <p:cNvSpPr/>
          <p:nvPr/>
        </p:nvSpPr>
        <p:spPr>
          <a:xfrm>
            <a:off x="2374920" y="38116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小号声中斜阳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53256"/>
          <p:cNvSpPr/>
          <p:nvPr/>
        </p:nvSpPr>
        <p:spPr>
          <a:xfrm>
            <a:off x="2411280" y="48196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细雨蒙蒙霸权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6040" y="-241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课  堂  练  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"/>
          <p:cNvSpPr/>
          <p:nvPr/>
        </p:nvSpPr>
        <p:spPr>
          <a:xfrm>
            <a:off x="27000" y="860400"/>
            <a:ext cx="8415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阅读下面的文字，完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—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2f2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北京奥运会追求两个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体育总局竞技体育司司长肖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，作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奥运会的东道主，中国代表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求两个目标：金牌的数量和金牌的含金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担任第五届城运会组委会竞赛部部长的肖天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绍说，截止到目前，中国运动员已经拿到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雅典奥运会入场券，在接下来的一些预选赛中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希望争取到更多的雅典奥运会参赛席位。中国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团在雅典奥运会上力争好成绩，但很难说金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数是否会超过悉尼奥运会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枚，因为在悉尼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会上，中国运动员在各个项目上都发挥出了最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2f2"/>
                </a:solidFill>
                <a:latin typeface="Arial"/>
              </a:rPr>
              <a:t>水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6040" y="-241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"/>
          <p:cNvSpPr/>
          <p:nvPr/>
        </p:nvSpPr>
        <p:spPr>
          <a:xfrm>
            <a:off x="27000" y="860400"/>
            <a:ext cx="8415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阅读下面的文字，完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—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谈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北京奥运会远景目标时肖天说：“作为东道主，中国代表团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奥运会上要努力实现两个目标，既要争取多得金牌，又要保证金牌含金量。在三大球项目上即使拿不到金牌也要打出高水平的比赛，充分体现中国竞技体育蓬勃发展的势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认为城运会上涌现了许多有潜质的年轻队员，他们将成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奥运会的主力军，但城运会并不是北京奥运会的选拔赛，这些生力军能否最终入选中国军团，还要看他们那时的水平和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-241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"/>
          <p:cNvSpPr/>
          <p:nvPr/>
        </p:nvSpPr>
        <p:spPr>
          <a:xfrm>
            <a:off x="446040" y="1297080"/>
            <a:ext cx="8415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阅读下面的文字，完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—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请用横线画出导语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北京奥运会追求的两个目标是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______________________________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请概括最后一段所包含的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文本占位符 48131" descr="香港回归碑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48132"/>
          <p:cNvSpPr/>
          <p:nvPr/>
        </p:nvSpPr>
        <p:spPr>
          <a:xfrm>
            <a:off x="4356000" y="47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香 港 回 归 纪 念 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8141"/>
          <p:cNvSpPr/>
          <p:nvPr/>
        </p:nvSpPr>
        <p:spPr>
          <a:xfrm>
            <a:off x="311040" y="236520"/>
            <a:ext cx="39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新闻是新近发生的群众关心的重要事实的报道，是一种以记叙为主的文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新闻的结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7120" y="1025640"/>
            <a:ext cx="640872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标题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正标题、副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导语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或开头一两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句话，简要概括新闻最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要事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主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导语之后，新闻内容的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要部分，具体展开新闻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实的叙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背景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新闻的从属部分，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材料。无固定位置，通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安排在主体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结语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位于文末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有可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内容占位符 50179" descr=""/>
          <p:cNvPicPr/>
          <p:nvPr/>
        </p:nvPicPr>
        <p:blipFill>
          <a:blip r:embed="rId2"/>
          <a:stretch/>
        </p:blipFill>
        <p:spPr>
          <a:xfrm>
            <a:off x="6550200" y="1116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27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构成新闻的要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8560" y="1216080"/>
            <a:ext cx="58975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何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何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何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何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何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何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内容占位符 46083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1333800" cy="123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本文结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74720"/>
            <a:ext cx="855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标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别了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不列颠尼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导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(1) 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英国撤离香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主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(2-10)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具体叙述英国殖民者的告别仪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(11)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大英帝国从海上来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又从海上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内容占位符 46083" descr=""/>
          <p:cNvPicPr/>
          <p:nvPr/>
        </p:nvPicPr>
        <p:blipFill>
          <a:blip r:embed="rId2"/>
          <a:stretch/>
        </p:blipFill>
        <p:spPr>
          <a:xfrm>
            <a:off x="5854680" y="274680"/>
            <a:ext cx="239724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文  本  研  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7000" y="2622600"/>
            <a:ext cx="855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找出场景中作者将镜头聚焦的具有象征意义的点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并分析其意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内容占位符 46083" descr=""/>
          <p:cNvPicPr/>
          <p:nvPr/>
        </p:nvPicPr>
        <p:blipFill>
          <a:blip r:embed="rId2"/>
          <a:stretch/>
        </p:blipFill>
        <p:spPr>
          <a:xfrm>
            <a:off x="5789520" y="274680"/>
            <a:ext cx="266400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123" descr="一九九七年六月三十日午夜将至,英国旗徐徐降下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38736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5124"/>
          <p:cNvSpPr/>
          <p:nvPr/>
        </p:nvSpPr>
        <p:spPr>
          <a:xfrm>
            <a:off x="1258920" y="537372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方正华隶简体"/>
                <a:ea typeface="方正华隶简体"/>
              </a:rPr>
              <a:t>一九九七年六月三十日午夜将至</a:t>
            </a:r>
            <a:r>
              <a:rPr b="1" lang="en-US" sz="2400" spc="-1" strike="noStrike">
                <a:solidFill>
                  <a:srgbClr val="00b050"/>
                </a:solidFill>
                <a:latin typeface="方正华隶简体"/>
                <a:ea typeface="方正华隶简体"/>
              </a:rPr>
              <a:t>,</a:t>
            </a:r>
            <a:r>
              <a:rPr b="1" lang="zh-CN" sz="2400" spc="-1" strike="noStrike">
                <a:solidFill>
                  <a:srgbClr val="00b050"/>
                </a:solidFill>
                <a:latin typeface="方正华隶简体"/>
                <a:ea typeface="方正华隶简体"/>
              </a:rPr>
              <a:t>英国旗徐徐降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5125"/>
          <p:cNvSpPr/>
          <p:nvPr/>
        </p:nvSpPr>
        <p:spPr>
          <a:xfrm>
            <a:off x="684360" y="38088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Arial"/>
                <a:ea typeface="方正小标宋简体"/>
              </a:rPr>
              <a:t>米字旗徐徐降下</a:t>
            </a:r>
            <a:r>
              <a:rPr b="1" lang="en-US" sz="4400" spc="-1" strike="noStrike">
                <a:solidFill>
                  <a:srgbClr val="00b050"/>
                </a:solidFill>
                <a:latin typeface="Arial"/>
                <a:ea typeface="方正小标宋简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5128"/>
          <p:cNvGrpSpPr/>
          <p:nvPr/>
        </p:nvGrpSpPr>
        <p:grpSpPr>
          <a:xfrm>
            <a:off x="8101080" y="-100080"/>
            <a:ext cx="1224000" cy="6337440"/>
            <a:chOff x="8101080" y="-100080"/>
            <a:chExt cx="1224000" cy="6337440"/>
          </a:xfrm>
        </p:grpSpPr>
        <p:sp>
          <p:nvSpPr>
            <p:cNvPr id="104" name="任意多边形 5129"/>
            <p:cNvSpPr/>
            <p:nvPr/>
          </p:nvSpPr>
          <p:spPr>
            <a:xfrm>
              <a:off x="8294760" y="-100080"/>
              <a:ext cx="10303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图片 5130" descr="j0217698"/>
            <p:cNvPicPr/>
            <p:nvPr/>
          </p:nvPicPr>
          <p:blipFill>
            <a:blip r:embed="rId3"/>
            <a:stretch/>
          </p:blipFill>
          <p:spPr>
            <a:xfrm>
              <a:off x="8101080" y="1341360"/>
              <a:ext cx="738000" cy="66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图片 5126" descr="j02854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17080" y="6157800"/>
            <a:ext cx="4284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147" descr="五星红旗和香港特别行政区区旗冉冉升起"/>
          <p:cNvPicPr/>
          <p:nvPr/>
        </p:nvPicPr>
        <p:blipFill>
          <a:blip r:embed="rId2"/>
          <a:stretch/>
        </p:blipFill>
        <p:spPr>
          <a:xfrm>
            <a:off x="31680" y="152280"/>
            <a:ext cx="8748720" cy="49816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6148"/>
          <p:cNvSpPr/>
          <p:nvPr/>
        </p:nvSpPr>
        <p:spPr>
          <a:xfrm>
            <a:off x="517680" y="533556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方正小标宋简体"/>
              </a:rPr>
              <a:t>五星红旗和香港特别行政区区旗冉冉升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动作按钮: 上一张 6150"/>
          <p:cNvSpPr/>
          <p:nvPr/>
        </p:nvSpPr>
        <p:spPr>
          <a:xfrm>
            <a:off x="8388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6151"/>
          <p:cNvGrpSpPr/>
          <p:nvPr/>
        </p:nvGrpSpPr>
        <p:grpSpPr>
          <a:xfrm>
            <a:off x="8317080" y="-100080"/>
            <a:ext cx="1008000" cy="6337440"/>
            <a:chOff x="8317080" y="-100080"/>
            <a:chExt cx="1008000" cy="6337440"/>
          </a:xfrm>
        </p:grpSpPr>
        <p:sp>
          <p:nvSpPr>
            <p:cNvPr id="111" name="任意多边形 6152"/>
            <p:cNvSpPr/>
            <p:nvPr/>
          </p:nvSpPr>
          <p:spPr>
            <a:xfrm>
              <a:off x="8476560" y="-100080"/>
              <a:ext cx="848520" cy="6337440"/>
            </a:xfrm>
            <a:custGeom>
              <a:avLst/>
              <a:gdLst/>
              <a:ahLst/>
              <a:rect l="l" t="t" r="r" b="b"/>
              <a:pathLst>
                <a:path w="819" h="4451">
                  <a:moveTo>
                    <a:pt x="39" y="54"/>
                  </a:moveTo>
                  <a:cubicBezTo>
                    <a:pt x="46" y="91"/>
                    <a:pt x="56" y="122"/>
                    <a:pt x="67" y="157"/>
                  </a:cubicBezTo>
                  <a:cubicBezTo>
                    <a:pt x="63" y="175"/>
                    <a:pt x="33" y="234"/>
                    <a:pt x="58" y="250"/>
                  </a:cubicBezTo>
                  <a:cubicBezTo>
                    <a:pt x="79" y="264"/>
                    <a:pt x="108" y="260"/>
                    <a:pt x="132" y="268"/>
                  </a:cubicBezTo>
                  <a:cubicBezTo>
                    <a:pt x="129" y="290"/>
                    <a:pt x="133" y="313"/>
                    <a:pt x="123" y="333"/>
                  </a:cubicBezTo>
                  <a:cubicBezTo>
                    <a:pt x="118" y="342"/>
                    <a:pt x="12" y="361"/>
                    <a:pt x="11" y="361"/>
                  </a:cubicBezTo>
                  <a:cubicBezTo>
                    <a:pt x="24" y="509"/>
                    <a:pt x="0" y="493"/>
                    <a:pt x="141" y="510"/>
                  </a:cubicBezTo>
                  <a:cubicBezTo>
                    <a:pt x="150" y="513"/>
                    <a:pt x="165" y="510"/>
                    <a:pt x="169" y="519"/>
                  </a:cubicBezTo>
                  <a:cubicBezTo>
                    <a:pt x="185" y="557"/>
                    <a:pt x="151" y="559"/>
                    <a:pt x="132" y="565"/>
                  </a:cubicBezTo>
                  <a:cubicBezTo>
                    <a:pt x="129" y="574"/>
                    <a:pt x="121" y="583"/>
                    <a:pt x="123" y="593"/>
                  </a:cubicBezTo>
                  <a:cubicBezTo>
                    <a:pt x="125" y="604"/>
                    <a:pt x="137" y="611"/>
                    <a:pt x="141" y="621"/>
                  </a:cubicBezTo>
                  <a:cubicBezTo>
                    <a:pt x="149" y="639"/>
                    <a:pt x="154" y="658"/>
                    <a:pt x="160" y="677"/>
                  </a:cubicBezTo>
                  <a:cubicBezTo>
                    <a:pt x="166" y="696"/>
                    <a:pt x="178" y="733"/>
                    <a:pt x="178" y="733"/>
                  </a:cubicBezTo>
                  <a:cubicBezTo>
                    <a:pt x="169" y="742"/>
                    <a:pt x="161" y="753"/>
                    <a:pt x="150" y="760"/>
                  </a:cubicBezTo>
                  <a:cubicBezTo>
                    <a:pt x="121" y="779"/>
                    <a:pt x="106" y="758"/>
                    <a:pt x="150" y="788"/>
                  </a:cubicBezTo>
                  <a:cubicBezTo>
                    <a:pt x="147" y="801"/>
                    <a:pt x="149" y="816"/>
                    <a:pt x="141" y="826"/>
                  </a:cubicBezTo>
                  <a:cubicBezTo>
                    <a:pt x="135" y="834"/>
                    <a:pt x="117" y="826"/>
                    <a:pt x="113" y="835"/>
                  </a:cubicBezTo>
                  <a:cubicBezTo>
                    <a:pt x="69" y="933"/>
                    <a:pt x="153" y="901"/>
                    <a:pt x="48" y="918"/>
                  </a:cubicBezTo>
                  <a:cubicBezTo>
                    <a:pt x="130" y="973"/>
                    <a:pt x="72" y="1094"/>
                    <a:pt x="58" y="1179"/>
                  </a:cubicBezTo>
                  <a:cubicBezTo>
                    <a:pt x="61" y="1219"/>
                    <a:pt x="60" y="1260"/>
                    <a:pt x="67" y="1299"/>
                  </a:cubicBezTo>
                  <a:cubicBezTo>
                    <a:pt x="69" y="1310"/>
                    <a:pt x="82" y="1316"/>
                    <a:pt x="85" y="1327"/>
                  </a:cubicBezTo>
                  <a:cubicBezTo>
                    <a:pt x="92" y="1357"/>
                    <a:pt x="90" y="1389"/>
                    <a:pt x="95" y="1420"/>
                  </a:cubicBezTo>
                  <a:cubicBezTo>
                    <a:pt x="97" y="1433"/>
                    <a:pt x="101" y="1445"/>
                    <a:pt x="104" y="1457"/>
                  </a:cubicBezTo>
                  <a:cubicBezTo>
                    <a:pt x="98" y="1557"/>
                    <a:pt x="69" y="1693"/>
                    <a:pt x="132" y="1782"/>
                  </a:cubicBezTo>
                  <a:cubicBezTo>
                    <a:pt x="135" y="1795"/>
                    <a:pt x="133" y="1810"/>
                    <a:pt x="141" y="1820"/>
                  </a:cubicBezTo>
                  <a:cubicBezTo>
                    <a:pt x="147" y="1828"/>
                    <a:pt x="163" y="1821"/>
                    <a:pt x="169" y="1829"/>
                  </a:cubicBezTo>
                  <a:cubicBezTo>
                    <a:pt x="183" y="1847"/>
                    <a:pt x="180" y="1873"/>
                    <a:pt x="188" y="1894"/>
                  </a:cubicBezTo>
                  <a:cubicBezTo>
                    <a:pt x="159" y="2000"/>
                    <a:pt x="208" y="1862"/>
                    <a:pt x="132" y="1940"/>
                  </a:cubicBezTo>
                  <a:cubicBezTo>
                    <a:pt x="121" y="1951"/>
                    <a:pt x="126" y="1971"/>
                    <a:pt x="123" y="1987"/>
                  </a:cubicBezTo>
                  <a:cubicBezTo>
                    <a:pt x="130" y="2053"/>
                    <a:pt x="134" y="2085"/>
                    <a:pt x="113" y="2145"/>
                  </a:cubicBezTo>
                  <a:cubicBezTo>
                    <a:pt x="122" y="2151"/>
                    <a:pt x="134" y="2154"/>
                    <a:pt x="141" y="2163"/>
                  </a:cubicBezTo>
                  <a:cubicBezTo>
                    <a:pt x="160" y="2186"/>
                    <a:pt x="124" y="2281"/>
                    <a:pt x="113" y="2312"/>
                  </a:cubicBezTo>
                  <a:cubicBezTo>
                    <a:pt x="134" y="2405"/>
                    <a:pt x="142" y="2412"/>
                    <a:pt x="132" y="2507"/>
                  </a:cubicBezTo>
                  <a:cubicBezTo>
                    <a:pt x="108" y="2408"/>
                    <a:pt x="132" y="2532"/>
                    <a:pt x="132" y="2433"/>
                  </a:cubicBezTo>
                  <a:cubicBezTo>
                    <a:pt x="132" y="2423"/>
                    <a:pt x="126" y="2452"/>
                    <a:pt x="123" y="2461"/>
                  </a:cubicBezTo>
                  <a:cubicBezTo>
                    <a:pt x="120" y="2470"/>
                    <a:pt x="116" y="2479"/>
                    <a:pt x="113" y="2488"/>
                  </a:cubicBezTo>
                  <a:cubicBezTo>
                    <a:pt x="134" y="2641"/>
                    <a:pt x="86" y="2617"/>
                    <a:pt x="169" y="2637"/>
                  </a:cubicBezTo>
                  <a:cubicBezTo>
                    <a:pt x="181" y="2655"/>
                    <a:pt x="212" y="2686"/>
                    <a:pt x="178" y="2711"/>
                  </a:cubicBezTo>
                  <a:cubicBezTo>
                    <a:pt x="169" y="2718"/>
                    <a:pt x="159" y="2699"/>
                    <a:pt x="150" y="2693"/>
                  </a:cubicBezTo>
                  <a:cubicBezTo>
                    <a:pt x="153" y="2684"/>
                    <a:pt x="170" y="2665"/>
                    <a:pt x="160" y="2665"/>
                  </a:cubicBezTo>
                  <a:cubicBezTo>
                    <a:pt x="149" y="2665"/>
                    <a:pt x="143" y="2682"/>
                    <a:pt x="141" y="2693"/>
                  </a:cubicBezTo>
                  <a:cubicBezTo>
                    <a:pt x="139" y="2703"/>
                    <a:pt x="147" y="2712"/>
                    <a:pt x="150" y="2721"/>
                  </a:cubicBezTo>
                  <a:cubicBezTo>
                    <a:pt x="133" y="2791"/>
                    <a:pt x="74" y="2906"/>
                    <a:pt x="160" y="2934"/>
                  </a:cubicBezTo>
                  <a:cubicBezTo>
                    <a:pt x="169" y="2943"/>
                    <a:pt x="184" y="2949"/>
                    <a:pt x="188" y="2962"/>
                  </a:cubicBezTo>
                  <a:cubicBezTo>
                    <a:pt x="193" y="2980"/>
                    <a:pt x="143" y="3065"/>
                    <a:pt x="132" y="3083"/>
                  </a:cubicBezTo>
                  <a:cubicBezTo>
                    <a:pt x="135" y="3099"/>
                    <a:pt x="135" y="3115"/>
                    <a:pt x="141" y="3130"/>
                  </a:cubicBezTo>
                  <a:cubicBezTo>
                    <a:pt x="145" y="3140"/>
                    <a:pt x="159" y="3146"/>
                    <a:pt x="160" y="3157"/>
                  </a:cubicBezTo>
                  <a:cubicBezTo>
                    <a:pt x="162" y="3171"/>
                    <a:pt x="146" y="3215"/>
                    <a:pt x="141" y="3232"/>
                  </a:cubicBezTo>
                  <a:cubicBezTo>
                    <a:pt x="150" y="3238"/>
                    <a:pt x="167" y="3239"/>
                    <a:pt x="169" y="3250"/>
                  </a:cubicBezTo>
                  <a:cubicBezTo>
                    <a:pt x="181" y="3323"/>
                    <a:pt x="146" y="3421"/>
                    <a:pt x="123" y="3492"/>
                  </a:cubicBezTo>
                  <a:cubicBezTo>
                    <a:pt x="126" y="3514"/>
                    <a:pt x="124" y="3537"/>
                    <a:pt x="132" y="3557"/>
                  </a:cubicBezTo>
                  <a:cubicBezTo>
                    <a:pt x="137" y="3569"/>
                    <a:pt x="153" y="3574"/>
                    <a:pt x="160" y="3585"/>
                  </a:cubicBezTo>
                  <a:cubicBezTo>
                    <a:pt x="166" y="3596"/>
                    <a:pt x="166" y="3610"/>
                    <a:pt x="169" y="3622"/>
                  </a:cubicBezTo>
                  <a:cubicBezTo>
                    <a:pt x="166" y="3744"/>
                    <a:pt x="238" y="3946"/>
                    <a:pt x="123" y="3984"/>
                  </a:cubicBezTo>
                  <a:cubicBezTo>
                    <a:pt x="106" y="4032"/>
                    <a:pt x="133" y="4029"/>
                    <a:pt x="160" y="4068"/>
                  </a:cubicBezTo>
                  <a:cubicBezTo>
                    <a:pt x="180" y="4129"/>
                    <a:pt x="190" y="4176"/>
                    <a:pt x="150" y="4235"/>
                  </a:cubicBezTo>
                  <a:cubicBezTo>
                    <a:pt x="153" y="4300"/>
                    <a:pt x="138" y="4369"/>
                    <a:pt x="160" y="4430"/>
                  </a:cubicBezTo>
                  <a:cubicBezTo>
                    <a:pt x="168" y="4451"/>
                    <a:pt x="203" y="4439"/>
                    <a:pt x="225" y="4439"/>
                  </a:cubicBezTo>
                  <a:cubicBezTo>
                    <a:pt x="414" y="4439"/>
                    <a:pt x="602" y="4433"/>
                    <a:pt x="791" y="4430"/>
                  </a:cubicBezTo>
                  <a:cubicBezTo>
                    <a:pt x="769" y="4225"/>
                    <a:pt x="795" y="4021"/>
                    <a:pt x="810" y="3817"/>
                  </a:cubicBezTo>
                  <a:cubicBezTo>
                    <a:pt x="773" y="3253"/>
                    <a:pt x="809" y="2682"/>
                    <a:pt x="819" y="2117"/>
                  </a:cubicBezTo>
                  <a:cubicBezTo>
                    <a:pt x="811" y="1822"/>
                    <a:pt x="816" y="1813"/>
                    <a:pt x="764" y="1597"/>
                  </a:cubicBezTo>
                  <a:cubicBezTo>
                    <a:pt x="753" y="1488"/>
                    <a:pt x="760" y="1388"/>
                    <a:pt x="810" y="1290"/>
                  </a:cubicBezTo>
                  <a:cubicBezTo>
                    <a:pt x="804" y="878"/>
                    <a:pt x="812" y="465"/>
                    <a:pt x="791" y="54"/>
                  </a:cubicBezTo>
                  <a:cubicBezTo>
                    <a:pt x="790" y="38"/>
                    <a:pt x="760" y="48"/>
                    <a:pt x="745" y="45"/>
                  </a:cubicBezTo>
                  <a:cubicBezTo>
                    <a:pt x="723" y="40"/>
                    <a:pt x="702" y="28"/>
                    <a:pt x="680" y="27"/>
                  </a:cubicBezTo>
                  <a:cubicBezTo>
                    <a:pt x="497" y="21"/>
                    <a:pt x="315" y="20"/>
                    <a:pt x="132" y="17"/>
                  </a:cubicBezTo>
                  <a:cubicBezTo>
                    <a:pt x="39" y="28"/>
                    <a:pt x="57" y="0"/>
                    <a:pt x="3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图片 6153" descr="j0217698"/>
            <p:cNvPicPr/>
            <p:nvPr/>
          </p:nvPicPr>
          <p:blipFill>
            <a:blip r:embed="rId3"/>
            <a:stretch/>
          </p:blipFill>
          <p:spPr>
            <a:xfrm>
              <a:off x="8317080" y="1341360"/>
              <a:ext cx="607680" cy="669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2:59:10Z</dcterms:created>
  <dc:creator/>
  <dc:description/>
  <dc:language>en-US</dc:language>
  <cp:lastModifiedBy>微软用户</cp:lastModifiedBy>
  <dcterms:modified xsi:type="dcterms:W3CDTF">2017-10-05T12:04:39Z</dcterms:modified>
  <cp:revision>1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