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7.jpeg" ContentType="image/jpeg"/>
  <Override PartName="/ppt/media/image15.jpeg" ContentType="image/jpeg"/>
  <Override PartName="/ppt/media/type.wav" ContentType="audio/x-wav"/>
  <Override PartName="/ppt/media/image14.jpeg" ContentType="image/jpeg"/>
  <Override PartName="/ppt/media/image13.jpeg" ContentType="image/jpeg"/>
  <Override PartName="/ppt/media/image1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chimes.wav" ContentType="audio/x-wav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5EE0-0971-4FD6-9E13-12123CA9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D26B-C9EC-4FEA-AFB7-EBB814EF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DC62-206D-4C15-A14B-49ABF765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3C9C-EDD4-45B1-BF91-47CB4551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5B87-BE23-468E-8773-39D0E3E0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BA0E-B0CC-46C3-948D-8C02BF7C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B62E-262B-44F6-AB5F-E8332B51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A4EA-5824-42BD-8941-4718E41E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FB36-2232-4943-80CA-8FB7A048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264D-DC4D-4962-96C4-EDB72295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A2B5-0D2F-4A54-BF4B-BC53F66F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742B-DA38-45A2-AAB7-70005D46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DA83-71EA-41BC-93FB-3EFDE441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FDE4-CD14-4044-A58B-16B3519B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06D4-0156-4666-A033-7796D704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FA5D-CA97-4A11-B126-27BA3446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5820-8CEB-49D9-96F4-FB7F4345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957F-8952-4406-9E18-70037E28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5F98-EA73-479B-A7E5-F59A3FC2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0CF2-4BFB-46EB-A3C2-7D5DAFE0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0006-CABA-4F86-9CA9-14D1223D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BC61-4130-4819-B37C-190FAA6E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E752-79EA-430B-8C3E-3EF4438D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429F-D60B-4945-B7EB-0B5DD513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2CC0-9869-4F9E-A23C-B4A68451A579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202F-3135-4A94-AADF-B66D98AEB4B3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-76320" y="-57240"/>
            <a:ext cx="9220320" cy="6915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9640" y="765000"/>
            <a:ext cx="792504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ff"/>
                </a:solidFill>
                <a:latin typeface="Times New Roman"/>
                <a:ea typeface="华文彩云"/>
              </a:rPr>
              <a:t>别了，“不列颠尼亚”</a:t>
            </a:r>
            <a:endParaRPr b="0" lang="en-US" sz="6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4360" y="260280"/>
            <a:ext cx="7632720" cy="10688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华文行楷"/>
                <a:ea typeface="华文行楷"/>
              </a:rPr>
              <a:t>第四场景：</a:t>
            </a:r>
            <a:r>
              <a:rPr b="1" lang="zh-CN" sz="3200" spc="-1" strike="noStrike">
                <a:solidFill>
                  <a:srgbClr val="ff6600"/>
                </a:solidFill>
                <a:latin typeface="华文行楷"/>
                <a:ea typeface="华文行楷"/>
              </a:rPr>
              <a:t>7</a:t>
            </a:r>
            <a:r>
              <a:rPr b="1" lang="zh-CN" sz="3200" spc="-1" strike="noStrike">
                <a:solidFill>
                  <a:srgbClr val="ff6600"/>
                </a:solidFill>
                <a:latin typeface="华文行楷"/>
                <a:ea typeface="华文行楷"/>
              </a:rPr>
              <a:t>月</a:t>
            </a:r>
            <a:r>
              <a:rPr b="1" lang="zh-CN" sz="3200" spc="-1" strike="noStrike">
                <a:solidFill>
                  <a:srgbClr val="ff6600"/>
                </a:solidFill>
                <a:latin typeface="华文行楷"/>
                <a:ea typeface="华文行楷"/>
              </a:rPr>
              <a:t>1</a:t>
            </a:r>
            <a:r>
              <a:rPr b="1" lang="zh-CN" sz="3200" spc="-1" strike="noStrike">
                <a:solidFill>
                  <a:srgbClr val="ff6600"/>
                </a:solidFill>
                <a:latin typeface="华文行楷"/>
                <a:ea typeface="华文行楷"/>
              </a:rPr>
              <a:t>日零点</a:t>
            </a:r>
            <a:r>
              <a:rPr b="1" lang="zh-CN" sz="3200" spc="-1" strike="noStrike">
                <a:solidFill>
                  <a:srgbClr val="ff6600"/>
                </a:solidFill>
                <a:latin typeface="华文行楷"/>
                <a:ea typeface="华文行楷"/>
              </a:rPr>
              <a:t>40</a:t>
            </a:r>
            <a:r>
              <a:rPr b="1" lang="zh-CN" sz="3200" spc="-1" strike="noStrike">
                <a:solidFill>
                  <a:srgbClr val="ff6600"/>
                </a:solidFill>
                <a:latin typeface="华文行楷"/>
                <a:ea typeface="华文行楷"/>
              </a:rPr>
              <a:t>分，查尔斯王子和彭定康登上“不列颠尼亚”号离开香港。    </a:t>
            </a:r>
            <a:r>
              <a:rPr b="1" lang="zh-CN" sz="2400" spc="-1" strike="noStrike">
                <a:solidFill>
                  <a:srgbClr val="ff6600"/>
                </a:solidFill>
                <a:latin typeface="MingLiU"/>
              </a:rPr>
              <a:t>（第十自然段）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457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228600"/>
            <a:ext cx="426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4000" y="260280"/>
            <a:ext cx="8569080" cy="1191240"/>
          </a:xfrm>
          <a:prstGeom prst="rect">
            <a:avLst/>
          </a:prstGeom>
          <a:noFill/>
          <a:ln w="792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文通过描述中英香港交接仪式的四个场景，出色地记录了象征英国殖民统治的“不列颠尼亚”号撤离香港的最后历史时刻，充分表现了香港回归这一深刻的历史主题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003640" y="3613320"/>
            <a:ext cx="3853080" cy="3244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24000" y="3639960"/>
            <a:ext cx="4103640" cy="321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859560" y="3657600"/>
            <a:ext cx="1155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ecff"/>
                </a:solidFill>
                <a:latin typeface="华文新魏"/>
                <a:ea typeface="华文新魏"/>
              </a:rPr>
              <a:t>香    港    中    环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89000"/>
            <a:ext cx="50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从哪一角度来写新闻的？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18080" y="836640"/>
            <a:ext cx="45864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125360"/>
            <a:ext cx="50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作者没有写交接仪式现场多么庄严，也没有写回归的人群是多么激动，更没有对这一时间进行政治分析，分析其意义和影响，而是选择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英方撤离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这一角度，显得比较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新颖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并且在简介英国人降旗参加交接仪式登上“不列颠尼亚”号回国这一系列事件的过程中穿插了英国人登上香港，开始殖民同志的历史，这样就增强了文章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历史厚重感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547200"/>
            <a:ext cx="914400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哪个标题好，为什么？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别了，不列颠尼亚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英国撤离香港，结束统治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924280"/>
            <a:ext cx="88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好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句式倒装，更能表达感情。强调与英国殖民者的告别，英国殖民统治在香港的终结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虚实结合，匠心独运，了无痕迹。“实”指“不列颠尼亚”号游轮离开香港。“虚”指英国结束在香港的殖民统治，中华民族的一段耻辱被洗刷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468360" y="692280"/>
            <a:ext cx="8381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8d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这篇特写在报道新闻事实时，还适当的运用一些背景材料。请找出来（在哪些段落里），体会它们在文章中的作用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113120" y="2781360"/>
            <a:ext cx="381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：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然段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4369320"/>
            <a:ext cx="89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介绍了每一种仪式之后，作者总要引用一些背景材料，使得每一个仪式都显示出历史的跨度，有着历史的意义，使人感受到深厚的历史内涵，也让人更加体会出仪式本身的现实内涵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50920" y="2528280"/>
            <a:ext cx="849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7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闻事实是一般事实中具有特殊素质的一种事实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即指那些具有新闻价值的事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只有那些新近发生的，能够引起普遍兴趣的新鲜的事实，才能够成为新闻事实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7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7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闻背景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指新闻事实发生发展的历史条件和环境条件。历史条件指事实自身的历史状况，环境条件指事实与周围事物的联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介绍背景， 能对新闻事实起到说明、补充、衬托作用，又称为“新闻背后的新闻”。并且有利于了解新闻发生发展的来龙去脉，加深对新闻的认识和理解，深化新闻的主题，并有丰富内容、增加知识性和趣味性的作用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7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8540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、但这一次不同：永远都不会有另一面港督从这里升起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运用对比，强调了这次升旗是具有标志意义的最后一次，象征着英国殖民者在香港的终结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、停泊在港湾中的皇家游轮“不列颠尼亚”号和邻近大厦上悬挂的巨幅紫荆图案，恰好构成这个“日落仪式”的背景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不列颠尼亚”号和巨幅紫荆花图案构成形成鲜明对比，说明英国在香港的统治即将结束，而作为特别行政区象征的紫荆花图案将在香港上空冉冉升起，香港即将回到祖国的怀抱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文中多处运用了恰当的对比，是怎样表现出来的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52156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、大英帝国从海上来，又从海上去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短短的十三个字，运用对比手法，包含这无穷的意蕴：当年从海上耀武扬威地来，今天黯然地从海上离去。胜利的自豪之情，一雪前耻的畅快淋漓之感，溢于言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09680" y="31240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香  港  回  归  场  面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0" y="2997360"/>
            <a:ext cx="4572000" cy="3211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419720" cy="3200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1892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0" y="2997360"/>
            <a:ext cx="4419720" cy="32335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68360" y="623736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如果你是现场记者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对观看实况转播的亿万观众该说什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d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3657600" cy="4724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95280" y="1341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新闻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54040" y="685800"/>
            <a:ext cx="69840" cy="1951200"/>
          </a:xfrm>
          <a:custGeom>
            <a:avLst/>
            <a:gdLst>
              <a:gd name="textAreaLeft" fmla="*/ 44640 w 69840"/>
              <a:gd name="textAreaRight" fmla="*/ 69840 w 69840"/>
              <a:gd name="textAreaTop" fmla="*/ 50760 h 1951200"/>
              <a:gd name="textAreaBottom" fmla="*/ 1900440 h 195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38"/>
                </a:lnTo>
                <a:cubicBezTo>
                  <a:pt x="10800" y="10238"/>
                  <a:pt x="5400" y="11138"/>
                  <a:pt x="0" y="11138"/>
                </a:cubicBezTo>
                <a:cubicBezTo>
                  <a:pt x="5400" y="11138"/>
                  <a:pt x="10800" y="12038"/>
                  <a:pt x="10800" y="1293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380880"/>
            <a:ext cx="31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狭义——消息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3280" y="1125360"/>
            <a:ext cx="10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通讯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56000" y="907920"/>
            <a:ext cx="215640" cy="2016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67280" y="765000"/>
            <a:ext cx="167616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人物通讯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765000"/>
            <a:ext cx="167652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事件通讯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1484280"/>
            <a:ext cx="160020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工作通讯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84280"/>
            <a:ext cx="165600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风貌通讯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31417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华文行楷"/>
              </a:rPr>
              <a:t>新闻最主要的特征是：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927200" y="2666880"/>
            <a:ext cx="911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Times New Roman"/>
                <a:ea typeface="MingLiU"/>
              </a:rPr>
              <a:t> </a:t>
            </a:r>
            <a:r>
              <a:rPr b="1" lang="zh-CN" sz="2400" spc="-1" strike="noStrike">
                <a:solidFill>
                  <a:srgbClr val="3399ff"/>
                </a:solidFill>
                <a:latin typeface="Times New Roman"/>
                <a:ea typeface="MingLiU"/>
              </a:rPr>
              <a:t>香 港 回 归 纪 念 碑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645000"/>
            <a:ext cx="4356000" cy="3213000"/>
          </a:xfrm>
          <a:custGeom>
            <a:avLst/>
            <a:gdLst>
              <a:gd name="textAreaLeft" fmla="*/ 994320 w 4356000"/>
              <a:gd name="textAreaRight" fmla="*/ 3361680 w 4356000"/>
              <a:gd name="textAreaTop" fmla="*/ 733320 h 3213000"/>
              <a:gd name="textAreaBottom" fmla="*/ 2479680 h 32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4221000"/>
            <a:ext cx="30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用事实说话，内容真实；报道及时；语言简明扼要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19280" y="1557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广义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80000" y="1052640"/>
            <a:ext cx="228600" cy="761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43280" y="1989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消息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2637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报告文学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181080" y="285264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新闻正文一般分为哪几个部分？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860640"/>
            <a:ext cx="5257800" cy="116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e1208"/>
                </a:solidFill>
                <a:latin typeface="Times New Roman"/>
                <a:ea typeface="MingLiU"/>
              </a:rPr>
              <a:t>标题、导语、主体、背景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e1208"/>
                </a:solidFill>
                <a:latin typeface="Times New Roman"/>
                <a:ea typeface="MingLiU"/>
              </a:rPr>
              <a:t>和结语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252360" y="5013360"/>
            <a:ext cx="586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、哪几部分是缺一不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00ff"/>
                </a:solidFill>
                <a:latin typeface="华文新魏"/>
                <a:ea typeface="华文新魏"/>
              </a:rPr>
              <a:t>可的？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16720" y="6338880"/>
            <a:ext cx="506880" cy="520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e1208"/>
                </a:solidFill>
                <a:latin typeface="Times New Roman"/>
                <a:ea typeface="MingLiU"/>
              </a:rPr>
              <a:t>标题、导语、主体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333360"/>
            <a:ext cx="842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、构成新闻的要素六个“Ｗ”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16360" y="3490920"/>
            <a:ext cx="4427640" cy="3367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119700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e1208"/>
                </a:solidFill>
                <a:latin typeface="Times New Roman"/>
                <a:ea typeface="MingLiU"/>
              </a:rPr>
              <a:t>1</a:t>
            </a:r>
            <a:r>
              <a:rPr b="1" lang="zh-CN" sz="3200" spc="-1" strike="noStrike">
                <a:solidFill>
                  <a:srgbClr val="6e1208"/>
                </a:solidFill>
                <a:latin typeface="Times New Roman"/>
                <a:ea typeface="MingLiU"/>
              </a:rPr>
              <a:t>〉</a:t>
            </a:r>
            <a:r>
              <a:rPr b="1" lang="zh-CN" sz="3200" spc="-1" strike="noStrike">
                <a:solidFill>
                  <a:srgbClr val="6e1208"/>
                </a:solidFill>
                <a:latin typeface="Times New Roman"/>
                <a:ea typeface="MingLiU"/>
              </a:rPr>
              <a:t>when:</a:t>
            </a:r>
            <a:r>
              <a:rPr b="1" lang="zh-CN" sz="3200" spc="-1" strike="noStrike">
                <a:solidFill>
                  <a:srgbClr val="6e1208"/>
                </a:solidFill>
                <a:latin typeface="Times New Roman"/>
                <a:ea typeface="MingLiU"/>
              </a:rPr>
              <a:t>何时   </a:t>
            </a:r>
            <a:r>
              <a:rPr b="1" lang="zh-CN" sz="3200" spc="-1" strike="noStrike">
                <a:solidFill>
                  <a:srgbClr val="6e1208"/>
                </a:solidFill>
                <a:latin typeface="Times New Roman"/>
                <a:ea typeface="MingLiU"/>
              </a:rPr>
              <a:t>2</a:t>
            </a:r>
            <a:r>
              <a:rPr b="1" lang="zh-CN" sz="3200" spc="-1" strike="noStrike">
                <a:solidFill>
                  <a:srgbClr val="6e1208"/>
                </a:solidFill>
                <a:latin typeface="Times New Roman"/>
                <a:ea typeface="MingLiU"/>
              </a:rPr>
              <a:t>〉</a:t>
            </a:r>
            <a:r>
              <a:rPr b="1" lang="zh-CN" sz="3200" spc="-1" strike="noStrike">
                <a:solidFill>
                  <a:srgbClr val="6e1208"/>
                </a:solidFill>
                <a:latin typeface="Times New Roman"/>
                <a:ea typeface="MingLiU"/>
              </a:rPr>
              <a:t>where:</a:t>
            </a:r>
            <a:r>
              <a:rPr b="1" lang="zh-CN" sz="3200" spc="-1" strike="noStrike">
                <a:solidFill>
                  <a:srgbClr val="6e1208"/>
                </a:solidFill>
                <a:latin typeface="Times New Roman"/>
                <a:ea typeface="MingLiU"/>
              </a:rPr>
              <a:t>何地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e1208"/>
                </a:solidFill>
                <a:latin typeface="Times New Roman"/>
                <a:ea typeface="MingLiU"/>
              </a:rPr>
              <a:t>3</a:t>
            </a:r>
            <a:r>
              <a:rPr b="1" lang="zh-CN" sz="3200" spc="-1" strike="noStrike">
                <a:solidFill>
                  <a:srgbClr val="6e1208"/>
                </a:solidFill>
                <a:latin typeface="Times New Roman"/>
                <a:ea typeface="MingLiU"/>
              </a:rPr>
              <a:t>〉</a:t>
            </a:r>
            <a:r>
              <a:rPr b="1" lang="zh-CN" sz="3200" spc="-1" strike="noStrike">
                <a:solidFill>
                  <a:srgbClr val="6e1208"/>
                </a:solidFill>
                <a:latin typeface="Times New Roman"/>
                <a:ea typeface="MingLiU"/>
              </a:rPr>
              <a:t>who:</a:t>
            </a:r>
            <a:r>
              <a:rPr b="1" lang="zh-CN" sz="3200" spc="-1" strike="noStrike">
                <a:solidFill>
                  <a:srgbClr val="6e1208"/>
                </a:solidFill>
                <a:latin typeface="Times New Roman"/>
                <a:ea typeface="MingLiU"/>
              </a:rPr>
              <a:t>何人    </a:t>
            </a:r>
            <a:r>
              <a:rPr b="1" lang="zh-CN" sz="3200" spc="-1" strike="noStrike">
                <a:solidFill>
                  <a:srgbClr val="6e1208"/>
                </a:solidFill>
                <a:latin typeface="Times New Roman"/>
                <a:ea typeface="MingLiU"/>
              </a:rPr>
              <a:t>4</a:t>
            </a:r>
            <a:r>
              <a:rPr b="1" lang="zh-CN" sz="3200" spc="-1" strike="noStrike">
                <a:solidFill>
                  <a:srgbClr val="6e1208"/>
                </a:solidFill>
                <a:latin typeface="Times New Roman"/>
                <a:ea typeface="MingLiU"/>
              </a:rPr>
              <a:t>〉</a:t>
            </a:r>
            <a:r>
              <a:rPr b="1" lang="zh-CN" sz="3200" spc="-1" strike="noStrike">
                <a:solidFill>
                  <a:srgbClr val="6e1208"/>
                </a:solidFill>
                <a:latin typeface="Times New Roman"/>
                <a:ea typeface="MingLiU"/>
              </a:rPr>
              <a:t>what:</a:t>
            </a:r>
            <a:r>
              <a:rPr b="1" lang="zh-CN" sz="3200" spc="-1" strike="noStrike">
                <a:solidFill>
                  <a:srgbClr val="6e1208"/>
                </a:solidFill>
                <a:latin typeface="Times New Roman"/>
                <a:ea typeface="MingLiU"/>
              </a:rPr>
              <a:t>何事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e1208"/>
                </a:solidFill>
                <a:latin typeface="Times New Roman"/>
                <a:ea typeface="MingLiU"/>
              </a:rPr>
              <a:t>5</a:t>
            </a:r>
            <a:r>
              <a:rPr b="1" lang="zh-CN" sz="3200" spc="-1" strike="noStrike">
                <a:solidFill>
                  <a:srgbClr val="6e1208"/>
                </a:solidFill>
                <a:latin typeface="Times New Roman"/>
                <a:ea typeface="MingLiU"/>
              </a:rPr>
              <a:t>〉</a:t>
            </a:r>
            <a:r>
              <a:rPr b="1" lang="zh-CN" sz="3200" spc="-1" strike="noStrike">
                <a:solidFill>
                  <a:srgbClr val="6e1208"/>
                </a:solidFill>
                <a:latin typeface="Times New Roman"/>
                <a:ea typeface="MingLiU"/>
              </a:rPr>
              <a:t>why:</a:t>
            </a:r>
            <a:r>
              <a:rPr b="1" lang="zh-CN" sz="3200" spc="-1" strike="noStrike">
                <a:solidFill>
                  <a:srgbClr val="6e1208"/>
                </a:solidFill>
                <a:latin typeface="Times New Roman"/>
                <a:ea typeface="MingLiU"/>
              </a:rPr>
              <a:t>何因    </a:t>
            </a:r>
            <a:r>
              <a:rPr b="1" lang="zh-CN" sz="3200" spc="-1" strike="noStrike">
                <a:solidFill>
                  <a:srgbClr val="6e1208"/>
                </a:solidFill>
                <a:latin typeface="Times New Roman"/>
                <a:ea typeface="MingLiU"/>
              </a:rPr>
              <a:t>6</a:t>
            </a:r>
            <a:r>
              <a:rPr b="1" lang="zh-CN" sz="3200" spc="-1" strike="noStrike">
                <a:solidFill>
                  <a:srgbClr val="6e1208"/>
                </a:solidFill>
                <a:latin typeface="Times New Roman"/>
                <a:ea typeface="MingLiU"/>
              </a:rPr>
              <a:t>〉</a:t>
            </a:r>
            <a:r>
              <a:rPr b="1" lang="zh-CN" sz="3200" spc="-1" strike="noStrike">
                <a:solidFill>
                  <a:srgbClr val="6e1208"/>
                </a:solidFill>
                <a:latin typeface="Times New Roman"/>
                <a:ea typeface="MingLiU"/>
              </a:rPr>
              <a:t>how</a:t>
            </a:r>
            <a:r>
              <a:rPr b="1" lang="zh-CN" sz="3200" spc="-1" strike="noStrike">
                <a:solidFill>
                  <a:srgbClr val="6e1208"/>
                </a:solidFill>
                <a:latin typeface="Times New Roman"/>
                <a:ea typeface="MingLiU"/>
              </a:rPr>
              <a:t>：何果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26920" y="1413000"/>
            <a:ext cx="360360" cy="3744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97560 h 3744720"/>
              <a:gd name="textAreaBottom" fmla="*/ 3647160 h 37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8480" y="1125360"/>
            <a:ext cx="487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 Black"/>
                <a:ea typeface="隶书"/>
              </a:rPr>
              <a:t>标题：全文的</a:t>
            </a:r>
            <a:r>
              <a:rPr b="1" lang="zh-CN" sz="4000" spc="-1" strike="noStrike">
                <a:solidFill>
                  <a:srgbClr val="0033cc"/>
                </a:solidFill>
                <a:latin typeface="Arial Black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Arial Black"/>
                <a:ea typeface="隶书"/>
              </a:rPr>
              <a:t>眼睛”，可以只有一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 Black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33cc"/>
                </a:solidFill>
                <a:latin typeface="Arial Black"/>
                <a:ea typeface="隶书"/>
              </a:rPr>
              <a:t>个大标题，也可以有副标题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93520" y="2997360"/>
            <a:ext cx="323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 Black"/>
                <a:ea typeface="隶书"/>
              </a:rPr>
              <a:t>导语：一般是开头第一句或第一段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 Black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33cc"/>
                </a:solidFill>
                <a:latin typeface="Arial Black"/>
                <a:ea typeface="隶书"/>
              </a:rPr>
              <a:t>是对事件或事件中心的概括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2880" y="4581360"/>
            <a:ext cx="6093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 Black"/>
                <a:ea typeface="隶书"/>
              </a:rPr>
              <a:t>主体：正文部分，是导语内容的具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 Black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33cc"/>
                </a:solidFill>
                <a:latin typeface="Arial Black"/>
                <a:ea typeface="隶书"/>
              </a:rPr>
              <a:t>体化。阐述生动、具体的新闻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 Black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33cc"/>
                </a:solidFill>
                <a:latin typeface="Arial Black"/>
                <a:ea typeface="隶书"/>
              </a:rPr>
              <a:t>事实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752040" y="1700280"/>
            <a:ext cx="18871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d7da9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33cc"/>
                </a:solidFill>
                <a:latin typeface="Arial Black"/>
                <a:ea typeface="隶书"/>
              </a:rPr>
              <a:t>新闻的结构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d7da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d7da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d7da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8600" y="228600"/>
            <a:ext cx="86868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9ff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本文是一篇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特写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，特写也称新闻速写、新闻素描，要求用类似于电影的“特写镜头”的手法反映事实，是作者深入新闻事件现场，或某些重要和精彩的场面，生动、形象地将所报道的事实再现在读者面前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82520" y="2971800"/>
            <a:ext cx="877896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5640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643280" y="595008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b8dff"/>
                </a:solidFill>
                <a:latin typeface="Times New Roman"/>
                <a:ea typeface="华文新魏"/>
              </a:rPr>
              <a:t>香港 维多利亚港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86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本文正文由的那几个部分组成：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2349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华文新魏"/>
              </a:rPr>
              <a:t>、导语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b8dff"/>
                </a:solidFill>
                <a:latin typeface="Times New Roman"/>
                <a:ea typeface="华文新魏"/>
              </a:rPr>
              <a:t>（第</a:t>
            </a:r>
            <a:r>
              <a:rPr b="1" lang="zh-CN" sz="2800" spc="-1" strike="noStrike">
                <a:solidFill>
                  <a:srgbClr val="1b8dff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b8dff"/>
                </a:solidFill>
                <a:latin typeface="Times New Roman"/>
                <a:ea typeface="华文新魏"/>
              </a:rPr>
              <a:t>段）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3716280"/>
            <a:ext cx="273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7572"/>
                </a:solidFill>
                <a:latin typeface="华文新魏"/>
                <a:ea typeface="华文新魏"/>
              </a:rPr>
              <a:t>、主体</a:t>
            </a:r>
            <a:r>
              <a:rPr b="1" lang="zh-CN" sz="2800" spc="-1" strike="noStrike">
                <a:solidFill>
                  <a:srgbClr val="ccecff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b8dff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b8dff"/>
                </a:solidFill>
                <a:latin typeface="华文新魏"/>
                <a:ea typeface="华文新魏"/>
              </a:rPr>
              <a:t>2—10</a:t>
            </a:r>
            <a:r>
              <a:rPr b="1" lang="zh-CN" sz="2800" spc="-1" strike="noStrike">
                <a:solidFill>
                  <a:srgbClr val="1b8dff"/>
                </a:solidFill>
                <a:latin typeface="华文新魏"/>
                <a:ea typeface="华文新魏"/>
              </a:rPr>
              <a:t>段）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5013360"/>
            <a:ext cx="2374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7572"/>
                </a:solidFill>
                <a:latin typeface="华文新魏"/>
                <a:ea typeface="华文新魏"/>
              </a:rPr>
              <a:t>、结语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b8dff"/>
                </a:solidFill>
                <a:latin typeface="华文新魏"/>
                <a:ea typeface="华文新魏"/>
              </a:rPr>
              <a:t>（最后</a:t>
            </a:r>
            <a:r>
              <a:rPr b="1" lang="zh-CN" sz="2800" spc="-1" strike="noStrike">
                <a:solidFill>
                  <a:srgbClr val="1b8dff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b8dff"/>
                </a:solidFill>
                <a:latin typeface="华文新魏"/>
                <a:ea typeface="华文新魏"/>
              </a:rPr>
              <a:t>段）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9640" y="404640"/>
            <a:ext cx="8159760" cy="1068840"/>
          </a:xfrm>
          <a:prstGeom prst="rect">
            <a:avLst/>
          </a:prstGeom>
          <a:gradFill rotWithShape="0">
            <a:gsLst>
              <a:gs pos="0">
                <a:srgbClr val="d3e8f7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e1208"/>
                </a:solidFill>
                <a:latin typeface="华文行楷"/>
                <a:ea typeface="华文行楷"/>
              </a:rPr>
              <a:t>第一场景：</a:t>
            </a:r>
            <a:r>
              <a:rPr b="1" lang="zh-CN" sz="3200" spc="-1" strike="noStrike">
                <a:solidFill>
                  <a:srgbClr val="6e1208"/>
                </a:solidFill>
                <a:latin typeface="华文行楷"/>
                <a:ea typeface="华文行楷"/>
              </a:rPr>
              <a:t>6</a:t>
            </a:r>
            <a:r>
              <a:rPr b="1" lang="zh-CN" sz="3200" spc="-1" strike="noStrike">
                <a:solidFill>
                  <a:srgbClr val="6e1208"/>
                </a:solidFill>
                <a:latin typeface="华文行楷"/>
                <a:ea typeface="华文行楷"/>
              </a:rPr>
              <a:t>月</a:t>
            </a:r>
            <a:r>
              <a:rPr b="1" lang="zh-CN" sz="3200" spc="-1" strike="noStrike">
                <a:solidFill>
                  <a:srgbClr val="6e1208"/>
                </a:solidFill>
                <a:latin typeface="华文行楷"/>
                <a:ea typeface="华文行楷"/>
              </a:rPr>
              <a:t>30</a:t>
            </a:r>
            <a:r>
              <a:rPr b="1" lang="zh-CN" sz="3200" spc="-1" strike="noStrike">
                <a:solidFill>
                  <a:srgbClr val="6e1208"/>
                </a:solidFill>
                <a:latin typeface="华文行楷"/>
                <a:ea typeface="华文行楷"/>
              </a:rPr>
              <a:t>日下午</a:t>
            </a:r>
            <a:r>
              <a:rPr b="1" lang="zh-CN" sz="3200" spc="-1" strike="noStrike">
                <a:solidFill>
                  <a:srgbClr val="ff6600"/>
                </a:solidFill>
                <a:latin typeface="华文行楷"/>
                <a:ea typeface="华文行楷"/>
              </a:rPr>
              <a:t>4</a:t>
            </a:r>
            <a:r>
              <a:rPr b="1" lang="zh-CN" sz="3200" spc="-1" strike="noStrike">
                <a:solidFill>
                  <a:srgbClr val="ff6600"/>
                </a:solidFill>
                <a:latin typeface="华文行楷"/>
                <a:ea typeface="华文行楷"/>
              </a:rPr>
              <a:t>点</a:t>
            </a:r>
            <a:r>
              <a:rPr b="1" lang="zh-CN" sz="3200" spc="-1" strike="noStrike">
                <a:solidFill>
                  <a:srgbClr val="ff6600"/>
                </a:solidFill>
                <a:latin typeface="华文行楷"/>
                <a:ea typeface="华文行楷"/>
              </a:rPr>
              <a:t>30</a:t>
            </a:r>
            <a:r>
              <a:rPr b="1" lang="zh-CN" sz="3200" spc="-1" strike="noStrike">
                <a:solidFill>
                  <a:srgbClr val="ff6600"/>
                </a:solidFill>
                <a:latin typeface="华文行楷"/>
                <a:ea typeface="华文行楷"/>
              </a:rPr>
              <a:t>分，末任港督彭定康告别  港督府，降下港督旗帜。</a:t>
            </a:r>
            <a:r>
              <a:rPr b="1" lang="zh-CN" sz="2400" spc="-1" strike="noStrike">
                <a:solidFill>
                  <a:srgbClr val="ff6600"/>
                </a:solidFill>
                <a:latin typeface="MingLiU"/>
                <a:ea typeface="MingLiU"/>
              </a:rPr>
              <a:t>（</a:t>
            </a:r>
            <a:r>
              <a:rPr b="1" lang="zh-CN" sz="2400" spc="-1" strike="noStrike">
                <a:solidFill>
                  <a:srgbClr val="ff6600"/>
                </a:solidFill>
                <a:latin typeface="MingLiU"/>
                <a:ea typeface="MingLiU"/>
              </a:rPr>
              <a:t>2——4</a:t>
            </a:r>
            <a:r>
              <a:rPr b="1" lang="zh-CN" sz="2400" spc="-1" strike="noStrike">
                <a:solidFill>
                  <a:srgbClr val="ff6600"/>
                </a:solidFill>
                <a:latin typeface="MingLiU"/>
                <a:ea typeface="MingLiU"/>
              </a:rPr>
              <a:t>段）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6062760" cy="4921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378200" y="2349360"/>
            <a:ext cx="911880" cy="3657600"/>
          </a:xfrm>
          <a:prstGeom prst="rect">
            <a:avLst/>
          </a:prstGeom>
          <a:solidFill>
            <a:srgbClr val="ff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ff"/>
                </a:solidFill>
                <a:latin typeface="Times New Roman"/>
              </a:rPr>
              <a:t>彭定康和女儿离开总督府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333360"/>
            <a:ext cx="823104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e1208"/>
                </a:solidFill>
                <a:latin typeface="华文行楷"/>
                <a:ea typeface="华文行楷"/>
              </a:rPr>
              <a:t>第二场景：下午</a:t>
            </a:r>
            <a:r>
              <a:rPr b="1" lang="zh-CN" sz="3200" spc="-1" strike="noStrike">
                <a:solidFill>
                  <a:srgbClr val="ff6600"/>
                </a:solidFill>
                <a:latin typeface="华文行楷"/>
                <a:ea typeface="华文行楷"/>
              </a:rPr>
              <a:t>6</a:t>
            </a:r>
            <a:r>
              <a:rPr b="1" lang="zh-CN" sz="3200" spc="-1" strike="noStrike">
                <a:solidFill>
                  <a:srgbClr val="ff6600"/>
                </a:solidFill>
                <a:latin typeface="华文行楷"/>
                <a:ea typeface="华文行楷"/>
              </a:rPr>
              <a:t>时</a:t>
            </a:r>
            <a:r>
              <a:rPr b="1" lang="zh-CN" sz="3200" spc="-1" strike="noStrike">
                <a:solidFill>
                  <a:srgbClr val="ff6600"/>
                </a:solidFill>
                <a:latin typeface="华文行楷"/>
                <a:ea typeface="华文行楷"/>
              </a:rPr>
              <a:t>15</a:t>
            </a:r>
            <a:r>
              <a:rPr b="1" lang="zh-CN" sz="3200" spc="-1" strike="noStrike">
                <a:solidFill>
                  <a:srgbClr val="ff6600"/>
                </a:solidFill>
                <a:latin typeface="华文行楷"/>
                <a:ea typeface="华文行楷"/>
              </a:rPr>
              <a:t>分，在添马舰军营东面广场举行象征英国统治结束的告别仪式，降下英国国旗。</a:t>
            </a:r>
            <a:r>
              <a:rPr b="1" lang="zh-CN" sz="2400" spc="-1" strike="noStrike">
                <a:solidFill>
                  <a:srgbClr val="ff6600"/>
                </a:solidFill>
                <a:latin typeface="MingLiU"/>
                <a:ea typeface="MingLiU"/>
              </a:rPr>
              <a:t>（</a:t>
            </a:r>
            <a:r>
              <a:rPr b="1" lang="zh-CN" sz="2400" spc="-1" strike="noStrike">
                <a:solidFill>
                  <a:srgbClr val="ff6600"/>
                </a:solidFill>
                <a:latin typeface="MingLiU"/>
                <a:ea typeface="MingLiU"/>
              </a:rPr>
              <a:t>5——7</a:t>
            </a:r>
            <a:r>
              <a:rPr b="1" lang="zh-CN" sz="2400" spc="-1" strike="noStrike">
                <a:solidFill>
                  <a:srgbClr val="ff6600"/>
                </a:solidFill>
                <a:latin typeface="MingLiU"/>
                <a:ea typeface="MingLiU"/>
              </a:rPr>
              <a:t>段）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6648480" cy="4619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485840" y="2743200"/>
            <a:ext cx="911880" cy="32767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彭定康接过降下的旗帜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eecae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3520" y="380880"/>
            <a:ext cx="7926120" cy="9471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Times New Roman"/>
                <a:ea typeface="华文行楷"/>
              </a:rPr>
              <a:t>第三场景：</a:t>
            </a:r>
            <a:r>
              <a:rPr b="1" lang="zh-CN" sz="3200" spc="-1" strike="noStrike">
                <a:solidFill>
                  <a:srgbClr val="6e1208"/>
                </a:solidFill>
                <a:latin typeface="Times New Roman"/>
                <a:ea typeface="华文行楷"/>
              </a:rPr>
              <a:t>七月一日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子夜时分，中英香港交接仪式，米字旗香港最后一次降落，五星红旗升起。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MingLiU"/>
              </a:rPr>
              <a:t>（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MingLiU"/>
              </a:rPr>
              <a:t>8——9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MingLiU"/>
              </a:rPr>
              <a:t>段）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00000" y="2008080"/>
            <a:ext cx="7481880" cy="464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15:53:18Z</dcterms:created>
  <dc:creator>Billgates</dc:creator>
  <dc:description/>
  <dc:language>en-US</dc:language>
  <cp:lastModifiedBy>AutoBVT</cp:lastModifiedBy>
  <dcterms:modified xsi:type="dcterms:W3CDTF">2016-10-28T03:03:56Z</dcterms:modified>
  <cp:revision>62</cp:revision>
  <dc:subject/>
  <dc:title>PowerPoint 演示文稿</dc:title>
</cp:coreProperties>
</file>