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475913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942804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3886560"/>
            <a:ext cx="942804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3550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11600" y="169380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99040" y="169380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388656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11600" y="388656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899040" y="388656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DE1-A753-45C4-8F1A-C8B4163E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23800" y="1693800"/>
            <a:ext cx="942804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29E-BF98-4212-9572-33A3889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942804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F13-83F6-4DF0-AF44-28343DEB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496-C2D5-4B48-8FEF-D84AD329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CAE-662F-4D8F-93B0-07619D47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23800" y="288720"/>
            <a:ext cx="942804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A736-FB1D-4AD5-B920-8D606610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38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D7C4-024E-4CBF-AC27-B43FCBBE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693800"/>
            <a:ext cx="942804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550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17B-F3C0-4F9F-9365-5E19A23B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3800" y="3886560"/>
            <a:ext cx="942804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1D5-3D86-464C-8469-9B3E68DB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942804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3800" y="3886560"/>
            <a:ext cx="942804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1F9-B9A1-4074-BAB7-1A2DBDF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38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3550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3824-B923-40F9-8E51-57CE715C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11600" y="169380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99040" y="169380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3800" y="388656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11600" y="388656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899040" y="3886560"/>
            <a:ext cx="303552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0C2-4D82-490A-92EE-5E71AB58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942804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800" y="288720"/>
            <a:ext cx="9428040" cy="56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55000" y="388656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5000" y="1693800"/>
            <a:ext cx="460080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3886560"/>
            <a:ext cx="9428040" cy="20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800" y="288720"/>
            <a:ext cx="9428040" cy="12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693800"/>
            <a:ext cx="9428040" cy="419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7360" indent="0">
              <a:spcBef>
                <a:spcPts val="499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839880" indent="0">
              <a:spcBef>
                <a:spcPts val="499"/>
              </a:spcBef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292400" indent="-25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809720" indent="-25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327400" indent="-25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327400" indent="-25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327400" indent="-258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23800" y="290160"/>
            <a:ext cx="94298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23800" y="1688760"/>
            <a:ext cx="9429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523440" y="6592680"/>
            <a:ext cx="24447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D7C-0EC9-4C60-AB18-56852EC634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579840" y="6592680"/>
            <a:ext cx="33177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508520" y="6592680"/>
            <a:ext cx="244476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0163-4903-4938-BADC-84634AA7AC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678720" y="1963800"/>
            <a:ext cx="3456000" cy="4498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3080" y="1674720"/>
            <a:ext cx="60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动画片《变形金刚》曾在我们的童年里留下了美好的回忆，今天就让我们一起走进毕淑敏的《不会变形的金刚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30000" y="955800"/>
            <a:ext cx="92170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10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0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alatino Linotype"/>
              </a:rPr>
              <a:t>               </a:t>
            </a:r>
            <a:endParaRPr b="1" lang="en-US" sz="40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500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Palatino Linotype"/>
              </a:rPr>
              <a:t>           </a:t>
            </a:r>
            <a:r>
              <a:rPr b="1" lang="zh-CN" sz="6000" spc="-1" strike="noStrike">
                <a:solidFill>
                  <a:srgbClr val="000000"/>
                </a:solidFill>
                <a:latin typeface="Palatino Linotype"/>
              </a:rPr>
              <a:t>不会变形的金刚</a:t>
            </a:r>
            <a:endParaRPr b="1" lang="en-US" sz="60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100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Palatino Linotype"/>
              </a:rPr>
              <a:t>      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Palatino Linotype"/>
              </a:rPr>
              <a:t>毕淑敏</a:t>
            </a:r>
            <a:endParaRPr b="1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67752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人物形象</a:t>
            </a:r>
            <a:r>
              <a:rPr b="1" lang="zh-CN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4000" y="1819080"/>
            <a:ext cx="972036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7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母亲”这一人物形象的分析：</a:t>
            </a:r>
            <a:endParaRPr b="1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7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从情节入手感知母亲这一人物形象有何特点？</a:t>
            </a:r>
            <a:endParaRPr b="1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7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从行动、语言、肖像、心理描写具体分析母亲这一人物形象的鲜明个性？（特别提示本文的突出特点：心理描写）</a:t>
            </a:r>
            <a:endParaRPr b="1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7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细节中感受母亲这一人物的生动性？</a:t>
            </a:r>
            <a:endParaRPr b="1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7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明确：母亲的俭朴、善良、宽厚、心地细腻、严厉等等特点 </a:t>
            </a:r>
            <a:endParaRPr b="1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14000" y="2035080"/>
            <a:ext cx="957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52440" indent="0">
              <a:spcBef>
                <a:spcPts val="1500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Palatino Linotype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Palatino Linotype"/>
              </a:rPr>
              <a:t>通过以上分析评价人物的方法请你概括一下“儿子”跟“丈夫”的形象特点？</a:t>
            </a:r>
            <a:br>
              <a:rPr sz="6000"/>
            </a:br>
            <a:br>
              <a:rPr sz="6000"/>
            </a:br>
            <a:endParaRPr b="1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80880" y="762120"/>
            <a:ext cx="967752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举一反三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67752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品读欣赏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4360" y="1674360"/>
            <a:ext cx="9429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1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找出你自己最喜欢的句子来 进行阅读欣赏？</a:t>
            </a:r>
            <a:endParaRPr b="1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1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从这方面来赏析：修辞</a:t>
            </a: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;</a:t>
            </a: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心理描写</a:t>
            </a: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;</a:t>
            </a: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哲理性等方面</a:t>
            </a:r>
            <a:endParaRPr b="1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1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67752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合作探究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23800" y="1688760"/>
            <a:ext cx="9429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、如果你是文中的“儿子”，你如何处理你跟“小胖”之间的事情？如何面对“女同学”和她“妈妈”对你的态度？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、如果你是“妈妈”，你如何处理“儿子”跟“小胖”的事情？又如何处理“儿子”给“小胖”赔钱这一件事情？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42720" y="1243080"/>
            <a:ext cx="9791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、在你成长的过程中，当老师和家长的教育与社会现实发生矛盾的时候，你如何看待？（讲述令自己感动的故事并做评价）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（说明：从课本到学生自身现实的感悟出发，问题开放性大，言之成理即可）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、探讨本文的多样性主题？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（说明：对主题反映母爱，父母与小孩的代沟，商品社会两代人之间道德观念的冲突，钱可以让人屈服凡是真正敬佩的只有品德等） 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9677520" cy="65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拓展阅读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3800" y="1688760"/>
            <a:ext cx="942984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7360" indent="0">
              <a:spcBef>
                <a:spcPts val="901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Palatino Linotype"/>
            </a:endParaRPr>
          </a:p>
          <a:p>
            <a:pPr marL="387360" indent="0">
              <a:spcBef>
                <a:spcPts val="1199"/>
              </a:spcBef>
              <a:buNone/>
              <a:tabLst>
                <a:tab algn="l" pos="0"/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Palatino Linotype"/>
              </a:rPr>
              <a:t>阅读毕淑敏《我很重要》并写读后感</a:t>
            </a:r>
            <a:r>
              <a:rPr b="1" lang="zh-CN" sz="4800" spc="-1" strike="noStrike">
                <a:solidFill>
                  <a:srgbClr val="000000"/>
                </a:solidFill>
                <a:latin typeface="Palatino Linotype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399440" y="3403440"/>
            <a:ext cx="229068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6T08:09:28Z</dcterms:created>
  <dc:creator/>
  <dc:description/>
  <dc:language>en-US</dc:language>
  <cp:lastModifiedBy>微软用户</cp:lastModifiedBy>
  <dcterms:modified xsi:type="dcterms:W3CDTF">2012-08-22T07:07:15Z</dcterms:modified>
  <cp:revision>88</cp:revision>
  <dc:subject/>
  <dc:title>PowerPoint 演示文稿</dc:title>
</cp:coreProperties>
</file>