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899C-0F91-4A68-A48B-9E29F8A23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4C39-4B72-4172-A8C4-4D0145F68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0CC1-A3B9-494E-952F-C71DEF91E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86F2-2E1E-4D2A-9D82-5BA6F2AC4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EA925-0CBA-4BA5-91EC-8C19F653C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094AC-443E-40A0-99EC-00AB5E15B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D99ED-075D-48D4-8C68-676C18203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840EA-8B86-4B29-8839-6055C18AA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01DFB-8760-437D-8FB4-CE86F5BC5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D4F6C-11B3-4C9F-A696-9AF89E1BF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D3CBB-1181-46A7-AB40-AA243203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4D29-2C6D-4649-BFAE-2E60FBD9B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80559-7A33-4E98-A2EA-BD579064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F65AB-10A9-462E-A182-E47B5713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2068A-C5D0-4B8E-99B8-5FD931DEA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93040-2634-41E0-BB7A-3210DF927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DBD49-9F7B-4FC4-ACE6-29020B4E9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A76DB-B482-4E13-8214-F76CD9CC6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AD422-D48C-49B5-A05D-33522BF07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40908-53AC-4F83-9DF2-8C811C477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6C80B-4949-4587-9B88-A349548F3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33CE1-B363-4788-83D0-1D7108D01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7068-07A5-46C7-A290-55EB805DB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CECDC-AA87-41C8-B733-066F8B6C0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B350E-7B91-46E9-8C9C-61A3A59B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C5004-88CC-432C-A273-9E119B27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EE040-7F3D-4735-B2FD-98C9FC15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C19D4-25DB-494A-9502-B76E5FB69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F0304-8081-401E-9403-1CCC2C3A0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3B056-1600-4503-AF1E-C94DF226B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8A997-A5E5-445F-852E-5CD02A488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3648F-F937-4B15-A1D2-9EBDC0AFB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ECA64-BDA7-461F-9084-58699CD00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AD5B-564A-4724-BD70-86739023B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06C2A-2F16-4137-87E4-FB0D3BE49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4ABE1-595F-4339-89DE-1B8DF92EB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E786C-EE68-4F6A-87C9-BFE65182F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393F1-1461-48E5-982D-7A0CB50D0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B25F3-8A55-4A30-A8D9-2A0EFDE0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3191B-57A9-4E60-9F9F-EDBE158B8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40F12-1B67-4094-8CE6-0504CBA7A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795D4-B025-4CD5-ABD3-18591E56B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AC56F-CEFD-4A63-B4C0-E5D28CF22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54FB-A0BB-4164-9828-1329DE683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4FBE-0B7E-4B12-A8BE-12EBEF8AF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0995-2765-44FD-8CE7-B82851D8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4857-A072-411A-AF4C-8354FC88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ADE8-36B6-41CE-9A00-49DE18E66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4EACC-62FE-48BE-B74C-19A2E79ABD85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9BFCB-7335-496D-AF1C-56AA3717A3B3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87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88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91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94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97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01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17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20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23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26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29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1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32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35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38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41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47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9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50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2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53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5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56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59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1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62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4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6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67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2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73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76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8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82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4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85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7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88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0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91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3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94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6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97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99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CEF4E-A52A-463E-9EA2-8D333887E00A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263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64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68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69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1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4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85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7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88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0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91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3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94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5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6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97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9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00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2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303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5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06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8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09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0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1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312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3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4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315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6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7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318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9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0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321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2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3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324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5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6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327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8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9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330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1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2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333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4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35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37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338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0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341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3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344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5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6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47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8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9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50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1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2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53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5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56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7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8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59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1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62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4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365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6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7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68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9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70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371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9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0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381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0ACB7-6A2F-4CAB-A56B-4471D0E1B848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3564000" y="5562720"/>
            <a:ext cx="4465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毕淑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9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zh-CN" sz="8000" spc="-1" strike="noStrike">
                <a:solidFill>
                  <a:srgbClr val="d31203"/>
                </a:solidFill>
                <a:latin typeface="Garamond"/>
              </a:rPr>
              <a:t>不会变形的金刚</a:t>
            </a:r>
            <a:endParaRPr b="0" lang="en-US" sz="8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6165720"/>
            <a:ext cx="26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第二课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4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8" dur="20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/>
          </p:nvPr>
        </p:nvSpPr>
        <p:spPr>
          <a:xfrm>
            <a:off x="250560" y="549000"/>
            <a:ext cx="889308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ctr">
              <a:spcBef>
                <a:spcPts val="24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cc00"/>
                </a:solidFill>
                <a:latin typeface="Arial Black"/>
              </a:rPr>
              <a:t>谢谢大家！</a:t>
            </a:r>
            <a:endParaRPr b="0" lang="en-US" sz="9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人物形象分析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0" name=""/>
          <p:cNvSpPr/>
          <p:nvPr/>
        </p:nvSpPr>
        <p:spPr>
          <a:xfrm>
            <a:off x="395280" y="1052640"/>
            <a:ext cx="874872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讨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: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你认为这一家三口身上有什么特点？（找出课文当中描写相关人物的语句，并总结其个性特点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79280" y="2349360"/>
            <a:ext cx="5905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妈妈，咱们走吧！我不要变形金刚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435640" y="2708280"/>
            <a:ext cx="1809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（懂事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79280" y="3429000"/>
            <a:ext cx="72234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儿子的身子已转向挂着厚重的皮门帘…眨也不眨地       盯着变形金刚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4365720"/>
            <a:ext cx="793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儿子是个有克制力的孩子，只有做完作业才摆弄玩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164360" y="4437000"/>
            <a:ext cx="24843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宋体"/>
              </a:rPr>
              <a:t>（有自制力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0" y="5157720"/>
            <a:ext cx="8748720" cy="11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终于，儿子开口了。他好像走了很远的路，声音中还有一种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弱，却还清晰。那是很简单的三个字：“没关系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7236000" y="34290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（纯真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0" y="1916280"/>
            <a:ext cx="290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儿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372360" y="5950080"/>
            <a:ext cx="27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（善良，宽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68360" y="119700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只是他哭过了，流了许多泪，为了怕我发现，又站在冷地里等着风将泪水吹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148360" y="184464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（懂事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95280" y="2708280"/>
            <a:ext cx="72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过了一会儿才看清，是儿子捧着一团绒绒的绿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948360" y="1557360"/>
            <a:ext cx="187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219640" y="321300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（孝顺，体贴妈妈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95280" y="4076640"/>
            <a:ext cx="8353440" cy="19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31203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d31203"/>
                </a:solidFill>
                <a:latin typeface="Arial"/>
              </a:rPr>
              <a:t>儿子”是一个懂事、善良、宽容、  孝顺而且很有克制能力的好孩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/>
          </p:nvPr>
        </p:nvSpPr>
        <p:spPr>
          <a:xfrm>
            <a:off x="0" y="4653000"/>
            <a:ext cx="91440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31203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d31203"/>
                </a:solidFill>
                <a:latin typeface="Arial"/>
              </a:rPr>
              <a:t>我”是一个善良、宽厚、坚韧，心疼儿子而又不溺爱孩子的母亲</a:t>
            </a:r>
            <a:r>
              <a:rPr b="0" lang="zh-CN" sz="4000" spc="-1" strike="noStrike">
                <a:solidFill>
                  <a:srgbClr val="d31203"/>
                </a:solidFill>
                <a:latin typeface="Arial"/>
              </a:rPr>
              <a:t>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                         </a:t>
            </a: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人物形象分析       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9" name=""/>
          <p:cNvSpPr/>
          <p:nvPr/>
        </p:nvSpPr>
        <p:spPr>
          <a:xfrm>
            <a:off x="7020000" y="1989000"/>
            <a:ext cx="153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24000" y="76500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我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24000" y="134136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是个巧手的的女人，除了会车漂亮的零件以外，还会织毛衣和做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508720" y="177336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（手巧，贤惠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373200" y="227664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可以不要帽子……我的儿子将会有一件他心爱的玩具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867280" y="270828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（心疼儿子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95280" y="314172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怎么办呢？也许我该出面。变形金刚固然昂贵，但宽容比这更珍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932360" y="357336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（善良，宽厚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4000" y="407664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是我第一次如此凶狠地打儿子。但我敢肯定，这不是最后一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924360" y="4508640"/>
            <a:ext cx="52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（疼爱孩子，但不溺爱，严厉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1360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人物形象分析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84614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把这打算同丈夫讲了，他默默地熄灭了手中的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0" y="62064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丈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156360" y="2205000"/>
            <a:ext cx="29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（节俭，爱妻子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0" y="256536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丈夫又延长了他戒烟的时间。我再三解释旧围巾很好，他阴沉沉地说：“你也该买一双棉靴了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651640" y="3068640"/>
            <a:ext cx="34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00ff"/>
                </a:solidFill>
                <a:latin typeface="宋体"/>
              </a:rPr>
              <a:t>（ 能吃苦、体贴妻子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0" y="1341360"/>
            <a:ext cx="68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吃菜的时候我们就抢着吃菜而避开肉，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724360" y="1341360"/>
            <a:ext cx="32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爱家庭，爱儿子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3429000"/>
            <a:ext cx="9396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你说你是成心的，还是故意的？“丈夫气急败坏，“说——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好你个小败家子！你爹干一个月，还挣不回这么个玩意儿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丈夫抡圆了胳膊，呼地拍了过来。我用手臂架住，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948360" y="4437000"/>
            <a:ext cx="21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（粗暴鲁莽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95280" y="5373720"/>
            <a:ext cx="81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31203"/>
                </a:solidFill>
                <a:latin typeface="Arial"/>
              </a:rPr>
              <a:t>丈夫是一个能吃苦，爱妻子，爱儿子，但又有些粗暴鲁莽的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700" spc="-1" strike="noStrike">
                <a:solidFill>
                  <a:srgbClr val="afbf39"/>
                </a:solidFill>
                <a:latin typeface="Garamond"/>
              </a:rPr>
              <a:t>  </a:t>
            </a:r>
            <a:r>
              <a:rPr b="1" i="1" lang="zh-CN" sz="3600" spc="-1" strike="noStrike">
                <a:solidFill>
                  <a:srgbClr val="afbf39"/>
                </a:solidFill>
                <a:latin typeface="Garamond"/>
              </a:rPr>
              <a:t>多样性主题研讨</a:t>
            </a:r>
            <a:r>
              <a:rPr b="1" i="1" lang="zh-CN" sz="4700" spc="-1" strike="noStrike">
                <a:solidFill>
                  <a:srgbClr val="afbf39"/>
                </a:solidFill>
                <a:latin typeface="Garamond"/>
              </a:rPr>
              <a:t>（分组讨论并发言）</a:t>
            </a:r>
            <a:endParaRPr b="0" lang="en-US" sz="47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8820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cc66"/>
                </a:solidFill>
                <a:latin typeface="Arial"/>
              </a:rPr>
              <a:t>仅供参考：反映母爱</a:t>
            </a:r>
            <a:r>
              <a:rPr b="1" i="1" lang="zh-CN" sz="5400" spc="-1" strike="noStrike">
                <a:solidFill>
                  <a:srgbClr val="ffcc66"/>
                </a:solidFill>
                <a:latin typeface="Arial"/>
              </a:rPr>
              <a:t>,</a:t>
            </a:r>
            <a:r>
              <a:rPr b="1" i="1" lang="zh-CN" sz="5400" spc="-1" strike="noStrike">
                <a:solidFill>
                  <a:srgbClr val="ffcc66"/>
                </a:solidFill>
                <a:latin typeface="Arial"/>
              </a:rPr>
              <a:t>父母与小孩的代沟</a:t>
            </a:r>
            <a:r>
              <a:rPr b="1" i="1" lang="zh-CN" sz="5400" spc="-1" strike="noStrike">
                <a:solidFill>
                  <a:srgbClr val="ffcc66"/>
                </a:solidFill>
                <a:latin typeface="Arial"/>
              </a:rPr>
              <a:t>,</a:t>
            </a:r>
            <a:r>
              <a:rPr b="1" i="1" lang="zh-CN" sz="5400" spc="-1" strike="noStrike">
                <a:solidFill>
                  <a:srgbClr val="ffcc66"/>
                </a:solidFill>
                <a:latin typeface="Arial"/>
              </a:rPr>
              <a:t>商品社会两代人之间道德观念的冲突</a:t>
            </a:r>
            <a:r>
              <a:rPr b="1" i="1" lang="zh-CN" sz="5400" spc="-1" strike="noStrike">
                <a:solidFill>
                  <a:srgbClr val="ffcc66"/>
                </a:solidFill>
                <a:latin typeface="Arial"/>
              </a:rPr>
              <a:t>,</a:t>
            </a:r>
            <a:r>
              <a:rPr b="1" i="1" lang="zh-CN" sz="5400" spc="-1" strike="noStrike">
                <a:solidFill>
                  <a:srgbClr val="ffcc66"/>
                </a:solidFill>
                <a:latin typeface="Arial"/>
              </a:rPr>
              <a:t>钱可以让人屈服</a:t>
            </a:r>
            <a:r>
              <a:rPr b="1" i="1" lang="zh-CN" sz="5400" spc="-1" strike="noStrike">
                <a:solidFill>
                  <a:srgbClr val="ffcc66"/>
                </a:solidFill>
                <a:latin typeface="Arial"/>
              </a:rPr>
              <a:t>,</a:t>
            </a:r>
            <a:r>
              <a:rPr b="1" i="1" lang="zh-CN" sz="5400" spc="-1" strike="noStrike">
                <a:solidFill>
                  <a:srgbClr val="ffcc66"/>
                </a:solidFill>
                <a:latin typeface="Arial"/>
              </a:rPr>
              <a:t>凡是真正敬佩的只有品德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51814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6633"/>
                </a:solidFill>
                <a:latin typeface="宋体"/>
              </a:rPr>
              <a:t>小结</a:t>
            </a:r>
            <a:r>
              <a:rPr b="1" lang="zh-CN" sz="3800" spc="-1" strike="noStrike">
                <a:solidFill>
                  <a:srgbClr val="006633"/>
                </a:solidFill>
                <a:latin typeface="宋体"/>
              </a:rPr>
              <a:t>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6633"/>
                </a:solidFill>
                <a:latin typeface="Arial"/>
              </a:rPr>
              <a:t>《不会变形的金刚》是毕淑敏先生很著名的一篇作品，在这篇作品里，她用女性特有的细致和温情为我们阐述了一个有关人性的故事。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6633"/>
                </a:solidFill>
                <a:latin typeface="Arial"/>
              </a:rPr>
              <a:t>故事情节并不出奇，似乎每个家庭中都曾经发生过类似的事情，但是就是因为这种熟悉的感觉，才真正放大了读者的感受，让每个人都想起过去曾经发生在自己身上的一些事情</a:t>
            </a:r>
            <a:r>
              <a:rPr b="1" lang="zh-CN" sz="3400" spc="-1" strike="noStrike">
                <a:solidFill>
                  <a:srgbClr val="006633"/>
                </a:solidFill>
                <a:latin typeface="Arial"/>
              </a:rPr>
              <a:t>。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9.9"/>
                                  </p:iterate>
                                  <p:childTnLst>
                                    <p:set>
                                      <p:cBhvr>
                                        <p:cTn id="18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38836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拓展延伸</a:t>
            </a:r>
            <a:r>
              <a:rPr b="0" lang="zh-CN" sz="3600" spc="-1" strike="noStrike">
                <a:solidFill>
                  <a:srgbClr val="006633"/>
                </a:solidFill>
                <a:latin typeface="Garamond"/>
              </a:rPr>
              <a:t>（讨论并分组发言）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6633"/>
                </a:solidFill>
                <a:latin typeface="Arial"/>
              </a:rPr>
              <a:t>A</a:t>
            </a:r>
            <a:r>
              <a:rPr b="0" lang="zh-CN" sz="2600" spc="-1" strike="noStrike">
                <a:solidFill>
                  <a:srgbClr val="006633"/>
                </a:solidFill>
                <a:latin typeface="Arial"/>
              </a:rPr>
              <a:t>、 </a:t>
            </a:r>
            <a:r>
              <a:rPr b="1" lang="zh-CN" sz="3400" spc="-1" strike="noStrike">
                <a:solidFill>
                  <a:srgbClr val="006633"/>
                </a:solidFill>
                <a:latin typeface="Arial"/>
              </a:rPr>
              <a:t>如果你是“妈妈”</a:t>
            </a:r>
            <a:r>
              <a:rPr b="1" lang="zh-CN" sz="3400" spc="-1" strike="noStrike">
                <a:solidFill>
                  <a:srgbClr val="006633"/>
                </a:solidFill>
                <a:latin typeface="Arial"/>
              </a:rPr>
              <a:t>,</a:t>
            </a:r>
            <a:r>
              <a:rPr b="1" lang="zh-CN" sz="3400" spc="-1" strike="noStrike">
                <a:solidFill>
                  <a:srgbClr val="006633"/>
                </a:solidFill>
                <a:latin typeface="Arial"/>
              </a:rPr>
              <a:t>你如何处理“儿子”跟“小胖”的事情？又如何处理“儿子”给“小胖”赔钱这一件事情？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6633"/>
                </a:solidFill>
                <a:latin typeface="Arial"/>
              </a:rPr>
              <a:t>    </a:t>
            </a:r>
            <a:r>
              <a:rPr b="0" lang="zh-CN" sz="2600" spc="-1" strike="noStrike">
                <a:solidFill>
                  <a:srgbClr val="006633"/>
                </a:solidFill>
                <a:latin typeface="Arial"/>
              </a:rPr>
              <a:t>B</a:t>
            </a:r>
            <a:r>
              <a:rPr b="0" lang="zh-CN" sz="2600" spc="-1" strike="noStrike">
                <a:solidFill>
                  <a:srgbClr val="006633"/>
                </a:solidFill>
                <a:latin typeface="Arial"/>
              </a:rPr>
              <a:t>、 </a:t>
            </a:r>
            <a:r>
              <a:rPr b="1" lang="zh-CN" sz="3400" spc="-1" strike="noStrike">
                <a:solidFill>
                  <a:srgbClr val="006633"/>
                </a:solidFill>
                <a:latin typeface="Arial"/>
              </a:rPr>
              <a:t>在你成长的过程中</a:t>
            </a:r>
            <a:r>
              <a:rPr b="1" lang="zh-CN" sz="3400" spc="-1" strike="noStrike">
                <a:solidFill>
                  <a:srgbClr val="006633"/>
                </a:solidFill>
                <a:latin typeface="Arial"/>
              </a:rPr>
              <a:t>,</a:t>
            </a:r>
            <a:r>
              <a:rPr b="1" lang="zh-CN" sz="3400" spc="-1" strike="noStrike">
                <a:solidFill>
                  <a:srgbClr val="006633"/>
                </a:solidFill>
                <a:latin typeface="Arial"/>
              </a:rPr>
              <a:t>当老师和家长的教育与社会现实发生矛盾的时候</a:t>
            </a:r>
            <a:r>
              <a:rPr b="1" lang="zh-CN" sz="3400" spc="-1" strike="noStrike">
                <a:solidFill>
                  <a:srgbClr val="006633"/>
                </a:solidFill>
                <a:latin typeface="Arial"/>
              </a:rPr>
              <a:t>,</a:t>
            </a:r>
            <a:r>
              <a:rPr b="1" lang="zh-CN" sz="3400" spc="-1" strike="noStrike">
                <a:solidFill>
                  <a:srgbClr val="006633"/>
                </a:solidFill>
                <a:latin typeface="Arial"/>
              </a:rPr>
              <a:t>你如何看待？</a:t>
            </a:r>
            <a:r>
              <a:rPr b="0" lang="zh-CN" sz="2600" spc="-1" strike="noStrike">
                <a:solidFill>
                  <a:srgbClr val="006633"/>
                </a:solidFill>
                <a:latin typeface="Arial"/>
              </a:rPr>
              <a:t>(</a:t>
            </a:r>
            <a:r>
              <a:rPr b="0" lang="zh-CN" sz="2600" spc="-1" strike="noStrike">
                <a:solidFill>
                  <a:srgbClr val="006633"/>
                </a:solidFill>
                <a:latin typeface="Arial"/>
              </a:rPr>
              <a:t>讲述令自己感动的故事并做评价</a:t>
            </a:r>
            <a:r>
              <a:rPr b="0" lang="zh-CN" sz="2600" spc="-1" strike="noStrike">
                <a:solidFill>
                  <a:srgbClr val="006633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作业布置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100" spc="-1" strike="noStrike">
                <a:solidFill>
                  <a:srgbClr val="000000"/>
                </a:solidFill>
                <a:latin typeface="Arial"/>
              </a:rPr>
              <a:t>阅读毕淑敏《我很重要》并写读后感</a:t>
            </a:r>
            <a:r>
              <a:rPr b="0" lang="zh-CN" sz="6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9T14:42:55Z</dcterms:created>
  <dc:creator>Administrators</dc:creator>
  <dc:description/>
  <dc:language>en-US</dc:language>
  <cp:lastModifiedBy>雨林木风</cp:lastModifiedBy>
  <dcterms:modified xsi:type="dcterms:W3CDTF">2010-11-10T13:01:35Z</dcterms:modified>
  <cp:revision>66</cp:revision>
  <dc:subject/>
  <dc:title>幻灯片 1</dc:title>
</cp:coreProperties>
</file>