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5"/>
          <p:cNvSpPr/>
          <p:nvPr/>
        </p:nvSpPr>
        <p:spPr>
          <a:xfrm>
            <a:off x="1447920" y="531828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白发的期盼（节选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认真听下面的文字，做出判断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0661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故事发生在一个异常闷热的下午，街道上行人不多，偶尔有汽车经过。一家装饰考究的珠宝店，离熙熙攘攘的闹市不远。珠宝店里只有三个人，一个看上去是老板，还有一个在店里心神不宁的从这个柜台转到另一个柜台。“砰”，突然一声击碎玻璃的巨响。店员立刻紧张起来。片刻，只见一个个头较高的人冲出珠宝店，这时一辆警车从远处呼啸而过。不久，这里又恢复了往常的平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判断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7777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037e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这个故事发生在一个闷热的夏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037e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．一家装饰考究位于闹市区的珠宝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037e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．珠宝店里有三个人，其中一个是珠宝店的老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037e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楷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．听到击碎玻璃的声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037e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楷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．有一个高个子的男的冲出了珠宝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037e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楷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．一辆警车鸣警笛呼啸而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037e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楷体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这家珠宝店遭到抢劫，劫匪跑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板书设计：                       中年人：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拥有父母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青年人：漠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白发的期盼   失去父母者：悔恨、劝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精神需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老年人   精神慰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精神赡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"/>
          <p:cNvSpPr/>
          <p:nvPr/>
        </p:nvSpPr>
        <p:spPr>
          <a:xfrm>
            <a:off x="2209680" y="2286000"/>
            <a:ext cx="152640" cy="2743200"/>
          </a:xfrm>
          <a:custGeom>
            <a:avLst/>
            <a:gdLst>
              <a:gd name="textAreaLeft" fmla="*/ 97560 w 152640"/>
              <a:gd name="textAreaRight" fmla="*/ 153000 w 15264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4724280" y="1828800"/>
            <a:ext cx="76320" cy="1219320"/>
          </a:xfrm>
          <a:custGeom>
            <a:avLst/>
            <a:gdLst>
              <a:gd name="textAreaLeft" fmla="*/ 48960 w 76320"/>
              <a:gd name="textAreaRight" fmla="*/ 76320 w 763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3809880" y="4191120"/>
            <a:ext cx="76320" cy="1218960"/>
          </a:xfrm>
          <a:custGeom>
            <a:avLst/>
            <a:gdLst>
              <a:gd name="textAreaLeft" fmla="*/ 48960 w 76320"/>
              <a:gd name="textAreaRight" fmla="*/ 76320 w 7632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导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游戏导入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师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段文字，请同学认真听，然后请大家根据我所给的信息判断正误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快十二点了，街上的行人不太多。珠宝店的老板正在收拾店铺。这时有一个人走了进来，好像在那里查看什么，一会儿就匆匆忙忙离开了。店里又跑出一个人：这时，警车从珠宝店门口呼啸而过。珠宝店的老板抬头看了看门外，什么话 也没有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根据你听到的信息，判断正误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故事发生的时间是晚上将近十二点的时候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街上只有两三个行人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珠宝店的老板正在收拾店铺，准备打烊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有一个男人走进珠宝店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走进了珠宝店的那个人在行窃之后慌慌张张地逃跑了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店里的伙计追赶窃贼并报了警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警车呼啸着追捕窃贼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珠宝店的老板什么话也没有说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总结倾听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倾听要素之态度和做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态度认真，习惯记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倾听三步曲         倾听要素之思维参与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综合分析与判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倾听要素之情感体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感受和感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倾听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介绍文体：采访搞和采访对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学会倾听第一步：认真倾听，并准确传达出你所听到的客观信息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出示第一段录音剪辑（从“毛女士：我在东直门卖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到“陈先生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不是咱不孝顺”），要求学生认真倾听，并准确传达出所听到的客观信息，能概括复述录音中两位人物的说话内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学会倾听第二步：在认真倾听的基础上完成对信息的分析与判断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倾听不仅仅是对声音信息的捕捉，对于一段相对完整的录音还需要加以分析判断，明确声音所要表达的主要意思，出示第二段录音剪辑（从“有人形容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到“清晰起来”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合录音回答问题，并说说：青年人对亲情观念的淡漠，具体表现在哪些方面？录音里是怎么说的呢？为什么记者会说感到惶恐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学会倾听第三步：用心灵感受声音，用情感体验情感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倾听不仅仅是客观信息的接收与筛选，它还需要我们关注客观信息背后的内容，获得更深层次的信息。出示第三段录音剪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从“魏先生：我爸临去世的那年春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到结束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合录音回答问题，并说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魏先生理解自己父亲晚年的行为举动吗？他是如何做的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者在这里引用魏先生悔制之晚矣的叹息，旨在告诉我们什么道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会感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对子女的牵挂与关爱的背后，我们看到了老人的孤独与寂寞。可是，在现实生活中这些老人的孤独又有谁看到了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吴老师的女儿看到了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先生的孙子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先前那两个没空回家看父母的中年人看到了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出示第四段录音剪辑   从“记者：我认识这样一位老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到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吴老师仍在轮番地拨着两个女儿的电话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考：白发老人的期盼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的观点又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拓展延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倾听音乐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常回家看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，在音乐声中思考正确倾听的方法，并感悟亲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束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父母老了，风刀霜剑在他们原本红润的脸上刻下无情的生命印记，皱纹里还牵挂着我们的幼稚与冲动。父母老了，他们渴望我们的爱和陪伴。在父母还健在的时候，让我们用心去关爱我们的父母，把他们当孩子一样放在手心，宠爱有加。树欲静而风不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子欲养而亲不待！子女们不要把点滴的忽略变成永久的遗憾，关爱父母从现在开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6T02:24:54Z</dcterms:created>
  <dc:creator/>
  <dc:description/>
  <cp:keywords/>
  <dc:language>en-US</dc:language>
  <cp:lastModifiedBy>微软用户</cp:lastModifiedBy>
  <dcterms:modified xsi:type="dcterms:W3CDTF">2019-04-20T01:29:45Z</dcterms:modified>
  <cp:revision>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