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driveby.wav" ContentType="audio/x-wav"/>
  <Override PartName="/ppt/media/type.wav" ContentType="audio/x-wav"/>
  <Override PartName="/ppt/media/image5.jpeg" ContentType="image/jpeg"/>
  <Override PartName="/ppt/media/image6.png" ContentType="image/png"/>
  <Override PartName="/ppt/media/chimes.wav" ContentType="audio/x-wav"/>
  <Override PartName="/ppt/media/image7.png" ContentType="image/png"/>
  <Override PartName="/ppt/media/image8.jpeg" ContentType="image/jpeg"/>
  <Override PartName="/ppt/media/projctor.wav" ContentType="audio/x-wav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999B9-B9B2-4409-9F74-4DF64F6B7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5FB7F-E29C-4CFD-88C6-D042297FA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ABB2D-6CC9-4FBF-AD17-4273B3A40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72F68-58E5-4BA7-BE34-B26A64BA4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55C2E-C312-421C-A765-27FA8DBA5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59AA8-C8EC-49DC-924E-347304CF4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D16CC-22D3-4954-ADF1-E9D8ED18B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D68FA-E546-4C39-B80A-D2B9CE0F8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FDD4F-FA53-48BF-8E25-A462C085F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04630-C0E8-48F0-BBC7-238E65E5A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85137-1161-4698-9365-EA712E4E4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BB480-1C54-4060-8618-3BBD1F1AF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9F1D3-974B-4A27-A1E4-3DE683E13CF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chimes.wav"/><Relationship Id="rId3" Type="http://schemas.openxmlformats.org/officeDocument/2006/relationships/audio" Target="../media/driveby.wav"/><Relationship Id="rId4" Type="http://schemas.openxmlformats.org/officeDocument/2006/relationships/audio" Target="../media/chimes.wav"/><Relationship Id="rId5" Type="http://schemas.openxmlformats.org/officeDocument/2006/relationships/audio" Target="../media/projctor.wav"/><Relationship Id="rId6" Type="http://schemas.openxmlformats.org/officeDocument/2006/relationships/audio" Target="../media/chimes.wav"/><Relationship Id="rId7" Type="http://schemas.openxmlformats.org/officeDocument/2006/relationships/audio" Target="../media/projctor.wav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057400" y="2286000"/>
            <a:ext cx="48006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447920" y="2209680"/>
            <a:ext cx="678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996633"/>
                </a:solidFill>
                <a:latin typeface="隶书"/>
                <a:ea typeface="隶书"/>
              </a:rPr>
              <a:t>不 懂 就 要 问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21708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826920" y="1413000"/>
            <a:ext cx="77025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　　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11280" y="1844640"/>
            <a:ext cx="81374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8080"/>
                </a:solidFill>
                <a:latin typeface="华文中宋"/>
                <a:ea typeface="华文中宋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华文中宋"/>
                <a:ea typeface="华文中宋"/>
              </a:rPr>
              <a:t>于是，他壮着胆子站起来，问：“先生，您刚才让我背的这段书是什么意思？请您给我讲讲吧！”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971640" y="1557360"/>
            <a:ext cx="770400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80"/>
                </a:solidFill>
                <a:latin typeface="华文中宋"/>
                <a:ea typeface="华文中宋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华文中宋"/>
                <a:ea typeface="华文中宋"/>
              </a:rPr>
              <a:t>这一问，把正在摇头晃脑高声念书的同学们吓呆了，课堂里霎时变得鸦雀无声。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newsflash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914400" y="990720"/>
            <a:ext cx="7543800" cy="47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395280" y="765000"/>
            <a:ext cx="8136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24000" y="549360"/>
            <a:ext cx="8569080" cy="38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、尽信书则不如无书。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孟子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、纸上得来终觉浅，绝知此事要躬行。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陆游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、学而不思则罔，思而不学则殆。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孔子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、要想把问题弄清楚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就不要急着去相信；知识的力量就在于怀疑。 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[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苏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]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高尔基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、善疑者，不疑人之所疑，而疑人之所不疑                 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[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明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] 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方以智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、怀疑有如草木之芽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让真理之根萌生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...... [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意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] 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但丁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8074080" y="1989000"/>
            <a:ext cx="458640" cy="39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55640" y="1125360"/>
            <a:ext cx="7848720" cy="70200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979640" y="4941720"/>
            <a:ext cx="5410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80"/>
                </a:solidFill>
                <a:latin typeface="华文中宋"/>
                <a:ea typeface="华文中宋"/>
              </a:rPr>
              <a:t>勤学好问   读书求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705720" y="2971800"/>
            <a:ext cx="1523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80"/>
                </a:solidFill>
                <a:latin typeface="华文中宋"/>
                <a:ea typeface="华文中宋"/>
              </a:rPr>
              <a:t>理 解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905120" y="1523880"/>
            <a:ext cx="2361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80"/>
                </a:solidFill>
                <a:latin typeface="华文中宋"/>
                <a:ea typeface="华文中宋"/>
              </a:rPr>
              <a:t>孙 中 山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733920" y="2971800"/>
            <a:ext cx="1523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80"/>
                </a:solidFill>
                <a:latin typeface="华文中宋"/>
                <a:ea typeface="华文中宋"/>
              </a:rPr>
              <a:t>提 问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62120" y="2971800"/>
            <a:ext cx="1523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80"/>
                </a:solidFill>
                <a:latin typeface="华文中宋"/>
                <a:ea typeface="华文中宋"/>
              </a:rPr>
              <a:t>不 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410080" y="304920"/>
            <a:ext cx="2971800" cy="990360"/>
          </a:xfrm>
          <a:prstGeom prst="cloudCallout">
            <a:avLst>
              <a:gd name="adj1" fmla="val -74518"/>
              <a:gd name="adj2" fmla="val 116185"/>
            </a:avLst>
          </a:prstGeom>
          <a:solidFill>
            <a:srgbClr val="ffffff">
              <a:alpha val="50000"/>
            </a:srgbClr>
          </a:solidFill>
          <a:ln cap="rnd" w="12600">
            <a:solidFill>
              <a:srgbClr val="000000"/>
            </a:solidFill>
            <a:custDash>
              <a:ds d="100000" sp="1000"/>
            </a:custDash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8800" spc="-1" strike="noStrike">
                <a:solidFill>
                  <a:srgbClr val="008080"/>
                </a:solidFill>
                <a:latin typeface="华文中宋"/>
                <a:ea typeface="华文中宋"/>
              </a:rPr>
              <a:t>？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62320" y="3124080"/>
            <a:ext cx="1143000" cy="533520"/>
          </a:xfrm>
          <a:prstGeom prst="rightArrow">
            <a:avLst>
              <a:gd name="adj1" fmla="val 50000"/>
              <a:gd name="adj2" fmla="val 53559"/>
            </a:avLst>
          </a:prstGeom>
          <a:solidFill>
            <a:srgbClr val="ffff99"/>
          </a:solidFill>
          <a:ln w="3240">
            <a:solidFill>
              <a:srgbClr val="00ffff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334120" y="3124080"/>
            <a:ext cx="1143000" cy="533520"/>
          </a:xfrm>
          <a:prstGeom prst="rightArrow">
            <a:avLst>
              <a:gd name="adj1" fmla="val 50000"/>
              <a:gd name="adj2" fmla="val 53559"/>
            </a:avLst>
          </a:prstGeom>
          <a:solidFill>
            <a:srgbClr val="ffff99"/>
          </a:solidFill>
          <a:ln w="3240">
            <a:solidFill>
              <a:srgbClr val="00ffff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9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0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15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743040" y="457200"/>
            <a:ext cx="7657920" cy="59436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2120" y="885960"/>
            <a:ext cx="9150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84360" y="1413000"/>
            <a:ext cx="7559640" cy="70164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9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21708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826920" y="1413000"/>
            <a:ext cx="77025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　　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68360" y="2060640"/>
            <a:ext cx="8675640" cy="9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8080"/>
                </a:solidFill>
                <a:latin typeface="华文中宋"/>
                <a:ea typeface="华文中宋"/>
              </a:rPr>
              <a:t>    </a:t>
            </a:r>
            <a:r>
              <a:rPr b="1" lang="zh-CN" sz="4400" spc="-1" strike="noStrike">
                <a:solidFill>
                  <a:srgbClr val="000000"/>
                </a:solidFill>
                <a:latin typeface="华文中宋"/>
                <a:ea typeface="华文中宋"/>
              </a:rPr>
              <a:t>学问学问，不懂就要问。为了弄清楚道理，就是挨打也值得。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50920" y="1341360"/>
            <a:ext cx="2971800" cy="3429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564000" y="836640"/>
            <a:ext cx="51116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33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990033"/>
                </a:solidFill>
                <a:latin typeface="Times New Roman"/>
              </a:rPr>
              <a:t>孙中山  </a:t>
            </a:r>
            <a:r>
              <a:rPr b="1" lang="zh-CN" sz="2800" spc="-1" strike="noStrike">
                <a:solidFill>
                  <a:srgbClr val="990033"/>
                </a:solidFill>
                <a:latin typeface="Times New Roman"/>
              </a:rPr>
              <a:t>(1866-1925)</a:t>
            </a:r>
            <a:r>
              <a:rPr b="1" lang="zh-CN" sz="2800" spc="-1" strike="noStrike">
                <a:solidFill>
                  <a:srgbClr val="990033"/>
                </a:solidFill>
                <a:latin typeface="Times New Roman"/>
              </a:rPr>
              <a:t>伟大的民主革命先行者。广东香山</a:t>
            </a:r>
            <a:r>
              <a:rPr b="1" lang="zh-CN" sz="2800" spc="-1" strike="noStrike">
                <a:solidFill>
                  <a:srgbClr val="990033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990033"/>
                </a:solidFill>
                <a:latin typeface="Times New Roman"/>
              </a:rPr>
              <a:t>中山</a:t>
            </a:r>
            <a:r>
              <a:rPr b="1" lang="zh-CN" sz="2800" spc="-1" strike="noStrike">
                <a:solidFill>
                  <a:srgbClr val="990033"/>
                </a:solidFill>
                <a:latin typeface="Times New Roman"/>
              </a:rPr>
              <a:t>)</a:t>
            </a:r>
            <a:r>
              <a:rPr b="1" lang="zh-CN" sz="2800" spc="-1" strike="noStrike">
                <a:solidFill>
                  <a:srgbClr val="990033"/>
                </a:solidFill>
                <a:latin typeface="Times New Roman"/>
              </a:rPr>
              <a:t>人，</a:t>
            </a:r>
            <a:r>
              <a:rPr b="1" lang="zh-CN" sz="2800" spc="-1" strike="noStrike">
                <a:solidFill>
                  <a:srgbClr val="990033"/>
                </a:solidFill>
                <a:latin typeface="Times New Roman"/>
              </a:rPr>
              <a:t>1892</a:t>
            </a:r>
            <a:r>
              <a:rPr b="1" lang="zh-CN" sz="2800" spc="-1" strike="noStrike">
                <a:solidFill>
                  <a:srgbClr val="990033"/>
                </a:solidFill>
                <a:latin typeface="Times New Roman"/>
              </a:rPr>
              <a:t>年毕业于香港西医书院。赴檀香山成立兴中会，誓推翻清朝。</a:t>
            </a:r>
            <a:r>
              <a:rPr b="1" lang="zh-CN" sz="2800" spc="-1" strike="noStrike">
                <a:solidFill>
                  <a:srgbClr val="990033"/>
                </a:solidFill>
                <a:latin typeface="Times New Roman"/>
              </a:rPr>
              <a:t>1905</a:t>
            </a:r>
            <a:r>
              <a:rPr b="1" lang="zh-CN" sz="2800" spc="-1" strike="noStrike">
                <a:solidFill>
                  <a:srgbClr val="990033"/>
                </a:solidFill>
                <a:latin typeface="Times New Roman"/>
              </a:rPr>
              <a:t>年在日本联合华兴会、光复会等革命团体成立中国同盟会，被推为总理。 </a:t>
            </a:r>
            <a:r>
              <a:rPr b="1" lang="zh-CN" sz="2800" spc="-1" strike="noStrike">
                <a:solidFill>
                  <a:srgbClr val="990033"/>
                </a:solidFill>
                <a:latin typeface="Times New Roman"/>
              </a:rPr>
              <a:t>1911</a:t>
            </a:r>
            <a:r>
              <a:rPr b="1" lang="zh-CN" sz="2800" spc="-1" strike="noStrike">
                <a:solidFill>
                  <a:srgbClr val="990033"/>
                </a:solidFill>
                <a:latin typeface="Times New Roman"/>
              </a:rPr>
              <a:t>年辛亥革命后被十七省代表推举为中国民国临时大总统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743040" y="457200"/>
            <a:ext cx="7657920" cy="59436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222120" y="885960"/>
            <a:ext cx="9150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11280" y="2276640"/>
            <a:ext cx="8136000" cy="22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放声读课文，要求：读准字音，读通句子。想想课文主要写了一件什么事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03200" y="449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68360" y="2133720"/>
            <a:ext cx="8497800" cy="18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课文主要写了———小时侯在——读书，为了 弄懂书里的意思，——向先生提出问题的事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932360" y="198900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孙中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971640" y="292428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私塾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1619280" y="385920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大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395280" y="765000"/>
            <a:ext cx="8136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900000" y="1700280"/>
            <a:ext cx="7704360" cy="357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仿宋_GB2312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仿宋_GB2312"/>
              </a:rPr>
              <a:t>私塾   背诵   照例   </a:t>
            </a:r>
            <a:r>
              <a:rPr b="1" lang="zh-CN" sz="4400" spc="-1" strike="noStrike">
                <a:solidFill>
                  <a:srgbClr val="000000"/>
                </a:solidFill>
                <a:latin typeface="华文中宋"/>
                <a:ea typeface="华文中宋"/>
              </a:rPr>
              <a:t>霎时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仿宋_GB2312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仿宋_GB2312"/>
              </a:rPr>
              <a:t>戒尺   厉声   挨打   </a:t>
            </a:r>
            <a:r>
              <a:rPr b="1" lang="zh-CN" sz="4400" spc="-1" strike="noStrike">
                <a:solidFill>
                  <a:srgbClr val="000000"/>
                </a:solidFill>
                <a:latin typeface="华文中宋"/>
                <a:ea typeface="华文中宋"/>
              </a:rPr>
              <a:t>咿咿呀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华文中宋"/>
                <a:ea typeface="华文中宋"/>
              </a:rPr>
              <a:t>糊里糊涂 摇头晃脑 鸭雀无声</a:t>
            </a:r>
            <a:r>
              <a:rPr b="1" lang="zh-CN" sz="4400" spc="-1" strike="noStrike">
                <a:solidFill>
                  <a:srgbClr val="008080"/>
                </a:solidFill>
                <a:latin typeface="华文中宋"/>
                <a:ea typeface="华文中宋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8074080" y="1989000"/>
            <a:ext cx="458640" cy="39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55640" y="1125360"/>
            <a:ext cx="7848720" cy="70200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743040" y="457200"/>
            <a:ext cx="7657920" cy="59436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222120" y="885960"/>
            <a:ext cx="9150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11280" y="2276640"/>
            <a:ext cx="8136000" cy="22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快速默读课文，想一想：孙中山是用怎样的态度对待学习的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743040" y="457200"/>
            <a:ext cx="7657920" cy="59436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222120" y="885960"/>
            <a:ext cx="9150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11280" y="2276640"/>
            <a:ext cx="8136000" cy="22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再次默读课文，想一想：从课文的哪些地方可以看出孙中山勤学好问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395280" y="765000"/>
            <a:ext cx="8136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55640" y="1916280"/>
            <a:ext cx="7920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华文中宋"/>
                <a:ea typeface="华文中宋"/>
              </a:rPr>
              <a:t>可是，书里说的是什么意思，他一点儿也不懂。孙中山想，这样糊里糊涂地背，有什么用呢？</a:t>
            </a:r>
            <a:r>
              <a:rPr b="1" lang="zh-CN" sz="4000" spc="-1" strike="noStrike">
                <a:solidFill>
                  <a:srgbClr val="008080"/>
                </a:solidFill>
                <a:latin typeface="华文中宋"/>
                <a:ea typeface="华文中宋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8074080" y="1989000"/>
            <a:ext cx="458640" cy="39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55640" y="1125360"/>
            <a:ext cx="7848720" cy="70200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2T05:12:57Z</dcterms:created>
  <dc:creator>lichengquan</dc:creator>
  <dc:description/>
  <dc:language>en-US</dc:language>
  <cp:lastModifiedBy>微软中国</cp:lastModifiedBy>
  <dcterms:modified xsi:type="dcterms:W3CDTF">2008-12-22T08:25:28Z</dcterms:modified>
  <cp:revision>14</cp:revision>
  <dc:subject/>
  <dc:title>PowerPoint 演示文稿</dc:title>
</cp:coreProperties>
</file>