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jpeg" ContentType="image/jpeg"/>
  <Override PartName="/ppt/media/image16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FD5-2D8D-4955-8239-7896775C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AC6-A83C-4B32-915B-DB6024C9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730-0DD2-4C74-9B37-D8F5E033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48D-76C3-4C0C-99F0-B76CCEF1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DEAC-B709-4A86-A603-C72E3D8B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61B4-1816-4465-ABD3-4F160ADB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5531-3562-46BB-BDE1-91FAB435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10DD-9B7E-4057-AC9D-475629FA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BE27-A44E-4E90-BED2-3071C6AB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744A-C545-4066-800F-9070ECFF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30F7-9389-4FBB-A530-CDF165A3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369-5EBF-410F-B068-5E9C7378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156C-F7CD-4F47-990D-85966743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704B-F5E5-4AC2-98E3-E8BB7302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11B9-4776-46D9-AF4A-6EF9D296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7452-7080-45FD-914A-C01FFB45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E842-ADDB-4D4D-BDEA-730650D3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F75-5F9F-4DA4-BE40-741373AD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CC4-076F-4392-97F5-83526519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393-013F-456F-8883-16889930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114-8EEB-4B12-8216-A6A6C5F3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4CE-3600-4330-AE46-6128B82F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DE4-7F3C-4379-B708-5B97E53B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813-3576-4966-A9FE-F3E331F0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2A82-CC70-4F95-BB9C-CF0529BC08A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2AF7-2F42-4597-8882-966F35C4920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0920" y="2743200"/>
            <a:ext cx="5086440" cy="4114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66"/>
                </a:solidFill>
                <a:latin typeface="隶书"/>
                <a:ea typeface="隶书"/>
              </a:rPr>
              <a:t>第二课 白鹅</a:t>
            </a: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1844640"/>
            <a:ext cx="5616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丰子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19640" cy="3537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464000" y="3554280"/>
            <a:ext cx="46800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阅读训练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同步</a:t>
            </a:r>
            <a:r>
              <a:rPr b="0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6</a:t>
            </a:r>
            <a:r>
              <a:rPr b="0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页      《母鸡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Arial"/>
              </a:rPr>
              <a:t>叫嚣    麒麟    冥顽    </a:t>
            </a:r>
            <a:br>
              <a:rPr sz="6600"/>
            </a:br>
            <a:r>
              <a:rPr b="1" lang="zh-CN" sz="6600" spc="-1" strike="noStrike">
                <a:solidFill>
                  <a:srgbClr val="0000cc"/>
                </a:solidFill>
                <a:latin typeface="Arial"/>
              </a:rPr>
              <a:t>岑寂    盛馔    窥伺       猥鄙                            引吭高歌    蹑手蹑脚</a:t>
            </a:r>
            <a:br>
              <a:rPr sz="6600"/>
            </a:br>
            <a:endParaRPr b="0" lang="en-US" sz="6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476280"/>
            <a:ext cx="8540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目标</a:t>
            </a: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0000cc"/>
                </a:solidFill>
                <a:latin typeface="黑体"/>
                <a:ea typeface="黑体"/>
              </a:rPr>
              <a:t>、作者运用对比突出白鹅特点的写法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0000cc"/>
                </a:solidFill>
                <a:latin typeface="黑体"/>
                <a:ea typeface="黑体"/>
              </a:rPr>
              <a:t>、了解文章抓住事物特征写作的角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73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作者简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丰子恺 （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898—1975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）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初名丰润，后改名丰仁，字子凱，后称子愷。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898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年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1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月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9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日生于浙江桐乡石门镇。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914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年秋考入浙江省第一师范学校，受教于文学家夏丏尊，艺术家李叔同。 　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975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年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9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月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5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日在上海逝世，享年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77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岁。</a:t>
            </a:r>
            <a:br>
              <a:rPr sz="4400"/>
            </a:b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著名画家、艺术教育家，我国美育教育的先驱者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快速阅读全文思考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文章突出了白鹅什么特点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文章从哪几个方面描写白鹅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全文最突出运用的修辞方法是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2992320" cy="3095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732720" y="333360"/>
            <a:ext cx="2133360" cy="352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3024000" cy="2467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067280" y="3645000"/>
            <a:ext cx="4249800" cy="283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924360" y="620640"/>
            <a:ext cx="2449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4392720" cy="439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88000" y="836640"/>
            <a:ext cx="42465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759120" cy="38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788000" y="404640"/>
            <a:ext cx="3887640" cy="2575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788000" y="3284640"/>
            <a:ext cx="2382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00:22:04Z</dcterms:created>
  <dc:creator>z</dc:creator>
  <dc:description/>
  <dc:language>en-US</dc:language>
  <cp:lastModifiedBy>zdzz</cp:lastModifiedBy>
  <dcterms:modified xsi:type="dcterms:W3CDTF">2004-09-09T07:55:42Z</dcterms:modified>
  <cp:revision>5</cp:revision>
  <dc:subject/>
  <dc:title>第二课 白鹅</dc:title>
</cp:coreProperties>
</file>