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9.gif" ContentType="image/gif"/>
  <Override PartName="/ppt/media/image8.jpeg" ContentType="image/jpeg"/>
  <Override PartName="/ppt/media/image18.gif" ContentType="image/gif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E33-9054-41E3-B7B8-93B6010F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076-6FEC-411C-9B0C-45EC12C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DFD-9B7B-40AB-9F1A-CF933D7D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3FF-7812-4B42-8437-1AC39F58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DD3-25CF-4418-870D-6BDE21BB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79A4-4478-43F7-9C70-2F1C24F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5F3-F51A-47B7-BE1D-A259032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774-6EA9-4341-A949-6B7B69C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5419-9017-4FA0-948F-92733EF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E41C-75F9-4CDA-84D4-DC9F56EA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3CF-A0C1-4E0D-9FAA-35B8075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4EC-B6E5-445F-A39B-AC220FE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E25-E703-4F38-A10B-163D61F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8F63-5F1C-4B92-A114-C3C46BA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60D-0D39-4ADD-9CC6-D48D0DF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D23D-8905-4AC5-A977-C3AF7E90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C900-E33B-48C4-B2B8-53ABBCE5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BE0B-F156-4732-91C2-81261837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E135-2DD3-419A-A0C1-EEACEF9D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25E9-E25A-46FD-A0C7-A11FC51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A479-E3E1-4C70-9925-C96FEAFB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A8B5-9934-422D-8057-8659116A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1D7-BF4D-4370-B9C7-FCCE5430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619D-F5EA-44E8-9804-9D9D4A7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FF45-32CE-4D33-9629-0BBB61C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55D6-AE62-475F-8ACA-2FA533D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2F78-7946-4E00-9AB1-FAE2FFB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105C-8EDF-47E2-A9CA-FAF0908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637D-34E0-4E5C-9B5D-6E97A462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EC21-3400-4390-8EE2-1CA799B0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005-0920-4F96-BD16-C4D7AE3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EED-552F-40FB-BBF2-7CBFC29F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710-EB7B-4A1A-90E4-0F9727F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856-C813-4EFA-9C55-E98855E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BC9-A1B8-4EFA-AFCB-004D302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8FE-E499-48B0-95F7-3555E17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F3A-8946-4057-AE6E-96CCFA88DAD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120-5D66-42AD-9420-B806BBB874E9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A46-8E6A-465A-BDB6-B567F579FCD2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411280" y="148428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白鹅</a:t>
            </a:r>
            <a:endParaRPr b="0" lang="en-US" sz="2400" spc="-1" strike="noStrike">
              <a:ln w="0">
                <a:noFill/>
              </a:ln>
              <a:solidFill>
                <a:srgbClr val="33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3357720"/>
            <a:ext cx="15130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丰子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5480" y="5216400"/>
            <a:ext cx="1839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0"/>
          <a:ext cx="8820000" cy="6688080"/>
        </p:xfrm>
        <a:graphic>
          <a:graphicData uri="http://schemas.openxmlformats.org/drawingml/2006/table">
            <a:tbl>
              <a:tblPr/>
              <a:tblGrid>
                <a:gridCol w="1382760"/>
                <a:gridCol w="2913120"/>
                <a:gridCol w="45241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左顾右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向左右两边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它伸长了头颈，左顾右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24000" y="0"/>
          <a:ext cx="8820000" cy="6669000"/>
        </p:xfrm>
        <a:graphic>
          <a:graphicData uri="http://schemas.openxmlformats.org/drawingml/2006/table">
            <a:tbl>
              <a:tblPr/>
              <a:tblGrid>
                <a:gridCol w="1382760"/>
                <a:gridCol w="2913120"/>
                <a:gridCol w="45241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左顾右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向左右两边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它伸长了头颈，左顾右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小心翼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举动十分谨慎，一点不敢疏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鸭的“轧轧”，其音调琐碎而愉快，有小心翼翼的意味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24000" y="0"/>
          <a:ext cx="8820000" cy="6669000"/>
        </p:xfrm>
        <a:graphic>
          <a:graphicData uri="http://schemas.openxmlformats.org/drawingml/2006/table">
            <a:tbl>
              <a:tblPr/>
              <a:tblGrid>
                <a:gridCol w="1382760"/>
                <a:gridCol w="2913120"/>
                <a:gridCol w="45241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左顾右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向左右两边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它伸长了头颈，左顾右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小心翼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举动十分谨慎，一点不敢疏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鸭的“轧轧”，其音调琐碎而愉快，有小心翼翼的意味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大模大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活动没有顾忌，毫无拘束的样子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鹅的步态从容，大模大样的，颇像京剧里的净角出场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4000" y="0"/>
          <a:ext cx="8820000" cy="6600960"/>
        </p:xfrm>
        <a:graphic>
          <a:graphicData uri="http://schemas.openxmlformats.org/drawingml/2006/table">
            <a:tbl>
              <a:tblPr/>
              <a:tblGrid>
                <a:gridCol w="1382760"/>
                <a:gridCol w="2913120"/>
                <a:gridCol w="45241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左顾右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向左右两边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它伸长了头颈，左顾右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小心翼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举动十分谨慎，一点不敢疏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鸭的“轧轧”，其音调琐碎而愉快，有小心翼翼的意味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大模大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活动没有顾忌，毫无拘束的样子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鹅的步调从容，大模大样的，颇像京剧里的净角出场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空空如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一无所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等到鹅再来吃饭的时候，饭罐已经空空如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24000" y="0"/>
          <a:ext cx="8820000" cy="6669000"/>
        </p:xfrm>
        <a:graphic>
          <a:graphicData uri="http://schemas.openxmlformats.org/drawingml/2006/table">
            <a:tbl>
              <a:tblPr/>
              <a:tblGrid>
                <a:gridCol w="1382760"/>
                <a:gridCol w="2913120"/>
                <a:gridCol w="45241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成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左顾右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向左右两边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它伸长了头颈，左顾右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小心翼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举动十分谨慎，一点不敢疏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鸭的“轧轧”，其音调琐碎而愉快，有小心翼翼的意味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大模大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活动没有顾忌，毫无拘束的样子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鹅的步态从容，大模大样的，颇像京剧里的净角出场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空空如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形容一无所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等到鹅再来吃饭的时候，饭罐已经空空如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蹑手蹑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放轻脚步走路的样子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邻近的鸡也很多，也常常蹑手蹑脚地来偷鹅的饭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46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257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语言品味</a:t>
            </a: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……（狗）看它吃了一口饭，再走开去吃水、吃草、吃泥的时候，狗又敏捷地跑上来，这回就把它的饭吃完，扬长而去了。等到鹅再来吃饭的时候，饭罐已经空空如也。鹅便昂首大叫，似乎责怪人们供养不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37000"/>
            <a:ext cx="9144000" cy="147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精彩的细节描写，突出了鹅的吃相和“傲”的特点，给人深刻的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789360"/>
            <a:ext cx="896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点题收束全文，用简陋、荒凉、岑寂的环境衬托出白鹅的灵性、神气、活力，使作者苦闷的心因为有了这鹅而得到一丝安慰，所以作者对这样一位能够“慰我寂寥”的朋友怀有几分感激和留恋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因为我们这屋实在太简陋，环境实在太荒凉，生活实在太岑寂了。赖有这一只白鹅，点缀庭院，增加生气，慰我寂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1520" y="189000"/>
            <a:ext cx="377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白鹅对我们一家人有哪些贡献？你是如何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白鹅所做贡献的价值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   “傲慢”常被用来形容人看不起人，对人没礼貌，作者为什么用来形容白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40560" y="2624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用形容人的词语来描绘鹅，把鹅写得富有灵性。表面看，作者写鹅的姿态、叫声、吃相、步态都与性格无关，但作者却将其说成是“傲慢”性格的表现，显然是把它当成了生活中的一个朋友，读来非常富有亲切感。“傲慢”本是贬义词，但作者在表现鹅各种姿态习性时，流露出的是一种欣赏的态度，反映出作者内心对它的喜爱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9280" y="189000"/>
            <a:ext cx="896472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根据意思写出成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做事不慌不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空荡荡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走路时脚步放得很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向四处张望或向左右两边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举止谨慎，不敢有半点疏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朗读你最喜欢的一段，说说你喜欢的理由（结合品味词语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84280"/>
            <a:ext cx="8964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归纳全文的中心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作业：试用比较的方法，写写你喜欢的一种小动物，要求从多角度去观察和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11640" y="304164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843280" y="5734080"/>
            <a:ext cx="809640" cy="904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72396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268360" y="4797360"/>
            <a:ext cx="704880" cy="628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132000" y="3933720"/>
            <a:ext cx="943200" cy="628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3708360" y="5084640"/>
            <a:ext cx="87624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0" y="5079960"/>
            <a:ext cx="16556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8.5"/>
                                  </p:iterate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77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77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77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8.5"/>
                                  </p:iterate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77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77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77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8.5"/>
                                  </p:iterate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77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77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77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3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3044880" y="-2282760"/>
            <a:ext cx="15237000" cy="11426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-2828880" y="-2066760"/>
            <a:ext cx="15236640" cy="1142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2435400" cy="2328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116000" y="2428920"/>
            <a:ext cx="244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r>
              <a:rPr b="1" sz="7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作者运用对比突出白鹅特点的写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了解文章抓住事物特征写作的角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463200"/>
            <a:ext cx="91440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丰子恺，现代画家、文学家、美术和音乐教育家、翻译家，是中国现代受人景仰的漫画家、散文家。他的绘画、文章在几十年的沧桑风雨中保持一贯的风格：雍容恬静，其漫画更是脍炙人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0280"/>
            <a:ext cx="424980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80000" y="44280"/>
            <a:ext cx="1058760" cy="1059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08720" y="476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6680"/>
            <a:ext cx="91440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本文写于</a:t>
            </a:r>
            <a:r>
              <a:rPr b="1" sz="44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年夏天。抗日战争期间，丰子恺内迁重庆，住在郊外一座荒村里，生活条件艰苦，而人们内心则因为战争的煎熬而焦虑苦闷。作者在读书、作画之余，在院里种豆、种菜、养鹅、养鸽，这成了作者排解苦闷的一种寄托。《白鹅》就是在这种情况下写成的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78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78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78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1476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765000"/>
            <a:ext cx="88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碚          麒麟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猥       鄙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轧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叫嚣         引吭</a:t>
            </a: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净角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岑       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窥伺</a:t>
            </a: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蹑      脚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不胜          其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盛馔</a:t>
            </a: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               分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9360" y="692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b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9800" y="6922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qílí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62760" y="692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5480" y="692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g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3800" y="23432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90400" y="23414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78640" y="23414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ju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4200" y="4005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kuīs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31000" y="400536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n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7680" y="407664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shē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90040" y="565452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zhuà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6160" y="56563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miă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1720" y="234144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c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8893080" cy="1384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作者是从哪四个方面来写白鹅“高傲”这一特点的？作者喜欢白鹅的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229360"/>
            <a:ext cx="91440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者喜欢白鹅，一是因为它那高傲的性格；二是因为它能给家人以物质和精神上的贡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6354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6348240"/>
            <a:ext cx="648000" cy="50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101080" y="5805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468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姿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468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叫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46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步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68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吃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8760" y="1844640"/>
            <a:ext cx="39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伸长了头颈，左顾右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78720" y="2492280"/>
            <a:ext cx="47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音调严肃郑重，有似厉声呵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7680" y="3284640"/>
            <a:ext cx="48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步调从容大模大样，显得气宇轩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9337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食料并不奢侈，但吃法三眼一板，丝毫不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作者将鹅和其他动物比较着写，试以第一至三段为例，分析这样写的好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92280"/>
            <a:ext cx="914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狮子、老虎、麒麟、骆驼等多种动物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7200" y="4365720"/>
            <a:ext cx="25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从容不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1520" y="5157720"/>
            <a:ext cx="33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叫声比较严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8880" y="5877000"/>
            <a:ext cx="5209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作用：在比较中突出鹅的各种特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720" y="3141720"/>
            <a:ext cx="28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头比较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0440" y="5157720"/>
            <a:ext cx="18266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狗叫声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440" y="3716280"/>
            <a:ext cx="18266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鸭叫声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6240" y="3716280"/>
            <a:ext cx="33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鹅的叫声严肃庄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440" y="4365720"/>
            <a:ext cx="182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鸭步态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78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78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78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78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78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78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78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78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78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78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78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78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78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78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78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8400" y="981000"/>
            <a:ext cx="2009160" cy="5256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学习积累成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9</dc:creator>
  <dc:description/>
  <dc:language>en-US</dc:language>
  <cp:lastModifiedBy>user</cp:lastModifiedBy>
  <cp:lastPrinted>1899-12-30T00:00:00Z</cp:lastPrinted>
  <dcterms:modified xsi:type="dcterms:W3CDTF">2006-02-16T15:08:43Z</dcterms:modified>
  <cp:revision>15</cp:revision>
  <dc:subject/>
  <dc:title>白鹅</dc:title>
</cp:coreProperties>
</file>