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8AA-16F3-4D9D-B9E8-1DDD2B4D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F73-35FF-4CD5-A15F-4CD369B4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F0357-5E23-4BD8-AA0D-A2E0FF1C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4A051-CA66-4F05-A55D-884138F8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52D2D-B6ED-4DED-A629-667906F5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D9373-0D55-4CB0-BDA7-89B83220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2DA59-C958-49DA-BCEE-D708DC59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7B7D7-9E91-4C7A-AB7C-608E8630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01C11-E8F8-43A4-93B9-CB475DBE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A4478-29B9-4448-92CC-763F29ED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50FDD-406D-4D9A-B3B4-6DE93AF2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4D771-14A1-4BDA-8FB3-56CA33E4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5548-86AD-4890-A7F6-3C2F7EA3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22709-3345-436B-BAC0-016B04DF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F34B4-9694-49DF-9470-D2C5E778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76092-6092-4B58-AEE1-7BA55881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02893-C56C-4017-B21D-9F23EEB2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057F3-3904-4C16-B8C1-E4D4AF2E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E0A29-88B5-4490-928A-7E16CBDC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F69AE-63E5-4C1E-B536-075EEBCF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F3739-C43C-439C-9EF9-FD7A727A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35266-DCDD-4E72-B196-6BB623BF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22612-D4AC-4599-AB56-1FF7635E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0D86-076F-4837-A7EC-C1064F29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29DDB-48F2-42C3-BB19-68582B99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52FD3-EEE2-443D-B678-D8C24729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E598C-B40C-476C-B459-0124A89A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7288F-F828-4D22-8BFE-1E560ED3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E30B8-B643-4C54-AD8E-CF628C10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4BF4D-79B4-425D-A237-00D220DF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03319-1573-4B94-A8B6-C93FD0CE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DCBB4-EBEA-4C14-A01F-0D1452EC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7BB2A-1121-45E8-8891-0F793FFF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AF2C7-1DF5-4175-9033-3605D09A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0AB8-1054-4D21-96D5-E38983F6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EB1A2-3216-487F-A192-C3B8F85D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F497C-2B26-4CE3-9E45-93D205A2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3BD1C-E372-4663-A65B-D5F3093B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E05D2-1598-4563-9925-876E4ACE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FBB59-3AF8-4EA8-B028-A93838C2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7F727-4DF8-4FE8-BE60-9B6B0B26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B63BF-FC11-45EE-9839-48C69B30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8688A-173D-44E4-B826-6FEBB72C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D997C-EC30-4C34-B14B-22B1ACD0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6B17E-02EE-4E92-B3C3-D00596A5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B88A-E788-4A0B-A87A-325B7D4F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C83F3-01B3-44DF-BEA1-AC32C2F4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CBF36-5C1B-4281-BE91-A811EEE5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71D51-B5CE-4C96-A332-08B2E1E4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C5AB5-BC43-4662-90EE-F2C9E865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F2B7A-E0FC-4998-B9BA-872A6597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B4EA7-B41B-404C-A35A-BD252EDE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768F3-964E-417F-A403-9E8A91B7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B9DAD-B4B2-4783-843E-6E80AA28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E6471-10EA-4EEC-9554-1C5A577F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850C55-E5BE-4862-A520-CB6A308B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B527-4F24-440F-A192-3ABB14D9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B4E88-6D27-4612-8E0A-27FFD1F7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F3D7E-1554-46A2-9202-C3CDA070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6C74F-9DEA-46A1-A2C5-DFF25236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DE89D5-FF21-4FF7-AA2D-CC97A633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E51E6-1225-4FE2-A788-8C5C9EEA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DB7F5-A72A-462E-BE40-DDF331CE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D39FA-D0DE-4E25-A1D6-9E858168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DB667-E311-4D34-B46F-DB22A370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75D351-B507-48F3-9BD5-B7D3B0EE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BC2BCA-15EC-4416-AD57-69BD5692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D66E-EBB8-4F64-94D3-F0F04F77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924F1E-D170-428C-88D2-F554D7A3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F56D4-9073-49B8-9064-D9FDF641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08E919-9B40-4B13-B1AB-945999DE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21F71F-3ED8-4868-8298-E6A68602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32DA2-FD94-48EF-9667-1EE7D5BD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E2E33-2B32-4AD8-B9D3-532C46FE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9079D5-139B-4636-9D6B-1FC42DE2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22F4F-A719-45AC-BB5C-A4D30EAA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D1A17-FD36-438F-8B26-206BC332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5F9F-B376-4545-932A-733DAE13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D608-E4F7-4B47-A782-0E71D108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5DCC-978B-4BAB-9D84-240EE5B9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78A-7944-4FDC-809D-7BFC76B8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37F3-1D4C-4538-9A5D-F5A685D8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B0F2-F06C-4524-BECB-387E436D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A33B-5909-4832-9986-E6A5DB0C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2DE6-7A67-44C1-8B0B-7184BAC2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2302-33F6-49DB-B3F1-2D9D5F34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8D931-30B0-4B60-9935-E9ED2596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3DEF1-960A-4C1E-A6E6-E0CEA560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4D24-72ED-4131-AE9D-D83A6710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69498-9CF4-4827-AB67-D43625D2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FE0A5-ECF1-4713-BA87-22E49C24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0CF-C62B-4007-B39B-6ACEC3CF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8C531-5B77-4650-86C0-EA3DB088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E95BD-A1B0-423E-8242-FF7A8A8C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26AFD-D1F4-47BA-A14E-05974702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55FDA-8B5A-4C27-BE4F-A657B60F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31B04-03A8-49CD-A64E-83754A56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8764-34CD-44EC-914C-352CEB65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DC2E4-F794-48F6-BAB6-665E7392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B22F3-AC18-4E87-9996-FDF8EC49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16526-B2FD-4F7A-B95B-443B83C6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0F1AD-F786-407B-93FB-A8E49076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3B2B-0724-4621-AA11-D7F80F95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908AA-98BA-4F0D-B776-6F1EBA0F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3326D-FB22-4727-8F21-79715808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B4954-05FD-49EB-9116-7B401711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04B85-FCE2-4894-B561-3DB23C31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D30A2-A21F-4C43-A076-1A606288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D1F99-A4CB-499F-B368-DD194519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A1527-4773-4BAB-AE64-44E456DD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1BF59-3F7C-47B7-90ED-4905B78C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A9BA3-04B3-41BE-B0A9-486B4485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D5847-0CC7-4371-BD7D-91931830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B85-C7E2-49FF-8743-4DCA9EB2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87EFE-A6B3-42BD-BA64-F0664484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D29D3-C739-432D-8B0B-757F1E0A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595D7-9621-4187-933B-6AB06183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65B73-2FC5-4D0D-8697-909F56BA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7F35B-929D-4570-B21F-51B9E8BD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E1A43-4593-4E38-A4ED-F99B3B13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19D94-0241-49F3-8753-6ACD409B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BDE11-4F4C-4532-B05C-AE119F5B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25A59-0ECA-4573-83A9-E404EAD2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A8F88-3762-407E-8562-009CAC38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71BC-C91B-45CE-B495-8B3786C3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F8208-7548-4C36-848A-EEE2E409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D1077-5632-4D42-842C-A2010901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9A54D-D741-4051-8F0D-C0BB9DA2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2FC15-669A-4604-822D-4A92CD75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69994-9067-49AF-BF2C-BD80BB29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DC3F9-29C9-4692-B4C5-716D87DA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F21DC-D247-4F12-B479-3BC6EC12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F24E2-E806-4605-BFFC-2843AF83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D123B-A19A-4C7D-8DF8-8C828309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BA3A1-6B2D-4E5C-871B-68E9D910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9E9-1F9D-434C-BA85-8710EE13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C96A7-34A5-4B33-93E6-808DEE1E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C0942-F707-47B9-B192-9DC17789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CA43D-EB47-459E-963F-104B82FC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9F1C8-0475-435C-8440-225383A2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5E043-30FF-4B8B-82C8-A83BA30A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4238B-6515-4807-ABEC-A584B222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89A04-A973-439A-8A5B-A3758064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195C4-F9B0-4944-AC15-096D0504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F4912-44EE-478C-8ED0-5B2C98AB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BE00C-DDEB-4348-855A-2E643829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9C9-7EE5-4DA5-BD94-DE7B8116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FD1AF-4549-4493-9559-52092A9B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83F5B-6BF8-4014-A7A1-49A57111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11BE5-ABC8-47D9-900F-93A086FF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F41BA-08A5-4F39-B40D-FDD16CE8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D1DF8-D3AA-4D51-941C-A792860A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81E30-D66F-4AFA-9320-20EDA613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E6BE5-C338-4770-9A31-8B2BFB9C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1E631-4534-4E51-A144-491FBD16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9966E-988E-42F8-BFD5-8ACDB7F1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D4F65-D619-4C29-A708-1A239BFC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17E-FA06-486C-A198-E5EB380C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57D4B-5A35-426B-9440-41B3D64D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C41DE-54B4-412F-840D-CABC9059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91D7E-A6B5-4500-9CFF-74E59992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524ED-D24C-4A4A-AF6D-D92895C3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70B46-8899-414C-9365-7032D1D5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A5599-B9AD-4262-8DB3-C6C096BC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EB2D2-1268-4EBD-8F86-23CD10BE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BED7E-9C5B-4A84-8499-87DB1DDB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670F3-45AD-4575-B121-B0CCDBAB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E0B81-BB43-4D5B-9E3C-B74930AA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31E9-D70F-4C6C-8928-2589625127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0C87-BCE5-4C5A-820F-C93382BCC2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4369-98F2-449E-83C3-B5D9CD650A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FF72-14E1-47C9-AC58-18D404ABB1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E21B-2B16-4342-8AD4-DB629AA788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57FD-9169-4221-AC44-A6CBC5B341D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DE65-4333-4D70-A729-A80B2324C9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D65F-6051-47E1-8AC8-6F250C6D6C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4EC4-337E-4664-8356-9DFC537E6A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D614-0129-4D40-A9CB-E0A46B98E6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34FC-1C41-4399-9476-0550AC2AAA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602E-7F2E-41DE-8243-EF3B3F9BEF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70E4-8667-4FFD-B74E-95109FFD8A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DA38-CB99-494C-9E9B-B667920191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图片 4097" descr="农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矩形 4098"/>
          <p:cNvSpPr txBox="1"/>
          <p:nvPr/>
        </p:nvSpPr>
        <p:spPr>
          <a:xfrm>
            <a:off x="2411280" y="1484280"/>
            <a:ext cx="4105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白鹅</a:t>
            </a:r>
            <a:endParaRPr b="0" lang="en-US" sz="3600" spc="1" strike="noStrike">
              <a:ln w="0">
                <a:noFill/>
              </a:ln>
              <a:solidFill>
                <a:srgbClr val="3333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6" name="文本框 4099"/>
          <p:cNvSpPr/>
          <p:nvPr/>
        </p:nvSpPr>
        <p:spPr>
          <a:xfrm>
            <a:off x="5364000" y="3357720"/>
            <a:ext cx="15130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丰子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4100"/>
          <p:cNvSpPr/>
          <p:nvPr/>
        </p:nvSpPr>
        <p:spPr>
          <a:xfrm>
            <a:off x="1095480" y="5216400"/>
            <a:ext cx="18396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文本框 19457"/>
          <p:cNvSpPr/>
          <p:nvPr/>
        </p:nvSpPr>
        <p:spPr>
          <a:xfrm>
            <a:off x="0" y="3789360"/>
            <a:ext cx="8966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点题收束全文，用简陋、荒凉、岑寂的环境衬托出白鹅的灵性、神气、活力，使作者苦闷的心因为有了这鹅而得到一丝安慰，所以作者对这样一位能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慰我寂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的朋友怀有几分感激和留恋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19458"/>
          <p:cNvSpPr/>
          <p:nvPr/>
        </p:nvSpPr>
        <p:spPr>
          <a:xfrm>
            <a:off x="0" y="1643040"/>
            <a:ext cx="914400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因为我们这屋实在太简陋，环境实在太荒凉，生活实在太岑寂了。赖有这一只白鹅，点缀庭院，增加生气，慰我寂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19459"/>
          <p:cNvSpPr/>
          <p:nvPr/>
        </p:nvSpPr>
        <p:spPr>
          <a:xfrm>
            <a:off x="285840" y="285840"/>
            <a:ext cx="84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白鹅对我们一家人有哪些贡献？你是如何理解白鹅所做贡献的价值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文本框 6145"/>
          <p:cNvSpPr/>
          <p:nvPr/>
        </p:nvSpPr>
        <p:spPr>
          <a:xfrm>
            <a:off x="762120" y="9907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作者喜欢这只白鹅，原因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6146"/>
          <p:cNvSpPr/>
          <p:nvPr/>
        </p:nvSpPr>
        <p:spPr>
          <a:xfrm>
            <a:off x="914400" y="2286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因为它高傲的性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6147"/>
          <p:cNvSpPr/>
          <p:nvPr/>
        </p:nvSpPr>
        <p:spPr>
          <a:xfrm>
            <a:off x="762120" y="36576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因为它能给家人物质上和精神上的贡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文本框 10241"/>
          <p:cNvSpPr/>
          <p:nvPr/>
        </p:nvSpPr>
        <p:spPr>
          <a:xfrm>
            <a:off x="0" y="0"/>
            <a:ext cx="8893080" cy="13842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作者是从哪四个方面来写白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高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这一特点的？作者喜欢白鹅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10242"/>
          <p:cNvSpPr/>
          <p:nvPr/>
        </p:nvSpPr>
        <p:spPr>
          <a:xfrm>
            <a:off x="0" y="5229360"/>
            <a:ext cx="9144000" cy="10688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者喜欢白鹅，一是因为它那高傲的性格；二是因为它能给家人以物质和精神上的贡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图片 10243" descr="0001[2]"/>
          <p:cNvPicPr/>
          <p:nvPr/>
        </p:nvPicPr>
        <p:blipFill>
          <a:blip r:embed="rId1"/>
          <a:stretch/>
        </p:blipFill>
        <p:spPr>
          <a:xfrm>
            <a:off x="468360" y="6354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10244" descr="0001[2]"/>
          <p:cNvPicPr/>
          <p:nvPr/>
        </p:nvPicPr>
        <p:blipFill>
          <a:blip r:embed="rId2"/>
          <a:stretch/>
        </p:blipFill>
        <p:spPr>
          <a:xfrm>
            <a:off x="3132000" y="6348240"/>
            <a:ext cx="648000" cy="509760"/>
          </a:xfrm>
          <a:prstGeom prst="rect">
            <a:avLst/>
          </a:prstGeom>
          <a:ln w="0">
            <a:noFill/>
          </a:ln>
        </p:spPr>
      </p:pic>
      <p:pic>
        <p:nvPicPr>
          <p:cNvPr id="633" name="图片 10245" descr="0001[2]"/>
          <p:cNvPicPr/>
          <p:nvPr/>
        </p:nvPicPr>
        <p:blipFill>
          <a:blip r:embed="rId3"/>
          <a:stretch/>
        </p:blipFill>
        <p:spPr>
          <a:xfrm>
            <a:off x="8101080" y="58053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634" name="矩形 10246"/>
          <p:cNvSpPr/>
          <p:nvPr/>
        </p:nvSpPr>
        <p:spPr>
          <a:xfrm>
            <a:off x="184680" y="184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姿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10247"/>
          <p:cNvSpPr/>
          <p:nvPr/>
        </p:nvSpPr>
        <p:spPr>
          <a:xfrm>
            <a:off x="184680" y="2565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叫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10248"/>
          <p:cNvSpPr/>
          <p:nvPr/>
        </p:nvSpPr>
        <p:spPr>
          <a:xfrm>
            <a:off x="184680" y="328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步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10249"/>
          <p:cNvSpPr/>
          <p:nvPr/>
        </p:nvSpPr>
        <p:spPr>
          <a:xfrm>
            <a:off x="184680" y="3933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吃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10250"/>
          <p:cNvSpPr/>
          <p:nvPr/>
        </p:nvSpPr>
        <p:spPr>
          <a:xfrm>
            <a:off x="2048760" y="1844640"/>
            <a:ext cx="39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伸长了头颈，左顾右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10251"/>
          <p:cNvSpPr/>
          <p:nvPr/>
        </p:nvSpPr>
        <p:spPr>
          <a:xfrm>
            <a:off x="2178720" y="2492280"/>
            <a:ext cx="47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音调严肃郑重，有似厉声呵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10252"/>
          <p:cNvSpPr/>
          <p:nvPr/>
        </p:nvSpPr>
        <p:spPr>
          <a:xfrm>
            <a:off x="2137680" y="3284640"/>
            <a:ext cx="48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步调从容大模大样，显得气宇轩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10253"/>
          <p:cNvSpPr/>
          <p:nvPr/>
        </p:nvSpPr>
        <p:spPr>
          <a:xfrm>
            <a:off x="900000" y="393372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食料并不奢侈，但吃法三眼一板，丝毫不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文本框 1126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作者将鹅和其他动物比较着写，试以第一至三段为例，分析这样写的好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11266"/>
          <p:cNvSpPr/>
          <p:nvPr/>
        </p:nvSpPr>
        <p:spPr>
          <a:xfrm>
            <a:off x="0" y="2492280"/>
            <a:ext cx="9144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狮子、老虎、麒麟、骆驼等多种动物比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11267"/>
          <p:cNvSpPr/>
          <p:nvPr/>
        </p:nvSpPr>
        <p:spPr>
          <a:xfrm>
            <a:off x="3247200" y="4365720"/>
            <a:ext cx="25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鹅从容不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11268"/>
          <p:cNvSpPr/>
          <p:nvPr/>
        </p:nvSpPr>
        <p:spPr>
          <a:xfrm>
            <a:off x="3521520" y="5157720"/>
            <a:ext cx="339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鹅的叫声比较严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1269"/>
          <p:cNvSpPr/>
          <p:nvPr/>
        </p:nvSpPr>
        <p:spPr>
          <a:xfrm>
            <a:off x="1928880" y="5877000"/>
            <a:ext cx="520992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作用：在比较中突出鹅的各种特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11270"/>
          <p:cNvSpPr/>
          <p:nvPr/>
        </p:nvSpPr>
        <p:spPr>
          <a:xfrm>
            <a:off x="495720" y="3141720"/>
            <a:ext cx="28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鹅的头比较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11271"/>
          <p:cNvSpPr/>
          <p:nvPr/>
        </p:nvSpPr>
        <p:spPr>
          <a:xfrm>
            <a:off x="550440" y="5157720"/>
            <a:ext cx="1826640" cy="642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狗叫声比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11272"/>
          <p:cNvSpPr/>
          <p:nvPr/>
        </p:nvSpPr>
        <p:spPr>
          <a:xfrm>
            <a:off x="550440" y="3716280"/>
            <a:ext cx="1826640" cy="642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鸭叫声比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11273"/>
          <p:cNvSpPr/>
          <p:nvPr/>
        </p:nvSpPr>
        <p:spPr>
          <a:xfrm>
            <a:off x="3666240" y="3716280"/>
            <a:ext cx="339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鹅的叫声严肃庄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11274"/>
          <p:cNvSpPr/>
          <p:nvPr/>
        </p:nvSpPr>
        <p:spPr>
          <a:xfrm>
            <a:off x="550440" y="4365720"/>
            <a:ext cx="1826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鸭步态比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"/>
                                  </p:iterate>
                                  <p:childTnLst>
                                    <p:set>
                                      <p:cBhvr>
                                        <p:cTn id="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78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78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78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"/>
                                  </p:iterate>
                                  <p:childTnLst>
                                    <p:set>
                                      <p:cBhvr>
                                        <p:cTn id="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78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78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78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"/>
                                  </p:iterate>
                                  <p:childTnLst>
                                    <p:set>
                                      <p:cBhvr>
                                        <p:cTn id="2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78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78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78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"/>
                                  </p:iterate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78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78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78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"/>
                                  </p:iterate>
                                  <p:childTnLst>
                                    <p:set>
                                      <p:cBhvr>
                                        <p:cTn id="2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78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78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78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黑体"/>
              </a:rPr>
              <a:t>五、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一，文章抓住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鹅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高傲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特征，运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宋体"/>
              </a:rPr>
              <a:t>对比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写法从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头部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叫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  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步态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  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吃相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四个方面来描绘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白鹅，表达了对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鹅的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喜爱和怀念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二，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抓住事物特征来描写的写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对比突出事物特点的写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内容占位符 5121" descr="1311"/>
          <p:cNvPicPr/>
          <p:nvPr/>
        </p:nvPicPr>
        <p:blipFill>
          <a:blip r:embed="rId1"/>
          <a:stretch/>
        </p:blipFill>
        <p:spPr>
          <a:xfrm>
            <a:off x="900000" y="333360"/>
            <a:ext cx="73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矩形 7169"/>
          <p:cNvSpPr/>
          <p:nvPr/>
        </p:nvSpPr>
        <p:spPr>
          <a:xfrm>
            <a:off x="0" y="3463200"/>
            <a:ext cx="9144000" cy="825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丰子恺，现代画家、文学家、美术和音乐教育家、翻译家，是中国现代受人景仰的漫画家、散文家。他的绘画、文章在几十年的沧桑风雨中保持一贯的风格：雍容恬静，其漫画更是脍炙人口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7170"/>
          <p:cNvSpPr/>
          <p:nvPr/>
        </p:nvSpPr>
        <p:spPr>
          <a:xfrm>
            <a:off x="250920" y="260280"/>
            <a:ext cx="4249800" cy="70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171" descr="%C"/>
          <p:cNvPicPr/>
          <p:nvPr/>
        </p:nvPicPr>
        <p:blipFill>
          <a:blip r:embed="rId2"/>
          <a:stretch/>
        </p:blipFill>
        <p:spPr>
          <a:xfrm>
            <a:off x="5580000" y="44280"/>
            <a:ext cx="1058760" cy="105912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7172" descr="%C"/>
          <p:cNvPicPr/>
          <p:nvPr/>
        </p:nvPicPr>
        <p:blipFill>
          <a:blip r:embed="rId3"/>
          <a:stretch/>
        </p:blipFill>
        <p:spPr>
          <a:xfrm>
            <a:off x="7308720" y="476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矩形 8193"/>
          <p:cNvSpPr/>
          <p:nvPr/>
        </p:nvSpPr>
        <p:spPr>
          <a:xfrm>
            <a:off x="0" y="3046680"/>
            <a:ext cx="914400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本文写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946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年夏天。抗日战争期间，丰子恺内迁重庆，住在郊外一座荒村里，生活条件艰苦，而人们内心则因为战争的煎熬而焦虑苦闷。作者在读书、作画之余，在院里种豆、种菜、养鹅、养鸽，这成了作者排解苦闷的一种寄托。《白鹅》就是在这种情况下写成的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"/>
                                  </p:iterate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78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78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78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文本框 9217"/>
          <p:cNvSpPr/>
          <p:nvPr/>
        </p:nvSpPr>
        <p:spPr>
          <a:xfrm>
            <a:off x="0" y="0"/>
            <a:ext cx="147636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9218"/>
          <p:cNvSpPr/>
          <p:nvPr/>
        </p:nvSpPr>
        <p:spPr>
          <a:xfrm>
            <a:off x="324000" y="765000"/>
            <a:ext cx="8820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北碚          麒麟     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猥       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轧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叫嚣         引吭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净角    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岑       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窥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蹑      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不胜          其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盛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分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9219"/>
          <p:cNvSpPr/>
          <p:nvPr/>
        </p:nvSpPr>
        <p:spPr>
          <a:xfrm>
            <a:off x="1333440" y="6922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è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9220"/>
          <p:cNvSpPr/>
          <p:nvPr/>
        </p:nvSpPr>
        <p:spPr>
          <a:xfrm>
            <a:off x="3350160" y="692280"/>
            <a:ext cx="10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í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í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9221"/>
          <p:cNvSpPr/>
          <p:nvPr/>
        </p:nvSpPr>
        <p:spPr>
          <a:xfrm>
            <a:off x="5162760" y="69228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wě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9222"/>
          <p:cNvSpPr/>
          <p:nvPr/>
        </p:nvSpPr>
        <p:spPr>
          <a:xfrm>
            <a:off x="8102520" y="6922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9223"/>
          <p:cNvSpPr/>
          <p:nvPr/>
        </p:nvSpPr>
        <p:spPr>
          <a:xfrm>
            <a:off x="1333800" y="234324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xi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9224"/>
          <p:cNvSpPr/>
          <p:nvPr/>
        </p:nvSpPr>
        <p:spPr>
          <a:xfrm>
            <a:off x="3277440" y="234144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á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9225"/>
          <p:cNvSpPr/>
          <p:nvPr/>
        </p:nvSpPr>
        <p:spPr>
          <a:xfrm>
            <a:off x="5652720" y="234144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ju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9226"/>
          <p:cNvSpPr/>
          <p:nvPr/>
        </p:nvSpPr>
        <p:spPr>
          <a:xfrm>
            <a:off x="1384200" y="400536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kuīs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9227"/>
          <p:cNvSpPr/>
          <p:nvPr/>
        </p:nvSpPr>
        <p:spPr>
          <a:xfrm>
            <a:off x="3205080" y="400536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ni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9228"/>
          <p:cNvSpPr/>
          <p:nvPr/>
        </p:nvSpPr>
        <p:spPr>
          <a:xfrm>
            <a:off x="6457680" y="407664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shē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9229"/>
          <p:cNvSpPr/>
          <p:nvPr/>
        </p:nvSpPr>
        <p:spPr>
          <a:xfrm>
            <a:off x="1477080" y="5654520"/>
            <a:ext cx="14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zhu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à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9230"/>
          <p:cNvSpPr/>
          <p:nvPr/>
        </p:nvSpPr>
        <p:spPr>
          <a:xfrm>
            <a:off x="4286160" y="56563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miă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9231"/>
          <p:cNvSpPr/>
          <p:nvPr/>
        </p:nvSpPr>
        <p:spPr>
          <a:xfrm>
            <a:off x="7165800" y="234144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é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文本框 5121"/>
          <p:cNvSpPr/>
          <p:nvPr/>
        </p:nvSpPr>
        <p:spPr>
          <a:xfrm>
            <a:off x="380880" y="304920"/>
            <a:ext cx="815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四、阅读课文，整体感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提问：文章写白鹅哪些方面的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5122"/>
          <p:cNvSpPr/>
          <p:nvPr/>
        </p:nvSpPr>
        <p:spPr>
          <a:xfrm>
            <a:off x="533520" y="251460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5123"/>
          <p:cNvSpPr/>
          <p:nvPr/>
        </p:nvSpPr>
        <p:spPr>
          <a:xfrm>
            <a:off x="457200" y="2362320"/>
            <a:ext cx="83059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明确：从鹅的形状、叫声、步态、吃饭、贡献等方面来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图片 5130" descr="C:\Documents and Settings\df\My Documents\My Pictures\3[1].gif"/>
          <p:cNvPicPr/>
          <p:nvPr/>
        </p:nvPicPr>
        <p:blipFill>
          <a:blip r:embed="rId1"/>
          <a:stretch/>
        </p:blipFill>
        <p:spPr>
          <a:xfrm>
            <a:off x="990720" y="4267080"/>
            <a:ext cx="6561000" cy="72072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5131" descr="C:\Documents and Settings\df\My Documents\My Pictures\3[1].gif"/>
          <p:cNvPicPr/>
          <p:nvPr/>
        </p:nvPicPr>
        <p:blipFill>
          <a:blip r:embed="rId2"/>
          <a:stretch/>
        </p:blipFill>
        <p:spPr>
          <a:xfrm>
            <a:off x="0" y="4419720"/>
            <a:ext cx="6561000" cy="72072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5132" descr="C:\Documents and Settings\df\My Documents\My Pictures\j04[1].gif"/>
          <p:cNvPicPr/>
          <p:nvPr/>
        </p:nvPicPr>
        <p:blipFill>
          <a:blip r:embed="rId3"/>
          <a:stretch/>
        </p:blipFill>
        <p:spPr>
          <a:xfrm>
            <a:off x="3962520" y="3733920"/>
            <a:ext cx="2400120" cy="138276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5134" descr="C:\Documents and Settings\df\My Documents\My Pictures\j04[1].gif"/>
          <p:cNvPicPr/>
          <p:nvPr/>
        </p:nvPicPr>
        <p:blipFill>
          <a:blip r:embed="rId4"/>
          <a:stretch/>
        </p:blipFill>
        <p:spPr>
          <a:xfrm>
            <a:off x="5105520" y="4724280"/>
            <a:ext cx="240012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文本框 6145"/>
          <p:cNvSpPr/>
          <p:nvPr/>
        </p:nvSpPr>
        <p:spPr>
          <a:xfrm>
            <a:off x="228600" y="83808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6146"/>
          <p:cNvSpPr/>
          <p:nvPr/>
        </p:nvSpPr>
        <p:spPr>
          <a:xfrm>
            <a:off x="0" y="53352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6147"/>
          <p:cNvSpPr/>
          <p:nvPr/>
        </p:nvSpPr>
        <p:spPr>
          <a:xfrm>
            <a:off x="228600" y="22860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五、阅读课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~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段，讨论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作者笔下的鹅有什么鲜明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6148"/>
          <p:cNvSpPr/>
          <p:nvPr/>
        </p:nvSpPr>
        <p:spPr>
          <a:xfrm>
            <a:off x="304920" y="14479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明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傲慢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高傲、最傲人、架子十足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文本框 7170"/>
          <p:cNvSpPr/>
          <p:nvPr/>
        </p:nvSpPr>
        <p:spPr>
          <a:xfrm>
            <a:off x="304920" y="5335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为了突出白鹅傲慢的特点，作者怎样称呼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7171"/>
          <p:cNvSpPr/>
          <p:nvPr/>
        </p:nvSpPr>
        <p:spPr>
          <a:xfrm>
            <a:off x="457200" y="1447920"/>
            <a:ext cx="8381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明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鹅老爷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老爷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一词原是旧时代对有身份、有地位的人的一种尊称。作者用以称呼白鹅，可见白鹅在他家中有特殊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地位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，享受特殊待遇。于是，白鹅也就有理由表现得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架子十足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文本框 5121"/>
          <p:cNvSpPr/>
          <p:nvPr/>
        </p:nvSpPr>
        <p:spPr>
          <a:xfrm>
            <a:off x="1143000" y="8380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白鹅对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一家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哪些贡献？你如何理解贡献的价值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122"/>
          <p:cNvSpPr/>
          <p:nvPr/>
        </p:nvSpPr>
        <p:spPr>
          <a:xfrm>
            <a:off x="609480" y="30481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贡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左大括号 5123"/>
          <p:cNvSpPr/>
          <p:nvPr/>
        </p:nvSpPr>
        <p:spPr>
          <a:xfrm>
            <a:off x="1600200" y="259092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5124"/>
          <p:cNvSpPr/>
          <p:nvPr/>
        </p:nvSpPr>
        <p:spPr>
          <a:xfrm>
            <a:off x="1981080" y="24382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质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5125"/>
          <p:cNvSpPr/>
          <p:nvPr/>
        </p:nvSpPr>
        <p:spPr>
          <a:xfrm>
            <a:off x="1981080" y="38098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精神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直接连接符 5126"/>
          <p:cNvSpPr/>
          <p:nvPr/>
        </p:nvSpPr>
        <p:spPr>
          <a:xfrm>
            <a:off x="3200400" y="27432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直接连接符 5127"/>
          <p:cNvSpPr/>
          <p:nvPr/>
        </p:nvSpPr>
        <p:spPr>
          <a:xfrm>
            <a:off x="3200400" y="40384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文本框 5128"/>
          <p:cNvSpPr/>
          <p:nvPr/>
        </p:nvSpPr>
        <p:spPr>
          <a:xfrm>
            <a:off x="4517640" y="24382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生蛋供我们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文本框 5129"/>
          <p:cNvSpPr/>
          <p:nvPr/>
        </p:nvSpPr>
        <p:spPr>
          <a:xfrm>
            <a:off x="4419720" y="3809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增添生气、乐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右大括号 5130"/>
          <p:cNvSpPr/>
          <p:nvPr/>
        </p:nvSpPr>
        <p:spPr>
          <a:xfrm>
            <a:off x="6858000" y="251460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5131"/>
          <p:cNvSpPr/>
          <p:nvPr/>
        </p:nvSpPr>
        <p:spPr>
          <a:xfrm>
            <a:off x="7086600" y="28954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者比前者更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01T12:08:10Z</dcterms:modified>
  <cp:revision>1</cp:revision>
  <dc:subject/>
  <dc:title>幻灯片 1</dc:title>
</cp:coreProperties>
</file>