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AE49-1DF5-4CAB-B58B-F7B0767A1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BA3D-4CF5-4712-978B-B18F75B9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66F5-AA64-43D2-BDCE-CE42E8268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9525-61BD-4335-BAE9-357B5C425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90CB-D814-42AC-B064-67A7372DE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B6ED-8379-4E86-8755-4E9D5993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0517-0496-4FC5-8CAF-171F5E63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5E59-4B51-47F3-9654-6C326121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227A-59CA-49D3-890E-A54A2A06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F8A0-0506-419D-B92C-18E5C04F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1194-6252-4DEC-B07E-8D0CB523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1CEE-3B98-4024-9CA2-C4E6D428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D512E-36A6-42AD-990B-6D2B1029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B2CE-2F0E-455F-9791-B8659A63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0472-18D4-45AD-BB8F-FCF72721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E042-4639-4A34-8C3F-B03460812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0028-4145-4D19-9E96-B75DB18A1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88CE-EC8F-44DB-BEE1-EDDBB0A8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8541-5477-47EF-B972-168739B2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7810-91FD-464D-BCF2-4132F60E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68AE-FBDE-471E-A9DD-5DFF6162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E307-077B-4994-A0F4-219B66FB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958B-A7CA-4C9B-8160-B1A63A77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493E-5820-4F5C-A3B2-5AA3F280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4F42-8974-4066-8406-A259000D5D20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98EE-2B74-459A-AF6A-28DCA7229B8D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9393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9393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5867280" y="3886200"/>
          <a:ext cx="2895840" cy="26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3886200"/>
                    <a:ext cx="289584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 txBox="1"/>
          <p:nvPr/>
        </p:nvSpPr>
        <p:spPr>
          <a:xfrm>
            <a:off x="1523880" y="1676520"/>
            <a:ext cx="73152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奥伊达的理想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4" name=""/>
          <p:cNvSpPr/>
          <p:nvPr/>
        </p:nvSpPr>
        <p:spPr>
          <a:xfrm>
            <a:off x="3603600" y="4411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62320" y="371808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93939"/>
                </a:solidFill>
                <a:latin typeface="Times New Roman"/>
              </a:rPr>
              <a:t>凯瑟琳</a:t>
            </a:r>
            <a:r>
              <a:rPr b="0" lang="zh-CN" sz="4000" spc="-1" strike="noStrike">
                <a:solidFill>
                  <a:srgbClr val="393939"/>
                </a:solidFill>
                <a:latin typeface="Times New Roman"/>
              </a:rPr>
              <a:t>·</a:t>
            </a:r>
            <a:r>
              <a:rPr b="0" lang="zh-CN" sz="4000" spc="-1" strike="noStrike">
                <a:solidFill>
                  <a:srgbClr val="393939"/>
                </a:solidFill>
                <a:latin typeface="Times New Roman"/>
              </a:rPr>
              <a:t>奥尼尔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848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奥伊达父母在他成长过程中希望他成为什么样的人？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楷体_GB2312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2743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父 ：诗人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00800" y="2666880"/>
            <a:ext cx="251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黑体"/>
              </a:rPr>
              <a:t>有爱心的公民，自由选择职业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4267080"/>
            <a:ext cx="30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母：歌唱家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327672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→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探险家→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619280" y="1752480"/>
            <a:ext cx="67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结合事例谈谈奥伊达父母对他的教育方式是怎样的？你喜欢吗？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16765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你父母对你的教育方式与奥伊达的父母一样吗？你希望父母对你怎样教育？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24000" y="836640"/>
            <a:ext cx="777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692280"/>
            <a:ext cx="849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  <a:ea typeface="黑体"/>
              </a:rPr>
              <a:t>.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33520" y="1066680"/>
          <a:ext cx="8305560" cy="5604120"/>
        </p:xfrm>
        <a:graphic>
          <a:graphicData uri="http://schemas.openxmlformats.org/drawingml/2006/table">
            <a:tbl>
              <a:tblPr/>
              <a:tblGrid>
                <a:gridCol w="4038480"/>
                <a:gridCol w="2363760"/>
                <a:gridCol w="1903320"/>
              </a:tblGrid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1" lang="zh-CN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项目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zh-CN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支出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eaeaea"/>
                          </a:solidFill>
                          <a:latin typeface="宋体"/>
                        </a:rPr>
                        <a:t>人民币（元）</a:t>
                      </a:r>
                      <a:r>
                        <a:rPr b="1" lang="zh-CN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eaeaea"/>
                          </a:solidFill>
                          <a:latin typeface="宋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eaeaea"/>
                          </a:solidFill>
                          <a:latin typeface="宋体"/>
                        </a:rPr>
                        <a:t>一日三餐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eaeaea"/>
                          </a:solidFill>
                          <a:latin typeface="宋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eaeaea"/>
                          </a:solidFill>
                          <a:latin typeface="宋体"/>
                        </a:rPr>
                        <a:t>日常穿戴</a:t>
                      </a:r>
                      <a:r>
                        <a:rPr b="1" lang="zh-CN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3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eaeaea"/>
                          </a:solidFill>
                          <a:latin typeface="宋体"/>
                        </a:rPr>
                        <a:t>     </a:t>
                      </a:r>
                      <a:r>
                        <a:rPr b="1" lang="zh-CN" sz="2800" spc="-1" strike="noStrike">
                          <a:solidFill>
                            <a:srgbClr val="eaeaea"/>
                          </a:solidFill>
                          <a:latin typeface="宋体"/>
                        </a:rPr>
                        <a:t>学习费用</a:t>
                      </a:r>
                      <a:r>
                        <a:rPr b="1" lang="zh-CN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3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eaeaea"/>
                          </a:solidFill>
                          <a:latin typeface="宋体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eaeaea"/>
                          </a:solidFill>
                          <a:latin typeface="宋体"/>
                        </a:rPr>
                        <a:t>电脑、</a:t>
                      </a: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宋体"/>
                        </a:rPr>
                        <a:t>Mp3</a:t>
                      </a:r>
                      <a:r>
                        <a:rPr b="1" lang="zh-CN" sz="2800" spc="-1" strike="noStrike">
                          <a:solidFill>
                            <a:srgbClr val="eaeaea"/>
                          </a:solidFill>
                          <a:latin typeface="宋体"/>
                        </a:rPr>
                        <a:t>等娱乐</a:t>
                      </a:r>
                      <a:r>
                        <a:rPr b="1" lang="zh-CN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eaeaea"/>
                          </a:solidFill>
                          <a:latin typeface="宋体"/>
                        </a:rPr>
                        <a:t>生病时医药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eaeaea"/>
                          </a:solidFill>
                          <a:latin typeface="宋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eaeaea"/>
                          </a:solidFill>
                          <a:latin typeface="宋体"/>
                        </a:rPr>
                        <a:t>和悉心照顾费</a:t>
                      </a:r>
                      <a:r>
                        <a:rPr b="1" lang="zh-CN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3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eaeaea"/>
                          </a:solidFill>
                          <a:latin typeface="宋体"/>
                        </a:rPr>
                        <a:t>      </a:t>
                      </a:r>
                      <a:r>
                        <a:rPr b="1" lang="zh-CN" sz="2800" spc="-1" strike="noStrike">
                          <a:solidFill>
                            <a:srgbClr val="eaeaea"/>
                          </a:solidFill>
                          <a:latin typeface="宋体"/>
                        </a:rPr>
                        <a:t>其它</a:t>
                      </a:r>
                      <a:r>
                        <a:rPr b="1" lang="zh-CN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宋体"/>
                        </a:rPr>
                        <a:t>      </a:t>
                      </a:r>
                      <a:r>
                        <a:rPr b="1" lang="zh-CN" sz="2800" spc="-1" strike="noStrike">
                          <a:solidFill>
                            <a:srgbClr val="eaeaea"/>
                          </a:solidFill>
                          <a:latin typeface="宋体"/>
                        </a:rPr>
                        <a:t>总计</a:t>
                      </a: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838080" y="13644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请你真的算算账         自己一月支出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62120" y="1066680"/>
            <a:ext cx="7619760" cy="38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拓展阅读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750"/>
              </a:spcBef>
              <a:buClr>
                <a:srgbClr val="ff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马丁．路德．金恩《我有一个梦想 》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750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  <a:ea typeface="宋体"/>
              </a:rPr>
              <a:t> </a:t>
            </a:r>
            <a:r>
              <a:rPr b="1" lang="zh-CN" sz="4400" spc="-1" strike="noStrike">
                <a:solidFill>
                  <a:srgbClr val="ff00ff"/>
                </a:solidFill>
                <a:latin typeface="Times New Roman"/>
                <a:ea typeface="黑体"/>
              </a:rPr>
              <a:t>《夏日的幻觉》——北京晚报</a:t>
            </a:r>
            <a:r>
              <a:rPr b="1" lang="zh-CN" sz="4400" spc="-1" strike="noStrike">
                <a:solidFill>
                  <a:srgbClr val="ff00ff"/>
                </a:solidFill>
                <a:latin typeface="Times New Roman"/>
                <a:ea typeface="黑体"/>
              </a:rPr>
              <a:t>8</a:t>
            </a:r>
            <a:r>
              <a:rPr b="1" lang="zh-CN" sz="4400" spc="-1" strike="noStrike">
                <a:solidFill>
                  <a:srgbClr val="ff00ff"/>
                </a:solidFill>
                <a:latin typeface="Times New Roman"/>
                <a:ea typeface="黑体"/>
              </a:rPr>
              <a:t>月</a:t>
            </a:r>
            <a:r>
              <a:rPr b="1" lang="zh-CN" sz="4400" spc="-1" strike="noStrike">
                <a:solidFill>
                  <a:srgbClr val="ff00ff"/>
                </a:solidFill>
                <a:latin typeface="Times New Roman"/>
                <a:ea typeface="黑体"/>
              </a:rPr>
              <a:t>20</a:t>
            </a:r>
            <a:r>
              <a:rPr b="1" lang="zh-CN" sz="4400" spc="-1" strike="noStrike">
                <a:solidFill>
                  <a:srgbClr val="ff00ff"/>
                </a:solidFill>
                <a:latin typeface="Times New Roman"/>
                <a:ea typeface="黑体"/>
              </a:rPr>
              <a:t>日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80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给加点字注音并解词：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庸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俗（    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着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陆（    ）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琢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    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    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挑</a:t>
            </a: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衅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    ）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煞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有介事（    ）     </a:t>
            </a: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    ）佩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坚持不</a:t>
            </a: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懈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    ）     附</a:t>
            </a: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    ）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兴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奋（    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    ）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根据拼音写汉字：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不知所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cuò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（   ）          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q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（    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视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声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sī(  )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力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jié(  )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大名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dǐng dǐng(  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wèi(    )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蓝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交头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jiē(  )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耳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郑重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qí(    )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事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33520" y="457200"/>
            <a:ext cx="822960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黑体"/>
              </a:rPr>
              <a:t>导入：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33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339933"/>
                </a:solidFill>
                <a:latin typeface="黑体"/>
                <a:ea typeface="黑体"/>
              </a:rPr>
              <a:t>、从小到大你有过哪些梦想（理想）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33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339933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339933"/>
                </a:solidFill>
                <a:latin typeface="黑体"/>
                <a:ea typeface="黑体"/>
              </a:rPr>
              <a:t>、为了这个梦想你做哪些努力？你还记得其中的一件趣事吗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33"/>
                </a:solidFill>
                <a:latin typeface="黑体"/>
                <a:ea typeface="黑体"/>
              </a:rPr>
              <a:t>	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33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339933"/>
                </a:solidFill>
                <a:latin typeface="黑体"/>
                <a:ea typeface="黑体"/>
              </a:rPr>
              <a:t>、你父母在你实现梦想过程中起过什么作用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0880" y="304920"/>
            <a:ext cx="8305920" cy="19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aeaea"/>
                </a:solidFill>
                <a:latin typeface="黑体"/>
                <a:ea typeface="黑体"/>
              </a:rPr>
              <a:t>思考：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宋体"/>
              </a:rPr>
              <a:t>小说以什么为线索？记叙了奥伊达成长过程哪几件趣事？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952880" y="3581280"/>
            <a:ext cx="350532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给每件趣事各取一个小标题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1568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改名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2209680"/>
            <a:ext cx="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81280" y="373392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5181480"/>
            <a:ext cx="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31240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买票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4572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探险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58672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账单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9" name="20613" descr=""/>
          <p:cNvPicPr/>
          <p:nvPr/>
        </p:nvPicPr>
        <p:blipFill>
          <a:blip r:embed="rId1"/>
          <a:stretch/>
        </p:blipFill>
        <p:spPr>
          <a:xfrm>
            <a:off x="5486400" y="1752480"/>
            <a:ext cx="30481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47920" y="1508040"/>
            <a:ext cx="641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小时候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改名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开端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265104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上小学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买票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发展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33920" y="3657600"/>
            <a:ext cx="63244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探险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高潮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4724280"/>
            <a:ext cx="5410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上中学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账单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结局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8280" y="457200"/>
            <a:ext cx="6705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小说的情节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47920" y="1219320"/>
            <a:ext cx="6324480" cy="2120400"/>
          </a:xfrm>
          <a:prstGeom prst="rect">
            <a:avLst/>
          </a:prstGeom>
          <a:noFill/>
          <a:ln w="936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作业</a:t>
            </a:r>
            <a:r>
              <a:rPr b="0" lang="zh-CN" sz="4400" spc="-1" strike="noStrike">
                <a:solidFill>
                  <a:srgbClr val="eaeaea"/>
                </a:solidFill>
                <a:latin typeface="黑体"/>
                <a:ea typeface="黑体"/>
              </a:rPr>
              <a:t>：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00b5b"/>
                </a:solidFill>
                <a:latin typeface="宋体"/>
              </a:rPr>
              <a:t>在书中画出奥伊达语言、神态、行动、心理的语句。思考：这些描写表现了奥伊达怎样的性格特点</a:t>
            </a:r>
            <a:r>
              <a:rPr b="0" lang="zh-CN" sz="2400" spc="-1" strike="noStrike">
                <a:solidFill>
                  <a:srgbClr val="200b5b"/>
                </a:solidFill>
                <a:latin typeface="宋体"/>
              </a:rPr>
              <a:t>？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09480" y="1066680"/>
            <a:ext cx="8077320" cy="32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00b5b"/>
                </a:solidFill>
                <a:latin typeface="黑体"/>
                <a:ea typeface="黑体"/>
              </a:rPr>
              <a:t>启发思考</a:t>
            </a:r>
            <a:r>
              <a:rPr b="1" lang="zh-CN" sz="4800" spc="-1" strike="noStrike">
                <a:solidFill>
                  <a:srgbClr val="eaeaea"/>
                </a:solidFill>
                <a:latin typeface="黑体"/>
                <a:ea typeface="黑体"/>
              </a:rPr>
              <a:t>：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buClr>
                <a:srgbClr val="008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黑体"/>
                <a:ea typeface="黑体"/>
              </a:rPr>
              <a:t>奥伊达在几件趣事中有怎样的表现？作者对他采用了哪些描写方法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8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黑体"/>
                <a:ea typeface="黑体"/>
              </a:rPr>
              <a:t>从这些描写中我们可以看出他是怎样一个孩子？</a:t>
            </a:r>
            <a:r>
              <a:rPr b="0" lang="zh-CN" sz="4000" spc="-1" strike="noStrike">
                <a:solidFill>
                  <a:srgbClr val="eeb00b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19320" y="2057400"/>
            <a:ext cx="42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天真 可爱 有个性                                       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9718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追求平等 独立 坚持不懈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38545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顽皮机灵  敢于创新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48006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聪明狡黠、有创新意识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34320" y="2971800"/>
            <a:ext cx="1523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自主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3840120"/>
            <a:ext cx="2590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有创新意识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00800" y="4738680"/>
            <a:ext cx="259092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有执著追求精神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60948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ff"/>
                </a:solidFill>
                <a:latin typeface="黑体"/>
                <a:ea typeface="黑体"/>
              </a:rPr>
              <a:t>奥伊达的性格特点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34320" y="2057400"/>
            <a:ext cx="1523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独立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hanglixin</cp:lastModifiedBy>
  <dcterms:modified xsi:type="dcterms:W3CDTF">2004-10-19T04:36:12Z</dcterms:modified>
  <cp:revision>42</cp:revision>
  <dc:subject/>
  <dc:title>PowerPoint Presentation</dc:title>
</cp:coreProperties>
</file>