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64F-35CF-4F96-BA08-C9BA78CB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ED4-07DC-47D6-9855-4B9C638C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2BC-557E-4314-9345-07642D87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68E-35DC-4232-972B-1A3B3B06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5A5-0F52-470E-960F-ED57D95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E97-664A-4D51-854E-332339D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A02-31D4-4F07-9F43-3EE15EA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FD8-04B1-4AF1-9792-2155BD4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300-5FBB-4140-BC93-41DEF08E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47E-F983-40AA-A36D-C2CCD04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105-2709-434F-9F2A-D900C79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E7D-BD6A-4B71-A654-A8769BB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17F1-46E8-403E-9D43-3AC0C12F02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248000" cy="5589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1700280"/>
            <a:ext cx="403200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奥伊达的理想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8606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凯瑟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尼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676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你父母对你的教育方式与奥伊达的父母一样吗？你希望父母对你怎样教育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80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、给加点字注音并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俗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陆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琢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挑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介事（    ）     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不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     附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奋（    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根据拼音写汉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知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uò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）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q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）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ī(  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jié(  )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大名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dǐng dǐng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wèi(    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交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jiē(  )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郑重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qí(    )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0792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、从小到大你有过哪些梦想（理想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、为了这个梦想你做哪些努力？你还记得其中的一件趣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9933"/>
                </a:solidFill>
                <a:latin typeface="黑体"/>
                <a:ea typeface="黑体"/>
              </a:rPr>
              <a:t>、你父母在你实现梦想过程中起过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89000"/>
            <a:ext cx="1727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前热身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1125360"/>
            <a:ext cx="830556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小说以什么为线索？记叙了奥伊达成长过程哪几件趣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620640"/>
            <a:ext cx="2449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阅读思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00720" y="4437000"/>
            <a:ext cx="2647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50804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时候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改名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开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6510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小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买票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65760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探险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高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72428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上中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账单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结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57200"/>
            <a:ext cx="6705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宋体"/>
              </a:rPr>
              <a:t>小说的情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349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066680"/>
            <a:ext cx="80773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奥伊达在几件趣事中有怎样的表现？作者对他采用了哪些描写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从这些描写中我们可以看出他是怎样一个孩子？</a:t>
            </a:r>
            <a:r>
              <a:rPr b="0" lang="zh-CN" sz="40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69228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人物形象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20574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真 可爱 有个性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9718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追求平等 独立 坚持不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854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顽皮机灵  敢于创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00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聪明狡黠、有创新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29718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38401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创新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738680"/>
            <a:ext cx="25909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有执著追求精神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9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奥伊达的性格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057400"/>
            <a:ext cx="152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独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奥伊达父母在他成长过程中希望他成为什么样的人？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父 ：诗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26668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有爱心的公民，自由选择职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2670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母：歌唱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2767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探险家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17524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结合事例谈谈奥伊达父母对他的教育方式是怎样的？你喜欢吗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1:45:01Z</dcterms:created>
  <dc:creator>huangn</dc:creator>
  <dc:description/>
  <dc:language>en-US</dc:language>
  <cp:lastModifiedBy>zmj</cp:lastModifiedBy>
  <dcterms:modified xsi:type="dcterms:W3CDTF">2012-02-05T08:53:15Z</dcterms:modified>
  <cp:revision>3</cp:revision>
  <dc:subject/>
  <dc:title>幻灯片 1</dc:title>
</cp:coreProperties>
</file>