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CF8-5EAE-4F0F-871B-63EB9A06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AE3-C914-4164-9666-869B94C9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077-DF92-4012-AFD9-B6189F07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538-ACDB-4DDE-930A-D2936090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2E59-75EC-4791-B679-7E03D717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9B5F-747E-4941-AE46-50638450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8FDA-F024-4BBC-8741-0AD39E25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C9FF-289C-45F8-9514-87C104D6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A366-C7C8-4F83-8FBF-301383B4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0F7E-367E-479C-BA56-ABD07D7D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5D60-F2D1-4B8C-B551-1F6A173E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377-BA10-4913-9A77-E5288400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56B3-FDE1-45C8-A64F-663DE2B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E766-15CE-4521-86DA-4FFA7DC2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A6CD-0379-46D1-A0CA-CDD3C9DB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C7B5-F816-4823-975A-7F4DF518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4826-EE14-49C8-BB80-E6E3858F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CD0C-3FFC-4A7C-AEE8-7BA92612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CCC5-50D6-437D-B61D-DA227F40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7CC20-131D-4939-AED6-41B4A2CB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1FD71-4FC0-4741-91B7-16789434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1DDDB-3E26-4C53-95B1-9436FFAD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9B1-046B-4146-A371-27B84F93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70DC-AADA-4D6E-94D1-A64CF21D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D6A69-556F-4003-81F3-91D4B403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474AA-7B4B-4085-A35C-D757CA35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B1DE-BA49-4C58-83B6-72BA8E03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16837-DAE2-4E57-9C07-F49F6061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5164-97D6-42CE-B22C-8F10A0DA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DB23-F8DB-415B-981A-3D5D7657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67E13-9B3E-4A55-BD81-72C77965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9CA4A-7F88-4524-B601-14FAF84B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8F16-07E6-448F-92EA-36BE3D93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791-B375-4E7D-959F-971FD057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93AED-49F5-41BD-BBCA-504A78E4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EB519-E089-47CF-921E-10804055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AE5BA-052D-47BC-867F-A3C26136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8F79-81CA-49E6-91C5-04A55B3A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F291E-0B2C-438B-919F-0F3DAAD0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56D0B-A329-46A6-A935-77287B03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20C4-1D4E-4909-92A7-D137287E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E58C7-74F2-4E9C-A913-910D4927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A9CE5-992C-4A66-8757-0EE116EC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C75-D0B0-48F7-B7F7-71F4C9B2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D1A-3A4D-4C48-8D6B-5C27C11E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09B-F3EE-4D53-8939-5882DB4E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11C-5B3E-465C-9A0B-5B7551C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DD6-AFD7-400B-88E6-5BDE589B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7037" h="5274">
                    <a:moveTo>
                      <a:pt x="2374" y="212"/>
                    </a:moveTo>
                    <a:lnTo>
                      <a:pt x="1569" y="1094"/>
                    </a:lnTo>
                    <a:lnTo>
                      <a:pt x="165" y="1177"/>
                    </a:lnTo>
                    <a:lnTo>
                      <a:pt x="0" y="1567"/>
                    </a:lnTo>
                    <a:lnTo>
                      <a:pt x="930" y="2564"/>
                    </a:lnTo>
                    <a:lnTo>
                      <a:pt x="1527" y="2254"/>
                    </a:lnTo>
                    <a:lnTo>
                      <a:pt x="2479" y="2712"/>
                    </a:lnTo>
                    <a:lnTo>
                      <a:pt x="2789" y="3347"/>
                    </a:lnTo>
                    <a:lnTo>
                      <a:pt x="2707" y="3624"/>
                    </a:lnTo>
                    <a:lnTo>
                      <a:pt x="2809" y="4147"/>
                    </a:lnTo>
                    <a:lnTo>
                      <a:pt x="2872" y="4997"/>
                    </a:lnTo>
                    <a:lnTo>
                      <a:pt x="3657" y="5274"/>
                    </a:lnTo>
                    <a:lnTo>
                      <a:pt x="4215" y="5062"/>
                    </a:lnTo>
                    <a:lnTo>
                      <a:pt x="4007" y="4442"/>
                    </a:lnTo>
                    <a:lnTo>
                      <a:pt x="4977" y="3887"/>
                    </a:lnTo>
                    <a:lnTo>
                      <a:pt x="5702" y="3854"/>
                    </a:lnTo>
                    <a:lnTo>
                      <a:pt x="6114" y="3397"/>
                    </a:lnTo>
                    <a:lnTo>
                      <a:pt x="5902" y="2502"/>
                    </a:lnTo>
                    <a:lnTo>
                      <a:pt x="6514" y="2232"/>
                    </a:lnTo>
                    <a:lnTo>
                      <a:pt x="7037" y="1134"/>
                    </a:lnTo>
                    <a:lnTo>
                      <a:pt x="6294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9914" h="5915">
                    <a:moveTo>
                      <a:pt x="3557" y="162"/>
                    </a:moveTo>
                    <a:lnTo>
                      <a:pt x="2869" y="654"/>
                    </a:lnTo>
                    <a:lnTo>
                      <a:pt x="2335" y="540"/>
                    </a:lnTo>
                    <a:lnTo>
                      <a:pt x="1322" y="785"/>
                    </a:lnTo>
                    <a:lnTo>
                      <a:pt x="435" y="817"/>
                    </a:lnTo>
                    <a:lnTo>
                      <a:pt x="0" y="1570"/>
                    </a:lnTo>
                    <a:lnTo>
                      <a:pt x="227" y="1814"/>
                    </a:lnTo>
                    <a:lnTo>
                      <a:pt x="577" y="1634"/>
                    </a:lnTo>
                    <a:lnTo>
                      <a:pt x="1074" y="1717"/>
                    </a:lnTo>
                    <a:lnTo>
                      <a:pt x="1259" y="2125"/>
                    </a:lnTo>
                    <a:lnTo>
                      <a:pt x="867" y="2550"/>
                    </a:lnTo>
                    <a:lnTo>
                      <a:pt x="1322" y="2859"/>
                    </a:lnTo>
                    <a:lnTo>
                      <a:pt x="1817" y="2762"/>
                    </a:lnTo>
                    <a:lnTo>
                      <a:pt x="2252" y="3039"/>
                    </a:lnTo>
                    <a:lnTo>
                      <a:pt x="3139" y="3072"/>
                    </a:lnTo>
                    <a:lnTo>
                      <a:pt x="4027" y="3562"/>
                    </a:lnTo>
                    <a:lnTo>
                      <a:pt x="4234" y="4182"/>
                    </a:lnTo>
                    <a:lnTo>
                      <a:pt x="4047" y="5295"/>
                    </a:lnTo>
                    <a:lnTo>
                      <a:pt x="4234" y="5670"/>
                    </a:lnTo>
                    <a:lnTo>
                      <a:pt x="5329" y="5604"/>
                    </a:lnTo>
                    <a:lnTo>
                      <a:pt x="5722" y="5915"/>
                    </a:lnTo>
                    <a:lnTo>
                      <a:pt x="6484" y="5115"/>
                    </a:lnTo>
                    <a:lnTo>
                      <a:pt x="6342" y="4542"/>
                    </a:lnTo>
                    <a:lnTo>
                      <a:pt x="7044" y="4182"/>
                    </a:lnTo>
                    <a:lnTo>
                      <a:pt x="7539" y="4297"/>
                    </a:lnTo>
                    <a:lnTo>
                      <a:pt x="8199" y="4037"/>
                    </a:lnTo>
                    <a:lnTo>
                      <a:pt x="8512" y="2935"/>
                    </a:lnTo>
                    <a:lnTo>
                      <a:pt x="9107" y="2305"/>
                    </a:lnTo>
                    <a:lnTo>
                      <a:pt x="9914" y="2239"/>
                    </a:lnTo>
                    <a:lnTo>
                      <a:pt x="9769" y="1832"/>
                    </a:lnTo>
                    <a:lnTo>
                      <a:pt x="9172" y="1407"/>
                    </a:lnTo>
                    <a:lnTo>
                      <a:pt x="9542" y="525"/>
                    </a:lnTo>
                    <a:lnTo>
                      <a:pt x="8974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14330" h="7767">
                    <a:moveTo>
                      <a:pt x="202" y="0"/>
                    </a:moveTo>
                    <a:lnTo>
                      <a:pt x="332" y="820"/>
                    </a:lnTo>
                    <a:lnTo>
                      <a:pt x="0" y="1665"/>
                    </a:lnTo>
                    <a:lnTo>
                      <a:pt x="207" y="3052"/>
                    </a:lnTo>
                    <a:lnTo>
                      <a:pt x="1032" y="3787"/>
                    </a:lnTo>
                    <a:lnTo>
                      <a:pt x="2202" y="4250"/>
                    </a:lnTo>
                    <a:lnTo>
                      <a:pt x="3599" y="4127"/>
                    </a:lnTo>
                    <a:lnTo>
                      <a:pt x="4387" y="4850"/>
                    </a:lnTo>
                    <a:lnTo>
                      <a:pt x="4132" y="5315"/>
                    </a:lnTo>
                    <a:lnTo>
                      <a:pt x="2839" y="5355"/>
                    </a:lnTo>
                    <a:lnTo>
                      <a:pt x="2277" y="5052"/>
                    </a:lnTo>
                    <a:lnTo>
                      <a:pt x="1847" y="5355"/>
                    </a:lnTo>
                    <a:lnTo>
                      <a:pt x="2384" y="6310"/>
                    </a:lnTo>
                    <a:lnTo>
                      <a:pt x="2432" y="7262"/>
                    </a:lnTo>
                    <a:lnTo>
                      <a:pt x="3777" y="7767"/>
                    </a:lnTo>
                    <a:lnTo>
                      <a:pt x="4109" y="7305"/>
                    </a:lnTo>
                    <a:lnTo>
                      <a:pt x="5192" y="6992"/>
                    </a:lnTo>
                    <a:lnTo>
                      <a:pt x="6524" y="7405"/>
                    </a:lnTo>
                    <a:lnTo>
                      <a:pt x="8054" y="7030"/>
                    </a:lnTo>
                    <a:lnTo>
                      <a:pt x="8607" y="7305"/>
                    </a:lnTo>
                    <a:lnTo>
                      <a:pt x="9652" y="6620"/>
                    </a:lnTo>
                    <a:lnTo>
                      <a:pt x="10312" y="5777"/>
                    </a:lnTo>
                    <a:lnTo>
                      <a:pt x="10922" y="5795"/>
                    </a:lnTo>
                    <a:lnTo>
                      <a:pt x="11384" y="6112"/>
                    </a:lnTo>
                    <a:lnTo>
                      <a:pt x="12537" y="5355"/>
                    </a:lnTo>
                    <a:lnTo>
                      <a:pt x="13509" y="5462"/>
                    </a:lnTo>
                    <a:lnTo>
                      <a:pt x="14330" y="5172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13780" h="6899">
                    <a:moveTo>
                      <a:pt x="599" y="0"/>
                    </a:moveTo>
                    <a:lnTo>
                      <a:pt x="0" y="840"/>
                    </a:lnTo>
                    <a:lnTo>
                      <a:pt x="204" y="2052"/>
                    </a:lnTo>
                    <a:lnTo>
                      <a:pt x="606" y="2182"/>
                    </a:lnTo>
                    <a:lnTo>
                      <a:pt x="1182" y="2717"/>
                    </a:lnTo>
                    <a:lnTo>
                      <a:pt x="1389" y="3602"/>
                    </a:lnTo>
                    <a:lnTo>
                      <a:pt x="2096" y="3746"/>
                    </a:lnTo>
                    <a:lnTo>
                      <a:pt x="3145" y="3372"/>
                    </a:lnTo>
                    <a:lnTo>
                      <a:pt x="3266" y="3732"/>
                    </a:lnTo>
                    <a:lnTo>
                      <a:pt x="4052" y="3782"/>
                    </a:lnTo>
                    <a:lnTo>
                      <a:pt x="4655" y="4662"/>
                    </a:lnTo>
                    <a:lnTo>
                      <a:pt x="4170" y="5415"/>
                    </a:lnTo>
                    <a:lnTo>
                      <a:pt x="3270" y="5542"/>
                    </a:lnTo>
                    <a:lnTo>
                      <a:pt x="2478" y="5429"/>
                    </a:lnTo>
                    <a:lnTo>
                      <a:pt x="2257" y="5609"/>
                    </a:lnTo>
                    <a:lnTo>
                      <a:pt x="2520" y="6037"/>
                    </a:lnTo>
                    <a:lnTo>
                      <a:pt x="2478" y="6345"/>
                    </a:lnTo>
                    <a:lnTo>
                      <a:pt x="2842" y="6900"/>
                    </a:lnTo>
                    <a:lnTo>
                      <a:pt x="4152" y="6557"/>
                    </a:lnTo>
                    <a:lnTo>
                      <a:pt x="4312" y="6230"/>
                    </a:lnTo>
                    <a:lnTo>
                      <a:pt x="4737" y="6377"/>
                    </a:lnTo>
                    <a:lnTo>
                      <a:pt x="5845" y="6120"/>
                    </a:lnTo>
                    <a:lnTo>
                      <a:pt x="6106" y="6784"/>
                    </a:lnTo>
                    <a:lnTo>
                      <a:pt x="7174" y="6352"/>
                    </a:lnTo>
                    <a:lnTo>
                      <a:pt x="8160" y="6477"/>
                    </a:lnTo>
                    <a:lnTo>
                      <a:pt x="8805" y="6067"/>
                    </a:lnTo>
                    <a:lnTo>
                      <a:pt x="8985" y="5202"/>
                    </a:lnTo>
                    <a:lnTo>
                      <a:pt x="10032" y="5217"/>
                    </a:lnTo>
                    <a:lnTo>
                      <a:pt x="10175" y="4809"/>
                    </a:lnTo>
                    <a:lnTo>
                      <a:pt x="10597" y="4827"/>
                    </a:lnTo>
                    <a:lnTo>
                      <a:pt x="11162" y="5235"/>
                    </a:lnTo>
                    <a:lnTo>
                      <a:pt x="12090" y="4534"/>
                    </a:lnTo>
                    <a:lnTo>
                      <a:pt x="13061" y="4462"/>
                    </a:lnTo>
                    <a:lnTo>
                      <a:pt x="13417" y="3926"/>
                    </a:lnTo>
                    <a:lnTo>
                      <a:pt x="13780" y="3962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1974" h="2972">
                    <a:moveTo>
                      <a:pt x="346" y="0"/>
                    </a:moveTo>
                    <a:lnTo>
                      <a:pt x="525" y="582"/>
                    </a:lnTo>
                    <a:lnTo>
                      <a:pt x="397" y="1607"/>
                    </a:lnTo>
                    <a:lnTo>
                      <a:pt x="1134" y="1927"/>
                    </a:lnTo>
                    <a:lnTo>
                      <a:pt x="1512" y="2615"/>
                    </a:lnTo>
                    <a:lnTo>
                      <a:pt x="1974" y="2972"/>
                    </a:lnTo>
                    <a:lnTo>
                      <a:pt x="1349" y="2777"/>
                    </a:lnTo>
                    <a:lnTo>
                      <a:pt x="906" y="2207"/>
                    </a:lnTo>
                    <a:lnTo>
                      <a:pt x="346" y="2130"/>
                    </a:lnTo>
                    <a:lnTo>
                      <a:pt x="0" y="1247"/>
                    </a:lnTo>
                    <a:lnTo>
                      <a:pt x="120" y="522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1447" h="2792">
                    <a:moveTo>
                      <a:pt x="0" y="0"/>
                    </a:moveTo>
                    <a:lnTo>
                      <a:pt x="320" y="819"/>
                    </a:lnTo>
                    <a:lnTo>
                      <a:pt x="22" y="1647"/>
                    </a:lnTo>
                    <a:lnTo>
                      <a:pt x="99" y="1907"/>
                    </a:lnTo>
                    <a:lnTo>
                      <a:pt x="585" y="1847"/>
                    </a:lnTo>
                    <a:lnTo>
                      <a:pt x="860" y="2637"/>
                    </a:lnTo>
                    <a:lnTo>
                      <a:pt x="1447" y="2792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6177" h="5990">
                    <a:moveTo>
                      <a:pt x="2794" y="0"/>
                    </a:moveTo>
                    <a:lnTo>
                      <a:pt x="2947" y="562"/>
                    </a:lnTo>
                    <a:lnTo>
                      <a:pt x="3482" y="847"/>
                    </a:lnTo>
                    <a:lnTo>
                      <a:pt x="3509" y="1370"/>
                    </a:lnTo>
                    <a:lnTo>
                      <a:pt x="3354" y="1830"/>
                    </a:lnTo>
                    <a:lnTo>
                      <a:pt x="3584" y="2312"/>
                    </a:lnTo>
                    <a:lnTo>
                      <a:pt x="3637" y="2772"/>
                    </a:lnTo>
                    <a:lnTo>
                      <a:pt x="3277" y="2855"/>
                    </a:lnTo>
                    <a:lnTo>
                      <a:pt x="2314" y="3460"/>
                    </a:lnTo>
                    <a:lnTo>
                      <a:pt x="2437" y="3640"/>
                    </a:lnTo>
                    <a:lnTo>
                      <a:pt x="2389" y="4060"/>
                    </a:lnTo>
                    <a:lnTo>
                      <a:pt x="1954" y="4542"/>
                    </a:lnTo>
                    <a:lnTo>
                      <a:pt x="1347" y="4945"/>
                    </a:lnTo>
                    <a:lnTo>
                      <a:pt x="380" y="5065"/>
                    </a:lnTo>
                    <a:lnTo>
                      <a:pt x="47" y="5627"/>
                    </a:lnTo>
                    <a:lnTo>
                      <a:pt x="0" y="5990"/>
                    </a:lnTo>
                    <a:lnTo>
                      <a:pt x="532" y="5447"/>
                    </a:lnTo>
                    <a:lnTo>
                      <a:pt x="1572" y="5225"/>
                    </a:lnTo>
                    <a:lnTo>
                      <a:pt x="2234" y="4765"/>
                    </a:lnTo>
                    <a:lnTo>
                      <a:pt x="3074" y="4965"/>
                    </a:lnTo>
                    <a:lnTo>
                      <a:pt x="4169" y="4765"/>
                    </a:lnTo>
                    <a:lnTo>
                      <a:pt x="4957" y="4362"/>
                    </a:lnTo>
                    <a:lnTo>
                      <a:pt x="5034" y="4000"/>
                    </a:lnTo>
                    <a:lnTo>
                      <a:pt x="5592" y="3740"/>
                    </a:lnTo>
                    <a:lnTo>
                      <a:pt x="5897" y="3880"/>
                    </a:lnTo>
                    <a:lnTo>
                      <a:pt x="6177" y="369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3497" h="3372">
                    <a:moveTo>
                      <a:pt x="1549" y="387"/>
                    </a:moveTo>
                    <a:lnTo>
                      <a:pt x="1052" y="387"/>
                    </a:lnTo>
                    <a:lnTo>
                      <a:pt x="512" y="1267"/>
                    </a:lnTo>
                    <a:lnTo>
                      <a:pt x="0" y="1682"/>
                    </a:lnTo>
                    <a:lnTo>
                      <a:pt x="1217" y="1957"/>
                    </a:lnTo>
                    <a:lnTo>
                      <a:pt x="1062" y="2522"/>
                    </a:lnTo>
                    <a:lnTo>
                      <a:pt x="1542" y="2715"/>
                    </a:lnTo>
                    <a:lnTo>
                      <a:pt x="1244" y="3372"/>
                    </a:lnTo>
                    <a:lnTo>
                      <a:pt x="2402" y="2587"/>
                    </a:lnTo>
                    <a:lnTo>
                      <a:pt x="2315" y="1940"/>
                    </a:lnTo>
                    <a:lnTo>
                      <a:pt x="2952" y="1872"/>
                    </a:lnTo>
                    <a:lnTo>
                      <a:pt x="3497" y="1502"/>
                    </a:lnTo>
                    <a:lnTo>
                      <a:pt x="3287" y="1040"/>
                    </a:lnTo>
                    <a:lnTo>
                      <a:pt x="3352" y="490"/>
                    </a:lnTo>
                    <a:lnTo>
                      <a:pt x="2927" y="410"/>
                    </a:lnTo>
                    <a:lnTo>
                      <a:pt x="2319" y="0"/>
                    </a:lnTo>
                    <a:lnTo>
                      <a:pt x="1549" y="387"/>
                    </a:lnTo>
                    <a:lnTo>
                      <a:pt x="1549" y="387"/>
                    </a:lnTo>
                    <a:lnTo>
                      <a:pt x="1549" y="387"/>
                    </a:lnTo>
                    <a:lnTo>
                      <a:pt x="1549" y="387"/>
                    </a:lnTo>
                    <a:lnTo>
                      <a:pt x="1549" y="387"/>
                    </a:lnTo>
                    <a:lnTo>
                      <a:pt x="1549" y="387"/>
                    </a:lnTo>
                    <a:lnTo>
                      <a:pt x="1549" y="387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3139" h="2024">
                    <a:moveTo>
                      <a:pt x="1796" y="457"/>
                    </a:moveTo>
                    <a:lnTo>
                      <a:pt x="1899" y="82"/>
                    </a:lnTo>
                    <a:lnTo>
                      <a:pt x="2209" y="0"/>
                    </a:lnTo>
                    <a:lnTo>
                      <a:pt x="2457" y="194"/>
                    </a:lnTo>
                    <a:lnTo>
                      <a:pt x="2705" y="619"/>
                    </a:lnTo>
                    <a:lnTo>
                      <a:pt x="3139" y="571"/>
                    </a:lnTo>
                    <a:lnTo>
                      <a:pt x="3120" y="896"/>
                    </a:lnTo>
                    <a:lnTo>
                      <a:pt x="2539" y="1076"/>
                    </a:lnTo>
                    <a:lnTo>
                      <a:pt x="2197" y="1042"/>
                    </a:lnTo>
                    <a:lnTo>
                      <a:pt x="1796" y="1201"/>
                    </a:lnTo>
                    <a:lnTo>
                      <a:pt x="1477" y="1582"/>
                    </a:lnTo>
                    <a:lnTo>
                      <a:pt x="1057" y="1342"/>
                    </a:lnTo>
                    <a:lnTo>
                      <a:pt x="638" y="2024"/>
                    </a:lnTo>
                    <a:lnTo>
                      <a:pt x="165" y="1909"/>
                    </a:lnTo>
                    <a:lnTo>
                      <a:pt x="0" y="1501"/>
                    </a:lnTo>
                    <a:lnTo>
                      <a:pt x="392" y="1207"/>
                    </a:lnTo>
                    <a:lnTo>
                      <a:pt x="619" y="702"/>
                    </a:lnTo>
                    <a:lnTo>
                      <a:pt x="1094" y="374"/>
                    </a:lnTo>
                    <a:lnTo>
                      <a:pt x="1796" y="472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7120" h="1969">
                    <a:moveTo>
                      <a:pt x="7094" y="39"/>
                    </a:moveTo>
                    <a:lnTo>
                      <a:pt x="6232" y="0"/>
                    </a:lnTo>
                    <a:lnTo>
                      <a:pt x="5694" y="202"/>
                    </a:lnTo>
                    <a:lnTo>
                      <a:pt x="4839" y="109"/>
                    </a:lnTo>
                    <a:lnTo>
                      <a:pt x="4347" y="885"/>
                    </a:lnTo>
                    <a:lnTo>
                      <a:pt x="3999" y="529"/>
                    </a:lnTo>
                    <a:lnTo>
                      <a:pt x="3379" y="769"/>
                    </a:lnTo>
                    <a:lnTo>
                      <a:pt x="3612" y="1287"/>
                    </a:lnTo>
                    <a:lnTo>
                      <a:pt x="2679" y="1030"/>
                    </a:lnTo>
                    <a:lnTo>
                      <a:pt x="2219" y="1349"/>
                    </a:lnTo>
                    <a:lnTo>
                      <a:pt x="0" y="1649"/>
                    </a:lnTo>
                    <a:lnTo>
                      <a:pt x="720" y="1969"/>
                    </a:lnTo>
                    <a:lnTo>
                      <a:pt x="2599" y="1690"/>
                    </a:lnTo>
                    <a:lnTo>
                      <a:pt x="3179" y="1870"/>
                    </a:lnTo>
                    <a:lnTo>
                      <a:pt x="5239" y="1727"/>
                    </a:lnTo>
                    <a:lnTo>
                      <a:pt x="5799" y="1870"/>
                    </a:lnTo>
                    <a:lnTo>
                      <a:pt x="6139" y="1489"/>
                    </a:lnTo>
                    <a:lnTo>
                      <a:pt x="6779" y="1789"/>
                    </a:lnTo>
                    <a:lnTo>
                      <a:pt x="6789" y="847"/>
                    </a:lnTo>
                    <a:lnTo>
                      <a:pt x="7120" y="645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797" h="2135">
                    <a:moveTo>
                      <a:pt x="0" y="0"/>
                    </a:moveTo>
                    <a:lnTo>
                      <a:pt x="264" y="780"/>
                    </a:lnTo>
                    <a:lnTo>
                      <a:pt x="264" y="1584"/>
                    </a:lnTo>
                    <a:lnTo>
                      <a:pt x="670" y="2135"/>
                    </a:lnTo>
                    <a:lnTo>
                      <a:pt x="695" y="1442"/>
                    </a:lnTo>
                    <a:lnTo>
                      <a:pt x="595" y="997"/>
                    </a:lnTo>
                    <a:lnTo>
                      <a:pt x="797" y="60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1615" h="980">
                    <a:moveTo>
                      <a:pt x="1260" y="0"/>
                    </a:moveTo>
                    <a:lnTo>
                      <a:pt x="800" y="151"/>
                    </a:lnTo>
                    <a:lnTo>
                      <a:pt x="595" y="271"/>
                    </a:lnTo>
                    <a:lnTo>
                      <a:pt x="360" y="540"/>
                    </a:lnTo>
                    <a:lnTo>
                      <a:pt x="0" y="980"/>
                    </a:lnTo>
                    <a:lnTo>
                      <a:pt x="900" y="656"/>
                    </a:lnTo>
                    <a:lnTo>
                      <a:pt x="1080" y="455"/>
                    </a:lnTo>
                    <a:lnTo>
                      <a:pt x="1615" y="355"/>
                    </a:lnTo>
                    <a:lnTo>
                      <a:pt x="1260" y="0"/>
                    </a:lnTo>
                    <a:lnTo>
                      <a:pt x="1260" y="0"/>
                    </a:lnTo>
                    <a:lnTo>
                      <a:pt x="1260" y="0"/>
                    </a:lnTo>
                    <a:lnTo>
                      <a:pt x="1260" y="0"/>
                    </a:lnTo>
                    <a:lnTo>
                      <a:pt x="1260" y="0"/>
                    </a:lnTo>
                    <a:lnTo>
                      <a:pt x="1260" y="0"/>
                    </a:lnTo>
                    <a:lnTo>
                      <a:pt x="1260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6839" h="4799">
                    <a:moveTo>
                      <a:pt x="0" y="0"/>
                    </a:moveTo>
                    <a:lnTo>
                      <a:pt x="239" y="840"/>
                    </a:lnTo>
                    <a:lnTo>
                      <a:pt x="959" y="960"/>
                    </a:lnTo>
                    <a:lnTo>
                      <a:pt x="1439" y="1800"/>
                    </a:lnTo>
                    <a:lnTo>
                      <a:pt x="1319" y="2400"/>
                    </a:lnTo>
                    <a:lnTo>
                      <a:pt x="1679" y="2760"/>
                    </a:lnTo>
                    <a:lnTo>
                      <a:pt x="1439" y="3480"/>
                    </a:lnTo>
                    <a:lnTo>
                      <a:pt x="1559" y="4080"/>
                    </a:lnTo>
                    <a:lnTo>
                      <a:pt x="3719" y="4680"/>
                    </a:lnTo>
                    <a:lnTo>
                      <a:pt x="4199" y="4320"/>
                    </a:lnTo>
                    <a:lnTo>
                      <a:pt x="5519" y="4320"/>
                    </a:lnTo>
                    <a:lnTo>
                      <a:pt x="5759" y="4080"/>
                    </a:lnTo>
                    <a:lnTo>
                      <a:pt x="6839" y="4680"/>
                    </a:lnTo>
                    <a:lnTo>
                      <a:pt x="6599" y="4800"/>
                    </a:lnTo>
                    <a:lnTo>
                      <a:pt x="5759" y="4560"/>
                    </a:lnTo>
                    <a:lnTo>
                      <a:pt x="5399" y="4680"/>
                    </a:lnTo>
                    <a:lnTo>
                      <a:pt x="4079" y="4800"/>
                    </a:lnTo>
                    <a:lnTo>
                      <a:pt x="3599" y="4800"/>
                    </a:lnTo>
                    <a:lnTo>
                      <a:pt x="1199" y="4560"/>
                    </a:lnTo>
                    <a:lnTo>
                      <a:pt x="479" y="4680"/>
                    </a:lnTo>
                    <a:lnTo>
                      <a:pt x="239" y="4200"/>
                    </a:lnTo>
                    <a:lnTo>
                      <a:pt x="719" y="3600"/>
                    </a:lnTo>
                    <a:lnTo>
                      <a:pt x="839" y="2760"/>
                    </a:lnTo>
                    <a:lnTo>
                      <a:pt x="359" y="2160"/>
                    </a:lnTo>
                    <a:lnTo>
                      <a:pt x="599" y="1560"/>
                    </a:lnTo>
                    <a:lnTo>
                      <a:pt x="119" y="13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101160" y="6165720"/>
                <a:ext cx="1173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3280" y="6160680"/>
                <a:ext cx="120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9000" y="6153120"/>
                <a:ext cx="1191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640" y="6166080"/>
                <a:ext cx="111240" cy="219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8360" y="6172200"/>
                <a:ext cx="10944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0840" y="6170400"/>
                <a:ext cx="111240" cy="219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6920" y="6170040"/>
                <a:ext cx="109440" cy="208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7440" y="6143400"/>
                <a:ext cx="10944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32080" y="6149160"/>
                <a:ext cx="106560" cy="223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160" y="6154560"/>
                <a:ext cx="109440" cy="208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8400" y="6161040"/>
                <a:ext cx="111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22240" y="6081480"/>
                <a:ext cx="96840" cy="144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120" y="608472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240" y="610848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800" y="6112440"/>
                <a:ext cx="103320" cy="223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3720" y="597204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5840" y="600048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3000" y="6019560"/>
                <a:ext cx="986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240" y="603864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7920" y="5845320"/>
                <a:ext cx="10332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8320" y="5870520"/>
                <a:ext cx="98640" cy="223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3680" y="5898960"/>
                <a:ext cx="10008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9400" y="5927760"/>
                <a:ext cx="98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0320" y="5756400"/>
                <a:ext cx="110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50720" y="5784480"/>
                <a:ext cx="98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450" h="377">
                    <a:moveTo>
                      <a:pt x="0" y="360"/>
                    </a:moveTo>
                    <a:lnTo>
                      <a:pt x="70" y="367"/>
                    </a:lnTo>
                    <a:lnTo>
                      <a:pt x="160" y="114"/>
                    </a:lnTo>
                    <a:lnTo>
                      <a:pt x="235" y="377"/>
                    </a:lnTo>
                    <a:lnTo>
                      <a:pt x="322" y="377"/>
                    </a:lnTo>
                    <a:lnTo>
                      <a:pt x="450" y="22"/>
                    </a:lnTo>
                    <a:lnTo>
                      <a:pt x="370" y="24"/>
                    </a:lnTo>
                    <a:lnTo>
                      <a:pt x="280" y="280"/>
                    </a:lnTo>
                    <a:lnTo>
                      <a:pt x="197" y="0"/>
                    </a:lnTo>
                    <a:lnTo>
                      <a:pt x="120" y="0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0" y="3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1440" y="3924000"/>
                <a:ext cx="12852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9240" y="3947400"/>
                <a:ext cx="127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2080" y="3850560"/>
                <a:ext cx="117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920" y="3865320"/>
                <a:ext cx="120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30200" y="3874680"/>
                <a:ext cx="127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800" y="3893760"/>
                <a:ext cx="129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4280" y="38070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6040" y="3812400"/>
                <a:ext cx="117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5360" y="3822480"/>
                <a:ext cx="1173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000" y="3827160"/>
                <a:ext cx="120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8120" y="3801600"/>
                <a:ext cx="111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7440" y="3798720"/>
                <a:ext cx="12240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6760" y="3795480"/>
                <a:ext cx="1173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2480" y="3795120"/>
                <a:ext cx="120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3400" y="3831480"/>
                <a:ext cx="111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720" y="3823920"/>
                <a:ext cx="1076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920" y="3817800"/>
                <a:ext cx="1080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2800" y="3809520"/>
                <a:ext cx="111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6520" y="3901320"/>
                <a:ext cx="101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9080" y="3887640"/>
                <a:ext cx="986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720" y="387180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6560" y="3854160"/>
                <a:ext cx="1080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7920" y="404604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1520" y="399708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5800" y="397800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9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7600" y="3939480"/>
                <a:ext cx="101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6480" y="3787560"/>
                <a:ext cx="24588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160" y="3857040"/>
                <a:ext cx="2667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509" h="299">
                    <a:moveTo>
                      <a:pt x="420" y="300"/>
                    </a:moveTo>
                    <a:lnTo>
                      <a:pt x="510" y="28"/>
                    </a:lnTo>
                    <a:lnTo>
                      <a:pt x="105" y="0"/>
                    </a:lnTo>
                    <a:lnTo>
                      <a:pt x="0" y="268"/>
                    </a:lnTo>
                    <a:lnTo>
                      <a:pt x="75" y="285"/>
                    </a:lnTo>
                    <a:lnTo>
                      <a:pt x="150" y="74"/>
                    </a:lnTo>
                    <a:lnTo>
                      <a:pt x="255" y="88"/>
                    </a:lnTo>
                    <a:lnTo>
                      <a:pt x="195" y="268"/>
                    </a:lnTo>
                    <a:lnTo>
                      <a:pt x="255" y="268"/>
                    </a:lnTo>
                    <a:lnTo>
                      <a:pt x="330" y="88"/>
                    </a:lnTo>
                    <a:lnTo>
                      <a:pt x="405" y="88"/>
                    </a:lnTo>
                    <a:lnTo>
                      <a:pt x="345" y="285"/>
                    </a:lnTo>
                    <a:lnTo>
                      <a:pt x="420" y="300"/>
                    </a:lnTo>
                    <a:lnTo>
                      <a:pt x="420" y="300"/>
                    </a:lnTo>
                    <a:lnTo>
                      <a:pt x="420" y="300"/>
                    </a:lnTo>
                    <a:lnTo>
                      <a:pt x="420" y="300"/>
                    </a:lnTo>
                    <a:lnTo>
                      <a:pt x="420" y="300"/>
                    </a:lnTo>
                    <a:lnTo>
                      <a:pt x="420" y="300"/>
                    </a:lnTo>
                    <a:lnTo>
                      <a:pt x="420" y="30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225" h="195">
                    <a:moveTo>
                      <a:pt x="165" y="90"/>
                    </a:moveTo>
                    <a:lnTo>
                      <a:pt x="165" y="90"/>
                    </a:lnTo>
                    <a:lnTo>
                      <a:pt x="45" y="60"/>
                    </a:lnTo>
                    <a:lnTo>
                      <a:pt x="0" y="75"/>
                    </a:lnTo>
                    <a:lnTo>
                      <a:pt x="90" y="195"/>
                    </a:lnTo>
                    <a:lnTo>
                      <a:pt x="120" y="18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180" y="135"/>
                    </a:lnTo>
                    <a:lnTo>
                      <a:pt x="225" y="105"/>
                    </a:lnTo>
                    <a:lnTo>
                      <a:pt x="135" y="0"/>
                    </a:lnTo>
                    <a:lnTo>
                      <a:pt x="105" y="15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65" y="9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252" h="222">
                    <a:moveTo>
                      <a:pt x="135" y="222"/>
                    </a:moveTo>
                    <a:lnTo>
                      <a:pt x="162" y="207"/>
                    </a:lnTo>
                    <a:lnTo>
                      <a:pt x="120" y="87"/>
                    </a:lnTo>
                    <a:lnTo>
                      <a:pt x="222" y="162"/>
                    </a:lnTo>
                    <a:lnTo>
                      <a:pt x="252" y="147"/>
                    </a:lnTo>
                    <a:lnTo>
                      <a:pt x="207" y="0"/>
                    </a:lnTo>
                    <a:lnTo>
                      <a:pt x="177" y="30"/>
                    </a:lnTo>
                    <a:lnTo>
                      <a:pt x="207" y="102"/>
                    </a:lnTo>
                    <a:lnTo>
                      <a:pt x="120" y="57"/>
                    </a:lnTo>
                    <a:lnTo>
                      <a:pt x="90" y="72"/>
                    </a:lnTo>
                    <a:lnTo>
                      <a:pt x="112" y="169"/>
                    </a:lnTo>
                    <a:lnTo>
                      <a:pt x="45" y="102"/>
                    </a:lnTo>
                    <a:lnTo>
                      <a:pt x="0" y="132"/>
                    </a:lnTo>
                    <a:lnTo>
                      <a:pt x="135" y="222"/>
                    </a:lnTo>
                    <a:lnTo>
                      <a:pt x="135" y="222"/>
                    </a:lnTo>
                    <a:lnTo>
                      <a:pt x="135" y="222"/>
                    </a:lnTo>
                    <a:lnTo>
                      <a:pt x="135" y="222"/>
                    </a:lnTo>
                    <a:lnTo>
                      <a:pt x="135" y="222"/>
                    </a:lnTo>
                    <a:lnTo>
                      <a:pt x="135" y="222"/>
                    </a:lnTo>
                    <a:lnTo>
                      <a:pt x="135" y="222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207" h="194">
                    <a:moveTo>
                      <a:pt x="90" y="194"/>
                    </a:moveTo>
                    <a:lnTo>
                      <a:pt x="207" y="120"/>
                    </a:lnTo>
                    <a:lnTo>
                      <a:pt x="135" y="0"/>
                    </a:lnTo>
                    <a:lnTo>
                      <a:pt x="0" y="74"/>
                    </a:lnTo>
                    <a:lnTo>
                      <a:pt x="15" y="89"/>
                    </a:lnTo>
                    <a:lnTo>
                      <a:pt x="105" y="45"/>
                    </a:lnTo>
                    <a:lnTo>
                      <a:pt x="135" y="74"/>
                    </a:lnTo>
                    <a:lnTo>
                      <a:pt x="60" y="120"/>
                    </a:lnTo>
                    <a:lnTo>
                      <a:pt x="75" y="134"/>
                    </a:lnTo>
                    <a:lnTo>
                      <a:pt x="150" y="89"/>
                    </a:lnTo>
                    <a:lnTo>
                      <a:pt x="165" y="120"/>
                    </a:lnTo>
                    <a:lnTo>
                      <a:pt x="75" y="165"/>
                    </a:lnTo>
                    <a:lnTo>
                      <a:pt x="90" y="194"/>
                    </a:lnTo>
                    <a:lnTo>
                      <a:pt x="90" y="194"/>
                    </a:lnTo>
                    <a:lnTo>
                      <a:pt x="90" y="194"/>
                    </a:lnTo>
                    <a:lnTo>
                      <a:pt x="90" y="194"/>
                    </a:lnTo>
                    <a:lnTo>
                      <a:pt x="90" y="194"/>
                    </a:lnTo>
                    <a:lnTo>
                      <a:pt x="90" y="194"/>
                    </a:lnTo>
                    <a:lnTo>
                      <a:pt x="90" y="19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224" h="179">
                    <a:moveTo>
                      <a:pt x="225" y="74"/>
                    </a:moveTo>
                    <a:lnTo>
                      <a:pt x="165" y="0"/>
                    </a:lnTo>
                    <a:lnTo>
                      <a:pt x="0" y="90"/>
                    </a:lnTo>
                    <a:lnTo>
                      <a:pt x="60" y="180"/>
                    </a:lnTo>
                    <a:lnTo>
                      <a:pt x="90" y="164"/>
                    </a:lnTo>
                    <a:lnTo>
                      <a:pt x="45" y="104"/>
                    </a:lnTo>
                    <a:lnTo>
                      <a:pt x="90" y="74"/>
                    </a:lnTo>
                    <a:lnTo>
                      <a:pt x="135" y="134"/>
                    </a:lnTo>
                    <a:lnTo>
                      <a:pt x="150" y="120"/>
                    </a:lnTo>
                    <a:lnTo>
                      <a:pt x="120" y="60"/>
                    </a:lnTo>
                    <a:lnTo>
                      <a:pt x="150" y="30"/>
                    </a:lnTo>
                    <a:lnTo>
                      <a:pt x="195" y="104"/>
                    </a:lnTo>
                    <a:lnTo>
                      <a:pt x="225" y="74"/>
                    </a:lnTo>
                    <a:lnTo>
                      <a:pt x="225" y="74"/>
                    </a:lnTo>
                    <a:lnTo>
                      <a:pt x="225" y="74"/>
                    </a:lnTo>
                    <a:lnTo>
                      <a:pt x="225" y="74"/>
                    </a:lnTo>
                    <a:lnTo>
                      <a:pt x="225" y="74"/>
                    </a:lnTo>
                    <a:lnTo>
                      <a:pt x="225" y="74"/>
                    </a:lnTo>
                    <a:lnTo>
                      <a:pt x="225" y="7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224" h="209">
                    <a:moveTo>
                      <a:pt x="105" y="150"/>
                    </a:moveTo>
                    <a:lnTo>
                      <a:pt x="105" y="150"/>
                    </a:lnTo>
                    <a:lnTo>
                      <a:pt x="180" y="30"/>
                    </a:lnTo>
                    <a:lnTo>
                      <a:pt x="165" y="0"/>
                    </a:lnTo>
                    <a:lnTo>
                      <a:pt x="0" y="102"/>
                    </a:lnTo>
                    <a:lnTo>
                      <a:pt x="15" y="132"/>
                    </a:lnTo>
                    <a:lnTo>
                      <a:pt x="135" y="60"/>
                    </a:lnTo>
                    <a:lnTo>
                      <a:pt x="135" y="60"/>
                    </a:lnTo>
                    <a:lnTo>
                      <a:pt x="45" y="180"/>
                    </a:lnTo>
                    <a:lnTo>
                      <a:pt x="60" y="210"/>
                    </a:lnTo>
                    <a:lnTo>
                      <a:pt x="225" y="102"/>
                    </a:lnTo>
                    <a:lnTo>
                      <a:pt x="210" y="72"/>
                    </a:lnTo>
                    <a:lnTo>
                      <a:pt x="105" y="150"/>
                    </a:lnTo>
                    <a:lnTo>
                      <a:pt x="105" y="150"/>
                    </a:lnTo>
                    <a:lnTo>
                      <a:pt x="105" y="150"/>
                    </a:lnTo>
                    <a:lnTo>
                      <a:pt x="105" y="150"/>
                    </a:lnTo>
                    <a:lnTo>
                      <a:pt x="105" y="150"/>
                    </a:lnTo>
                    <a:lnTo>
                      <a:pt x="105" y="150"/>
                    </a:lnTo>
                    <a:lnTo>
                      <a:pt x="105" y="15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14" h="29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75" h="119">
                    <a:moveTo>
                      <a:pt x="45" y="119"/>
                    </a:moveTo>
                    <a:lnTo>
                      <a:pt x="45" y="119"/>
                    </a:lnTo>
                    <a:lnTo>
                      <a:pt x="75" y="103"/>
                    </a:lnTo>
                    <a:lnTo>
                      <a:pt x="0" y="0"/>
                    </a:lnTo>
                    <a:lnTo>
                      <a:pt x="0" y="59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5" y="11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90" h="165">
                    <a:moveTo>
                      <a:pt x="90" y="0"/>
                    </a:moveTo>
                    <a:lnTo>
                      <a:pt x="60" y="0"/>
                    </a:lnTo>
                    <a:lnTo>
                      <a:pt x="60" y="0"/>
                    </a:lnTo>
                    <a:lnTo>
                      <a:pt x="0" y="90"/>
                    </a:lnTo>
                    <a:lnTo>
                      <a:pt x="0" y="165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359" h="384">
                    <a:moveTo>
                      <a:pt x="0" y="254"/>
                    </a:moveTo>
                    <a:cubicBezTo>
                      <a:pt x="15" y="349"/>
                      <a:pt x="60" y="384"/>
                      <a:pt x="146" y="384"/>
                    </a:cubicBezTo>
                    <a:cubicBezTo>
                      <a:pt x="277" y="380"/>
                      <a:pt x="264" y="324"/>
                      <a:pt x="292" y="300"/>
                    </a:cubicBezTo>
                    <a:cubicBezTo>
                      <a:pt x="296" y="152"/>
                      <a:pt x="210" y="209"/>
                      <a:pt x="152" y="137"/>
                    </a:cubicBezTo>
                    <a:cubicBezTo>
                      <a:pt x="146" y="105"/>
                      <a:pt x="195" y="27"/>
                      <a:pt x="260" y="84"/>
                    </a:cubicBezTo>
                    <a:cubicBezTo>
                      <a:pt x="270" y="102"/>
                      <a:pt x="277" y="127"/>
                      <a:pt x="292" y="132"/>
                    </a:cubicBezTo>
                    <a:cubicBezTo>
                      <a:pt x="307" y="137"/>
                      <a:pt x="360" y="137"/>
                      <a:pt x="352" y="117"/>
                    </a:cubicBezTo>
                    <a:cubicBezTo>
                      <a:pt x="345" y="97"/>
                      <a:pt x="315" y="12"/>
                      <a:pt x="242" y="4"/>
                    </a:cubicBezTo>
                    <a:cubicBezTo>
                      <a:pt x="191" y="0"/>
                      <a:pt x="120" y="0"/>
                      <a:pt x="90" y="82"/>
                    </a:cubicBezTo>
                    <a:cubicBezTo>
                      <a:pt x="32" y="222"/>
                      <a:pt x="206" y="197"/>
                      <a:pt x="225" y="267"/>
                    </a:cubicBezTo>
                    <a:cubicBezTo>
                      <a:pt x="240" y="324"/>
                      <a:pt x="80" y="367"/>
                      <a:pt x="65" y="252"/>
                    </a:cubicBezTo>
                    <a:cubicBezTo>
                      <a:pt x="30" y="260"/>
                      <a:pt x="32" y="244"/>
                      <a:pt x="0" y="254"/>
                    </a:cubicBezTo>
                    <a:lnTo>
                      <a:pt x="0" y="254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2440" y="5637240"/>
                <a:ext cx="108000" cy="107640"/>
              </a:xfrm>
              <a:custGeom>
                <a:avLst/>
                <a:gdLst/>
                <a:ahLst/>
                <a:rect l="l" t="t" r="r" b="b"/>
                <a:pathLst>
                  <a:path w="169" h="169">
                    <a:moveTo>
                      <a:pt x="0" y="112"/>
                    </a:moveTo>
                    <a:cubicBezTo>
                      <a:pt x="7" y="154"/>
                      <a:pt x="29" y="169"/>
                      <a:pt x="69" y="169"/>
                    </a:cubicBezTo>
                    <a:cubicBezTo>
                      <a:pt x="131" y="168"/>
                      <a:pt x="125" y="143"/>
                      <a:pt x="138" y="132"/>
                    </a:cubicBezTo>
                    <a:cubicBezTo>
                      <a:pt x="133" y="51"/>
                      <a:pt x="99" y="92"/>
                      <a:pt x="73" y="60"/>
                    </a:cubicBezTo>
                    <a:cubicBezTo>
                      <a:pt x="69" y="46"/>
                      <a:pt x="92" y="11"/>
                      <a:pt x="122" y="37"/>
                    </a:cubicBezTo>
                    <a:cubicBezTo>
                      <a:pt x="127" y="44"/>
                      <a:pt x="131" y="56"/>
                      <a:pt x="138" y="58"/>
                    </a:cubicBezTo>
                    <a:cubicBezTo>
                      <a:pt x="145" y="60"/>
                      <a:pt x="169" y="60"/>
                      <a:pt x="166" y="51"/>
                    </a:cubicBezTo>
                    <a:cubicBezTo>
                      <a:pt x="162" y="42"/>
                      <a:pt x="148" y="4"/>
                      <a:pt x="114" y="1"/>
                    </a:cubicBezTo>
                    <a:cubicBezTo>
                      <a:pt x="90" y="0"/>
                      <a:pt x="56" y="0"/>
                      <a:pt x="42" y="35"/>
                    </a:cubicBezTo>
                    <a:cubicBezTo>
                      <a:pt x="17" y="97"/>
                      <a:pt x="97" y="86"/>
                      <a:pt x="106" y="117"/>
                    </a:cubicBezTo>
                    <a:cubicBezTo>
                      <a:pt x="113" y="143"/>
                      <a:pt x="40" y="162"/>
                      <a:pt x="33" y="111"/>
                    </a:cubicBezTo>
                    <a:cubicBezTo>
                      <a:pt x="14" y="114"/>
                      <a:pt x="17" y="107"/>
                      <a:pt x="0" y="112"/>
                    </a:cubicBez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870" h="3179">
                    <a:moveTo>
                      <a:pt x="0" y="0"/>
                    </a:moveTo>
                    <a:lnTo>
                      <a:pt x="717" y="1454"/>
                    </a:lnTo>
                    <a:lnTo>
                      <a:pt x="870" y="3180"/>
                    </a:lnTo>
                    <a:lnTo>
                      <a:pt x="135" y="169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1820FBA-BF1E-4FD9-B3D5-EE7BED2E384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7037" h="5274">
                    <a:moveTo>
                      <a:pt x="2374" y="212"/>
                    </a:moveTo>
                    <a:lnTo>
                      <a:pt x="1569" y="1094"/>
                    </a:lnTo>
                    <a:lnTo>
                      <a:pt x="165" y="1177"/>
                    </a:lnTo>
                    <a:lnTo>
                      <a:pt x="0" y="1567"/>
                    </a:lnTo>
                    <a:lnTo>
                      <a:pt x="930" y="2564"/>
                    </a:lnTo>
                    <a:lnTo>
                      <a:pt x="1527" y="2254"/>
                    </a:lnTo>
                    <a:lnTo>
                      <a:pt x="2479" y="2712"/>
                    </a:lnTo>
                    <a:lnTo>
                      <a:pt x="2789" y="3347"/>
                    </a:lnTo>
                    <a:lnTo>
                      <a:pt x="2707" y="3624"/>
                    </a:lnTo>
                    <a:lnTo>
                      <a:pt x="2809" y="4147"/>
                    </a:lnTo>
                    <a:lnTo>
                      <a:pt x="2872" y="4997"/>
                    </a:lnTo>
                    <a:lnTo>
                      <a:pt x="3657" y="5274"/>
                    </a:lnTo>
                    <a:lnTo>
                      <a:pt x="4215" y="5062"/>
                    </a:lnTo>
                    <a:lnTo>
                      <a:pt x="4007" y="4442"/>
                    </a:lnTo>
                    <a:lnTo>
                      <a:pt x="4977" y="3887"/>
                    </a:lnTo>
                    <a:lnTo>
                      <a:pt x="5702" y="3854"/>
                    </a:lnTo>
                    <a:lnTo>
                      <a:pt x="6114" y="3397"/>
                    </a:lnTo>
                    <a:lnTo>
                      <a:pt x="5902" y="2502"/>
                    </a:lnTo>
                    <a:lnTo>
                      <a:pt x="6514" y="2232"/>
                    </a:lnTo>
                    <a:lnTo>
                      <a:pt x="7037" y="1134"/>
                    </a:lnTo>
                    <a:lnTo>
                      <a:pt x="6294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9914" h="5915">
                    <a:moveTo>
                      <a:pt x="3557" y="162"/>
                    </a:moveTo>
                    <a:lnTo>
                      <a:pt x="2869" y="654"/>
                    </a:lnTo>
                    <a:lnTo>
                      <a:pt x="2335" y="540"/>
                    </a:lnTo>
                    <a:lnTo>
                      <a:pt x="1322" y="785"/>
                    </a:lnTo>
                    <a:lnTo>
                      <a:pt x="435" y="817"/>
                    </a:lnTo>
                    <a:lnTo>
                      <a:pt x="0" y="1570"/>
                    </a:lnTo>
                    <a:lnTo>
                      <a:pt x="227" y="1814"/>
                    </a:lnTo>
                    <a:lnTo>
                      <a:pt x="577" y="1634"/>
                    </a:lnTo>
                    <a:lnTo>
                      <a:pt x="1074" y="1717"/>
                    </a:lnTo>
                    <a:lnTo>
                      <a:pt x="1259" y="2125"/>
                    </a:lnTo>
                    <a:lnTo>
                      <a:pt x="867" y="2550"/>
                    </a:lnTo>
                    <a:lnTo>
                      <a:pt x="1322" y="2859"/>
                    </a:lnTo>
                    <a:lnTo>
                      <a:pt x="1817" y="2762"/>
                    </a:lnTo>
                    <a:lnTo>
                      <a:pt x="2252" y="3039"/>
                    </a:lnTo>
                    <a:lnTo>
                      <a:pt x="3139" y="3072"/>
                    </a:lnTo>
                    <a:lnTo>
                      <a:pt x="4027" y="3562"/>
                    </a:lnTo>
                    <a:lnTo>
                      <a:pt x="4234" y="4182"/>
                    </a:lnTo>
                    <a:lnTo>
                      <a:pt x="4047" y="5295"/>
                    </a:lnTo>
                    <a:lnTo>
                      <a:pt x="4234" y="5670"/>
                    </a:lnTo>
                    <a:lnTo>
                      <a:pt x="5329" y="5604"/>
                    </a:lnTo>
                    <a:lnTo>
                      <a:pt x="5722" y="5915"/>
                    </a:lnTo>
                    <a:lnTo>
                      <a:pt x="6484" y="5115"/>
                    </a:lnTo>
                    <a:lnTo>
                      <a:pt x="6342" y="4542"/>
                    </a:lnTo>
                    <a:lnTo>
                      <a:pt x="7044" y="4182"/>
                    </a:lnTo>
                    <a:lnTo>
                      <a:pt x="7539" y="4297"/>
                    </a:lnTo>
                    <a:lnTo>
                      <a:pt x="8199" y="4037"/>
                    </a:lnTo>
                    <a:lnTo>
                      <a:pt x="8512" y="2935"/>
                    </a:lnTo>
                    <a:lnTo>
                      <a:pt x="9107" y="2305"/>
                    </a:lnTo>
                    <a:lnTo>
                      <a:pt x="9914" y="2239"/>
                    </a:lnTo>
                    <a:lnTo>
                      <a:pt x="9769" y="1832"/>
                    </a:lnTo>
                    <a:lnTo>
                      <a:pt x="9172" y="1407"/>
                    </a:lnTo>
                    <a:lnTo>
                      <a:pt x="9542" y="525"/>
                    </a:lnTo>
                    <a:lnTo>
                      <a:pt x="8974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14330" h="7767">
                    <a:moveTo>
                      <a:pt x="202" y="0"/>
                    </a:moveTo>
                    <a:lnTo>
                      <a:pt x="332" y="820"/>
                    </a:lnTo>
                    <a:lnTo>
                      <a:pt x="0" y="1665"/>
                    </a:lnTo>
                    <a:lnTo>
                      <a:pt x="207" y="3052"/>
                    </a:lnTo>
                    <a:lnTo>
                      <a:pt x="1032" y="3787"/>
                    </a:lnTo>
                    <a:lnTo>
                      <a:pt x="2202" y="4250"/>
                    </a:lnTo>
                    <a:lnTo>
                      <a:pt x="3599" y="4127"/>
                    </a:lnTo>
                    <a:lnTo>
                      <a:pt x="4387" y="4850"/>
                    </a:lnTo>
                    <a:lnTo>
                      <a:pt x="4132" y="5315"/>
                    </a:lnTo>
                    <a:lnTo>
                      <a:pt x="2839" y="5355"/>
                    </a:lnTo>
                    <a:lnTo>
                      <a:pt x="2277" y="5052"/>
                    </a:lnTo>
                    <a:lnTo>
                      <a:pt x="1847" y="5355"/>
                    </a:lnTo>
                    <a:lnTo>
                      <a:pt x="2384" y="6310"/>
                    </a:lnTo>
                    <a:lnTo>
                      <a:pt x="2432" y="7262"/>
                    </a:lnTo>
                    <a:lnTo>
                      <a:pt x="3777" y="7767"/>
                    </a:lnTo>
                    <a:lnTo>
                      <a:pt x="4109" y="7305"/>
                    </a:lnTo>
                    <a:lnTo>
                      <a:pt x="5192" y="6992"/>
                    </a:lnTo>
                    <a:lnTo>
                      <a:pt x="6524" y="7405"/>
                    </a:lnTo>
                    <a:lnTo>
                      <a:pt x="8054" y="7030"/>
                    </a:lnTo>
                    <a:lnTo>
                      <a:pt x="8607" y="7305"/>
                    </a:lnTo>
                    <a:lnTo>
                      <a:pt x="9652" y="6620"/>
                    </a:lnTo>
                    <a:lnTo>
                      <a:pt x="10312" y="5777"/>
                    </a:lnTo>
                    <a:lnTo>
                      <a:pt x="10922" y="5795"/>
                    </a:lnTo>
                    <a:lnTo>
                      <a:pt x="11384" y="6112"/>
                    </a:lnTo>
                    <a:lnTo>
                      <a:pt x="12537" y="5355"/>
                    </a:lnTo>
                    <a:lnTo>
                      <a:pt x="13509" y="5462"/>
                    </a:lnTo>
                    <a:lnTo>
                      <a:pt x="14330" y="5172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13780" h="6899">
                    <a:moveTo>
                      <a:pt x="599" y="0"/>
                    </a:moveTo>
                    <a:lnTo>
                      <a:pt x="0" y="840"/>
                    </a:lnTo>
                    <a:lnTo>
                      <a:pt x="204" y="2052"/>
                    </a:lnTo>
                    <a:lnTo>
                      <a:pt x="606" y="2182"/>
                    </a:lnTo>
                    <a:lnTo>
                      <a:pt x="1182" y="2717"/>
                    </a:lnTo>
                    <a:lnTo>
                      <a:pt x="1389" y="3602"/>
                    </a:lnTo>
                    <a:lnTo>
                      <a:pt x="2096" y="3746"/>
                    </a:lnTo>
                    <a:lnTo>
                      <a:pt x="3145" y="3372"/>
                    </a:lnTo>
                    <a:lnTo>
                      <a:pt x="3266" y="3732"/>
                    </a:lnTo>
                    <a:lnTo>
                      <a:pt x="4052" y="3782"/>
                    </a:lnTo>
                    <a:lnTo>
                      <a:pt x="4655" y="4662"/>
                    </a:lnTo>
                    <a:lnTo>
                      <a:pt x="4170" y="5415"/>
                    </a:lnTo>
                    <a:lnTo>
                      <a:pt x="3270" y="5542"/>
                    </a:lnTo>
                    <a:lnTo>
                      <a:pt x="2478" y="5429"/>
                    </a:lnTo>
                    <a:lnTo>
                      <a:pt x="2257" y="5609"/>
                    </a:lnTo>
                    <a:lnTo>
                      <a:pt x="2520" y="6037"/>
                    </a:lnTo>
                    <a:lnTo>
                      <a:pt x="2478" y="6345"/>
                    </a:lnTo>
                    <a:lnTo>
                      <a:pt x="2842" y="6900"/>
                    </a:lnTo>
                    <a:lnTo>
                      <a:pt x="4152" y="6557"/>
                    </a:lnTo>
                    <a:lnTo>
                      <a:pt x="4312" y="6230"/>
                    </a:lnTo>
                    <a:lnTo>
                      <a:pt x="4737" y="6377"/>
                    </a:lnTo>
                    <a:lnTo>
                      <a:pt x="5845" y="6120"/>
                    </a:lnTo>
                    <a:lnTo>
                      <a:pt x="6106" y="6784"/>
                    </a:lnTo>
                    <a:lnTo>
                      <a:pt x="7174" y="6352"/>
                    </a:lnTo>
                    <a:lnTo>
                      <a:pt x="8160" y="6477"/>
                    </a:lnTo>
                    <a:lnTo>
                      <a:pt x="8805" y="6067"/>
                    </a:lnTo>
                    <a:lnTo>
                      <a:pt x="8985" y="5202"/>
                    </a:lnTo>
                    <a:lnTo>
                      <a:pt x="10032" y="5217"/>
                    </a:lnTo>
                    <a:lnTo>
                      <a:pt x="10175" y="4809"/>
                    </a:lnTo>
                    <a:lnTo>
                      <a:pt x="10597" y="4827"/>
                    </a:lnTo>
                    <a:lnTo>
                      <a:pt x="11162" y="5235"/>
                    </a:lnTo>
                    <a:lnTo>
                      <a:pt x="12090" y="4534"/>
                    </a:lnTo>
                    <a:lnTo>
                      <a:pt x="13061" y="4462"/>
                    </a:lnTo>
                    <a:lnTo>
                      <a:pt x="13417" y="3926"/>
                    </a:lnTo>
                    <a:lnTo>
                      <a:pt x="13780" y="3962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1974" h="2972">
                    <a:moveTo>
                      <a:pt x="346" y="0"/>
                    </a:moveTo>
                    <a:lnTo>
                      <a:pt x="525" y="582"/>
                    </a:lnTo>
                    <a:lnTo>
                      <a:pt x="397" y="1607"/>
                    </a:lnTo>
                    <a:lnTo>
                      <a:pt x="1134" y="1927"/>
                    </a:lnTo>
                    <a:lnTo>
                      <a:pt x="1512" y="2615"/>
                    </a:lnTo>
                    <a:lnTo>
                      <a:pt x="1974" y="2972"/>
                    </a:lnTo>
                    <a:lnTo>
                      <a:pt x="1349" y="2777"/>
                    </a:lnTo>
                    <a:lnTo>
                      <a:pt x="906" y="2207"/>
                    </a:lnTo>
                    <a:lnTo>
                      <a:pt x="346" y="2130"/>
                    </a:lnTo>
                    <a:lnTo>
                      <a:pt x="0" y="1247"/>
                    </a:lnTo>
                    <a:lnTo>
                      <a:pt x="120" y="522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1447" h="2792">
                    <a:moveTo>
                      <a:pt x="0" y="0"/>
                    </a:moveTo>
                    <a:lnTo>
                      <a:pt x="320" y="819"/>
                    </a:lnTo>
                    <a:lnTo>
                      <a:pt x="22" y="1647"/>
                    </a:lnTo>
                    <a:lnTo>
                      <a:pt x="99" y="1907"/>
                    </a:lnTo>
                    <a:lnTo>
                      <a:pt x="585" y="1847"/>
                    </a:lnTo>
                    <a:lnTo>
                      <a:pt x="860" y="2637"/>
                    </a:lnTo>
                    <a:lnTo>
                      <a:pt x="1447" y="2792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6177" h="5990">
                    <a:moveTo>
                      <a:pt x="2794" y="0"/>
                    </a:moveTo>
                    <a:lnTo>
                      <a:pt x="2947" y="562"/>
                    </a:lnTo>
                    <a:lnTo>
                      <a:pt x="3482" y="847"/>
                    </a:lnTo>
                    <a:lnTo>
                      <a:pt x="3509" y="1370"/>
                    </a:lnTo>
                    <a:lnTo>
                      <a:pt x="3354" y="1830"/>
                    </a:lnTo>
                    <a:lnTo>
                      <a:pt x="3584" y="2312"/>
                    </a:lnTo>
                    <a:lnTo>
                      <a:pt x="3637" y="2772"/>
                    </a:lnTo>
                    <a:lnTo>
                      <a:pt x="3277" y="2855"/>
                    </a:lnTo>
                    <a:lnTo>
                      <a:pt x="2314" y="3460"/>
                    </a:lnTo>
                    <a:lnTo>
                      <a:pt x="2437" y="3640"/>
                    </a:lnTo>
                    <a:lnTo>
                      <a:pt x="2389" y="4060"/>
                    </a:lnTo>
                    <a:lnTo>
                      <a:pt x="1954" y="4542"/>
                    </a:lnTo>
                    <a:lnTo>
                      <a:pt x="1347" y="4945"/>
                    </a:lnTo>
                    <a:lnTo>
                      <a:pt x="380" y="5065"/>
                    </a:lnTo>
                    <a:lnTo>
                      <a:pt x="47" y="5627"/>
                    </a:lnTo>
                    <a:lnTo>
                      <a:pt x="0" y="5990"/>
                    </a:lnTo>
                    <a:lnTo>
                      <a:pt x="532" y="5447"/>
                    </a:lnTo>
                    <a:lnTo>
                      <a:pt x="1572" y="5225"/>
                    </a:lnTo>
                    <a:lnTo>
                      <a:pt x="2234" y="4765"/>
                    </a:lnTo>
                    <a:lnTo>
                      <a:pt x="3074" y="4965"/>
                    </a:lnTo>
                    <a:lnTo>
                      <a:pt x="4169" y="4765"/>
                    </a:lnTo>
                    <a:lnTo>
                      <a:pt x="4957" y="4362"/>
                    </a:lnTo>
                    <a:lnTo>
                      <a:pt x="5034" y="4000"/>
                    </a:lnTo>
                    <a:lnTo>
                      <a:pt x="5592" y="3740"/>
                    </a:lnTo>
                    <a:lnTo>
                      <a:pt x="5897" y="3880"/>
                    </a:lnTo>
                    <a:lnTo>
                      <a:pt x="6177" y="369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3497" h="3372">
                    <a:moveTo>
                      <a:pt x="1549" y="387"/>
                    </a:moveTo>
                    <a:lnTo>
                      <a:pt x="1052" y="387"/>
                    </a:lnTo>
                    <a:lnTo>
                      <a:pt x="512" y="1267"/>
                    </a:lnTo>
                    <a:lnTo>
                      <a:pt x="0" y="1682"/>
                    </a:lnTo>
                    <a:lnTo>
                      <a:pt x="1217" y="1957"/>
                    </a:lnTo>
                    <a:lnTo>
                      <a:pt x="1062" y="2522"/>
                    </a:lnTo>
                    <a:lnTo>
                      <a:pt x="1542" y="2715"/>
                    </a:lnTo>
                    <a:lnTo>
                      <a:pt x="1244" y="3372"/>
                    </a:lnTo>
                    <a:lnTo>
                      <a:pt x="2402" y="2587"/>
                    </a:lnTo>
                    <a:lnTo>
                      <a:pt x="2315" y="1940"/>
                    </a:lnTo>
                    <a:lnTo>
                      <a:pt x="2952" y="1872"/>
                    </a:lnTo>
                    <a:lnTo>
                      <a:pt x="3497" y="1502"/>
                    </a:lnTo>
                    <a:lnTo>
                      <a:pt x="3287" y="1040"/>
                    </a:lnTo>
                    <a:lnTo>
                      <a:pt x="3352" y="490"/>
                    </a:lnTo>
                    <a:lnTo>
                      <a:pt x="2927" y="410"/>
                    </a:lnTo>
                    <a:lnTo>
                      <a:pt x="2319" y="0"/>
                    </a:lnTo>
                    <a:lnTo>
                      <a:pt x="1549" y="387"/>
                    </a:lnTo>
                    <a:lnTo>
                      <a:pt x="1549" y="387"/>
                    </a:lnTo>
                    <a:lnTo>
                      <a:pt x="1549" y="387"/>
                    </a:lnTo>
                    <a:lnTo>
                      <a:pt x="1549" y="387"/>
                    </a:lnTo>
                    <a:lnTo>
                      <a:pt x="1549" y="387"/>
                    </a:lnTo>
                    <a:lnTo>
                      <a:pt x="1549" y="387"/>
                    </a:lnTo>
                    <a:lnTo>
                      <a:pt x="1549" y="387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3139" h="2024">
                    <a:moveTo>
                      <a:pt x="1796" y="457"/>
                    </a:moveTo>
                    <a:lnTo>
                      <a:pt x="1899" y="82"/>
                    </a:lnTo>
                    <a:lnTo>
                      <a:pt x="2209" y="0"/>
                    </a:lnTo>
                    <a:lnTo>
                      <a:pt x="2457" y="194"/>
                    </a:lnTo>
                    <a:lnTo>
                      <a:pt x="2705" y="619"/>
                    </a:lnTo>
                    <a:lnTo>
                      <a:pt x="3139" y="571"/>
                    </a:lnTo>
                    <a:lnTo>
                      <a:pt x="3120" y="896"/>
                    </a:lnTo>
                    <a:lnTo>
                      <a:pt x="2539" y="1076"/>
                    </a:lnTo>
                    <a:lnTo>
                      <a:pt x="2197" y="1042"/>
                    </a:lnTo>
                    <a:lnTo>
                      <a:pt x="1796" y="1201"/>
                    </a:lnTo>
                    <a:lnTo>
                      <a:pt x="1477" y="1582"/>
                    </a:lnTo>
                    <a:lnTo>
                      <a:pt x="1057" y="1342"/>
                    </a:lnTo>
                    <a:lnTo>
                      <a:pt x="638" y="2024"/>
                    </a:lnTo>
                    <a:lnTo>
                      <a:pt x="165" y="1909"/>
                    </a:lnTo>
                    <a:lnTo>
                      <a:pt x="0" y="1501"/>
                    </a:lnTo>
                    <a:lnTo>
                      <a:pt x="392" y="1207"/>
                    </a:lnTo>
                    <a:lnTo>
                      <a:pt x="619" y="702"/>
                    </a:lnTo>
                    <a:lnTo>
                      <a:pt x="1094" y="374"/>
                    </a:lnTo>
                    <a:lnTo>
                      <a:pt x="1796" y="472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7120" h="1969">
                    <a:moveTo>
                      <a:pt x="7094" y="39"/>
                    </a:moveTo>
                    <a:lnTo>
                      <a:pt x="6232" y="0"/>
                    </a:lnTo>
                    <a:lnTo>
                      <a:pt x="5694" y="202"/>
                    </a:lnTo>
                    <a:lnTo>
                      <a:pt x="4839" y="109"/>
                    </a:lnTo>
                    <a:lnTo>
                      <a:pt x="4347" y="885"/>
                    </a:lnTo>
                    <a:lnTo>
                      <a:pt x="3999" y="529"/>
                    </a:lnTo>
                    <a:lnTo>
                      <a:pt x="3379" y="769"/>
                    </a:lnTo>
                    <a:lnTo>
                      <a:pt x="3612" y="1287"/>
                    </a:lnTo>
                    <a:lnTo>
                      <a:pt x="2679" y="1030"/>
                    </a:lnTo>
                    <a:lnTo>
                      <a:pt x="2219" y="1349"/>
                    </a:lnTo>
                    <a:lnTo>
                      <a:pt x="0" y="1649"/>
                    </a:lnTo>
                    <a:lnTo>
                      <a:pt x="720" y="1969"/>
                    </a:lnTo>
                    <a:lnTo>
                      <a:pt x="2599" y="1690"/>
                    </a:lnTo>
                    <a:lnTo>
                      <a:pt x="3179" y="1870"/>
                    </a:lnTo>
                    <a:lnTo>
                      <a:pt x="5239" y="1727"/>
                    </a:lnTo>
                    <a:lnTo>
                      <a:pt x="5799" y="1870"/>
                    </a:lnTo>
                    <a:lnTo>
                      <a:pt x="6139" y="1489"/>
                    </a:lnTo>
                    <a:lnTo>
                      <a:pt x="6779" y="1789"/>
                    </a:lnTo>
                    <a:lnTo>
                      <a:pt x="6789" y="847"/>
                    </a:lnTo>
                    <a:lnTo>
                      <a:pt x="7120" y="645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797" h="2135">
                    <a:moveTo>
                      <a:pt x="0" y="0"/>
                    </a:moveTo>
                    <a:lnTo>
                      <a:pt x="264" y="780"/>
                    </a:lnTo>
                    <a:lnTo>
                      <a:pt x="264" y="1584"/>
                    </a:lnTo>
                    <a:lnTo>
                      <a:pt x="670" y="2135"/>
                    </a:lnTo>
                    <a:lnTo>
                      <a:pt x="695" y="1442"/>
                    </a:lnTo>
                    <a:lnTo>
                      <a:pt x="595" y="997"/>
                    </a:lnTo>
                    <a:lnTo>
                      <a:pt x="797" y="60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1615" h="980">
                    <a:moveTo>
                      <a:pt x="1260" y="0"/>
                    </a:moveTo>
                    <a:lnTo>
                      <a:pt x="800" y="151"/>
                    </a:lnTo>
                    <a:lnTo>
                      <a:pt x="595" y="271"/>
                    </a:lnTo>
                    <a:lnTo>
                      <a:pt x="360" y="540"/>
                    </a:lnTo>
                    <a:lnTo>
                      <a:pt x="0" y="980"/>
                    </a:lnTo>
                    <a:lnTo>
                      <a:pt x="900" y="656"/>
                    </a:lnTo>
                    <a:lnTo>
                      <a:pt x="1080" y="455"/>
                    </a:lnTo>
                    <a:lnTo>
                      <a:pt x="1615" y="355"/>
                    </a:lnTo>
                    <a:lnTo>
                      <a:pt x="1260" y="0"/>
                    </a:lnTo>
                    <a:lnTo>
                      <a:pt x="1260" y="0"/>
                    </a:lnTo>
                    <a:lnTo>
                      <a:pt x="1260" y="0"/>
                    </a:lnTo>
                    <a:lnTo>
                      <a:pt x="1260" y="0"/>
                    </a:lnTo>
                    <a:lnTo>
                      <a:pt x="1260" y="0"/>
                    </a:lnTo>
                    <a:lnTo>
                      <a:pt x="1260" y="0"/>
                    </a:lnTo>
                    <a:lnTo>
                      <a:pt x="1260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6839" h="4799">
                    <a:moveTo>
                      <a:pt x="0" y="0"/>
                    </a:moveTo>
                    <a:lnTo>
                      <a:pt x="239" y="840"/>
                    </a:lnTo>
                    <a:lnTo>
                      <a:pt x="959" y="960"/>
                    </a:lnTo>
                    <a:lnTo>
                      <a:pt x="1439" y="1800"/>
                    </a:lnTo>
                    <a:lnTo>
                      <a:pt x="1319" y="2400"/>
                    </a:lnTo>
                    <a:lnTo>
                      <a:pt x="1679" y="2760"/>
                    </a:lnTo>
                    <a:lnTo>
                      <a:pt x="1439" y="3480"/>
                    </a:lnTo>
                    <a:lnTo>
                      <a:pt x="1559" y="4080"/>
                    </a:lnTo>
                    <a:lnTo>
                      <a:pt x="3719" y="4680"/>
                    </a:lnTo>
                    <a:lnTo>
                      <a:pt x="4199" y="4320"/>
                    </a:lnTo>
                    <a:lnTo>
                      <a:pt x="5519" y="4320"/>
                    </a:lnTo>
                    <a:lnTo>
                      <a:pt x="5759" y="4080"/>
                    </a:lnTo>
                    <a:lnTo>
                      <a:pt x="6839" y="4680"/>
                    </a:lnTo>
                    <a:lnTo>
                      <a:pt x="6599" y="4800"/>
                    </a:lnTo>
                    <a:lnTo>
                      <a:pt x="5759" y="4560"/>
                    </a:lnTo>
                    <a:lnTo>
                      <a:pt x="5399" y="4680"/>
                    </a:lnTo>
                    <a:lnTo>
                      <a:pt x="4079" y="4800"/>
                    </a:lnTo>
                    <a:lnTo>
                      <a:pt x="3599" y="4800"/>
                    </a:lnTo>
                    <a:lnTo>
                      <a:pt x="1199" y="4560"/>
                    </a:lnTo>
                    <a:lnTo>
                      <a:pt x="479" y="4680"/>
                    </a:lnTo>
                    <a:lnTo>
                      <a:pt x="239" y="4200"/>
                    </a:lnTo>
                    <a:lnTo>
                      <a:pt x="719" y="3600"/>
                    </a:lnTo>
                    <a:lnTo>
                      <a:pt x="839" y="2760"/>
                    </a:lnTo>
                    <a:lnTo>
                      <a:pt x="359" y="2160"/>
                    </a:lnTo>
                    <a:lnTo>
                      <a:pt x="599" y="1560"/>
                    </a:lnTo>
                    <a:lnTo>
                      <a:pt x="119" y="13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101160" y="6165720"/>
                <a:ext cx="1173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3280" y="6160680"/>
                <a:ext cx="120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9000" y="6153120"/>
                <a:ext cx="1191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640" y="6166080"/>
                <a:ext cx="111240" cy="219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8360" y="6172200"/>
                <a:ext cx="10944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0840" y="6170400"/>
                <a:ext cx="111240" cy="219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6920" y="6170040"/>
                <a:ext cx="109440" cy="208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7440" y="6143400"/>
                <a:ext cx="10944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32080" y="6149160"/>
                <a:ext cx="106560" cy="223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160" y="6154560"/>
                <a:ext cx="109440" cy="208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8400" y="6161040"/>
                <a:ext cx="111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22240" y="6081480"/>
                <a:ext cx="96840" cy="1440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120" y="608472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240" y="610848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800" y="6112440"/>
                <a:ext cx="103320" cy="223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3720" y="597204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5840" y="600048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3000" y="6019560"/>
                <a:ext cx="986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240" y="603864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7920" y="5845320"/>
                <a:ext cx="10332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8320" y="5870520"/>
                <a:ext cx="98640" cy="223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3680" y="5898960"/>
                <a:ext cx="10008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9400" y="5927760"/>
                <a:ext cx="98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0320" y="5756400"/>
                <a:ext cx="110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50720" y="5784480"/>
                <a:ext cx="98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450" h="377">
                    <a:moveTo>
                      <a:pt x="0" y="360"/>
                    </a:moveTo>
                    <a:lnTo>
                      <a:pt x="70" y="367"/>
                    </a:lnTo>
                    <a:lnTo>
                      <a:pt x="160" y="114"/>
                    </a:lnTo>
                    <a:lnTo>
                      <a:pt x="235" y="377"/>
                    </a:lnTo>
                    <a:lnTo>
                      <a:pt x="322" y="377"/>
                    </a:lnTo>
                    <a:lnTo>
                      <a:pt x="450" y="22"/>
                    </a:lnTo>
                    <a:lnTo>
                      <a:pt x="370" y="24"/>
                    </a:lnTo>
                    <a:lnTo>
                      <a:pt x="280" y="280"/>
                    </a:lnTo>
                    <a:lnTo>
                      <a:pt x="197" y="0"/>
                    </a:lnTo>
                    <a:lnTo>
                      <a:pt x="120" y="0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0" y="360"/>
                    </a:lnTo>
                    <a:lnTo>
                      <a:pt x="0" y="3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1440" y="3924000"/>
                <a:ext cx="12852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9240" y="3947400"/>
                <a:ext cx="127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2080" y="3850560"/>
                <a:ext cx="117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920" y="3865320"/>
                <a:ext cx="120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30200" y="3874680"/>
                <a:ext cx="127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800" y="3893760"/>
                <a:ext cx="129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4280" y="38070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6040" y="3812400"/>
                <a:ext cx="117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5360" y="3822480"/>
                <a:ext cx="1173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000" y="3827160"/>
                <a:ext cx="120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8120" y="3801600"/>
                <a:ext cx="111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7440" y="3798720"/>
                <a:ext cx="12240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6760" y="3795480"/>
                <a:ext cx="1173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2480" y="3795120"/>
                <a:ext cx="120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3400" y="3831480"/>
                <a:ext cx="111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720" y="3823920"/>
                <a:ext cx="1076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920" y="3817800"/>
                <a:ext cx="1080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2800" y="3809520"/>
                <a:ext cx="111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6520" y="3901320"/>
                <a:ext cx="101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9080" y="3887640"/>
                <a:ext cx="986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720" y="387180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6560" y="3854160"/>
                <a:ext cx="1080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7920" y="404604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1520" y="399708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5800" y="3978000"/>
                <a:ext cx="101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9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7600" y="3939480"/>
                <a:ext cx="101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6480" y="3787560"/>
                <a:ext cx="245880" cy="205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160" y="3857040"/>
                <a:ext cx="2667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509" h="299">
                    <a:moveTo>
                      <a:pt x="420" y="300"/>
                    </a:moveTo>
                    <a:lnTo>
                      <a:pt x="510" y="28"/>
                    </a:lnTo>
                    <a:lnTo>
                      <a:pt x="105" y="0"/>
                    </a:lnTo>
                    <a:lnTo>
                      <a:pt x="0" y="268"/>
                    </a:lnTo>
                    <a:lnTo>
                      <a:pt x="75" y="285"/>
                    </a:lnTo>
                    <a:lnTo>
                      <a:pt x="150" y="74"/>
                    </a:lnTo>
                    <a:lnTo>
                      <a:pt x="255" y="88"/>
                    </a:lnTo>
                    <a:lnTo>
                      <a:pt x="195" y="268"/>
                    </a:lnTo>
                    <a:lnTo>
                      <a:pt x="255" y="268"/>
                    </a:lnTo>
                    <a:lnTo>
                      <a:pt x="330" y="88"/>
                    </a:lnTo>
                    <a:lnTo>
                      <a:pt x="405" y="88"/>
                    </a:lnTo>
                    <a:lnTo>
                      <a:pt x="345" y="285"/>
                    </a:lnTo>
                    <a:lnTo>
                      <a:pt x="420" y="300"/>
                    </a:lnTo>
                    <a:lnTo>
                      <a:pt x="420" y="300"/>
                    </a:lnTo>
                    <a:lnTo>
                      <a:pt x="420" y="300"/>
                    </a:lnTo>
                    <a:lnTo>
                      <a:pt x="420" y="300"/>
                    </a:lnTo>
                    <a:lnTo>
                      <a:pt x="420" y="300"/>
                    </a:lnTo>
                    <a:lnTo>
                      <a:pt x="420" y="300"/>
                    </a:lnTo>
                    <a:lnTo>
                      <a:pt x="420" y="30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225" h="195">
                    <a:moveTo>
                      <a:pt x="165" y="90"/>
                    </a:moveTo>
                    <a:lnTo>
                      <a:pt x="165" y="90"/>
                    </a:lnTo>
                    <a:lnTo>
                      <a:pt x="45" y="60"/>
                    </a:lnTo>
                    <a:lnTo>
                      <a:pt x="0" y="75"/>
                    </a:lnTo>
                    <a:lnTo>
                      <a:pt x="90" y="195"/>
                    </a:lnTo>
                    <a:lnTo>
                      <a:pt x="120" y="18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180" y="135"/>
                    </a:lnTo>
                    <a:lnTo>
                      <a:pt x="225" y="105"/>
                    </a:lnTo>
                    <a:lnTo>
                      <a:pt x="135" y="0"/>
                    </a:lnTo>
                    <a:lnTo>
                      <a:pt x="105" y="15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65" y="90"/>
                    </a:lnTo>
                    <a:lnTo>
                      <a:pt x="165" y="9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252" h="222">
                    <a:moveTo>
                      <a:pt x="135" y="222"/>
                    </a:moveTo>
                    <a:lnTo>
                      <a:pt x="162" y="207"/>
                    </a:lnTo>
                    <a:lnTo>
                      <a:pt x="120" y="87"/>
                    </a:lnTo>
                    <a:lnTo>
                      <a:pt x="222" y="162"/>
                    </a:lnTo>
                    <a:lnTo>
                      <a:pt x="252" y="147"/>
                    </a:lnTo>
                    <a:lnTo>
                      <a:pt x="207" y="0"/>
                    </a:lnTo>
                    <a:lnTo>
                      <a:pt x="177" y="30"/>
                    </a:lnTo>
                    <a:lnTo>
                      <a:pt x="207" y="102"/>
                    </a:lnTo>
                    <a:lnTo>
                      <a:pt x="120" y="57"/>
                    </a:lnTo>
                    <a:lnTo>
                      <a:pt x="90" y="72"/>
                    </a:lnTo>
                    <a:lnTo>
                      <a:pt x="112" y="169"/>
                    </a:lnTo>
                    <a:lnTo>
                      <a:pt x="45" y="102"/>
                    </a:lnTo>
                    <a:lnTo>
                      <a:pt x="0" y="132"/>
                    </a:lnTo>
                    <a:lnTo>
                      <a:pt x="135" y="222"/>
                    </a:lnTo>
                    <a:lnTo>
                      <a:pt x="135" y="222"/>
                    </a:lnTo>
                    <a:lnTo>
                      <a:pt x="135" y="222"/>
                    </a:lnTo>
                    <a:lnTo>
                      <a:pt x="135" y="222"/>
                    </a:lnTo>
                    <a:lnTo>
                      <a:pt x="135" y="222"/>
                    </a:lnTo>
                    <a:lnTo>
                      <a:pt x="135" y="222"/>
                    </a:lnTo>
                    <a:lnTo>
                      <a:pt x="135" y="222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207" h="194">
                    <a:moveTo>
                      <a:pt x="90" y="194"/>
                    </a:moveTo>
                    <a:lnTo>
                      <a:pt x="207" y="120"/>
                    </a:lnTo>
                    <a:lnTo>
                      <a:pt x="135" y="0"/>
                    </a:lnTo>
                    <a:lnTo>
                      <a:pt x="0" y="74"/>
                    </a:lnTo>
                    <a:lnTo>
                      <a:pt x="15" y="89"/>
                    </a:lnTo>
                    <a:lnTo>
                      <a:pt x="105" y="45"/>
                    </a:lnTo>
                    <a:lnTo>
                      <a:pt x="135" y="74"/>
                    </a:lnTo>
                    <a:lnTo>
                      <a:pt x="60" y="120"/>
                    </a:lnTo>
                    <a:lnTo>
                      <a:pt x="75" y="134"/>
                    </a:lnTo>
                    <a:lnTo>
                      <a:pt x="150" y="89"/>
                    </a:lnTo>
                    <a:lnTo>
                      <a:pt x="165" y="120"/>
                    </a:lnTo>
                    <a:lnTo>
                      <a:pt x="75" y="165"/>
                    </a:lnTo>
                    <a:lnTo>
                      <a:pt x="90" y="194"/>
                    </a:lnTo>
                    <a:lnTo>
                      <a:pt x="90" y="194"/>
                    </a:lnTo>
                    <a:lnTo>
                      <a:pt x="90" y="194"/>
                    </a:lnTo>
                    <a:lnTo>
                      <a:pt x="90" y="194"/>
                    </a:lnTo>
                    <a:lnTo>
                      <a:pt x="90" y="194"/>
                    </a:lnTo>
                    <a:lnTo>
                      <a:pt x="90" y="194"/>
                    </a:lnTo>
                    <a:lnTo>
                      <a:pt x="90" y="19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224" h="179">
                    <a:moveTo>
                      <a:pt x="225" y="74"/>
                    </a:moveTo>
                    <a:lnTo>
                      <a:pt x="165" y="0"/>
                    </a:lnTo>
                    <a:lnTo>
                      <a:pt x="0" y="90"/>
                    </a:lnTo>
                    <a:lnTo>
                      <a:pt x="60" y="180"/>
                    </a:lnTo>
                    <a:lnTo>
                      <a:pt x="90" y="164"/>
                    </a:lnTo>
                    <a:lnTo>
                      <a:pt x="45" y="104"/>
                    </a:lnTo>
                    <a:lnTo>
                      <a:pt x="90" y="74"/>
                    </a:lnTo>
                    <a:lnTo>
                      <a:pt x="135" y="134"/>
                    </a:lnTo>
                    <a:lnTo>
                      <a:pt x="150" y="120"/>
                    </a:lnTo>
                    <a:lnTo>
                      <a:pt x="120" y="60"/>
                    </a:lnTo>
                    <a:lnTo>
                      <a:pt x="150" y="30"/>
                    </a:lnTo>
                    <a:lnTo>
                      <a:pt x="195" y="104"/>
                    </a:lnTo>
                    <a:lnTo>
                      <a:pt x="225" y="74"/>
                    </a:lnTo>
                    <a:lnTo>
                      <a:pt x="225" y="74"/>
                    </a:lnTo>
                    <a:lnTo>
                      <a:pt x="225" y="74"/>
                    </a:lnTo>
                    <a:lnTo>
                      <a:pt x="225" y="74"/>
                    </a:lnTo>
                    <a:lnTo>
                      <a:pt x="225" y="74"/>
                    </a:lnTo>
                    <a:lnTo>
                      <a:pt x="225" y="74"/>
                    </a:lnTo>
                    <a:lnTo>
                      <a:pt x="225" y="7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224" h="209">
                    <a:moveTo>
                      <a:pt x="105" y="150"/>
                    </a:moveTo>
                    <a:lnTo>
                      <a:pt x="105" y="150"/>
                    </a:lnTo>
                    <a:lnTo>
                      <a:pt x="180" y="30"/>
                    </a:lnTo>
                    <a:lnTo>
                      <a:pt x="165" y="0"/>
                    </a:lnTo>
                    <a:lnTo>
                      <a:pt x="0" y="102"/>
                    </a:lnTo>
                    <a:lnTo>
                      <a:pt x="15" y="132"/>
                    </a:lnTo>
                    <a:lnTo>
                      <a:pt x="135" y="60"/>
                    </a:lnTo>
                    <a:lnTo>
                      <a:pt x="135" y="60"/>
                    </a:lnTo>
                    <a:lnTo>
                      <a:pt x="45" y="180"/>
                    </a:lnTo>
                    <a:lnTo>
                      <a:pt x="60" y="210"/>
                    </a:lnTo>
                    <a:lnTo>
                      <a:pt x="225" y="102"/>
                    </a:lnTo>
                    <a:lnTo>
                      <a:pt x="210" y="72"/>
                    </a:lnTo>
                    <a:lnTo>
                      <a:pt x="105" y="150"/>
                    </a:lnTo>
                    <a:lnTo>
                      <a:pt x="105" y="150"/>
                    </a:lnTo>
                    <a:lnTo>
                      <a:pt x="105" y="150"/>
                    </a:lnTo>
                    <a:lnTo>
                      <a:pt x="105" y="150"/>
                    </a:lnTo>
                    <a:lnTo>
                      <a:pt x="105" y="150"/>
                    </a:lnTo>
                    <a:lnTo>
                      <a:pt x="105" y="150"/>
                    </a:lnTo>
                    <a:lnTo>
                      <a:pt x="105" y="15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14" h="29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75" h="119">
                    <a:moveTo>
                      <a:pt x="45" y="119"/>
                    </a:moveTo>
                    <a:lnTo>
                      <a:pt x="45" y="119"/>
                    </a:lnTo>
                    <a:lnTo>
                      <a:pt x="75" y="103"/>
                    </a:lnTo>
                    <a:lnTo>
                      <a:pt x="0" y="0"/>
                    </a:lnTo>
                    <a:lnTo>
                      <a:pt x="0" y="59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5" y="11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90" h="165">
                    <a:moveTo>
                      <a:pt x="90" y="0"/>
                    </a:moveTo>
                    <a:lnTo>
                      <a:pt x="60" y="0"/>
                    </a:lnTo>
                    <a:lnTo>
                      <a:pt x="60" y="0"/>
                    </a:lnTo>
                    <a:lnTo>
                      <a:pt x="0" y="90"/>
                    </a:lnTo>
                    <a:lnTo>
                      <a:pt x="0" y="165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359" h="384">
                    <a:moveTo>
                      <a:pt x="0" y="254"/>
                    </a:moveTo>
                    <a:cubicBezTo>
                      <a:pt x="15" y="349"/>
                      <a:pt x="60" y="384"/>
                      <a:pt x="146" y="384"/>
                    </a:cubicBezTo>
                    <a:cubicBezTo>
                      <a:pt x="277" y="380"/>
                      <a:pt x="264" y="324"/>
                      <a:pt x="292" y="300"/>
                    </a:cubicBezTo>
                    <a:cubicBezTo>
                      <a:pt x="296" y="152"/>
                      <a:pt x="210" y="209"/>
                      <a:pt x="152" y="137"/>
                    </a:cubicBezTo>
                    <a:cubicBezTo>
                      <a:pt x="146" y="105"/>
                      <a:pt x="195" y="27"/>
                      <a:pt x="260" y="84"/>
                    </a:cubicBezTo>
                    <a:cubicBezTo>
                      <a:pt x="270" y="102"/>
                      <a:pt x="277" y="127"/>
                      <a:pt x="292" y="132"/>
                    </a:cubicBezTo>
                    <a:cubicBezTo>
                      <a:pt x="307" y="137"/>
                      <a:pt x="360" y="137"/>
                      <a:pt x="352" y="117"/>
                    </a:cubicBezTo>
                    <a:cubicBezTo>
                      <a:pt x="345" y="97"/>
                      <a:pt x="315" y="12"/>
                      <a:pt x="242" y="4"/>
                    </a:cubicBezTo>
                    <a:cubicBezTo>
                      <a:pt x="191" y="0"/>
                      <a:pt x="120" y="0"/>
                      <a:pt x="90" y="82"/>
                    </a:cubicBezTo>
                    <a:cubicBezTo>
                      <a:pt x="32" y="222"/>
                      <a:pt x="206" y="197"/>
                      <a:pt x="225" y="267"/>
                    </a:cubicBezTo>
                    <a:cubicBezTo>
                      <a:pt x="240" y="324"/>
                      <a:pt x="80" y="367"/>
                      <a:pt x="65" y="252"/>
                    </a:cubicBezTo>
                    <a:cubicBezTo>
                      <a:pt x="30" y="260"/>
                      <a:pt x="32" y="244"/>
                      <a:pt x="0" y="254"/>
                    </a:cubicBezTo>
                    <a:lnTo>
                      <a:pt x="0" y="254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2440" y="5637240"/>
                <a:ext cx="108000" cy="107640"/>
              </a:xfrm>
              <a:custGeom>
                <a:avLst/>
                <a:gdLst/>
                <a:ahLst/>
                <a:rect l="l" t="t" r="r" b="b"/>
                <a:pathLst>
                  <a:path w="169" h="169">
                    <a:moveTo>
                      <a:pt x="0" y="112"/>
                    </a:moveTo>
                    <a:cubicBezTo>
                      <a:pt x="7" y="154"/>
                      <a:pt x="29" y="169"/>
                      <a:pt x="69" y="169"/>
                    </a:cubicBezTo>
                    <a:cubicBezTo>
                      <a:pt x="131" y="168"/>
                      <a:pt x="125" y="143"/>
                      <a:pt x="138" y="132"/>
                    </a:cubicBezTo>
                    <a:cubicBezTo>
                      <a:pt x="133" y="51"/>
                      <a:pt x="99" y="92"/>
                      <a:pt x="73" y="60"/>
                    </a:cubicBezTo>
                    <a:cubicBezTo>
                      <a:pt x="69" y="46"/>
                      <a:pt x="92" y="11"/>
                      <a:pt x="122" y="37"/>
                    </a:cubicBezTo>
                    <a:cubicBezTo>
                      <a:pt x="127" y="44"/>
                      <a:pt x="131" y="56"/>
                      <a:pt x="138" y="58"/>
                    </a:cubicBezTo>
                    <a:cubicBezTo>
                      <a:pt x="145" y="60"/>
                      <a:pt x="169" y="60"/>
                      <a:pt x="166" y="51"/>
                    </a:cubicBezTo>
                    <a:cubicBezTo>
                      <a:pt x="162" y="42"/>
                      <a:pt x="148" y="4"/>
                      <a:pt x="114" y="1"/>
                    </a:cubicBezTo>
                    <a:cubicBezTo>
                      <a:pt x="90" y="0"/>
                      <a:pt x="56" y="0"/>
                      <a:pt x="42" y="35"/>
                    </a:cubicBezTo>
                    <a:cubicBezTo>
                      <a:pt x="17" y="97"/>
                      <a:pt x="97" y="86"/>
                      <a:pt x="106" y="117"/>
                    </a:cubicBezTo>
                    <a:cubicBezTo>
                      <a:pt x="113" y="143"/>
                      <a:pt x="40" y="162"/>
                      <a:pt x="33" y="111"/>
                    </a:cubicBezTo>
                    <a:cubicBezTo>
                      <a:pt x="14" y="114"/>
                      <a:pt x="17" y="107"/>
                      <a:pt x="0" y="112"/>
                    </a:cubicBez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870" h="3179">
                    <a:moveTo>
                      <a:pt x="0" y="0"/>
                    </a:moveTo>
                    <a:lnTo>
                      <a:pt x="717" y="1454"/>
                    </a:lnTo>
                    <a:lnTo>
                      <a:pt x="870" y="3180"/>
                    </a:lnTo>
                    <a:lnTo>
                      <a:pt x="135" y="169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A546E27-5B06-48D0-9F47-3146B6B044E9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5FF9FA2-06FC-4A01-AAEE-70372A6B2126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881C5F9-B2B7-4AF4-91A6-A71880DD6B6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369800"/>
            <a:ext cx="91440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宋体"/>
              </a:rPr>
              <a:t>奥伊达的理想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zh-CN" sz="4200" spc="-1" strike="noStrike">
                <a:solidFill>
                  <a:srgbClr val="3366ff"/>
                </a:solidFill>
                <a:latin typeface="华文新魏"/>
                <a:ea typeface="华文新魏"/>
              </a:rPr>
              <a:t>凯瑟琳</a:t>
            </a:r>
            <a:r>
              <a:rPr b="0" lang="zh-CN" sz="4200" spc="-1" strike="noStrike">
                <a:solidFill>
                  <a:srgbClr val="3366ff"/>
                </a:solidFill>
                <a:latin typeface="华文新魏"/>
                <a:ea typeface="华文新魏"/>
              </a:rPr>
              <a:t>·</a:t>
            </a:r>
            <a:r>
              <a:rPr b="0" lang="zh-CN" sz="4200" spc="-1" strike="noStrike">
                <a:solidFill>
                  <a:srgbClr val="3366ff"/>
                </a:solidFill>
                <a:latin typeface="华文新魏"/>
                <a:ea typeface="华文新魏"/>
              </a:rPr>
              <a:t>奥尼尔（澳大利亚）</a:t>
            </a:r>
            <a:endParaRPr b="0" lang="en-US" sz="4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219320" y="205740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真 可爱 有个性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29718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追求平等 独立 坚持不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3854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顽皮机灵  敢于创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143000" y="4800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聪明狡黠、有创新意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934320" y="2971800"/>
            <a:ext cx="1523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00800" y="3840120"/>
            <a:ext cx="2590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有创新意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00800" y="4738680"/>
            <a:ext cx="25909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有执著追求精神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62320" y="6094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0" lang="zh-CN" sz="4800" spc="-1" strike="noStrike">
                <a:solidFill>
                  <a:srgbClr val="5a5c6c"/>
                </a:solidFill>
                <a:latin typeface="黑体"/>
                <a:ea typeface="黑体"/>
              </a:rPr>
              <a:t>奥伊达的性格特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34320" y="2057400"/>
            <a:ext cx="1523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独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奥伊达父母在他成长过程中希望他成为什么样的人？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父 ：诗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6400800" y="266688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有爱心的公民，自由选择职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42670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母：歌唱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76720" y="32767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探险家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752400" y="1123920"/>
            <a:ext cx="778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谈谈奥伊达父母对他的教育方式是怎样的？你喜欢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50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字左右说说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9640" y="263520"/>
            <a:ext cx="6769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8200" y="35751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父母对你的教育方式与奥伊达的父母一样吗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希望父母对你怎样教育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16765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你父母对你的教育方式与奥伊达的父母一样吗？你希望父母对你怎样教育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619280" y="175248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感谢凯瑟琳作家的小说，让我们认识了那么多可爱的人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8160" y="206352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Arial"/>
              </a:rPr>
              <a:t>还记得你的理想吗？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326880" y="3209400"/>
            <a:ext cx="889344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zh-CN" sz="4200" spc="-1" strike="noStrike">
                <a:solidFill>
                  <a:srgbClr val="3366ff"/>
                </a:solidFill>
                <a:latin typeface="隶书"/>
                <a:ea typeface="隶书"/>
              </a:rPr>
              <a:t> </a:t>
            </a:r>
            <a:r>
              <a:rPr b="0" lang="zh-CN" sz="7200" spc="-1" strike="noStrike">
                <a:solidFill>
                  <a:srgbClr val="3366ff"/>
                </a:solidFill>
                <a:latin typeface="华文行楷"/>
                <a:ea typeface="华文行楷"/>
              </a:rPr>
              <a:t>它变了吗？</a:t>
            </a:r>
            <a:r>
              <a:rPr b="0" lang="zh-CN" sz="4200" spc="-1" strike="noStrike">
                <a:solidFill>
                  <a:srgbClr val="3366ff"/>
                </a:solidFill>
                <a:latin typeface="隶书"/>
                <a:ea typeface="隶书"/>
              </a:rPr>
              <a:t> </a:t>
            </a:r>
            <a:endParaRPr b="0" lang="en-US" sz="4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6560" y="4578480"/>
            <a:ext cx="889344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一起讨论、交流、分享…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92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黑体"/>
                <a:ea typeface="黑体"/>
              </a:rPr>
              <a:t>奥伊达的理想让我们想起了</a:t>
            </a:r>
            <a:r>
              <a:rPr b="1" lang="zh-CN" sz="4800" spc="-1" strike="noStrike">
                <a:solidFill>
                  <a:srgbClr val="dc5900"/>
                </a:solidFill>
                <a:latin typeface="黑体"/>
                <a:ea typeface="黑体"/>
              </a:rPr>
              <a:t>----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3520" y="457200"/>
            <a:ext cx="8229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 u="sng">
                <a:solidFill>
                  <a:srgbClr val="ff0066"/>
                </a:solidFill>
                <a:uFillTx/>
                <a:latin typeface="华文新魏"/>
                <a:ea typeface="华文新魏"/>
              </a:rPr>
              <a:t>一起聊聊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从小到大你有过哪些梦想（理想）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为了这个梦想你做过哪些努力？你还记得其中的一件趣事吗？（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字左右简述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你父母在你实现梦想过程中起过什么作用？（支持、反对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-38160" y="759960"/>
            <a:ext cx="914400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宋体"/>
              </a:rPr>
              <a:t>  </a:t>
            </a:r>
            <a:r>
              <a:rPr b="1" lang="zh-CN" sz="7200" spc="-1" strike="noStrike">
                <a:solidFill>
                  <a:srgbClr val="ff33cc"/>
                </a:solidFill>
                <a:latin typeface="宋体"/>
              </a:rPr>
              <a:t>王老师的呢？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393480" y="508608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永远的美丽回忆！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04760" y="2854440"/>
            <a:ext cx="8893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宋体"/>
              </a:rPr>
              <a:t>      </a:t>
            </a:r>
            <a:r>
              <a:rPr b="0" lang="zh-CN" sz="5400" spc="-1" strike="noStrike">
                <a:solidFill>
                  <a:srgbClr val="ff6600"/>
                </a:solidFill>
                <a:latin typeface="黑体"/>
                <a:ea typeface="黑体"/>
              </a:rPr>
              <a:t>小时候、长大了、后来呀…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1369800"/>
            <a:ext cx="91440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宋体"/>
              </a:rPr>
              <a:t>  </a:t>
            </a:r>
            <a:r>
              <a:rPr b="1" lang="zh-CN" sz="7200" spc="-1" strike="noStrike">
                <a:solidFill>
                  <a:srgbClr val="ff33cc"/>
                </a:solidFill>
                <a:latin typeface="宋体"/>
              </a:rPr>
              <a:t>请大家看看这张表格吧！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3366ff"/>
                </a:solidFill>
                <a:latin typeface="隶书"/>
                <a:ea typeface="隶书"/>
              </a:rPr>
              <a:t>珍藏者：王海燕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104760" y="912600"/>
            <a:ext cx="91440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7200" spc="-1" strike="noStrike">
                <a:solidFill>
                  <a:srgbClr val="ff33cc"/>
                </a:solidFill>
                <a:latin typeface="宋体"/>
              </a:rPr>
              <a:t>为我们过去的、曾经的理想鼓掌吧！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31320" y="3505320"/>
            <a:ext cx="8893080" cy="23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为我们现在的、未来的理想加油吧！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81080" y="3481920"/>
            <a:ext cx="802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奥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ào   </a:t>
            </a:r>
            <a:r>
              <a:rPr b="1" lang="zh-CN" sz="4400" spc="-1" strike="noStrike" u="sng">
                <a:solidFill>
                  <a:srgbClr val="ff33cc"/>
                </a:solidFill>
                <a:uFillTx/>
                <a:latin typeface="Times New Roman"/>
              </a:rPr>
              <a:t>含义深，不易理解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；深奥、奥妙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伊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yī   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彼，</a:t>
            </a:r>
            <a:r>
              <a:rPr b="1" lang="zh-CN" sz="4400" spc="-1" strike="noStrike" u="sng">
                <a:solidFill>
                  <a:srgbClr val="ff33cc"/>
                </a:solidFill>
                <a:uFillTx/>
                <a:latin typeface="Times New Roman"/>
              </a:rPr>
              <a:t>他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，她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达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dá   </a:t>
            </a:r>
            <a:r>
              <a:rPr b="1" lang="zh-CN" sz="4400" spc="-1" strike="noStrike" u="sng">
                <a:solidFill>
                  <a:srgbClr val="ff33cc"/>
                </a:solidFill>
                <a:uFillTx/>
                <a:latin typeface="Times New Roman"/>
              </a:rPr>
              <a:t>通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、通晓、遍、全面、到、实现、传出来、得到显</a:t>
            </a:r>
            <a:r>
              <a:rPr b="1" lang="zh-CN" sz="4400" spc="-1" strike="noStrike" u="sng">
                <a:solidFill>
                  <a:srgbClr val="ff33cc"/>
                </a:solidFill>
                <a:uFillTx/>
                <a:latin typeface="Times New Roman"/>
              </a:rPr>
              <a:t>要的地位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1240" y="1168560"/>
            <a:ext cx="80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ff008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80"/>
                </a:solidFill>
                <a:latin typeface="黑体"/>
                <a:ea typeface="黑体"/>
              </a:rPr>
              <a:t>我看这名字还挺有意思的呢</a:t>
            </a:r>
            <a:r>
              <a:rPr b="1" lang="zh-CN" sz="4800" spc="-1" strike="noStrike">
                <a:solidFill>
                  <a:srgbClr val="ff0080"/>
                </a:solidFill>
                <a:latin typeface="黑体"/>
                <a:ea typeface="黑体"/>
              </a:rPr>
              <a:t>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4760" y="1989000"/>
            <a:ext cx="914400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Arial"/>
              </a:rPr>
              <a:t>愿大家都做有梦想的人！并梦想成真！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-616320" y="694800"/>
            <a:ext cx="889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7200" spc="-1" strike="noStrike">
                <a:solidFill>
                  <a:srgbClr val="3366ff"/>
                </a:solidFill>
                <a:latin typeface="华文行楷"/>
                <a:ea typeface="华文行楷"/>
              </a:rPr>
              <a:t>王老师的希望：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8160" y="4216320"/>
            <a:ext cx="8893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zh-CN" sz="7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送给大家一首好听的</a:t>
            </a:r>
            <a:r>
              <a:rPr b="0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歌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6934320" y="49528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466560" y="860400"/>
            <a:ext cx="74869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200" spc="-1" strike="noStrike">
                <a:solidFill>
                  <a:srgbClr val="6600ff"/>
                </a:solidFill>
                <a:latin typeface="华文彩云"/>
                <a:ea typeface="华文彩云"/>
              </a:rPr>
              <a:t>     </a:t>
            </a:r>
            <a:r>
              <a:rPr b="1" lang="zh-CN" sz="4200" spc="-1" strike="noStrike">
                <a:solidFill>
                  <a:srgbClr val="6600ff"/>
                </a:solidFill>
                <a:latin typeface="华文彩云"/>
                <a:ea typeface="华文彩云"/>
              </a:rPr>
              <a:t>看到这些名字，你发现了什么？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600ff"/>
              </a:buClr>
              <a:buFont typeface="Times New Roman"/>
              <a:buAutoNum type="arabicPlain"/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杨瑞红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 柯瑞娥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 王瑞琪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6600ff"/>
              </a:buClr>
              <a:buFont typeface="Times New Roman"/>
              <a:buAutoNum type="arabicPlain" startAt="2"/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王思婷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 陈雪婷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 郑诗婷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杨伟和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 蔡伟杰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 郑伟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曾雅萍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 李雅嫩 柯雅铃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verb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9600" y="2560320"/>
            <a:ext cx="8450280" cy="10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黑体"/>
                <a:ea typeface="黑体"/>
              </a:rPr>
              <a:t>你的名字你喜欢吗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755280" y="4150800"/>
            <a:ext cx="7699320" cy="863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华文行楷"/>
                <a:ea typeface="华文行楷"/>
              </a:rPr>
              <a:t>你想给自己另外改个名吗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760" y="1195560"/>
            <a:ext cx="8450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lvl="4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黑体"/>
                <a:ea typeface="黑体"/>
              </a:rPr>
              <a:t>说说班上谁的名字最好听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宋体"/>
              </a:rPr>
              <a:t>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80880" y="304920"/>
            <a:ext cx="83059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</a:tabLst>
            </a:pPr>
            <a:r>
              <a:rPr b="0" lang="zh-CN" sz="5400" spc="-1" strike="noStrike">
                <a:solidFill>
                  <a:srgbClr val="6fa9b7"/>
                </a:solidFill>
                <a:latin typeface="黑体"/>
                <a:ea typeface="黑体"/>
              </a:rPr>
              <a:t>思考并复述小说内容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这么个有趣的奥伊达在成长过程中有哪几件趣事？你来说说吧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50532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请给每件趣事各取一个小标题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1568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改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22096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37339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81280" y="51814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8120" y="31240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买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4080" y="4572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探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5867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账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47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447920" y="150804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时候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改名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开端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71600" y="265104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上小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买票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发展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33920" y="365760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探险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高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371600" y="4724280"/>
            <a:ext cx="5410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上中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账单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结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38280" y="457200"/>
            <a:ext cx="6705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小说的情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24000" y="836640"/>
            <a:ext cx="7777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0920" y="692280"/>
            <a:ext cx="8497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ahoma"/>
                <a:ea typeface="黑体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466560" y="838080"/>
          <a:ext cx="8372160" cy="5716440"/>
        </p:xfrm>
        <a:graphic>
          <a:graphicData uri="http://schemas.openxmlformats.org/drawingml/2006/table">
            <a:tbl>
              <a:tblPr/>
              <a:tblGrid>
                <a:gridCol w="4067640"/>
                <a:gridCol w="43045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方正姚体"/>
                          <a:ea typeface="方正姚体"/>
                        </a:rPr>
                        <a:t>          </a:t>
                      </a:r>
                      <a:r>
                        <a:rPr b="1" lang="zh-CN" sz="3600" spc="-1" strike="noStrike">
                          <a:solidFill>
                            <a:srgbClr val="ffcc00"/>
                          </a:solidFill>
                          <a:latin typeface="方正姚体"/>
                          <a:ea typeface="方正姚体"/>
                        </a:rPr>
                        <a:t>项  目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方正姚体"/>
                          <a:ea typeface="方正姚体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ffcc00"/>
                          </a:solidFill>
                          <a:latin typeface="方正姚体"/>
                          <a:ea typeface="方正姚体"/>
                        </a:rPr>
                        <a:t>支出 人民币（元）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一日三餐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日常穿戴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学习费用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用于业余爱好费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03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r>
                        <a:rPr b="1" lang="zh-CN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生病时医药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和悉心照顾费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      </a:t>
                      </a:r>
                      <a:r>
                        <a:rPr b="1" lang="zh-CN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其它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      </a:t>
                      </a:r>
                      <a:r>
                        <a:rPr b="1" lang="zh-CN" sz="3600" spc="-1" strike="noStrike">
                          <a:solidFill>
                            <a:srgbClr val="ffcc00"/>
                          </a:solidFill>
                          <a:latin typeface="楷体_GB2312"/>
                          <a:ea typeface="楷体_GB2312"/>
                        </a:rPr>
                        <a:t>总计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496" name=""/>
          <p:cNvSpPr/>
          <p:nvPr/>
        </p:nvSpPr>
        <p:spPr>
          <a:xfrm>
            <a:off x="838080" y="1364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请你也算算账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09480" y="1066680"/>
            <a:ext cx="807732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5b5d6b"/>
                </a:solidFill>
                <a:latin typeface="黑体"/>
                <a:ea typeface="黑体"/>
              </a:rPr>
              <a:t>人物思考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8000"/>
              </a:buClr>
              <a:buFont typeface="Times New Roman"/>
              <a:buChar char="•"/>
            </a:pPr>
            <a:r>
              <a:rPr b="0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小说介绍中，我们可以看出奥伊达是怎样一个孩子？你喜欢吗？</a:t>
            </a:r>
            <a:r>
              <a:rPr b="0" lang="zh-CN" sz="4000" spc="-1" strike="noStrike">
                <a:solidFill>
                  <a:srgbClr val="9966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9966ff"/>
              </a:buClr>
              <a:buFont typeface="Times New Roman"/>
              <a:buChar char="•"/>
            </a:pPr>
            <a:r>
              <a:rPr b="0" lang="zh-CN" sz="4000" spc="-1" strike="noStrike">
                <a:solidFill>
                  <a:srgbClr val="9966ff"/>
                </a:solidFill>
                <a:latin typeface="黑体"/>
                <a:ea typeface="黑体"/>
              </a:rPr>
              <a:t>奥伊达的父母是怎样的父母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7:20:05Z</dcterms:created>
  <dc:creator>周利辉</dc:creator>
  <dc:description/>
  <dc:language>en-US</dc:language>
  <cp:lastModifiedBy>深度技术</cp:lastModifiedBy>
  <dcterms:modified xsi:type="dcterms:W3CDTF">2011-03-01T05:17:21Z</dcterms:modified>
  <cp:revision>45</cp:revision>
  <dc:subject/>
  <dc:title>PowerPoint 演示文稿</dc:title>
</cp:coreProperties>
</file>