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E65-60CA-4750-95B3-E82EE94B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C4F-9D4D-4087-8766-D95AE2C6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D51-9139-4C13-9AF7-9DBF7020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877-9357-476F-BD30-A8F52AC9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126-01B4-42E2-84FF-B61D0FA0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326-F765-4E33-B8B7-C4414ED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8BD-F377-4C61-92DF-B05586A6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A1A-08EA-4091-9BDF-EFFED92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A29-B685-42CF-BB41-B152309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C0F-33DA-46C8-BBA9-A57F81F6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48E-1062-480C-A920-BD27220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356-B8C5-43E5-BDBA-62ADA831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6EE-78AC-4121-8654-7EC6D1DAF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533520"/>
            <a:ext cx="577980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爱 如 茉 莉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880" y="525780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e6fe"/>
                </a:solidFill>
                <a:latin typeface="Garamond"/>
              </a:rPr>
              <a:t>育才实验学校   霍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237360"/>
            <a:ext cx="100944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67640" y="6237360"/>
            <a:ext cx="122544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8252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9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出示自学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、借助拼音读准字音，读顺句子，读通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、自由轻声读课文，自学生字词语，结合上下文或查字典理解部分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、再读课文，提出一些自己不懂的问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6237360"/>
            <a:ext cx="1512720" cy="40500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关注细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907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6093000"/>
            <a:ext cx="1225800" cy="368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8820000" cy="685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1125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664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妈妈寻思了一会儿，随手指着那株平淡无奇的茉莉花，说：“就像茉莉吧。”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爸爸去洗漱，我悄悄溜进病房，把一大束茉莉花插进瓶里，一股清香顿时弥漫开来。我开心地想：妈妈在这花香中欣欣然睁开双眼，该多有诗意呀！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病房里，那簇茉莉显得更加洁白纯净。它送来的缕缕幽香，袅袅地钻到我们的心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6165720"/>
            <a:ext cx="1009440" cy="36684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907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6093000"/>
            <a:ext cx="1225800" cy="368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8820000" cy="685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1125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836640"/>
            <a:ext cx="79912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掏　　　　 咽　　　　　 怔住　　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恬静　　　 清醒含笑　　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揉揉胳膊　 手脚麻木　　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睡眼蒙眬　 蹑手蹑脚　　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布满血丝　 打哈欠　　　 洗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6165720"/>
            <a:ext cx="1009440" cy="36684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907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6093000"/>
            <a:ext cx="1225800" cy="368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8820000" cy="685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1125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836640"/>
            <a:ext cx="7991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一（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1-5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）妈妈告诉“我”真爱像                  茉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二（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6-8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）妈妈生病住院，爸爸知道直奔医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三（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9-18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）爸爸为照顾妈妈伏在床沿边睡，妈妈为让爸爸睡好，手麻也不动一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6165720"/>
            <a:ext cx="1009440" cy="36684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907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6093000"/>
            <a:ext cx="1225800" cy="368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8820000" cy="685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1125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836640"/>
            <a:ext cx="79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细节，就是细小的情节或环节。可以是一段感人的话语、一个温柔的动作、一个恬静的微笑、一幅温馨的画面、一个会意的眼神、一束在瓶里静静开放的花朵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6165720"/>
            <a:ext cx="1009440" cy="36684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5:39:58Z</dcterms:created>
  <dc:creator>微软用户</dc:creator>
  <dc:description/>
  <dc:language>en-US</dc:language>
  <cp:lastModifiedBy>User</cp:lastModifiedBy>
  <dcterms:modified xsi:type="dcterms:W3CDTF">2011-02-24T07:05:01Z</dcterms:modified>
  <cp:revision>35</cp:revision>
  <dc:subject/>
  <dc:title>幻灯片 1</dc:title>
</cp:coreProperties>
</file>