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E2C-94EA-4EFC-87A6-90D47E3E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E87-9A93-45E7-B84B-508884B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D1F-842D-4BD3-9592-C3BC9B41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23A-1769-470D-A36F-1C73CEDC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03C0-82AD-485B-9326-3AC18BD8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739F-DC7E-44E1-80F3-821F9C3A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0D74-1EAC-4A15-BAD7-84AA27D1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B4D2-FBA1-482D-A930-97BF62B3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FC56-87DE-4694-995D-18D825F1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8D9F-5089-4597-A6A9-25052D5E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1C5-E8F0-4E3B-AF51-D725BFA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E40-087B-408F-B3EE-4533C4B1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5E68-4709-4331-83D2-FF85BDA9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F0BB-998D-4F2E-8635-A94075C5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4C1E-272A-44C3-BA72-99CB7876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E534-E787-47C0-A197-E7765A24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F1E8-EE1E-477C-9804-2BFE1DE7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D8F2-1597-4934-AB0E-81FB88C3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9B3A-8CBA-44A6-92B1-43A8FAC0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8B3B-5263-46C0-ADBB-93E31DA5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0609-883D-4EE7-B5BC-A669B99B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4230-2B32-41F3-881C-2DA0D5D8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4C6-2ED7-4ED3-B493-B6230802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F5B1-2927-4CFD-BAA5-A95E925B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80DE-26AC-4D9C-9847-1BC34630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8093-D064-48AC-939E-2ACDC7A8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B22F-D4BD-41F3-9F8A-B50D1655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374C-8050-4F9C-B4C6-A2C8A26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CFD5-7C4A-4EB3-A2EF-B375A9A8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4F2D-E512-4D82-AD10-82196820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21C-593A-4E84-B640-9FA1328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941-CBEF-4F45-81CF-8DF3875F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22B-0DEE-456D-982C-7859D761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480-A1A4-4B02-BFC9-63C16984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B20-9AD3-423A-B073-3794DC8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BA8-B182-47ED-B340-411E9A09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C8C9-BC01-48B5-B5D7-4B3FDF805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2E1A-3D8C-41D1-8D28-EB501FE5513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0F07-8FD0-4D8F-80B3-F64E49BF583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idee.com/program/32116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baidutupian.com/Photo/A003/G0042/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bbs.tpxz.com/html/81/1681.html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gg88.net/A003/G0042/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04920" y="304920"/>
            <a:ext cx="8839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3300"/>
                </a:solidFill>
                <a:latin typeface="Arial"/>
                <a:ea typeface="楷体_GB2312"/>
              </a:rPr>
              <a:t>爱如茉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8580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397eb0850d029386a60fb3e"/>
          <p:cNvPicPr/>
          <p:nvPr/>
        </p:nvPicPr>
        <p:blipFill>
          <a:blip r:embed="rId1"/>
          <a:srcRect l="0" t="1312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22860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28600" y="12952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似乎是我惊醒了爸爸。他睡眼蒙眬地抬起头，轻轻放下妈妈的手，然后蹑手蹑脚地走到门边，把我拉了出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62120" y="48762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爱是爸爸蹑手蹑脚地走到门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1397eb0850d029386a60fb3e"/>
          <p:cNvPicPr/>
          <p:nvPr/>
        </p:nvPicPr>
        <p:blipFill>
          <a:blip r:embed="rId1"/>
          <a:srcRect l="0" t="1312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380880" y="83880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望着爸爸布满血丝的眼睛，我心疼地说：“爸，你怎么不在陪床上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”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爸爸边打哈欠边说：“我夜里睡得沉，你妈妈有事又不肯叫醒我，这样睡，她一动我就惊醒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523880" y="472356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爱是爸爸布满血丝的双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e3802ef51368bdc5f3d38504"/>
          <p:cNvPicPr/>
          <p:nvPr/>
        </p:nvPicPr>
        <p:blipFill>
          <a:blip r:embed="rId1"/>
          <a:stretch/>
        </p:blipFill>
        <p:spPr>
          <a:xfrm>
            <a:off x="3276720" y="24573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762120" y="838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爸爸去洗漱，我悄悄溜进病房，把一大束茉莉花插进瓶里，一股清香顿时弥漫开来。我开心地想：妈妈在这花香中欣欣然睁开双眼，该多有诗意啊！我笑着回头，却触到妈妈一双清醒含笑的眸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397eb0850d029386a60fb3e"/>
          <p:cNvPicPr/>
          <p:nvPr/>
        </p:nvPicPr>
        <p:blipFill>
          <a:blip r:embed="rId1"/>
          <a:srcRect l="0" t="1312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228600" y="1874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爸爸伏在床边睡着了。我怕惊动他不敢动。不知不觉，手脚都麻木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007-bg012"/>
          <p:cNvPicPr/>
          <p:nvPr/>
        </p:nvPicPr>
        <p:blipFill>
          <a:blip r:embed="rId1"/>
          <a:stretch/>
        </p:blipFill>
        <p:spPr>
          <a:xfrm>
            <a:off x="0" y="3257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457200" y="1843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房里，那簇茉莉显得更加洁白纯净。它送来的缕缕幽香，袅袅地钻到我们的心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38080" y="47239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哦，爱如茉莉，爱如茉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47242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a59768f5d81d9270dcc47410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762120" y="5333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爱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4920" y="368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真爱无痕，至爱无声，爱在我们的生活中时时刻刻都存在着，你认为爱是什么？请你写一写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057400" y="5943600"/>
            <a:ext cx="5867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4876920" y="1724040"/>
            <a:ext cx="3657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淡无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洁白纯净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缕缕幽香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v2_GG88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1640" y="549360"/>
            <a:ext cx="669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妈，那你说真爱像什么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就像茉莉吧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276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平淡无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3581280"/>
            <a:ext cx="2516040" cy="118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52480" y="5146560"/>
            <a:ext cx="2440080" cy="124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3657600"/>
            <a:ext cx="2806920" cy="1085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00600" y="5181480"/>
            <a:ext cx="26668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46ca9b32517bc45eac4b5f1d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228600" y="1748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请自由读读课文第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至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自然段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你能从哪些地方感受到父母之间的爱如茉莉？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可以是一个字，一个词，一个句子，或者一个段落，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并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请你在旁边写上自己的体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cca11f4df077377dcc474d9"/>
          <p:cNvPicPr/>
          <p:nvPr/>
        </p:nvPicPr>
        <p:blipFill>
          <a:blip r:embed="rId1"/>
          <a:srcRect l="28757" t="17739" r="0" b="0"/>
          <a:stretch/>
        </p:blipFill>
        <p:spPr>
          <a:xfrm>
            <a:off x="446076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380880" y="2057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读课文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能从哪些地方感受到父母之间的爱如茉莉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是一个字，一个词，一个句子，或者一个段落，并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请你在旁边写上自己的体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5b549edd1477432d5982dda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380880" y="25455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映儿，本来我答应今天包饺子给你爸爸吃，现在看来不行了。你呆会儿就买点现成的饺子煮给你爸吃。记住，要等他吃完了再告诉他我进了医院，不然他会吃不下去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280040" y="479988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爱是善意的谎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cca11f4df077377dcc474d9"/>
          <p:cNvPicPr/>
          <p:nvPr/>
        </p:nvPicPr>
        <p:blipFill>
          <a:blip r:embed="rId1"/>
          <a:srcRect l="28757" t="17739" r="0" b="0"/>
          <a:stretch/>
        </p:blipFill>
        <p:spPr>
          <a:xfrm>
            <a:off x="446076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380880" y="2057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读课文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能从哪些地方感受到父母之间的爱如茉莉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是一个字，一个词，一个句子，或者一个段落，并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请你在旁边写上自己的体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5b549edd1477432d5982dda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380880" y="2545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362320" y="496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33520" y="2758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然而，爸爸没有吃我买的饺子，也没听我花尽心思编的谎话，便直奔医院。此后，他每天都去医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80880" y="4571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爱是爸爸直奔医院匆匆而去的身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397eb0850d029386a60fb3e"/>
          <p:cNvPicPr/>
          <p:nvPr/>
        </p:nvPicPr>
        <p:blipFill>
          <a:blip r:embed="rId1"/>
          <a:srcRect l="0" t="1312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228600" y="3808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天清晨，我按照爸爸的叮嘱，剪了一大把茉莉花带到医院去。当我推开病房的门，不禁怔住了：妈妈睡在病床上，嘴角挂着恬静的微笑；爸爸坐在床前的椅子上，一只手紧握着妈妈的手，头伏在床沿边睡着了。初升的阳光从窗外悄悄地探了进来，轻轻柔柔地笼罩着他们。一切都是那么静谧美好，一切都浸润在生命的芬芳与光泽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8"/>
          <p:cNvGrpSpPr/>
          <p:nvPr/>
        </p:nvGrpSpPr>
        <p:grpSpPr>
          <a:xfrm>
            <a:off x="762120" y="5698440"/>
            <a:ext cx="7086600" cy="703440"/>
            <a:chOff x="762120" y="5698440"/>
            <a:chExt cx="7086600" cy="703440"/>
          </a:xfrm>
        </p:grpSpPr>
        <p:sp>
          <p:nvSpPr>
            <p:cNvPr id="149" name="Rectangle 6"/>
            <p:cNvSpPr/>
            <p:nvPr/>
          </p:nvSpPr>
          <p:spPr>
            <a:xfrm>
              <a:off x="762120" y="56984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爱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81080" y="6248520"/>
              <a:ext cx="586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爱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397eb0850d029386a60fb3e"/>
          <p:cNvPicPr/>
          <p:nvPr/>
        </p:nvPicPr>
        <p:blipFill>
          <a:blip r:embed="rId1"/>
          <a:srcRect l="0" t="1312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228600" y="3808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天清晨，我按照爸爸的叮嘱，剪了一大把茉莉花带到医院去。当我推开病房的门，不禁怔住了：妈妈睡在病床上，嘴角挂着恬静的微笑；爸爸坐在床前的椅子上，一只手紧握着妈妈的手，头伏在床沿边睡着了。初升的阳光从窗外悄悄地探了进来，轻轻柔柔地笼罩着他们。一切都是那么静谧美好，一切都浸润在生命的芬芳与光泽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31T05:52:34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