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3"/>
          <p:cNvSpPr/>
          <p:nvPr/>
        </p:nvSpPr>
        <p:spPr>
          <a:xfrm>
            <a:off x="250920" y="2071800"/>
            <a:ext cx="621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Arial"/>
              </a:rPr>
              <a:t>时计时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7"/>
          <p:cNvSpPr/>
          <p:nvPr/>
        </p:nvSpPr>
        <p:spPr>
          <a:xfrm>
            <a:off x="585720" y="60012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年、月、日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6" descr="6"/>
          <p:cNvPicPr/>
          <p:nvPr/>
        </p:nvPicPr>
        <p:blipFill>
          <a:blip r:embed="rId2"/>
          <a:stretch/>
        </p:blipFill>
        <p:spPr>
          <a:xfrm>
            <a:off x="584280" y="603360"/>
            <a:ext cx="158436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684360" y="2205000"/>
            <a:ext cx="8316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做一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题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、 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3000240" y="3000240"/>
            <a:ext cx="4173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书不觉已春深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寸光阴一寸金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道人来引笑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情孔思正追寻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3583440" y="1652760"/>
            <a:ext cx="2100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     王贞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4707000" y="61596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鹿洞二首（其一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285920" y="1643040"/>
            <a:ext cx="5715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857160" y="1785960"/>
            <a:ext cx="718524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时到中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时经过了几小时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从中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时再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时，又经过了多少时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一天里钟表上的时针要走几圈？共多少小时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98280" y="476280"/>
            <a:ext cx="7392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</a:rPr>
              <a:t>在钟表拨一拨，仔细观察，回答问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{AF657F34-B012-4858-9D2E-C66A899C6F33}"/>
          <p:cNvPicPr/>
          <p:nvPr/>
        </p:nvPicPr>
        <p:blipFill>
          <a:blip r:embed="rId1"/>
          <a:stretch/>
        </p:blipFill>
        <p:spPr>
          <a:xfrm>
            <a:off x="785880" y="7142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"/>
          <p:cNvPicPr/>
          <p:nvPr/>
        </p:nvPicPr>
        <p:blipFill>
          <a:blip r:embed="rId1"/>
          <a:stretch/>
        </p:blipFill>
        <p:spPr>
          <a:xfrm>
            <a:off x="228600" y="214200"/>
            <a:ext cx="8686800" cy="641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ShockwaveFlash2"/>
          <p:cNvGraphicFramePr/>
          <p:nvPr/>
        </p:nvGraphicFramePr>
        <p:xfrm>
          <a:off x="357120" y="284040"/>
          <a:ext cx="8371080" cy="628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ShockwaveFlash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84040"/>
                    <a:ext cx="837108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想一想，做一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108000" y="1674720"/>
            <a:ext cx="8358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照样子填一填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270080" y="2657520"/>
            <a:ext cx="1295280" cy="461880"/>
          </a:xfrm>
          <a:prstGeom prst="rect">
            <a:avLst/>
          </a:prstGeom>
          <a:solidFill>
            <a:srgbClr val="e1ef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164040" y="2657520"/>
            <a:ext cx="1295280" cy="461880"/>
          </a:xfrm>
          <a:prstGeom prst="rect">
            <a:avLst/>
          </a:prstGeom>
          <a:solidFill>
            <a:srgbClr val="e1ef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5056200" y="2657520"/>
            <a:ext cx="1295280" cy="461880"/>
          </a:xfrm>
          <a:prstGeom prst="rect">
            <a:avLst/>
          </a:prstGeom>
          <a:solidFill>
            <a:srgbClr val="e1ef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6948360" y="2657520"/>
            <a:ext cx="1295640" cy="461880"/>
          </a:xfrm>
          <a:prstGeom prst="rect">
            <a:avLst/>
          </a:prstGeom>
          <a:solidFill>
            <a:srgbClr val="e1ef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160640" y="3213000"/>
            <a:ext cx="15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下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164040" y="318924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晚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754680" y="318132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凌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056200" y="3573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3164040" y="269244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5056200" y="3147840"/>
            <a:ext cx="15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深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6948360" y="2657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861840" y="1673280"/>
            <a:ext cx="828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下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时爸爸开车走了公交车道，他违反交通规则了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想一想，做一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66" name="Picture 12" descr="图片13副本"/>
          <p:cNvPicPr/>
          <p:nvPr/>
        </p:nvPicPr>
        <p:blipFill>
          <a:blip r:embed="rId1"/>
          <a:stretch/>
        </p:blipFill>
        <p:spPr>
          <a:xfrm>
            <a:off x="1797120" y="2192400"/>
            <a:ext cx="4879800" cy="328932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6"/>
          <p:cNvGrpSpPr/>
          <p:nvPr/>
        </p:nvGrpSpPr>
        <p:grpSpPr>
          <a:xfrm>
            <a:off x="6858000" y="2786040"/>
            <a:ext cx="1895400" cy="1176480"/>
            <a:chOff x="6858000" y="2786040"/>
            <a:chExt cx="1895400" cy="1176480"/>
          </a:xfrm>
        </p:grpSpPr>
        <p:sp>
          <p:nvSpPr>
            <p:cNvPr id="68" name="TextBox 4"/>
            <p:cNvSpPr/>
            <p:nvPr/>
          </p:nvSpPr>
          <p:spPr>
            <a:xfrm>
              <a:off x="6858000" y="2786040"/>
              <a:ext cx="18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下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时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5"/>
            <p:cNvSpPr/>
            <p:nvPr/>
          </p:nvSpPr>
          <p:spPr>
            <a:xfrm>
              <a:off x="6858000" y="3500640"/>
              <a:ext cx="1895400" cy="461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7"/>
          <p:cNvSpPr/>
          <p:nvPr/>
        </p:nvSpPr>
        <p:spPr>
          <a:xfrm>
            <a:off x="6858000" y="35002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想一想，做一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55720" y="1673280"/>
            <a:ext cx="8037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爸爸晚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时下火车，要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路夜班车，有车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图片14副本"/>
          <p:cNvPicPr/>
          <p:nvPr/>
        </p:nvPicPr>
        <p:blipFill>
          <a:blip r:embed="rId1"/>
          <a:stretch/>
        </p:blipFill>
        <p:spPr>
          <a:xfrm>
            <a:off x="1963800" y="2386080"/>
            <a:ext cx="499896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6" name="Picture 4" descr="图片1"/>
          <p:cNvPicPr/>
          <p:nvPr/>
        </p:nvPicPr>
        <p:blipFill>
          <a:blip r:embed="rId1"/>
          <a:stretch/>
        </p:blipFill>
        <p:spPr>
          <a:xfrm>
            <a:off x="9360" y="1440"/>
            <a:ext cx="9337680" cy="697104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1619280" y="2063880"/>
            <a:ext cx="6480000" cy="28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黑体"/>
              </a:rPr>
              <a:t>说说你的收获吧！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8" name="图片 18438" descr="13621"/>
          <p:cNvPicPr/>
          <p:nvPr/>
        </p:nvPicPr>
        <p:blipFill>
          <a:blip r:embed="rId2"/>
          <a:stretch/>
        </p:blipFill>
        <p:spPr>
          <a:xfrm>
            <a:off x="8186760" y="6378480"/>
            <a:ext cx="1150920" cy="614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2928960" y="0"/>
            <a:ext cx="3857760" cy="1081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24</a:t>
            </a:r>
            <a:r>
              <a:rPr b="0" lang="zh-CN" sz="5400" spc="-1" strike="noStrike">
                <a:solidFill>
                  <a:srgbClr val="7030a0"/>
                </a:solidFill>
                <a:latin typeface="Arial"/>
              </a:rPr>
              <a:t>时计时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0T13:25:16Z</dcterms:created>
  <dc:creator>Administrator</dc:creator>
  <dc:description/>
  <cp:keywords/>
  <dc:language>en-US</dc:language>
  <cp:lastModifiedBy>pc</cp:lastModifiedBy>
  <dcterms:modified xsi:type="dcterms:W3CDTF">2016-07-08T11:02:04Z</dcterms:modified>
  <cp:revision>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