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D58-05FA-47E4-BEDD-F9A41D0F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66A-AAB0-4104-9F51-4065C182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BA3-B086-49D2-8CC6-B3FE8C8B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1A6-7AAB-4EEC-A701-01A12AA4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404-E916-4C5B-B30D-BADC4C3D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6FC0-49BE-4B38-AAE6-25EF064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C9F9-09F8-445C-A476-8A16462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10B0-100D-41CA-8337-D857D8D0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9C26-E4B2-40B4-844D-385B6C9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547-2685-4023-8080-A82A794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F4F-7E7D-4F1F-84BA-9F3B843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40E-EBD2-4BFD-A936-895415B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E24-884C-4BB4-9DCD-89A73FF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CDE3-22D5-40B2-B07D-9C67441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419-8CB4-4210-BAED-BFA87B0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643-A92A-4CA5-B39B-09940DD8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9A1-2171-4D2F-BDFF-029D34FC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663-C733-4A71-BB8B-80BB03EF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5C7-F035-4622-9DA9-76FB426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726-6EF5-46AA-BE94-37D3BE2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60" y="691920"/>
            <a:ext cx="90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851-AA97-41A6-A615-8E34360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BE2-7512-41FE-A62C-E82C220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140-66B1-4D53-8140-98121D0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40A-0E1C-4A60-8AAB-DA96D74A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9BD-AFC8-47D2-BDBD-C0D518AD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347-3C34-4A8C-BDC7-D586C7C1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《十八岁出门远行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版本：苏教版 必修三读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时：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人：盛刚（江苏灌南高级中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华的呼喊温情是发自内心的，近乎刻骨铭心之本能。这很可能与作家童年经历中的温情缺失有关。余华的童年的确缺少了“金色”。余华随笔《最初的现实》，回忆其父母常将童年的他和哥哥关在上了锁得阁楼，他很少得到正常的父母关爱，余华从小便落下温情缺失之伤痕，后来这又成了余华母题赖以萌动的生命存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中义《论余华小说的母题演化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9093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必须以现实做出发点，我们既不能象孙行者的摇身一变，脱离这个现实的世界，翻个筋斗到天空里去，那么我们只有向前干的态度，只有排除万难向前奋斗的一个态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实就根本是有缺憾的，必然是不完全的，必然是有着许多不满意的，甚至必然是不着许多令人痛心疾首的，我们既不能逃避现实，就不能逃避这种种，就只有设法来对付这种种；一个人或少数人来对付不够，就只有设法造成集体的力量来对付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韬奋文集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寄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5075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成长有快乐也有迷惘，但人总要长大，而且成长的路上总会有风风雨雨，关键是我们要清醒而且不盲从，保持乐观而年轻、蓬勃的心态。决不能让岁月抢走我们的红背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学流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锋小说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特点是反叛“现实主义”文学。现实主义文学在形式上追求一种“似真性”效果，犹如绘画中的素描，他要求和日常生活经验相一致的阅读效果。而“先锋小说”却恰恰要造成阅读效果和日常经验相脱离。在故事的结构上要打破正常的逻辑关系，在语言上则利用更多的文学修辞增强隐喻功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荐作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余华——《活着》、《许三观卖血记》，体味写实风格下的冷峻笔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卡夫卡——《变形记》，理解荒诞中的真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920" y="47520"/>
            <a:ext cx="914544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26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细黑"/>
              </a:rPr>
              <a:t>十八岁出门远行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余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6165720"/>
            <a:ext cx="3886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灌南高级中学 盛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5440" cy="6811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920" y="404280"/>
            <a:ext cx="9083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了解一个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141300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阅读全文，说说“我”一直在寻找什么？寻找的过程和结果怎样？请按文本叙述的顺序简要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-160200"/>
            <a:ext cx="9045720" cy="6846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25920" y="188640"/>
            <a:ext cx="90838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体味一段心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4860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寻找中，“我”都有哪些心境的变化？在文中找出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120" y="3298680"/>
            <a:ext cx="28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组——细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-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组——细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-3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组——细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4-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" y="4510080"/>
            <a:ext cx="91314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余华小说的语言非常具有特色，作者在叙述与描写的时候，注重的不是客观世界的本来面目，而是它们在自己心中的感觉。细腻的个人感觉充满了整个小说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9093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看到那个司机高高翘起的屁股，屁股上有晚霞。司机的脑袋我看不见，他的脑袋正塞在车头里。那车头的盖子斜斜翘起，像是翻起的嘴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看到那个司机将头伸入车盖，一抹晚霞披在他的身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93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走在这条山区公路上，我像一条船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下巴上那几根黄色的胡须迎风飘飘，那是第一批来这里定居的胡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脑袋的地方长出了一个旅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起来用手一摸，鼻子软塌塌地不是贴着而是挂在脸上，鲜血像是伤心的眼泪一样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0537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春的心灵之旅往往源于热情、朝气蓬勃而又富于幻想，而现实世界则常常充满诱惑而令人失望，犹如一个个重复得“叫人沮丧的弧度”；青春之路一旦受阻，就会令人变得迷惘盲从，不知所措。远行的理想目标和眼前的功利目的又令“我已经不在乎方向”，失去了选择的意义和价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60" y="44280"/>
            <a:ext cx="9107640" cy="6813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475920"/>
            <a:ext cx="9096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坚持一种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55736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探讨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汽车和旅店是否具有象征意义，如果有，象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理解汽车司机的反常行为和农人的抢劫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9093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说传达给我们的不只是栩栩如生或者激动人心之类的价值，它应该是象征的存在。象征并不是从某个人物或者某一条河流那里显示。一部真正的小说应该无处不洋溢着象征，即我们寓居世界的象征，我们理解并与世界打交道的方式的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30:28Z</dcterms:created>
  <dc:creator>flamice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