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6.png" ContentType="image/png"/>
  <Override PartName="/ppt/media/chimes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1828800" y="166536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隶书"/>
                <a:ea typeface="隶书"/>
              </a:rPr>
              <a:t>淚珠與珍珠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5183280" y="42670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赵晓瑜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9685440" y="6705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14048" fill="hold"/>
                                        <p:tgtEl>
                                          <p:spTgt spid="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436480" y="536400"/>
            <a:ext cx="17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华文中宋"/>
                <a:ea typeface="华文中宋"/>
              </a:rPr>
              <a:t>赏  析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59800" y="2309760"/>
            <a:ext cx="4021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请找出你认为这篇散文写得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的地方，或最能打动你的地方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谈谈你的感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781080" y="129528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再见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4"/>
          <a:stretch/>
        </p:blipFill>
        <p:spPr>
          <a:xfrm>
            <a:off x="0" y="335268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572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648320" cy="3429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648320" cy="342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648320" y="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387960" y="388800"/>
            <a:ext cx="236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作 者 简 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0600" y="1752480"/>
            <a:ext cx="61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宋体"/>
                <a:ea typeface="宋体"/>
              </a:rPr>
              <a:t>【琦君】（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  <a:ea typeface="宋体"/>
              </a:rPr>
              <a:t>1918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  <a:ea typeface="宋体"/>
              </a:rPr>
              <a:t>～   ）现、当代女作家。原名潘希真。浙江永嘉人。毕业于杭州之江大学中文系，师从词学家夏承焘。曾任台湾中央大学教授。主要作品有《烟愁》、《细纱灯》、《与我同车》、《橘子红了》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95880" y="1905120"/>
            <a:ext cx="2743200" cy="3200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853280" y="5257800"/>
            <a:ext cx="560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宋体"/>
                <a:ea typeface="宋体"/>
              </a:rPr>
              <a:t>  </a:t>
            </a:r>
            <a:r>
              <a:rPr b="0" lang="zh-CN" sz="3200" spc="-1" strike="noStrike">
                <a:solidFill>
                  <a:srgbClr val="3333cc"/>
                </a:solidFill>
                <a:latin typeface="宋体"/>
                <a:ea typeface="宋体"/>
              </a:rPr>
              <a:t>作者擅长小品散文，风格朴实淡雅，亲切感人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宋体"/>
                <a:ea typeface="宋体"/>
              </a:rPr>
              <a:t>思想深沉广阔，感情真挚，耐人寻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101343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58040" y="1066680"/>
            <a:ext cx="494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散文讲求“形散神聚”，那么这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散文的“神”是什么？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(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文眼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77520" y="3429000"/>
            <a:ext cx="426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“</a:t>
            </a:r>
            <a:r>
              <a:rPr b="0" lang="zh-CN" sz="4000" spc="-1" strike="noStrike">
                <a:solidFill>
                  <a:srgbClr val="3333cc"/>
                </a:solidFill>
                <a:latin typeface="宋体"/>
                <a:ea typeface="隶书"/>
              </a:rPr>
              <a:t>眼因流多泪水而愈益清明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宋体"/>
                <a:ea typeface="隶书"/>
              </a:rPr>
              <a:t>心因饱经忧患而愈益温厚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0"/>
            <a:ext cx="8610480" cy="59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Century Gothic"/>
                <a:ea typeface="隶书"/>
              </a:rPr>
              <a:t>                  </a:t>
            </a:r>
            <a:r>
              <a:rPr b="1" lang="zh-CN" sz="4800" spc="-1" strike="noStrike">
                <a:solidFill>
                  <a:srgbClr val="ff0000"/>
                </a:solidFill>
                <a:latin typeface="Century Gothic"/>
                <a:ea typeface="隶书"/>
              </a:rPr>
              <a:t>讨 论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华文中宋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眼因流多泪水而愈益清明，心因饱经忧患而愈益温厚”作者当时是否能深刻理解这句话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 “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探亲文学”中为什么会有那么多眼泪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儿子是否永远都无法理解妈妈流泪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作者认为人们在什么时候才能体会杜老“眼枯见骨”的哀痛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何理解“这一粒珍珠，又未始不是牡蛎的泪珠呢”这句话的含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芸芸众生与信徒们为什么会流泪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68360" y="254880"/>
            <a:ext cx="5761080" cy="63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【乡愁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小时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乡愁是一枚小小的邮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我在这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母亲在那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长大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乡愁是一张窄窄的船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我在这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新娘在那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后来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乡愁是一方矮矮的坟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我在外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母亲呵在里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而现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乡愁是一湾浅浅的海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我在这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大陆在那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14400" y="6858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作者的情感路线是如何展开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0574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谈诗论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55600" y="20574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探询人间亲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69600" y="45720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评判人生境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62840" y="2743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（感悟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53960" y="2666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（领悟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69600" y="52578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（大彻大悟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819520"/>
            <a:ext cx="1143000" cy="17524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2438280"/>
            <a:ext cx="14475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419360" y="2819520"/>
            <a:ext cx="990360" cy="17524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914400"/>
            <a:ext cx="7543800" cy="33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黑体"/>
              </a:rPr>
              <a:t>人生的至高境界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悲天悯人，以佛心的宽广与慈悲来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众生顿悟，令众生成就伟大的心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4:16:35Z</dcterms:created>
  <dc:creator>Administrator</dc:creator>
  <dc:description/>
  <dc:language>en-US</dc:language>
  <cp:lastModifiedBy>MC SYSTEM</cp:lastModifiedBy>
  <dcterms:modified xsi:type="dcterms:W3CDTF">2004-12-03T13:59:48Z</dcterms:modified>
  <cp:revision>48</cp:revision>
  <dc:subject/>
  <dc:title>泪珠与珍珠</dc:title>
</cp:coreProperties>
</file>