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FA8-DB03-4433-90F1-EA4BFE7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2F5-B5D6-40A6-85E8-439B720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9B0-12D3-4BC5-8A15-CDD2B780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BFD-F40F-4386-B44C-343B64DD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047-5AA0-4938-B838-9A87E106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764-47CD-4D19-AEC7-F7610F5B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09-C225-48DC-9B27-143F6D3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207-8C56-4917-B013-B8BBFB25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722-2D39-447E-8026-F00AB9A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65A-969E-42D4-857C-864457AF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B93-DCD3-4724-935F-1C0DE39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460-EBF8-4047-AD18-FD78AA6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580C-E9FA-45EF-8AC9-7A8B028B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917404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692360" y="1052640"/>
            <a:ext cx="590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b0f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庄子与惠子游于濠梁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b0f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u=4140011571,420196036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39640" y="0"/>
            <a:ext cx="7704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子与惠子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濠梁之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子曰：“鯈鱼出游从容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鱼之乐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惠子曰：“子非鱼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鱼之乐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子曰：“子非我，安知我不知鱼之乐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55640" y="141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庄子与惠施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濠水的桥上游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84360" y="24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庄子说：“白鱼在河水中游得多么悠闲自得，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鱼的快乐啊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41497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惠子说：“你不是鱼，怎么知道鱼的快乐呢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55640" y="551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庄子说：“你不是我，怎么知道我不知道鱼的快乐呢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12000" y="836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651640" y="2997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236000" y="39225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02000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u=4140011571,4201960368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11280" y="0"/>
            <a:ext cx="76327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惠子曰：“我非子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知子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固非鱼，子之不知鱼之乐全矣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庄子曰：“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曰‘汝安知鱼乐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吾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问我，我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濠上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1280" y="112536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惠施说：“我不是你，本来就不知道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5280" y="191628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本来就不是鱼，你不知道鱼的快乐，是可以肯定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00000" y="350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庄子说：“请从我们最初的话题说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26920" y="4724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说‘你哪儿知道鱼快乐’的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0920" y="566100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明你已经知道我知道鱼快乐而在问我。我是在濠水的桥上知道的。”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732720" y="47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716360" y="2492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16360" y="2997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初的话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292720" y="400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如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859280" y="609300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代鱼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1763640" y="2478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BAS001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780000" y="90792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庄子坚持认为“出游从容”的鱼儿很快乐，表现了他怎样的心境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835280" y="3141720"/>
            <a:ext cx="576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庄子认为鱼“乐”，其实是他愉悦心境的投射与外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09"/>
          <p:cNvPicPr/>
          <p:nvPr/>
        </p:nvPicPr>
        <p:blipFill>
          <a:blip r:embed="rId1"/>
          <a:stretch/>
        </p:blipFill>
        <p:spPr>
          <a:xfrm>
            <a:off x="0" y="-6480"/>
            <a:ext cx="8839080" cy="6864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50920" y="1052640"/>
            <a:ext cx="66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庄子和惠子的辩论中，谁是胜者？关于这一点，历来争论不休。归结起来，主要有以下几种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从故事本身来看，庄子占了上风。结尾处，在惠子巧妙地援引庄子的反驳建立起符合逻辑的推理后，庄子似乎应该无言以对而就此认输了，可是他却又返回争论的起始，借偷换概念而避重就轻地将惠子的发难化解了。所谓偷换概念，指他把惠子说的“安知”，解释成“哪里知道”或“怎样知道”，而惠子的本意却是“怎么（能）知道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认为在庄子和惠子的辩论中，谁是胜者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009"/>
          <p:cNvPicPr/>
          <p:nvPr/>
        </p:nvPicPr>
        <p:blipFill>
          <a:blip r:embed="rId1"/>
          <a:stretch/>
        </p:blipFill>
        <p:spPr>
          <a:xfrm>
            <a:off x="0" y="-6480"/>
            <a:ext cx="8839080" cy="686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0"/>
            <a:ext cx="64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逻辑上看，惠子是胜者。前面说过，庄子是靠故意曲解惠子的意思，才在争论中得以维持自己最初的判断，而这种做法显然是有悖于逻辑判断规则的，所以说，惠子才是胜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逻辑上看，庄子其实并不应该输，只是他没找准方向，以至给惠子留下了可乘之机。惠子最初的发问是这样的：“子非鱼，安知鱼之乐？”这里暗含有这样的判断：惠子能够知道庄子“非鱼”。因此，庄子完全可以这样回敬惠子：你既然可以知道我不是鱼，我当然也可以知道鱼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文章的美点 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第二则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9880" y="1495440"/>
            <a:ext cx="60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轻松闲适，趣意盎然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一力辩，一巧辩；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一求真，一尚美；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一拘泥，一超然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1:14:55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10:14:2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