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4AA5-1706-436B-B390-CA52BD3E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B0C7-93B9-4093-A9CB-DFE9D7DE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1A7D-50F7-44FC-85AB-C7D4466B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604A-F3CC-4FE0-9564-23E31656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AACA-0FD4-4012-AEFA-9CACA701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DD21-39C5-41B5-AC1A-1CAB638F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1B40-9841-4FB8-966E-6767354E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10F1-B7A0-4C88-A7F0-DBE02DE8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F2F9-C7F3-48E2-A69C-221CF351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BB4F-4388-481B-B645-ADAC76D9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4ECB-B3B0-44CC-A7BB-6F5E82EC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E55F-7C01-473E-AA1F-FAE9D45E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662E-1D83-4857-833C-33FC251E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F7C2-77DF-41A6-90C9-9F70B482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B184-D460-4C52-9D42-C2D81D08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1F94-C27A-453D-A4B7-49B15E44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59C4-B7A8-4046-BCFE-0EAB5D8D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472244-713D-4655-BAC5-A9CA52EE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1F50B-DA4E-4C42-85D5-BFA80BC8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DAD72-3903-4B67-9710-D288CD3E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075A6-EBA5-44C0-AD1D-7947E745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FBE00-D105-4070-9E00-94439361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B73-AC7A-4C67-9FAD-624DEB2D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93056-792C-4A72-B520-86C4EB87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EA706-C929-44CB-991D-C9F6286A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5BA0B-611B-432D-B193-BBDEE6FC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EC454-4AB4-4ECE-A7B0-98209A40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4D8AF-D2D1-4930-9F6B-F937A3E0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68D2F-2417-40A4-B8EB-5F95A963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2A92B5-61CF-43E4-A886-31319DBE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70C414-1D83-414C-B563-50D2E35E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AA8AA1-D19E-4F56-BB8D-911FB723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BE9FF-CC99-447F-BC8F-DD05EE8E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174-F906-452F-8E33-C22BD6C9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2A7FDA-5681-46EE-9022-A13071B9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6B49A7-AADF-4C99-8133-F51C17C9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2F4A06-AFD2-4907-891D-6F2BDF01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2B6FC1-6E1F-41C3-9B75-96021844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C2B8D3-E893-40CB-907A-1B7181FE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D3A464-97D7-4AF2-A4A3-23251753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71FA6A-4111-4E81-94FA-2151DB82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44D832-6EE2-4948-B09D-90A64D23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84E4F3-5558-4143-9C44-1A5305BC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E33684-F668-4050-B70F-ACDAC40F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EDE-06C6-473D-855A-4A943383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B6FF5-6B85-4D5D-A0C5-28D8A9D8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D8019E-F2E2-4705-A782-E774B66B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52BE6E-4DC8-4A52-B7FB-F7668271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7EA502-6545-4D02-97BB-009854AC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FFCD0E-FF1B-44BA-993E-5F59C862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9A8DB1-CDC0-4110-9EF5-6AF7CB16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152C5-2DD2-44DE-B419-25EB5528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D403A-6AFB-4764-BAA2-1A2FCC7C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39CFAE-EBB5-4FD7-A4DB-7D662046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FC9AE0-7648-421F-98C5-533CB4B6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F83-16D5-41C7-B856-B9C7890D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C3125C-5677-4075-9CD8-277319B2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67E661-76EF-4B60-8F32-EC25119D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D8B37-989C-41CD-AFBD-F7FA0E67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A28869-F356-4F37-9304-52CF0592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56E530-7B42-4ADD-A344-B93D0B54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384AEB-4762-49E2-A9B2-0E1122A0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4872C6-12DA-457F-A62E-6C516062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C98D35-BA1B-4AB4-A074-A3062AA5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5B9345-CDAF-4F8B-8B80-9C678FAA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4754E-9ADE-4AB7-8C02-F9112397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A50-75EE-4F5F-BFF0-CDFA5213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73DABC-4B49-4833-8F7E-027BCF97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DFB32-3D33-418E-9FAD-5909D941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70CB98-BE2F-44B9-B91C-725500E5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A9F94-F741-4689-AEE0-5AA8322A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A171D7-2DF6-4F6B-A158-BFB4C394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E20159-C2CB-4C12-BDAC-436CD970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69D42F-23E9-4073-953A-45AB9745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D1E7C8-1B7D-41E0-BD4A-0444EDDF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123BF-4B37-4358-A086-1B877D60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CB0649-0B05-4F83-9E0C-60EA41DE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0C6-10B1-4765-8A69-A2FCBAEB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515B9F-AC84-4232-914B-FF8C497A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5AFD30-98F6-4E10-BBF6-0A62B175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CC47A-91ED-4656-AA54-34EA8031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7070F5-FD49-4C81-B025-8C9E0888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4A9BE9-D759-4BE8-A5ED-728B7D72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B39-FE43-47F3-8461-C2212E6B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B6E5-45AD-4735-BA15-BB4CEF40C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C577-15B4-4606-B626-C8B2E081D5FC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AE0A-EF96-4993-8399-6221CEC334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E641-F3F5-4CCF-935D-6BA28ADCD2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E4B4-87C5-41F2-830D-D527FC67A5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0B1D-FC07-4584-A086-1CED3CF4F0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415F-3956-4184-9CEF-0F23296325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1-4"/>
          <p:cNvPicPr/>
          <p:nvPr/>
        </p:nvPicPr>
        <p:blipFill>
          <a:blip r:embed="rId1"/>
          <a:stretch/>
        </p:blipFill>
        <p:spPr>
          <a:xfrm>
            <a:off x="0" y="1066680"/>
            <a:ext cx="9110520" cy="5788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6654600" y="228600"/>
            <a:ext cx="16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华文行楷"/>
              </a:rPr>
              <a:t>《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行楷"/>
              </a:rPr>
              <a:t>左传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华文行楷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4"/>
          <p:cNvSpPr txBox="1"/>
          <p:nvPr/>
        </p:nvSpPr>
        <p:spPr>
          <a:xfrm>
            <a:off x="762120" y="-69840"/>
            <a:ext cx="518148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黑体"/>
              </a:rPr>
              <a:t>烛之武退秦师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黑体"/>
              <a:ea typeface="黑体"/>
            </a:endParaRPr>
          </a:p>
        </p:txBody>
      </p:sp>
      <p:pic>
        <p:nvPicPr>
          <p:cNvPr id="290" name="秦桑曲.mp3" descr=""/>
          <p:cNvPicPr/>
          <p:nvPr/>
        </p:nvPicPr>
        <p:blipFill>
          <a:blip r:embed="rId2"/>
          <a:stretch/>
        </p:blipFill>
        <p:spPr>
          <a:xfrm>
            <a:off x="1332000" y="494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6"/>
          <p:cNvSpPr/>
          <p:nvPr/>
        </p:nvSpPr>
        <p:spPr>
          <a:xfrm>
            <a:off x="3857760" y="1212840"/>
            <a:ext cx="49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隶书"/>
                <a:ea typeface="华文隶书"/>
              </a:rPr>
              <a:t>第二课时   ——课文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4050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038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夜缒而出。见秦伯，曰：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秦晋围郑，郑既知亡矣。若亡郑而有益于君，敢以烦执事。越国以鄙远，君知其难也；焉用亡郑以陪邻？邻之厚，君之薄也。若舍郑以为东道主，行李之往来，共其乏困，君亦无所害。且君尝为晋君赐矣，许君焦、瑕，朝济而夕设版焉，君之所知也。夫晋，何厌之有？既东封郑，又欲肆其西封；若不阙秦，将焉取之？阙秦以利晋，唯君图之。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秦伯说，与郑人盟。使杞子、逢孙、杨孙戍之，乃还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0" y="464832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烛之武劝说秦伯的说辞可以分为几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你认为哪一句说辞最能打动秦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、品析烛之武的语言艺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"/>
          <p:cNvSpPr/>
          <p:nvPr/>
        </p:nvSpPr>
        <p:spPr>
          <a:xfrm>
            <a:off x="0" y="3886200"/>
            <a:ext cx="9144000" cy="1981080"/>
          </a:xfrm>
          <a:prstGeom prst="wedgeRectCallout">
            <a:avLst>
              <a:gd name="adj1" fmla="val 861"/>
              <a:gd name="adj2" fmla="val 49509"/>
            </a:avLst>
          </a:prstGeom>
          <a:solidFill>
            <a:srgbClr val="80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层：亡郑利晋。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（语气平稳、严正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层：存郑利秦。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（语气高亢、诚恳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层：回顾过去，晋不讲信用。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（语气慷慨激烈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层：展望未来 ，晋必将攻秦。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（语气慷慨激烈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0" y="0"/>
            <a:ext cx="1447920" cy="45972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方正姚体"/>
              </a:rPr>
              <a:t>诵读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3"/>
          <p:cNvSpPr/>
          <p:nvPr/>
        </p:nvSpPr>
        <p:spPr>
          <a:xfrm>
            <a:off x="8229600" y="990720"/>
            <a:ext cx="0" cy="380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4"/>
          <p:cNvSpPr/>
          <p:nvPr/>
        </p:nvSpPr>
        <p:spPr>
          <a:xfrm>
            <a:off x="457200" y="1828800"/>
            <a:ext cx="0" cy="380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5"/>
          <p:cNvSpPr/>
          <p:nvPr/>
        </p:nvSpPr>
        <p:spPr>
          <a:xfrm>
            <a:off x="2133720" y="2209680"/>
            <a:ext cx="0" cy="381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6">
            <a:hlinkClick r:id="" action="ppaction://hlinkshowjump?jump=nextslide"/>
          </p:cNvPr>
          <p:cNvSpPr/>
          <p:nvPr/>
        </p:nvSpPr>
        <p:spPr>
          <a:xfrm>
            <a:off x="7543800" y="6491160"/>
            <a:ext cx="1600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方正姚体"/>
              </a:rPr>
              <a:t>转语言艺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1066680" y="25146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亡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4419720" y="27432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无利有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2286000" y="2362320"/>
            <a:ext cx="1981080" cy="685800"/>
            <a:chOff x="2286000" y="2362320"/>
            <a:chExt cx="1981080" cy="685800"/>
          </a:xfrm>
        </p:grpSpPr>
        <p:sp>
          <p:nvSpPr>
            <p:cNvPr id="372" name="Text Box 5"/>
            <p:cNvSpPr/>
            <p:nvPr/>
          </p:nvSpPr>
          <p:spPr>
            <a:xfrm>
              <a:off x="2743200" y="23623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对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6"/>
            <p:cNvSpPr/>
            <p:nvPr/>
          </p:nvSpPr>
          <p:spPr>
            <a:xfrm>
              <a:off x="2286000" y="3048120"/>
              <a:ext cx="19810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7"/>
          <p:cNvSpPr/>
          <p:nvPr/>
        </p:nvSpPr>
        <p:spPr>
          <a:xfrm>
            <a:off x="1143000" y="39625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舍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4419720" y="38862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无害有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2286000" y="3657600"/>
            <a:ext cx="1981080" cy="609480"/>
            <a:chOff x="2286000" y="3657600"/>
            <a:chExt cx="1981080" cy="609480"/>
          </a:xfrm>
        </p:grpSpPr>
        <p:sp>
          <p:nvSpPr>
            <p:cNvPr id="377" name="Text Box 10"/>
            <p:cNvSpPr/>
            <p:nvPr/>
          </p:nvSpPr>
          <p:spPr>
            <a:xfrm>
              <a:off x="2743200" y="36576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对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1"/>
            <p:cNvSpPr/>
            <p:nvPr/>
          </p:nvSpPr>
          <p:spPr>
            <a:xfrm>
              <a:off x="2286000" y="4267080"/>
              <a:ext cx="19810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 Box 12"/>
          <p:cNvSpPr/>
          <p:nvPr/>
        </p:nvSpPr>
        <p:spPr>
          <a:xfrm>
            <a:off x="1143000" y="48769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亡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4495680" y="5105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将有大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4"/>
          <p:cNvGrpSpPr/>
          <p:nvPr/>
        </p:nvGrpSpPr>
        <p:grpSpPr>
          <a:xfrm>
            <a:off x="2286000" y="4800600"/>
            <a:ext cx="1981080" cy="685800"/>
            <a:chOff x="2286000" y="4800600"/>
            <a:chExt cx="1981080" cy="685800"/>
          </a:xfrm>
        </p:grpSpPr>
        <p:sp>
          <p:nvSpPr>
            <p:cNvPr id="382" name="Text Box 15"/>
            <p:cNvSpPr/>
            <p:nvPr/>
          </p:nvSpPr>
          <p:spPr>
            <a:xfrm>
              <a:off x="2743200" y="48006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对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6"/>
            <p:cNvSpPr/>
            <p:nvPr/>
          </p:nvSpPr>
          <p:spPr>
            <a:xfrm>
              <a:off x="2286000" y="5486400"/>
              <a:ext cx="19810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7"/>
          <p:cNvGrpSpPr/>
          <p:nvPr/>
        </p:nvGrpSpPr>
        <p:grpSpPr>
          <a:xfrm>
            <a:off x="6878520" y="1143000"/>
            <a:ext cx="1277640" cy="4876560"/>
            <a:chOff x="6878520" y="1143000"/>
            <a:chExt cx="1277640" cy="4876560"/>
          </a:xfrm>
        </p:grpSpPr>
        <p:sp>
          <p:nvSpPr>
            <p:cNvPr id="385" name="Line 18"/>
            <p:cNvSpPr/>
            <p:nvPr/>
          </p:nvSpPr>
          <p:spPr>
            <a:xfrm>
              <a:off x="7391520" y="1143000"/>
              <a:ext cx="0" cy="48765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6878520" y="1429560"/>
              <a:ext cx="1277640" cy="43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分析利弊，层层深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20"/>
          <p:cNvSpPr/>
          <p:nvPr/>
        </p:nvSpPr>
        <p:spPr>
          <a:xfrm>
            <a:off x="-183600" y="1224000"/>
            <a:ext cx="115524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b"/>
                </a:solidFill>
                <a:latin typeface="黑体"/>
                <a:ea typeface="黑体"/>
              </a:rPr>
              <a:t>表面为秦</a:t>
            </a:r>
            <a:r>
              <a:rPr b="1" lang="en-US" sz="3200" spc="-1" strike="noStrike">
                <a:solidFill>
                  <a:srgbClr val="000c0b"/>
                </a:solidFill>
                <a:latin typeface="黑体"/>
                <a:ea typeface="黑体"/>
              </a:rPr>
              <a:t>-----</a:t>
            </a:r>
            <a:r>
              <a:rPr b="1" lang="zh-CN" sz="3200" spc="-1" strike="noStrike">
                <a:solidFill>
                  <a:srgbClr val="000c0b"/>
                </a:solidFill>
                <a:latin typeface="黑体"/>
                <a:ea typeface="黑体"/>
              </a:rPr>
              <a:t>实质为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14400" y="32004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b"/>
                </a:solidFill>
                <a:latin typeface="黑体"/>
                <a:ea typeface="黑体"/>
              </a:rPr>
              <a:t>（表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3"/>
          <p:cNvSpPr/>
          <p:nvPr/>
        </p:nvSpPr>
        <p:spPr>
          <a:xfrm>
            <a:off x="914400" y="54864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b"/>
                </a:solidFill>
                <a:latin typeface="黑体"/>
                <a:ea typeface="黑体"/>
              </a:rPr>
              <a:t>（深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1600200" y="0"/>
            <a:ext cx="5715000" cy="8251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烛之武的语言艺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6">
            <a:hlinkClick r:id="" action="ppaction://hlinkshowjump?jump=nextslide"/>
          </p:cNvPr>
          <p:cNvSpPr/>
          <p:nvPr/>
        </p:nvSpPr>
        <p:spPr>
          <a:xfrm>
            <a:off x="7543800" y="6491160"/>
            <a:ext cx="1600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方正姚体"/>
              </a:rPr>
              <a:t>转古人点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"/>
          <p:cNvSpPr/>
          <p:nvPr/>
        </p:nvSpPr>
        <p:spPr>
          <a:xfrm>
            <a:off x="990720" y="1447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知郑必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3733920" y="14479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放低姿态避其锐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0" y="2819520"/>
            <a:ext cx="3505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二、善于分析利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0" y="1600200"/>
            <a:ext cx="3505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一、讲究语言艺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0" y="4114800"/>
            <a:ext cx="3505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三、善于揣摩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1600200" y="304920"/>
            <a:ext cx="5181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烛之武的游说艺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0" y="5334120"/>
            <a:ext cx="3505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四、善于利用矛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7"/>
          <p:cNvGrpSpPr/>
          <p:nvPr/>
        </p:nvGrpSpPr>
        <p:grpSpPr>
          <a:xfrm>
            <a:off x="3659040" y="1905120"/>
            <a:ext cx="1369800" cy="4038120"/>
            <a:chOff x="3659040" y="1905120"/>
            <a:chExt cx="1369800" cy="4038120"/>
          </a:xfrm>
        </p:grpSpPr>
        <p:sp>
          <p:nvSpPr>
            <p:cNvPr id="400" name="AutoShape 8"/>
            <p:cNvSpPr/>
            <p:nvPr/>
          </p:nvSpPr>
          <p:spPr>
            <a:xfrm>
              <a:off x="3659040" y="2008800"/>
              <a:ext cx="420120" cy="3727440"/>
            </a:xfrm>
            <a:custGeom>
              <a:avLst/>
              <a:gdLst>
                <a:gd name="textAreaLeft" fmla="*/ 0 w 420120"/>
                <a:gd name="textAreaRight" fmla="*/ 151560 w 420120"/>
                <a:gd name="textAreaTop" fmla="*/ 97200 h 3727440"/>
                <a:gd name="textAreaBottom" fmla="*/ 3630240 h 372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9"/>
            <p:cNvSpPr/>
            <p:nvPr/>
          </p:nvSpPr>
          <p:spPr>
            <a:xfrm>
              <a:off x="3751200" y="1905120"/>
              <a:ext cx="1277640" cy="40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机智善辩的外交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AutoShape 10"/>
          <p:cNvSpPr/>
          <p:nvPr/>
        </p:nvSpPr>
        <p:spPr>
          <a:xfrm>
            <a:off x="5181480" y="2057400"/>
            <a:ext cx="381240" cy="373392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5562720" y="2133720"/>
            <a:ext cx="3504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以“利”巧攻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5486400" y="3505320"/>
            <a:ext cx="3505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以“害”巧析形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5486400" y="5029200"/>
            <a:ext cx="3505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以“史”巧施离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08" name="Picture 4" descr="1-11"/>
          <p:cNvPicPr/>
          <p:nvPr/>
        </p:nvPicPr>
        <p:blipFill>
          <a:blip r:embed="rId1"/>
          <a:stretch/>
        </p:blipFill>
        <p:spPr>
          <a:xfrm>
            <a:off x="1519200" y="1438200"/>
            <a:ext cx="6105600" cy="39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11" name="Picture 4" descr="1-12"/>
          <p:cNvPicPr/>
          <p:nvPr/>
        </p:nvPicPr>
        <p:blipFill>
          <a:blip r:embed="rId1"/>
          <a:stretch/>
        </p:blipFill>
        <p:spPr>
          <a:xfrm>
            <a:off x="1619280" y="2090880"/>
            <a:ext cx="590544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14" name="Picture 4" descr="1-13"/>
          <p:cNvPicPr/>
          <p:nvPr/>
        </p:nvPicPr>
        <p:blipFill>
          <a:blip r:embed="rId1"/>
          <a:stretch/>
        </p:blipFill>
        <p:spPr>
          <a:xfrm>
            <a:off x="1795320" y="2185920"/>
            <a:ext cx="5553360" cy="24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17" name="Picture 4" descr="1-14"/>
          <p:cNvPicPr/>
          <p:nvPr/>
        </p:nvPicPr>
        <p:blipFill>
          <a:blip r:embed="rId1"/>
          <a:stretch/>
        </p:blipFill>
        <p:spPr>
          <a:xfrm>
            <a:off x="1838160" y="1700280"/>
            <a:ext cx="54676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古人对烛之武说辞的评论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——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如此辞令，真无一字不妙，无一着不老靠圆密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Garamond"/>
                <a:ea typeface="仿宋_GB2312"/>
              </a:rPr>
              <a:t>         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Garamond"/>
                <a:ea typeface="仿宋_GB2312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仿宋_GB2312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Garamond"/>
                <a:ea typeface="仿宋_GB2312"/>
              </a:rPr>
              <a:t>魏禧</a:t>
            </a:r>
            <a:r>
              <a:rPr b="1" lang="en-US" sz="3200" spc="-1" strike="noStrike">
                <a:solidFill>
                  <a:srgbClr val="ff3300"/>
                </a:solidFill>
                <a:latin typeface="Garamond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Garamond"/>
                <a:ea typeface="仿宋_GB2312"/>
              </a:rPr>
              <a:t>左传经世钞</a:t>
            </a:r>
            <a:r>
              <a:rPr b="1" lang="en-US" sz="3200" spc="-1" strike="noStrike">
                <a:solidFill>
                  <a:srgbClr val="ff3300"/>
                </a:solidFill>
                <a:latin typeface="Garamond"/>
                <a:ea typeface="仿宋_GB2312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一言之辩，重于九鼎之宝；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三寸之舌，强于百万之师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仿宋_GB2312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刘勰</a:t>
            </a:r>
            <a:r>
              <a:rPr b="1" lang="en-US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文心雕龙</a:t>
            </a:r>
            <a:r>
              <a:rPr b="1" lang="en-US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Text Box 16">
            <a:hlinkClick r:id="" action="ppaction://hlinkshowjump?jump=nextslide"/>
          </p:cNvPr>
          <p:cNvSpPr/>
          <p:nvPr/>
        </p:nvSpPr>
        <p:spPr>
          <a:xfrm>
            <a:off x="7543800" y="6491160"/>
            <a:ext cx="1600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方正姚体"/>
              </a:rPr>
              <a:t>转第四 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2819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子犯请击之。公曰：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不可。微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夫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人之力不及此。因人之力而敝之，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不仁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；失其所与，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不知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；以乱易整，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不武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。吾其还也。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亦去之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152280" y="152280"/>
            <a:ext cx="1447920" cy="45972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方正姚体"/>
              </a:rPr>
              <a:t>诵读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4"/>
          <p:cNvSpPr/>
          <p:nvPr/>
        </p:nvSpPr>
        <p:spPr>
          <a:xfrm>
            <a:off x="380880" y="38098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思考：秦师退后，晋文公有什么表现？（八个字来概括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228600" y="4210560"/>
            <a:ext cx="868680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ctr" pos="27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课文原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可、不仁、不知、不武。最主要的是：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不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6">
            <a:hlinkClick r:id="" action="ppaction://hlinkshowjump?jump=nextslide"/>
          </p:cNvPr>
          <p:cNvSpPr/>
          <p:nvPr/>
        </p:nvSpPr>
        <p:spPr>
          <a:xfrm>
            <a:off x="7543800" y="6491160"/>
            <a:ext cx="1600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方正姚体"/>
              </a:rPr>
              <a:t>转烛之武其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你眼中的烛之武是怎样一个人？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臣之壮也，犹不如人；今老矣，无能为也已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6516720" y="587700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烛之武其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1692360" y="2421000"/>
            <a:ext cx="69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英雄末路，壮志未酬，满腹牢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539640" y="321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许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3132000" y="3213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深明大义，义不容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879480" y="3929040"/>
            <a:ext cx="15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夜缒而出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3060720" y="39290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大义凛然，视死如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900720" y="4648320"/>
            <a:ext cx="16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劝说秦伯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1"/>
          <p:cNvSpPr/>
          <p:nvPr/>
        </p:nvSpPr>
        <p:spPr>
          <a:xfrm>
            <a:off x="3278160" y="4648320"/>
            <a:ext cx="47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娴于辞令，能言善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0" y="3504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方正舒体"/>
                <a:ea typeface="方正舒体"/>
              </a:rPr>
              <a:t>烛之武（   ）退秦师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0" y="1219320"/>
            <a:ext cx="9144000" cy="12952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请在 “退”前加上一个词或短语，概括全文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Garamond"/>
                <a:ea typeface="华文隶书"/>
              </a:rPr>
              <a:t>本课次要人物形象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aramond"/>
                <a:ea typeface="黑体"/>
              </a:rPr>
              <a:t>郑    伯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佚之狐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秦  伯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晋  侯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819520" y="1676520"/>
            <a:ext cx="4190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虚心纳谏     勇于改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2819520" y="2362320"/>
            <a:ext cx="4190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知人善举    慧眼识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2819520" y="3124080"/>
            <a:ext cx="4190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善于决策    善谋利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2819520" y="3886200"/>
            <a:ext cx="4190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头脑清醒    随机应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Garamond"/>
              </a:rPr>
              <a:t>本课艺术特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华文隶书"/>
                <a:ea typeface="华文隶书"/>
              </a:rPr>
              <a:t>1</a:t>
            </a:r>
            <a:r>
              <a:rPr b="0" lang="zh-CN" sz="5400" spc="-1" strike="noStrike">
                <a:solidFill>
                  <a:srgbClr val="0000ff"/>
                </a:solidFill>
                <a:latin typeface="华文隶书"/>
                <a:ea typeface="华文隶书"/>
              </a:rPr>
              <a:t>．伏笔与照应    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华文隶书"/>
                <a:ea typeface="华文隶书"/>
              </a:rPr>
              <a:t>2</a:t>
            </a:r>
            <a:r>
              <a:rPr b="0" lang="zh-CN" sz="5400" spc="-1" strike="noStrike">
                <a:solidFill>
                  <a:srgbClr val="0000ff"/>
                </a:solidFill>
                <a:latin typeface="华文隶书"/>
                <a:ea typeface="华文隶书"/>
              </a:rPr>
              <a:t>．波澜起伏   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华文隶书"/>
                <a:ea typeface="华文隶书"/>
              </a:rPr>
              <a:t>3</a:t>
            </a:r>
            <a:r>
              <a:rPr b="0" lang="zh-CN" sz="5400" spc="-1" strike="noStrike">
                <a:solidFill>
                  <a:srgbClr val="0000ff"/>
                </a:solidFill>
                <a:latin typeface="华文隶书"/>
                <a:ea typeface="华文隶书"/>
              </a:rPr>
              <a:t>．详略得当    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1440" y="1440"/>
            <a:ext cx="91425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伏笔与照应   这篇课文虽短，但在叙述故事时，却能够处处注意伏笔与照应。例如，在交代秦、晋围郑的原因时，说是“以其无礼于晋，且贰于楚也”，说明秦、郑并没有多大的矛盾冲突。“晋军函陵，秦军氾南”，为下文烛之武“夜缒而出”，出使并说退秦军埋下了伏笔。“夜缒而出”照应了开头的“秦、晋围郑”，“国危矣”。“许君焦、瑕，朝济而夕设版”和“微夫人之力不及此”，又照应了上文秦、晋虽是联合行动，但貌合神离，既没有驻扎在一起，彼此的行动也不需要通知对方，这就为秦、郑联盟提供了条件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波澜起伏这篇课文充满了波澜，显得生动活泼。如，大军压境，郑国危在旦夕，不禁让人捏着一把汗，而佚之狐的推荐，使郑伯看到了一线希望。读者满以为烛之武会顺利出使敌营，挽狂澜于既倒，谁知他却因长期得不到重用而“辞曰”，打起了退堂鼓，使郑国的希望又趋渺茫。郑伯的自责，也增添了文章的戏剧性。再如，秦国退兵后，子犯建议攻打秦军，秦、晋关系顿时又紧张起来。晋公讲了一番“仁”“知”“武”的大道理，才平息了一场虚惊。课文有张有弛，曲折有致，增加了文章的艺术感染力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．详略得当      这篇课文主要是表现烛之武是怎样说退秦师的，所以重点放在烛之武的说辞上。对“退秦师”的前因后果，只作简略交代。在烛之武“夜缒而出”的前后，郑国君臣和百姓是怎样焦急地等待烛之武的消息，秦国君臣又是以怎样的场面和骄横态度接待这位即将亡国的使臣，作者都一字未提，而是集中笔墨塑造烛之武的形象，从而做到繁简得当，层次井然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1332000" y="1557360"/>
            <a:ext cx="640872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对下列句中划线词语解释，不正确的一项是（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晋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函陵（军：军队）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楚也（贰：从属二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寡人之过也（是：这）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亡郑以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陪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邻（陪：增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4665600" y="23558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pperplate Gothic Bold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0"/>
            <a:ext cx="2881440" cy="86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彩云"/>
              </a:rPr>
              <a:t>本课验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1258920" y="1413000"/>
            <a:ext cx="691344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下列句中划线词，意义相同的一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然郑亡，子亦有不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焉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阙秦以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晋，唯君图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既东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郑    又欲肆其西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越国以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远，君知其难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肉食者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未能远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若不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秦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秦以利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2666880" y="20574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pperplate Gothic Bold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0"/>
            <a:ext cx="2881440" cy="86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彩云"/>
              </a:rPr>
              <a:t>本课验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1476360" y="1484280"/>
            <a:ext cx="64659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下列“其”字用法不同于其他三项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君知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难也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共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乏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又欲肆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西封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吾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还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4025880" y="22766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pperplate Gothic Bold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0" y="0"/>
            <a:ext cx="2881440" cy="86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彩云"/>
              </a:rPr>
              <a:t>本课验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1692360" y="1557360"/>
            <a:ext cx="59911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与“许之”句式相同的一项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邻之厚，君之薄也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夫晋，何厌之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敢以烦执事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佚之狐言于郑伯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916360" y="23907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pperplate Gothic Bold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0" y="0"/>
            <a:ext cx="2881440" cy="86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彩云"/>
              </a:rPr>
              <a:t>本课验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152280" y="1066680"/>
            <a:ext cx="876312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下列翻译不正确的一项是（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然郑亡，子亦有不利焉：然而郑国灭亡了，对您也不利啊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秦伯说，与郑人盟：秦伯很高兴，与郑国签订了盟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且君尝为晋君赐矣：况且您曾经接受晋国的恩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若舍郑以为东道主：如果您能放弃围攻郑国而把它当作东方道路上的主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0" y="0"/>
            <a:ext cx="2881440" cy="86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彩云"/>
              </a:rPr>
              <a:t>本课验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9"/>
          <p:cNvSpPr/>
          <p:nvPr/>
        </p:nvSpPr>
        <p:spPr>
          <a:xfrm>
            <a:off x="6172200" y="1066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pperplate Gothic Bold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884160" y="1600200"/>
            <a:ext cx="72169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本文选自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它是我国第一部叙事详细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体史书，相传是春秋末年鲁国史官所作，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称为“春秋三传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4140360" y="162864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左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5075280" y="22827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编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1835280" y="3651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公羊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5292720" y="3651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谷梁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0" y="0"/>
            <a:ext cx="2881440" cy="86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彩云"/>
              </a:rPr>
              <a:t>本课验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思考：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哲人说，读史可以明智。学完本文，作为新世纪的青年学子，我们也来做一次现代烛之武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。（请任选其一</a:t>
            </a:r>
            <a:r>
              <a:rPr b="1" lang="en-US" sz="4400" spc="-1" strike="noStrike">
                <a:solidFill>
                  <a:srgbClr val="ffff00"/>
                </a:solidFill>
                <a:latin typeface="黑体"/>
                <a:ea typeface="黑体"/>
              </a:rPr>
              <a:t>,120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字左右）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0"/>
            <a:ext cx="2881440" cy="86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彩云"/>
              </a:rPr>
              <a:t>能力提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3"/>
          <p:cNvSpPr/>
          <p:nvPr/>
        </p:nvSpPr>
        <p:spPr>
          <a:xfrm>
            <a:off x="0" y="609480"/>
            <a:ext cx="9144000" cy="8384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请用简洁的语言概括各段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0" y="2743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秦晋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围郑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临危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受命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说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退秦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师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迫晋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撤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围郑     受命     退秦     撤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6019920" y="19810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ff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7"/>
          <p:cNvSpPr/>
          <p:nvPr/>
        </p:nvSpPr>
        <p:spPr>
          <a:xfrm>
            <a:off x="2362320" y="19810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ff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4191120" y="19810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ff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1905120" y="28954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ff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4343400" y="289548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solidFill>
            <a:srgbClr val="ff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6629400" y="289548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solidFill>
            <a:srgbClr val="ff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矩形 3"/>
          <p:cNvSpPr/>
          <p:nvPr/>
        </p:nvSpPr>
        <p:spPr>
          <a:xfrm>
            <a:off x="228600" y="0"/>
            <a:ext cx="8686800" cy="36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情景一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假设你的邻居或好友学习成绩很好，本来满怀希望考上重点中学，却只考上一所普通高中，父母为此非常失望，自己也因此对家庭厌烦，对学习失去兴趣，正打算辍学离家出走，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请你前去劝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情景二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1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，重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女大学生高渝从重庆市家中出发打算去璧山区的同学家，由于上错车随即失联。直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晚，警方证实高渝被人杀害，嫌犯已被刑拘。据嫌犯蒲正福交代，高渝在搭车途中与其发生争执，随后蒲正福将其杀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遇到歹徒该如何跟歹徒交流以保护自己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【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基础训练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】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（必做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背诵全文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整理学习笔记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完成课后“研讨与练习”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【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拓展阅读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】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（选做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晋公子重耳之亡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崤之战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【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研究性课题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】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（选做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曹刿论战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烛之武退秦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例，探究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左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物描写方面的艺术特点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76320" y="76320"/>
            <a:ext cx="1447560" cy="45972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方正姚体"/>
              </a:rPr>
              <a:t>布置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黑体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晋侯、秦伯围郑，以其无礼于晋，且贰于楚也。晋军函陵，秦军汜南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佚之狐言于郑伯曰：“国危矣，若使烛之武见秦君，师必退。”公从之。辞曰：“臣之壮也，犹不如人；今老矣，无能为也已。”公曰：“吾不能早用子，今急而求子，是寡人之过也。然郑亡，子亦有不利焉。”许之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夜缒而出，见秦伯曰：“秦、晋围郑，郑既知亡矣。若亡郑而有益于君，敢以烦执事。越国以鄙远，君知其难也，焉用亡郑以陪邻？邻之厚，君之薄也。若舍郑以为东道主，行李之往来，共其乏困，君亦无所害。且君尝为晋君赐矣，许君焦、瑕，朝济而夕设版焉，君之所知也。夫晋，何厌之有？既东封郑，又欲肆其西封，若不阙秦，将焉取之？阙秦以利晋，惟君图之。”秦伯说，与郑人盟，使杞子、逢孙、杨孙戍之，乃还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子犯请击之。公曰：“不可。微夫人之力不及此。因人之力而敝之，不仁；失其所与，不知；以乱易整，不武。吾其还也。”亦去之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0" y="0"/>
            <a:ext cx="1447920" cy="45972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方正姚体"/>
              </a:rPr>
              <a:t>课文诵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>
            <a:hlinkClick r:id="" action="ppaction://hlinkshowjump?jump=nextslide"/>
          </p:cNvPr>
          <p:cNvSpPr/>
          <p:nvPr/>
        </p:nvSpPr>
        <p:spPr>
          <a:xfrm>
            <a:off x="7543800" y="6461280"/>
            <a:ext cx="1600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  <a:ea typeface="方正姚体"/>
              </a:rPr>
              <a:t>转分层诵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读课文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——2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自然段</a:t>
            </a:r>
            <a:r>
              <a:rPr b="1" lang="zh-CN" sz="3600" spc="-1" strike="noStrike">
                <a:solidFill>
                  <a:srgbClr val="ffff66"/>
                </a:solidFill>
                <a:latin typeface="黑体"/>
                <a:ea typeface="黑体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黑体"/>
                <a:ea typeface="黑体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烛之武为什么要“夜缒而出”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?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黑体"/>
                <a:ea typeface="黑体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郑国君臣为什么一开始就把劝说目标锁定在“秦军”而不是“晋军”？你能从文中找到根据吗？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Text Box 6">
            <a:hlinkClick r:id="" action="ppaction://hlinkshowjump?jump=nextslide"/>
          </p:cNvPr>
          <p:cNvSpPr/>
          <p:nvPr/>
        </p:nvSpPr>
        <p:spPr>
          <a:xfrm>
            <a:off x="7543800" y="6461280"/>
            <a:ext cx="1600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方正姚体"/>
              </a:rPr>
              <a:t>转第一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aijpg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3"/>
          <p:cNvSpPr/>
          <p:nvPr/>
        </p:nvSpPr>
        <p:spPr>
          <a:xfrm>
            <a:off x="250920" y="587700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隶书"/>
              </a:rPr>
              <a:t>公元前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  <a:ea typeface="隶书"/>
              </a:rPr>
              <a:t>630</a:t>
            </a: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隶书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"/>
          <p:cNvSpPr/>
          <p:nvPr/>
        </p:nvSpPr>
        <p:spPr>
          <a:xfrm>
            <a:off x="6858000" y="5181480"/>
            <a:ext cx="287280" cy="289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6732720" y="5589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30"/>
                </a:solidFill>
                <a:latin typeface="Arial"/>
              </a:rPr>
              <a:t>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6172200" y="51055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新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6804000" y="414972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457200" y="373392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5257800" y="21337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cc"/>
                </a:solidFill>
                <a:latin typeface="Arial"/>
              </a:rPr>
              <a:t>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7162920" y="4495680"/>
            <a:ext cx="1371600" cy="130032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227520 h 1300320"/>
              <a:gd name="textAreaBottom" fmla="*/ 942840 h 130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7243200" y="4800600"/>
            <a:ext cx="13993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秦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1752480" y="4419720"/>
            <a:ext cx="2819520" cy="380880"/>
          </a:xfrm>
          <a:custGeom>
            <a:avLst/>
            <a:gdLst>
              <a:gd name="textAreaLeft" fmla="*/ 352440 w 2819520"/>
              <a:gd name="textAreaRight" fmla="*/ 2467080 w 28195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4419720" y="4419720"/>
            <a:ext cx="2819160" cy="380880"/>
          </a:xfrm>
          <a:custGeom>
            <a:avLst/>
            <a:gdLst>
              <a:gd name="textAreaLeft" fmla="*/ 352440 w 2819160"/>
              <a:gd name="textAreaRight" fmla="*/ 2467080 w 28191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5"/>
          <p:cNvSpPr/>
          <p:nvPr/>
        </p:nvSpPr>
        <p:spPr>
          <a:xfrm>
            <a:off x="4343400" y="2438280"/>
            <a:ext cx="28728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6"/>
          <p:cNvSpPr/>
          <p:nvPr/>
        </p:nvSpPr>
        <p:spPr>
          <a:xfrm>
            <a:off x="304920" y="533520"/>
            <a:ext cx="8686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7"/>
          <p:cNvSpPr/>
          <p:nvPr/>
        </p:nvSpPr>
        <p:spPr>
          <a:xfrm>
            <a:off x="152280" y="380880"/>
            <a:ext cx="883944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Arial"/>
                <a:ea typeface="华文隶书"/>
              </a:rPr>
              <a:t>秦晋围郑示意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 rot="2365800">
            <a:off x="7524000" y="464796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氾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9"/>
          <p:cNvSpPr/>
          <p:nvPr/>
        </p:nvSpPr>
        <p:spPr>
          <a:xfrm rot="19766400">
            <a:off x="6077160" y="3889800"/>
            <a:ext cx="911160" cy="459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黑体"/>
              </a:rPr>
              <a:t>函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7238880" y="4876920"/>
            <a:ext cx="685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氾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21"/>
          <p:cNvSpPr/>
          <p:nvPr/>
        </p:nvSpPr>
        <p:spPr>
          <a:xfrm>
            <a:off x="5257800" y="2209680"/>
            <a:ext cx="1066680" cy="990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22"/>
          <p:cNvSpPr/>
          <p:nvPr/>
        </p:nvSpPr>
        <p:spPr>
          <a:xfrm>
            <a:off x="380880" y="3809880"/>
            <a:ext cx="1067040" cy="990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23"/>
          <p:cNvSpPr/>
          <p:nvPr/>
        </p:nvSpPr>
        <p:spPr>
          <a:xfrm>
            <a:off x="6705720" y="5638680"/>
            <a:ext cx="1066680" cy="990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24"/>
          <p:cNvSpPr/>
          <p:nvPr/>
        </p:nvSpPr>
        <p:spPr>
          <a:xfrm>
            <a:off x="4114800" y="3200400"/>
            <a:ext cx="1981080" cy="2743200"/>
          </a:xfrm>
          <a:custGeom>
            <a:avLst/>
            <a:gdLst>
              <a:gd name="textAreaLeft" fmla="*/ 265320 w 1981080"/>
              <a:gd name="textAreaRight" fmla="*/ 1715760 w 1981080"/>
              <a:gd name="textAreaTop" fmla="*/ 479880 h 2743200"/>
              <a:gd name="textAreaBottom" fmla="*/ 198864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1" stAng="-5400000" swAng="-5400000"/>
                <a:lnTo>
                  <a:pt x="0" y="11877"/>
                </a:lnTo>
                <a:arcTo wR="21600" hR="7561" stAng="10800000" swAng="-2682865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90"/>
                </a:lnTo>
                <a:arcTo wR="21600" hR="7561" stAng="8117135" swAng="2325792"/>
                <a:lnTo>
                  <a:pt x="898" y="9719"/>
                </a:lnTo>
                <a:arcTo wR="21600" hR="7561" stAng="-10442927" swAng="5042927"/>
                <a:close/>
              </a:path>
              <a:path fill="darkenLess" w="21600" h="21600">
                <a:moveTo>
                  <a:pt x="21600" y="0"/>
                </a:moveTo>
                <a:arcTo wR="21600" hR="7561" stAng="-5400000" swAng="-5400000"/>
                <a:lnTo>
                  <a:pt x="0" y="7561"/>
                </a:lnTo>
                <a:arcTo wR="21600" hR="7561" stAng="10800000" swAng="-357073"/>
                <a:lnTo>
                  <a:pt x="898" y="9719"/>
                </a:lnTo>
                <a:arcTo wR="21600" hR="7561" stAng="-10442927" swAng="5042927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33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5"/>
          <p:cNvSpPr/>
          <p:nvPr/>
        </p:nvSpPr>
        <p:spPr>
          <a:xfrm>
            <a:off x="4128120" y="3657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崤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6"/>
          <p:cNvSpPr/>
          <p:nvPr/>
        </p:nvSpPr>
        <p:spPr>
          <a:xfrm>
            <a:off x="0" y="281520"/>
            <a:ext cx="9144000" cy="7275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 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黑体"/>
              </a:rPr>
              <a:t>晋侯、秦伯围郑，以其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黑体"/>
              </a:rPr>
              <a:t>无礼于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黑体"/>
              </a:rPr>
              <a:t>，且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黑体"/>
              </a:rPr>
              <a:t>贰于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黑体"/>
              </a:rPr>
              <a:t>也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隶书"/>
                <a:ea typeface="黑体"/>
              </a:rPr>
              <a:t>晋军函陵，秦军氾南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5325480" y="3124080"/>
            <a:ext cx="13816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6600cc"/>
                </a:solidFill>
                <a:latin typeface="Arial"/>
              </a:rPr>
              <a:t>晋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0"/>
          <p:cNvSpPr/>
          <p:nvPr/>
        </p:nvSpPr>
        <p:spPr>
          <a:xfrm>
            <a:off x="228600" y="228600"/>
            <a:ext cx="1447920" cy="45972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方正姚体"/>
              </a:rPr>
              <a:t>诵读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1">
            <a:hlinkClick r:id="" action="ppaction://hlinkshowjump?jump=nextslide"/>
          </p:cNvPr>
          <p:cNvSpPr/>
          <p:nvPr/>
        </p:nvSpPr>
        <p:spPr>
          <a:xfrm>
            <a:off x="7543800" y="6491160"/>
            <a:ext cx="1600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方正姚体"/>
              </a:rPr>
              <a:t>转第二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1066320"/>
            <a:ext cx="9144000" cy="12819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宋体"/>
              </a:rPr>
              <a:t> 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 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佚之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言于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郑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曰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国危矣，若使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烛之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秦君，师必退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之。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（ 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辞曰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壮也，犹不如人；今老矣，无能为也已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曰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吾不能早用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今急而求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是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寡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之过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然郑亡，子亦有不利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（ 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许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0" y="3352680"/>
            <a:ext cx="8991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、本段涉及到哪些人物？在括号里补上人物姓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、理解句式：是寡人之过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、分角色读课文，揣摩人物的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语气、感情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6"/>
          <p:cNvSpPr/>
          <p:nvPr/>
        </p:nvSpPr>
        <p:spPr>
          <a:xfrm>
            <a:off x="0" y="3124080"/>
            <a:ext cx="8991720" cy="2210040"/>
          </a:xfrm>
          <a:prstGeom prst="wedgeRectCallout">
            <a:avLst>
              <a:gd name="adj1" fmla="val 9990"/>
              <a:gd name="adj2" fmla="val 51865"/>
            </a:avLst>
          </a:prstGeom>
          <a:solidFill>
            <a:srgbClr val="80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佚：沉重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—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坚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国事而忧心焦虑（“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），对烛之武的信任（“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）；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烛：慨叹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—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伤感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才不能用，牢骚满腹（“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，“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、“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、“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也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）；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公：心平气和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切自责，指明利害。（“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、“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不利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0" y="228600"/>
            <a:ext cx="1447920" cy="45972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方正姚体"/>
              </a:rPr>
              <a:t>诵读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8">
            <a:hlinkClick r:id="" action="ppaction://hlinkshowjump?jump=nextslide"/>
          </p:cNvPr>
          <p:cNvSpPr/>
          <p:nvPr/>
        </p:nvSpPr>
        <p:spPr>
          <a:xfrm>
            <a:off x="7543800" y="6491160"/>
            <a:ext cx="1600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方正姚体"/>
              </a:rPr>
              <a:t>转烛之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39764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aramond"/>
                <a:ea typeface="黑体"/>
              </a:rPr>
              <a:t>关于烛之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680" y="1196640"/>
            <a:ext cx="8540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烛之武，考城人，是三朝老臣，但始终得不到升官，在郑国一直担任“圉正”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ǔ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养马的长官），大概相当于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游记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里所说的“弼马温”吧。被举荐使秦时，已年过七十，须发皆白，身子伛偻，步履蹒跚。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冯梦龙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东周列国演义</a:t>
            </a:r>
            <a:r>
              <a:rPr b="0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STARBADG"/>
          <p:cNvPicPr/>
          <p:nvPr/>
        </p:nvPicPr>
        <p:blipFill>
          <a:blip r:embed="rId1"/>
          <a:stretch/>
        </p:blipFill>
        <p:spPr>
          <a:xfrm>
            <a:off x="209520" y="1628640"/>
            <a:ext cx="617400" cy="50508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3"/>
          <p:cNvSpPr/>
          <p:nvPr/>
        </p:nvSpPr>
        <p:spPr>
          <a:xfrm>
            <a:off x="755640" y="148428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61616"/>
                </a:solidFill>
                <a:latin typeface="黑体"/>
                <a:ea typeface="黑体"/>
              </a:rPr>
              <a:t>佚之狐的话对刻画烛之武有何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826920" y="4076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61616"/>
                </a:solidFill>
                <a:latin typeface="黑体"/>
                <a:ea typeface="黑体"/>
              </a:rPr>
              <a:t>郑伯是如何说服烛之武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5" descr="STARBADG"/>
          <p:cNvPicPr/>
          <p:nvPr/>
        </p:nvPicPr>
        <p:blipFill>
          <a:blip r:embed="rId2"/>
          <a:stretch/>
        </p:blipFill>
        <p:spPr>
          <a:xfrm>
            <a:off x="250920" y="4221000"/>
            <a:ext cx="576000" cy="503280"/>
          </a:xfrm>
          <a:prstGeom prst="rect">
            <a:avLst/>
          </a:prstGeom>
          <a:ln w="0">
            <a:noFill/>
          </a:ln>
        </p:spPr>
      </p:pic>
      <p:sp>
        <p:nvSpPr>
          <p:cNvPr id="346" name="AutoShape 6"/>
          <p:cNvSpPr/>
          <p:nvPr/>
        </p:nvSpPr>
        <p:spPr>
          <a:xfrm>
            <a:off x="1332000" y="5013360"/>
            <a:ext cx="2376360" cy="1584360"/>
          </a:xfrm>
          <a:custGeom>
            <a:avLst/>
            <a:gdLst>
              <a:gd name="textAreaLeft" fmla="*/ 554040 w 2376360"/>
              <a:gd name="textAreaRight" fmla="*/ 1821600 w 2376360"/>
              <a:gd name="textAreaTop" fmla="*/ 167040 h 1584360"/>
              <a:gd name="textAreaBottom" fmla="*/ 1003320 h 1584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1373040" y="4997520"/>
            <a:ext cx="213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cc3399"/>
                </a:solidFill>
                <a:latin typeface="黑体"/>
                <a:ea typeface="黑体"/>
              </a:rPr>
              <a:t>勇于自责   （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5653080" y="4869000"/>
            <a:ext cx="2590920" cy="1800000"/>
          </a:xfrm>
          <a:prstGeom prst="flowChartDecision">
            <a:avLst/>
          </a:prstGeom>
          <a:gradFill rotWithShape="0">
            <a:gsLst>
              <a:gs pos="0">
                <a:srgbClr val="ffff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6095880" y="5334120"/>
            <a:ext cx="183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黑体"/>
                <a:ea typeface="黑体"/>
              </a:rPr>
              <a:t>晓以大义（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3564000" y="5805360"/>
            <a:ext cx="2158920" cy="576360"/>
          </a:xfrm>
          <a:custGeom>
            <a:avLst/>
            <a:gdLst>
              <a:gd name="textAreaLeft" fmla="*/ 377640 w 2158920"/>
              <a:gd name="textAreaRight" fmla="*/ 1565280 w 215892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3997440" y="2600280"/>
            <a:ext cx="172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~</a:t>
            </a: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~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2"/>
          <p:cNvSpPr/>
          <p:nvPr/>
        </p:nvSpPr>
        <p:spPr>
          <a:xfrm>
            <a:off x="1258920" y="2492280"/>
            <a:ext cx="2736720" cy="158436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1619280" y="2492280"/>
            <a:ext cx="2449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未见其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先闻其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4"/>
          <p:cNvSpPr/>
          <p:nvPr/>
        </p:nvSpPr>
        <p:spPr>
          <a:xfrm rot="21192600">
            <a:off x="5286240" y="2708280"/>
            <a:ext cx="2738520" cy="1152360"/>
          </a:xfrm>
          <a:custGeom>
            <a:avLst/>
            <a:gdLst>
              <a:gd name="textAreaLeft" fmla="*/ 0 w 2738520"/>
              <a:gd name="textAreaRight" fmla="*/ 2738880 w 2738520"/>
              <a:gd name="textAreaTop" fmla="*/ 149400 h 1152360"/>
              <a:gd name="textAreaBottom" fmla="*/ 10029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15"/>
          <p:cNvSpPr txBox="1"/>
          <p:nvPr/>
        </p:nvSpPr>
        <p:spPr>
          <a:xfrm>
            <a:off x="5508720" y="2852640"/>
            <a:ext cx="2303280" cy="86364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solidFill>
                  <a:srgbClr val="9900cc"/>
                </a:solidFill>
                <a:latin typeface="宋体"/>
              </a:rPr>
              <a:t>侧面表现</a:t>
            </a:r>
            <a:endParaRPr b="1" i="1" lang="en-US" sz="1800" spc="1" strike="noStrike">
              <a:ln w="0">
                <a:noFill/>
              </a:ln>
              <a:solidFill>
                <a:srgbClr val="9900cc"/>
              </a:solidFill>
              <a:latin typeface="宋体"/>
              <a:ea typeface="宋体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1258920" y="260280"/>
            <a:ext cx="34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想一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5580000" y="228600"/>
            <a:ext cx="2952720" cy="968400"/>
          </a:xfrm>
          <a:prstGeom prst="cloudCallout">
            <a:avLst>
              <a:gd name="adj1" fmla="val -9462"/>
              <a:gd name="adj2" fmla="val 1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6732720" y="333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  <a:ea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6012000" y="44460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>
            <a:hlinkClick r:id="" action="ppaction://hlinkshowjump?jump=nextslide"/>
          </p:cNvPr>
          <p:cNvSpPr/>
          <p:nvPr/>
        </p:nvSpPr>
        <p:spPr>
          <a:xfrm>
            <a:off x="7543800" y="6491160"/>
            <a:ext cx="1600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方正姚体"/>
              </a:rPr>
              <a:t>转第三 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92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192" fill="hold"/>
                                        <p:tgtEl>
                                          <p:spTgt spid="3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192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192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BC</cp:lastModifiedBy>
  <dcterms:modified xsi:type="dcterms:W3CDTF">2015-12-23T06:58:30Z</dcterms:modified>
  <cp:revision>1</cp:revision>
  <dc:subject/>
  <dc:title>PowerPoint 演示文稿</dc:title>
</cp:coreProperties>
</file>