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259-9BB4-4001-9445-9BDAB556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653-F56B-4BA5-977F-F6BA821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7F9-4FE4-4456-A953-0BB6D46A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B14-FCA8-4E81-A4A8-0034A47D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FD5-E0BB-4F34-821E-933A422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42D-DF39-401F-9324-E3B7088B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503-CA9F-4EB7-8F20-CF66AF3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C36-7B62-402D-8532-15DCAF8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7D2-7205-4012-9086-6B9BB60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9C7-4E3A-4C82-8BC9-6C9E08F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542-9CEB-4CE2-A6CD-CDCBBF1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42C-0B05-46AF-BFC0-26643F6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FB9-C168-4C94-A38D-837FCECD97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A3EF-171A-4A95-90C0-C61B61FE8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4"/>
          <p:cNvPicPr/>
          <p:nvPr/>
        </p:nvPicPr>
        <p:blipFill>
          <a:blip r:embed="rId1"/>
          <a:stretch/>
        </p:blipFill>
        <p:spPr>
          <a:xfrm>
            <a:off x="-9360" y="-7920"/>
            <a:ext cx="912492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9360" y="-6480"/>
            <a:ext cx="82245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烛之武退秦师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5084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隶书"/>
              </a:rPr>
              <a:t>——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隶书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457440" y="56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判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103120" y="1762200"/>
            <a:ext cx="41547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邻之厚，君之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判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以乱易整，不武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否定判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55640" y="1700280"/>
            <a:ext cx="6696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无能为也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矣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共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其乏困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供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秦伯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与郑人盟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悦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失其所与，不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智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46280" y="584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17840" y="83664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（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华文彩云"/>
              </a:rPr>
              <a:t>古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963080" y="1859040"/>
            <a:ext cx="540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贰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于楚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从属二主、有二心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数词二的大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以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东道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东方道路上的主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泛指主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行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之往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出使的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指外出的人携带的随身物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越国以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鄙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当作边邑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粗鄙、低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亦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离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微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夫人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之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那个人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尊称人的妻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22360" y="76356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1"/>
          <p:cNvPicPr/>
          <p:nvPr/>
        </p:nvPicPr>
        <p:blipFill>
          <a:blip r:embed="rId1"/>
          <a:stretch/>
        </p:blipFill>
        <p:spPr>
          <a:xfrm>
            <a:off x="655560" y="74520"/>
            <a:ext cx="79786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76200" y="47628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周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76200" y="909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尚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76200" y="13413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60360" y="306864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周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76200" y="3933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仪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76200" y="350028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礼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22440" y="177336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春秋左氏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08040" y="220500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春秋公羊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08040" y="263700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春秋谷梁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76200" y="56610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孝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76200" y="436572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论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360360" y="52293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尔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76200" y="47973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810840" y="549360"/>
            <a:ext cx="2009160" cy="259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十三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>
            <a:hlinkClick r:id="rId1" action="ppaction://hlinksldjump"/>
          </p:cNvPr>
          <p:cNvSpPr/>
          <p:nvPr/>
        </p:nvSpPr>
        <p:spPr>
          <a:xfrm>
            <a:off x="7572240" y="5877000"/>
            <a:ext cx="8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526840" y="490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占卜之书，神秘而哲理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555280" y="13539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西周初至春秋中期的诗歌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2817360" y="30830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汇集周王室官制和战国时期各国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538000" y="3924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主要记载春秋战国时代的礼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2699640" y="3514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秦汉以前有关各种礼仪的论著汇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3397320" y="1773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重在史事的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3081240" y="24782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重在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2340000" y="43783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孔子及其门徒的言行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2244240" y="5718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论述封建孝道的专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55640" y="4811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专载孟子的言论、思想和行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2902680" y="52434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训解词义，诠释名物，经学家多据以解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2699640" y="922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主要为君王的文告和君臣谈话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2916360" y="2492280"/>
            <a:ext cx="144360" cy="57636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讲解导学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1280" y="1700280"/>
            <a:ext cx="698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晋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军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函陵，秦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军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氾南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）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越国以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鄙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与郑人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唯君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图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既东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封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阙秦以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116160" y="595440"/>
            <a:ext cx="2895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名词→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124240" y="184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驻军，驻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22480" y="248904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意动，把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当作边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700080" y="3108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订了盟约；建立同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303360" y="375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计划，考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678120" y="450072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意动，把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当作疆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60400" y="51483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得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55640" y="2060640"/>
            <a:ext cx="7296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既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东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封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又欲肆其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西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夜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缒而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朝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济而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夕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设版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620640"/>
            <a:ext cx="2895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名词→状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12640" y="1955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东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149360" y="2747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西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582720" y="3611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晚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834800" y="4259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早上；到黄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2262240"/>
            <a:ext cx="79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且君尝为晋君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赐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矣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03640" y="592200"/>
            <a:ext cx="28954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动词→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32440" y="2243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恩惠，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87720" y="692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形容词→名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755640" y="2060640"/>
            <a:ext cx="75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臣之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壮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越国以鄙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共其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Arial"/>
              </a:rPr>
              <a:t>乏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375000" y="2243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壮年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51360" y="296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边远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519360" y="375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缺少的东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660920" y="117144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形容词→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55640" y="259380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因人之利而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敝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肆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其西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11280" y="10810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99640" y="2676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损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036320" y="3395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扩张、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539880" y="56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使动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439720" y="1819440"/>
            <a:ext cx="4617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烛之武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退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秦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若不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阙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秦，将焉取之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亡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郑而有益于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08040" y="205092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退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648040" y="277164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928760" y="35640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灭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11120" y="1868400"/>
            <a:ext cx="8481960" cy="35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烛之武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许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主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烛之武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辞曰：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臣之壮也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主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晋惠公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许君焦、瑕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主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夜缒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烛之武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而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宾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敢以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之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烦执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宾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晋军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于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函陵，秦军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（于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氾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介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836800" y="692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省略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2560" y="1413000"/>
            <a:ext cx="69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以其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无礼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于晋无礼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且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贰于楚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于楚从属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佚之狐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言于郑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于郑伯言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若亡郑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有益于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于君有益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介词结构后置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</a:rPr>
              <a:t>何厌之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有何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宾语前置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771640" y="692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倒装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11280" y="476280"/>
            <a:ext cx="288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58:20Z</dcterms:modified>
  <cp:revision>1</cp:revision>
  <dc:subject/>
  <dc:title>PowerPoint 演示文稿</dc:title>
</cp:coreProperties>
</file>