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camera.wav" ContentType="audio/x-wav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0E1-7F93-40BE-B337-5B5BD067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AE6-48A6-4006-8AF4-A0580E8B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F28-30DB-4A21-B2AF-E1DCA147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98C-F2D4-4BC8-83C8-F9211250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B76-2193-4F20-AEED-475A96EA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2D6-86FB-4366-82A9-14D5DE8A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520-9C34-4456-8ED3-8AB256F8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B2D-3E69-4FEA-A470-829D0604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DC6-55D8-4B06-B3F2-54F5962B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AD4-8046-4C70-8CD0-FFC5996F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919-608D-433B-B12B-19994EA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1A7-9CC7-49F8-9E14-2C3F07DE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F67C-67BB-4270-A52A-DB8AE0F600F6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1440" y="3240"/>
            <a:ext cx="9145800" cy="464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1-4"/>
          <p:cNvPicPr/>
          <p:nvPr/>
        </p:nvPicPr>
        <p:blipFill>
          <a:blip r:embed="rId2"/>
          <a:stretch/>
        </p:blipFill>
        <p:spPr>
          <a:xfrm>
            <a:off x="1187280" y="2637000"/>
            <a:ext cx="66470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2720" y="406440"/>
            <a:ext cx="806472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秦晋之好：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7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晋武公之子姬诡诸继承君位，即晋献公。晋献公之父武公晚年娶齐桓公女儿齐姜，齐姜则与当太子的姬诡诸有私情。姬诡诸继位后，把庶母齐姜娶为夫人，生女伯姬及子申生。伯姬在后来的秦晋政治联姻中嫁给秦穆公为夫人，这便是所谓“秦晋之好”的开端。在此后二十年间，又有过两度“秦晋之好”。因此秦晋之好代表的是一种政治上的联姻，是国家之间的联合，但后来渐渐将男女之间的婚姻也称作结为“秦晋之好”。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jvansiwei"/>
          <p:cNvPicPr/>
          <p:nvPr/>
        </p:nvPicPr>
        <p:blipFill>
          <a:blip r:embed="rId1"/>
          <a:stretch/>
        </p:blipFill>
        <p:spPr>
          <a:xfrm>
            <a:off x="1981080" y="1197000"/>
            <a:ext cx="5031000" cy="383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71720" y="1052640"/>
            <a:ext cx="16426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退   避   三   舍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43000" y="54100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晋国和楚国的关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争霸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3840" y="406080"/>
            <a:ext cx="9069480" cy="61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退避三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shè: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秋时候，晋献公听信谗言，杀了太子申生，又派人捉拿申生的弟弟重耳。重耳逃出了晋国，在外流亡十几年。重耳来到楚国。楚成王待他如上宾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一天，楚王设宴招待重耳，两人饮酒叙话，气氛十分融洽。忽然楚王问重耳：“你若有一天回晋国当上国君，该怎么报答我呢？”重耳笑笑回答道：“要是托您的福。果真能回国当政的话，我愿与贵国友好。假如有一天，晋楚国之间发生战争，我一定命令军队先退避三舍（一舍等于三十里），如果还不能得到您的原谅，我再与您交战。”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   四年后，重耳真的回到晋国当了国君，就是历史上有名的晋文公。公元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3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楚国和晋国的军队在作战时相遇。晋文公为了实现他许下的诺言，下令军队后退九十里，驻扎在城濮。楚军见晋军后退，以为对方害怕了，马上追击。晋军利用楚军骄傲轻敌的弱点，集中兵力，大破楚军，取得了城濮之战的胜利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044720" y="2031480"/>
            <a:ext cx="35258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  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晋侯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秦伯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围郑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无礼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晋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，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贰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于楚也。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军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函陵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，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军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氾南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66560" y="44280"/>
            <a:ext cx="38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华文彩云"/>
              </a:rPr>
              <a:t>课文串讲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4572000" y="105264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以：因为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732720" y="155736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于：对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500720" y="22068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无礼于晋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于晋无礼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572000" y="3502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军：驻军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7622280" y="2925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名→动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788000" y="3429000"/>
            <a:ext cx="32065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7954920" y="5805360"/>
            <a:ext cx="720720" cy="36828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翻译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573440" y="2852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贰：从属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二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主。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"/>
          <p:cNvPicPr/>
          <p:nvPr/>
        </p:nvPicPr>
        <p:blipFill>
          <a:blip r:embed="rId1"/>
          <a:stretch/>
        </p:blipFill>
        <p:spPr>
          <a:xfrm>
            <a:off x="34920" y="0"/>
            <a:ext cx="9048600" cy="66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-578160" y="1026720"/>
            <a:ext cx="8288280" cy="2667600"/>
            <a:chOff x="-578160" y="1026720"/>
            <a:chExt cx="8288280" cy="2667600"/>
          </a:xfrm>
        </p:grpSpPr>
        <p:cxnSp>
          <p:nvCxnSpPr>
            <p:cNvPr id="141" name="AutoShape 3"/>
            <p:cNvCxnSpPr/>
            <p:nvPr/>
          </p:nvCxnSpPr>
          <p:spPr>
            <a:xfrm flipV="1">
              <a:off x="-578160" y="1026720"/>
              <a:ext cx="2966040" cy="2210400"/>
            </a:xfrm>
            <a:prstGeom prst="curvedConnector5">
              <a:avLst>
                <a:gd name="adj1" fmla="val 102294"/>
                <a:gd name="adj2" fmla="val 49991"/>
                <a:gd name="adj3" fmla="val 102294"/>
              </a:avLst>
            </a:prstGeom>
            <a:ln w="82440">
              <a:solidFill>
                <a:srgbClr val="33cccc"/>
              </a:solidFill>
              <a:miter/>
            </a:ln>
          </p:spPr>
        </p:cxnSp>
        <p:cxnSp>
          <p:nvCxnSpPr>
            <p:cNvPr id="142" name="AutoShape 4"/>
            <p:cNvCxnSpPr/>
            <p:nvPr/>
          </p:nvCxnSpPr>
          <p:spPr>
            <a:xfrm>
              <a:off x="2310840" y="2475000"/>
              <a:ext cx="4943160" cy="1219680"/>
            </a:xfrm>
            <a:prstGeom prst="curvedConnector5">
              <a:avLst>
                <a:gd name="adj1" fmla="val 47428"/>
                <a:gd name="adj2" fmla="val 49985"/>
                <a:gd name="adj3" fmla="val 47428"/>
              </a:avLst>
            </a:prstGeom>
            <a:ln w="82440">
              <a:solidFill>
                <a:srgbClr val="00ffff"/>
              </a:solidFill>
              <a:miter/>
            </a:ln>
          </p:spPr>
        </p:cxnSp>
        <p:cxnSp>
          <p:nvCxnSpPr>
            <p:cNvPr id="143" name="AutoShape 5"/>
            <p:cNvCxnSpPr/>
            <p:nvPr/>
          </p:nvCxnSpPr>
          <p:spPr>
            <a:xfrm flipH="1" flipV="1" rot="5400000">
              <a:off x="6757920" y="2741400"/>
              <a:ext cx="1448280" cy="4568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88920">
              <a:solidFill>
                <a:srgbClr val="00ffff"/>
              </a:solidFill>
              <a:miter/>
            </a:ln>
          </p:spPr>
        </p:cxnSp>
      </p:grpSp>
      <p:grpSp>
        <p:nvGrpSpPr>
          <p:cNvPr id="144" name="Group 6"/>
          <p:cNvGrpSpPr/>
          <p:nvPr/>
        </p:nvGrpSpPr>
        <p:grpSpPr>
          <a:xfrm>
            <a:off x="4738680" y="4379760"/>
            <a:ext cx="838080" cy="838080"/>
            <a:chOff x="4738680" y="4379760"/>
            <a:chExt cx="838080" cy="838080"/>
          </a:xfrm>
        </p:grpSpPr>
        <p:sp>
          <p:nvSpPr>
            <p:cNvPr id="145" name="Text Box 7"/>
            <p:cNvSpPr/>
            <p:nvPr/>
          </p:nvSpPr>
          <p:spPr>
            <a:xfrm>
              <a:off x="4815000" y="4456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郑</a:t>
              </a:r>
              <a:endParaRPr b="0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4738680" y="4379760"/>
              <a:ext cx="838080" cy="838080"/>
            </a:xfrm>
            <a:prstGeom prst="ellipse">
              <a:avLst/>
            </a:prstGeom>
            <a:noFill/>
            <a:ln w="47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95280" y="1941480"/>
            <a:ext cx="838080" cy="838080"/>
            <a:chOff x="395280" y="1941480"/>
            <a:chExt cx="838080" cy="838080"/>
          </a:xfrm>
        </p:grpSpPr>
        <p:sp>
          <p:nvSpPr>
            <p:cNvPr id="148" name="Text Box 10"/>
            <p:cNvSpPr/>
            <p:nvPr/>
          </p:nvSpPr>
          <p:spPr>
            <a:xfrm>
              <a:off x="471600" y="2017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秦</a:t>
              </a:r>
              <a:endParaRPr b="0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395280" y="1941480"/>
              <a:ext cx="838080" cy="838080"/>
            </a:xfrm>
            <a:prstGeom prst="ellipse">
              <a:avLst/>
            </a:prstGeom>
            <a:noFill/>
            <a:ln w="475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" name="Group 12"/>
          <p:cNvGrpSpPr/>
          <p:nvPr/>
        </p:nvGrpSpPr>
        <p:grpSpPr>
          <a:xfrm>
            <a:off x="3062160" y="1407960"/>
            <a:ext cx="838080" cy="838080"/>
            <a:chOff x="3062160" y="1407960"/>
            <a:chExt cx="838080" cy="838080"/>
          </a:xfrm>
        </p:grpSpPr>
        <p:sp>
          <p:nvSpPr>
            <p:cNvPr id="151" name="Text Box 13"/>
            <p:cNvSpPr/>
            <p:nvPr/>
          </p:nvSpPr>
          <p:spPr>
            <a:xfrm>
              <a:off x="3138480" y="14842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晋</a:t>
              </a:r>
              <a:endParaRPr b="0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" name="Oval 14"/>
            <p:cNvSpPr/>
            <p:nvPr/>
          </p:nvSpPr>
          <p:spPr>
            <a:xfrm>
              <a:off x="3062160" y="1407960"/>
              <a:ext cx="838080" cy="838080"/>
            </a:xfrm>
            <a:prstGeom prst="ellipse">
              <a:avLst/>
            </a:pr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" name="Group 15"/>
          <p:cNvGrpSpPr/>
          <p:nvPr/>
        </p:nvGrpSpPr>
        <p:grpSpPr>
          <a:xfrm>
            <a:off x="3595680" y="3846600"/>
            <a:ext cx="1294920" cy="685800"/>
            <a:chOff x="3595680" y="3846600"/>
            <a:chExt cx="1294920" cy="685800"/>
          </a:xfrm>
        </p:grpSpPr>
        <p:sp>
          <p:nvSpPr>
            <p:cNvPr id="154" name="AutoShape 16"/>
            <p:cNvSpPr/>
            <p:nvPr/>
          </p:nvSpPr>
          <p:spPr>
            <a:xfrm>
              <a:off x="4066560" y="4227480"/>
              <a:ext cx="235080" cy="3049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3595680" y="38466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函    陵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6" name="Group 18"/>
          <p:cNvGrpSpPr/>
          <p:nvPr/>
        </p:nvGrpSpPr>
        <p:grpSpPr>
          <a:xfrm>
            <a:off x="5576760" y="4836960"/>
            <a:ext cx="1218960" cy="685800"/>
            <a:chOff x="5576760" y="4836960"/>
            <a:chExt cx="1218960" cy="685800"/>
          </a:xfrm>
        </p:grpSpPr>
        <p:sp>
          <p:nvSpPr>
            <p:cNvPr id="157" name="AutoShape 19"/>
            <p:cNvSpPr/>
            <p:nvPr/>
          </p:nvSpPr>
          <p:spPr>
            <a:xfrm>
              <a:off x="6020280" y="5217840"/>
              <a:ext cx="221400" cy="3049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5576760" y="48369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氾   南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9" name="Group 21"/>
          <p:cNvGrpSpPr/>
          <p:nvPr/>
        </p:nvGrpSpPr>
        <p:grpSpPr>
          <a:xfrm>
            <a:off x="4352760" y="2112480"/>
            <a:ext cx="1800360" cy="2512080"/>
            <a:chOff x="4352760" y="2112480"/>
            <a:chExt cx="1800360" cy="2512080"/>
          </a:xfrm>
        </p:grpSpPr>
        <p:sp>
          <p:nvSpPr>
            <p:cNvPr id="160" name="AutoShape 22"/>
            <p:cNvSpPr/>
            <p:nvPr/>
          </p:nvSpPr>
          <p:spPr>
            <a:xfrm rot="20071800">
              <a:off x="5129280" y="2114640"/>
              <a:ext cx="304560" cy="2569320"/>
            </a:xfrm>
            <a:prstGeom prst="downArrow">
              <a:avLst>
                <a:gd name="adj1" fmla="val 50000"/>
                <a:gd name="adj2" fmla="val 21090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 rot="20007600">
              <a:off x="4675320" y="2279880"/>
              <a:ext cx="1155240" cy="171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ff00"/>
                  </a:solidFill>
                  <a:latin typeface="Times New Roman"/>
                  <a:ea typeface="黑体"/>
                </a:rPr>
                <a:t>秦     军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2" name="Group 24"/>
          <p:cNvGrpSpPr/>
          <p:nvPr/>
        </p:nvGrpSpPr>
        <p:grpSpPr>
          <a:xfrm>
            <a:off x="1905480" y="2505600"/>
            <a:ext cx="1872720" cy="2071800"/>
            <a:chOff x="1905480" y="2505600"/>
            <a:chExt cx="1872720" cy="2071800"/>
          </a:xfrm>
        </p:grpSpPr>
        <p:sp>
          <p:nvSpPr>
            <p:cNvPr id="163" name="Text Box 25"/>
            <p:cNvSpPr/>
            <p:nvPr/>
          </p:nvSpPr>
          <p:spPr>
            <a:xfrm rot="20436600">
              <a:off x="2091600" y="3102480"/>
              <a:ext cx="1155240" cy="13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ff00"/>
                  </a:solidFill>
                  <a:latin typeface="Times New Roman"/>
                  <a:ea typeface="黑体"/>
                </a:rPr>
                <a:t>晋   军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" name="AutoShape 26"/>
            <p:cNvSpPr/>
            <p:nvPr/>
          </p:nvSpPr>
          <p:spPr>
            <a:xfrm rot="20071800">
              <a:off x="3061800" y="2474640"/>
              <a:ext cx="304920" cy="1980720"/>
            </a:xfrm>
            <a:prstGeom prst="downArrow">
              <a:avLst>
                <a:gd name="adj1" fmla="val 50000"/>
                <a:gd name="adj2" fmla="val 16239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-882720" y="-82440"/>
            <a:ext cx="98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秦 晋 围 郑 形 势 图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67" name="Picture 3" descr="3"/>
          <p:cNvPicPr/>
          <p:nvPr/>
        </p:nvPicPr>
        <p:blipFill>
          <a:blip r:embed="rId1"/>
          <a:stretch/>
        </p:blipFill>
        <p:spPr>
          <a:xfrm>
            <a:off x="-28440" y="190440"/>
            <a:ext cx="90406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68360" y="1909440"/>
            <a:ext cx="410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佚之狐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言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郑伯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曰：“国危矣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若使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烛之武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见秦君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师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必退。”公从之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辞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曰：“臣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壮也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犹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不如人；今老矣，无能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也已。”公曰：“吾不能早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用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子，今急而求子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寡人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过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也。然郑亡，子亦有不利焉。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许之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4428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华文彩云"/>
              </a:rPr>
              <a:t>课文串讲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4572000" y="105264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645080" y="981000"/>
            <a:ext cx="32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言于郑伯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于郑伯言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445080" y="1557360"/>
            <a:ext cx="19432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使：派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16360" y="155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若：如果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45080" y="213372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师：军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445080" y="213372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辞：推辞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7954920" y="5805360"/>
            <a:ext cx="720720" cy="36828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翻译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716360" y="2637000"/>
            <a:ext cx="38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之：用于主谓之间，取消句子的独立性，助词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4572000" y="3573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犹：尚且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229440" y="3573360"/>
            <a:ext cx="25905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为：做（什么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573440" y="4149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用：重用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6229440" y="4149720"/>
            <a:ext cx="1368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是：这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4572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过：过错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356000" y="5373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黑体"/>
              </a:rPr>
              <a:t>（烛之武）许之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539640" y="476280"/>
            <a:ext cx="388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夜缒而出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，见秦伯，曰：“秦、晋围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郑，郑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既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知亡矣。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亡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郑而有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君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敢以烦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执事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越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国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  <a:ea typeface="黑体"/>
              </a:rPr>
              <a:t>鄙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远，君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难也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用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亡郑以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  <a:ea typeface="黑体"/>
              </a:rPr>
              <a:t>陪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邻？邻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厚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，君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薄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也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4429080" y="476280"/>
            <a:ext cx="0" cy="56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429080" y="1844640"/>
            <a:ext cx="237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既：已经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429080" y="242100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亡：使</a:t>
            </a:r>
            <a:r>
              <a:rPr b="1" lang="en-US" sz="2600" spc="-1" strike="noStrike">
                <a:solidFill>
                  <a:srgbClr val="ff3300"/>
                </a:solidFill>
                <a:latin typeface="黑体"/>
                <a:ea typeface="黑体"/>
              </a:rPr>
              <a:t>…</a:t>
            </a: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灭亡。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804000" y="242100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使动用法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429080" y="292572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黑体"/>
                <a:ea typeface="黑体"/>
              </a:rPr>
              <a:t>敢以（之：这事）烦</a:t>
            </a:r>
            <a:r>
              <a:rPr b="1" lang="en-US" sz="2600" spc="-1" strike="noStrike">
                <a:solidFill>
                  <a:srgbClr val="000099"/>
                </a:solidFill>
                <a:latin typeface="黑体"/>
                <a:ea typeface="黑体"/>
              </a:rPr>
              <a:t>……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429080" y="350208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越：跨过。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156360" y="3502080"/>
            <a:ext cx="2762280" cy="489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以：而（来）。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429080" y="3933720"/>
            <a:ext cx="35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黑体"/>
              </a:rPr>
              <a:t>鄙：把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  <a:ea typeface="黑体"/>
              </a:rPr>
              <a:t>…</a:t>
            </a: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黑体"/>
              </a:rPr>
              <a:t>当作边邑。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7308720" y="3933720"/>
            <a:ext cx="1540080" cy="48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黑体"/>
              </a:rPr>
              <a:t>名词意动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4429080" y="4437000"/>
            <a:ext cx="20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其：这件事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516720" y="4437000"/>
            <a:ext cx="1800360" cy="550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焉：怎么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4429080" y="5086440"/>
            <a:ext cx="20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陪：增加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429080" y="5734080"/>
            <a:ext cx="18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厚：雄厚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6156360" y="5734080"/>
            <a:ext cx="194472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薄：削弱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055000" y="5899320"/>
            <a:ext cx="720720" cy="36828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翻译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4429080" y="765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黑体"/>
              </a:rPr>
              <a:t>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黑体"/>
              </a:rPr>
              <a:t>在夜里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6974280" y="765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名→状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4996800" y="1341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烛之武）夜缒而出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39640" y="476280"/>
            <a:ext cx="367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若舍郑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以为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  <a:ea typeface="黑体"/>
              </a:rPr>
              <a:t>东道主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  <a:ea typeface="黑体"/>
              </a:rPr>
              <a:t>行李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之往来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共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乏困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  <a:ea typeface="黑体"/>
              </a:rPr>
              <a:t>，君亦无所害。且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晋君赐矣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许君焦、瑕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，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济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而夕设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版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焉，君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所知也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4284720" y="549360"/>
            <a:ext cx="0" cy="56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284720" y="549360"/>
            <a:ext cx="267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以为：以之为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286160" y="1125360"/>
            <a:ext cx="485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东道主：东边道路上的主人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284720" y="1628640"/>
            <a:ext cx="23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行李：使者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6804000" y="1628640"/>
            <a:ext cx="22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共：通“供”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284720" y="2276640"/>
            <a:ext cx="3571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乏困：缺少的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(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东西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)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。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7524720" y="2276640"/>
            <a:ext cx="117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形作名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213080" y="292572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尝：曾经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055000" y="5899320"/>
            <a:ext cx="720720" cy="36828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翻译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6445080" y="2925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为：给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4356000" y="3645000"/>
            <a:ext cx="374508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（晋君）许君焦、瑕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4356000" y="4292640"/>
            <a:ext cx="20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济：渡河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356000" y="48704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版：防御工事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4356000" y="5445000"/>
            <a:ext cx="374508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之：主谓之间，取独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96720" y="148608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左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春秋左氏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简称，又名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左氏春秋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记事起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鲁隐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年，终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鲁哀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十七年（前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5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403280" y="260280"/>
            <a:ext cx="60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d60093"/>
                </a:solidFill>
                <a:uFillTx/>
                <a:latin typeface="宋体"/>
                <a:ea typeface="隶书"/>
              </a:rPr>
              <a:t>《</a:t>
            </a:r>
            <a:r>
              <a:rPr b="1" i="1" lang="zh-CN" sz="5400" spc="-1" strike="noStrike" u="sng">
                <a:solidFill>
                  <a:srgbClr val="d60093"/>
                </a:solidFill>
                <a:uFillTx/>
                <a:latin typeface="宋体"/>
                <a:ea typeface="隶书"/>
              </a:rPr>
              <a:t>左传</a:t>
            </a:r>
            <a:r>
              <a:rPr b="1" i="1" lang="en-US" sz="5400" spc="-1" strike="noStrike" u="sng">
                <a:solidFill>
                  <a:srgbClr val="d60093"/>
                </a:solidFill>
                <a:uFillTx/>
                <a:latin typeface="宋体"/>
                <a:ea typeface="隶书"/>
              </a:rPr>
              <a:t>》</a:t>
            </a:r>
            <a:r>
              <a:rPr b="1" i="1" lang="zh-CN" sz="5400" spc="-1" strike="noStrike" u="sng">
                <a:solidFill>
                  <a:srgbClr val="d60093"/>
                </a:solidFill>
                <a:uFillTx/>
                <a:latin typeface="宋体"/>
                <a:ea typeface="隶书"/>
              </a:rPr>
              <a:t>补充知识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68360" y="4149720"/>
            <a:ext cx="867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左传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公羊传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谷梁传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被称为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传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692360" y="1197000"/>
            <a:ext cx="5472000" cy="7128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24000" y="549360"/>
            <a:ext cx="40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夫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晋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何厌之有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？既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东封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郑，又欲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肆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其西封，若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阙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秦，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焉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取之？阙秦以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利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晋，唯君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图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之。”秦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说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，与郑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盟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。使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杞子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逢孙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杨孙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戍之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乃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还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4213080" y="620640"/>
            <a:ext cx="0" cy="568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284720" y="692280"/>
            <a:ext cx="201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夫：发语词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882680" y="119700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何厌之有：有何厌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156360" y="692280"/>
            <a:ext cx="236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厌：餍，满足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093080" y="119700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之：宾前标志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5049360" y="162864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东：向东。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283080" y="17017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名作状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211640" y="2133720"/>
            <a:ext cx="31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封：把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当作疆界。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5012640" y="256536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肆：扩张。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4211640" y="307008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阙：削减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12000" y="307008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焉：哪里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5047920" y="3573360"/>
            <a:ext cx="173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利：使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得利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4211640" y="407664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图：考虑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4211640" y="458136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说：通“悦”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4517280" y="501336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盟：结盟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4517280" y="544500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戍：守卫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6067080" y="25653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形作动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8396280" y="5994360"/>
            <a:ext cx="720720" cy="36828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翻译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4211640" y="587700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乃：于是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901800" y="549360"/>
            <a:ext cx="359892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子犯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请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，公曰：“不可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微</a:t>
            </a: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夫人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之力不及此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因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人之力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而敝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之，不仁；失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所与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，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知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；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乱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易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整，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武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。吾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还也。”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去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4716360" y="620640"/>
            <a:ext cx="0" cy="568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788000" y="1052640"/>
            <a:ext cx="21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之：代指秦军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788000" y="150012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微：没有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732720" y="148608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cc"/>
                </a:solidFill>
                <a:latin typeface="Arial"/>
                <a:ea typeface="黑体"/>
              </a:rPr>
              <a:t>夫人：那人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4788000" y="1989000"/>
            <a:ext cx="194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cc"/>
                </a:solidFill>
                <a:latin typeface="Arial"/>
                <a:ea typeface="黑体"/>
              </a:rPr>
              <a:t>因：依靠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4788000" y="243540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而：却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6732720" y="243540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敝：损害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4716360" y="2925720"/>
            <a:ext cx="42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cc"/>
                </a:solidFill>
                <a:latin typeface="Arial"/>
                <a:ea typeface="黑体"/>
              </a:rPr>
              <a:t>所与：所结交的人。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4788000" y="335772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知：通“智”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4788000" y="3860640"/>
            <a:ext cx="194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cc"/>
                </a:solidFill>
                <a:latin typeface="Arial"/>
                <a:ea typeface="黑体"/>
              </a:rPr>
              <a:t>易：交换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4788000" y="4437000"/>
            <a:ext cx="417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黑体"/>
              </a:rPr>
              <a:t>武：战时应遵守的道义准则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黑体"/>
              </a:rPr>
              <a:t>勇武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4788000" y="5373720"/>
            <a:ext cx="40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cc"/>
                </a:solidFill>
                <a:latin typeface="Arial"/>
                <a:ea typeface="黑体"/>
              </a:rPr>
              <a:t>其：还是。表婉商语气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4788000" y="5877000"/>
            <a:ext cx="194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去：离开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8099280" y="5815080"/>
            <a:ext cx="720720" cy="36828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00"/>
                </a:solidFill>
                <a:latin typeface="Arial"/>
              </a:rPr>
              <a:t>翻译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4920" y="476280"/>
            <a:ext cx="9144000" cy="3018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古代汉语以单音词为主，现代汉语则以双音词为主。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解释课文中下列单音词，体会这一特点。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　　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佚之狐言于郑伯曰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国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危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     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矣！若使烛之武见秦君，师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         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必退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公从之。辞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     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曰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然郑亡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        ），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子亦有不利焉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许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　　夜缒而出。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越国以鄙远，君知其难也；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且君尝为晋君赐矣。许君焦瑕，朝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          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济而夕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        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设版焉，君之所知也。夫晋何厌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       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之有？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使杞子、逢孙、杨孙戍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       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之，乃还。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微夫人之力不及</a:t>
            </a:r>
            <a:r>
              <a:rPr b="1" lang="zh-CN" sz="3200" spc="-1" strike="noStrike">
                <a:solidFill>
                  <a:srgbClr val="0000cc"/>
                </a:solidFill>
                <a:latin typeface="方正姚体"/>
                <a:ea typeface="方正姚体"/>
              </a:rPr>
              <a:t>（        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此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5148360" y="1486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国家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731520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危险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295280" y="2438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推辞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257800" y="198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军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943600" y="2438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灭亡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04920" y="4419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早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429000" y="4419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晚上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1905120" y="4876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满足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990720" y="5334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戍守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228600" y="5867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达到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4" name="WordArt 13" descr=""/>
          <p:cNvPicPr/>
          <p:nvPr/>
        </p:nvPicPr>
        <p:blipFill>
          <a:blip r:embed="rId1"/>
          <a:stretch/>
        </p:blipFill>
        <p:spPr>
          <a:xfrm>
            <a:off x="-42840" y="-12600"/>
            <a:ext cx="30718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96720" y="1125360"/>
            <a:ext cx="8425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左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政治、军事、外交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等方面，比较系统地记叙了整个春秋时代各诸侯国所发生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重要事件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同时也较为具体地描绘了一些人物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生活琐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真实地反映了当时的社会面貌和政治状况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作者在选材、描写和评论时，往往带有自己的褒贬和爱憎。作者以其敏锐的观察力，深刻的认识和高度的文学修养，对许多大小历史事件，作了深刻而生动的记述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84360" y="40464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关于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彩云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左传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彩云"/>
              </a:rPr>
              <a:t>》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360" y="1413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按年代顺序编写的史书体裁。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春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资治通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95280" y="2781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不同的国家编写的史书体裁。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国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战国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68360" y="4437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以人物传记为中心的史书体裁。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史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国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4000" y="69228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ff"/>
                </a:solidFill>
                <a:uFillTx/>
                <a:latin typeface="Arial"/>
                <a:ea typeface="隶书"/>
              </a:rPr>
              <a:t> </a:t>
            </a:r>
            <a:r>
              <a:rPr b="0" lang="zh-CN" sz="48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编年体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68360" y="263700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国别体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68360" y="414972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纪传体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5796000" y="260280"/>
            <a:ext cx="3095640" cy="1079640"/>
          </a:xfrm>
          <a:prstGeom prst="wedgeEllipseCallout">
            <a:avLst>
              <a:gd name="adj1" fmla="val -48412"/>
              <a:gd name="adj2" fmla="val 5470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96000" y="33336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6600cc"/>
                </a:solidFill>
                <a:latin typeface="Arial"/>
                <a:ea typeface="方正舒体"/>
              </a:rPr>
              <a:t>你知道吗？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4360" y="620640"/>
            <a:ext cx="799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百战百胜，非善之善者也；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不战而屈人之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善之善者也。故上兵伐谋，其次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伐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其次伐兵，其次攻城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孙子兵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谋攻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" name="Picture 3" descr="Book090109033435"/>
          <p:cNvPicPr/>
          <p:nvPr/>
        </p:nvPicPr>
        <p:blipFill>
          <a:blip r:embed="rId1"/>
          <a:stretch/>
        </p:blipFill>
        <p:spPr>
          <a:xfrm>
            <a:off x="611280" y="3213000"/>
            <a:ext cx="23716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8360" y="2189160"/>
            <a:ext cx="43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能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矣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2997360"/>
            <a:ext cx="35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乏困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356000" y="29973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秦伯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郑人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356000" y="133668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厌之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356000" y="3860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之力不及此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908000" y="2205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é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5076720" y="14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ú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116000" y="2997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ō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ng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867280" y="299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yu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486400" y="38098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Arial"/>
              </a:rPr>
              <a:t>ú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050920" y="1341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Arial"/>
              </a:rPr>
              <a:t>á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332000" y="4732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zhu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ì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050920" y="38671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Arial"/>
              </a:rPr>
              <a:t>ē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76280" y="13590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秦军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南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22360" y="3878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若不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468360" y="4797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夜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出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4140360" y="155736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4356000" y="2205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失其所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557280" y="5589720"/>
            <a:ext cx="636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、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）孙戍之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7451640" y="2205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ì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Oval 26"/>
          <p:cNvSpPr/>
          <p:nvPr/>
        </p:nvSpPr>
        <p:spPr>
          <a:xfrm>
            <a:off x="395280" y="155736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Oval 27"/>
          <p:cNvSpPr/>
          <p:nvPr/>
        </p:nvSpPr>
        <p:spPr>
          <a:xfrm>
            <a:off x="324000" y="24224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Oval 28"/>
          <p:cNvSpPr/>
          <p:nvPr/>
        </p:nvSpPr>
        <p:spPr>
          <a:xfrm>
            <a:off x="4140360" y="24210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Oval 29"/>
          <p:cNvSpPr/>
          <p:nvPr/>
        </p:nvSpPr>
        <p:spPr>
          <a:xfrm>
            <a:off x="324000" y="32130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Oval 30"/>
          <p:cNvSpPr/>
          <p:nvPr/>
        </p:nvSpPr>
        <p:spPr>
          <a:xfrm>
            <a:off x="4140360" y="40766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Oval 31"/>
          <p:cNvSpPr/>
          <p:nvPr/>
        </p:nvSpPr>
        <p:spPr>
          <a:xfrm>
            <a:off x="324000" y="414972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Oval 32"/>
          <p:cNvSpPr/>
          <p:nvPr/>
        </p:nvSpPr>
        <p:spPr>
          <a:xfrm>
            <a:off x="4140360" y="32130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Oval 33"/>
          <p:cNvSpPr/>
          <p:nvPr/>
        </p:nvSpPr>
        <p:spPr>
          <a:xfrm>
            <a:off x="324000" y="50148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Oval 34"/>
          <p:cNvSpPr/>
          <p:nvPr/>
        </p:nvSpPr>
        <p:spPr>
          <a:xfrm>
            <a:off x="341280" y="59054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1638360" y="56134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q</a:t>
            </a:r>
            <a:r>
              <a:rPr b="1" lang="en-US" sz="3600" spc="-1" strike="noStrike">
                <a:solidFill>
                  <a:srgbClr val="6600cc"/>
                </a:solidFill>
                <a:latin typeface="宋体"/>
                <a:ea typeface="Arial"/>
              </a:rPr>
              <a:t>ǐ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4038480" y="5562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á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ng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Oval 37"/>
          <p:cNvSpPr/>
          <p:nvPr/>
        </p:nvSpPr>
        <p:spPr>
          <a:xfrm>
            <a:off x="1619280" y="191628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Oval 38"/>
          <p:cNvSpPr/>
          <p:nvPr/>
        </p:nvSpPr>
        <p:spPr>
          <a:xfrm>
            <a:off x="4643280" y="177336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Oval 39"/>
          <p:cNvSpPr/>
          <p:nvPr/>
        </p:nvSpPr>
        <p:spPr>
          <a:xfrm>
            <a:off x="1619280" y="443700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Oval 40"/>
          <p:cNvSpPr/>
          <p:nvPr/>
        </p:nvSpPr>
        <p:spPr>
          <a:xfrm>
            <a:off x="5021280" y="443700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Oval 41"/>
          <p:cNvSpPr/>
          <p:nvPr/>
        </p:nvSpPr>
        <p:spPr>
          <a:xfrm>
            <a:off x="1547640" y="270972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Oval 42"/>
          <p:cNvSpPr/>
          <p:nvPr/>
        </p:nvSpPr>
        <p:spPr>
          <a:xfrm>
            <a:off x="5506920" y="350028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Oval 43"/>
          <p:cNvSpPr/>
          <p:nvPr/>
        </p:nvSpPr>
        <p:spPr>
          <a:xfrm>
            <a:off x="6804000" y="270828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Oval 44"/>
          <p:cNvSpPr/>
          <p:nvPr/>
        </p:nvSpPr>
        <p:spPr>
          <a:xfrm>
            <a:off x="1187280" y="530064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Oval 45"/>
          <p:cNvSpPr/>
          <p:nvPr/>
        </p:nvSpPr>
        <p:spPr>
          <a:xfrm>
            <a:off x="3294000" y="612144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Oval 46"/>
          <p:cNvSpPr/>
          <p:nvPr/>
        </p:nvSpPr>
        <p:spPr>
          <a:xfrm>
            <a:off x="1276200" y="612144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Oval 47"/>
          <p:cNvSpPr/>
          <p:nvPr/>
        </p:nvSpPr>
        <p:spPr>
          <a:xfrm>
            <a:off x="754200" y="3500280"/>
            <a:ext cx="7272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0" y="0"/>
            <a:ext cx="1523880" cy="4597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方正姚体"/>
              </a:rPr>
              <a:t>整体感知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4140360" y="479736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211640" y="501336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5796000" y="47260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zhì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512640" y="635040"/>
            <a:ext cx="65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听课文录音，正字音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-1"/>
          <p:cNvPicPr/>
          <p:nvPr/>
        </p:nvPicPr>
        <p:blipFill>
          <a:blip r:embed="rId1"/>
          <a:stretch/>
        </p:blipFill>
        <p:spPr>
          <a:xfrm>
            <a:off x="193680" y="333360"/>
            <a:ext cx="85536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图片1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8" name="Oval 3"/>
          <p:cNvSpPr/>
          <p:nvPr/>
        </p:nvSpPr>
        <p:spPr>
          <a:xfrm>
            <a:off x="3352680" y="1828800"/>
            <a:ext cx="685800" cy="68580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2362320" y="2286000"/>
            <a:ext cx="609480" cy="6094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4394160" y="2852640"/>
            <a:ext cx="609480" cy="609840"/>
          </a:xfrm>
          <a:prstGeom prst="ellipse">
            <a:avLst/>
          </a:prstGeom>
          <a:noFill/>
          <a:ln w="63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4343400" y="4191120"/>
            <a:ext cx="609480" cy="609480"/>
            <a:chOff x="4343400" y="4191120"/>
            <a:chExt cx="609480" cy="609480"/>
          </a:xfrm>
        </p:grpSpPr>
        <p:sp>
          <p:nvSpPr>
            <p:cNvPr id="112" name="Text Box 7"/>
            <p:cNvSpPr/>
            <p:nvPr/>
          </p:nvSpPr>
          <p:spPr>
            <a:xfrm>
              <a:off x="4398840" y="4246560"/>
              <a:ext cx="4986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3" name="Oval 8"/>
            <p:cNvSpPr/>
            <p:nvPr/>
          </p:nvSpPr>
          <p:spPr>
            <a:xfrm>
              <a:off x="4343400" y="4191120"/>
              <a:ext cx="609480" cy="609480"/>
            </a:xfrm>
            <a:prstGeom prst="ellipse">
              <a:avLst/>
            </a:prstGeom>
            <a:noFill/>
            <a:ln w="47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4" name="Text Box 9"/>
          <p:cNvSpPr/>
          <p:nvPr/>
        </p:nvSpPr>
        <p:spPr>
          <a:xfrm>
            <a:off x="1905120" y="603396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春秋时期形势简图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362320" y="2286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429000" y="1828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晋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356000" y="28526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43400" y="4191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yiqiuzhihe"/>
          <p:cNvPicPr/>
          <p:nvPr/>
        </p:nvPicPr>
        <p:blipFill>
          <a:blip r:embed="rId1"/>
          <a:stretch/>
        </p:blipFill>
        <p:spPr>
          <a:xfrm>
            <a:off x="1828800" y="1413000"/>
            <a:ext cx="5030640" cy="3617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-378360" y="990720"/>
            <a:ext cx="1826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秦   晋   之   好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066680" y="54100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晋国和秦国的关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盟友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451640" y="1413000"/>
            <a:ext cx="717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00"/>
                </a:solidFill>
                <a:latin typeface="Arial"/>
              </a:rPr>
              <a:t>两家联姻</a:t>
            </a:r>
            <a:endParaRPr b="0" lang="en-US" sz="3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6:58:15Z</dcterms:modified>
  <cp:revision>1</cp:revision>
  <dc:subject/>
  <dc:title>PowerPoint 演示文稿</dc:title>
</cp:coreProperties>
</file>