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2E1-ADA6-4D01-B5C6-A90E8520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AF0-48FC-4588-AB87-82D6643B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A75-511F-411A-B91D-85442C9E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9CB-FD01-4431-B7A5-9644DBF0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FEB-8FE2-4495-831A-DE966A76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C52-B636-4545-9EEE-1DD2C21C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46B-3C40-45C4-8B03-05E9227C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D64-5453-466F-A9F4-4763F1D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C92-D8E0-42BE-97EA-DA0139BA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DC6-0304-4707-B30F-D18AD5C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66D-7563-41AC-85FA-56E09722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C91-27E0-4E76-914D-1C68E2B2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97C9-9855-4D0D-B150-A76C724915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他凭他那种唉声叹气，他那种垂头丧气，和他那苍白的小脸上的眼镜，降服了我们，我们只好让步，减低彼得洛夫和叶果洛夫的品行分数，把他们禁闭起来，到后来把他俩开除了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我们这儿的太太们到礼拜六不办家庭戏剧晚会，因为怕他听见；教士们当着他的面不敢吃荤，也不敢打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52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他们不敢大声说话，不敢写信，不敢交朋友，不敢看书，不敢周济穷人，不敢教人念书写字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“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你骑自行车，这种消遣，对青年的教育者来说，是绝对不合适的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“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既然政府还没有发出通告，允许做这种事，那就做不得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外表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职业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思想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套             语言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生活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990720"/>
            <a:ext cx="228600" cy="4038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5335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2767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3352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3352680"/>
            <a:ext cx="457200" cy="1981440"/>
          </a:xfrm>
          <a:custGeom>
            <a:avLst/>
            <a:gdLst>
              <a:gd name="textAreaLeft" fmla="*/ 0 w 457200"/>
              <a:gd name="textAreaRight" fmla="*/ 164880 w 4572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1066680"/>
            <a:ext cx="990720" cy="990720"/>
          </a:xfrm>
          <a:custGeom>
            <a:avLst/>
            <a:gdLst>
              <a:gd name="textAreaLeft" fmla="*/ 0 w 990720"/>
              <a:gd name="textAreaRight" fmla="*/ 357840 w 9907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319"/>
                </a:lnTo>
                <a:cubicBezTo>
                  <a:pt x="10800" y="11319"/>
                  <a:pt x="16200" y="11319"/>
                  <a:pt x="21600" y="11319"/>
                </a:cubicBezTo>
                <a:cubicBezTo>
                  <a:pt x="16200" y="11319"/>
                  <a:pt x="10800" y="11319"/>
                  <a:pt x="10800" y="1131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809880"/>
            <a:ext cx="762120" cy="1143000"/>
          </a:xfrm>
          <a:custGeom>
            <a:avLst/>
            <a:gdLst>
              <a:gd name="textAreaLeft" fmla="*/ 0 w 762120"/>
              <a:gd name="textAreaRight" fmla="*/ 275040 w 762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9480" y="762120"/>
            <a:ext cx="1033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套        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保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0120" y="3733920"/>
            <a:ext cx="606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套    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开除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581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干涉别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114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辖制整个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029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辖制全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80988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扼杀新思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摧残人的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反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3526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35268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762120"/>
            <a:ext cx="17524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思想僵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害怕变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83808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教师们和全城的人为什么怕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5909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99ff33"/>
                </a:solidFill>
                <a:latin typeface="Times New Roman"/>
              </a:rPr>
              <a:t>教师们和全城人怕他，是因为他是沙皇专制制度的卫道士，他像鹰犬一样，到处嗅着不合当局要求的气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外表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职业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思想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套             语言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生活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990720"/>
            <a:ext cx="228600" cy="4038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335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2767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3352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3352680"/>
            <a:ext cx="457200" cy="1981440"/>
          </a:xfrm>
          <a:custGeom>
            <a:avLst/>
            <a:gdLst>
              <a:gd name="textAreaLeft" fmla="*/ 0 w 457200"/>
              <a:gd name="textAreaRight" fmla="*/ 164880 w 4572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066680"/>
            <a:ext cx="990720" cy="990720"/>
          </a:xfrm>
          <a:custGeom>
            <a:avLst/>
            <a:gdLst>
              <a:gd name="textAreaLeft" fmla="*/ 0 w 990720"/>
              <a:gd name="textAreaRight" fmla="*/ 357840 w 9907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319"/>
                </a:lnTo>
                <a:cubicBezTo>
                  <a:pt x="10800" y="11319"/>
                  <a:pt x="16200" y="11319"/>
                  <a:pt x="21600" y="11319"/>
                </a:cubicBezTo>
                <a:cubicBezTo>
                  <a:pt x="16200" y="11319"/>
                  <a:pt x="10800" y="11319"/>
                  <a:pt x="10800" y="1131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3809880"/>
            <a:ext cx="762120" cy="1143000"/>
          </a:xfrm>
          <a:custGeom>
            <a:avLst/>
            <a:gdLst>
              <a:gd name="textAreaLeft" fmla="*/ 0 w 762120"/>
              <a:gd name="textAreaRight" fmla="*/ 275040 w 762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9480" y="762120"/>
            <a:ext cx="1033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套        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保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0120" y="3733920"/>
            <a:ext cx="606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套    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开除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581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干涉别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4114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辖制整个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5029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辖制全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380988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扼杀新思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摧残人的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反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沙皇政府的忠实奴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1828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1828800"/>
            <a:ext cx="1447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600200"/>
            <a:ext cx="1447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1828800"/>
            <a:ext cx="1219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1752480"/>
            <a:ext cx="0" cy="6098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37240" y="3220920"/>
            <a:ext cx="176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33526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335268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238880" y="3352320"/>
            <a:ext cx="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762120"/>
            <a:ext cx="17524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思想僵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害怕变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457200"/>
            <a:ext cx="8534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六、小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别里科夫是沙皇政府的忠实奴仆，他保守，反动，害怕变革，禁锢和扼杀一切新思想，作品通过塑造这一形象，反映了十九世纪末俄国黑暗的社会现实，揭示了沙皇专制制度禁锢人的思想，摧残人的精神这一反动本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79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七、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人物描写的常用方法：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肖像描写，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语言描写，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C 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行为描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、楼梯又高又陡，不过他滚到楼下却安然无恙，站起来摸了摸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、他也真怪，即使在最晴朗的日子，也穿上雨鞋，带着雨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、每逢经过当局批准，城里开了一个戏剧俱乐部，或阅览室，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、这在别里科夫却比任何事情都可怕。我相信他情愿摔断脖子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1295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7640" y="220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子。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3213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而且一定穿着暖和的棉大衣。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221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者茶馆，他总要摇摇头，说：“当然，行是行的，这固然很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4724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可是千万别闹出什么乱子。”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5300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两条腿，也不愿意成为别人取笑的对象。是啊！这样一来，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661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城的人都会知道这件事，还会传到校长的耳朵里去，还会传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950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督学耳朵里去。哎呀，不定会闹出什么乱子！说不一定又会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6400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一张漫画，到头来弄得他奉命退休吧。……… 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90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D 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心理描写。下列描写各属于哪一类，请括号内填上相应代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3141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65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6338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685800"/>
            <a:ext cx="883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对于别里科夫这个典型人物，有几种不同的评价，恰当的是（     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、别里科夫是一个反动的沙皇制度的卫道士和刽子手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、别里科夫是一个保守、反动，害怕、扼杀新事物思想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装在套子里的人”典型形象，是沙皇专制主义的产物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C</a:t>
            </a: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、别里科夫是反动统治阶级的一只凶狠的鹰犬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、别里科夫是一只卑劣的政治蜘蛛，是一个可耻的告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66"/>
                </a:solidFill>
                <a:latin typeface="Times New Roman"/>
              </a:rPr>
              <a:t>者，是一个特务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762120"/>
            <a:ext cx="7010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八、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课后练习题第一、四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00200"/>
            <a:ext cx="84582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Times New Roman"/>
                <a:ea typeface="隶书"/>
              </a:rPr>
              <a:t>装在套子里的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契诃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一、小说的基本要素：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1752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人物形象、故事情节、  环境描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666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二、目的：</a:t>
            </a:r>
            <a:br>
              <a:rPr sz="3600"/>
            </a:b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  通过分析人物形象，了解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19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世纪末沙俄统治时代的黑暗社会现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三、作者介绍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契诃夫（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1860—1904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年），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19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世纪俄国杰出的批判现实主义作家，具有世界声誉的短篇小说大师，其作品大多取材于中等阶层的“小人物”的平凡生活，采用诙谐幽默的笔调，揭露和嘲弄反动统治阶级的残暴、愚蠢，抨击沙皇的专制制度，他一生创作了四百多篇小说，其中最受欢迎的有《小公务员之死》、《变色龙》、《装在套子里的人》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512640"/>
          <a:ext cx="9144000" cy="69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2640"/>
                    <a:ext cx="9144000" cy="69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0" y="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四、写作背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十九世纪末，俄国社会矛盾日益尖锐，阶级斗争日趋激烈，马克思主义在俄国广泛传播，资产阶级民主主义思潮和工农运动高涨，整个俄国处在革命的前夜，沙皇政府为维持其腐朽、黑暗的反动统治，对人民实行高压政策，制造血腥恐怖，禁锢人民的思想，扼杀一切新生事物。一些维护旧制度、旧秩序的人也十分惊恐不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6374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五、人物形象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别里科夫是一个学校的古代语言教师，他与别人不同的地方就是他什么都要有一个“套子”。课文给他归纳了五个方面的“套子”，默读课文，填写表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2286000"/>
            <a:ext cx="7543800" cy="4038480"/>
            <a:chOff x="838080" y="2286000"/>
            <a:chExt cx="7543800" cy="4038480"/>
          </a:xfrm>
        </p:grpSpPr>
        <p:sp>
          <p:nvSpPr>
            <p:cNvPr id="51" name=""/>
            <p:cNvSpPr/>
            <p:nvPr/>
          </p:nvSpPr>
          <p:spPr>
            <a:xfrm>
              <a:off x="2590920" y="5638680"/>
              <a:ext cx="2895480" cy="68580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5638680"/>
              <a:ext cx="1752840" cy="68580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生活的套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0920" y="5029200"/>
              <a:ext cx="2895480" cy="60948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5029200"/>
              <a:ext cx="1752840" cy="60948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论调的套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4267080"/>
              <a:ext cx="2895480" cy="76212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4267080"/>
              <a:ext cx="1752840" cy="76212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思想的套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3581280"/>
              <a:ext cx="2895480" cy="68580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3581280"/>
              <a:ext cx="1752840" cy="68580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职业的套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86400" y="2819160"/>
              <a:ext cx="2895480" cy="350532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2819160"/>
              <a:ext cx="2895480" cy="76212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8080" y="2819160"/>
              <a:ext cx="1752840" cy="76212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外表的套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86400" y="2286000"/>
              <a:ext cx="2895480" cy="5331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“</a:t>
              </a: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套中人”的性格特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90920" y="2286000"/>
              <a:ext cx="2895480" cy="5331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    </a:t>
              </a: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套子的内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2286000"/>
              <a:ext cx="1752840" cy="5331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66"/>
                  </a:solidFill>
                  <a:latin typeface="Times New Roman"/>
                </a:rPr>
                <a:t>套子的类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080" y="2819160"/>
              <a:ext cx="754380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8080" y="3581280"/>
              <a:ext cx="464832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8080" y="4267080"/>
              <a:ext cx="464832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080" y="5029200"/>
              <a:ext cx="464832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5638680"/>
              <a:ext cx="464832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8080" y="6324480"/>
              <a:ext cx="75438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080" y="2286000"/>
              <a:ext cx="0" cy="40384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2286000"/>
              <a:ext cx="0" cy="40384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286000"/>
              <a:ext cx="0" cy="40384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1880" y="2286000"/>
              <a:ext cx="0" cy="40384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743200" y="2878200"/>
            <a:ext cx="304812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雨鞋、雨伞、棉大衣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黑眼镜、羊毛衫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3733920"/>
            <a:ext cx="28195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教古代语言，歌颂过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4359240"/>
            <a:ext cx="32004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只相信政府的告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和报纸上的文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5257800"/>
            <a:ext cx="312444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千万别闹出什么乱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5715000"/>
            <a:ext cx="274320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卧室象箱子，睡觉蒙脑袋，不跟人并排走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486400" y="2819520"/>
          <a:ext cx="29718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819520"/>
                    <a:ext cx="29718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6858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别里科夫整天战战兢兢，惶恐不安，他怕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743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99ff33"/>
                </a:solidFill>
                <a:latin typeface="Times New Roman"/>
              </a:rPr>
              <a:t>他害怕的是不断涌现的新生事物，害怕新生事物违反了旧制度，旧秩序，会造成乱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五、人物形象分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别里科夫是一个学校的古代语言教师，他与别人不同的地方就是他什么都要有一个“套子”。课文给他归纳了五个方面的“套子”，默读课文，填写表格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2362320"/>
          <a:ext cx="7619760" cy="4038480"/>
        </p:xfrm>
        <a:graphic>
          <a:graphicData uri="http://schemas.openxmlformats.org/drawingml/2006/table">
            <a:tbl>
              <a:tblPr/>
              <a:tblGrid>
                <a:gridCol w="1770480"/>
                <a:gridCol w="2924640"/>
                <a:gridCol w="29246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套子的类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套子的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套中人”的性格特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外表的套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职业的套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思想的套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论调的套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生活的套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2590920" y="2895480"/>
            <a:ext cx="3047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雨鞋、雨伞、棉大衣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黑眼镜、羊毛衫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38098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教古代语言，歌颂过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4343400"/>
            <a:ext cx="3200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只相信政府的告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和报纸上的文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181480"/>
            <a:ext cx="3124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千万别闹出什么乱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5699160"/>
            <a:ext cx="274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卧室象箱子，睡觉蒙脑袋，不跟人并排走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429000"/>
            <a:ext cx="25909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胆小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循规蹈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思想僵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害怕变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50000">
              <a:srgbClr val="6600ff"/>
            </a:gs>
            <a:gs pos="100000">
              <a:srgbClr val="2f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外表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职业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思想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套             语言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生活的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990720"/>
            <a:ext cx="228600" cy="4038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5335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53352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066680"/>
            <a:ext cx="990720" cy="990720"/>
          </a:xfrm>
          <a:custGeom>
            <a:avLst/>
            <a:gdLst>
              <a:gd name="textAreaLeft" fmla="*/ 0 w 990720"/>
              <a:gd name="textAreaRight" fmla="*/ 357840 w 9907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319"/>
                </a:lnTo>
                <a:cubicBezTo>
                  <a:pt x="10800" y="11319"/>
                  <a:pt x="16200" y="11319"/>
                  <a:pt x="21600" y="11319"/>
                </a:cubicBezTo>
                <a:cubicBezTo>
                  <a:pt x="16200" y="11319"/>
                  <a:pt x="10800" y="11319"/>
                  <a:pt x="10800" y="1131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9480" y="762120"/>
            <a:ext cx="1033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套        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保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0120" y="3733920"/>
            <a:ext cx="606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套    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1828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1828800"/>
            <a:ext cx="1447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1600200"/>
            <a:ext cx="1447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1828800"/>
            <a:ext cx="1219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37240" y="3220920"/>
            <a:ext cx="176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3526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3352680"/>
            <a:ext cx="1524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762120"/>
            <a:ext cx="17524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思想僵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害怕变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2767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1T06:59:38Z</dcterms:created>
  <dc:creator>hang</dc:creator>
  <dc:description/>
  <dc:language>en-US</dc:language>
  <cp:lastModifiedBy>Administrators</cp:lastModifiedBy>
  <dcterms:modified xsi:type="dcterms:W3CDTF">2007-08-12T07:45:56Z</dcterms:modified>
  <cp:revision>31</cp:revision>
  <dc:subject/>
  <dc:title>套中人</dc:title>
</cp:coreProperties>
</file>