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6.jpeg" ContentType="image/jpeg"/>
  <Override PartName="/ppt/media/image5.jpeg" ContentType="image/jpeg"/>
  <Override PartName="/ppt/media/image18.wmf" ContentType="image/x-wmf"/>
  <Override PartName="/ppt/media/image20.png" ContentType="image/png"/>
  <Override PartName="/ppt/media/image28.jpeg" ContentType="image/jpeg"/>
  <Override PartName="/ppt/media/image7.jpeg" ContentType="image/jpeg"/>
  <Override PartName="/ppt/media/image27.jpeg" ContentType="image/jpeg"/>
  <Override PartName="/ppt/media/image6.jpeg" ContentType="image/jpeg"/>
  <Override PartName="/ppt/media/image16.png" ContentType="image/png"/>
  <Override PartName="/ppt/media/image12.jpeg" ContentType="image/jpeg"/>
  <Override PartName="/ppt/media/image8.png" ContentType="image/png"/>
  <Override PartName="/ppt/media/image11.jpeg" ContentType="image/jpeg"/>
  <Override PartName="/ppt/media/image2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9.gif" ContentType="image/gif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7.jpeg" ContentType="image/jpeg"/>
  <Override PartName="/ppt/media/chimes.wav" ContentType="audio/x-wav"/>
  <Override PartName="/ppt/media/image21.jpeg" ContentType="image/jpeg"/>
  <Override PartName="/ppt/media/image9.png" ContentType="image/pn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059-458B-4002-B7DD-FF6B1B11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549-7333-44D1-8A91-EB86BC32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D35-EFDF-4DC0-9B4C-7FF331B5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0D8-2D12-424F-97A1-1ECC7416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87E-007F-4409-8CD8-A43C4071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A54-1C6A-4007-A2F9-919D2BCF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4FB-34AA-427B-AD9D-74C52855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3D8-369E-46F1-9467-3655B56C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60C-D11B-40C4-9A30-B9EEFFF9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9C0A-17EA-4F41-AA75-89588186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FE1-3343-4F7E-9715-D25B0E3F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D0E-AE1C-4E9B-A8B2-15505201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F526-E4EA-4BE5-805A-595965F6E0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image" Target="../media/image8.png"/><Relationship Id="rId4" Type="http://schemas.openxmlformats.org/officeDocument/2006/relationships/slide" Target="slide10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968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3b8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404640"/>
            <a:ext cx="43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字词积累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chá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989000"/>
            <a:ext cx="8388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巢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瞅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呷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垂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蔓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眼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睑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眸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子   斑斑驳驳   生意葱茏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指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1557360"/>
            <a:ext cx="13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chǒ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23080" y="1557360"/>
            <a:ext cx="15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i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35440" y="155736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wà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36400" y="1484280"/>
            <a:ext cx="15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jiǎ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16920" y="2924280"/>
            <a:ext cx="19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mó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79080" y="2852640"/>
            <a:ext cx="20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chà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240" y="4149720"/>
            <a:ext cx="17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zh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751280" y="1066680"/>
            <a:ext cx="439272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听录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找找这种信赖建立起来的轨迹。（做上标记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32637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3" descr=""/>
          <p:cNvPicPr/>
          <p:nvPr/>
        </p:nvPicPr>
        <p:blipFill>
          <a:blip r:embed="rId1"/>
          <a:stretch/>
        </p:blipFill>
        <p:spPr>
          <a:xfrm>
            <a:off x="4479840" y="0"/>
            <a:ext cx="4664160" cy="43894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探究、品读</a:t>
            </a:r>
            <a:r>
              <a:rPr b="0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5334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整理轨迹，用上句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因为“我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---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家伙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让人觉得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---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1444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0fef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895480" y="990720"/>
            <a:ext cx="2565360" cy="2819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65040" y="365760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珍珠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36576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447920"/>
            <a:ext cx="0" cy="41907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809880" y="16765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24280" y="762120"/>
            <a:ext cx="15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  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怕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41640" y="5715000"/>
            <a:ext cx="121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 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信赖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5402160"/>
          <a:ext cx="13352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0" y="5402160"/>
                    <a:ext cx="13352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0" y="19810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信赖的内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e"/>
            </a:gs>
            <a:gs pos="50000">
              <a:srgbClr val="ccffff"/>
            </a:gs>
            <a:gs pos="100000">
              <a:srgbClr val="fc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4" descr=""/>
          <p:cNvPicPr/>
          <p:nvPr/>
        </p:nvPicPr>
        <p:blipFill>
          <a:blip r:embed="rId1"/>
          <a:stretch/>
        </p:blipFill>
        <p:spPr>
          <a:xfrm>
            <a:off x="1066680" y="0"/>
            <a:ext cx="70106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6858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声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905120"/>
            <a:ext cx="79250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信赖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往往创造出美好的境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72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 rot="5605800">
            <a:off x="4343040" y="2819160"/>
            <a:ext cx="586764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用信赖构建和谐的生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5105160" cy="5600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38680" y="533520"/>
            <a:ext cx="312444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感情的朗读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写一个关于你与动物或你与身边的人创造这种美好境界的故事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字以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 rot="1855800">
            <a:off x="6933960" y="4114800"/>
            <a:ext cx="9144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！</a:t>
            </a:r>
            <a:endParaRPr b="0" lang="en-US" sz="96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-1295280" y="0"/>
            <a:ext cx="9982080" cy="2895480"/>
          </a:xfrm>
          <a:prstGeom prst="irregularSeal1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2857320" cy="2182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638680" y="1828800"/>
            <a:ext cx="2857680" cy="2182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48120" y="2438280"/>
            <a:ext cx="2857320" cy="2160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685800"/>
            <a:ext cx="634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     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这是一只还在拼命痛苦挣扎的灰鹤，被捆绑以后裹在编织袋里，只露出一个头，眼神里充满了绝望，长长的喙上已经是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血迹斑斑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89480" y="4952880"/>
            <a:ext cx="52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保护候鸟行动”开展以来，河南省森林公安机关先后在大洞庭湖和鄱阳湖地区收缴各类鸟铳、猎枪、土炮等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170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多支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34720" y="358920"/>
            <a:ext cx="70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美      丽     的       感     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76520" y="4267080"/>
            <a:ext cx="6235560" cy="2133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920" y="990720"/>
            <a:ext cx="8534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99"/>
                </a:solidFill>
                <a:latin typeface="Times New Roman"/>
                <a:ea typeface="新宋体"/>
              </a:rPr>
              <a:t>      </a:t>
            </a:r>
            <a:r>
              <a:rPr b="0" lang="zh-CN" sz="1800" spc="-1" strike="noStrike">
                <a:solidFill>
                  <a:srgbClr val="cc0099"/>
                </a:solidFill>
                <a:latin typeface="Times New Roman"/>
                <a:ea typeface="新宋体"/>
              </a:rPr>
              <a:t>珍</a:t>
            </a:r>
            <a:r>
              <a:rPr b="0" lang="zh-CN" sz="1800" spc="-1" strike="noStrike">
                <a:solidFill>
                  <a:srgbClr val="cc0099"/>
                </a:solidFill>
                <a:latin typeface="Times New Roman"/>
                <a:ea typeface="新宋体"/>
              </a:rPr>
              <a:t>·</a:t>
            </a:r>
            <a:r>
              <a:rPr b="0" lang="zh-CN" sz="1800" spc="-1" strike="noStrike">
                <a:solidFill>
                  <a:srgbClr val="cc0099"/>
                </a:solidFill>
                <a:latin typeface="Times New Roman"/>
                <a:ea typeface="新宋体"/>
              </a:rPr>
              <a:t>古道尔低下头，让一只原本多疑、易怒的老年黑猩猩亲切轻松地触碰他的额头。这不是能随意给予的馈赠，而是他在非洲的原始丛林里，</a:t>
            </a:r>
            <a:r>
              <a:rPr b="0" lang="zh-CN" sz="1800" spc="-1" strike="noStrike">
                <a:solidFill>
                  <a:srgbClr val="cc0099"/>
                </a:solidFill>
                <a:latin typeface="Times New Roman"/>
                <a:ea typeface="新宋体"/>
              </a:rPr>
              <a:t>20</a:t>
            </a:r>
            <a:r>
              <a:rPr b="0" lang="zh-CN" sz="1800" spc="-1" strike="noStrike">
                <a:solidFill>
                  <a:srgbClr val="cc0099"/>
                </a:solidFill>
                <a:latin typeface="Times New Roman"/>
                <a:ea typeface="新宋体"/>
              </a:rPr>
              <a:t>年与黑猩猩为伴换来的友谊。这是让人屏息的一刻，让人恍然觉得仿佛回到了最初的日子，人与动物相互爱着，和谐得像一副碗筷，不用再隔着冰冷的栅栏，空怀不能抵达的友情。这一刹那的沟通和交流不是别的，正是人类世代仰望的生命与自然结束分裂、互诉相思的境界。并不是古道尔拥有所罗门的指环，也不是偏心眼的神灵将与万物亲密交谈的秘密偷偷泄露给他。有一个道理浅白简单而又万古不移：万物生灵都是大地母亲平等照料的孩子，散发着同样的奶腥；寻找朋友并不像想象中那样困难，不一定非使用同样的语言，甚至都不需要以声传情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99"/>
                </a:solidFill>
                <a:latin typeface="Times New Roman"/>
                <a:ea typeface="新宋体"/>
              </a:rPr>
              <a:t>         </a:t>
            </a:r>
            <a:r>
              <a:rPr b="0" lang="zh-CN" sz="1800" spc="-1" strike="noStrike">
                <a:solidFill>
                  <a:srgbClr val="cc0099"/>
                </a:solidFill>
                <a:latin typeface="Times New Roman"/>
                <a:ea typeface="新宋体"/>
              </a:rPr>
              <a:t>这张安详动人的图片有一种不容修饰的永恒之美，每个人看到都会被深深感动。在古道尔那祥和恬淡的微笑中，我们看到了存在的幸福，看到了世界对爱的公正报答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5105520" cy="5600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851960" y="2224800"/>
            <a:ext cx="85068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1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Times New Roman"/>
                <a:ea typeface="华文中宋"/>
              </a:rPr>
              <a:t>信赖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是一朵嫩美的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6680" y="227520"/>
            <a:ext cx="85068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让我们用真诚去浇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476280"/>
            <a:ext cx="5040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26920" y="692280"/>
            <a:ext cx="727236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作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这篇文章为我们描绘出很多美好的画面，喜欢画画的同学可以任选一个画下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你和小动物之间发生过什么故事吗？喜欢写作的同学可以把这个故事写下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 rot="199800">
            <a:off x="2123640" y="1773000"/>
            <a:ext cx="5572080" cy="455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5060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用信赖构建美好生活</a:t>
            </a:r>
            <a:endParaRPr b="1" lang="en-US" sz="4800" spc="1" strike="noStrike">
              <a:ln w="9360">
                <a:solidFill>
                  <a:srgbClr val="ccffcc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140360" y="3068640"/>
            <a:ext cx="14112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3d0d9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3d0d9"/>
                  </a:gs>
                  <a:gs pos="100000">
                    <a:srgbClr val="dcebf5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6248160" cy="5700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b994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89896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2900160" cy="2940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267080" y="304920"/>
            <a:ext cx="3276720" cy="2549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523880" y="3809880"/>
            <a:ext cx="2971800" cy="2711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410080" y="3759120"/>
            <a:ext cx="3733920" cy="3110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048120"/>
            <a:ext cx="96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与动物的亲密交流是建立在什么之上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816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cc99"/>
                </a:solidFill>
                <a:latin typeface="Times New Roman"/>
                <a:ea typeface="隶书"/>
              </a:rPr>
              <a:t>珍  珠  鸟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5640" y="3733560"/>
            <a:ext cx="609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冯骥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6248520"/>
            <a:ext cx="576000" cy="409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6172200"/>
            <a:ext cx="457200" cy="372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304920" y="457200"/>
            <a:ext cx="8457840" cy="5867280"/>
            <a:chOff x="304920" y="457200"/>
            <a:chExt cx="8457840" cy="5867280"/>
          </a:xfrm>
        </p:grpSpPr>
        <p:pic>
          <p:nvPicPr>
            <p:cNvPr id="59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345996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764880" y="457200"/>
              <a:ext cx="4997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冯骥才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cc0000"/>
                  </a:solidFill>
                  <a:latin typeface="宋体"/>
                </a:rPr>
                <a:t>（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1942</a:t>
              </a:r>
              <a:r>
                <a:rPr b="1" lang="zh-CN" sz="3200" spc="-1" strike="noStrike">
                  <a:solidFill>
                    <a:srgbClr val="cc0000"/>
                  </a:solidFill>
                  <a:latin typeface="宋体"/>
                </a:rPr>
                <a:t>～）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cc0000"/>
                  </a:solidFill>
                  <a:latin typeface="宋体"/>
                </a:rPr>
                <a:t>，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当代</a:t>
              </a:r>
              <a:r>
                <a:rPr b="1" lang="zh-CN" sz="3200" spc="-1" strike="noStrike">
                  <a:solidFill>
                    <a:srgbClr val="cc0000"/>
                  </a:solidFill>
                  <a:latin typeface="宋体"/>
                </a:rPr>
                <a:t>作家。原籍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浙江慈溪</a:t>
              </a:r>
              <a:r>
                <a:rPr b="1" lang="zh-CN" sz="3200" spc="-1" strike="noStrike">
                  <a:solidFill>
                    <a:srgbClr val="cc0000"/>
                  </a:solidFill>
                  <a:latin typeface="宋体"/>
                </a:rPr>
                <a:t>，生于天津。著有《冯骥才中短篇小说集》、《冯骥才小说集》、《冯骥才选集》等。短篇小说《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雕花烟斗</a:t>
              </a:r>
              <a:r>
                <a:rPr b="1" lang="zh-CN" sz="3200" spc="-1" strike="noStrike">
                  <a:solidFill>
                    <a:srgbClr val="cc0000"/>
                  </a:solidFill>
                  <a:latin typeface="宋体"/>
                </a:rPr>
                <a:t>》，中篇小说《啊！》、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《神鞭》</a:t>
              </a:r>
              <a:r>
                <a:rPr b="1" lang="zh-CN" sz="3200" spc="-1" strike="noStrike">
                  <a:solidFill>
                    <a:srgbClr val="cc0000"/>
                  </a:solidFill>
                  <a:latin typeface="宋体"/>
                </a:rPr>
                <a:t>，分获全国优秀短篇、优秀中篇小说奖。部分作品已被译成英、法、德、日、俄等文字在国外出版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94440" y="131112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珍珠鸟，原产澳大利亚东部。因羽毛散落许多小白斑点，形似珍珠，故得名。羽毛鲜丽，体形娇小，叫声细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4:39:22Z</dcterms:created>
  <dc:creator>lr</dc:creator>
  <dc:description/>
  <dc:language>en-US</dc:language>
  <cp:lastModifiedBy>KENDE</cp:lastModifiedBy>
  <dcterms:modified xsi:type="dcterms:W3CDTF">2006-04-25T14:13:05Z</dcterms:modified>
  <cp:revision>54</cp:revision>
  <dc:subject/>
  <dc:title>PowerPoint 演示文稿</dc:title>
</cp:coreProperties>
</file>