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99C-3AD1-4E40-BB9F-2889074A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9D1-9452-4561-B43A-16EE44E7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6FB-DC2F-41E2-9DE1-605C4028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64C-629C-4A16-8A69-2015843F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91DE-4DCC-4D73-B3F0-2C661B58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AA82-24A9-407F-B068-C7F46EB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C05A-F9AF-46B1-BD9C-39B179E2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F9A5-64A3-42EC-BD5A-4B03995D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A63-E407-480F-93D4-B7FE8B50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46F-4427-46C5-B3A3-61429DD6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0257-90BE-4E15-B686-C7A160B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EA1-FED1-41A6-BDA8-E14F8EA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23BC-DDE1-4A82-93B7-A44057C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5DC0-F6E9-49B8-AAB8-BF6D05F3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DED7-4368-4BB6-8F48-CCE5B05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8D29-3DF4-4116-8E9B-52664393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572-66B7-4BA3-B10A-6DEDFF93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F3E-EC3F-48DF-A738-45D2516C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D9F-5DC8-4922-9120-9E9BC271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766-AA63-42DC-99CF-BECA9BCF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BF6-3DD3-4741-842F-C6DECACB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638-5AA3-48B0-9943-C9BB8EE4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3D1-B6C6-44AA-98B6-0A6A7BB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D98-62EA-4F84-ABD8-81C91A35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297A-D726-4A73-B5A0-B6C7E76B4DA4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CB54-3557-407F-BFEA-5054DCBD6E89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32426;&#24565;&#21608;&#24681;&#26469;.htm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67752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1022400"/>
            <a:ext cx="7391160" cy="5232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62520" y="6140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7f88"/>
                </a:solidFill>
                <a:latin typeface="Arial"/>
                <a:ea typeface="方正舒体"/>
              </a:rPr>
              <a:t>泣不成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4638600"/>
            <a:ext cx="3124080" cy="2219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67080" y="3560760"/>
            <a:ext cx="4876920" cy="329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43000" y="344520"/>
            <a:ext cx="4572000" cy="3236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715000" y="380880"/>
            <a:ext cx="3429000" cy="241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743200" y="2057400"/>
            <a:ext cx="4724280" cy="3341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28600" y="990720"/>
            <a:ext cx="6094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沉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痛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悼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周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总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理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4343400" cy="655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4191120" cy="655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04920" y="990720"/>
            <a:ext cx="457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周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总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理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我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们</a:t>
            </a:r>
            <a:endParaRPr b="0" lang="en-US" sz="24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想</a:t>
            </a:r>
            <a:endParaRPr b="0" lang="en-US" sz="24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念</a:t>
            </a:r>
            <a:endParaRPr b="0" lang="en-US" sz="24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你</a:t>
            </a:r>
            <a:endParaRPr b="0" lang="en-US" sz="24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436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-1066680"/>
            <a:ext cx="80010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、这首诗表达了人们对周恩来总     理一种怎样的感情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、作者是通过哪些修辞手法来表现的？运用这些修辞手法有什么好处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、课题用《周总理，你在哪里》有什么好处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828800" y="838080"/>
            <a:ext cx="16765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想一想：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3781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2378160"/>
            <a:ext cx="9144000" cy="2103480"/>
            <a:chOff x="0" y="2378160"/>
            <a:chExt cx="9144000" cy="2103480"/>
          </a:xfrm>
        </p:grpSpPr>
        <p:sp>
          <p:nvSpPr>
            <p:cNvPr id="107" name=""/>
            <p:cNvSpPr/>
            <p:nvPr/>
          </p:nvSpPr>
          <p:spPr>
            <a:xfrm>
              <a:off x="0" y="2378160"/>
              <a:ext cx="91440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378160"/>
              <a:ext cx="914400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3423960" cy="563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48320" y="852480"/>
            <a:ext cx="44193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人最宝贵的是生命，生命每个人只有一次。人的一生应当这样度过：当他回忆往事的时候，他不会因为虚度年华而悔恨，也不会因为碌碌无为而羞愧；在临死的时候，他能够说：“我的整个生命和全部的精力，都已经献给了世界上最壮丽的事业——为人类的解放而斗争！”</a:t>
            </a:r>
            <a:r>
              <a:rPr b="0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8001000" cy="6629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6338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3d9"/>
                </a:solidFill>
                <a:latin typeface="华文新魏"/>
                <a:ea typeface="华文新魏"/>
              </a:rPr>
              <a:t>周总理的灵车缓缓地驶过天安门广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52480" y="99072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华文行楷"/>
              </a:rPr>
              <a:t>边看边想：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2284560"/>
            <a:ext cx="58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华文新魏"/>
              </a:rPr>
              <a:t>从朗读者的声音中听出每小节作者是带者怎样的语气来读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800100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7010280" cy="495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0" y="6019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21db9"/>
                </a:solidFill>
                <a:latin typeface="Arial"/>
                <a:ea typeface="方正舒体"/>
              </a:rPr>
              <a:t>人民英雄纪念碑前无数的花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7162920" cy="518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62520" y="6140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b8909"/>
                </a:solidFill>
                <a:latin typeface="Arial"/>
                <a:ea typeface="方正舒体"/>
              </a:rPr>
              <a:t>举国悲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162920" cy="502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6140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57bc1"/>
                </a:solidFill>
                <a:latin typeface="Arial"/>
                <a:ea typeface="方正舒体"/>
              </a:rPr>
              <a:t>深深地悼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7162920" cy="4905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62520" y="6140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e4828"/>
                </a:solidFill>
                <a:latin typeface="Arial"/>
                <a:ea typeface="方正舒体"/>
              </a:rPr>
              <a:t>悲痛万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0:41:57Z</dcterms:created>
  <dc:creator>XS</dc:creator>
  <dc:description/>
  <dc:language>en-US</dc:language>
  <cp:lastModifiedBy>ShineSun</cp:lastModifiedBy>
  <dcterms:modified xsi:type="dcterms:W3CDTF">2005-11-08T21:10:28Z</dcterms:modified>
  <cp:revision>15</cp:revision>
  <dc:subject/>
  <dc:title>PowerPoint 演示文稿</dc:title>
</cp:coreProperties>
</file>