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88D-466D-4144-A301-9394959B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AFD-0987-4B34-BCE9-2AA2D5AD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3F14-299E-45F1-8DAD-BF2D5586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577-B214-4394-92BE-4AE1BC62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A58D-E07B-489E-873E-6CEE05E7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B80-CBA4-4414-98AE-397CE1B3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A41-76D5-4D2F-8AAB-C693E93C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07B-F735-428D-81BC-4EE108FD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2D4-57FB-48DD-BA26-4C63EF79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BBB-7695-480B-B762-2FC5B3EF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5EC9-BD4D-46B3-BBCB-823DF486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D05-F4CC-4F60-8AC7-A7FFC148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B359-85B1-4675-A4D9-59FDD70052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760680" y="2415240"/>
            <a:ext cx="5533920" cy="165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《庄子》二则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6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zhuanzi.JPG (16309 bytes)"/>
          <p:cNvPicPr/>
          <p:nvPr/>
        </p:nvPicPr>
        <p:blipFill>
          <a:blip r:embed="rId1"/>
          <a:stretch/>
        </p:blipFill>
        <p:spPr>
          <a:xfrm>
            <a:off x="0" y="260280"/>
            <a:ext cx="3276720" cy="6597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727600" y="54828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用现代汉语翻译下列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217728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皆有七窍，以视、听、食、息，此独无有，尝试凿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7080" y="4364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6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19400" y="307080"/>
            <a:ext cx="194544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研讨本文寓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40976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对客观事物不去做认真分析，调查研究，单凭主观热情，盲目好动，反而引出坏的结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13400" y="2420280"/>
            <a:ext cx="12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事快而不加思索，结果往往会事与愿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3425760"/>
            <a:ext cx="83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告诫人们遇事要多动脑筋，多思考，尽量减少和避免决策上的失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45054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事虽出于好心，但违反事物发展的客观规律，可能会导致意想不到的相反结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83040" y="5589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办事要看对象，勿把好事办坏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3213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916360" y="260280"/>
            <a:ext cx="482436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呆若木鸡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2" name=""/>
          <p:cNvSpPr/>
          <p:nvPr/>
        </p:nvSpPr>
        <p:spPr>
          <a:xfrm>
            <a:off x="2268360" y="2997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给下列红体字注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4076640"/>
            <a:ext cx="648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渻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乎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无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414972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hě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4076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494172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h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4797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ì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6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47320" y="259560"/>
            <a:ext cx="7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解释下列红色字体的的词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2200" y="881640"/>
            <a:ext cx="76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乎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应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49156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疾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反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920" y="3788640"/>
            <a:ext cx="8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用现代汉语翻译下列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4653000"/>
            <a:ext cx="54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未也，方虚骄而恃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未也，犹应响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未也，犹疾视而盛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矣，鸡虽有鸣者，已无变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83664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隶书"/>
              </a:rPr>
              <a:t>停止，这里解释为训练完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1341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凭着、依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68360" y="191628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仍然       影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2492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怒目而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2492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没有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2997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0360" y="299736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转身逃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6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69480" y="464400"/>
            <a:ext cx="1826640" cy="64260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合作探究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1700280"/>
            <a:ext cx="74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纪渻子对斗鸡的观察分为哪几个阶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纪渻子通过对斗鸡的观察训练，认为“几    矣”，文中反映出“几矣”原因的句子应是哪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纪渻子养的鸡能使“异鸡无敢应者”，主要得益于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文中的“德全”你如何理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你认为这则寓言的寓意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804000" y="4086360"/>
            <a:ext cx="23400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6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16000" y="981000"/>
            <a:ext cx="684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阶段：方虚骄而恃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阶段：犹应响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阶段：犹疾视而盛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阶段：鸡虽有鸣者，已无变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6000" y="4572000"/>
            <a:ext cx="1908000" cy="2286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90400" y="3867480"/>
            <a:ext cx="1143720" cy="581400"/>
          </a:xfrm>
          <a:prstGeom prst="rect">
            <a:avLst/>
          </a:prstGeom>
          <a:noFill/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鸡虽有鸣者，已无变矣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6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38960" y="907200"/>
            <a:ext cx="112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德全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95720" y="619920"/>
            <a:ext cx="306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德才兼备       精神凝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聚精会神       修炼成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765000"/>
            <a:ext cx="73080" cy="792360"/>
          </a:xfrm>
          <a:custGeom>
            <a:avLst/>
            <a:gdLst>
              <a:gd name="textAreaLeft" fmla="*/ 46800 w 73080"/>
              <a:gd name="textAreaRight" fmla="*/ 73440 w 730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02560" y="2491560"/>
            <a:ext cx="8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为人要去掉骄傲盛气，扎扎实实修养自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335448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遇事要细心观察，认真分析，要遵循事物的发展规律，欲速则不达，勿急于求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436248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做任何事情都要全身贯注，专心致志，精神要达到最高境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370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强调人的精神因素，精神因素是人的诸多因素中的首要因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11354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  <a:path fill="darken" w="29705" h="21600">
                <a:moveTo>
                  <a:pt x="7846" y="3794"/>
                </a:moveTo>
                <a:lnTo>
                  <a:pt x="9509" y="3794"/>
                </a:lnTo>
                <a:lnTo>
                  <a:pt x="9509" y="17806"/>
                </a:lnTo>
                <a:lnTo>
                  <a:pt x="78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9780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24000" y="4086360"/>
            <a:ext cx="3960720" cy="2771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语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游刃有余　　失之交臂　   支离破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沉鱼落雁　　朝三暮四　   以貌取人　　　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东施效颦　　标新立异　   无中生有　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越俎代庖　　扶摇直上　   唇亡齿寒　  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旁门左道　　踌躇满志　   捉襟见肘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6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8360" y="475560"/>
            <a:ext cx="331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迁移拓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5560" y="2564640"/>
            <a:ext cx="139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任选一则改编课本剧，并演一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6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92360" y="476280"/>
            <a:ext cx="5292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战国时哲学家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散文家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宋国蒙人。曾任蒙漆园吏，但不久辞去。《史记》上说，“楚威王闻庄周贤，使使厚币迎之，许以为相”，可庄周并未接受，“宁游戏污渎之中自快，无为有国者所羁”，终身不仕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庄周一生贫困，他身居陋巷，常向人借粮，自织草鞋，穿粗布衣和破鞋子，甘愿闲居独处。他继承并发扬了老子思想，和老子同是道家学派的代表人物，世称老庄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庄子认为世间一切事物并无本质区别，无论大小、贵贱、寿夭、生死、善恶、得失、荣辱都是相对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157720"/>
            <a:ext cx="32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庄子 名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约公元前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369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约前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286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9527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6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71640" y="260280"/>
            <a:ext cx="27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Times New Roman"/>
                <a:ea typeface="隶书"/>
              </a:rPr>
              <a:t>庄子思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35640" y="549360"/>
            <a:ext cx="3564000" cy="5184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1341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、主张“天道无为”的思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256536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、持有相对主义的认识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3716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、主张无条件的精神自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64360" y="5254560"/>
            <a:ext cx="1979640" cy="160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2828880"/>
            <a:ext cx="82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视权贵如腐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庄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水》载：惠施在梁国作了宰相，庄子想去见见这位好朋友。有人急忙报告惠子，道：“庄子来，是想取代您的相位哩。”惠子很慌恐，想阻止庄子，派人在国中搜了三日三夜。哪料庄子从容而来拜见他道：“南方有只鸟，其名为凤凰，您可听说过？这凤凰展翅而起。从南海飞向北海，非梧桐不栖，非练实不食；非醴泉不饮。这时，有只猫头鹰正津津有味地吃着一只腐烂的老鼠，恰好凤凰从头顶飞过。猫头鹰急忙护住腐鼠，仰头视之道：‘吓！’现在您也想用您的梁国来吓我吗？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89000"/>
            <a:ext cx="2736720" cy="7034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庄子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16000" y="765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54936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宁做自由之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天，庄子正在涡水垂钓。楚王委派的二位大夫前来聘请他道：“吾王久闻先生贤名，欲以国事相累。深望先生欣然出山，上以为君王分忧，下以为黎民谋福。”庄子持竿不顾，淡然说道；“我听说楚国有只神龟，被杀死时已三千岁了。楚王珍藏之以竹箱，覆之以锦缎，供奉在庙堂之上。请问二大夫，此龟是宁愿死后留骨而贵，还是宁愿生时在泥水中潜行曳尾呢？”二大夫道：“自然是愿活着在泥水中摇尾而行啦。”庄子说：“二位大夫请回去吧！我也愿在泥水中曳尾而行哩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64360" y="5254560"/>
            <a:ext cx="197964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260280"/>
            <a:ext cx="7777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庄子的生死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庄子快要死的时候，他的弟子们准备厚葬自己的老师。庄子知道后用幽默的口气说：“我死了以后，大地就是我的棺椁，日月就是我的连璧，星辰就是我的珠宝玉器，天地万物都是我的陪葬品，我的葬具难道还不丰厚么！你们还能再增加点什么呢？”学生们哭笑不得他说：“老师呀！要那样的话，我们还不是怕乌鸦老鹰把老师吃了么？”庄子说：“扔在野地里你们怕乌鸦老鹰吃了我，那埋在地下就不怕蚂蚁吃了我么？你们把我从乌鸦老鹰嘴里抢走送给蚂蚁，为什么那么偏心眼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164360" y="5254560"/>
            <a:ext cx="197964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6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26920" y="476280"/>
            <a:ext cx="2089440" cy="7034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寓言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1989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寓言以比喻性的故事寄寓意味深长的道理。寓言故事一般比较简短，股市的主人公可以是人，也可以是拟人化的动植物或其他事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321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916360" y="260280"/>
            <a:ext cx="482436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浑沌之死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256464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下列字注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3933720"/>
            <a:ext cx="655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沌                             倏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窍                             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8000" y="400536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dù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0360" y="400536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s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5280" y="4797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qi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4797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z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6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76200" y="40392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解释下列红体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773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倏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凿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报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七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相与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视、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与遇于浑沌之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933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把下列意义相同的“之”归成两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4867920"/>
            <a:ext cx="675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南海之帝    待之甚善      浑沌之地        浑沌之德     尝试凿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177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名叫、叫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1700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每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93080" y="1773360"/>
            <a:ext cx="20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谋划、商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2205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窍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2205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互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028000" y="213372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用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1280" y="2637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常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1:47:37Z</dcterms:created>
  <dc:creator>FtpDown</dc:creator>
  <dc:description/>
  <dc:language>en-US</dc:language>
  <cp:lastModifiedBy>微软中国</cp:lastModifiedBy>
  <dcterms:modified xsi:type="dcterms:W3CDTF">2013-02-25T14:45:33Z</dcterms:modified>
  <cp:revision>26</cp:revision>
  <dc:subject/>
  <dc:title>幻灯片 1</dc:title>
</cp:coreProperties>
</file>