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wind.wav" ContentType="audio/x-wav"/>
  <Override PartName="/ppt/media/chimes.wav" ContentType="audio/x-wav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F6A-210C-4A3E-B4F9-E5D52A22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6AB-936D-4E05-9BF3-BFE2CD26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6F69C-A702-4EEE-A6B9-3C6BECE1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1DBEC-A93F-4876-9E7C-16E986C4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317C9-B90E-4B65-8512-F4F1FAB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2C252-C0CC-470F-89A2-761AEE05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E74C6-1A65-495F-98AC-255DC73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C0B34-8FC0-4FDC-B074-6BEE40F8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8F727-D6B5-428C-B3FD-F85DE00E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A8FFF-0B39-46EC-AB67-888DF3C7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9E421-304D-4647-97BD-3DEB484C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AA4E3A-D02E-4C2B-AB7A-FF3AA462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198-6D48-4833-BA83-F9F081A4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29D224-4560-4F99-A72D-78666F72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187E36-2008-442F-825E-B1E7B6FB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60ED58-3752-4A6A-883C-C1D70281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60624F-2F50-4366-B93D-1236A92F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83C992-31E9-4AB5-B0EB-522E3206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4ED82-2D2A-4DDD-A756-AA2CE19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24F6EB-C1F7-4B30-B9C1-00E7E98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4D08E1-EDED-44DC-9DB0-22D4F91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3FA345-D84D-41E7-AEB5-5163747E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EB9CE8-2442-46EE-8E58-33A64046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A2B-0D0A-4214-991C-2B19F483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98C2F-6DC0-491F-BF1C-0B0D59EC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C377C-AA27-42A1-A0FB-B55A73B8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1AA9-90AE-488B-853F-6405FB4A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353FA-19B7-4B61-8E20-851EF6C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26699-D711-4613-8ABC-840D2B17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0D160-1CED-473C-8ECB-B32AF232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89AE4-AE37-4976-A1BB-9ADD1627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ABA0B-E82E-46C6-88DA-7EBD970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5B521-BB07-4BBA-901C-8F7E17F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35A55-9C9A-4BDA-A85A-465BFA5A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44FE-D0BD-4066-9F2B-8A736B26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8CA35-53BF-4604-B3E6-083B6BC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49CD1-8037-4404-A05A-AD484D13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89D1B-7F1C-4855-B6D8-AF76D9AD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C9E5F4-A249-45C8-860C-A696A239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39D5A8-63E9-4008-A163-55EFA411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1CE1B9-0782-401B-9EEB-FD10482D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43627B-8DAA-4E00-94B5-EC14329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B515D-ED9A-43FB-8BF1-603E5FC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F4183C-03F6-4B2D-8557-A1139EB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A3A697-A088-46AC-AE7B-579069B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E65-1635-425B-861D-029CA8FF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830A4E-3E51-48B5-996B-1888F51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26A608-FFB3-4AD6-B72E-989DEEF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463843-DA0D-48D6-AC2D-26688930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4F34D8-2A47-4B81-A639-3B504B99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EB683F-169A-473B-893C-7C58E708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68631-0C3F-4D38-B28B-6C763F78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B8708-C724-4E2B-BECF-C1E8388C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14166-E5C2-4F3A-8C9E-E6388B8F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B37CD-6666-4D26-83DE-36399C82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0981A-8D51-4FDF-B664-127E062D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276-6960-4F23-ADBA-E7C9C3F1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765E8-AF73-43BB-9058-7A9D3CD2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85115-59E1-41E2-8790-FF635687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9E23A-9FB1-4119-8335-8DA8CF9A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E520D-8792-46A7-B460-D3B78B9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8434D-A221-4599-A735-F49234DA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6F3F6-BB8A-4DA7-B314-71714231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1E4C0-C07F-468A-929F-0650AC00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F95B1-D350-422B-BC2D-28712ADC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B838A-5A83-445E-AFA1-68D2715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ABCCD-0A14-4231-A360-3184AF73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7883-9981-4666-9B45-2A305199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B573C-6498-482F-8BDC-FCFF00DF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73B9F-639B-4608-8A3B-7B08C507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B1735-C2A1-4979-9233-D52BE24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D7653-C3B8-4885-B988-27C57F6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C5D88-99E8-4222-A85D-BF2E7AD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BBC93-AFBC-4BD6-88F6-10E15EDC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297A2-102F-4BB3-BEE7-251975F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E73FD-5231-4912-A820-BF08A19C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385A7-3C9C-4A70-97C9-6679B32E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FDA1-BFDF-4DF2-BCAE-75257C2D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2BF0-82A1-40C9-BC04-B7E4ED9A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9070-BD6D-45B7-B568-F47ABCCE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366-DB1F-4F8D-9076-0E10350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47EB-9683-441D-8130-74D9EFC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5AC1-9DDD-409C-B57F-78A8C553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C8FF-BFC6-4120-B22A-FAAA99F3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0514-1AEE-4475-AF57-991DB7DD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61A4-EC4F-4548-9EE5-0EF77230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D923-F6B1-48C2-A7DF-5C8C0119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DD190-27EE-4087-89EF-695027EA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2922-29B4-4368-9449-28BBB92E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893B-A22E-4550-A9E1-E0DE01A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18A6-F165-46BC-94FA-455F9327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69C-130F-44C6-A2BA-F8AD48F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40BA-EC39-42CE-91E0-6BABE896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B0B3-F55D-4EDC-B39C-80D3B06F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C055-88F7-4F08-992F-0E56B43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69A4-351B-4861-9601-5EF1DD5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C8567-DC42-400B-81DA-81334D2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4FAE-87D8-452F-BB65-8624E4F4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F59B-98E1-4634-AEAD-487B6895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96D7-240F-46AB-838F-3DA3AB93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367E-DE53-4595-9265-E2C729CB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66E4A-D6FE-464A-A3D1-D64109B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6D4-5CC4-4908-BFD3-C6E441A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1364-6F6B-4245-8718-1F145D5C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9C74-EEDC-4562-B79E-CE3345C4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E544-55E4-48E7-9357-6B46E311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A921-9CBF-44E6-86E9-80C93F8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406C-C65C-4AE4-B52F-30E2E73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47BD-621C-452E-A1DC-A875A473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1A83-1D88-49DA-8AFB-37E00EFD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E7E8-5140-4DE7-B7EF-A63FA423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85E1B-626F-481E-9F2C-BF8C0B0B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36377-645C-494A-8632-E1E341FA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B68-EF07-4B60-A08B-F866995F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4F1A5-7FF9-40DF-B9C9-FF00F2C8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22990-C9B8-4623-AA19-B318279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83F00-301B-4449-A682-AD65FFD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0F7A1-935A-4043-A890-95856BDE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FA7F5-8A58-4DEF-B192-E49C868E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743EE-09B7-4643-8C3F-4A8B2268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7EC45-CDFF-4545-9B06-F8F215B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A8930-8ECB-4D60-9226-9EFE8B3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0050E-173A-4DBE-BEC3-2A0B268C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71BFD-B924-4BAC-98DB-223BF10B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543-D54F-4090-A964-DCB6DC5C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9BC98-8E2A-481F-875D-D65D04B0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C6B53-86CD-415D-8DE7-62B6A602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C07D-D30E-41CE-B1EB-0607E5F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FFEB-3EAF-4F40-A0F6-3474C379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BB88A-1A77-4DEB-8B2E-7FC70F55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CB6E7-925C-4122-9776-50510B2A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1F54E-1EF4-45DF-B5BD-76309715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7CBE-6292-4209-8161-AAF59AFA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B7059-BF1F-4BD4-A3C1-C563FDB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B2B1-24F0-4019-A4CC-E1AE25B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656-0FCF-4446-8671-557E746A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2197-4F43-4A09-90C8-F9A3C441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1F16-4FE6-4B2F-AE04-2645D7FE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4A890-C413-4A09-B411-3F87FB86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2983A-4FC5-4441-A2BE-1AD08702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F65D-EB8B-4BA7-887A-9E1C608A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344F3-2D16-40F9-8A6E-AFA4CFD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4376D-9CA2-45D4-9616-A250292E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6EDD-F5CD-4B6B-9F8A-21941C4C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262E7-BC96-459D-882F-8B8B138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032E4-835B-4817-B293-F3C35053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137-9F23-460C-8AFB-B084B08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A6E1-0077-49F3-A72E-39DBFE39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E6254-353E-4741-816E-30C39E1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7E49-FF56-422F-BC4E-17859CD2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04B9-EBFA-4B85-9986-3F64654D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2A34D-4A73-488D-9312-611ED7D3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E5058-1A62-43A2-A392-06F2AD49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DDCB4-4FB5-4066-9F79-2EE2AAC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20809-3DF9-43BD-881C-DE42CB4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C2BA5-7BF4-4C49-BCD9-1DE6066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5D8D-C091-4816-B836-30AB464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F58-F8F5-494B-97C6-4903904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79C4B-7C7D-4A31-8C31-1AB6E385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2B3B7-E937-44D2-9B3A-38A68F0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26AA3-2FD9-410A-9898-ABDAF6BF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8A680-DE52-4FB7-80A2-EE10C61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CA74-A506-4B76-A507-EF12517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2691D-D901-4588-9315-F51A1B6A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49C97-8A04-4000-80F5-063CE4DF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DE610-5ACC-4005-BD10-D4ED3F9A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233F3-0CFD-45DE-9969-F0652F5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9B567-7CD8-4787-81A3-95BDD1F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78DE-7E2B-431F-A473-84A12783B83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56A-53D6-41BA-948A-CDCCA9DF5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7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5BB5-80AE-4AFF-9EF8-A88756BB82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2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3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3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DA3B-F7EF-4A83-85A1-26A7859A60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8B58-31E2-4C90-A0AA-4298998C21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3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3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4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14D7-9FAA-41ED-AE51-8F6A44BE095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8380-7263-45A5-AB08-852D4FB716C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C85-E7CA-452B-8498-CB204D7C2BE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D2E1-2527-4A91-A19B-3C1D6C6FA9F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6285-3178-4BC1-8DD1-A12BB8A443F5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A77-2895-46C2-86C3-F0C1601943C9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1679-7089-4790-A721-215B01513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9AB4-3B38-4597-8214-03FAA01A0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680-E2E3-4D47-B5BF-485A654A5C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wind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1547640" y="2421000"/>
            <a:ext cx="792036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真正的英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6767ff"/>
                </a:solidFill>
                <a:latin typeface="Arial"/>
                <a:ea typeface="隶书"/>
              </a:rPr>
              <a:t>                            </a:t>
            </a:r>
            <a:r>
              <a:rPr b="1" lang="zh-CN" sz="6000" spc="-1" strike="noStrike">
                <a:solidFill>
                  <a:srgbClr val="6767ff"/>
                </a:solidFill>
                <a:latin typeface="Arial"/>
                <a:ea typeface="隶书"/>
              </a:rPr>
              <a:t>里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3352680" y="2035080"/>
            <a:ext cx="243864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谢谢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826920" y="126828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隶书"/>
              </a:rPr>
              <a:t>请你给大家介绍一下查阅的有关飞机和载人宇宙飞船的资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11280" y="47628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ff00"/>
                </a:solidFill>
                <a:latin typeface="Arial"/>
                <a:ea typeface="隶书"/>
              </a:rPr>
              <a:t>教学目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00000" y="2205000"/>
            <a:ext cx="777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00"/>
                </a:solidFill>
                <a:latin typeface="Arial"/>
                <a:ea typeface="隶书"/>
              </a:rPr>
              <a:t>1</a:t>
            </a:r>
            <a:r>
              <a:rPr b="1" i="1" lang="zh-CN" sz="4000" spc="-1" strike="noStrike">
                <a:solidFill>
                  <a:srgbClr val="00ff00"/>
                </a:solidFill>
                <a:latin typeface="Arial"/>
                <a:ea typeface="隶书"/>
              </a:rPr>
              <a:t>、朗读课文，体味文章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00"/>
                </a:solidFill>
                <a:latin typeface="Arial"/>
                <a:ea typeface="隶书"/>
              </a:rPr>
              <a:t>2</a:t>
            </a:r>
            <a:r>
              <a:rPr b="1" i="1" lang="zh-CN" sz="4000" spc="-1" strike="noStrike">
                <a:solidFill>
                  <a:srgbClr val="00ff00"/>
                </a:solidFill>
                <a:latin typeface="Arial"/>
                <a:ea typeface="隶书"/>
              </a:rPr>
              <a:t>、理清文章的思路，把握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00"/>
                </a:solidFill>
                <a:latin typeface="Arial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ff00"/>
                </a:solidFill>
                <a:latin typeface="Arial"/>
                <a:ea typeface="隶书"/>
              </a:rPr>
              <a:t>、培养学生探索科学未知领域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7400880" y="3781440"/>
            <a:ext cx="17431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字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哀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悼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dào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 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锲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而不舍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qiè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 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章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xūn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 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炼（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chuí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阴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霾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ái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孜孜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不倦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zī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   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凝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聚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níng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战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栗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ì 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拓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荒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uò 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 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 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补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(mí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不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朽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x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ǔ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、词语积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哀悼：悲痛的悼念（死者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锲而不舍：比喻有恒心有毅力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迫不及待：急迫的不能再等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建树：建立（功绩）。           锤炼：磨练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孜孜不倦：勤勉，不知道疲倦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梦寐以求：睡梦中都想着寻找，形容迫切希望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弥补：把不够的部分补足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16000" y="141300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00ff"/>
                </a:solidFill>
                <a:latin typeface="Arial"/>
                <a:ea typeface="隶书"/>
              </a:rPr>
              <a:t>自由朗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258920" y="4005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ff00"/>
                </a:solidFill>
                <a:latin typeface="Arial"/>
                <a:ea typeface="隶书"/>
              </a:rPr>
              <a:t>思考：演讲词主题是什么？表达了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93714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3714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900000" y="907920"/>
            <a:ext cx="7705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里根的这篇演讲哀悼遇难的英雄，颂扬人类的探索精神，号召人们化悲痛为力量，继续进行太空探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560" y="-360"/>
            <a:ext cx="8839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结构梳理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-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：表达深深的哀痛和对英雄的赞颂。           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-1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：追忆几位献身的英雄，要人民永远记住这些“真正的美国英雄”。            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4-2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：号召人民化悲痛为力量，继承英雄未尽的事业，继续向太空进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感情归纳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前半部分抒发悲痛心情。因为英雄已死，无论对人类，对国家，还是对亲人，对朋友，这都是一种巨大的损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后半部分主要表达力量。人类不能永远悲痛、消沉下去，而应该化悲痛为力量，沿着英雄的足迹继续前进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332000" y="1916280"/>
            <a:ext cx="63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66"/>
                </a:solidFill>
                <a:latin typeface="Arial"/>
                <a:ea typeface="隶书"/>
              </a:rPr>
              <a:t>请找出让你感动的句子，说说为什么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5280" y="692280"/>
            <a:ext cx="432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隶书"/>
              </a:rPr>
              <a:t>欣赏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24000" y="155736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ff00"/>
                </a:solidFill>
                <a:latin typeface="Arial"/>
                <a:ea typeface="隶书"/>
              </a:rPr>
              <a:t>再次朗读让自己感动的句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93714" fill="hold"/>
                                        <p:tgtEl>
                                          <p:spTgt spid="6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0" y="18900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ff00"/>
                </a:solidFill>
                <a:latin typeface="Arial"/>
                <a:ea typeface="隶书"/>
              </a:rPr>
              <a:t>体验反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9640" y="291456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里根总统宣扬的美国精神的内涵是什么</a:t>
            </a:r>
            <a:r>
              <a:rPr b="1" i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?</a:t>
            </a:r>
            <a:r>
              <a:rPr b="1" i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你怎样看待这种精神</a:t>
            </a:r>
            <a:r>
              <a:rPr b="1" i="1" lang="zh-CN" sz="6000" spc="-1" strike="noStrike">
                <a:solidFill>
                  <a:srgbClr val="ff0066"/>
                </a:solidFill>
                <a:latin typeface="Arial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i="1" lang="zh-CN" sz="3200" spc="-1" strike="noStrike">
                <a:solidFill>
                  <a:srgbClr val="ff0000"/>
                </a:solidFill>
                <a:latin typeface="Tahoma"/>
              </a:rPr>
              <a:t>演讲词的内容虽然写的是美国人和美国的事，其意义却超越了民族、国家和不同的科学领域，上升到全人类的高度，体现了人类最闪光的品质</a:t>
            </a:r>
            <a:r>
              <a:rPr b="0" i="1" lang="zh-CN" sz="3200" spc="-1" strike="noStrike">
                <a:solidFill>
                  <a:srgbClr val="ff0000"/>
                </a:solidFill>
                <a:latin typeface="Tahoma"/>
              </a:rPr>
              <a:t>---</a:t>
            </a:r>
            <a:r>
              <a:rPr b="0" i="1" lang="zh-CN" sz="3200" spc="-1" strike="noStrike">
                <a:solidFill>
                  <a:srgbClr val="ff0000"/>
                </a:solidFill>
                <a:latin typeface="Tahoma"/>
              </a:rPr>
              <a:t>百折不挠地探索未知领域的精神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49:35Z</dcterms:created>
  <dc:creator>ruan</dc:creator>
  <dc:description/>
  <dc:language>en-US</dc:language>
  <cp:lastModifiedBy>MC SYSTEM</cp:lastModifiedBy>
  <dcterms:modified xsi:type="dcterms:W3CDTF">2005-06-01T08:07:02Z</dcterms:modified>
  <cp:revision>9</cp:revision>
  <dc:subject/>
  <dc:title>幻灯片 1</dc:title>
</cp:coreProperties>
</file>