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BB4D-32FF-43AF-8B54-7333A5F1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B2A-BF87-493E-93CC-3359DDE3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C89-CAC3-4348-8F28-A7F2BB59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974-40E8-4FB7-BA5B-B8FB489D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CE6-E7E0-4B82-9F7E-C5638A32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BAF-BF24-43EE-B1D0-28D7844B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748-075A-4650-82FD-99A3068A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D9C-23A3-4AF0-B123-5C6C411A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3A2-BFBC-47AB-9D35-67885F69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9B3-3F9F-49E1-8F0A-9D2CB8D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266-396A-4542-B3D1-C8A17703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50C-28CA-477C-81B5-5E9CAA17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9401-C446-4C43-BBE5-733DF11A1E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1523880"/>
            <a:ext cx="7696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新魏"/>
              </a:rPr>
              <a:t>2</a:t>
            </a:r>
            <a:r>
              <a:rPr b="1" lang="zh-CN" sz="96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华文新魏"/>
              </a:rPr>
              <a:t>、走一步，再走一步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90920" y="3657600"/>
            <a:ext cx="4495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莫顿</a:t>
            </a: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·</a:t>
            </a: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亨特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90720"/>
            <a:ext cx="84582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教学目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学会积极主动地感悟生活，在生活中发掘宝贵的思想启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学习作者独特的写作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培养多角度、有创意地阅读与思考的能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7524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训</a:t>
            </a:r>
            <a:r>
              <a:rPr b="0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诫</a:t>
            </a: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</a:t>
            </a:r>
            <a:r>
              <a:rPr b="0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耸</a:t>
            </a: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立           </a:t>
            </a:r>
            <a:r>
              <a:rPr b="0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迂</a:t>
            </a: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回          凝视  </a:t>
            </a:r>
            <a:r>
              <a:rPr b="0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啜</a:t>
            </a: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泣          纳</a:t>
            </a:r>
            <a:r>
              <a:rPr b="0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罕           </a:t>
            </a: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瘦骨</a:t>
            </a:r>
            <a:r>
              <a:rPr b="0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嶙峋           </a:t>
            </a: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心惊肉跳  头晕目</a:t>
            </a:r>
            <a:r>
              <a:rPr b="0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眩            </a:t>
            </a: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心翼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371600" y="1676520"/>
            <a:ext cx="8001000" cy="1906200"/>
            <a:chOff x="1371600" y="1676520"/>
            <a:chExt cx="8001000" cy="1906200"/>
          </a:xfrm>
        </p:grpSpPr>
        <p:sp>
          <p:nvSpPr>
            <p:cNvPr id="46" name=""/>
            <p:cNvSpPr/>
            <p:nvPr/>
          </p:nvSpPr>
          <p:spPr>
            <a:xfrm>
              <a:off x="1447920" y="17208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(ji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è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57600" y="1720800"/>
              <a:ext cx="137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(s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ǒ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ng)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019920" y="16765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y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ū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23302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(chu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ò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086600" y="23302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l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í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) (x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ú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)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24280" y="294012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(xuàn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57600" y="2330280"/>
              <a:ext cx="106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h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)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48308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3611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冒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3276720" y="323064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悬崖的高度、石架的高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”的心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611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Gungsuh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Gungsuh"/>
              </a:rPr>
              <a:t>1-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Gungsuh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4830840"/>
            <a:ext cx="175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Gungsuh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Gungsuh"/>
              </a:rPr>
              <a:t>16-2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Gungsuh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874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325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地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163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人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48744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七月里一个闷热的日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13255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费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208764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”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个男孩，父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533520" y="1143000"/>
            <a:ext cx="807696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从这件事上“我”得到了哪些经验？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曾屡次发现，每当我感到前途茫茫而灰心丧气时，……我提醒自己，不要想着远在下面的岩石，而要着眼于那最初的一小步，走了这一步再走下一步，直到抵达我所要到的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33760" y="958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信心丧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33760" y="290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信心萌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33760" y="4822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信心大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4880" y="1260360"/>
            <a:ext cx="86508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971440" y="2340000"/>
            <a:ext cx="86364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65480" y="199548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走 一 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3276720"/>
            <a:ext cx="86508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945880" y="4211640"/>
            <a:ext cx="86364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4840" y="3840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再走一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51040" y="1981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详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5104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38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”体弱多病，胆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悬崖高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76320" y="15238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伏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7652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_31669" descr=""/>
          <p:cNvPicPr/>
          <p:nvPr/>
        </p:nvPicPr>
        <p:blipFill>
          <a:blip r:embed="rId1"/>
          <a:srcRect l="10565" t="1880" r="2429" b="3782"/>
          <a:stretch/>
        </p:blipFill>
        <p:spPr>
          <a:xfrm>
            <a:off x="6324480" y="914400"/>
            <a:ext cx="2740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762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父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6668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杰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572000"/>
            <a:ext cx="99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四个孩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03:17:55Z</dcterms:created>
  <dc:creator>ibm</dc:creator>
  <dc:description/>
  <dc:language>en-US</dc:language>
  <cp:lastModifiedBy>ibm</cp:lastModifiedBy>
  <dcterms:modified xsi:type="dcterms:W3CDTF">2003-09-08T07:28:34Z</dcterms:modified>
  <cp:revision>11</cp:revision>
  <dc:subject/>
  <dc:title>PowerPoint 演示文稿</dc:title>
</cp:coreProperties>
</file>