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9.gif" ContentType="image/gif"/>
  <Override PartName="/ppt/media/image44.png" ContentType="image/png"/>
  <Override PartName="/ppt/media/image41.png" ContentType="image/png"/>
  <Override PartName="/ppt/media/image43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45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11-11-26T10:16:33.160000000" idx="1">
    <p:pos x="9651" y="144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1C7-DC3D-4222-B572-A6C62490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CB6-93DC-4CE2-98B5-39B9818D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EC1-E78C-4C33-AA26-A296BE88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E61-18E8-4DAD-AA52-934A1ECB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6786-FF10-4E6D-B364-1BF250E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1402-4430-4247-96C9-9B15779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F14-2BEB-4078-922E-E9A57FD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290-363F-4F78-8DED-20BE3D8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C4A2-6D5F-4FF8-9660-6E8FFC78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592B-08F9-49E6-B692-F503F816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A24F-1AEC-41E3-8B48-BB737F9F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101-4493-4617-B51D-9CC80C9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070-DA40-4BFC-AED4-23785F5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8E2-6D68-4287-980D-36CA749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A328-0DC8-4E87-8003-C62639E1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7F57-7A52-47C8-A95D-5D423E2B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CDFC-C4C5-4101-A683-4DD1178B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ED61-91AA-46C6-B1E7-4A2BB6F8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894C-D798-4997-8D26-9EB05D01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B6B1-BA78-4475-8C08-A32F4573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69C3-8E38-44C6-ADAA-E5183F6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520D-E196-43B3-9E0E-07DFF62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5BC-EF84-428D-80D3-2D6A6CF9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B5E7-1DBF-4199-9853-7D1EA73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D484-D315-41A7-A51D-6A056B3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E813-1D70-4CCC-A3BC-AFF7135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B5DE-707C-4635-8A9E-09E897E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1658-1D6A-4EC9-8723-D4D6EF4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CAF7-0200-4D5E-A73E-09943C4A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C20B-4E9B-4F7E-9553-26F5478D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E24-72D0-42E2-A4C2-F24F302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849-9AEE-46C6-9B76-196B3533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E62-F5AB-450A-B009-8B755447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61D-3925-4F5E-9BC0-77839B5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43D-2A9A-4879-8D19-26EB334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4C4-2CB9-4ABB-9CB1-40FA285F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AFC-FE2F-4B19-B8E8-EF7DA0B21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BB54-6960-4616-8220-856C1A71F0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25E-C712-45A2-A178-9E2BE7EEE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1.png"/><Relationship Id="rId3" Type="http://schemas.openxmlformats.org/officeDocument/2006/relationships/slide" Target="slide15.xml"/><Relationship Id="rId4" Type="http://schemas.openxmlformats.org/officeDocument/2006/relationships/image" Target="../media/image22.png"/><Relationship Id="rId5" Type="http://schemas.openxmlformats.org/officeDocument/2006/relationships/slide" Target="slide10.xml"/><Relationship Id="rId6" Type="http://schemas.openxmlformats.org/officeDocument/2006/relationships/image" Target="../media/image23.png"/><Relationship Id="rId7" Type="http://schemas.openxmlformats.org/officeDocument/2006/relationships/slide" Target="slide8.xml"/><Relationship Id="rId8" Type="http://schemas.openxmlformats.org/officeDocument/2006/relationships/image" Target="../media/image24.png"/><Relationship Id="rId9" Type="http://schemas.openxmlformats.org/officeDocument/2006/relationships/slide" Target="slide9.xml"/><Relationship Id="rId10" Type="http://schemas.openxmlformats.org/officeDocument/2006/relationships/image" Target="../media/image25.png"/><Relationship Id="rId11" Type="http://schemas.openxmlformats.org/officeDocument/2006/relationships/slide" Target="slide7.xml"/><Relationship Id="rId12" Type="http://schemas.openxmlformats.org/officeDocument/2006/relationships/image" Target="../media/image26.pn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47760" y="189000"/>
            <a:ext cx="27432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落汤鸡出版社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19720" y="1620720"/>
            <a:ext cx="3824280" cy="447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680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24000" y="1413000"/>
            <a:ext cx="4876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珍惜粮食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537372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岛湖初级中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8720" y="6453360"/>
            <a:ext cx="395280" cy="404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129800" cy="5783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510040" y="1019160"/>
            <a:ext cx="454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940360" y="1052640"/>
            <a:ext cx="2592360" cy="1726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3600360" cy="1933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411280" y="3141720"/>
            <a:ext cx="4249800" cy="2566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97.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9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9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9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9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39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5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3143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9211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14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121440" cy="511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19200" y="586584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350028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403280" y="620640"/>
            <a:ext cx="3745080" cy="2162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21461400">
            <a:off x="6227640" y="691920"/>
            <a:ext cx="168768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160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3600"/>
                                  </p:stCondLst>
                                  <p:iterate type="lt">
                                    <p:tmAbs val="18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37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404640"/>
            <a:ext cx="6337440" cy="597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33880" y="6137280"/>
            <a:ext cx="27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70200" y="3284640"/>
            <a:ext cx="203040" cy="21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>
            <a:lum contrast="6000"/>
          </a:blip>
          <a:srcRect l="0" t="0" r="52785" b="12803"/>
          <a:stretch/>
        </p:blipFill>
        <p:spPr>
          <a:xfrm>
            <a:off x="1403280" y="1125360"/>
            <a:ext cx="2228760" cy="388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>
            <a:lum contrast="12000"/>
          </a:blip>
          <a:srcRect l="9447" t="15173" r="48134" b="26982"/>
          <a:stretch/>
        </p:blipFill>
        <p:spPr>
          <a:xfrm>
            <a:off x="4859280" y="907920"/>
            <a:ext cx="2351160" cy="431964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3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3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3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3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2779920" cy="5185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201636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476280"/>
          <a:ext cx="9144000" cy="6016680"/>
        </p:xfrm>
        <a:graphic>
          <a:graphicData uri="http://schemas.openxmlformats.org/drawingml/2006/table">
            <a:tbl>
              <a:tblPr/>
              <a:tblGrid>
                <a:gridCol w="663480"/>
                <a:gridCol w="848052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65656"/>
                          </a:solidFill>
                          <a:latin typeface="Times New Roman"/>
                          <a:ea typeface="华文彩云"/>
                        </a:rPr>
                        <a:t>生活中浪费粮食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工厂食堂工人就餐时浪费蔬菜现象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饭店客人浪费米饭现象极为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65656"/>
                          </a:solidFill>
                          <a:latin typeface="Times New Roman"/>
                        </a:rPr>
                        <a:t>家庭节假日浪费饭菜现象极为严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65656"/>
                          </a:solidFill>
                          <a:latin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37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89120" y="57722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民间举行婚庆喜事时浪费粮食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40" y="4998960"/>
            <a:ext cx="82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大型饭店中就餐人员浪费粮食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3160" y="4076640"/>
            <a:ext cx="83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656"/>
                </a:solidFill>
                <a:latin typeface="Arial"/>
              </a:rPr>
              <a:t>家庭平时浪费米饭现象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-1049400"/>
            <a:ext cx="9144000" cy="2051280"/>
            <a:chOff x="0" y="-1049400"/>
            <a:chExt cx="9144000" cy="2051280"/>
          </a:xfrm>
        </p:grpSpPr>
        <p:sp>
          <p:nvSpPr>
            <p:cNvPr id="206" name=""/>
            <p:cNvSpPr/>
            <p:nvPr/>
          </p:nvSpPr>
          <p:spPr>
            <a:xfrm>
              <a:off x="0" y="-897480"/>
              <a:ext cx="9144000" cy="189936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246240 h 1899360"/>
                <a:gd name="textAreaBottom" fmla="*/ 1653120 h 189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71b"/>
                </a:gs>
                <a:gs pos="100000">
                  <a:srgbClr val="fedf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-1049400"/>
              <a:ext cx="9144000" cy="189936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246240 h 1899360"/>
                <a:gd name="textAreaBottom" fmla="*/ 1653120 h 189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e8"/>
                </a:gs>
                <a:gs pos="100000">
                  <a:srgbClr val="c1dc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228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-20520"/>
            <a:ext cx="457200" cy="450720"/>
          </a:xfrm>
          <a:prstGeom prst="ellipse">
            <a:avLst/>
          </a:prstGeom>
          <a:gradFill rotWithShape="0">
            <a:gsLst>
              <a:gs pos="0">
                <a:srgbClr val="ffd8b1"/>
              </a:gs>
              <a:gs pos="100000">
                <a:srgbClr val="dbb9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1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-46080"/>
            <a:ext cx="457200" cy="450720"/>
          </a:xfrm>
          <a:prstGeom prst="ellipse">
            <a:avLst/>
          </a:prstGeom>
          <a:gradFill rotWithShape="0">
            <a:gsLst>
              <a:gs pos="0">
                <a:srgbClr val="ffd8b1"/>
              </a:gs>
              <a:gs pos="100000">
                <a:srgbClr val="dbb9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1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28600"/>
            <a:ext cx="17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0600" y="-455760"/>
            <a:ext cx="1374840" cy="137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95640" y="-20520"/>
            <a:ext cx="457200" cy="450720"/>
          </a:xfrm>
          <a:prstGeom prst="ellipse">
            <a:avLst/>
          </a:prstGeom>
          <a:gradFill rotWithShape="0">
            <a:gsLst>
              <a:gs pos="0">
                <a:srgbClr val="ffd8b1"/>
              </a:gs>
              <a:gs pos="100000">
                <a:srgbClr val="dbb9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1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62440" y="-20520"/>
            <a:ext cx="457200" cy="450720"/>
          </a:xfrm>
          <a:prstGeom prst="ellipse">
            <a:avLst/>
          </a:prstGeom>
          <a:gradFill rotWithShape="0">
            <a:gsLst>
              <a:gs pos="0">
                <a:srgbClr val="ffd8b1"/>
              </a:gs>
              <a:gs pos="100000">
                <a:srgbClr val="dbb9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1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20040" y="2922480"/>
            <a:ext cx="660600" cy="180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66040" y="990720"/>
            <a:ext cx="0" cy="68580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97920" y="1523880"/>
            <a:ext cx="761760" cy="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83720" y="1676520"/>
            <a:ext cx="0" cy="68580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73880" y="2209680"/>
            <a:ext cx="762120" cy="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66040" y="2362320"/>
            <a:ext cx="0" cy="68580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83720" y="3048120"/>
            <a:ext cx="0" cy="68580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3880" y="3733920"/>
            <a:ext cx="762120" cy="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2546280"/>
            <a:ext cx="343080" cy="3812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5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57680" y="2927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5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356400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5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4105440"/>
            <a:ext cx="49536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5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69320" y="5143680"/>
            <a:ext cx="60948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5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1326240"/>
            <a:ext cx="27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99ff"/>
                </a:solidFill>
                <a:latin typeface="宋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90088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99ff"/>
                </a:solidFill>
                <a:latin typeface="宋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34440" y="4359240"/>
            <a:ext cx="13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99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069400" y="6275520"/>
            <a:ext cx="890280" cy="503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256440" y="5333400"/>
            <a:ext cx="27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54600" y="5956200"/>
            <a:ext cx="417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50040" y="-42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版编辑：郑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0520" y="2546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61800" y="919080"/>
          <a:ext cx="7607160" cy="5356080"/>
        </p:xfrm>
        <a:graphic>
          <a:graphicData uri="http://schemas.openxmlformats.org/drawingml/2006/table">
            <a:tbl>
              <a:tblPr/>
              <a:tblGrid>
                <a:gridCol w="1241280"/>
                <a:gridCol w="812880"/>
                <a:gridCol w="919080"/>
                <a:gridCol w="927360"/>
                <a:gridCol w="1222200"/>
                <a:gridCol w="776520"/>
                <a:gridCol w="931680"/>
                <a:gridCol w="776160"/>
              </a:tblGrid>
              <a:tr h="485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开展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开展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就餐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剩饭菜（斤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均浪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就餐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剩饭菜（斤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均浪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 txBox="1"/>
          <p:nvPr/>
        </p:nvSpPr>
        <p:spPr>
          <a:xfrm>
            <a:off x="8439120" y="990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73880" y="16765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567640" y="23637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73880" y="3203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化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8197920" y="3844800"/>
            <a:ext cx="709560" cy="2111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0080" y="88920"/>
            <a:ext cx="8964720" cy="6669000"/>
          </a:xfrm>
          <a:prstGeom prst="rect">
            <a:avLst/>
          </a:prstGeom>
          <a:noFill/>
          <a:ln w="12600">
            <a:solidFill>
              <a:srgbClr val="ccecff"/>
            </a:solidFill>
            <a:miter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6264000" cy="417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34080" y="260280"/>
            <a:ext cx="3409920" cy="3807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771640" y="3960720"/>
            <a:ext cx="3095640" cy="2781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117360"/>
            <a:ext cx="6624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的同学们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们好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看看，这是一名农村孩子的真实感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是一个普通的不能在普通的农村出身的孩子，我的爸爸和我妈妈都是农民。我深知爸爸和妈妈的辛苦，所以我希望所有人都要体谅农民。有首诗不是说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锄和日当午，汗滴禾下土。谁知盘中餐，粒粒节辛苦，这首诗表达了农民的辛苦，忙禄了一年，才有今天的收获，而我们却在不经意间浪费了他们的“成果”，好好反思一下吧，我们做得对吗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粮食是人类生命的基本，如果没有了粮食，那我们还有生命吗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用思考就知道，一定没有，那我们为什么还要浪费粮食呢？节约粮食靠大家，你做到，我做到，大家都做到。这样，也许，就不会再有剩饭剩菜了，我说的对吗</a:t>
            </a:r>
            <a:r>
              <a:rPr b="0" lang="en-US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对，就请大家行动起来，怀着一颗感恩的心来珍惜粮食，珍惜农民们的劳动成果吧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5400000">
            <a:off x="6118920" y="1737360"/>
            <a:ext cx="37432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隶书"/>
              </a:rPr>
              <a:t>农村采访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rcRect l="0" t="0" r="77511" b="0"/>
          <a:stretch/>
        </p:blipFill>
        <p:spPr>
          <a:xfrm>
            <a:off x="8459640" y="6165720"/>
            <a:ext cx="505080" cy="462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8575560" y="5877000"/>
            <a:ext cx="21600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9966ff"/>
                </a:solidFill>
                <a:latin typeface="Snap ITC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9966ff"/>
              </a:solidFill>
              <a:latin typeface="Snap ITC"/>
              <a:ea typeface="Snap ITC"/>
            </a:endParaRPr>
          </a:p>
        </p:txBody>
      </p:sp>
      <p:sp>
        <p:nvSpPr>
          <p:cNvPr id="138" name="">
            <a:hlinkClick r:id="rId8" action="ppaction://hlinksldjump"/>
          </p:cNvPr>
          <p:cNvSpPr/>
          <p:nvPr/>
        </p:nvSpPr>
        <p:spPr>
          <a:xfrm>
            <a:off x="5027040" y="623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9" action="ppaction://hlinksldjump"/>
          </p:cNvPr>
          <p:cNvSpPr/>
          <p:nvPr/>
        </p:nvSpPr>
        <p:spPr>
          <a:xfrm>
            <a:off x="5695560" y="622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封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0" action="ppaction://hlinksldjump"/>
          </p:cNvPr>
          <p:cNvSpPr/>
          <p:nvPr/>
        </p:nvSpPr>
        <p:spPr>
          <a:xfrm>
            <a:off x="6271560" y="622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6992280" y="621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815960" y="6226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1511280" cy="784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84360" y="1166760"/>
            <a:ext cx="1295280" cy="1019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804000" y="1085760"/>
            <a:ext cx="1513080" cy="1101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348000" y="1557360"/>
            <a:ext cx="1800360" cy="787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4360" y="260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0a5"/>
                </a:solidFill>
                <a:latin typeface="Arial"/>
                <a:ea typeface="隶书"/>
              </a:rPr>
              <a:t>比一比谁最诚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63700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a5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800a5"/>
                </a:solidFill>
                <a:latin typeface="隶书"/>
                <a:ea typeface="隶书"/>
              </a:rPr>
              <a:t>、你有过浪费粮食的情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508464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a5"/>
                </a:solidFill>
                <a:latin typeface="Arial"/>
                <a:ea typeface="隶书"/>
              </a:rPr>
              <a:t>2</a:t>
            </a:r>
            <a:r>
              <a:rPr b="0" lang="zh-CN" sz="4400" spc="-1" strike="noStrike">
                <a:solidFill>
                  <a:srgbClr val="f800a5"/>
                </a:solidFill>
                <a:latin typeface="Arial"/>
                <a:ea typeface="隶书"/>
              </a:rPr>
              <a:t>、你有节约粮食的好办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40" y="1440"/>
          <a:ext cx="9107640" cy="6885000"/>
        </p:xfrm>
        <a:graphic>
          <a:graphicData uri="http://schemas.openxmlformats.org/drawingml/2006/table">
            <a:tbl>
              <a:tblPr/>
              <a:tblGrid>
                <a:gridCol w="1139760"/>
                <a:gridCol w="1203480"/>
                <a:gridCol w="1049400"/>
                <a:gridCol w="1800000"/>
                <a:gridCol w="752400"/>
                <a:gridCol w="3162600"/>
              </a:tblGrid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校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调查地环境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浪费现象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你的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如何解决浪费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46080"/>
            <a:ext cx="910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身边的浪费粮食问题，记录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做这两个题：①你有过浪费粮                                        食的情况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有节约粮食的好办法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做这一个纪录。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字左右，格式如表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>
            <a:lum contrast="6000"/>
          </a:blip>
          <a:srcRect l="0" t="0" r="52785" b="12803"/>
          <a:stretch/>
        </p:blipFill>
        <p:spPr>
          <a:xfrm>
            <a:off x="324000" y="333360"/>
            <a:ext cx="1692000" cy="2951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>
            <a:lum contrast="12000"/>
          </a:blip>
          <a:srcRect l="9447" t="15173" r="48134" b="26982"/>
          <a:stretch/>
        </p:blipFill>
        <p:spPr>
          <a:xfrm>
            <a:off x="324000" y="333360"/>
            <a:ext cx="1685880" cy="309708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0" fill="hold">
                                          <p:stCondLst>
                                            <p:cond delay="48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0" fill="hold">
                                          <p:stCondLst>
                                            <p:cond delay="123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99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7" presetSubtype="10" repeatCount="3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4367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4367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" nodeType="withEffect" fill="hold" presetClass="entr" presetID="53" repeatCount="3000">
                                  <p:stCondLst>
                                    <p:cond delay="49501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8167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167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8167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9" nodeType="withEffect" fill="hold" presetClass="entr" presetID="31" repeatCount="3000">
                                  <p:stCondLst>
                                    <p:cond delay="74001"/>
                                  </p:stCondLst>
                                  <p:iterate type="lt">
                                    <p:tmAbs val="114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2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29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" nodeType="withEffect" fill="hold" presetClass="entr" presetID="37" repeatCount="3000">
                                  <p:stCondLst>
                                    <p:cond delay="142701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5633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5633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30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63" fill="hold">
                                          <p:stCondLst>
                                            <p:cond delay="230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" nodeType="withEffect" fill="hold" presetClass="entr" presetID="17" presetSubtype="10" repeatCount="3000">
                                  <p:stCondLst>
                                    <p:cond delay="219701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967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967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372360" y="3500280"/>
            <a:ext cx="2771640" cy="3357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357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059280" y="0"/>
            <a:ext cx="273672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916360" y="3500280"/>
            <a:ext cx="2879640" cy="3357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>
            <a:alphaModFix amt="18000"/>
          </a:blip>
          <a:stretch/>
        </p:blipFill>
        <p:spPr>
          <a:xfrm>
            <a:off x="0" y="350028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rcRect l="0" t="0" r="52785" b="12803"/>
          <a:stretch/>
        </p:blipFill>
        <p:spPr>
          <a:xfrm>
            <a:off x="2340000" y="2997360"/>
            <a:ext cx="958680" cy="136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rcRect l="9447" t="15173" r="48134" b="26982"/>
          <a:stretch/>
        </p:blipFill>
        <p:spPr>
          <a:xfrm>
            <a:off x="2411280" y="2997360"/>
            <a:ext cx="89856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rcRect l="0" t="0" r="52785" b="12803"/>
          <a:stretch/>
        </p:blipFill>
        <p:spPr>
          <a:xfrm>
            <a:off x="5508720" y="2852640"/>
            <a:ext cx="1009440" cy="1440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rcRect l="9447" t="15173" r="48134" b="26982"/>
          <a:stretch/>
        </p:blipFill>
        <p:spPr>
          <a:xfrm>
            <a:off x="5580000" y="2852640"/>
            <a:ext cx="94608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11" action="ppaction://hlinksldjump"/>
          </p:cNvPr>
          <p:cNvSpPr/>
          <p:nvPr/>
        </p:nvSpPr>
        <p:spPr>
          <a:xfrm>
            <a:off x="8028000" y="6597720"/>
            <a:ext cx="111600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游戏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1120" y="14940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行楷"/>
              </a:rPr>
              <a:t>播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0280" y="2570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插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58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治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1520" y="37479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抗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8000" y="35434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收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3680" y="34624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米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360" y="3789360"/>
            <a:ext cx="2303640" cy="237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3933720"/>
            <a:ext cx="202248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4360" y="3789360"/>
            <a:ext cx="201924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360" y="620640"/>
            <a:ext cx="2365560" cy="244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948360" y="549360"/>
            <a:ext cx="1300320" cy="2665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11280" y="620640"/>
            <a:ext cx="215568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13" action="ppaction://hlinksldjump"/>
          </p:cNvPr>
          <p:cNvSpPr/>
          <p:nvPr/>
        </p:nvSpPr>
        <p:spPr>
          <a:xfrm>
            <a:off x="8172360" y="6597720"/>
            <a:ext cx="97164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粮食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597720"/>
            <a:ext cx="161928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  <a:ea typeface="隶书"/>
              </a:rPr>
              <a:t>粮食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51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97000" y="6327720"/>
            <a:ext cx="69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水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476280"/>
            <a:ext cx="7777440" cy="5665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17720" y="589284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56000" y="260280"/>
            <a:ext cx="3384360" cy="6337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73840" y="168444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44:16Z</dcterms:created>
  <dc:creator>ymj</dc:creator>
  <dc:description/>
  <cp:keywords/>
  <dc:language>en-US</dc:language>
  <cp:lastModifiedBy>新课标第一网</cp:lastModifiedBy>
  <cp:lastPrinted>1899-12-30T00:00:00Z</cp:lastPrinted>
  <dcterms:modified xsi:type="dcterms:W3CDTF">2011-11-26T02:16:3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