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chimes.wav" ContentType="audio/x-wav"/>
  <Override PartName="/ppt/media/image16.jpeg" ContentType="image/jpeg"/>
  <Override PartName="/ppt/media/image2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0E9-D156-48A8-B5DB-68F743D6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B72-34EC-4DEC-8ACC-3B2443E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A14-90AF-4BF2-9F32-FF726E78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7EC-50CF-4C80-ADA1-E908FB14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211C-ADDE-45D5-BAAA-DD214215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475-B481-4A0A-8815-6197608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CF9C-482C-40A6-A930-D8996A12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57B-7F59-4BE3-9FF0-F1B42E8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341A-EF27-4ED0-9A98-BDE77F2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50F-6D76-4E30-B409-FE199E3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0434-8FB4-4ADD-BF97-8B03737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605-10E0-4948-9DCE-8C529F0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2F8-B083-45AC-8C11-45CB312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0E8F-C847-4F9B-BF83-CAAEDF1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7093-D6D6-41AB-B439-5E113F29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BB9-AA1C-404E-899C-61AD08E0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35D8-BBDF-4DBA-B23F-30A017C8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817-D16D-49CD-BBAF-478AE84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BE3-46A8-4719-9D93-A813B5E9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6D5-36D0-4A37-9259-BF275B1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DC3-EA78-42C3-9B9D-5177C677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060-0AA6-4718-8E6D-496AB2A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0E5-BF1A-4513-8A12-40DA7C0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FAB-EB2E-4EDE-98A9-5666331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BABD-1240-4BB6-B4D8-59BD286021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新宋体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新宋体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新宋体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新宋体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新宋体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新宋体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新宋体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7EC-96CC-4E50-935F-BBBD7A1C031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inaneast.xinhuanet.com/2004-12/27/content_3461139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387360" y="404640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萧红墓前的五分钟讲演</a:t>
            </a:r>
            <a:r>
              <a:rPr b="1" lang="zh-CN" sz="6600" spc="-1" strike="noStrike">
                <a:solidFill>
                  <a:srgbClr val="7b0ff1"/>
                </a:solidFill>
                <a:latin typeface="宋体"/>
                <a:ea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40360" y="5099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仿宋_GB2312"/>
              </a:rPr>
              <a:t>郭沫若</a:t>
            </a:r>
            <a:endParaRPr b="0" lang="en-US" sz="4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79280" y="2602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条理性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要使讲话易被听众听清、听懂，就要条理清楚、层次分明，否则，所讲内容虽丰富、深刻，但散乱如麻，缺乏逻辑性，亦会影响讲话效果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通俗性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演讲的语言，总是说来应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通俗易懂，明白畅晓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要做到这一步，关键是句子不要太长，修饰不要太多，不宜咬文嚼字，要合乎口语，具有说话的特点。同时，也应该讲究文采，以便雅俗共赏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79280" y="198900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适当的感情色彩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演讲既要冷静地分析既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晓之以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又要有诚挚热烈的感情即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动之以情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这样才能使讲话既有说服力，又有鼓动性。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360" y="333360"/>
            <a:ext cx="288612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结构分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10920" y="148392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一（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）就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五分钟讲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引出话题，总领全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二（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）揭示演讲主题，阐述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年轻精神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的三个特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三（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）收束全文，号召大家向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年轻精神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饱满的青年学习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深化主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219320" y="1905120"/>
            <a:ext cx="7010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一层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营造轻松气氛，拉近心理距离。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二层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抒发对萧红的怀念与哀悼之情，引出讲演话题。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258920" y="4076640"/>
            <a:ext cx="67816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一层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正反对比，引出讲演主题。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二层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分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轻精神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三个特征。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三层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小结年轻精神的特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028"/>
          <p:cNvSpPr/>
          <p:nvPr/>
        </p:nvSpPr>
        <p:spPr>
          <a:xfrm>
            <a:off x="468360" y="69228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b0ff1"/>
                </a:solidFill>
                <a:latin typeface="新宋体"/>
                <a:ea typeface="宋体"/>
              </a:rPr>
              <a:t>研读课文第一部分：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34" name="Rectangle 1029"/>
          <p:cNvSpPr/>
          <p:nvPr/>
        </p:nvSpPr>
        <p:spPr>
          <a:xfrm>
            <a:off x="179280" y="241380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讲演是怎样开头的？这样开头有什么好处？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讲演者先说作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分钟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讲演而感到困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接着又对自己的本来设想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大家沉默五分钟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以否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后通过赞扬某先生讲的话，很自然地引出要论述的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轻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话题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样妙趣横生的开场白，能收到吸引听众的效果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468360" y="54936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感知课文：</a:t>
            </a:r>
            <a:endParaRPr b="0" lang="en-US" sz="3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8360" y="1484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朗读课文，要求边读边思考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讲演要面对听众讲话，请找出文中最能体现这一特征的语句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39640" y="4187520"/>
            <a:ext cx="8604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00"/>
                </a:solidFill>
                <a:latin typeface="新宋体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文中最能体现这一特征的语句是</a:t>
            </a:r>
            <a:r>
              <a:rPr b="1" lang="zh-CN" sz="3600" spc="-1" strike="noStrike">
                <a:solidFill>
                  <a:srgbClr val="336600"/>
                </a:solidFill>
                <a:latin typeface="新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年轻的朋友们</a:t>
            </a:r>
            <a:r>
              <a:rPr b="1" lang="zh-CN" sz="3600" spc="-1" strike="noStrike">
                <a:solidFill>
                  <a:srgbClr val="336600"/>
                </a:solidFill>
                <a:latin typeface="新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0000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黑体"/>
              </a:rPr>
              <a:t>读了本文后，你觉得你最难忘、最需要学习、最需要发扬的是什么？它的实质是什么？它的特征是什么？特征的各自侧重点是什么？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484360" y="335772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42920" y="4221000"/>
            <a:ext cx="3816360" cy="5205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一个人的年轻不年轻，并不是专看生理上的年龄，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主要的还是看精神上的年龄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7964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年轻精神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2771640" y="2997360"/>
            <a:ext cx="287640" cy="1152360"/>
          </a:xfrm>
          <a:prstGeom prst="downArrow">
            <a:avLst>
              <a:gd name="adj1" fmla="val 50000"/>
              <a:gd name="adj2" fmla="val 10013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157760" y="3141720"/>
            <a:ext cx="115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ahoma"/>
                <a:ea typeface="黑体"/>
              </a:rPr>
              <a:t>实质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5219640" y="2637000"/>
            <a:ext cx="289080" cy="295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796000" y="2565360"/>
            <a:ext cx="2808360" cy="5205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是真理的追求者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796000" y="3835440"/>
            <a:ext cx="2806560" cy="5205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是博爱的实践者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796000" y="5157720"/>
            <a:ext cx="2890800" cy="52056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是勇敢的战士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95280" y="187848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　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，是真理的追求者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键词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毫无成见、如饥似渴、虚心坦怀、学习一切。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第二，是博爱的实践者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键词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公无私、打抱不平、实切实、为他人服务。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第三，是勇敢的战士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键词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怕艰苦、倒下跳起、舐干血迹、牺牲自我。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149" name="Picture 11" descr="enter"/>
          <p:cNvPicPr/>
          <p:nvPr/>
        </p:nvPicPr>
        <p:blipFill>
          <a:blip r:embed="rId2"/>
          <a:stretch/>
        </p:blipFill>
        <p:spPr>
          <a:xfrm>
            <a:off x="7885080" y="5734080"/>
            <a:ext cx="8272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背景绿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9640" y="1916280"/>
            <a:ext cx="7777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个特征侧重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精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第二个特征侧重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践精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第三个特征侧重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战斗精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enter"/>
          <p:cNvPicPr/>
          <p:nvPr/>
        </p:nvPicPr>
        <p:blipFill>
          <a:blip r:embed="rId2"/>
          <a:stretch/>
        </p:blipFill>
        <p:spPr>
          <a:xfrm>
            <a:off x="7740720" y="558972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324000" y="6858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如何理解讲演的结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使自己年轻，使中国年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24000" y="2057400"/>
            <a:ext cx="864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使自己年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年轻人自身的要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要求年轻人成为真理的追求者、博爱的实践者、勇敢的战士。这讲的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修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使中国年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要年轻人明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修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目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是为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治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是为了使中国摆脱帝国主义、封建主义、官僚资本主义的三座大山的压迫，建立自由民主的新中国，并使新中国繁荣昌盛，屹立于世界民族之林。这一句是鼓励年轻人要树立远大的理想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55087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333399"/>
                </a:solidFill>
                <a:latin typeface="Tahoma"/>
                <a:ea typeface="方正古隶简体"/>
              </a:rPr>
              <a:t>本演讲的构思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9640" y="1773360"/>
            <a:ext cx="280836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五分钟演讲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292720" y="1700280"/>
            <a:ext cx="244800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沉默五分钟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9640" y="2781360"/>
            <a:ext cx="352764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追念萧红为解放事业奔走一生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292720" y="2781360"/>
            <a:ext cx="287964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年轻人的话题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39640" y="4292640"/>
            <a:ext cx="349272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年轻精神如何看待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92720" y="4260960"/>
            <a:ext cx="320364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年轻精神的品质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39640" y="5229360"/>
            <a:ext cx="3059280" cy="581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方正北魏楷书简体"/>
              </a:rPr>
              <a:t>勉励青年朋友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假如此时你手中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钱，那么请你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内将你手中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钱在琳琅满目的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人生超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花完。请实话实说，你最先选择的是什么？依次选择的是什么？并简单阐述你选择的理由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3505320"/>
            <a:ext cx="2286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财富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124080" y="5638680"/>
            <a:ext cx="236232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友情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400800" y="3505320"/>
            <a:ext cx="236232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慧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880" y="4495680"/>
            <a:ext cx="312444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永远年轻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971800" y="3505320"/>
            <a:ext cx="31240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交能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324480" y="449568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爱心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80880" y="5638680"/>
            <a:ext cx="23623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地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809880" y="4495680"/>
            <a:ext cx="23623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勇敢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3600" y="5638680"/>
            <a:ext cx="27432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泊名利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67880" y="666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宋体"/>
              </a:rPr>
              <a:t>主题</a:t>
            </a:r>
            <a:endParaRPr b="0" lang="en-US" sz="4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2637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宋体"/>
              </a:rPr>
              <a:t>讲述“年轻精神”的特征，鼓励年轻人培养年轻精神的品质，“使自己年轻，使中国年轻”，为未来的新中国贡献自己的力量。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11280" y="98100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宋体"/>
              </a:rPr>
              <a:t>少年智则国智，少年富则国富，少年强则国强，少年独立则国独立，少年自由则国自由，少年进步则国进步。少年胜于欧洲则国胜于欧洲，少年雄于地球则国雄于地球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宋体"/>
              </a:rPr>
              <a:t>美哉我少年中国，与天不尧！壮哉我少年中国，与国无疆！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宋体"/>
              </a:rPr>
              <a:t>          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宋体"/>
              </a:rPr>
              <a:t>梁启超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97040" y="620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宋体"/>
              </a:rPr>
              <a:t>请总结这篇讲演词的特点：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826920" y="1773360"/>
            <a:ext cx="777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后明确：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l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题自然，妙趣横生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点鲜明，中心突出。 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有哲理，充满激情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用短词，简练风趣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讲演词的语言要力求简练、明白晓畅、生动诙谐、别具情趣，要多用短词，使人一听就懂。）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写作特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2060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情理交融的语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构思巧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正反对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419640" y="17002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564000" y="1557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情：爱憎分明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635280" y="24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生理年龄与精神年龄的辩证关系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276720" y="3449520"/>
            <a:ext cx="41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就地取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营造气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提出话题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阐明特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小结升华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340000" y="50846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700360" y="4941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具有年轻精神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627280" y="58053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失掉年轻精神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003640" y="522936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508720" y="530064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特征鲜明，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褒贬分明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826920" y="134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读了本文，你觉得你最难忘、最需要学习、最需要发扬的是什么？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900000" y="2924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7b0ff1"/>
                </a:solidFill>
                <a:latin typeface="黑体"/>
                <a:ea typeface="黑体"/>
              </a:rPr>
              <a:t>我们应该怎样发扬</a:t>
            </a:r>
            <a:r>
              <a:rPr b="1" lang="zh-CN" sz="3600" spc="-1" strike="noStrike">
                <a:solidFill>
                  <a:srgbClr val="7b0ff1"/>
                </a:solidFill>
                <a:latin typeface="新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7b0ff1"/>
                </a:solidFill>
                <a:latin typeface="黑体"/>
                <a:ea typeface="黑体"/>
              </a:rPr>
              <a:t>年轻精神</a:t>
            </a:r>
            <a:r>
              <a:rPr b="1" lang="zh-CN" sz="3600" spc="-1" strike="noStrike">
                <a:solidFill>
                  <a:srgbClr val="7b0ff1"/>
                </a:solidFill>
                <a:latin typeface="新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7b0ff1"/>
                </a:solidFill>
                <a:latin typeface="黑体"/>
                <a:ea typeface="黑体"/>
              </a:rPr>
              <a:t>呢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联系我们的中学生的理想、生活、学习、人生、克服困难等写一些激励你自己或者勉励别人的话语。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68360" y="404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宋体"/>
              </a:rPr>
              <a:t>反馈指导：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LF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2762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2692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雷锋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940--196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186" name="Picture 7" descr="xinsrc_b6194f0ad1a84245aa7fae2c6c7526e4"/>
          <p:cNvPicPr/>
          <p:nvPr/>
        </p:nvPicPr>
        <p:blipFill>
          <a:blip r:embed="rId2"/>
          <a:stretch/>
        </p:blipFill>
        <p:spPr>
          <a:xfrm>
            <a:off x="900000" y="3933720"/>
            <a:ext cx="2082960" cy="2708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219480" y="4076640"/>
            <a:ext cx="5461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李洪志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952--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188" name="Object 10" descr=""/>
          <p:cNvPicPr/>
          <p:nvPr/>
        </p:nvPicPr>
        <p:blipFill>
          <a:blip r:embed="rId3"/>
          <a:stretch/>
        </p:blipFill>
        <p:spPr>
          <a:xfrm>
            <a:off x="4932360" y="4365720"/>
            <a:ext cx="3076560" cy="2270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8104320" y="48312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自己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4"/>
          <a:srcRect l="7183" t="0" r="0" b="12491"/>
          <a:stretch/>
        </p:blipFill>
        <p:spPr>
          <a:xfrm>
            <a:off x="5364000" y="549360"/>
            <a:ext cx="2486160" cy="2663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8066160" y="559080"/>
            <a:ext cx="54612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诺贝尔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833--189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8101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请你评价下列人物是否属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年轻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258920" y="333360"/>
            <a:ext cx="244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外延伸：</a:t>
            </a:r>
            <a:endParaRPr b="0" lang="en-US" sz="3600" spc="-1" strike="noStrike">
              <a:ln w="0">
                <a:noFill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119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哪些赞颂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精神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名言警句？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68360" y="2421720"/>
            <a:ext cx="8209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来成大功立大业者、惟刻苦自励，勤于作事，以耐久之精神为之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绿荫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勇气是处于逆境时的光芒。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沃夫拿格（法）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顽强的毅力是可以征服世界上任何一座高山。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狄更斯（英）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2484360" y="8366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年轻真好！</a:t>
            </a:r>
            <a:endParaRPr b="0" lang="en-US" sz="8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2124000" y="83664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简介</a:t>
            </a:r>
            <a:endParaRPr b="0" lang="en-US" sz="3600" spc="1" strike="noStrike">
              <a:ln w="1908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2" name="Picture 5" descr="guomoruo"/>
          <p:cNvPicPr/>
          <p:nvPr/>
        </p:nvPicPr>
        <p:blipFill>
          <a:blip r:embed="rId2"/>
          <a:stretch/>
        </p:blipFill>
        <p:spPr>
          <a:xfrm>
            <a:off x="5508720" y="0"/>
            <a:ext cx="3457440" cy="4537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24000" y="263700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郭沫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9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名开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现、当代诗人、剧作家、历史学家、古文字学家，是我国卓越的无产阶级文化战士。四川乐山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表作诗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女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星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历史剧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屈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王昭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蔡文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等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34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宋体"/>
              </a:rPr>
              <a:t>一代才女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宋体"/>
              </a:rPr>
              <a:t>萧红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95280" y="78732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萧红原名张乃莹，黑龙江呼兰人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在哈尔滨读中学，接触五四以来的进步思想和中外文学。尤受鲁迅、茅盾和美国作家辛克莱作品的影响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与萧军一起结识不少进步文人，参加过宣传反满抗日活动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与萧军出版第一本作品合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跋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在鲁迅的帮助和支持下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发表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名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死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始用笔名萧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蜚声文坛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为摆脱精神上的苦恼东渡日本，在东京写下了散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孤独的生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长篇组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砂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9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与端木蕻良同抵香港，不久发表了中篇小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伯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著名长篇小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呼兰河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太平洋战争爆发，日军占领了香港和九龙。重病的萧红，陷落在九龙，最后在一所临时医院里逝世。这时，她只有三十一岁。 </a:t>
            </a:r>
            <a:endParaRPr b="0" lang="en-US" sz="28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xinsrc_062120127102521907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6840" y="1197000"/>
            <a:ext cx="4097160" cy="5661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217476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118" name="Picture 9" descr="萧红2"/>
          <p:cNvPicPr/>
          <p:nvPr/>
        </p:nvPicPr>
        <p:blipFill>
          <a:blip r:embed="rId3"/>
          <a:stretch/>
        </p:blipFill>
        <p:spPr>
          <a:xfrm>
            <a:off x="0" y="0"/>
            <a:ext cx="4211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xiang"/>
          <p:cNvPicPr/>
          <p:nvPr/>
        </p:nvPicPr>
        <p:blipFill>
          <a:blip r:embed="rId1"/>
          <a:stretch/>
        </p:blipFill>
        <p:spPr>
          <a:xfrm>
            <a:off x="4643280" y="520560"/>
            <a:ext cx="4316400" cy="607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zuopin"/>
          <p:cNvPicPr/>
          <p:nvPr/>
        </p:nvPicPr>
        <p:blipFill>
          <a:blip r:embed="rId2"/>
          <a:stretch/>
        </p:blipFill>
        <p:spPr>
          <a:xfrm>
            <a:off x="168120" y="809640"/>
            <a:ext cx="4332600" cy="5572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826920" y="0"/>
            <a:ext cx="27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仿宋_GB2312"/>
              </a:rPr>
              <a:t>萧红作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755640" y="692280"/>
            <a:ext cx="7777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简介讲演：</a:t>
            </a:r>
            <a:endParaRPr b="0" lang="en-US" sz="4800" spc="-1" strike="noStrike">
              <a:solidFill>
                <a:srgbClr val="000000"/>
              </a:solidFill>
              <a:latin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演，是在公众场合就某个问题或事件发表自己见解的一种口头表达形式。作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议论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样式之一的讲演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特点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针对一定的对象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开发表个人的观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话题集中，中心突出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构完整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言充满感情，富有鼓动性。</a:t>
            </a:r>
            <a:endParaRPr b="0" lang="en-US" sz="36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1128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i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演讲词的特点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91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针对性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撰写演讲词，要考虑听众的需要，讲话的题目应与现实紧密结合，所提出的问题应是听众所关注的事情，所讲内容的深浅也应符合听众的接受水平。同时，演讲又要注意环境气氛，既要注意当时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时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气氛，又要了解演讲的具体场合：是庄严的会议或重大集会，是同志间的座谈和讨论问题；是欢迎国宾，还是一般的友人聚会。不同的场合，演讲有不同的内容、不同的讲法。</a:t>
            </a:r>
            <a:endParaRPr b="0" lang="en-US" sz="32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79280" y="1889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鲜明性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演讲的内容不能只是客观地叙述事情，还必须表明自己的主张，阐明自己的见解。赞成什么，反对什么，表扬什么，批评什么，均应做到立场鲜明、态度明确，不能含糊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好的演讲总是以其精密的思想启发听众，以鲜明的观点影响听众，给听众以鼓舞和教育。</a:t>
            </a:r>
            <a:endParaRPr b="0" lang="en-US" sz="40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9:26:41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2:14:41Z</dcterms:modified>
  <cp:revision>1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