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png" ContentType="image/png"/>
  <Override PartName="/ppt/media/image8.jpeg" ContentType="image/jpe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3348-45EE-443C-9217-8767F3E1D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00CD-36D9-446B-B0D8-A3FF4FF3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4055-F52C-4DA8-98D5-641A96532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5146-F8C3-4E76-A8F6-FD15B5A73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AEAEB-6200-4E38-AEF0-6BD7F21CB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D621-BAD4-4E33-B2B8-8B13CEA7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6F48-17DD-4354-A8FF-88AAEF9E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8E39-5568-43B8-8360-CD5A9286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4380-99E4-44F3-A7D1-4C88CCC7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1AD6-5554-4C64-8697-75F952AB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4C43-59C1-4096-91B3-71CA2EA0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0760-F0DA-4415-A890-F3DABD76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14B4-EA1D-4B16-84E0-0EE24143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5E75-4CC3-4304-9DB9-095D02BF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9D82-2BB4-4C14-A42A-FEA5F245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2B2D-09E7-4BB2-9799-4C3D6F40F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110C7-76FF-4C15-9932-3B5C28B1F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93CA-0D27-4454-A496-F9461071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CA55-C95C-40FE-AAB7-77E5A9AB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91D9-D724-4D9B-B8BB-38D3C99E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093A-7FED-4103-9209-28FC921C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EDAF-36B9-4790-8EA7-514E863B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9CFB-D3F6-4825-9196-357DA21A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F394-812D-44CE-9E83-2F98DA44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B397-55FF-49B6-A54A-6D6FF7952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026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1027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1028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1029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1030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1031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1032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1033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34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35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8293-1D94-4090-AA52-180D4147F7CD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LEAF-05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278100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华文新魏"/>
              </a:rPr>
              <a:t>郭沫若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000"/>
                </a:solidFill>
                <a:latin typeface="Tahoma"/>
                <a:ea typeface="黑体"/>
              </a:rPr>
              <a:t>在萧红墓前的五分钟讲演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第一部分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~4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段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，开头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赞颂萧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生为人民解放事业奔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精神，引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年轻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话题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第二部分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段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，主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阐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年轻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内涵，论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年轻精神的品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三个特征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第三部分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段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，结尾，号召大家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年轻精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饱满的青年学习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079720" y="372960"/>
            <a:ext cx="22381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ahoma"/>
                <a:ea typeface="黑体"/>
              </a:rPr>
              <a:t>各部分内容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116000" y="333360"/>
            <a:ext cx="777240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这篇讲演是怎样开头的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这样开头有什么好处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865880" y="2093760"/>
            <a:ext cx="552204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讲演者先说主席要他作“五分钟”的讲演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感到困难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接着又对自己的本来设想“请大家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默五分钟”加以否定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然后通过赞扬某先生讲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话，很自然地引出要论述的“年轻人”的话题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这样妙趣横生的开场白，能收到活跃气氛、吸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听众的效果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116000" y="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朗读课文第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、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6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两段。思考这一部分的观点是什么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讲演者用什么方法论述这一观点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0" y="1844640"/>
            <a:ext cx="9144000" cy="47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讲演者围绕“年轻人”这个话题，阐明了一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人的年轻不年轻，不是专看生理上的年龄，主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是看精神上的年龄的观点。讲演者年轻阐明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龄与精嚣过正面和反面对比来论述这一观点。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生理的年轻推论到精神，一神之间的辨证关系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年轻精神”的丧失成了老腐败，老顽固，甚至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木乃伊，“年虽轻而人已死了”。年轻精神充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，年纪虽老，而精神并不老，甚至有的人死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几千年而一直都还像活着的年轻人一样，虽老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不死，没有年轻精神的人，年虽轻而人已死了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657360" y="188640"/>
            <a:ext cx="8486640" cy="155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朗读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年轻精神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的三个特征部分。思考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什么是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年轻精神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”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请从文中找出具体表现这一品质特征的关键词语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861560" y="1989000"/>
            <a:ext cx="5301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第一，是真理的追求者。关键词语，毫无成见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如饥似渴、虚心坦怀、学习一切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第二，是博爱的实践者。关键词语：大公无私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打抱不平、实切实、为人服务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第三，是勇敢的战士。关键词语：不伯艰苦、倒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下跳起、舐千血迹、牺牲自我。这里的动词“珧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用得相当好。“跳”指通到挫折或失败后立即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出恢复前进状态的反应，速度快，力量大，生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地展现了勇敢者的形象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4360" y="189000"/>
            <a:ext cx="863568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研读课文第三部分。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思考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: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这样的认识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指什么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讲演者号召我们要怎样去做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这样的结尾有何作用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649160" y="2060640"/>
            <a:ext cx="5983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      “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这样的认识”指对“年轻人”和“年轻精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神”的认识。讲演者号召我们要向“年轻精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神”饱满的青年朋友们学习，便自己年轻，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使中国年轻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   最后，讲演者以热情洋溢、催人奋进的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语言结束讲演，给人以启示和鼓舞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1_1-1-21-528_20030402101443_small"/>
          <p:cNvPicPr/>
          <p:nvPr/>
        </p:nvPicPr>
        <p:blipFill>
          <a:blip r:embed="rId1"/>
          <a:stretch/>
        </p:blipFill>
        <p:spPr>
          <a:xfrm>
            <a:off x="914400" y="1828800"/>
            <a:ext cx="2971800" cy="2209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1_27-1-3-576_20030401233647_small"/>
          <p:cNvPicPr/>
          <p:nvPr/>
        </p:nvPicPr>
        <p:blipFill>
          <a:blip r:embed="rId2"/>
          <a:stretch/>
        </p:blipFill>
        <p:spPr>
          <a:xfrm>
            <a:off x="5638680" y="1828800"/>
            <a:ext cx="3276720" cy="22096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3753000" y="1828800"/>
            <a:ext cx="1277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zh-CN" sz="3600" spc="-1" strike="noStrike">
                <a:solidFill>
                  <a:srgbClr val="ff0000"/>
                </a:solidFill>
                <a:latin typeface="Tahoma"/>
              </a:rPr>
              <a:t>战火中的伊拉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914400" y="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当你看到这组镜头时，有何感想，想说些什么？试着在四人小组中发表你的见解，然后请同学作备稿讲演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Picture 7" descr="ylkren"/>
          <p:cNvPicPr/>
          <p:nvPr/>
        </p:nvPicPr>
        <p:blipFill>
          <a:blip r:embed="rId3"/>
          <a:stretch/>
        </p:blipFill>
        <p:spPr>
          <a:xfrm>
            <a:off x="838080" y="4191120"/>
            <a:ext cx="3048120" cy="2438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"/>
          <p:cNvPicPr/>
          <p:nvPr/>
        </p:nvPicPr>
        <p:blipFill>
          <a:blip r:embed="rId4"/>
          <a:stretch/>
        </p:blipFill>
        <p:spPr>
          <a:xfrm>
            <a:off x="5715000" y="4191120"/>
            <a:ext cx="312408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0" y="533520"/>
            <a:ext cx="9144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假如此时你手中有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元钱，那么请你在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分钟内将你手中的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元钱在琳琅满目的</a:t>
            </a:r>
            <a:r>
              <a:rPr b="0" lang="zh-CN" sz="3600" spc="-1" strike="noStrike" u="sng">
                <a:solidFill>
                  <a:srgbClr val="ff3300"/>
                </a:solidFill>
                <a:uFillTx/>
                <a:latin typeface="Times New Roman"/>
              </a:rPr>
              <a:t>人生超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花完。请实话实说，你最先选择的是什么？依次选择的是什么？并简单阐述你选择的理由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80880" y="3505320"/>
            <a:ext cx="22860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财富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987640" y="5661000"/>
            <a:ext cx="2362320" cy="520560"/>
          </a:xfrm>
          <a:prstGeom prst="rect">
            <a:avLst/>
          </a:prstGeom>
          <a:solidFill>
            <a:srgbClr val="99cc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友情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400800" y="3505320"/>
            <a:ext cx="2362320" cy="520560"/>
          </a:xfrm>
          <a:prstGeom prst="rect">
            <a:avLst/>
          </a:prstGeom>
          <a:solidFill>
            <a:srgbClr val="cc99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智慧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80880" y="4495680"/>
            <a:ext cx="312444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永远年轻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971800" y="3505320"/>
            <a:ext cx="3124080" cy="520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社交能力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324480" y="4495680"/>
            <a:ext cx="236232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爱心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80880" y="5638680"/>
            <a:ext cx="2362320" cy="520560"/>
          </a:xfrm>
          <a:prstGeom prst="rect">
            <a:avLst/>
          </a:prstGeom>
          <a:solidFill>
            <a:srgbClr val="ffcc99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地位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809880" y="4495680"/>
            <a:ext cx="2362320" cy="520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勇敢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5651640" y="5661000"/>
            <a:ext cx="320040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淡泊名利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2692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、了解讲演和讲演词的特点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、阅读课文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按讲演词的基本结构绐课文划分段落，概括每部分的大意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、学习课文第一部分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032920" y="476280"/>
            <a:ext cx="182664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ahoma"/>
                <a:ea typeface="黑体"/>
              </a:rPr>
              <a:t>教学目标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选择你自己喜欢的阅读方式读课文，思考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作者认为怎样的人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年轻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？你同意他的观点吗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什么是年轻精神的品质呢？请用圈点法从文中找出具体表现这些品质的关键词语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请你评价下列人物是否属于</a:t>
            </a:r>
            <a:r>
              <a:rPr b="0" lang="zh-CN" sz="4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年轻人</a:t>
            </a:r>
            <a:r>
              <a:rPr b="0" lang="zh-CN" sz="4400" spc="-1" strike="noStrike">
                <a:solidFill>
                  <a:srgbClr val="333399"/>
                </a:solidFill>
                <a:latin typeface="Times New Roman"/>
              </a:rPr>
              <a:t>”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Picture 4" descr="XH"/>
          <p:cNvPicPr/>
          <p:nvPr/>
        </p:nvPicPr>
        <p:blipFill>
          <a:blip r:embed="rId1"/>
          <a:stretch/>
        </p:blipFill>
        <p:spPr>
          <a:xfrm>
            <a:off x="914400" y="2590920"/>
            <a:ext cx="1905120" cy="33526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2895480" y="2133720"/>
            <a:ext cx="59436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萧红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11—1942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是在鲁迅先生培养下成长的现代女作家，原名张迺莹，黑龙江呼兰人。幼年伤母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930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年为反抗封建包办婚姻，离家出走，开始了流亡与挣扎的人生征途。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93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年开始文学创作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934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年得到鲁迅的鼓励和帮助，从事革命文艺运动。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935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年出版中篇小说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生死场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94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年病逝于香港，葬在靠近海边的浅水湾年仅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岁。萧红把一生都献给了人民解放事业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LF"/>
          <p:cNvPicPr/>
          <p:nvPr/>
        </p:nvPicPr>
        <p:blipFill>
          <a:blip r:embed="rId1"/>
          <a:stretch/>
        </p:blipFill>
        <p:spPr>
          <a:xfrm>
            <a:off x="304920" y="228600"/>
            <a:ext cx="4038480" cy="27622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914400" y="28954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ahoma"/>
              </a:rPr>
              <a:t>雷锋（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1940--1962</a:t>
            </a:r>
            <a:r>
              <a:rPr b="0" lang="zh-CN" sz="2400" spc="-1" strike="noStrike">
                <a:solidFill>
                  <a:srgbClr val="ff33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7" descr="xinsrc_b6194f0ad1a84245aa7fae2c6c7526e4"/>
          <p:cNvPicPr/>
          <p:nvPr/>
        </p:nvPicPr>
        <p:blipFill>
          <a:blip r:embed="rId2"/>
          <a:stretch/>
        </p:blipFill>
        <p:spPr>
          <a:xfrm>
            <a:off x="609480" y="3429000"/>
            <a:ext cx="2519640" cy="3276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9"/>
          <p:cNvSpPr/>
          <p:nvPr/>
        </p:nvSpPr>
        <p:spPr>
          <a:xfrm>
            <a:off x="3390840" y="3429000"/>
            <a:ext cx="5461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李洪志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52--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Object 10" descr=""/>
          <p:cNvPicPr/>
          <p:nvPr/>
        </p:nvPicPr>
        <p:blipFill>
          <a:blip r:embed="rId3"/>
          <a:stretch/>
        </p:blipFill>
        <p:spPr>
          <a:xfrm>
            <a:off x="4572000" y="3681360"/>
            <a:ext cx="3581280" cy="26431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1"/>
          <p:cNvSpPr/>
          <p:nvPr/>
        </p:nvSpPr>
        <p:spPr>
          <a:xfrm>
            <a:off x="8080200" y="4558680"/>
            <a:ext cx="54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b0ff1"/>
                </a:solidFill>
                <a:latin typeface="Tahoma"/>
              </a:rPr>
              <a:t>你自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12" descr=""/>
          <p:cNvPicPr/>
          <p:nvPr/>
        </p:nvPicPr>
        <p:blipFill>
          <a:blip r:embed="rId4"/>
          <a:stretch/>
        </p:blipFill>
        <p:spPr>
          <a:xfrm>
            <a:off x="5105520" y="380880"/>
            <a:ext cx="2438280" cy="32767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3"/>
          <p:cNvSpPr/>
          <p:nvPr/>
        </p:nvSpPr>
        <p:spPr>
          <a:xfrm>
            <a:off x="7810560" y="420840"/>
            <a:ext cx="546120" cy="34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诺贝尔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33--1896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1523880" y="1143000"/>
            <a:ext cx="914400" cy="4800600"/>
          </a:xfrm>
          <a:prstGeom prst="rect">
            <a:avLst/>
          </a:prstGeom>
          <a:solidFill>
            <a:srgbClr val="00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 Narrow"/>
              </a:rPr>
              <a:t>讲</a:t>
            </a:r>
            <a:r>
              <a:rPr b="1" lang="zh-CN" sz="4000" spc="-1" strike="noStrike">
                <a:solidFill>
                  <a:srgbClr val="333399"/>
                </a:solidFill>
                <a:latin typeface="Arial Narrow"/>
              </a:rPr>
              <a:t>演稿的结构与特点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71360" y="1371600"/>
            <a:ext cx="546480" cy="4597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开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947680" y="3429000"/>
            <a:ext cx="546480" cy="4597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主体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947680" y="5029200"/>
            <a:ext cx="546480" cy="4597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结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4412520" y="3429000"/>
            <a:ext cx="22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观点鲜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中心突出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7804440" y="342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ahoma"/>
              </a:rPr>
              <a:t>针对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4412520" y="1371600"/>
            <a:ext cx="22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活跃气氛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吸引听众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7728480" y="1371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ahoma"/>
              </a:rPr>
              <a:t>生动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4565160" y="5029200"/>
            <a:ext cx="22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热情洋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鼓动听众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7880760" y="5029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ahoma"/>
              </a:rPr>
              <a:t>鼓动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250920" y="1989000"/>
            <a:ext cx="8486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讲演，是在公众场合就某个问题或事件发表自己见解的一种口头表达形式。作为议论文的样式之一的讲演的特点是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面对一定数量的听众，公开发表个人的观点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话题集中，中心突出，结构完整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语言简洁明快，充满感情，富有鼓动性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600200" y="444600"/>
            <a:ext cx="49878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ahoma"/>
                <a:ea typeface="黑体"/>
              </a:rPr>
              <a:t>机遇的特点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9640" y="198900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讲演要面对听众讲话，请找出文中最能体现这一特征的语句。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这篇讲演的开头，主体和结尾三部分该怎样划分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?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并请分别概括这三部分的内容要点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579400" y="260280"/>
            <a:ext cx="4539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听课文朗读录音，要求学生边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听边思考</a:t>
            </a:r>
            <a:r>
              <a:rPr b="1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09:26:41Z</dcterms:created>
  <dc:creator>第一PPT模板网-WWW.1PPT.COM</dc:creator>
  <dc:description>第一PPT模板网-WWW.1PPT.COM
</dc:description>
  <cp:keywords>第一PPT模板网-WWW.1PPT.COM</cp:keywords>
  <dc:language>en-US</dc:language>
  <cp:lastModifiedBy>win7-64</cp:lastModifiedBy>
  <dcterms:modified xsi:type="dcterms:W3CDTF">2017-04-18T02:00:36Z</dcterms:modified>
  <cp:revision>5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82</vt:lpwstr>
  </property>
</Properties>
</file>