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761-774E-4283-A6F6-2434C614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A59-3EEB-41F3-B842-467EBA62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205C-3CC7-4F01-A611-CB7B054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01CBB-B31C-4736-9045-89B23FFD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84B62-3F53-4886-A40B-9A0BB7BA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F85E-7638-4FF1-8372-88798C6B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31D12-2D83-43C8-8412-8516010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D0F18-F5E8-4B97-B547-BDFED4BA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AF893-B050-443D-A40A-587617B1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C2EBD-C7D8-4010-A9C2-D6A1EFC2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D4C69-1A2B-4F8C-855F-5249044B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6CE63-E389-43F7-83B9-1C9EF493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653-0D8C-4E18-BC1F-99D87FBE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C61ED-5C35-43CF-8361-87B6ADB6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55347-9CA4-4A65-9232-D732C3B8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27AE7-569A-486D-B350-ECB13506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7BB91-FC2B-4BB1-9418-44861683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D61B8-F9CA-43DD-9BC7-CA10CA95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49CF9-A5F9-4C0F-94A8-4E31211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F30C4-5A5C-4C24-B23A-BE42EE3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C078-D8A0-47A0-BF1C-EB88C226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14C4-17CE-47C3-8213-FE118B5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00415-C135-45C6-A01E-135D2166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0BA-8512-4AE3-B1A2-1DEA2295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37DDA-4B49-4F86-BA00-304C4F65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9AAF-DC17-4A66-AC1B-69621CF2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4BCA2-A070-4850-A319-8B052BB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8303A-04DD-4D54-9F16-68D0BF3A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C9D0C-E148-4004-B16C-C38BC04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59608-848C-41CF-9B97-CEF04A10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22D83-271B-41CF-B276-63921284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C403-5A26-41E3-8761-21A7637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B287B-09F5-4C83-AFC1-4746A86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C4988-AD6E-461D-B3DC-06AD31E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240-AE57-498C-B088-00E8D9D2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51B1-3E96-4EA7-BE68-E2A24AF5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47AF-DF60-421C-A396-C02E92B2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E92CE-AD24-4AA3-860C-BCEC64DF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E4634-57A7-4BC6-B40A-B80DE424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74DD4-DF64-4F93-A507-539FF576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31DC6-D0B2-4255-8212-5ADD0123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08453-32FA-498A-B623-DDCD197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5661E-C2CA-4D4A-ACB1-926DBC2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E74BD-E1B2-42BC-A32A-C39B598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1BD9-591A-4D0B-B0E1-7D634FF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7D86-F482-48FE-9A95-04A2231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176A1-02B4-4B77-A06C-1B0B8F5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6DEB0-30DC-404F-9B53-0578D24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89025-3B86-430D-90AE-835E527F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47DDD-2C22-4456-B9E7-D146C255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3FFEB-1204-4B50-8149-2DBAF904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5BD6B-7EFD-4B7D-B84C-68918D80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29C5D-9251-4F14-8101-29B78325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B5CE3-1CAF-4E28-9245-6D7807DA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66B6F-F92A-47BE-9846-C3F13EB9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447E3-5A32-4160-91E7-BA651356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B99E-42AF-4DD5-900F-5114EBAA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A5303-A5AB-437A-A32E-EFC78CB8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76426-3696-4A6F-AC78-F8728F42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87A0C-DA0A-44AB-A83F-3F227E21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32F51-14C1-4B1F-A2D8-120E6E7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E0D33-2DAF-40B8-8CF0-EBF598A3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326B5-39D0-440C-8610-D93A53FA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8F0D9-1BC4-4656-898B-B9D89786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AECB6-5C48-427C-B168-E4BB7E3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15119-1C6D-4426-AACD-BE90D6E1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53FF7-5297-424C-BD5B-A79E7680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412-7492-419D-A3AA-ABA8A38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9053F-6A68-4913-90EF-BC09B79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05944-08AA-4F50-9B72-D4C642F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FE847-F9A0-496F-AA52-E0EF0E1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6FB4E-3F8D-4536-85B1-EA27FAE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8A3B8-99A7-4144-80CB-86061C2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84BAD-E4FC-479B-B346-F771498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D994A-1822-454B-BB88-7F9DC092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69FC7-0192-467E-A9E7-C57C6F9D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A1E40-E758-4AB7-8D3D-60039450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630E5-9EA9-4510-99C6-FFF6470B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D588-A00D-4EAC-819D-1AAA53A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900D8-6AE2-4960-AA74-D86C8DE8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EC1B5-AFAB-4634-AA2B-A1671C0F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71EB4-41AD-4CB1-8712-56B0559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7A54C-F11B-41F6-BE11-0EF4653D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13E03-44DF-4A75-8803-A705A98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0EBC7-092F-4665-AF77-573B654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28C34-D65C-4A43-93D1-824A3303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8F226-05C4-4E2E-9B7B-948C1F3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259D4-2C33-4D2F-81F4-B6A99BAD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54721-7A64-4BFA-ACC5-7BE9117B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0FAF-0648-4389-8F0D-5B89C84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08813-6E63-42A5-B9CA-58CB7176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1DBF6-DEC0-467D-A2B6-F02AD6D4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10DD4-9C68-4033-A7C7-6C3D1630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8D867-9DE5-4BC9-969E-5133B580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A83F0-6664-4455-AADF-A6F09250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97653-11B6-4CF7-AC37-730FDF0D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18BC7-6859-401D-98D7-0A78817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B6854-2BAB-42BB-9F95-083B635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0D649-4195-4569-AA01-404FE45E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D4DE8-33FB-4F29-8068-7239A12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F95B-53A3-481C-9BDB-DCF128D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770B1-EA12-472E-B3EA-85CFBB33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F41D2-E270-4613-90CF-8DB19769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34763-17A0-4520-ADAD-56E42825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33750-9D93-455C-9DEE-CD4683D9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A57E5-6A03-447F-8526-64565729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08913-CAAF-4B6D-A0D1-10CF9EE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13BD4-146C-4C3E-AC85-250C2FB2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21A15-D885-4FAD-A88D-F667B5E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4D4C7-483E-43BC-B07A-F977282A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AF1BF-EC55-4317-A3E1-EF39179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6AB-9176-4B1A-9C6F-7A64EE9F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F4C-0F97-41FF-9B9B-0A21E3C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189E1-7D2C-4D21-8527-6F3DE87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9F00F-F049-4FE4-BC6C-9132EFB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A5818-FF80-4E68-89BB-F98D3902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E82DD-460B-4CAC-9CA2-4634B3CA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DB28C-E20A-4C2A-9D3E-53CDB8AA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862E5-40E6-488B-B76B-3C6AAE9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7EC6F-00AB-4E33-8EF4-4F67B13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FB6A8-0C90-4B30-95E1-CC548393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02C32-3559-4893-A760-58B0ED46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C79B7-9A28-48F2-8DA3-6D771C1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4E09-CCC3-4395-A482-7140A23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84842-7638-4B65-90FA-15A094C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CBF5A-32A7-4FC1-B484-A46F605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741B6-39FA-4935-9816-CA212529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26C84-7055-4150-B1E4-B42F218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D6928-C20F-4962-95D1-489369D6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E67CF-6344-4C85-B2B8-A4BA530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9FB85-ED26-44D1-8498-AD68E789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94B9B-7C86-4161-9D17-10EC9BA0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2348F1-4D5E-43C6-B12E-4299A65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3F764-B23A-4AE2-AC3E-8480F55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1385-529D-4817-B565-3EFDF33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A561D-CD9C-4812-BA91-FE684E7F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C8990-624B-4DC5-BE26-733D822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FB1596-7DF9-4E83-A8E5-8D89749B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5C142-B090-4DA1-B609-002EAF9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3D8FA-4430-42A5-A12A-9DCA160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58232-9E20-44B1-B3CA-8FF69B4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C37EA-EEA2-46E4-AB74-8EE52CE7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B860F-F414-4580-996C-6746D26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548196-99C6-484C-B662-F87B70D8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F4332-C41A-4682-8FF6-20A5C699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87A1-B41A-4467-91B5-290F8783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8BA41-D17A-4A71-BB5F-93C718D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1A430-B3F5-4B27-9CB9-A5912E12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2C88F-3751-43C4-ACA4-956A4CA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F74F3-DCC3-42A5-B9A9-E5FE396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80193-CEE4-45B2-8A9E-611BDCE0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9BF1C-30FE-4422-A1D0-DE8A2D5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BAF04-2576-42A7-8358-6727EEE8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7D7C8-5750-4DA7-8C0A-AD4F908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CFE28-B91D-45F3-B019-0386936D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0F63B-3781-494C-A529-7F508ADE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27B-09AF-4278-841E-B8213326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8B0D7-6511-4BF4-9F40-966CB6CE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DA5B6-05C9-42F3-968A-29EE096A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50955-373C-4EF0-BB5C-F296B76C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F1508-D8B9-49DA-9B3F-EB337063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7060D-E169-4D8E-970D-C595A86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54329-5337-4803-9675-852FA7D5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7DFC46-6DC4-4552-93CB-1C16B69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9DD799-EC3C-4425-8CC8-35CC461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62F544-2CB6-4555-A2C5-5428C75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B7F89-3ADE-478A-AB16-603584BE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2C3E-BB00-4ADD-B11F-149951A6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AAB70-D3BF-49D7-818F-32E86E31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9AC31-EC91-4CE2-992B-309F1259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ABF7A-6E80-4005-A44D-BB16D1AD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D4C14-A395-4E83-8081-F6935451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374E39-9807-4D69-9919-4A1ACFB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2B9F8-2635-406C-B507-CF7C2611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8BC576-B375-4E8F-A54B-8B09B56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6D581E-D1F3-44EB-BF04-0071919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F4F68A-54BB-41F1-B6A5-944ECFE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22D6C-9FBA-4B0A-844F-3AC93090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CF0D0-8432-438E-8AF2-FD35CD0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8187B5-092A-4D2D-919C-F67A982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5A2554-9B49-49B5-9789-F6EFD8C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26723-4B72-4E4F-A62B-2E47D465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F052C8-2A04-4FA9-98DA-2AD08760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753FE9-E733-4E24-8A59-1C94A923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250101-5828-45D2-AD18-444F3682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CC8C3A-FBB3-42B5-BB7F-CD805CC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3E7E9C-CD8B-4507-B607-4553889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4ED3E-FFF1-44F6-A0C4-5AB6B8E0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91A03E-7F36-40C1-BC80-0FD12C0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41F4-C67A-41DE-981C-03769C83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46D116-5DA6-4D1C-B205-5E5A6B6A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5F2526-FD5A-43EB-B042-D47588D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A001F6-D248-4067-B06F-177C04F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9CD332-0E73-4465-8054-4ED275A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7EC5AE-DACF-4D81-836B-F0FCD6D3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FB9A9C-9AAC-4977-AD4C-A82285F8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5B5848-F3D5-42CA-AAA3-2BC41E3F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993975-59D3-4E22-95A0-57025986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C851A7-FF06-4DFC-B4F8-995DE2B5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6AEFA-DE90-42B3-9020-A583DCC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BC5E-27E5-4164-AEDA-951486A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2728D-E55B-401D-ADC6-CF0FC9C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281E59-951E-4604-BC2E-B15354E5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0AC323-2055-4EC5-9E53-0C46177D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D501E4-58A2-415E-BFBA-CBB1E86F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E4119-5A95-4C5F-91E9-E32BCFC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1C782-D45E-40FC-B78F-EF79CEA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C64AF-EC8F-4B8D-8951-C52E26A5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027D75-EBC3-4A74-ABC5-B0763CB4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7DFDBC-C8AE-4FDB-9FDE-DC91FD3D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7CD4DA-CEEC-4433-B26E-C9005D8E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DB35-E8CA-4DB6-A246-67A8025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40EAB8-925E-4E4A-A107-4061EF5B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228304-5A07-48A1-B921-91EFBFE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EF7247-FBDB-42CE-BE30-215B9B7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2FE26E-D2F1-4DC5-9920-C05F7E0F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D5E82F-2CE6-43E1-A102-554F014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39E194-9FE5-4861-9AC6-4071546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06183B-471D-4CA4-AD45-B2FC16DD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539D29-3172-425B-BBCC-026D6E8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7A9DB9-8D62-4C1F-B70C-FCFF70E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5BCE7A-8BD6-454F-A9BC-DCB2FFE1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2CB-BA26-4E3E-A805-A30AA60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C334-5ADF-4B57-9D56-FF4BA0A7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69EB9F-80D7-4998-9E6D-657542C8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57E518-80AB-4B77-8C1C-912EB92C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7C4E12-470E-4EAA-8B7B-093B0F98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1ECB45-AEC1-4816-BA25-9439565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0F2B26-5331-4918-AF43-1A0634E3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D10955-7632-40D9-8E8A-E7B1DA46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6AFDF5-4029-4F04-ADEB-BCD79DE2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9AEB37-0949-43ED-9B27-FCA778C6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39B7A5-CC34-4F62-B267-F3643523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148B96-8113-443D-8CDA-F34388F3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ACD7-5D77-4D57-9C12-27F00CD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DF1885-50E3-4C34-AF93-896C877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211F89-B858-43FD-B14C-C36E5E0A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EFC140-547B-44C0-A94F-2ED21677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9C01DB-4FF7-4231-B3B6-C8DA3063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810E3E-3DBE-446D-A6DC-6BC634F6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9F2E23-B24B-41EC-AE51-F3A0AC6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13D479-C887-4ABC-BCFE-016055E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F1BC26-0388-40B2-8C6E-20C70E68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6E7DE2-DB83-47AB-BF06-C6285AA8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E0D554-96DC-4626-87B9-2A9D401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AA6D-2297-4343-A9A1-D33DA1F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29C842-B06C-41BB-A7AE-A86D3E9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BAA0EA-7F7A-4E02-92A5-EA32A33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086EFB-8543-4746-B145-C8687E35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7F1B90-C478-438E-BC7A-4E07AC59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1EFFC5-04CA-46D9-A248-DBF5C49A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4B15C6-005D-4AAB-8379-4E6AA884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F061DA-1927-495D-ADDC-2A42D12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80F4EC-E601-4850-A975-E70712E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9B263E-7792-41FE-AE1D-C791C2C4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FE4E66-5082-42B3-BECC-07DD8D2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CAFF-A696-4ABB-BFA4-C508F43E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C67D34-4046-4A41-A693-DADFD4E7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95B343-8E32-4B69-A3EE-4B70E39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B706F3-611E-4C7C-B846-D3E0413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699DCC-1401-4231-AD48-214C403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DE26C5-ABEE-4FB1-9614-B9EA970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063BAD-F560-4AF7-8795-6D5014DB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BAF6ED-944A-4717-AC9D-6F549DB4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446500-A0F9-4384-8141-5DA15104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22489B-7529-4A33-89A4-F8896B1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5005A0-8206-4D20-B301-A2B9CFD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49DE-175E-47BE-BC04-C4FC110C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49BBF0-FA98-4EE8-A3F1-5BFA8CC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E0EBC6-B27C-4F6B-A73A-2D79FC6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7014FB-9BA5-48F3-A5AC-138CC29F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03681D-21CB-478C-8CCC-B00DD86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3A4D8D-3B51-4E19-9FA5-41E2D43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B7298D-4D54-44C5-AC8A-A12FD63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5EAD5A-2C2D-4CAB-AE8F-887E6126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6B0D2B-7425-4C44-89F6-E93164A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23AA41-EFA7-42DC-B696-65206BDB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8D1788-87F4-4DB2-BAF4-5014E811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28E3-B747-41D7-89F6-8556D335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E4C3D6-EFC5-4447-ACB9-24B9D38F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2CECC6-8812-46E3-9596-85268C9A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A7CD03-65A2-400F-A5F7-A5C2E36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892B9E-1B27-4F7C-B92A-321144B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1D4D81-45EA-4589-A4BA-B25F6002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E937C8-2C89-4772-B7D7-F749B5D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9A1D40-BC36-41C3-B608-5F89D44E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90FD9B-CCFC-43E8-B2E7-AFD5F19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99B10E-9AA3-40FE-84AE-8C40734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DDC4C2-9D02-4D92-9362-3CFFD3FA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456D-9853-428A-A0E5-EA8AD636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25C27B-CF5E-4685-9DDC-0D92E12B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F6693E-DBE0-4694-9D19-6B7596FE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CD4C61-2775-46F5-BBAC-FB9F5B8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CBEF01-7056-4962-BE31-41DBBF5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F8F38B-5F99-43FA-B8CB-DA0B95A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30F1FB-CF78-4312-BF74-5F93C5BE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A663A2-1BDA-4734-AABB-AEA0A7F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1B7FA-3DE0-43B0-97C9-6EF655C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87A916-4F93-4279-BB4C-B29C7F9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AA60C0-245A-48D5-99F8-FBE7A16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8669F-7A90-48A1-A6EF-BAC7777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B32B14-9725-4CFE-8C83-9CB5FA9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211E06-9D81-48B9-8536-104D8898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054279-F0AB-4000-BD06-7611DCBD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77C7B4-6095-40F7-811B-13FCE98B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8DA6AE-C778-4F1A-84E5-E9A39510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AB2D3E-D619-463A-B538-23D80ED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71B29B-1823-4670-8B97-3E6189F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994D0D-C403-403B-BD95-2B0E673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0035BC-C150-413B-9679-2BA40EFF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EE7E3B-FCC0-4E4A-8086-D1BFD14B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61B4-BC55-4EE3-A9B0-C893BCBC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6231C9-959F-4F47-A8C8-DADC08D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ABA6F8-DB61-40C0-AE6A-BEA8DF1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E5C7FA-4C30-4709-8E28-6754130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7B7688-C384-4AF5-8C37-D05A5B5F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FA716D-6E2D-41E9-9E95-19CC0665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4D2A68-1DED-427B-BDFC-62BC0261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598D4D-FAB4-411C-B512-1E873D5F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4C196D-ECF2-48C2-89C1-9D5BA54F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85C7C8-4715-404E-AF87-56B9BB5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190C72-6B9A-4786-A562-7422238C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E31A-782D-4A1E-824A-538C3EC7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07BBF7-E6B7-4044-9846-5463154E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3538A0-BD28-4F27-BE42-83FDD2B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1F29CD-ECAA-4818-9D16-BB9A015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29D635-6EFD-4463-A0DB-7DD6C56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43FE11-12E1-4347-B5EF-35AC12FF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C6D7D6-5BFC-4A18-B746-0C0BAE00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F2A1C4-CE55-4CDC-90BD-6C23AF65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751AD5-BFBB-4679-83CB-A0B6C514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CDF59A-E817-4B65-8E41-5B54A01B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CA3803-E413-4F31-911C-0D1EC6C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BA0-C233-457D-81B4-9FF696F6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C6A2-3ED0-4FEA-9D2C-6BA3FD5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AA6A87-EE37-46CF-8682-5AE3014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E90C1E-3000-485C-BC64-4AD65E74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EE24DD-5814-44DA-9C7D-767408AE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E9BF1D-CBAB-4BD2-AE9A-C51D5F0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1275E1-7A74-4886-9DA5-5389802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2262EC-A6FC-4104-A06F-1B88DA5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D7EEB4-BE0B-4683-A591-8D59A3CE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CE14AC-A012-4A49-9AA8-2D78ABA5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BD579A-B625-48B8-8140-FF79CE98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D235F3-F517-4492-824A-B96B2E4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CCA7-76D5-435A-BA5E-A1BA9E11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83C280-BB41-4989-8970-F72763D1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E04F19-19E0-4B39-8AE5-D9C97EF5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E12813-FFDA-4291-821F-CC309280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180FA5-0351-441D-9677-0C52C87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129D0D-BEF1-4FC0-8017-81DA38FB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AF1B84-127F-4887-9166-BD9C1B6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851A57-D375-4F8D-AA4B-3304BA92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358BA0-A246-4A26-AE28-836E1A99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F43CF2-47CD-4702-A174-BCFAE8EF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5B7926-7E87-4C27-A003-6C6DE1E3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B3E0-A854-40A2-B4D0-D0E5968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D06591-66A2-4ECE-91CA-1BD51813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482532-107C-4169-BC9A-758383BC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497F0C-F5A3-449B-8F8D-F37439B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9BC658-5A20-449A-9DE1-03CB16FE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90DC11-82EA-4E26-B1E9-E210EB68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697B5D-EA98-48A6-9C97-DAD68E7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2C8568-4233-4954-93B9-0B914E4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9CF1DB-BABB-440D-95CF-FDE4B0C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4E9C7D-D534-47C6-B3B7-05A6685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310979-CF43-4422-BCB9-3BD06F8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637A-1258-436D-9FA5-D018967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5A5C0E-FAB8-4AAC-99D2-2BEEA3A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465A5C-0A7A-440C-80DC-9CAB352A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AA1D4D-8041-44F9-A231-459F60AB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432D33-4E2F-4595-BE9A-3B8AC2A7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0E0510-9D9E-4340-A23F-2C717D94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DAB733-A0BE-431B-8BCD-1A6A39C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548FC8-1772-4484-B492-9E2320B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FFF637-6967-44DD-82D2-3DF797A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9EB004-3075-467C-8219-42E5EB8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0732C7-5698-42AD-872A-FB17A16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BF1B-E9CE-41D1-BEEE-019C6FA7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1DF189-9EFA-46AC-9A18-CF78C4B9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55006C-0A10-441A-9A21-22296E7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7458CE-0804-414F-9F56-9D885700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6FD197-9BFA-4682-A3B1-DD581928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CCFBEF-68F2-4944-8D5A-CAD0817F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1C3A50-FD4C-48C1-BDA5-050D20F8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DB9409-D1BF-4EC2-B678-58376D0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4B42F1-CCE9-442C-8806-E3038B42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DD2987-542B-46BD-A709-28B51E5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A0A9E0-0A1C-4BBA-85E4-0348D03D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9F5E-AE90-480D-AF74-10918C5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91ADAA-6809-4188-8598-5A5D997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589952-B8CE-42D1-AD18-873D81D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6937C3-ECDB-481A-A6CF-3F401F6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D1234E-2F85-4A8B-ADF4-0A442230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DB36F2-00C2-49FA-B8BE-62F37E0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12BEAE-E943-4519-A270-07A8BEEB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F41596-F951-4697-B2E1-8A7025D9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2781EB-3F22-4067-BCE5-BC4BC184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8C7206-3DBB-409E-AEEE-D631641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F70A5F-B3CE-48A9-A514-5750F731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2B0C-9127-40BC-A3FF-A2E68BD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09440B-D99E-475D-B3B2-257D4A0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4609DD-5F08-4F0C-A5EC-F2BEDF7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AC7D8A-6107-4AED-890E-F113457B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382F08-C3E7-4879-A245-452F09F6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F6284F-5030-4E83-8D79-51697CF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1EE805-8A56-48AE-9143-2AF34BD0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EE67A9-97DB-4419-A3AA-816C88C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F1880D-26E1-474A-BD94-9459F393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1B9134-D695-485D-AD0D-8FA6CFD6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8DB789-7C5D-4517-9732-AFB570F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DE89-B8D6-4E18-9AD3-BAB031D2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D4671C-9488-4122-8823-B2DF10E6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35926A-5159-4D14-871F-F56B90F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90057E-48B5-4593-8C51-8FE0607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E177A2-8019-4843-888A-F1B769D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E68344-C8BD-4184-A71A-9D82857E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174F95-3A90-4236-A830-A26C981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C7DC4A-544D-406C-AD20-19A7158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FA2484-5345-4F0C-A055-C0E2EF8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C476F9-3712-42D4-B084-6C25349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13F6FF-3D30-4B9E-9502-92D375FA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1840-9EA3-4410-96B3-00FC2C37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785615-7388-4336-A7EF-395F5AEF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4296F9-DD5A-471D-A4C6-2932D2FC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FF1862-D3BB-4287-9D8F-EF1ACC2D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458B55-2E58-4637-9500-EA96B09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19D2F0-AFBC-436D-9B44-8F5E2DCD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4389E5-39A1-4C46-AFAF-5EE4CD5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C6990C-B9D1-456F-A96D-3F3D5B11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1B3CA4D-450E-4E1A-9B2E-D37E011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F77150-AFAF-4099-9BD9-502304C6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7C2F5D-6B86-45DB-BBF0-A6C4BBB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FD0F-AB36-4B9E-8FA7-624CEDA4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39072B-BC37-4E3A-987C-0EC9486D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7E0C6E-AABD-4195-B05C-480538D8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C41A17-0710-4ECB-828A-989C3724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E5F0ED-B0A6-40BB-9BFE-2F54961E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D65DC7-BE3B-4A19-BD59-3BF0FD4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0D326A1-7056-480A-B07F-B8F71C7E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681F2A-DF3D-4B60-9746-61E5C985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4D886E-67E0-422E-BB6D-A0C12F47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EBCE11-2494-4CDF-B561-D8AC21E4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F50094-1EB5-408C-ACFB-2FB9BFA6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813-5D44-47D0-98E1-4BBA11D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B4AB6-873C-4A90-8389-5CAA92FD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8A59A5-11E0-496E-8D9C-3E12EF0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7004E6-8852-48F7-9590-92133E7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3365BE-C7BE-4791-A21B-6557ED1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FCC5BE-4559-406E-BFF4-58200776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18A288F-EEE9-4529-A292-826FD426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916E2E-9843-4734-B03C-E52680E2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FCF19E-6BF3-4198-B6FF-32BE4B8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4976090-9641-4598-9900-340C80F7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73BC3C-3C1A-4E98-A447-ED72E5A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818B74-902E-4316-A396-9241E215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570E-4226-4F15-8386-ABF54B46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A2BE7C-03F2-4411-81A5-629EB608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14848C-B415-49C0-89DF-E2447AD0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280F28-B6D0-4B19-BC6D-CC62356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651E52-ED7B-4E4D-BAB9-A05C648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3898B04-1B4A-4136-BC3B-A5274C1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5D059D-20CD-49E3-8DA9-2D4E34B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DEC8CA-FD40-4C9C-B097-0CCFE82B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D1904A8-1B3B-46CE-94FF-500470F0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B649C6-1E1D-467B-ACCE-6F44EF5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2ECF964-ED0D-46A1-8292-5029E32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26A6-9C22-4864-A045-6CA863F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6AF8AA-6C18-4FE5-ADF0-12EB0ABD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ABBF4F-E134-44B6-B99E-BD376E6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4F98C0-1B9E-46C2-897C-FC5CEC5F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A6D2D0E-21A4-4618-9146-A096EC3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4368B3-B603-47DF-8192-3B6703B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BC7FFCB-0182-490F-AF0D-67B3919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6D4800-8DAF-4702-AD6B-F5D942C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D767D3-E292-4CC4-9364-7A52DF55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8E3A50-46B8-42C9-84E7-E221724F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6AD18A-04C3-4586-A67F-74221AAF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0B54-9A72-492E-807A-A001CC85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CC98B26-3835-4AB1-9E82-F852A7FC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ED7095-21C4-4025-9718-B8F8596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196EF61-C3E5-4712-8D0F-F666C8E6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50BFB9-5DE9-4471-8B49-947481B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F03C66E-0840-4F1F-BE87-C4912D13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4E2743-938E-475B-9896-E2EA8CE5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F4215B-6620-4BEC-861C-95B26A3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D2970E-64EC-4358-8BB4-12B390C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0D2F50-E5D0-4B0B-91B8-5996ACD3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BA3666-DBE1-4538-91EF-4ECC229D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AB5B8-2751-404F-98AE-B435D5A2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C71F76-5085-4965-93A3-0388657F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08E918-FDBB-4F55-82E3-FC14DE80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580A82-1F5D-4121-99A8-B0C17C2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4B3D0A-334E-4FFA-97B2-6BA00629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67D528-2149-48AD-A974-CA5C30B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A7E13A-E595-4BA6-8E2B-ED6E7C79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18DE88-7F3B-41DA-A732-8E441B00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FE9A34-245F-4B20-B11C-7372FF4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DF82A6-F410-4834-9527-E239D90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728067-5FB6-4D98-BDCC-A06371B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5B2F-05CC-449B-9870-1316476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617EB8A-07B0-40A8-8BFD-C986EAD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71B90EC-1C23-4F2B-87CA-FD51AD31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6FDCA3-F92C-47A8-BC16-B9BA7460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5C9CF8-0FB0-4158-9B41-210C82BF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95D31A-BC9D-4B00-AE99-BA1A9E6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1FD103-921D-4AE4-88AB-C05CAC41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D78E70-666E-4040-BE68-BA1579FF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9063AD-0A00-4F0A-B5D7-BB475A1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612E84-0028-431E-8962-D03F8EB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69DCC9-BEE2-4AB9-8585-5971422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6992-94D5-49A2-BB88-690F2EA6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025CCE-C586-4536-A43D-1E6D3612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E18A7E-7692-41FA-BDDF-3B382DA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55491A-E0EC-4C0D-90CB-CDD6A8A1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F0FE63-867F-4308-8430-DF8E375B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ACEF32-D01B-4016-B4BD-60517DD6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DCC84D-42EC-4618-B55F-9CD492A5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4C39BE-A150-4288-BACD-D150AC5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2327F5-A8AD-451F-9A84-0BFB8200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C5AAC7-973B-4ACE-8603-3B3C7BAF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311FCC-2CD3-47E9-880C-6C579C7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CA64-F39F-4B98-BF2F-4D34FB0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32AC14-CE88-4E9E-91D0-5707DAC5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7CF71E-6880-455E-962F-EE4C88B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627574-B555-47F3-8AEC-EB2BEE8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767C5E-F403-4684-B9B0-305BFDB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58EA6C-3CC3-42A9-B1AE-FE3C98F8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EAAF3A-8B19-47AD-A5F5-764803D2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C58433-3CA3-40A0-8BD8-DCF4F327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FEC859-0961-469F-AB9E-16C3AF59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037770-D227-418E-885C-47A34E73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711858-0609-447D-8A7E-B7637A7E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E90A2-2747-4FFF-9D27-6554CB3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88B929-40E0-4ADD-8B24-D9F14C8C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D075E80-004B-4CA8-9D5D-A0888D0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3A4CF49-44AE-472E-B2AF-0EAAEBDC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410C061-6FF8-4FD5-8651-6E301C69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EDB9FA-9815-4DBE-8DEC-2A96A36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7C7901-F4FF-49E9-B6DE-67B1B79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EA24E0-1EDA-41C0-9106-1EA6B450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C3D44D4-38D0-4664-A47A-96DAC2CE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10E45CE-9520-486B-AD06-0C9FFF66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6E61B3-44A9-4CA5-B3E5-9208B72B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0581-2766-4D83-8AC7-063C9B89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A8B1D7-629B-4F1B-B978-109A14AA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ED98D7-B45A-40D8-8CA6-CB49873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02C3FA-0EE1-460D-9523-23B90A01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55C916-4820-4275-A9DC-A3A47AA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080304-9BFC-4CF1-8C6A-AD60304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822730-9AF1-422B-89B1-101347F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E0ECA3-4381-4B90-BD54-7FADB2F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AD30C1-12BD-4715-871B-A28E574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684AA6-5697-4DAF-8187-635E5B3E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DCD3DE7-BE2D-48C4-BF3F-69EA8616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A6E-487A-4327-8F2A-A69FC1BF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D9CB-002E-4935-9598-00A71FD3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C2FDE6-6C55-40FB-B053-ECB5F72B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EA3106-D33D-43C1-A97A-32B50340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7B5C72-3EBD-4E01-AD34-9373FBA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4F5934C-EB0C-4BC3-9A44-BE729BB3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EDBCE8-9AC5-42A1-81B5-C5A74343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CDE894C-4CDC-478C-A881-633889A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1620151-B576-4EEC-80F4-C09E136F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0BCEBB-3FB7-4555-A527-A574CBF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223F67-945F-4DBE-A2FD-EC0B300C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7901906-9356-4B83-87B0-D760F6D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07B1-A92F-4CF9-ADA2-3BF88295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C9873E-0095-48BE-8575-641BF00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4A746FA-E424-441D-BE39-AAEB2994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E479FC-70FE-43CA-86BC-2C78BF2E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9DA227-73DB-4EF6-BD65-998F8182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A0BE97F-F8EC-4687-9768-B53B8F1E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3F0AAF-8316-46D5-A0B2-57E86FE0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0D48DA-BDB0-4BAE-8FF1-078323A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22982E-75C8-429C-B5E1-741F2550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4D433AC-C5A6-458C-858E-B1A03638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58EB12-90C0-47AB-B3BD-176D8D3C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6229-4BBF-458D-AD49-AE77FF0A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1145AB-B113-479E-98AE-EEF76680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BC2CD7-AF2C-45DE-82BB-FB0D164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83537A-547F-436E-AFEA-72D98E6D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F0A592-BB71-4F3D-A4B0-2242027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B4CC87-3A50-48DF-A29B-77DC1C92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C18C2BD-BB67-4212-9D2B-CDB32FD4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3F9A03D-0C29-4212-834E-1075623F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9DAA52-CE22-4856-9552-BFF83074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060FD8-8099-4706-BC86-2C5BEE09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48A3FB-8397-480B-AAC3-7859DF6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D340-D659-4FFD-967A-EF667890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D94C2C-CA0A-4A98-BFB5-EF54F312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F7C225A-03B6-49EA-998B-526CA27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25E58C-0E35-45CE-B1DC-1ED4256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00452D9-F617-4EC0-89A8-489ED7E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3FC1DB0-407B-4896-A8A9-EC2BDD7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39A63A4-A5FF-402A-9B94-B767ECE3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65E0191-351F-4275-B710-94DF0FD5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B44890-B8FE-4706-9B78-E9B8B5F9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3CB5A45-8707-452A-B244-4A5581F5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0D55B3D-FB77-4FAB-B6A9-1F92FA07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5D41-5CD8-4BDC-A757-59CDBD9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9618353-DBF6-49E6-8CB4-ABDC19E8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CA7827-940D-42E5-AC37-E1F7C2E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41E94E-2880-46A3-A184-310B3D0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5EE77E-9AF3-43E1-8BDF-7F03D94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64076DD-86C2-464E-A266-3B8D0A7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9DF510C-4067-4550-BBF8-E613E4B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DFB8AC9-510D-41C2-9280-CA0A2E7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6C5B0D9-9952-417F-B111-F5209B93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8A6080B-F28B-49BA-B900-C3CB7493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A122704-568A-4C32-B42A-3AFC154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FA32-0967-4450-934F-4C62882D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C32442-6F6B-44D4-8544-89376AF6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156AD2-6D1D-4B52-B75F-6866CCE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0B88972-191A-4DC7-AFEB-9E65AC2D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EBBD5B-0FDA-4225-8973-D4D41ECF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31ED657-B78F-49EA-83AE-3910A6C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CBF6B22-E990-4703-9FC4-738F221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2A07093-61B9-4E45-AEB9-58B0929D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F2B8C5-4CB4-4806-BBAE-20A1438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6451B4-6031-43CE-9A93-87F78420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9A78A18-1FA7-45C1-8671-C8162A70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2D0C-03D0-45C4-8AA0-440811C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CD9B789-30F9-4456-BA4D-8F44A15B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3B90F5-1DE3-4E77-9530-1D1C5B25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D8A58C-9143-41E8-A6F1-EC38C6B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11C07C0-CEC6-4446-AF47-AB2220C0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F7F28D-DDB4-4F4E-A195-820637C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DE63D2-B221-49F2-A86A-4CDA788D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7BA7A93-83FC-4E04-A9B4-1DE164E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051F42-3061-4345-9A66-E4F27DD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795B874-242C-477D-A65E-4EA54B9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80AE137-B708-4D0B-AD7F-5C8B89B2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4B98-29CC-4D0D-90C2-EF4A88D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19C993-C1DC-47FC-9874-C1DC7F51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4B04A70-A2A0-46A7-A1EE-9BA7A6A1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91AE53-AE8B-4D25-A63A-EC967B1A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D53F7CA-E392-4C82-963C-5F8226C0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8732DB-CB5C-4C52-8D61-CF09B054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745863-180B-4A0E-8018-81AA13D3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D328B4-D063-434A-B5E6-1444796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59B1385-2468-44F0-BCB0-FF5FB48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30E731-91BA-490F-BA1F-CACF552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AD05B4-0C66-4612-A734-0115E07C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F19B9-F5DA-4886-965E-C808645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7C9780C-3F8D-40DC-B425-6D25D3C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19EBD2C-7679-401B-B763-A02EA1C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ACCF65C-8D65-444C-A966-7184EC2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ED79849-052A-4948-9B4A-FB681A5D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DD9F10-E0D8-4021-846F-ACD417F2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634E370-9567-448B-A292-74549DF0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3C0F033-B076-4664-A96C-D91F270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717DACE-ED23-414F-919B-A3F417B2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32CA1C-D748-4E88-98B3-A0161A3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0CA52E-2BED-4F0B-A971-4752877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F82D-F34B-4F47-B81B-0ADD911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0C50F8D-270E-4173-BB35-AD06769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8C0515E-2D28-47C1-905B-544A8396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145F65A-98DF-4D0D-AD36-EEC04477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938982-D9C8-4B21-B952-D47A03F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13677B7-B7BF-4AFA-8B39-99EDC6FE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E79FD8-722C-4F8E-A625-A4258417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448DB8-CB1D-4673-B8CE-E74F20E7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A33F23-CB87-4851-8B3D-3F5292BE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5DAEDA-838D-4D4A-B6DE-526B4A33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E3D8FFE-D16B-48F3-8E98-C9717778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186-AE0F-475D-A271-27AC9C7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7A9B-B5FD-4BDD-A5C8-CB740DE1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95F5566-350E-46D8-91A0-B1AB7E4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B14BEC2-A5A0-4E2C-94DB-C783223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74FE16A-7D7D-43F5-8813-15D40684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64F6B42-A131-470E-9D1F-6DEE2A6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525EA4-050F-4CD5-BD30-64EC5F08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305AF7F-2C2D-4CE3-9109-CDF7D1D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88B344A-B42A-4D82-8964-543EEC3B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B91C8C-D573-4C5B-BB51-356D0D67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24FEF74-3137-46A1-A996-53ACAD02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3B8449A-76C7-48EC-8749-E04D4639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3F2C-3D21-4D07-B22F-BDEBC134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25B2CAB-D77F-478C-866A-03AF9622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1E8E9B-DE56-445E-80BC-1D7861F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0F2DEF9-A930-4C8E-9AE7-DBEE78C4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D11A98A-BBD4-4E5A-B145-5A6A5AD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4E9554E-7B18-4FA0-956B-145D2CF3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0BA139-9854-443C-9802-846FC37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1352ADE-9D6F-4F86-85F5-D6F03B0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7208249-D6D1-4B78-B981-05704A9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E11B817-20C2-4346-B3CD-7A102F4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47C2D0-4364-491F-BBAE-45EFB47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6F39-F1AA-4D7F-BFCA-CD6FB527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5A74EDB-1A67-4FC4-803D-47B12213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C999-26A8-4058-869F-FFCF9184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6DFAA-B1E2-49D4-90A5-05E56641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DF65-0E20-4C6E-9762-99EE107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D1914-AF56-4F50-94CE-13367BA5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B049-14B3-472F-AEB5-783F3BD4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DE6D-4BB1-4CC4-A01B-4964ED6B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ACC5F-EFD1-41CB-BF39-FD6381E6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8A6-0702-426B-A7E1-1CB83BB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FC585-9883-4C7A-9A90-BB31F59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F9E1D-5235-4DFB-99BA-66A9A07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52E0-B4D6-4465-BB4C-26449AB7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A865D-8F1F-4FEA-9578-A92A4A55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05D15-FFBE-4C9B-B008-3C7DBCC1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888C-F888-4A0E-A415-669E4424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59C96-B700-4A3C-B323-A016C1C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FB8E2-671F-46BE-9D1E-27358372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380A-D255-4438-9156-5941625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514E-5FBD-4B9B-AB10-D07D63EF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117-F91E-48A4-B645-78A441A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879B7-6BEC-4C0C-A2B6-8F49E96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D0101-068A-4662-B2FA-88F5B63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67C1-A58B-4BCA-B647-5FF7954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33C9B-7C73-4D11-81EF-3EC6370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A077-BE9D-4AF0-BC4D-F51DBF7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2EEB6-CD11-443C-B3C0-18C59466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0608-FE4C-48C8-98CF-E9CB65F3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353FA-2D8C-470C-BC5F-58E08F98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A91E4-0F4C-4BAE-A13F-CF685FAE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08A44-D1AE-4F20-815C-4A30A932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EE2-345A-43CE-B617-DFC0727F1A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08F8-9D5D-4F02-9EFB-1DBDE4F28C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B24-5395-47DB-A89F-0F8961353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4F7F-145F-477E-BBE7-87601FBD3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A12F-C9DD-41A4-B678-D98A8CE3EE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708B-24C3-429C-8F6E-9C2564044B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9D90-C04D-4151-A111-59FE87EB93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69F-8D18-49A3-9786-02BCD6557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D618-8467-4053-A44A-6B1AAB77AF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036B-7FAB-408C-A3E5-EA8F8A68CD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ED4-82C5-4FC8-B072-CC0BDCB952A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82C2-B71A-47DB-9B90-D317BC6D67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2018-5375-4CD9-BEFE-1BE6F6B245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37E-9D22-424A-9E68-00AA42F69B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BD0-7AF7-450A-931B-84430EC333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0FBB-F749-433B-9EEC-DEF2676B29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E65F-EE91-44CB-A5C2-A1C4C9315A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411D-0C1F-41C8-BE08-EE78C6613B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DAFA-8CC9-447D-8E3D-D0047EE9CE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30AD-C00C-4F38-A959-031428F835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250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2F1-B5FD-4BD4-BA28-6E641BACD9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368B-93C6-410F-AF4E-36C9424102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6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15A-C750-41CB-BE93-6207845176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301-CCF1-4C5E-9C5F-709927001F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738-2A48-458C-8345-A303DE02CB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B97D-8BE6-4271-9182-A6D88E1C59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699F-E912-46E6-B2B7-D2AD83C27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2AD-AEAF-4F2C-966B-F087C17C2A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682-998D-422C-8A4B-C9E2F24CC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A9D-D053-44D7-A416-52BD17922C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5243-A01C-43AD-AFA0-02486953F1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8F4-CA49-474A-A456-41E15FF02C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06CA-C4A1-4B9F-A047-93DDA190D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FEA5-FA3B-4F1A-90E7-E9170D804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8445-04D9-4175-8B5F-A320816E3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DFF-2C01-463A-94A6-9E2AA355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AAA-BB7E-411B-A83C-931331D4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9430-77FD-405A-969F-C55A8F45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B0B-082A-4E9D-B647-3613CDE72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C4E3-9377-4CB5-B991-F260CB4C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E77-9427-491B-A0C5-AF1923708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9C6-C94A-4E79-8E6E-38F524DFD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689-4701-43D4-B197-7BCA5AC55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9C8-FB6C-4C1F-8D91-1B4B7C9F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8C96-E835-4862-83F2-6F3B196AA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48E-BB84-49A5-A9DC-2B9DA4C66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532-9530-4E40-A407-B53035D5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37D-7058-4240-8F21-EC4F4269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6422-ADC7-41A1-A335-B15243D16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3CCD-2583-4A7E-901C-800A85B57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BEE-B3A8-4453-9B3F-4FCA1FE5E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1E32-CC0E-45B5-9882-582B68FD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B212-5250-4846-9428-C0C4CD30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 type="sldNum" idx="1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AF0B-40B2-414C-A78F-1C8C17E4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 type="dt" idx="1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 type="ftr" idx="1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 type="sldNum" idx="1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48BE-9F3E-46AD-8477-CBEA4D58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9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F327-CBEB-4BCB-8F96-071F4D2102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5"/>
          <p:cNvSpPr>
            <a:spLocks noGrp="1"/>
          </p:cNvSpPr>
          <p:nvPr>
            <p:ph type="sldNum" idx="1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1DB-B2E7-4D93-99D2-D7B10120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EB4-AF0F-4AAD-8F8C-98A0361E7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1944-C77C-4C3B-A2FD-D9B0B9183A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53E-11AF-4712-B82A-B77D166A6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4"/>
          <p:cNvSpPr/>
          <p:nvPr/>
        </p:nvSpPr>
        <p:spPr>
          <a:xfrm>
            <a:off x="2625120" y="1904760"/>
            <a:ext cx="39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作为生物的社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5"/>
          <p:cNvSpPr/>
          <p:nvPr/>
        </p:nvSpPr>
        <p:spPr>
          <a:xfrm>
            <a:off x="5166360" y="403776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易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马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4"/>
          <p:cNvSpPr/>
          <p:nvPr/>
        </p:nvSpPr>
        <p:spPr>
          <a:xfrm>
            <a:off x="304920" y="15087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结尾，作者以科研为例，援引权威人士的观点，再次强调个体的智慧与群体的智慧，就像一个锯齿与整条大锯的关系，个人的孤独静默也许有助于一些发明创造，但这些发明创造必须融人到群体的智慧中才能发挥作用，才有意义。所以，我们要像昆虫那样，发扬光大“一有发现就大叫起来”的古老传统，经常接通我们与社会组织这个庞大网络的电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5"/>
          <p:cNvSpPr/>
          <p:nvPr/>
        </p:nvSpPr>
        <p:spPr>
          <a:xfrm>
            <a:off x="380880" y="4145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语言幽默风趣，表现出一个科普大家的睿智和哲思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生命的礼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书的副标题为“一个生物学观察者的手记”，作者以细致的观察，入微的思考，揭示了“作为生物的社会”中一些值得让我们探讨的生命现象，从而反思我们人类自身的行为方式和组织形式，表现出深厚的人文关怀精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4"/>
          <p:cNvSpPr/>
          <p:nvPr/>
        </p:nvSpPr>
        <p:spPr>
          <a:xfrm>
            <a:off x="1523880" y="27360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采用了哪些论证方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5"/>
          <p:cNvSpPr/>
          <p:nvPr/>
        </p:nvSpPr>
        <p:spPr>
          <a:xfrm>
            <a:off x="304920" y="3414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篇科普文章具有散文化的倾向，可以看做是一篇科学随笔。本文虽然不算严格意义上的论文，没有罗列森严的论点论据，但还是具有独特的论证方法的。首先，作者始终是在与人类行为的对比中谈论生物的社会行为，始终认为人类行为与生物的社会行为有着共同性；其次，作者在论述中，无论是对人还是对其他生物，多从个体与群体两个方面做比较分析，肯定群体的智慧，强调社会化的重要性；再次，对生物的社会行为的描述，有详有略，先详后略，以详带略（详昆虫类，略菌类、鱼类、鸟类），这样既抓住了典型事例细致剖析，又丰富了例证，也体现了由现象层面到理论探讨逐步深化的过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Rectangle 4"/>
          <p:cNvSpPr/>
          <p:nvPr/>
        </p:nvSpPr>
        <p:spPr>
          <a:xfrm>
            <a:off x="2016360" y="38016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理解本文关于生物社会行为的论述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5"/>
          <p:cNvSpPr/>
          <p:nvPr/>
        </p:nvSpPr>
        <p:spPr>
          <a:xfrm>
            <a:off x="152280" y="34909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论述昆虫、鱼类、鸟类等生物的社会行为，证明它们也有集体协作精神，而且随着群体数量的增加，智慧也随之增长，这些都来自他对自然界中社会性生物细心的观察和思考。把这些生物的群体看成是一个庞大的生物体，更是作者的创见。但是要看到，作者谈论生物的社会性，焦点还是在反思人类行为，意在批判传统生物学人类中心主义甚至人类沙文主义的观念，强调人类要有自我反省的意识，不然我们就会陷入因为盲目的自我崇拜而带来的种种困境之中。无可否认，作者的论述有其幽默调侃的成分，观点有其牵强偏激之处，但他的视角是独特的，见解是独到的，议论是深刻的，读之给人以理性的启迪和美感的享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4"/>
          <p:cNvSpPr/>
          <p:nvPr/>
        </p:nvSpPr>
        <p:spPr>
          <a:xfrm>
            <a:off x="1928160" y="30384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理解本文幽默风趣的语言风格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5"/>
          <p:cNvSpPr/>
          <p:nvPr/>
        </p:nvSpPr>
        <p:spPr>
          <a:xfrm>
            <a:off x="152280" y="31204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在论述中，往往把人类行为与其他生物的社会行为比照映衬来谈，即把人类的行为看做是“生物化”的，把生物的行为看成是拟人化的，这就形成了一种幽默风趣的语言风格，如说人类“碰碰触角”，说蚂蚁“使用童工”等等。我们可以从以下几个方面来理解作者的这种幽默的语言风格：首先，作者作为人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员，却能“降格白贬”，以较低的姿态来谈论生物的社会行为，体现出一种自嘲式的幽默；其次，作者作为一个生物学家，敢于向传统观念挑战，敢于闯别人不敢涉足的禁区，表现出一种智慧上优越的幽默；再次，作者作为通俗栏目的科普作家，要向大众普及科学知识，激发大众对科学的关注和热爱，也要用幽默的语言化雅为俗，拉近同读者的距离，吸引他们的阅读兴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4"/>
          <p:cNvSpPr/>
          <p:nvPr/>
        </p:nvSpPr>
        <p:spPr>
          <a:xfrm>
            <a:off x="3022200" y="608400"/>
            <a:ext cx="305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作者的主要观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对本文一些重点问题的讨论提高探究能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Text Box 5"/>
          <p:cNvSpPr/>
          <p:nvPr/>
        </p:nvSpPr>
        <p:spPr>
          <a:xfrm>
            <a:off x="380880" y="274320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作者的主要观点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对本文一些重点问题的讨论提高自身探究能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4"/>
          <p:cNvSpPr/>
          <p:nvPr/>
        </p:nvSpPr>
        <p:spPr>
          <a:xfrm>
            <a:off x="304920" y="231624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生命的礼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个医学家、生物学家关于生命、人生、社会乃至宇宙的思考。思想博大而深邃，信息庞杂而新奇，批评文明，嘲弄愚见，开阔眼界、激发思索。而其文笔又少见的优美、清新、幽默、含蓄，无愧当今科学散文中的大家手笔。无怪乎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出版后，立即引起美国读书界和评论界的巨大反响和热烈欢呼，获得当年美国国家图书奖，此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来由好几家出版社印了二十多版，至今畅行不衰！年过花甲的刘易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马斯的名字因这一本小书而家喻户晓，有口皆碑，以至于在他接连抛出后两本书时，书商都不用再作广告，只喊声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生命的礼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书作者刘易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马斯的新著”就够了。今天我们就来学习选自这部书的精彩章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生物的社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Rectangle 4"/>
          <p:cNvSpPr/>
          <p:nvPr/>
        </p:nvSpPr>
        <p:spPr>
          <a:xfrm>
            <a:off x="457200" y="22078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易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托马斯博士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wis Thom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生于美国纽约，就读于普林斯顿大学和哈佛医学院，历任明尼苏达大学儿科研究所教授、纽约大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贝尔维尤医疗中心病理学系和内科学系主任、耶鲁医学院病理学系主任、纽约市斯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凯特林癌症纪念中心（研究院）院长，并荣任美国科学院院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4"/>
          <p:cNvSpPr/>
          <p:nvPr/>
        </p:nvSpPr>
        <p:spPr>
          <a:xfrm>
            <a:off x="3655440" y="410400"/>
            <a:ext cx="6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知课文，明确本文的整体写作思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5"/>
          <p:cNvSpPr/>
          <p:nvPr/>
        </p:nvSpPr>
        <p:spPr>
          <a:xfrm>
            <a:off x="533520" y="3076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是一篇论述生物社会行为的文章。作者选取了独特的视角，将一些群居性生物的行为与人类进行比较，描述了它们在集体行动中所表现出的高度组织性，提出了“多个单独的动物合并成一个生物的现象”，对传统生物学过分强调个体行为和动物本能的观点进行了反思，也对人类盲目自大、不能充分认识自身生存危机作出了警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4"/>
          <p:cNvSpPr/>
          <p:nvPr/>
        </p:nvSpPr>
        <p:spPr>
          <a:xfrm>
            <a:off x="533520" y="2771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开头就令人耳目一新，仿佛以天外来客的眼光来看待人类的行为，说那些为了开会“从四面八方聚集而来的医学家们，就像是群居性昆虫的大聚会”，他们“急匆匆来回乱窜”，“碰碰触角，交换一点点信息”，看起来和蚂蚁没有什么两样。这不无讽刺与幽默的叙述，看似闲笔，却给全篇定下了一个基调。作者身为人类的一分子，卑以自处，他想说明什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4"/>
          <p:cNvSpPr/>
          <p:nvPr/>
        </p:nvSpPr>
        <p:spPr>
          <a:xfrm>
            <a:off x="152280" y="2743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提出了一个不争的事实：说人类像蚂蚁可以，反过来说蚂蚁像人类，就会遭到非议，因为这是对人类至高无上的地位的挑战。所以描述昆虫行为的人，惟恐被指斥为“违反科学”，都不遗余力地从“有异于人的”方面来理解生物的社会行为，说它们“完全是非人性、非世俗、几乎还是非生物的”。而作者却不从众从俗，敢于向传统观念发起冲击，指出“蚂蚁的确太像人了，这真够让人为难”。然后以幽默的语言，列举了一系列蚂蚁的社会行为，从“培植真菌，喂养蚜虫”，到“迷惑敌人，捕捉奴隶”，到“使用童工”“交换信息”，简直和人类的行为毫无二致。“它们什么都干，就差看电视了”。在这里，作者有意用描述人类行为的语言来描绘蚂蚁，和文章开头的一段用描述昆虫的语言来描绘人类恰成对比，表达了一个鲜明的观点，那就是：人类的社会行为与生物的社会行为有极大的共性，并非水火不相容，而是可以互为比照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Rectangle 4"/>
          <p:cNvSpPr/>
          <p:nvPr/>
        </p:nvSpPr>
        <p:spPr>
          <a:xfrm>
            <a:off x="152280" y="28015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着，作者又进一步指出，很多生物“似乎都过着两种生活”。作为一个个独立的个体，我们看不出它们“有什么思想”；但是随着群体的增大，智慧逐渐增强，具有高度的组织性和协调性，俨然成了一个庞大的活物，而个体则更像是这个“庞大动物体中细胞样的成分”。蚂蚁搬运食物、建造蚁丘是这样，蜜蜂寻找花蜜、营造蜂房也是这样。不惟昆虫如此，小到黏菌，大到鱼群、飞鸟，都表现出这种集体的智慧。它们作为个体是微不足道的，但凝结成为一个整体，“组成巨大的生物”，就显示出非凡的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Rectangle 4"/>
          <p:cNvSpPr/>
          <p:nvPr/>
        </p:nvSpPr>
        <p:spPr>
          <a:xfrm>
            <a:off x="380880" y="28627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要注意的是，作者对生物行为的反思，其目的不是为了证明其他生物比人类更高明，而是为了检讨人类盲目乐观自大的情结。在漫长的生物发展史上，人类是姗姗来迟的一个物种。人类虽然最终脱颖而出，主宰了这个世界，但人类的行为方式还具有和其他社会性生物相类似的特点，还需要联合，需要团结，才能源源不断地产生智慧，克服自身发展面临的种种困境，推动社会进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>home</dc:description>
  <cp:keywords>home</cp:keywords>
  <dc:language>en-US</dc:language>
  <cp:lastModifiedBy>陈龙波</cp:lastModifiedBy>
  <dcterms:modified xsi:type="dcterms:W3CDTF">2010-09-05T01:11:57Z</dcterms:modified>
  <cp:revision>2</cp:revision>
  <dc:subject>home</dc:subject>
  <dc:title>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