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F91A-FF48-44B6-8162-EF5EB3E3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359-3F45-4911-AC5F-D8DE9765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199-C212-4DEE-BF1F-D1548A7D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2B0-D6E5-4AA4-BEC5-EC430ED8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7F5-9043-43DA-821D-DB2B0C77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4A25-BE04-4F78-9ED1-65A0FA5F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13C-5C71-4275-964C-FEDAEDAC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7BC-3A6F-4A0D-9F72-9A673EC6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4C2-A6EB-460B-B810-1F73D8AD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98F-5A34-43E2-B002-0CFDB548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BA5-C785-478A-978E-DD42C263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4DE-DBF4-496C-82E6-36537C16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01EB-3E27-43A3-8E0F-1762D59A4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380440" y="304920"/>
            <a:ext cx="45864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7317720" y="0"/>
            <a:ext cx="1826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紫藤萝瀑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200735161655838"/>
          <p:cNvPicPr/>
          <p:nvPr/>
        </p:nvPicPr>
        <p:blipFill>
          <a:blip r:embed="rId1"/>
          <a:stretch/>
        </p:blipFill>
        <p:spPr>
          <a:xfrm>
            <a:off x="0" y="1706400"/>
            <a:ext cx="7391520" cy="51516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609480" y="304920"/>
            <a:ext cx="6629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义务教育课程标准实验教科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人教版小学语文一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0" y="6714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有感情地诵读课文，理解内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揣摩词语和句子，理解作者感情变化的线索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学习并运用观察、感受、联想、思考的学习方法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④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体会作者对人生的独特感受，体味人生，感悟生命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457200" y="380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隶书"/>
                <a:ea typeface="隶书"/>
              </a:rPr>
              <a:t>读一读      写一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533520" y="1295280"/>
            <a:ext cx="8076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挑逗（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tiǎodòu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），迸溅（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bèngjiàn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盛开   不觉  不由得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蜂围蝶阵  忍俊不禁    仙露琼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依傍   伶仃  花舱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凝望    伫立    沉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216502cac1g215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5886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3544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课文赏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0" y="1523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每一朵盛开的花就像是一个小小的张满了的帆，帆下带着尖底的舱，船舱鼓鼓的；又像一个忍俊不禁的笑容，就要绽开似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304920" y="35053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b0f0"/>
                </a:solidFill>
                <a:latin typeface="隶书"/>
                <a:ea typeface="隶书"/>
              </a:rPr>
              <a:t>运用恰当的比喻，语言生动活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533520" y="2286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经典语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533520" y="457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花和人都会遇到各种各样的不幸，但生命的长河是无止境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685800" y="20574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黑体"/>
                <a:ea typeface="黑体"/>
              </a:rPr>
              <a:t>本句是中心句，由花及人，在漫长的人生长河中，会遇到许多困难和挫折。要正视困难和挫折，不向命运低头。对生命的美好要保持坚定的信念，勇于迎接挑战，创造美好的生活。这句话表达了作者豁达的胸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0" y="11430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未见过开得这样盛的藤萝，只见一片辉煌的淡紫色，像一条瀑布，从空中垂下，不见其发端，也不见其终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紫色的大条幅上，泛着点点银光，就像迸溅的水花。仔细看时，才知道那是每一朵紫花中的最浅淡的部分，在和阳光互相挑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每一朵盛开的花就像一个小小的张满了的白帆，帆下带着尖底的舱，船舱鼓鼓的；又像一个忍俊不禁的笑容，就要绽开似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紫色的瀑布遮住了粗壮的盘虬卧龙般的枝干，不断地流着，流着，流向人的心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揣摩下列语句，体会写景的妙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457200" y="53352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一树盛开的紫藤萝花比作瀑布，显得气势非凡，灿烂辉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细腻地写出了每一朵花不同部位的深浅，显得亮丽可爱，玲珑透剔，既富有动感，又富有情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帆与船舱的比喻，细致地描写了紫藤萝花盛开的状态，显得生机勃勃。比作笑容，更显得美好可爱，也抒发了喜悦的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物我交融，既写出一树繁花的壮丽，又抒发了愉悦欢畅的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216502cac1g215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5886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33544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课堂讨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4140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者最后由眼前盛而密的紫色藤萝瀑布产生了怎样的感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图2"/>
          <p:cNvPicPr/>
          <p:nvPr/>
        </p:nvPicPr>
        <p:blipFill>
          <a:blip r:embed="rId1"/>
          <a:stretch/>
        </p:blipFill>
        <p:spPr>
          <a:xfrm>
            <a:off x="4284720" y="549360"/>
            <a:ext cx="4390920" cy="568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611280" y="386064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50920" y="32130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花和人都会遇到各种各样的幸，但是生命的长河是无止境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者在写眼前的紫藤萝时又提到了十几年前门外稀疏的藤萝。此处作者用了什么样的手法，有什么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0" y="1828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这是一种对比手法，用十多年前紫藤萝花的不幸遭遇反衬眼前这片紫藤萝花的生逢其时，从中曲折地反映出时代的发展变化、人类文明进步的历史轨迹，这样写为引出作者的深入思考作了铺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216502cac1g215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5886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33544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导语设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216502cac1g215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5886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33544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板书设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1295280"/>
          <a:ext cx="9144000" cy="53341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333440"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 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行文思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 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生活感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3440"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 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赏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 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生机勃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3800"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 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忆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 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凋零的花   落魄的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3440"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 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悟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 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万花灿烂  生命长河无止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Rectangle 2"/>
          <p:cNvSpPr/>
          <p:nvPr/>
        </p:nvSpPr>
        <p:spPr>
          <a:xfrm>
            <a:off x="4192200" y="-45360"/>
            <a:ext cx="7596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宋体"/>
              </a:rPr>
              <a:t>紫藤萝瀑布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zh-CN" sz="1200" spc="-1" strike="noStrike">
                <a:solidFill>
                  <a:srgbClr val="ffffff"/>
                </a:solidFill>
                <a:latin typeface="宋体"/>
              </a:rPr>
              <a:t> 宗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828800" y="0"/>
            <a:ext cx="6172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紫藤萝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宗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216502cac1g215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5886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33544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教师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609480" y="609480"/>
            <a:ext cx="5639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2d050"/>
                </a:solidFill>
                <a:latin typeface="隶书"/>
                <a:ea typeface="隶书"/>
              </a:rPr>
              <a:t>看花</a:t>
            </a:r>
            <a:r>
              <a:rPr b="0" lang="en-US" sz="3200" spc="-1" strike="noStrike">
                <a:solidFill>
                  <a:srgbClr val="92d050"/>
                </a:solidFill>
                <a:latin typeface="隶书"/>
                <a:ea typeface="隶书"/>
              </a:rPr>
              <a:t>—</a:t>
            </a:r>
            <a:r>
              <a:rPr b="0" lang="zh-CN" sz="3200" spc="-1" strike="noStrike">
                <a:solidFill>
                  <a:srgbClr val="92d050"/>
                </a:solidFill>
                <a:latin typeface="隶书"/>
                <a:ea typeface="隶书"/>
              </a:rPr>
              <a:t>繁花似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2d050"/>
                </a:solidFill>
                <a:latin typeface="隶书"/>
                <a:ea typeface="隶书"/>
              </a:rPr>
              <a:t>忆花</a:t>
            </a:r>
            <a:r>
              <a:rPr b="0" lang="en-US" sz="3200" spc="-1" strike="noStrike">
                <a:solidFill>
                  <a:srgbClr val="92d050"/>
                </a:solidFill>
                <a:latin typeface="隶书"/>
                <a:ea typeface="隶书"/>
              </a:rPr>
              <a:t>—</a:t>
            </a:r>
            <a:r>
              <a:rPr b="0" lang="zh-CN" sz="3200" spc="-1" strike="noStrike">
                <a:solidFill>
                  <a:srgbClr val="92d050"/>
                </a:solidFill>
                <a:latin typeface="隶书"/>
                <a:ea typeface="隶书"/>
              </a:rPr>
              <a:t>思绪万千｝生命永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2d050"/>
                </a:solidFill>
                <a:latin typeface="隶书"/>
                <a:ea typeface="隶书"/>
              </a:rPr>
              <a:t>思花</a:t>
            </a:r>
            <a:r>
              <a:rPr b="0" lang="en-US" sz="3200" spc="-1" strike="noStrike">
                <a:solidFill>
                  <a:srgbClr val="92d050"/>
                </a:solidFill>
                <a:latin typeface="隶书"/>
                <a:ea typeface="隶书"/>
              </a:rPr>
              <a:t>—</a:t>
            </a:r>
            <a:r>
              <a:rPr b="0" lang="zh-CN" sz="3200" spc="-1" strike="noStrike">
                <a:solidFill>
                  <a:srgbClr val="92d050"/>
                </a:solidFill>
                <a:latin typeface="隶书"/>
                <a:ea typeface="隶书"/>
              </a:rPr>
              <a:t>振奋精神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33520" y="30481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用细腻的笔触，描写了一树盛开藤萝花的生机勃发、辉煌灿烂的景象，抒发自己由焦急、悲愤转化为宁静和喜悦的心情。作者又上溯到十多年来藤萝的变迁史，由藤萝引向生命的思考，生命的长河虽有曲折，但永远前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609480" y="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观花三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0" y="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面对紫藤萝瀑布，作者的感情为什么会有那样的变化，对生命会有那样的感悟呢？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98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是极左论调笼罩的年代，十多年前的一大株紫藤萝被拆掉，理由是“花和生活腐化有什么必然关系”。理解这个背景，才能理解文章的感情。其实作者的感情就如紫藤萝的命运，从花儿稀落到被拆掉，到如今繁花似锦，正是十几年来国家命运的写照。作者对人生有了感情上的变化和彻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216502cac1g215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5886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33544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扩展阅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0" y="1676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我常常不可思议地思考一些微不足道的问题。昨日一来到热海的旅馆，旅馆的人拿来了与壁龛里的花 花未眠 不同的海棠花。我太劳顿，早早就人睡了。凌晨四点醒来，发现海棠花未眠。 发现花未眠，我大吃一惊。有葫芦花和夜来香，也有牵牛花和合欢花，这些花差不多都是昼夜绽放的。花在夜间是不眠的。这是众所周知的事。可我仿佛才明白过来。凌晨四点凝视海棠花，更觉得它美极了。它盛放，含有一种哀伤的美。 花的机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895480" y="3808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花未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花未眠这众所周知的事，忽然成了新发现花的机缘。自然的美是无限的。人感受到的美却是有限的，正因为人感受美的能力是有限的，所以说人感受到的美是有限的，自然的美是无限的。至少人的一生中感受到的美是有限的，是很有限的，这是我的实际感受，也是我的感叹。人感受美的能力，既不是与时代同步前进，也不是伴随年龄而增长。凌晨四点的海棠花，应该说也是难能可贵的。如果说，一朵花很美，那么我有时就会不由地自语道：要活下去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画家雷诺阿说 只要有点进步，那就是进一步接近死亡，这是多么凄惨啊。他又说：我相信我还在进步。这是他临终的话。米开朗基罗临终的话也是：事物好不容易如愿表现出来的时候，也就是死亡。米开朗基罗享年八十九岁。我喜欢他的用石膏套制的脸型。 毋宁说，感受美的能力，发展到一定程度是比较容易的。光凭头脑想像是困难的。美是邂逅所得，是亲近所得。这是需要反复陶冶的。比如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件的古美术作品，成了美的启迪，成了美的开光，这种情况确是很多。所以说，一朵花也是好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1081080"/>
            <a:ext cx="9144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那时候，我去本能寺拜谒浦卜玉堂的墓，归途正是黄昏。翌日，我去岚山观赏赖山阳刻的玉堂碑。由于是冬天，没有人到岚山来参观。可我却第一次发现了岚山的美。以前我也曾来过几次， 作为一般的名胜，我没有很好地欣赏它的美。岚山总是美的。自然总是美的。不过，有时候，这种美只是某些人看到罢了。 我之发现花未眠，大概也是我独自住在旅馆里，凌晨四时就醒来的缘故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43_48_00c510d59e127b9"/>
          <p:cNvPicPr/>
          <p:nvPr/>
        </p:nvPicPr>
        <p:blipFill>
          <a:blip r:embed="rId1"/>
          <a:stretch/>
        </p:blipFill>
        <p:spPr>
          <a:xfrm>
            <a:off x="0" y="0"/>
            <a:ext cx="4343400" cy="3565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1135bf7e68b"/>
          <p:cNvPicPr/>
          <p:nvPr/>
        </p:nvPicPr>
        <p:blipFill>
          <a:blip r:embed="rId2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4419720" y="304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凌晨四点，发现海棠花未眠。”川端康成的一句恩的心话感动了多少人的心。美好的事物很容易激发人们对生命对生活的热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28600" y="3962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宗璞一家，在文化大革命中深受迫害，焦虑和悲痛一直压在作者的心头。这篇文章写于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98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图片赏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2" descr="W020090309324993941961.jpg"/>
          <p:cNvPicPr/>
          <p:nvPr/>
        </p:nvPicPr>
        <p:blipFill>
          <a:blip r:embed="rId1"/>
          <a:stretch/>
        </p:blipFill>
        <p:spPr>
          <a:xfrm>
            <a:off x="0" y="609480"/>
            <a:ext cx="4098960" cy="27054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3" descr="u=825136292,4122233353&amp;fm=0&amp;gp=0.jpg"/>
          <p:cNvPicPr/>
          <p:nvPr/>
        </p:nvPicPr>
        <p:blipFill>
          <a:blip r:embed="rId2"/>
          <a:stretch/>
        </p:blipFill>
        <p:spPr>
          <a:xfrm>
            <a:off x="5181480" y="685800"/>
            <a:ext cx="3962520" cy="27097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7" descr="u=1051782184,4046191557&amp;fm=0&amp;gp=0.jpg"/>
          <p:cNvPicPr/>
          <p:nvPr/>
        </p:nvPicPr>
        <p:blipFill>
          <a:blip r:embed="rId3"/>
          <a:stretch/>
        </p:blipFill>
        <p:spPr>
          <a:xfrm>
            <a:off x="5257800" y="3962520"/>
            <a:ext cx="3886200" cy="28875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4657320" y="4267080"/>
            <a:ext cx="6069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紫藤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9" descr="u=2759671895,1790638667&amp;fm=0&amp;gp=0.jpg"/>
          <p:cNvPicPr/>
          <p:nvPr/>
        </p:nvPicPr>
        <p:blipFill>
          <a:blip r:embed="rId4"/>
          <a:stretch/>
        </p:blipFill>
        <p:spPr>
          <a:xfrm>
            <a:off x="0" y="394344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0"/>
          <p:cNvSpPr/>
          <p:nvPr/>
        </p:nvSpPr>
        <p:spPr>
          <a:xfrm>
            <a:off x="3544920" y="4267080"/>
            <a:ext cx="1033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百合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3965040" y="1295280"/>
            <a:ext cx="6069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梅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4230720" y="1143000"/>
            <a:ext cx="10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海棠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0" y="342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说说她们都有些什么值得我们学习的品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1216502cac1g215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5886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3544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作业布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、积累与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出加点字注音错误的一项并改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迸溅（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ｎ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伫立（ｚｈ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ù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沉淀（ｄｉ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à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ｎ）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伶仃（ｔ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ī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ｎ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错误的是（    ）项，正确的读音是（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出每组中有错别字的一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浅紫      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抚摸    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遮住    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遗撼      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笼罩      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繁蜜    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琼浆    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喜悦      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③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瀑布      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瑞    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迸溅    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蜂围      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④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蝶阵      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盛开    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最嫩    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贮立      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0" y="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根据下面各句意思写出相应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观察别人的说话、脸色，揣度其心意。    （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形容孤独没有依靠。                    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长时间的站立。                        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忍不住笑。                            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爆发，往外溅散。                      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辉灿烂，也用来形容有显著成绩。      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下列句子没有运用拟人修辞手法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只是深深浅浅的紫，仿佛在流动，在欢笑，在不停地生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每一朵盛开的花又像一个忍俊不禁的笑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它依傍一株枯槐爬得很高，但花朵从来都稀落，东一穗西一串伶仃地挂在树梢，好像在试探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D.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在开花！”它们在笑。“我在开花！”它们嚷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216502cac1g215"/>
          <p:cNvPicPr/>
          <p:nvPr/>
        </p:nvPicPr>
        <p:blipFill>
          <a:blip r:embed="rId1"/>
          <a:stretch/>
        </p:blipFill>
        <p:spPr>
          <a:xfrm>
            <a:off x="1798560" y="1600200"/>
            <a:ext cx="5592960" cy="3600360"/>
          </a:xfrm>
          <a:prstGeom prst="rect">
            <a:avLst/>
          </a:prstGeom>
          <a:ln w="0">
            <a:noFill/>
          </a:ln>
        </p:spPr>
      </p:pic>
      <p:sp>
        <p:nvSpPr>
          <p:cNvPr id="120" name="矩形 36870"/>
          <p:cNvSpPr txBox="1"/>
          <p:nvPr/>
        </p:nvSpPr>
        <p:spPr>
          <a:xfrm>
            <a:off x="-380880" y="838080"/>
            <a:ext cx="85341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衷心感谢领导、专家、同仁光临</a:t>
            </a:r>
            <a:endParaRPr b="0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21" name="矩形 36872"/>
          <p:cNvSpPr txBox="1"/>
          <p:nvPr/>
        </p:nvSpPr>
        <p:spPr>
          <a:xfrm>
            <a:off x="6781680" y="4724280"/>
            <a:ext cx="20574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2227680" y="0"/>
            <a:ext cx="667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隶书"/>
                <a:ea typeface="隶书"/>
              </a:rPr>
              <a:t>作者徘徊于庭院中，见一树盛开的紫藤萝花，睹物释怀，由花儿自衰到盛感悟到生的美好和生命的永恒，于是写成此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" descr="126ecb87681g214.jpg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216502cac1g215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588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3544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作者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作者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e10909944_12d7aa3624ag213"/>
          <p:cNvPicPr/>
          <p:nvPr/>
        </p:nvPicPr>
        <p:blipFill>
          <a:blip r:embed="rId1"/>
          <a:stretch/>
        </p:blipFill>
        <p:spPr>
          <a:xfrm>
            <a:off x="0" y="2484360"/>
            <a:ext cx="5867280" cy="4373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6019920" y="380880"/>
            <a:ext cx="3124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宗璞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1927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原名冯宗璞，当代女作家，为著名哲学家、哲学史家冯友兰之女。其小说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弦上的梦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978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年获全国优秀短篇小说奖，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三生石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获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977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978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年全国优秀中篇小说奖；另创作了大量游记、散文，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西湖漫笔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紫藤萝瀑布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丁香结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水仙辞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三松堂断忆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等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其文笔清雅脱俗，温馨自然，充满了情趣、理趣和文化气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216502cac1g215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5886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33544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朗读感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ic_128590"/>
          <p:cNvPicPr/>
          <p:nvPr/>
        </p:nvPicPr>
        <p:blipFill>
          <a:blip r:embed="rId1"/>
          <a:stretch/>
        </p:blipFill>
        <p:spPr>
          <a:xfrm>
            <a:off x="4419720" y="0"/>
            <a:ext cx="44323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W020100825355147954518"/>
          <p:cNvPicPr/>
          <p:nvPr/>
        </p:nvPicPr>
        <p:blipFill>
          <a:blip r:embed="rId2"/>
          <a:stretch/>
        </p:blipFill>
        <p:spPr>
          <a:xfrm>
            <a:off x="0" y="0"/>
            <a:ext cx="45100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zxxk2005825185529003.mp3" descr=""/>
          <p:cNvPicPr/>
          <p:nvPr/>
        </p:nvPicPr>
        <p:blipFill>
          <a:blip r:embed="rId3"/>
          <a:stretch/>
        </p:blipFill>
        <p:spPr>
          <a:xfrm>
            <a:off x="88390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1902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pic_128592"/>
          <p:cNvPicPr/>
          <p:nvPr/>
        </p:nvPicPr>
        <p:blipFill>
          <a:blip r:embed="rId1"/>
          <a:stretch/>
        </p:blipFill>
        <p:spPr>
          <a:xfrm>
            <a:off x="4632480" y="0"/>
            <a:ext cx="45115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ic_128591"/>
          <p:cNvPicPr/>
          <p:nvPr/>
        </p:nvPicPr>
        <p:blipFill>
          <a:blip r:embed="rId2"/>
          <a:stretch/>
        </p:blipFill>
        <p:spPr>
          <a:xfrm>
            <a:off x="0" y="0"/>
            <a:ext cx="451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6:22:14Z</dcterms:created>
  <dc:creator/>
  <dc:description/>
  <dc:language>en-US</dc:language>
  <cp:lastModifiedBy>admin</cp:lastModifiedBy>
  <dcterms:modified xsi:type="dcterms:W3CDTF">2019-04-02T06:22:2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  <property fmtid="{D5CDD505-2E9C-101B-9397-08002B2CF9AE}" pid="3" name="Version">
    <vt:r8>1</vt:r8>
  </property>
</Properties>
</file>