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160-C9AE-4C06-A16A-19D8A3DE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EF7-3D72-4B2B-B08C-FDC8CADF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BB1-44A6-477A-8935-8374BBF3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012-E60A-42EA-9C6C-A33EA69C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E12E-814C-49CA-B1DF-8BD8D417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EE09-E79F-4B7E-A768-D752858F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0AF9-B103-46F0-8DF7-20619825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F339-7E01-468A-B196-82F38CC6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D8E7-A755-4DF3-B2E4-EABF6DC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3932-4EAA-4D7D-AC2D-FCC23EE4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AD5A-D5CC-4521-8328-114F388C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5DF-0C68-4655-B614-57535AE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633C-40D1-4409-A000-9C9A3251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5933-794B-4EA2-8019-59188205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92BA-BFCF-4145-816C-703771A9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127B-AE44-4207-A039-2B34A357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78EF-DE2B-4537-B8B3-5A879B64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CC82-ECC7-42C3-AF78-4ABD8D99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14E8-8901-4E5D-A99A-B72E0D05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183C-8E2E-4725-9CE3-9BEC723B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3DE8-649F-47F1-AA52-5ECB679F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5C12-2593-4DA8-884B-F25DC709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263-E7B0-41B8-80EC-07B4F918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3ABF-92F4-45C7-8307-E14FF246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1692-0BF3-4378-90FB-52BEE11A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BA41-045D-4F7B-9CBF-996261C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F480-CEA5-405F-B6D5-7A1BAB35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DFD4-8CD2-408E-96BB-DC94F869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9707-6CDF-4CCD-8F79-F0843B99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3D73-9BFB-48C7-8457-11283021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CB32-C830-4C5E-B1A4-A3D7BBB2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1B21-41CF-415A-9563-13D8541E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F597-FF2E-4068-BAEC-6D55050C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858-B8F7-4331-884C-97F32448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679B-4D79-4C7D-B696-AF56C1EC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ED80-89BD-4A22-9983-7CD03FA6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085D-0F8E-4885-9DC4-100B5884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5697A-E2F0-423B-9910-D1A20AC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E769-B999-4EF9-8D9C-68C29DE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931A4-D259-4075-AB83-89AA8F9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986F6-3415-4FAB-89FA-8A4FF16A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547E2-40CA-44E6-97A2-7D4493AE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E3F9-0E61-4422-B882-116D5402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AE74D-0C92-4E0D-B88F-D064D96D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3C2-BFF2-4E2C-8C1B-0EE95A75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2D1D-F711-4D31-B971-2597D75F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DDBD8-F6F7-4109-B031-BF97B3BB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295D-6395-410E-89D5-EDCEEB1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62C87-AE4A-4AE7-94EC-9610D1F6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D961-1D3E-4B2A-95A4-A34A8C71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6619-23D5-4E40-8036-D600D9A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F893-228B-4559-B350-C178129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944B7-C1C7-4329-BCA1-BBB6461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4AA4-8F2D-400D-B6F2-5DAA6AED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02A62-3AD7-4A61-BF6E-2B0CF2C3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3F3-7B21-42D2-8D3C-E3A83CD6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59982-F5A6-4CB1-9ACD-5862E20C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D0D41-E5FF-4EFD-9125-E02800A5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C1E9A-DA68-4302-A5CD-CD78DD67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DD314-60F2-42A9-9C33-1919706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38E4D-C66D-447E-A2DB-A6BEB520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E056-6EFF-45CC-B4FC-9B333101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AF31-00DD-4101-9EE6-86F1BA9A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CE5D4-4310-47FE-BF51-C9B591BE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291AC-0406-43FD-8A2B-CAE21FB2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396B6-EC27-49DA-B058-85B8CE89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5AF-0DD8-47BC-9A6A-0A7BB8D7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F8DE-26D1-44FF-96FB-0D83DE40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DF494-D2CD-4B7D-BC01-1BEB0C3D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A4BF-B6C5-4B7B-9563-E6111BFF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927CB-7A89-4EDE-8D53-841EB1D7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87DDF-30B0-4429-9F3C-F34A0A5F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BB4D6-FDB2-4986-B283-0E342F57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29A1-0690-4F84-97AD-7844008D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1C483-A0BF-4FAB-8852-4476BFC9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007CE-BC2C-4B3C-A54E-24F21B06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A23D-4AA2-4A53-B159-776043B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82A-26E2-4B03-AD34-9F0CFB7B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24D84-3E48-4B09-B112-4D6DCBA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9372E-FE1C-4EB3-AB8C-40B90F2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A4163-DAB5-4662-BAC0-6DFBB07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2BED5-68FB-46C9-815A-5E6B6625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C3DA-570C-472C-9DB5-CED432B3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1834E-25B2-48DD-A6E6-ADFC3F97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BBEE7-391E-41AF-8D12-A126A8D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B8020-4647-4B77-A6CE-63791202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0CE93-FC53-49D3-A07F-864E7791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F3E4F-EACE-443A-8DB1-680CF914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032-7A37-4C57-9221-FB7B7644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531DE-1D14-4B00-BCF3-A69B7D79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EF3E1-5E39-4736-9882-1AEEAF0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00B6-574A-4FD7-8C95-9A963946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94B58-3456-4127-A91B-50DAE56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A11C1-F385-4E73-B58E-CEE34D23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4AC52-76C9-44B4-8F46-DBE28A59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FA6D8-67C3-4D52-ADCC-205891B1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924C-3E27-4D5B-B63D-790F2889EDD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9E3B-FC63-44B0-A1DF-53B21A61AAB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3952-9B95-4C30-8B3C-4A77C2B2254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6296-0D97-46DE-BAF2-F604719A07F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D210-4E52-40A4-8756-EC8511275F6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4295-4230-4CB0-AF13-E04BA8B8B3D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145-17E2-4311-883D-7047D338FAF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4CAE-6FBD-484C-8E40-8E862ADF056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1" descr=""/>
          <p:cNvPicPr/>
          <p:nvPr/>
        </p:nvPicPr>
        <p:blipFill>
          <a:blip r:embed="rId1"/>
          <a:srcRect l="0" t="5015" r="0" b="40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126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太空中理家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547640" y="386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杰瑞</a:t>
            </a:r>
            <a:r>
              <a:rPr b="0" lang="en-US" sz="4400" spc="-1" strike="noStrike">
                <a:solidFill>
                  <a:srgbClr val="ffffff"/>
                </a:solidFill>
                <a:latin typeface="宋体"/>
                <a:ea typeface="隶书"/>
              </a:rPr>
              <a:t>·</a:t>
            </a:r>
            <a:r>
              <a:rPr b="0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宋体"/>
                <a:ea typeface="隶书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利宁杰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9"/>
          <p:cNvSpPr/>
          <p:nvPr/>
        </p:nvSpPr>
        <p:spPr>
          <a:xfrm>
            <a:off x="3913200" y="1989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1299960" y="1752480"/>
            <a:ext cx="72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华文细黑"/>
              </a:rPr>
              <a:t>太空生活非寻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7090920" y="1752480"/>
            <a:ext cx="72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华文细黑"/>
              </a:rPr>
              <a:t>苦乐几多细思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900000" y="549360"/>
            <a:ext cx="16858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读一读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90" name="Picture 6" descr="宇航生活3"/>
          <p:cNvPicPr/>
          <p:nvPr/>
        </p:nvPicPr>
        <p:blipFill>
          <a:blip r:embed="rId1"/>
          <a:stretch/>
        </p:blipFill>
        <p:spPr>
          <a:xfrm>
            <a:off x="2268360" y="1484280"/>
            <a:ext cx="4368960" cy="4903920"/>
          </a:xfrm>
          <a:prstGeom prst="rect">
            <a:avLst/>
          </a:prstGeom>
          <a:ln w="0">
            <a:noFill/>
          </a:ln>
        </p:spPr>
      </p:pic>
      <p:pic>
        <p:nvPicPr>
          <p:cNvPr id="391" name="xingkong.mp3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685800" y="190512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cc0099"/>
                </a:solidFill>
                <a:latin typeface="华文行楷"/>
                <a:ea typeface="华文行楷"/>
              </a:rPr>
              <a:t>、作者从哪些方面叙述他在太          空中理家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cc0099"/>
                </a:solidFill>
                <a:latin typeface="华文行楷"/>
                <a:ea typeface="华文行楷"/>
              </a:rPr>
              <a:t>、在太空中生活与地球上有什么不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cc0099"/>
                </a:solidFill>
                <a:latin typeface="华文行楷"/>
                <a:ea typeface="华文行楷"/>
              </a:rPr>
              <a:t>、同学们设想一下，在这样的太空生活是什么感觉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WordArt 3"/>
          <p:cNvSpPr txBox="1"/>
          <p:nvPr/>
        </p:nvSpPr>
        <p:spPr>
          <a:xfrm>
            <a:off x="685800" y="838080"/>
            <a:ext cx="1685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想一想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43000" y="1295280"/>
            <a:ext cx="775008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1b6fd"/>
                </a:solidFill>
                <a:latin typeface="Candara"/>
                <a:ea typeface="隶书"/>
              </a:rPr>
              <a:t>   </a:t>
            </a: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584d3"/>
                </a:solidFill>
                <a:latin typeface="华文细黑"/>
                <a:ea typeface="华文细黑"/>
              </a:rPr>
              <a:t>       </a:t>
            </a:r>
            <a:r>
              <a:rPr b="0" lang="zh-CN" sz="3600" spc="-1" strike="noStrike">
                <a:solidFill>
                  <a:srgbClr val="4584d3"/>
                </a:solidFill>
                <a:latin typeface="华文细黑"/>
                <a:ea typeface="华文细黑"/>
              </a:rPr>
              <a:t>用下列句式</a:t>
            </a:r>
            <a:r>
              <a:rPr b="0" lang="zh-CN" sz="3600" spc="-1" strike="noStrike">
                <a:solidFill>
                  <a:srgbClr val="ff3300"/>
                </a:solidFill>
                <a:latin typeface="Verdana"/>
                <a:ea typeface="方正舒体"/>
              </a:rPr>
              <a:t>“</a:t>
            </a: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从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方正舒体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看到航天人的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方正舒体"/>
                <a:ea typeface="方正舒体"/>
              </a:rPr>
              <a:t>           </a:t>
            </a: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。</a:t>
            </a:r>
            <a:r>
              <a:rPr b="0" lang="zh-CN" sz="3600" spc="-1" strike="noStrike">
                <a:solidFill>
                  <a:srgbClr val="ff3300"/>
                </a:solidFill>
                <a:latin typeface="Verdana"/>
                <a:ea typeface="方正舒体"/>
              </a:rPr>
              <a:t>”</a:t>
            </a:r>
            <a:r>
              <a:rPr b="0" lang="zh-CN" sz="3600" spc="-1" strike="noStrike">
                <a:solidFill>
                  <a:srgbClr val="4584d3"/>
                </a:solidFill>
                <a:latin typeface="华文细黑"/>
                <a:ea typeface="华文细黑"/>
              </a:rPr>
              <a:t>说话  </a:t>
            </a:r>
            <a:r>
              <a:rPr b="0" lang="en-US" sz="4000" spc="-1" strike="noStrike">
                <a:solidFill>
                  <a:srgbClr val="4584d3"/>
                </a:solidFill>
                <a:latin typeface="华文行楷"/>
                <a:ea typeface="华文行楷"/>
              </a:rPr>
              <a:t>(</a:t>
            </a:r>
            <a:r>
              <a:rPr b="0" lang="zh-CN" sz="4000" spc="-1" strike="noStrike">
                <a:solidFill>
                  <a:srgbClr val="4584d3"/>
                </a:solidFill>
                <a:latin typeface="华文行楷"/>
                <a:ea typeface="华文行楷"/>
              </a:rPr>
              <a:t>提示：可从文章主题、内容、语言、情感 等多角度 思考</a:t>
            </a:r>
            <a:r>
              <a:rPr b="0" lang="en-US" sz="4000" spc="-1" strike="noStrike">
                <a:solidFill>
                  <a:srgbClr val="4584d3"/>
                </a:solidFill>
                <a:latin typeface="华文行楷"/>
                <a:ea typeface="华文行楷"/>
              </a:rPr>
              <a:t>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584d3"/>
                </a:solidFill>
                <a:latin typeface="华文细黑"/>
                <a:ea typeface="华文细黑"/>
              </a:rPr>
              <a:t>  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584d3"/>
                </a:solidFill>
                <a:latin typeface="华文细黑"/>
                <a:ea typeface="华文细黑"/>
              </a:rPr>
              <a:t>    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WordArt 3"/>
          <p:cNvSpPr txBox="1"/>
          <p:nvPr/>
        </p:nvSpPr>
        <p:spPr>
          <a:xfrm>
            <a:off x="1143000" y="669960"/>
            <a:ext cx="1828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说一说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96" name="Picture 4" descr="4"/>
          <p:cNvPicPr/>
          <p:nvPr/>
        </p:nvPicPr>
        <p:blipFill>
          <a:blip r:embed="rId1"/>
          <a:stretch/>
        </p:blipFill>
        <p:spPr>
          <a:xfrm>
            <a:off x="1476360" y="4495680"/>
            <a:ext cx="758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u=3218439465,4095175125&amp;gp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3"/>
          <p:cNvSpPr/>
          <p:nvPr/>
        </p:nvSpPr>
        <p:spPr>
          <a:xfrm>
            <a:off x="2819520" y="14479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276720" y="1752480"/>
            <a:ext cx="1523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吃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跑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长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穿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洗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睡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2895480" y="198108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82880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分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676520" y="838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总说</a:t>
            </a: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自己花了将近一个月的时间才完全适应太空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752480" y="57913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总结</a:t>
            </a: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作为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前线的冒险者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ffff66"/>
                </a:solidFill>
                <a:latin typeface="方正舒体"/>
                <a:ea typeface="方正舒体"/>
              </a:rPr>
              <a:t>必须作出牺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1066680" y="1143000"/>
            <a:ext cx="685800" cy="49528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333360" y="1447920"/>
            <a:ext cx="733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28440" y="1828800"/>
            <a:ext cx="73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-499680" y="1600200"/>
            <a:ext cx="164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华文行楷"/>
                <a:ea typeface="华文行楷"/>
              </a:rPr>
              <a:t>在太空中理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5791320" y="1447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方正姚体"/>
                <a:ea typeface="方正姚体"/>
              </a:rPr>
              <a:t>冒险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方正姚体"/>
                <a:ea typeface="方正姚体"/>
              </a:rPr>
              <a:t>探索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方正姚体"/>
                <a:ea typeface="方正姚体"/>
              </a:rPr>
              <a:t>奉献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方正姚体"/>
                <a:ea typeface="方正姚体"/>
              </a:rPr>
              <a:t>牺牲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方正姚体"/>
                <a:ea typeface="方正姚体"/>
              </a:rPr>
              <a:t>无畏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方正姚体"/>
                <a:ea typeface="方正姚体"/>
              </a:rPr>
              <a:t>乐观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4"/>
          <p:cNvSpPr/>
          <p:nvPr/>
        </p:nvSpPr>
        <p:spPr>
          <a:xfrm>
            <a:off x="2286000" y="4191120"/>
            <a:ext cx="0" cy="1600200"/>
          </a:xfrm>
          <a:prstGeom prst="line">
            <a:avLst/>
          </a:prstGeom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5"/>
          <p:cNvSpPr/>
          <p:nvPr/>
        </p:nvSpPr>
        <p:spPr>
          <a:xfrm>
            <a:off x="2286000" y="2057400"/>
            <a:ext cx="0" cy="1295280"/>
          </a:xfrm>
          <a:prstGeom prst="line">
            <a:avLst/>
          </a:prstGeom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55280" y="184464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ndara"/>
              </a:rPr>
              <a:t>  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“</a:t>
            </a:r>
            <a:r>
              <a:rPr b="0" lang="zh-CN" sz="29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毕竟是在前线的冒险者。我们  忙得根本无暇顾及自己看上去怎样或者闻起来怎样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”</a:t>
            </a:r>
            <a:r>
              <a:rPr b="0" lang="zh-CN" sz="29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以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“</a:t>
            </a:r>
            <a:r>
              <a:rPr b="0" lang="zh-CN" sz="2900" spc="-1" strike="noStrike">
                <a:solidFill>
                  <a:srgbClr val="000000"/>
                </a:solidFill>
                <a:latin typeface="方正姚体"/>
                <a:ea typeface="方正姚体"/>
              </a:rPr>
              <a:t>宇航员精神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”</a:t>
            </a:r>
            <a:r>
              <a:rPr b="0" lang="zh-CN" sz="29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话题发表自己的感想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ndara"/>
              </a:rPr>
              <a:t> 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143000" y="9144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宇航员精神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——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成功的花，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人们只惊羡她现时的明艳</a:t>
            </a:r>
            <a:r>
              <a:rPr b="1" lang="en-US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!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然而当初她的芽儿，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浸透了奋斗的泪泉，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073e87"/>
                </a:solidFill>
                <a:latin typeface="华文新魏"/>
                <a:ea typeface="华文新魏"/>
              </a:rPr>
              <a:t>洒遍了牺牲的血雨。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"/>
                            </p:stCondLst>
                            <p:childTnLst>
                              <p:par>
                                <p:cTn id="8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"/>
                            </p:stCondLst>
                            <p:childTnLst>
                              <p:par>
                                <p:cTn id="9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400"/>
                            </p:stCondLst>
                            <p:childTnLst>
                              <p:par>
                                <p:cTn id="10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WordArt 3"/>
          <p:cNvSpPr txBox="1"/>
          <p:nvPr/>
        </p:nvSpPr>
        <p:spPr>
          <a:xfrm>
            <a:off x="179280" y="620640"/>
            <a:ext cx="8541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各位领导与教师的指导</a:t>
            </a:r>
            <a:endParaRPr b="0" lang="en-US" sz="4800" spc="1" strike="noStrike">
              <a:ln w="9360">
                <a:solidFill>
                  <a:srgbClr val="808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16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WordArt 5"/>
          <p:cNvSpPr txBox="1"/>
          <p:nvPr/>
        </p:nvSpPr>
        <p:spPr>
          <a:xfrm>
            <a:off x="468360" y="907920"/>
            <a:ext cx="535284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畅想科学，放眼未来</a:t>
            </a:r>
            <a:endParaRPr b="0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53880" y="2276640"/>
            <a:ext cx="3780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请把你了解到的“神舟”飞船的一些情况写一篇小短文，当然如果能对“神七”“神八”的未来作一些展望肯定会大受欢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WordArt 3"/>
          <p:cNvSpPr txBox="1"/>
          <p:nvPr/>
        </p:nvSpPr>
        <p:spPr>
          <a:xfrm>
            <a:off x="179280" y="620640"/>
            <a:ext cx="8541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各位领导与教师的指导</a:t>
            </a:r>
            <a:endParaRPr b="0" lang="en-US" sz="4800" spc="1" strike="noStrike">
              <a:ln w="9360">
                <a:solidFill>
                  <a:srgbClr val="808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21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WordArt 5"/>
          <p:cNvSpPr txBox="1"/>
          <p:nvPr/>
        </p:nvSpPr>
        <p:spPr>
          <a:xfrm>
            <a:off x="611280" y="1773360"/>
            <a:ext cx="7489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谢谢大家，再见</a:t>
            </a:r>
            <a:endParaRPr b="1" lang="en-US" sz="5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0:44:35Z</dcterms:created>
  <dc:creator/>
  <dc:description>第一PPT模板网-WWW.1PPT.COM
</dc:description>
  <dc:language>en-US</dc:language>
  <cp:lastModifiedBy>Administrator</cp:lastModifiedBy>
  <dcterms:modified xsi:type="dcterms:W3CDTF">2017-07-31T01:56:49Z</dcterms:modified>
  <cp:revision>50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