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7.gif" ContentType="image/gif"/>
  <Override PartName="/ppt/media/image11.jpeg" ContentType="image/jpeg"/>
  <Override PartName="/ppt/media/image6.jpeg" ContentType="image/jpeg"/>
  <Override PartName="/ppt/media/glass.wav" ContentType="audio/x-wav"/>
  <Override PartName="/ppt/media/image9.png" ContentType="image/png"/>
  <Override PartName="/ppt/media/image22.png" ContentType="image/png"/>
  <Override PartName="/ppt/media/image1.jpeg" ContentType="image/jpeg"/>
  <Override PartName="/ppt/media/image21.gif" ContentType="image/gif"/>
  <Override PartName="/ppt/media/image20.png" ContentType="image/png"/>
  <Override PartName="/ppt/media/image2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drumroll.wav" ContentType="audio/x-wav"/>
  <Override PartName="/ppt/media/image15.jpeg" ContentType="image/jpeg"/>
  <Override PartName="/ppt/media/image4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1F9-3C6B-484A-B02C-BF5175D3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80A-B97A-4A0D-BD32-CA1E7474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D64-643D-496A-B048-2FF49A2E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4C0-22A1-43F5-A55D-46CF6479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933-2509-4386-A4D3-7BAB0A46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5FB-A68E-4112-8E80-8C1955A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598-CF38-47CB-9D9C-DA6FEC06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969-7A5C-4BCB-8C56-6DE38BB3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3C0-49E1-423F-8BAA-6F702BA7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85F-93D9-4CD9-BED0-C25EA04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A2F-C888-43D4-B1DF-AA712DC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C88-1B57-4160-A688-344721D7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EB14-8213-4EB2-B5FE-9E0860EB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drumroll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rcRect l="0" t="5185" r="0" b="4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太空中理家</a:t>
            </a: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419640" y="198864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杰瑞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·M ·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利宁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太空图片\穿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:\太空图片\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5"/>
          <p:cNvSpPr/>
          <p:nvPr/>
        </p:nvSpPr>
        <p:spPr>
          <a:xfrm>
            <a:off x="4114800" y="6477120"/>
            <a:ext cx="457200" cy="38088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6" descr="D:\太空图片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6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7" descr="D:\太空图片\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28" descr="D:\太空图片\吃.jp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29"/>
          <p:cNvSpPr/>
          <p:nvPr/>
        </p:nvSpPr>
        <p:spPr>
          <a:xfrm>
            <a:off x="8153280" y="6629400"/>
            <a:ext cx="6667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7" descr="D:\太空图片\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028"/>
          <p:cNvSpPr/>
          <p:nvPr/>
        </p:nvSpPr>
        <p:spPr>
          <a:xfrm>
            <a:off x="8153280" y="6477120"/>
            <a:ext cx="685800" cy="15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143000" y="20574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0880" y="4572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宋体"/>
              </a:rPr>
              <a:t>拓展知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4920" y="15238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宋体"/>
              </a:rPr>
              <a:t>结合文章有关的事理解说，谈谈你们学到了哪些科学知识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80880" y="2895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宋体"/>
              </a:rPr>
              <a:t>太空无地心引力，无压力，容易失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57200" y="401940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宋体"/>
              </a:rPr>
              <a:t>吃流质，肌肉缺乏锻炼，容易骨质疏松，肌肉萎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D:\黄履斌\图片\Q_020.gif"/>
          <p:cNvPicPr/>
          <p:nvPr/>
        </p:nvPicPr>
        <p:blipFill>
          <a:blip r:embed="rId1"/>
          <a:stretch/>
        </p:blipFill>
        <p:spPr>
          <a:xfrm>
            <a:off x="7772400" y="60948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C:\Documents and Settings\Administrator\桌面\My Pictures\6.gif"/>
          <p:cNvPicPr/>
          <p:nvPr/>
        </p:nvPicPr>
        <p:blipFill>
          <a:blip r:embed="rId2"/>
          <a:stretch/>
        </p:blipFill>
        <p:spPr>
          <a:xfrm>
            <a:off x="7620120" y="5292720"/>
            <a:ext cx="1279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26"/>
          <p:cNvSpPr/>
          <p:nvPr/>
        </p:nvSpPr>
        <p:spPr>
          <a:xfrm>
            <a:off x="380880" y="190512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心（       ）          沮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丧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   ）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丧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事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7"/>
          <p:cNvSpPr/>
          <p:nvPr/>
        </p:nvSpPr>
        <p:spPr>
          <a:xfrm>
            <a:off x="609480" y="3657600"/>
            <a:ext cx="75438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奋（        ）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合剂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旺（       ）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刀片上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9"/>
          <p:cNvSpPr/>
          <p:nvPr/>
        </p:nvSpPr>
        <p:spPr>
          <a:xfrm>
            <a:off x="304920" y="10666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给红色的字注音，注意辨别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030"/>
          <p:cNvSpPr/>
          <p:nvPr/>
        </p:nvSpPr>
        <p:spPr>
          <a:xfrm>
            <a:off x="380880" y="2133720"/>
            <a:ext cx="152640" cy="99036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031"/>
          <p:cNvSpPr/>
          <p:nvPr/>
        </p:nvSpPr>
        <p:spPr>
          <a:xfrm>
            <a:off x="3962520" y="21337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33"/>
          <p:cNvSpPr/>
          <p:nvPr/>
        </p:nvSpPr>
        <p:spPr>
          <a:xfrm>
            <a:off x="457200" y="39625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034"/>
          <p:cNvSpPr/>
          <p:nvPr/>
        </p:nvSpPr>
        <p:spPr>
          <a:xfrm>
            <a:off x="3962520" y="39625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36"/>
          <p:cNvSpPr/>
          <p:nvPr/>
        </p:nvSpPr>
        <p:spPr>
          <a:xfrm>
            <a:off x="1905120" y="1828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37"/>
          <p:cNvSpPr/>
          <p:nvPr/>
        </p:nvSpPr>
        <p:spPr>
          <a:xfrm>
            <a:off x="1905120" y="2666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38"/>
          <p:cNvSpPr/>
          <p:nvPr/>
        </p:nvSpPr>
        <p:spPr>
          <a:xfrm>
            <a:off x="5638680" y="1828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9"/>
          <p:cNvSpPr/>
          <p:nvPr/>
        </p:nvSpPr>
        <p:spPr>
          <a:xfrm>
            <a:off x="5562720" y="2666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ā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40"/>
          <p:cNvSpPr/>
          <p:nvPr/>
        </p:nvSpPr>
        <p:spPr>
          <a:xfrm>
            <a:off x="1981080" y="3657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xì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41"/>
          <p:cNvSpPr/>
          <p:nvPr/>
        </p:nvSpPr>
        <p:spPr>
          <a:xfrm>
            <a:off x="2057400" y="4419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xī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42"/>
          <p:cNvSpPr/>
          <p:nvPr/>
        </p:nvSpPr>
        <p:spPr>
          <a:xfrm>
            <a:off x="601992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ni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43"/>
          <p:cNvSpPr/>
          <p:nvPr/>
        </p:nvSpPr>
        <p:spPr>
          <a:xfrm>
            <a:off x="70866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zh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44"/>
          <p:cNvSpPr/>
          <p:nvPr/>
        </p:nvSpPr>
        <p:spPr>
          <a:xfrm>
            <a:off x="304920" y="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课堂测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45" descr="C:\Documents and Settings\Administrator\桌面\My Pictures\7.gif"/>
          <p:cNvPicPr/>
          <p:nvPr/>
        </p:nvPicPr>
        <p:blipFill>
          <a:blip r:embed="rId1"/>
          <a:stretch/>
        </p:blipFill>
        <p:spPr>
          <a:xfrm>
            <a:off x="6750000" y="477720"/>
            <a:ext cx="23623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026"/>
          <p:cNvSpPr/>
          <p:nvPr/>
        </p:nvSpPr>
        <p:spPr>
          <a:xfrm>
            <a:off x="826920" y="1936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根据课文填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28"/>
          <p:cNvSpPr/>
          <p:nvPr/>
        </p:nvSpPr>
        <p:spPr>
          <a:xfrm>
            <a:off x="304920" y="1219320"/>
            <a:ext cx="883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尽管在太空中（      ）时，但没有重力的（       ），跑步不用费力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有时候跑步是一种（       ）的欢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在太空中跑步时，我真的达到了（       ）的程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29"/>
          <p:cNvSpPr/>
          <p:nvPr/>
        </p:nvSpPr>
        <p:spPr>
          <a:xfrm>
            <a:off x="4191120" y="12193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漂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30"/>
          <p:cNvSpPr/>
          <p:nvPr/>
        </p:nvSpPr>
        <p:spPr>
          <a:xfrm>
            <a:off x="12193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拖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31"/>
          <p:cNvSpPr/>
          <p:nvPr/>
        </p:nvSpPr>
        <p:spPr>
          <a:xfrm>
            <a:off x="51055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纯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784872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陶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5181480" y="0"/>
            <a:ext cx="3962520" cy="2057400"/>
          </a:xfrm>
          <a:prstGeom prst="cloudCallout">
            <a:avLst>
              <a:gd name="adj1" fmla="val 31810"/>
              <a:gd name="adj2" fmla="val 97453"/>
            </a:avLst>
          </a:prstGeom>
          <a:solidFill>
            <a:srgbClr val="c0c0c0">
              <a:alpha val="49000"/>
            </a:srgbClr>
          </a:solidFill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方正舒体"/>
              </a:rPr>
              <a:t>心比天高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!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女孩6"/>
          <p:cNvPicPr/>
          <p:nvPr/>
        </p:nvPicPr>
        <p:blipFill>
          <a:blip r:embed="rId1"/>
          <a:stretch/>
        </p:blipFill>
        <p:spPr>
          <a:xfrm>
            <a:off x="6781680" y="259092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304920" y="533520"/>
            <a:ext cx="4647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黑体"/>
                <a:ea typeface="黑体"/>
              </a:rPr>
              <a:t>拓展思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" y="1676520"/>
            <a:ext cx="44197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宋体"/>
              </a:rPr>
              <a:t>结合文章有关的事理解说，谈谈你们有哪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开发利用太空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想法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宋体"/>
              </a:rPr>
              <a:t>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294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Verdana, Arial, Helvetica, sans"/>
              </a:rPr>
              <a:t>《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Verdana, Arial, Helvetica, sans"/>
              </a:rPr>
              <a:t>太空漂流记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Verdana, Arial, Helvetica, sans"/>
              </a:rPr>
              <a:t>》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Verdana, Arial, Helvetica, sans"/>
              </a:rPr>
              <a:t>《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Verdana, Arial, Helvetica, sans"/>
              </a:rPr>
              <a:t>奔向太空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Verdana, Arial, Helvetica, sans"/>
              </a:rPr>
              <a:t>》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、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《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飞向人马座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》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、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《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从地球到月球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》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、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《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环绕月球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》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、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《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太阳系历险记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》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35053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推荐书目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066680"/>
            <a:ext cx="8534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Verdana, Arial, Helvetica, sans"/>
              </a:rPr>
              <a:t>《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Verdana, Arial, Helvetica, sans"/>
              </a:rPr>
              <a:t>太空站实录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Verdana, Arial, Helvetica, sans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《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美国“哥伦比亚号”升空爆炸实录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《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美国“挑战者号”升空爆炸实录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" y="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Verdana, Arial, Helvetica, sans"/>
              </a:rPr>
              <a:t>影视资源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C:\Documents and Settings\Administrator\桌面\My Pictures\15.gif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Documents and Settings\Administrator\My Documents\NewsMedia_1055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0" y="0"/>
            <a:ext cx="7620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96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日，尤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加加林少校乘坐东方号飞船在环绕地球飞行一圈之后，成功地返回地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标志着人类进入太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时代的开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33520" y="2921040"/>
            <a:ext cx="8610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26"/>
          <p:cNvSpPr/>
          <p:nvPr/>
        </p:nvSpPr>
        <p:spPr>
          <a:xfrm>
            <a:off x="0" y="380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96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日，阿波罗号飞船飞往月球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宇航员阿姆斯特朗成为人类踏上月球的第一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7" descr="D:\太空图片\1.jpg"/>
          <p:cNvPicPr/>
          <p:nvPr/>
        </p:nvPicPr>
        <p:blipFill>
          <a:blip r:embed="rId1"/>
          <a:stretch/>
        </p:blipFill>
        <p:spPr>
          <a:xfrm>
            <a:off x="3581280" y="0"/>
            <a:ext cx="51818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CABI05F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0" name="Text Box 1027"/>
          <p:cNvSpPr/>
          <p:nvPr/>
        </p:nvSpPr>
        <p:spPr>
          <a:xfrm>
            <a:off x="304920" y="380880"/>
            <a:ext cx="75438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8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世界第一架航天飞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美国“哥伦比亚”号发射成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8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苏联“和平”号空间站进入运行轨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人工太空基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空间站建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57200" y="304920"/>
            <a:ext cx="670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8600" y="19810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了解太空生活，感受宇航员的探索、牺牲精神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“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总”的结构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情况叙述与事理解说紧密结合的写法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E:\备用课件\专用动画\船类\B_023.gif"/>
          <p:cNvPicPr/>
          <p:nvPr/>
        </p:nvPicPr>
        <p:blipFill>
          <a:blip r:embed="rId1"/>
          <a:stretch/>
        </p:blipFill>
        <p:spPr>
          <a:xfrm>
            <a:off x="6477120" y="228600"/>
            <a:ext cx="23619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8" descr="01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26"/>
          <p:cNvSpPr/>
          <p:nvPr/>
        </p:nvSpPr>
        <p:spPr>
          <a:xfrm>
            <a:off x="304920" y="14479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997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年美国宇航员杰瑞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利宁杰，进入超期服役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和平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空间站。利宁杰在那里和俄罗斯宇航员共同经历了设备瘫痪、补给缺乏、供电中断、大火蔓延等险象环生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3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天，终于平安返回地球。利宁杰用第一人称，讲述了这个过程，写成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太空漂流记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和平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于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00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月结束使命，坠毁在南太平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29"/>
          <p:cNvSpPr/>
          <p:nvPr/>
        </p:nvSpPr>
        <p:spPr>
          <a:xfrm>
            <a:off x="3352680" y="2286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宋体"/>
              </a:rPr>
              <a:t>太空漂流记</a:t>
            </a:r>
            <a:r>
              <a:rPr b="0" lang="en-US" sz="5400" spc="-1" strike="noStrike">
                <a:solidFill>
                  <a:srgbClr val="ffffff"/>
                </a:solidFill>
                <a:latin typeface="宋体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0" y="1752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适应太空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28"/>
          <p:cNvSpPr/>
          <p:nvPr/>
        </p:nvSpPr>
        <p:spPr>
          <a:xfrm>
            <a:off x="297180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很不容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9"/>
          <p:cNvSpPr/>
          <p:nvPr/>
        </p:nvSpPr>
        <p:spPr>
          <a:xfrm>
            <a:off x="5410080" y="18288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差异之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0"/>
          <p:cNvSpPr/>
          <p:nvPr/>
        </p:nvSpPr>
        <p:spPr>
          <a:xfrm>
            <a:off x="0" y="2971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理家情况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-27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1"/>
          <p:cNvSpPr/>
          <p:nvPr/>
        </p:nvSpPr>
        <p:spPr>
          <a:xfrm>
            <a:off x="533520" y="0"/>
            <a:ext cx="7238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整体把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32"/>
          <p:cNvSpPr/>
          <p:nvPr/>
        </p:nvSpPr>
        <p:spPr>
          <a:xfrm>
            <a:off x="0" y="4343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体现精神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8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3"/>
          <p:cNvSpPr/>
          <p:nvPr/>
        </p:nvSpPr>
        <p:spPr>
          <a:xfrm>
            <a:off x="2895480" y="4295880"/>
            <a:ext cx="51818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探索、乐观、奉献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牺牲精神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4"/>
          <p:cNvSpPr/>
          <p:nvPr/>
        </p:nvSpPr>
        <p:spPr>
          <a:xfrm>
            <a:off x="8001000" y="1752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总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6"/>
          <p:cNvSpPr/>
          <p:nvPr/>
        </p:nvSpPr>
        <p:spPr>
          <a:xfrm>
            <a:off x="8153280" y="4343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7"/>
          <p:cNvSpPr/>
          <p:nvPr/>
        </p:nvSpPr>
        <p:spPr>
          <a:xfrm>
            <a:off x="807732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分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8"/>
          <p:cNvSpPr/>
          <p:nvPr/>
        </p:nvSpPr>
        <p:spPr>
          <a:xfrm>
            <a:off x="609480" y="1066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9"/>
          <p:cNvSpPr/>
          <p:nvPr/>
        </p:nvSpPr>
        <p:spPr>
          <a:xfrm>
            <a:off x="7543800" y="1066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040"/>
          <p:cNvSpPr/>
          <p:nvPr/>
        </p:nvSpPr>
        <p:spPr>
          <a:xfrm>
            <a:off x="1143000" y="2514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041"/>
          <p:cNvSpPr/>
          <p:nvPr/>
        </p:nvSpPr>
        <p:spPr>
          <a:xfrm>
            <a:off x="1219320" y="3657600"/>
            <a:ext cx="228600" cy="533520"/>
          </a:xfrm>
          <a:prstGeom prst="downArrow">
            <a:avLst>
              <a:gd name="adj1" fmla="val 50000"/>
              <a:gd name="adj2" fmla="val 583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042"/>
          <p:cNvSpPr/>
          <p:nvPr/>
        </p:nvSpPr>
        <p:spPr>
          <a:xfrm>
            <a:off x="8229600" y="243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043"/>
          <p:cNvSpPr/>
          <p:nvPr/>
        </p:nvSpPr>
        <p:spPr>
          <a:xfrm>
            <a:off x="8305920" y="3657600"/>
            <a:ext cx="228600" cy="609480"/>
          </a:xfrm>
          <a:prstGeom prst="downArrow">
            <a:avLst>
              <a:gd name="adj1" fmla="val 50000"/>
              <a:gd name="adj2" fmla="val 666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45"/>
          <p:cNvSpPr/>
          <p:nvPr/>
        </p:nvSpPr>
        <p:spPr>
          <a:xfrm>
            <a:off x="3276720" y="2971800"/>
            <a:ext cx="1752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趣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48" descr="C:\Documents and Settings\Administrator\桌面\My Pictures\27_4200_92.gif"/>
          <p:cNvPicPr/>
          <p:nvPr/>
        </p:nvPicPr>
        <p:blipFill>
          <a:blip r:embed="rId2"/>
          <a:stretch/>
        </p:blipFill>
        <p:spPr>
          <a:xfrm>
            <a:off x="0" y="6172200"/>
            <a:ext cx="8305920" cy="44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50" descr="C:\Documents and Settings\Administrator\桌面\My Pictures\21.jpg"/>
          <p:cNvPicPr/>
          <p:nvPr/>
        </p:nvPicPr>
        <p:blipFill>
          <a:blip r:embed="rId3"/>
          <a:stretch/>
        </p:blipFill>
        <p:spPr>
          <a:xfrm>
            <a:off x="8305920" y="6172200"/>
            <a:ext cx="838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04920" y="0"/>
            <a:ext cx="7619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533520"/>
            <a:ext cx="8305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在太空中理家是指哪些方面呢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跑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-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3048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长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-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57200" y="3886200"/>
            <a:ext cx="3048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穿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-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33520" y="4800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沐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-2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09480" y="5715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睡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5-2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0" y="2438280"/>
            <a:ext cx="228600" cy="3810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9000 h 3810240"/>
              <a:gd name="textAreaBottom" fmla="*/ 371124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666880" y="2133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962520" y="2133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486400" y="2133720"/>
            <a:ext cx="2590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感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30481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581280" y="3048120"/>
            <a:ext cx="3353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不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2971800" y="3962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艰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048120" y="47242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洗澡、洗发、刷牙、刮胡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200400" y="57913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头脚倒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8410680" y="2057400"/>
            <a:ext cx="733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7" descr="C:\Documents and Settings\Administrator\桌面\My Pictures\CUTS_121.gif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524720" y="533520"/>
            <a:ext cx="1390680" cy="175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8" descr="C:\Documents and Settings\Administrator\桌面\My Pictures\%C4%D6%C4%D6%B6%B7%B5%D8%D6%F7.gif"/>
          <p:cNvPicPr/>
          <p:nvPr/>
        </p:nvPicPr>
        <p:blipFill>
          <a:blip r:embed="rId2"/>
          <a:stretch/>
        </p:blipFill>
        <p:spPr>
          <a:xfrm>
            <a:off x="7772400" y="57150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9">
            <a:hlinkClick r:id="" action="ppaction://hlinkshowjump?jump=nextslide"/>
          </p:cNvPr>
          <p:cNvSpPr/>
          <p:nvPr/>
        </p:nvSpPr>
        <p:spPr>
          <a:xfrm>
            <a:off x="6934320" y="2362320"/>
            <a:ext cx="304560" cy="30456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0"/>
          <p:cNvSpPr/>
          <p:nvPr/>
        </p:nvSpPr>
        <p:spPr>
          <a:xfrm>
            <a:off x="4800600" y="4038480"/>
            <a:ext cx="457200" cy="3049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1"/>
          <p:cNvSpPr/>
          <p:nvPr/>
        </p:nvSpPr>
        <p:spPr>
          <a:xfrm>
            <a:off x="8839080" y="4952880"/>
            <a:ext cx="3049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2"/>
          <p:cNvSpPr/>
          <p:nvPr/>
        </p:nvSpPr>
        <p:spPr>
          <a:xfrm>
            <a:off x="5410080" y="6019920"/>
            <a:ext cx="1526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8" descr="D:\太空图片\宇航生活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029">
            <a:hlinkClick r:id="" action="ppaction://hlinkshowjump?jump=previousslide"/>
          </p:cNvPr>
          <p:cNvSpPr/>
          <p:nvPr/>
        </p:nvSpPr>
        <p:spPr>
          <a:xfrm>
            <a:off x="0" y="6172200"/>
            <a:ext cx="685800" cy="6858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07:05:34Z</dcterms:created>
  <dc:creator/>
  <dc:description>第一PPT模板网-WWW.1PPT.COM
</dc:description>
  <dc:language>en-US</dc:language>
  <cp:lastModifiedBy>Administrator</cp:lastModifiedBy>
  <dcterms:modified xsi:type="dcterms:W3CDTF">2017-07-31T01:49:24Z</dcterms:modified>
  <cp:revision>53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