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3238-5375-4A97-99F2-D2CCC1236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9453-0576-4121-9EE3-166DC4691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0378-4A0F-40DE-8C8B-37E384DF8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CC89-E1EC-4214-8343-AD4AAE847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8F9F-59C3-40BD-AB70-BD3904CF8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DA06-5BFC-44B2-BF4F-788FA3071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E91D-7B21-494D-99E6-90960F830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1A7B-60D4-4B8D-9A33-223067C7F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0C32-075B-40C9-B029-A2C70F4B6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0D4E-24A7-470D-B9A0-85FC0AB5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587C-E24D-4AFF-B91D-7B6C6386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67C3-E88D-4FFB-813F-059172E7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44CAE-18DD-4F54-B215-334BF3042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1"/>
          <a:stretch/>
        </p:blipFill>
        <p:spPr>
          <a:xfrm>
            <a:off x="12600" y="0"/>
            <a:ext cx="91188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539640" y="4724280"/>
            <a:ext cx="8229600" cy="1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"/>
          </a:bodyPr>
          <a:p>
            <a:pPr marL="27360" indent="-2736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幼圆"/>
              </a:rPr>
              <a:t>杰 瑞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幼圆"/>
              </a:rPr>
              <a:t>﹒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幼圆"/>
              </a:rPr>
              <a:t>M﹒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幼圆"/>
              </a:rPr>
              <a:t>利 宁 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Rectangle 2" descr=""/>
          <p:cNvPicPr/>
          <p:nvPr/>
        </p:nvPicPr>
        <p:blipFill>
          <a:blip r:embed="rId2"/>
          <a:stretch/>
        </p:blipFill>
        <p:spPr>
          <a:xfrm>
            <a:off x="609480" y="1312920"/>
            <a:ext cx="82296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5e"/>
            </a:gs>
            <a:gs pos="50000">
              <a:srgbClr val="0033cc"/>
            </a:gs>
            <a:gs pos="100000">
              <a:srgbClr val="0018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全球航天事故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360" y="141264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● 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1967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年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月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24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日： 弗拉基米尔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·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科马罗夫驾驶着未完全建造好的“联盟号”升上太空。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24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小时后，因为返回地球着陆时主降落伞没有弹出来，他遇难身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● 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1971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年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月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29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日：前苏联的“联盟”号飞船与“礼炮”空间站对接飞行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24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天后， 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名宇航员返回地面在归途中因密封舱漏气，同时又未穿宇航服，结果他们静静地死在舱内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● 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1986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年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月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28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日：美国“挑战者”号航天飞机在升空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73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秒后爆炸，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7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名宇航员全部丧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● 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2003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年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月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日：“哥伦比亚”号航天飞机在原定降落时间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16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分钟前与地面控制中心失去联络，继而在得克萨斯州中部上空解体，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7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名宇航员无一生还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77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7" dur="77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9" dur="77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1" dur="77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3" dur="indefinite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77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6" dur="77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8" dur="77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0" dur="77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2" dur="indefinite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77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5" dur="77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7" dur="77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9" dur="77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77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4" dur="77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6" dur="77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8" dur="77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http://image2.sina.com.cn/dy/w/2003-02-07/1_1-1-21-50_2003020710358.jp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WordArt 5"/>
          <p:cNvSpPr txBox="1"/>
          <p:nvPr/>
        </p:nvSpPr>
        <p:spPr>
          <a:xfrm>
            <a:off x="468360" y="6021360"/>
            <a:ext cx="81374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黑体"/>
              </a:rPr>
              <a:t>“</a:t>
            </a:r>
            <a:r>
              <a:rPr b="1" lang="zh-CN" sz="18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黑体"/>
              </a:rPr>
              <a:t>哥伦比亚”号返航时解体，七名宇航员全部遇难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http://image2.sina.com.cn/dy/w/2003-02-05/1_1-1-21-508_2003020517592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WordArt 5"/>
          <p:cNvSpPr txBox="1"/>
          <p:nvPr/>
        </p:nvSpPr>
        <p:spPr>
          <a:xfrm>
            <a:off x="468360" y="6021360"/>
            <a:ext cx="81374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黑体"/>
              </a:rPr>
              <a:t>“</a:t>
            </a:r>
            <a:r>
              <a:rPr b="1" lang="zh-CN" sz="18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黑体"/>
              </a:rPr>
              <a:t>哥伦比亚”号遇难的七名宇航员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05" name="Picture 6" descr="http://image2.sina.com.cn/dy/w/2003-02-07/1_1-1-23-50_2003020710359.jp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http://image2.sina.com.cn/dy/w/2003-02-06/1_1-1-21-50_20030206948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u=3218439465,4095175125&amp;gp=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2819520" y="1447920"/>
            <a:ext cx="4114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3276720" y="1752480"/>
            <a:ext cx="15238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吃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跑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长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穿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洗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睡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8"/>
          <p:cNvSpPr/>
          <p:nvPr/>
        </p:nvSpPr>
        <p:spPr>
          <a:xfrm>
            <a:off x="2895480" y="1981080"/>
            <a:ext cx="381240" cy="3429000"/>
          </a:xfrm>
          <a:custGeom>
            <a:avLst/>
            <a:gdLst>
              <a:gd name="textAreaLeft" fmla="*/ 243720 w 381240"/>
              <a:gd name="textAreaRight" fmla="*/ 381600 w 38124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1828800" y="32767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华文中宋"/>
                <a:ea typeface="华文中宋"/>
              </a:rPr>
              <a:t>分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1676520" y="8380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华文中宋"/>
                <a:ea typeface="华文中宋"/>
              </a:rPr>
              <a:t>总说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花了近一个月时间才适应太空生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1752480" y="57913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华文中宋"/>
                <a:ea typeface="华文中宋"/>
              </a:rPr>
              <a:t>总结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作为冒险者必须作出牺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2"/>
          <p:cNvSpPr/>
          <p:nvPr/>
        </p:nvSpPr>
        <p:spPr>
          <a:xfrm>
            <a:off x="1066680" y="1143000"/>
            <a:ext cx="685800" cy="4952880"/>
          </a:xfrm>
          <a:custGeom>
            <a:avLst/>
            <a:gdLst>
              <a:gd name="textAreaLeft" fmla="*/ 438120 w 685800"/>
              <a:gd name="textAreaRight" fmla="*/ 686160 w 685800"/>
              <a:gd name="textAreaTop" fmla="*/ 128880 h 4952880"/>
              <a:gd name="textAreaBottom" fmla="*/ 4824000 h 4952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333360" y="1447920"/>
            <a:ext cx="733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28440" y="1828800"/>
            <a:ext cx="7336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5"/>
          <p:cNvSpPr/>
          <p:nvPr/>
        </p:nvSpPr>
        <p:spPr>
          <a:xfrm>
            <a:off x="-499680" y="1600200"/>
            <a:ext cx="164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33"/>
                </a:solidFill>
                <a:latin typeface="黑体"/>
                <a:ea typeface="黑体"/>
              </a:rPr>
              <a:t>在太空中理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6"/>
          <p:cNvSpPr/>
          <p:nvPr/>
        </p:nvSpPr>
        <p:spPr>
          <a:xfrm>
            <a:off x="5791320" y="1447920"/>
            <a:ext cx="2971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华文中宋"/>
                <a:ea typeface="华文中宋"/>
              </a:rPr>
              <a:t>冒险精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华文中宋"/>
                <a:ea typeface="华文中宋"/>
              </a:rPr>
              <a:t>探索精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华文中宋"/>
                <a:ea typeface="华文中宋"/>
              </a:rPr>
              <a:t>奉献精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华文中宋"/>
                <a:ea typeface="华文中宋"/>
              </a:rPr>
              <a:t>牺牲精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华文中宋"/>
                <a:ea typeface="华文中宋"/>
              </a:rPr>
              <a:t>无畏精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华文中宋"/>
                <a:ea typeface="华文中宋"/>
              </a:rPr>
              <a:t>乐观精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8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1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4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7" dur="2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0" dur="2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3" dur="2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7" descr="20043302214103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4"/>
          <p:cNvSpPr/>
          <p:nvPr/>
        </p:nvSpPr>
        <p:spPr>
          <a:xfrm>
            <a:off x="228600" y="38088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228600" y="1371600"/>
            <a:ext cx="8915400" cy="44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en-US" sz="4000" spc="-1" strike="noStrike">
                <a:solidFill>
                  <a:srgbClr val="ffffff"/>
                </a:solidFill>
                <a:latin typeface="华文中宋"/>
                <a:ea typeface="华文中宋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华文中宋"/>
                <a:ea typeface="华文中宋"/>
              </a:rPr>
              <a:t>文章不仅将我们带入了崇高的精神世界，也将我们引入到丰富的知识殿堂，结合文章有关的事理解说，谈谈你们从文中了解了哪些科学知识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中宋"/>
                <a:ea typeface="华文中宋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WordArt 8"/>
          <p:cNvSpPr txBox="1"/>
          <p:nvPr/>
        </p:nvSpPr>
        <p:spPr>
          <a:xfrm>
            <a:off x="1403280" y="404640"/>
            <a:ext cx="6408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99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黑体"/>
              </a:rPr>
              <a:t>读一读  找一找  说一说</a:t>
            </a:r>
            <a:endParaRPr b="1" lang="en-US" sz="1800" spc="-1" strike="noStrike">
              <a:ln w="0">
                <a:noFill/>
              </a:ln>
              <a:solidFill>
                <a:srgbClr val="ff99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3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8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lty20040403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5"/>
          <p:cNvSpPr/>
          <p:nvPr/>
        </p:nvSpPr>
        <p:spPr>
          <a:xfrm>
            <a:off x="900000" y="76500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中宋"/>
              </a:rPr>
              <a:t>太空无地心引力，无压力，容易失重，吃流质，肌肉缺乏锻炼，容易骨质疏松，肌肉萎缩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8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向最喜欢的航天员写一封信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诉说自己的心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隶书"/>
              </a:rPr>
              <a:t>中国航天员地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中宋"/>
              </a:rPr>
              <a:t>北京市海淀区中国航天城航天员公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中宋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中宋"/>
              </a:rPr>
              <a:t>　杨利伟　　费俊龙　　聂海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中宋"/>
              </a:rPr>
              <a:t>邮政编码：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华文中宋"/>
              </a:rPr>
              <a:t>1 0 0 0 9  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77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3" dur="770" fill="hold"/>
                                        <p:tgtEl>
                                          <p:spTgt spid="1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5" dur="77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7" dur="77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17" dur="indefinite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23" dur="indefinite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29" dur="indefinite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35" dur="indefinite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图文：航天员在将在太空拍摄的画面传回北京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图文：神舟六号航天员进行模拟训练"/>
          <p:cNvPicPr/>
          <p:nvPr/>
        </p:nvPicPr>
        <p:blipFill>
          <a:blip r:embed="rId2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47" name="Picture 5"/>
          <p:cNvSpPr/>
          <p:nvPr/>
        </p:nvSpPr>
        <p:spPr>
          <a:xfrm>
            <a:off x="0" y="-171360"/>
            <a:ext cx="9144000" cy="72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黑体"/>
              </a:rPr>
              <a:t>           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中宋"/>
              </a:rPr>
              <a:t>一、浏览课文，准确复述课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中宋"/>
              </a:rPr>
              <a:t>二、理清全文结构脉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中宋"/>
              </a:rPr>
              <a:t>三、理解太空生活中所体现的航天员精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华文中宋"/>
              </a:rPr>
              <a:t>读准下列加点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吮　吸　　铠　甲　　灼　热　　臀　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着　陆　　萎　缩　　牙　龈　　胡　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4"/>
          <p:cNvSpPr/>
          <p:nvPr/>
        </p:nvSpPr>
        <p:spPr>
          <a:xfrm>
            <a:off x="1116000" y="2781360"/>
            <a:ext cx="71280" cy="0"/>
          </a:xfrm>
          <a:prstGeom prst="line">
            <a:avLst/>
          </a:prstGeom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5"/>
          <p:cNvSpPr/>
          <p:nvPr/>
        </p:nvSpPr>
        <p:spPr>
          <a:xfrm>
            <a:off x="3203640" y="2781360"/>
            <a:ext cx="71280" cy="0"/>
          </a:xfrm>
          <a:prstGeom prst="line">
            <a:avLst/>
          </a:prstGeom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6"/>
          <p:cNvSpPr/>
          <p:nvPr/>
        </p:nvSpPr>
        <p:spPr>
          <a:xfrm>
            <a:off x="5219640" y="2781360"/>
            <a:ext cx="71640" cy="0"/>
          </a:xfrm>
          <a:prstGeom prst="line">
            <a:avLst/>
          </a:prstGeom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>
            <a:off x="7308720" y="2781360"/>
            <a:ext cx="71640" cy="0"/>
          </a:xfrm>
          <a:prstGeom prst="line">
            <a:avLst/>
          </a:prstGeom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8"/>
          <p:cNvSpPr/>
          <p:nvPr/>
        </p:nvSpPr>
        <p:spPr>
          <a:xfrm>
            <a:off x="1116000" y="4508640"/>
            <a:ext cx="71280" cy="0"/>
          </a:xfrm>
          <a:prstGeom prst="line">
            <a:avLst/>
          </a:prstGeom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9"/>
          <p:cNvSpPr/>
          <p:nvPr/>
        </p:nvSpPr>
        <p:spPr>
          <a:xfrm>
            <a:off x="3203640" y="4508640"/>
            <a:ext cx="71280" cy="0"/>
          </a:xfrm>
          <a:prstGeom prst="line">
            <a:avLst/>
          </a:prstGeom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0"/>
          <p:cNvSpPr/>
          <p:nvPr/>
        </p:nvSpPr>
        <p:spPr>
          <a:xfrm>
            <a:off x="6012000" y="4508640"/>
            <a:ext cx="71280" cy="0"/>
          </a:xfrm>
          <a:prstGeom prst="line">
            <a:avLst/>
          </a:prstGeom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1"/>
          <p:cNvSpPr/>
          <p:nvPr/>
        </p:nvSpPr>
        <p:spPr>
          <a:xfrm>
            <a:off x="8101080" y="4508640"/>
            <a:ext cx="71280" cy="0"/>
          </a:xfrm>
          <a:prstGeom prst="line">
            <a:avLst/>
          </a:prstGeom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华文中宋"/>
              </a:rPr>
              <a:t>读准下列加点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hun           kai            zhuo            t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吮　吸　　铠　甲　　灼　热　　臀　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huo           wei                    yin             c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着　陆　　萎　缩　　牙　龈　　胡　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5"/>
          <p:cNvSpPr/>
          <p:nvPr/>
        </p:nvSpPr>
        <p:spPr>
          <a:xfrm>
            <a:off x="1187280" y="1628640"/>
            <a:ext cx="71640" cy="142920"/>
          </a:xfrm>
          <a:prstGeom prst="line">
            <a:avLst/>
          </a:prstGeom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 flipV="1">
            <a:off x="1258920" y="1628280"/>
            <a:ext cx="73080" cy="142920"/>
          </a:xfrm>
          <a:prstGeom prst="line">
            <a:avLst/>
          </a:prstGeom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7"/>
          <p:cNvSpPr/>
          <p:nvPr/>
        </p:nvSpPr>
        <p:spPr>
          <a:xfrm>
            <a:off x="3132000" y="1628640"/>
            <a:ext cx="71640" cy="144720"/>
          </a:xfrm>
          <a:prstGeom prst="line">
            <a:avLst/>
          </a:prstGeom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8"/>
          <p:cNvSpPr/>
          <p:nvPr/>
        </p:nvSpPr>
        <p:spPr>
          <a:xfrm flipV="1">
            <a:off x="3203640" y="1628640"/>
            <a:ext cx="73080" cy="144720"/>
          </a:xfrm>
          <a:prstGeom prst="line">
            <a:avLst/>
          </a:prstGeom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9"/>
          <p:cNvSpPr/>
          <p:nvPr/>
        </p:nvSpPr>
        <p:spPr>
          <a:xfrm flipV="1">
            <a:off x="5508720" y="1628640"/>
            <a:ext cx="142920" cy="144720"/>
          </a:xfrm>
          <a:prstGeom prst="line">
            <a:avLst/>
          </a:prstGeom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0"/>
          <p:cNvSpPr/>
          <p:nvPr/>
        </p:nvSpPr>
        <p:spPr>
          <a:xfrm flipV="1">
            <a:off x="7308720" y="1628640"/>
            <a:ext cx="71640" cy="144720"/>
          </a:xfrm>
          <a:prstGeom prst="line">
            <a:avLst/>
          </a:prstGeom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1"/>
          <p:cNvSpPr/>
          <p:nvPr/>
        </p:nvSpPr>
        <p:spPr>
          <a:xfrm flipV="1">
            <a:off x="1403280" y="3357720"/>
            <a:ext cx="142920" cy="142560"/>
          </a:xfrm>
          <a:prstGeom prst="line">
            <a:avLst/>
          </a:prstGeom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2"/>
          <p:cNvSpPr/>
          <p:nvPr/>
        </p:nvSpPr>
        <p:spPr>
          <a:xfrm>
            <a:off x="3132000" y="3357720"/>
            <a:ext cx="71640" cy="142560"/>
          </a:xfrm>
          <a:prstGeom prst="line">
            <a:avLst/>
          </a:prstGeom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3"/>
          <p:cNvSpPr/>
          <p:nvPr/>
        </p:nvSpPr>
        <p:spPr>
          <a:xfrm flipV="1">
            <a:off x="3203640" y="3357720"/>
            <a:ext cx="142920" cy="142560"/>
          </a:xfrm>
          <a:prstGeom prst="line">
            <a:avLst/>
          </a:prstGeom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4"/>
          <p:cNvSpPr/>
          <p:nvPr/>
        </p:nvSpPr>
        <p:spPr>
          <a:xfrm flipV="1">
            <a:off x="5940360" y="3284280"/>
            <a:ext cx="144360" cy="21564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5"/>
          <p:cNvSpPr/>
          <p:nvPr/>
        </p:nvSpPr>
        <p:spPr>
          <a:xfrm flipV="1">
            <a:off x="8317080" y="3357720"/>
            <a:ext cx="142560" cy="142560"/>
          </a:xfrm>
          <a:prstGeom prst="line">
            <a:avLst/>
          </a:prstGeom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6"/>
          <p:cNvSpPr/>
          <p:nvPr/>
        </p:nvSpPr>
        <p:spPr>
          <a:xfrm>
            <a:off x="1116000" y="2852640"/>
            <a:ext cx="71280" cy="0"/>
          </a:xfrm>
          <a:prstGeom prst="line">
            <a:avLst/>
          </a:prstGeom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7"/>
          <p:cNvSpPr/>
          <p:nvPr/>
        </p:nvSpPr>
        <p:spPr>
          <a:xfrm>
            <a:off x="3203640" y="2852640"/>
            <a:ext cx="73080" cy="0"/>
          </a:xfrm>
          <a:prstGeom prst="line">
            <a:avLst/>
          </a:prstGeom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8"/>
          <p:cNvSpPr/>
          <p:nvPr/>
        </p:nvSpPr>
        <p:spPr>
          <a:xfrm>
            <a:off x="5219640" y="2852640"/>
            <a:ext cx="73080" cy="0"/>
          </a:xfrm>
          <a:prstGeom prst="line">
            <a:avLst/>
          </a:prstGeom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9"/>
          <p:cNvSpPr/>
          <p:nvPr/>
        </p:nvSpPr>
        <p:spPr>
          <a:xfrm>
            <a:off x="7236000" y="2852640"/>
            <a:ext cx="72720" cy="0"/>
          </a:xfrm>
          <a:prstGeom prst="line">
            <a:avLst/>
          </a:prstGeom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0"/>
          <p:cNvSpPr/>
          <p:nvPr/>
        </p:nvSpPr>
        <p:spPr>
          <a:xfrm>
            <a:off x="1116000" y="4653000"/>
            <a:ext cx="71280" cy="0"/>
          </a:xfrm>
          <a:prstGeom prst="line">
            <a:avLst/>
          </a:prstGeom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1"/>
          <p:cNvSpPr/>
          <p:nvPr/>
        </p:nvSpPr>
        <p:spPr>
          <a:xfrm>
            <a:off x="3203640" y="4581360"/>
            <a:ext cx="71280" cy="0"/>
          </a:xfrm>
          <a:prstGeom prst="line">
            <a:avLst/>
          </a:prstGeom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2"/>
          <p:cNvSpPr/>
          <p:nvPr/>
        </p:nvSpPr>
        <p:spPr>
          <a:xfrm>
            <a:off x="6012000" y="4653000"/>
            <a:ext cx="72720" cy="0"/>
          </a:xfrm>
          <a:prstGeom prst="line">
            <a:avLst/>
          </a:prstGeom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4"/>
          <p:cNvSpPr/>
          <p:nvPr/>
        </p:nvSpPr>
        <p:spPr>
          <a:xfrm>
            <a:off x="8101080" y="4581360"/>
            <a:ext cx="73080" cy="0"/>
          </a:xfrm>
          <a:prstGeom prst="line">
            <a:avLst/>
          </a:prstGeom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66ff"/>
                </a:solidFill>
                <a:latin typeface="Arial"/>
                <a:ea typeface="黑体"/>
              </a:rPr>
              <a:t>课文脉络结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197000"/>
            <a:ext cx="85075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ffcc66"/>
                </a:solidFill>
                <a:latin typeface="Arial"/>
                <a:ea typeface="黑体"/>
              </a:rPr>
              <a:t>总 </a:t>
            </a:r>
            <a:r>
              <a:rPr b="1" lang="zh-CN" sz="2800" spc="-1" strike="noStrike">
                <a:solidFill>
                  <a:srgbClr val="ffcc66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中宋"/>
              </a:rPr>
              <a:t>花了将近一个月时间才完全适应太空生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中宋"/>
              </a:rPr>
              <a:t>                         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中宋"/>
              </a:rPr>
              <a:t>吃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中宋"/>
              </a:rPr>
              <a:t>                         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中宋"/>
              </a:rPr>
              <a:t>跑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中宋"/>
              </a:rPr>
              <a:t>　　　　　　　　　　　　　          长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ffcc66"/>
                </a:solidFill>
                <a:latin typeface="Arial"/>
                <a:ea typeface="黑体"/>
              </a:rPr>
              <a:t>分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中宋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中宋"/>
              </a:rPr>
              <a:t>在太空中理家的各方面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中宋"/>
              </a:rPr>
              <a:t>                         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中宋"/>
              </a:rPr>
              <a:t>穿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中宋"/>
              </a:rPr>
              <a:t>　　　　　　　　　　　　　          洗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中宋"/>
              </a:rPr>
              <a:t>　　　　　　　　　　　　　          睡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ffcc66"/>
                </a:solidFill>
                <a:latin typeface="Arial"/>
                <a:ea typeface="黑体"/>
              </a:rPr>
              <a:t>总</a:t>
            </a:r>
            <a:r>
              <a:rPr b="1" lang="zh-CN" sz="2800" spc="-1" strike="noStrike">
                <a:solidFill>
                  <a:srgbClr val="ffcc66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中宋"/>
              </a:rPr>
              <a:t> 自己作为冒险者而必须作出的某种牺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5724360" y="2060640"/>
            <a:ext cx="287640" cy="3097080"/>
          </a:xfrm>
          <a:custGeom>
            <a:avLst/>
            <a:gdLst>
              <a:gd name="textAreaLeft" fmla="*/ 183960 w 287640"/>
              <a:gd name="textAreaRight" fmla="*/ 288000 w 287640"/>
              <a:gd name="textAreaTop" fmla="*/ 80640 h 3097080"/>
              <a:gd name="textAreaBottom" fmla="*/ 3016440 h 30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99ff"/>
                </a:solidFill>
                <a:latin typeface="Arial"/>
                <a:ea typeface="黑体"/>
              </a:rPr>
              <a:t>情景</a:t>
            </a:r>
            <a:r>
              <a:rPr b="1" lang="zh-CN" sz="4400" spc="-1" strike="noStrike">
                <a:solidFill>
                  <a:srgbClr val="ff99ff"/>
                </a:solidFill>
                <a:latin typeface="Arial"/>
                <a:ea typeface="华文中宋"/>
              </a:rPr>
              <a:t>访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假如你就是从太空归来的宇航员</a:t>
            </a:r>
            <a:r>
              <a:rPr b="1" lang="en-US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请你从文中选取一个最感兴趣的太空生活片段与地球生活作比较，给记者和观众作一个现场介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http://news.xinhuanet.com/photo/2005-10/09/xin_1921002091542703194728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WordArt 5"/>
          <p:cNvSpPr txBox="1"/>
          <p:nvPr/>
        </p:nvSpPr>
        <p:spPr>
          <a:xfrm>
            <a:off x="0" y="6021360"/>
            <a:ext cx="6059520" cy="53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黑体"/>
              </a:rPr>
              <a:t>俄罗斯航天员在太空中生活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90" name="Picture 6" descr="图文：航天员对着镜子剃胡子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图文：食物马上就要进入费俊龙嘴里"/>
          <p:cNvPicPr/>
          <p:nvPr/>
        </p:nvPicPr>
        <p:blipFill>
          <a:blip r:embed="rId3"/>
          <a:stretch/>
        </p:blipFill>
        <p:spPr>
          <a:xfrm>
            <a:off x="17928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"/>
          <p:cNvPicPr/>
          <p:nvPr/>
        </p:nvPicPr>
        <p:blipFill>
          <a:blip r:embed="rId4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"/>
          <p:cNvPicPr/>
          <p:nvPr/>
        </p:nvPicPr>
        <p:blipFill>
          <a:blip r:embed="rId5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http://news.xinhuanet.com/photo/2003-10/14/xinsrc_b5b463135a584b86becd1ea27280874f.jpg"/>
          <p:cNvPicPr/>
          <p:nvPr/>
        </p:nvPicPr>
        <p:blipFill>
          <a:blip r:embed="rId6"/>
          <a:stretch/>
        </p:blipFill>
        <p:spPr>
          <a:xfrm>
            <a:off x="0" y="0"/>
            <a:ext cx="9394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Arial"/>
                <a:ea typeface="黑体"/>
              </a:rPr>
              <a:t>读一读、想一想、说一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中宋"/>
              </a:rPr>
              <a:t>一、从航天员的叙述中你能看出人类的太空   生活真的很舒适容易吗？航天员在太空生活中表现出了怎样的态度和情趣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中宋"/>
              </a:rPr>
              <a:t>二、假如你要成为一名航天员，你觉得自己需要具备什么样的精神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30T11:43:11Z</dcterms:created>
  <dc:creator/>
  <dc:description>第一PPT模板网-WWW.1PPT.COM
</dc:description>
  <dc:language>en-US</dc:language>
  <cp:lastModifiedBy>Administrator</cp:lastModifiedBy>
  <dcterms:modified xsi:type="dcterms:W3CDTF">2017-07-31T01:55:37Z</dcterms:modified>
  <cp:revision>37</cp:revision>
  <dc:subject>第一PPT模板网-WWW.1PPT.COM</dc:subject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690</vt:lpwstr>
  </property>
</Properties>
</file>