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AFE-9204-4EE9-9CCD-530CE222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6AA-677D-42D7-9D34-E50FB6F4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897-CCA6-4FE2-A814-289AE273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B67-8BD3-408C-9CB9-3AA4FA3A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CF8-4DE1-4095-87C8-822F6E3E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3E2-8E3B-4465-88CE-42755C3D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975-7BB4-461B-A626-7309E303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BE8-5F83-477A-8AA0-2BF730F9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CAF-11E2-4C8C-AD73-9B40A1CC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4E3-7AAC-46D6-ACCF-A478E1B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E0D-11BA-4000-85EC-54627100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7E7-BA65-424C-8F10-ADE4AB9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1F53-64AC-46DC-8764-F8569CAF6D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cjr.org.cn/zqdf/zhanghaidi/zhanghaidi.htm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40120" y="5486400"/>
            <a:ext cx="20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海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凯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304920"/>
            <a:ext cx="1524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939ff"/>
                </a:solidFill>
                <a:latin typeface="Times New Roman"/>
                <a:ea typeface="隶书"/>
              </a:rPr>
              <a:t>再塑生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479600"/>
            <a:ext cx="5562360" cy="26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我要把别人眼睛所看见的光明当作我的太阳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别人耳朵听见的音乐当成我的交响乐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别人嘴角的微笑当作我的幸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3160" y="1143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好学、坚毅、敏察、极高的悟性以及丰富的情感是海伦的突出特点。可以说，她虽是一位盲人，但她的心灵比常人敏感而丰富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她在心灵深处大睁着一双好奇的眼睛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1640" y="5500800"/>
            <a:ext cx="70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情地朗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—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—2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体验拓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062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海伦与莎莉文老师相辅相成，是本文的一体两面。海伦成为不平凡的人，与莎莉文老师的教育密不可分，但也是她的主观努力的结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人类历史长河中，像作者这样凭借坚强意志与命运进行抗争的杰出人士，你还知道哪些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162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以顽强的意志创作了长篇小说《钢铁是怎样炼成的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2376360" cy="370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2665440" cy="36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501480" y="333360"/>
            <a:ext cx="772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奥斯特洛夫斯基 （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1904-1936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苏联作家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全身瘫痪 双目失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301920" cy="3962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533520" y="501336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天生跛足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88840" y="4572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拜伦 （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1788-1824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360" y="162864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英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世纪著名浪漫主义诗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5120" y="328464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被称为“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诗坛的拿破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2880" y="476280"/>
            <a:ext cx="3114720" cy="609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4191120" y="1197000"/>
            <a:ext cx="4419360" cy="40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路德维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范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贝多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770-1827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德国伟大的作曲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时听觉衰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时完全耳聋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世界不给他欢乐  他却创造了欢乐给世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8120" y="1066680"/>
            <a:ext cx="3295800" cy="4876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1600" y="2276640"/>
            <a:ext cx="501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美国政治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时因患脊髓灰质炎 下肢瘫痪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是美国历史上唯一蝉联四届的总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47628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富兰克林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·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罗斯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1882-1945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701800" cy="3657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492280"/>
            <a:ext cx="54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十多岁时患眼疾，双眼相继失明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二胡作品《二泉映月》获二十世纪华人经典音乐作品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2520" y="476280"/>
            <a:ext cx="53388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阿炳 （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1893-1950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原名华彦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4038840" cy="3011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04920" y="358128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自学掌握英语 日语 德语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当代知名作家 翻译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“生命之歌”张海迪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333360"/>
            <a:ext cx="2486160" cy="3205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4419720" y="838080"/>
            <a:ext cx="456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岁时胸部以下完全失去知觉  高位截瘫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152280"/>
            <a:ext cx="14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张海迪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862520" y="5881680"/>
            <a:ext cx="38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孔雀仙子”</a:t>
            </a:r>
            <a:r>
              <a:rPr b="1" lang="zh-CN" sz="2800" spc="-1" strike="noStrike">
                <a:solidFill>
                  <a:srgbClr val="dc3a9e"/>
                </a:solidFill>
                <a:latin typeface="Times New Roman"/>
              </a:rPr>
              <a:t>——邰丽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06028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海伦</a:t>
            </a: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·</a:t>
            </a: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凯勒的一生给了你怎样的启示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6360" y="609480"/>
            <a:ext cx="85327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十九世纪出现了两个了不起的人物：一个是拿破仑，一个就是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海伦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·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凯勒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美国：马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吐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7386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请说一说你所了解的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海伦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凯勒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00"/>
                </a:solidFill>
                <a:latin typeface="Times New Roman"/>
                <a:ea typeface="华文隶书"/>
              </a:rPr>
              <a:t>读准下列字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搓                    捻                 怦                脾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譬如               恩惠             繁衍             小憩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诱惑                 枝桠             冥思遐想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遨游           钥匙               预兆               凝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遗憾           和蔼              琢磨                   绚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2952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981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cuō)             (niǎn)        (pēng)             (pí )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989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pì)              (huì)          (yǎn)            (qì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1082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yòu huò)          (yā)                      (míng  xiá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133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á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yào shi)       (yù zhào)          (ní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5132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hàn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hé ǎi)          (zhuó mó)          (xuàn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924680" y="5791320"/>
            <a:ext cx="228600" cy="914400"/>
          </a:xfrm>
          <a:prstGeom prst="flowChartSor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51280" y="228600"/>
            <a:ext cx="525780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一岁半，海伦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凯勒不幸染上疾病，致使双目失明、双耳失聪，随之又丧失了说话的能力。从此，她坠入了一个黑暗而沉寂的世界，陷入了痛苦的深渊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岁，海伦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凯勒考进了美国第一流的高等学府——哈佛大学，并以优异的成绩从大学毕业，还掌握了英、法、德、拉丁和希腊五种文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大学期间，她开始写作。毕业后，她把自己的一生献给了盲人福利和教育事业，并在繁忙的工作中先后完成了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部具有世界影响的著作。最著名的是其自传《假如给我三天光明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609480"/>
          <a:ext cx="32767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09480"/>
                    <a:ext cx="32767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7960" y="914400"/>
            <a:ext cx="383544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Overnight Vigil (See Caption)"/>
          <p:cNvPicPr/>
          <p:nvPr/>
        </p:nvPicPr>
        <p:blipFill>
          <a:blip r:embed="rId3"/>
          <a:stretch/>
        </p:blipFill>
        <p:spPr>
          <a:xfrm>
            <a:off x="5181480" y="152280"/>
            <a:ext cx="28720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32480" y="4756320"/>
            <a:ext cx="428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海伦深深地感激自己的老师，她说：假如给我三天光明，我首先要长久地凝视我的老师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安妮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莎莉文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华文隶书"/>
                <a:ea typeface="华文隶书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华文隶书"/>
                <a:ea typeface="华文隶书"/>
              </a:rPr>
              <a:t>海伦</a:t>
            </a:r>
            <a:r>
              <a:rPr b="1" lang="zh-CN" sz="2400" spc="-1" strike="noStrike">
                <a:solidFill>
                  <a:srgbClr val="ff3300"/>
                </a:solidFill>
                <a:latin typeface="华文隶书"/>
                <a:ea typeface="华文隶书"/>
              </a:rPr>
              <a:t>·</a:t>
            </a:r>
            <a:r>
              <a:rPr b="1" lang="zh-CN" sz="2400" spc="-1" strike="noStrike">
                <a:solidFill>
                  <a:srgbClr val="ff3300"/>
                </a:solidFill>
                <a:latin typeface="华文隶书"/>
                <a:ea typeface="华文隶书"/>
              </a:rPr>
              <a:t>凯勒</a:t>
            </a:r>
            <a:r>
              <a:rPr b="1" lang="zh-CN" sz="2400" spc="-1" strike="noStrike">
                <a:solidFill>
                  <a:srgbClr val="3333cc"/>
                </a:solidFill>
                <a:latin typeface="华文隶书"/>
                <a:ea typeface="华文隶书"/>
              </a:rPr>
              <a:t>，一个在无光、无声的黑暗世界里摸索的弱女子，以惊人的毅力和不屈不挠的精神，创造了奇迹。让她人生出现转机，引领她走向光明的人，就是文中这位为她“</a:t>
            </a:r>
            <a:r>
              <a:rPr b="1" lang="zh-CN" sz="2400" spc="-1" strike="noStrike">
                <a:solidFill>
                  <a:srgbClr val="ff3300"/>
                </a:solidFill>
                <a:latin typeface="华文隶书"/>
                <a:ea typeface="华文隶书"/>
              </a:rPr>
              <a:t>再塑生命</a:t>
            </a:r>
            <a:r>
              <a:rPr b="1" lang="zh-CN" sz="2400" spc="-1" strike="noStrike">
                <a:solidFill>
                  <a:srgbClr val="3333cc"/>
                </a:solidFill>
                <a:latin typeface="华文隶书"/>
                <a:ea typeface="华文隶书"/>
              </a:rPr>
              <a:t>”的</a:t>
            </a:r>
            <a:r>
              <a:rPr b="1" lang="zh-CN" sz="2400" spc="-1" strike="noStrike">
                <a:solidFill>
                  <a:srgbClr val="ff3300"/>
                </a:solidFill>
                <a:latin typeface="华文隶书"/>
                <a:ea typeface="华文隶书"/>
              </a:rPr>
              <a:t>莎莉文</a:t>
            </a:r>
            <a:r>
              <a:rPr b="1" lang="zh-CN" sz="2400" spc="-1" strike="noStrike">
                <a:solidFill>
                  <a:srgbClr val="3333cc"/>
                </a:solidFill>
                <a:latin typeface="华文隶书"/>
                <a:ea typeface="华文隶书"/>
              </a:rPr>
              <a:t>老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2207880"/>
            <a:ext cx="3124080" cy="3732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宋体"/>
                <a:hlinkClick r:id="rId2" action="ppaction://hlinksldjump"/>
              </a:rPr>
              <a:t>1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宋体"/>
                <a:hlinkClick r:id="rId3" action="ppaction://hlinksldjump"/>
              </a:rPr>
              <a:t>、有感情地朗读全文，把握文意。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宋体"/>
                <a:hlinkClick r:id="rId4" action="ppaction://hlinksldjump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2361960"/>
            <a:ext cx="3352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思考：为什么海伦称莎莉文老师为“再塑生命”的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27720" y="3116160"/>
            <a:ext cx="139932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elen Keller and Anne Sullivan"/>
          <p:cNvPicPr/>
          <p:nvPr/>
        </p:nvPicPr>
        <p:blipFill>
          <a:blip r:embed="rId2"/>
          <a:stretch/>
        </p:blipFill>
        <p:spPr>
          <a:xfrm>
            <a:off x="457200" y="609480"/>
            <a:ext cx="3882960" cy="5562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304920"/>
            <a:ext cx="41148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正在此时，爱的光明照到了我的身上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 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她就是那个来对我启示世间的真理、给我深切的爱的人——安妮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·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莎莉文老师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楷体"/>
              </a:rPr>
              <a:t>莎莉文老师将人世间美好的思想情操，隽永深沉的爱心，像春天的种子深深植于海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楷体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楷体"/>
              </a:rPr>
              <a:t>凯勒的生命，以无私的爱重塑了她的生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研读赏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莎莉文老师是怎样做到这些的？你对她的教学方式有何评价和感受？试举一例进行交流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总之，莎莉文老师热爱海伦，对海伦的教育讲究方法艺术，做到因势利导，循循善诱，而且善于抓住教育时机，开启海伦的思维、智慧和情感。可以说，莎莉文是出色的教育艺术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532440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着分角色有感情地朗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—3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研读赏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海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凯勒的成功因素不仅和莎莉文老师有关，还和她自身的精神品质相关。是怎样的一种精神品质呢？请结合文中的具体语句谈一谈你的看法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09:09:16Z</dcterms:created>
  <dc:creator>郑欣欣</dc:creator>
  <dc:description/>
  <dc:language>en-US</dc:language>
  <cp:lastModifiedBy>王金健</cp:lastModifiedBy>
  <dcterms:modified xsi:type="dcterms:W3CDTF">2007-02-26T15:14:01Z</dcterms:modified>
  <cp:revision>44</cp:revision>
  <dc:subject/>
  <dc:title>PowerPoint 演示文稿</dc:title>
</cp:coreProperties>
</file>