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632-8E07-4586-812E-43353498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EE9-C2D1-4C63-8973-47D5D42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A0A-F080-44C3-8E8F-398444B8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A31-B17E-40E0-A9F3-E4CF15DA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C2DF-923D-47AB-9653-E168FE8A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5895-00D7-4899-8AFB-2320704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531-1E00-4E84-8099-9BE4E4F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3DC-E62C-4EEC-99E5-C0C5C99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F117-B7C7-4804-903B-A0861D94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528-5E94-4F80-AB2F-82CD70ED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7488-7E5A-4EAF-BC07-3BDA224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C1C-18C0-4BC5-A0F7-9BE5208A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CF5F-4E8B-4D8E-A335-5397314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8386-1436-4106-8CED-2D1D6238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65C8-4420-42ED-8878-A2476549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05B-89C2-479A-B3E3-C36BE38C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FE89-243C-40CD-98D1-3E6AAA98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245-7F75-43E9-B9FC-240D16A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602-A33E-4ECA-81E8-462345F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E4C-DDC8-4CF9-89E4-66AF64F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D68-B48E-4C72-89E6-F7A5246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7BB-C23A-45B6-957F-8B35EEE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48D-5328-4E06-ACAB-9A2EFC7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B3-EF59-4DEF-B9D1-3C33532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717F-A4FC-42A5-AD52-EC1799EF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DD6-284F-4C48-9E51-79AFD706F71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25900" b="47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4440240" y="3767040"/>
            <a:ext cx="36464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钱泳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(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)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020600" y="981000"/>
            <a:ext cx="7058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治水必躬亲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1: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翻译有关句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2: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学习完本文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谈谈对你有哪些有益的人生启示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结合自己的某一件往事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写一篇文章抒发你的感受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.300</a:t>
            </a:r>
            <a:r>
              <a:rPr b="1" lang="zh-CN" sz="4400" spc="-1" strike="noStrike">
                <a:solidFill>
                  <a:srgbClr val="2a6a68"/>
                </a:solidFill>
                <a:latin typeface="隶书"/>
                <a:ea typeface="隶书"/>
              </a:rPr>
              <a:t>字左右</a:t>
            </a:r>
            <a:r>
              <a:rPr b="1" lang="en-US" sz="4400" spc="-1" strike="noStrike">
                <a:solidFill>
                  <a:srgbClr val="2a6a68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050920" y="260280"/>
            <a:ext cx="47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楷体_GB2312"/>
              </a:rPr>
              <a:t>布置作业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12"/>
          <p:cNvSpPr txBox="1"/>
          <p:nvPr/>
        </p:nvSpPr>
        <p:spPr>
          <a:xfrm>
            <a:off x="611280" y="333360"/>
            <a:ext cx="756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感谢领导的光临指导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09" name="WordArt 13"/>
          <p:cNvSpPr txBox="1"/>
          <p:nvPr/>
        </p:nvSpPr>
        <p:spPr>
          <a:xfrm>
            <a:off x="900000" y="3141720"/>
            <a:ext cx="7201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同学们的合作 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自主学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理清文意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学习本文正反对比的论证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认识海瑞这一人物形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Picture 1028" descr="hairui 2"/>
          <p:cNvPicPr/>
          <p:nvPr/>
        </p:nvPicPr>
        <p:blipFill>
          <a:blip r:embed="rId1"/>
          <a:stretch/>
        </p:blipFill>
        <p:spPr>
          <a:xfrm>
            <a:off x="5772240" y="1125360"/>
            <a:ext cx="3371760" cy="5112000"/>
          </a:xfrm>
          <a:prstGeom prst="rect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</a:ln>
        </p:spPr>
      </p:pic>
      <p:pic>
        <p:nvPicPr>
          <p:cNvPr id="88" name="Picture 1030" descr="xvadbsqt[1]"/>
          <p:cNvPicPr/>
          <p:nvPr/>
        </p:nvPicPr>
        <p:blipFill>
          <a:blip r:embed="rId2"/>
          <a:stretch/>
        </p:blipFill>
        <p:spPr>
          <a:xfrm>
            <a:off x="755640" y="0"/>
            <a:ext cx="2160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airui 3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427640" y="692280"/>
            <a:ext cx="47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211640" y="0"/>
            <a:ext cx="49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海瑞（</a:t>
            </a:r>
            <a:r>
              <a:rPr b="0" lang="en-US" sz="3200" spc="-1" strike="noStrike">
                <a:solidFill>
                  <a:srgbClr val="006699"/>
                </a:solidFill>
                <a:latin typeface="黑体"/>
                <a:ea typeface="黑体"/>
              </a:rPr>
              <a:t>1514-1517</a:t>
            </a:r>
            <a:r>
              <a:rPr b="0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），广东琼山人，即现在的海南岛，字汝贤，号刚峰。他取此号的意思是一切以刚为主，要终生刚直不阿。因此人们尊称为刚峰先生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海瑞是明朝嘉靖时期的著名清官，由于敢于直言进谏，惩恶扬善，一心为民谋利，被人民敬为海青天、南包公，其英名流传至今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3250f"/>
                </a:solidFill>
                <a:latin typeface="Arial"/>
              </a:rPr>
              <a:t>以自己喜欢的方式朗读课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50c743"/>
                </a:solidFill>
                <a:latin typeface="Arial"/>
              </a:rPr>
              <a:t>要求</a:t>
            </a:r>
            <a:r>
              <a:rPr b="1" lang="en-US" sz="3200" spc="-1" strike="noStrike">
                <a:solidFill>
                  <a:srgbClr val="50c74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c743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读准字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读清停顿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尽量读的通顺流畅</a:t>
            </a:r>
            <a:r>
              <a:rPr b="1" lang="en-US" sz="3600" spc="-1" strike="noStrike" u="sng">
                <a:solidFill>
                  <a:srgbClr val="50c743"/>
                </a:solidFill>
                <a:uFillTx/>
                <a:latin typeface="Arial"/>
              </a:rPr>
              <a:t>,  </a:t>
            </a:r>
            <a:r>
              <a:rPr b="1" lang="zh-CN" sz="3600" spc="-1" strike="noStrike" u="sng">
                <a:solidFill>
                  <a:srgbClr val="50c743"/>
                </a:solidFill>
                <a:uFillTx/>
                <a:latin typeface="Arial"/>
              </a:rPr>
              <a:t>富有感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5914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31a1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bb31a1"/>
                </a:solidFill>
                <a:latin typeface="幼圆"/>
                <a:ea typeface="幼圆"/>
              </a:rPr>
              <a:t>与小组成员共同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31a1"/>
                </a:solidFill>
                <a:latin typeface="幼圆"/>
                <a:ea typeface="幼圆"/>
              </a:rPr>
              <a:t> </a:t>
            </a:r>
            <a:r>
              <a:rPr b="1" lang="zh-CN" sz="4000" spc="-1" strike="noStrike">
                <a:solidFill>
                  <a:srgbClr val="bb31a1"/>
                </a:solidFill>
                <a:latin typeface="幼圆"/>
                <a:ea typeface="幼圆"/>
              </a:rPr>
              <a:t>对照文下注释</a:t>
            </a:r>
            <a:r>
              <a:rPr b="1" lang="en-US" sz="4000" spc="-1" strike="noStrike">
                <a:solidFill>
                  <a:srgbClr val="bb31a1"/>
                </a:solidFill>
                <a:latin typeface="幼圆"/>
                <a:ea typeface="幼圆"/>
              </a:rPr>
              <a:t>,</a:t>
            </a:r>
            <a:r>
              <a:rPr b="1" lang="zh-CN" sz="4000" spc="-1" strike="noStrike">
                <a:solidFill>
                  <a:srgbClr val="bb31a1"/>
                </a:solidFill>
                <a:latin typeface="幼圆"/>
                <a:ea typeface="幼圆"/>
              </a:rPr>
              <a:t>翻译全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31a1"/>
                </a:solidFill>
                <a:latin typeface="幼圆"/>
                <a:ea typeface="幼圆"/>
              </a:rPr>
              <a:t> </a:t>
            </a:r>
            <a:r>
              <a:rPr b="1" lang="zh-CN" sz="4000" spc="-1" strike="noStrike">
                <a:solidFill>
                  <a:srgbClr val="bb31a1"/>
                </a:solidFill>
                <a:latin typeface="幼圆"/>
                <a:ea typeface="幼圆"/>
              </a:rPr>
              <a:t>互相解决疑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5003640" y="620640"/>
            <a:ext cx="3635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合作学习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幼圆"/>
              </a:rPr>
              <a:t>理解内容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第一段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论述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________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的原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第二段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以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___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为例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说明治水不但要躬亲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而且要清廉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这一段先从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____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说海瑞治水不但躬亲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而且清廉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后从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____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说如果不躬亲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270a82"/>
                </a:solidFill>
                <a:latin typeface="Arial"/>
              </a:rPr>
              <a:t>不清廉带来的后果是</a:t>
            </a:r>
            <a:r>
              <a:rPr b="1" lang="en-US" sz="4400" spc="-1" strike="noStrike">
                <a:solidFill>
                  <a:srgbClr val="270a82"/>
                </a:solidFill>
                <a:latin typeface="Arial"/>
              </a:rPr>
              <a:t>_______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Picture 17" descr="32pic40"/>
          <p:cNvPicPr/>
          <p:nvPr/>
        </p:nvPicPr>
        <p:blipFill>
          <a:blip r:embed="rId2"/>
          <a:stretch/>
        </p:blipFill>
        <p:spPr>
          <a:xfrm>
            <a:off x="2195640" y="0"/>
            <a:ext cx="720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7473"/>
            </a:gs>
            <a:gs pos="50000">
              <a:srgbClr val="c6faf9"/>
            </a:gs>
            <a:gs pos="100000">
              <a:srgbClr val="5c74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家喻户晓的海瑞在你的心目中是怎样一个形象</a:t>
            </a:r>
            <a:r>
              <a:rPr b="1" lang="en-US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读了课文之后你对这个人物有哪些新的认识</a:t>
            </a:r>
            <a:r>
              <a:rPr b="1" lang="en-US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31a1"/>
                </a:solidFill>
                <a:latin typeface="华文彩云"/>
                <a:ea typeface="华文彩云"/>
              </a:rPr>
              <a:t>学生讨论</a:t>
            </a:r>
            <a:r>
              <a:rPr b="0" lang="en-US" sz="3600" spc="-1" strike="noStrike">
                <a:solidFill>
                  <a:srgbClr val="bb31a1"/>
                </a:solidFill>
                <a:latin typeface="华文彩云"/>
                <a:ea typeface="华文彩云"/>
              </a:rPr>
              <a:t>,</a:t>
            </a:r>
            <a:r>
              <a:rPr b="0" lang="zh-CN" sz="3600" spc="-1" strike="noStrike">
                <a:solidFill>
                  <a:srgbClr val="bb31a1"/>
                </a:solidFill>
                <a:latin typeface="华文彩云"/>
                <a:ea typeface="华文彩云"/>
              </a:rPr>
              <a:t>交流</a:t>
            </a:r>
            <a:r>
              <a:rPr b="0" lang="en-US" sz="3600" spc="-1" strike="noStrike">
                <a:solidFill>
                  <a:srgbClr val="bb31a1"/>
                </a:solidFill>
                <a:latin typeface="华文彩云"/>
                <a:ea typeface="华文彩云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611280" y="333360"/>
            <a:ext cx="3024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华文行楷"/>
              </a:rPr>
              <a:t>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Hairui%201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320" y="1483920"/>
            <a:ext cx="80154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海瑞在人们心目中的形象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个清官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他为民请命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清廉公正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力主反贪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刚正不阿等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课文中的海瑞躬亲治水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不畏艰辛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为民着想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清正廉洁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3924360" y="33336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明确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11"/>
          <p:cNvSpPr txBox="1"/>
          <p:nvPr/>
        </p:nvSpPr>
        <p:spPr>
          <a:xfrm>
            <a:off x="1042920" y="549360"/>
            <a:ext cx="7129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背书对抗赛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6:43:11Z</dcterms:created>
  <dc:creator/>
  <dc:description>第一PPT模板网-WWW.1PPT.COM
</dc:description>
  <dc:language>en-US</dc:language>
  <cp:lastModifiedBy>Administrator</cp:lastModifiedBy>
  <dcterms:modified xsi:type="dcterms:W3CDTF">2017-07-31T02:09:09Z</dcterms:modified>
  <cp:revision>68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