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334-0CF5-4A97-AE9D-BDD6CD5B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571-FB91-4DB6-97DD-99CA52CB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25F-826B-45FF-800E-DE739CE2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1A3-1171-4763-9392-5AAC4843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FBE-3238-45B1-BEBC-AEBAE46A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4F4-5BEC-4B4B-9A28-7791216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8B5-23DE-4EDA-83FE-EEC8AEF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A5E-4C70-4C06-8DC3-2F832188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497-E836-41D9-84DD-E305D869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F4E-1B70-44F9-932D-E7C00619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73D-1C75-4ED8-9CDB-88C2E3F2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8D0-BBC3-4010-9F11-4402638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222-C82E-4959-8632-1F87FCDC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给学生看行李的“老师傅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研读课文，理清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者认为人与大自然是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人合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认为怎样处理好人与人之间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 ，真情相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忍，相互容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这方面，你有切身体验吗？能不能说说你是怎样处理日常生活中与别人的关系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你怎样理解诸葛亮的“淡泊以明志，宁静以致远”这两句名言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保持清心寡欲，以塑造高尚的道德情操。只有摒除心中的私心杂念，对生活持淡泊之心，令心神宁静，才可以令自己的精神追求进入更高的境界，令自己的志向更加远大。这样的人没有私心，也就没有了思想感情的矛盾。诸葛亮的一生正是如此，为蜀汉事业鞠躬尽瘁，死而后已，毫无私心杂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推荐篇目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是故乡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塘荷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赋得永久的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归燕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八十述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月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jxl02"/>
          <p:cNvPicPr/>
          <p:nvPr/>
        </p:nvPicPr>
        <p:blipFill>
          <a:blip r:embed="rId1"/>
          <a:stretch/>
        </p:blipFill>
        <p:spPr>
          <a:xfrm>
            <a:off x="2209680" y="0"/>
            <a:ext cx="44704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做人与处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羡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、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季羡林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1.8.6~2009.7.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山东临清人，字希逋 ，又字齐奘。国际著名东方学大师、语言学家、文学家、国学家、佛学家、史学家、教育家和社会活动家。历任中国科学院哲学社会科学部委员、北京大学副校长、中国社科院南亚研究所所长，是北京大学惟一的终身教授。通英文、德文、梵文、巴利文，能阅俄文、法文，尤其精于吐火罗文，是世界上仅有的精于此语言的几位学者之一。“梵学、佛学、吐火罗文研究并举，中国文学、比较文学、文艺理论研究齐飞”，其著作已汇编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季羡林文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被国人认作：国学大师、学界泰斗、国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突破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àn chóu   kuì fá   bì duān   è  yào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范  畴     匮  乏    弊 端      扼 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ē kē pèng pèng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磕 磕 碰   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屡 创 奇 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一而足：不止一种或一次，而是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堪设想：事情的结果不能想象，指会发展到很坏               或很危险的地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语言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失之东隅，收之桑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东隅：东方日出处，指早晨；桑榆：指日落处，也指日暮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比喻开始在这一方面失败了，最后在另一方面取得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处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汉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冯异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“始虽垂翅回溪，终能奋翼黾池，可谓失之东隅，收之桑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天人合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多种理解，文中解释为：“天”即自然，“人”即人类。“天人合一”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即人类与大自然要和谐统一，不要成为敌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淡泊以明志，宁静以致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淡泊：恬淡寡欲；宁静：安宁恬静；致：达到。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不追求名利，生活俭朴以表现自己高尚的情趣；心情平稳沉着，才可有所作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处：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淮南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术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“是故非淡薄无以明德，非宁静无以致远，非宽大无以兼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通读课文，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认为“做人与处世”的关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做人与处世的关键在于处理好三个关系，人与大自然的关系，人与人的关系，个人心中思想与感情矛盾与平衡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开篇就指出自己的基本想法，这样写的好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开门见山，第一段统领全文，使读者能够一下子把握文章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4:59:19Z</dcterms:modified>
  <cp:revision>10</cp:revision>
  <dc:subject/>
  <dc:title>给学生看行李的“老师傅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