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58F-63C3-4BC7-BD06-0904C3DE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0DB-DDA1-41A1-BF38-523A0147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0B7-54C2-4DD3-9AD0-FA729C76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D6A-0509-42ED-A0C7-1336B5D3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A5C63-803E-4FF4-9523-15653822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63986-CBEE-465E-B604-CCA4BD17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28A71-6BBA-44CE-ABEE-301A5949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5FF7A-7168-4B49-BEAC-3E172FBA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7E570-D74E-47D6-8731-B49B1F7F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048C6-59C4-4100-BF9C-E64A9E04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46057-F5CF-400D-B75C-54F90171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14F-3293-4439-ABC0-FCEFD29F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C5D1B-DC59-44D8-B0A2-94F24B2A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6DF00-F950-4BEB-AD40-385A4551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8581F-3A92-40F3-BF3F-CEC3AF79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E4F56-96D5-4048-BE3D-07952C97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F1FA4-F0CD-428C-ABEB-52E6B877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599-3FC7-4D9F-8D4A-6A6CCCE0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63C-4025-488F-9EA3-376EB12D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F9B-A57D-44A2-8033-30920737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223-336E-4CFE-8BF3-EA3D61CA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D6D-6AF7-4829-BCDF-D492A9D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0F5-1309-4E74-A749-B19DF471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514-BD1A-475C-B990-9B49FCE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270D-8688-4D64-B769-94491CBA12B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B3E0-D79D-4CA6-B43C-66EFD74FD19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62064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郑人买履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郑人有欲买履者，先自度其足，而置之其坐。至之市而忘操之。已得履，乃曰：“吾忘持度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.”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返归取之。及返，市罢，遂不得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人曰：“何不试之以足？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曰：“宁信度，无自信也。”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6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476280"/>
            <a:ext cx="8640720" cy="67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需要积累的词语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欲             履            自             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置             之            其             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至             之            市             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之             已            乃             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反             之            罢             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自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6280"/>
            <a:ext cx="8604360" cy="63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重点句子        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1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及反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市罢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遂不得履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.(                      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2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何不试之以足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.(                  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3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宁信度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无自信也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.(                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重点词语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:             1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先自度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(                )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其足而置之其坐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( 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2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及反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(                 ),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市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”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之”字的含义 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1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先自度其足而置之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(                )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其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2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至之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(               )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市而忘操之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(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3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反归取之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(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4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何不试之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(               )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以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”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度”的含义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:           1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吾忘持度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( 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2\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先自度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(               )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其足而置之其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0"/>
            <a:ext cx="806436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练习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1\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寓言的特点是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:(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ahoma"/>
              </a:rPr>
              <a:t>                 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1\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郑国人买不到鞋子的根本原因是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ahoma"/>
              </a:rPr>
              <a:t>(                                          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2\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这则寓言告诉我们的道理是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ahoma"/>
              </a:rPr>
              <a:t> (                                           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现实生活中的例子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比如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              )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333360"/>
            <a:ext cx="7848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知识归类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什么是成语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成语是人们长期以来习用的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\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简洁精辟的固定结构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它的字数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\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结构和意义都相对稳定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成语的特点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大多由四个字组成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一般都有出处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有些成语从字面就能解释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而有些成语必须知道出处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3:21:25Z</dcterms:created>
  <dc:creator>g</dc:creator>
  <dc:description/>
  <dc:language>en-US</dc:language>
  <cp:lastModifiedBy>g</cp:lastModifiedBy>
  <dcterms:modified xsi:type="dcterms:W3CDTF">2007-12-05T14:51:12Z</dcterms:modified>
  <cp:revision>4</cp:revision>
  <dc:subject/>
  <dc:title>幻灯片 1</dc:title>
</cp:coreProperties>
</file>