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260-EE50-4E60-B489-2E61CF1F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99B-3D30-4808-AD59-8272E054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E7C-9F76-445C-AD7E-04DDC0BA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A136-FFEB-4590-BA0C-0FF5A8E1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65C-A92A-41CE-B0AD-58C39327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AC2A-1F70-4637-9EA7-E7C3900A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B10-F8A3-40F1-9BF2-2C39A057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474-371A-4756-9390-41F033C9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A69-E899-4890-91ED-D07A394D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C76-65D6-4132-9782-AA3907D3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AB0-D152-4B8C-AB91-7B226060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1EF6-021E-4B1E-9608-21655A47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8687-5718-43FD-A32C-F82F00A0CE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981000"/>
            <a:ext cx="496908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ff">
                      <a:alpha val="80000"/>
                    </a:srgbClr>
                  </a:outerShdw>
                </a:effectLst>
                <a:latin typeface="华文新魏"/>
              </a:rPr>
              <a:t>履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3b6d91f5c6ab440c730eec1d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4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68360" y="2349360"/>
            <a:ext cx="7632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而忘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何不试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以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置之其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忘操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189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帮你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08360" y="2602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大家一起来归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197000"/>
            <a:ext cx="74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请指出“之”“而”在下列句子中的意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3080" y="2492280"/>
            <a:ext cx="33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84720" y="24210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动词，到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……去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285264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代词，指量好的尺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357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代词，指“鞋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78240" y="382896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连词，表示承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84720" y="4365720"/>
            <a:ext cx="394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连词，表示转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3b6d91f5c6ab440c730eec1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8360" y="1484280"/>
            <a:ext cx="61927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808080"/>
                </a:solidFill>
                <a:latin typeface="宋体"/>
              </a:rPr>
              <a:t>、郑人有欲买履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808080"/>
                </a:solidFill>
                <a:latin typeface="宋体"/>
              </a:rPr>
              <a:t>、何不试之以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808080"/>
                </a:solidFill>
                <a:latin typeface="宋体"/>
              </a:rPr>
              <a:t>、无自信也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33336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帮你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0000" y="1916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定语后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3213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状语后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0000" y="4437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宾语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87640" y="40464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你能说出下列句子的句式特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用现代汉语翻译下面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人曰：“何不试之以足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宁信度，无自信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用现代汉语翻译下面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人曰：“何不试之以足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有人问：“为什么不用脚试一试鞋的大小呢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宁信度，无自信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（我）宁可相信尺码，也不相信自己的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457200"/>
            <a:ext cx="2667240" cy="990720"/>
          </a:xfrm>
          <a:custGeom>
            <a:avLst/>
            <a:gdLst>
              <a:gd name="textAreaLeft" fmla="*/ 0 w 2667240"/>
              <a:gd name="textAreaRight" fmla="*/ 2667600 w 266724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6094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讲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82880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结合句意，发挥丰富的想象，给故事加上具体的情节，使故事变得更生动，更有趣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来，请把你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描述的故事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讲给大家听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Arial"/>
              </a:rPr>
              <a:t>议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人物形象：这则故事中的“郑人”是一个怎样的人物形象呢，请结合故事情节说一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故事寓意：这则寓言故事，蕴含着怎样的道理呢？请自由议一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66"/>
                </a:solidFill>
                <a:uFillTx/>
                <a:latin typeface="Arial"/>
              </a:rPr>
              <a:t>作整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33cc33"/>
                </a:solidFill>
                <a:latin typeface="Arial"/>
              </a:rPr>
              <a:t>寓言及其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Arial"/>
              </a:rPr>
              <a:t>通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Arial"/>
              </a:rPr>
              <a:t>特殊的文言句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ff"/>
                </a:solidFill>
                <a:latin typeface="Arial"/>
              </a:rPr>
              <a:t>做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学得怎样？来检测一下吧，请完成同步练习第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~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题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信自己，你一定能完成得很好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b6d91f5c6ab440c730eec1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1916280"/>
            <a:ext cx="85327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ahoma"/>
              </a:rPr>
              <a:t>        </a:t>
            </a:r>
            <a:r>
              <a:rPr b="1" lang="zh-CN" sz="4000" spc="-1" strike="noStrike">
                <a:solidFill>
                  <a:srgbClr val="99cc00"/>
                </a:solidFill>
                <a:latin typeface="Tahoma"/>
              </a:rPr>
              <a:t>创新是一个民族进步的灵魂，是国家兴旺发达的不竭动力。希望同学们怀揣美好梦想，在寻求真理的征程中，打破陈规陋俗，勤奋学习，努力创造，实现自己的远大理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765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老师寄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03280" y="1652760"/>
            <a:ext cx="64087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ff"/>
                </a:solidFill>
                <a:latin typeface="Arial"/>
                <a:ea typeface="华文新魏"/>
              </a:rPr>
              <a:t>郑人买履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4508640"/>
            <a:ext cx="4681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阳山实验初级中学校    刘付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35280" y="234936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郑人买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b6d91f5c6ab440c730eec1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24360" y="98100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350028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短小的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6640"/>
            <a:ext cx="22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识寓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19162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揠苗助长、守株待兔、南辕北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263700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滥竽充数、自相矛盾、买椟还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10108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32000" y="436572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表达某个道理（寓意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1018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知作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对于这则寓言故事的作者，你了解多少呢？请自由地说一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示积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你自主学习的过程中，你有哪些重要的积累呢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请大胆展示你的学习成果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读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郑人买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郑人有欲买履者，先自度其足，而置之其坐。至之市，而忘操之。已得履，乃曰：“吾忘持度。”反归取之。及反，市罢，遂不得履。人曰：“何不试之以足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曰：“宁信度，无自信也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质疑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在阅读学习的过程中，你还有哪些不理解的地方呢？请提出来，我们大家一起来探讨！（朗读停顿、词意、句意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3b6d91f5c6ab440c730eec1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2637000"/>
            <a:ext cx="41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）置之其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反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归取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189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帮你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08360" y="2602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大家一起来归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628640"/>
            <a:ext cx="68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解释下列横线的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0828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坐通“座”，座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335772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反通“返”，返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3b6d91f5c6ab440c730eec1d" descr=""/>
          <p:cNvPicPr/>
          <p:nvPr/>
        </p:nvPicPr>
        <p:blipFill>
          <a:blip r:embed="rId1"/>
          <a:stretch/>
        </p:blipFill>
        <p:spPr>
          <a:xfrm>
            <a:off x="-33480" y="-23760"/>
            <a:ext cx="9139320" cy="6854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1844640"/>
            <a:ext cx="763272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通假字是文言文中一种常见的现象。形成的原因很多。例如“坐”通“座”，在战国末期，还没有表示“座位”这个意思的“座”字，就借用同音字“坐”来代 替，直至后来有了“座”字为止。这就叫通假（借）现象。其中，“坐”就叫做“座”的通假字，“座”为本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意：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通假字要读本字的音，解释为本字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189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帮你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08360" y="2602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大家一起来归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105264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认识通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1:01:58Z</dcterms:created>
  <dc:creator>wj</dc:creator>
  <dc:description/>
  <dc:language>en-US</dc:language>
  <cp:lastModifiedBy>lenovo</cp:lastModifiedBy>
  <dcterms:modified xsi:type="dcterms:W3CDTF">2014-09-11T01:27:18Z</dcterms:modified>
  <cp:revision>46</cp:revision>
  <dc:subject/>
  <dc:title>幻灯片 1</dc:title>
</cp:coreProperties>
</file>