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FE60-3A56-4851-BE50-FBDBF8B78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4EAC-9A4C-49D9-995F-AAD926BBA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081A-2C9A-41A6-9B66-A94B3CAF8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C2DB-1A3B-4706-9352-AA5381A99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DAF01E-ECAB-40E0-9BF2-7F9113D98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0A8DA5-C23C-4909-B474-80FB10EDA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2E6C8F-2ECD-4F35-A0AF-6F5C2EB16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6E03E9-B9D4-42B5-BC2E-D302D1E2F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FCD3E9-1FFC-45A1-AE63-2B3C8DF48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18AC58-07BA-444B-B3E2-D6398496F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FD7A56-12C2-4A84-92DD-C433CBA38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0FF8-BEF6-44AD-8329-7C9E6254B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EABC17-A63F-4349-8A98-6B8E9BB94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8ED5E4-CA11-4EDA-AF00-8B175F46C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C7275C-7379-4AD7-981A-0DDF243B4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86FF3E-F9B9-45B2-AF77-7B47C264F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C7A6B7-31F3-4839-B87D-88ACD778F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8B02-D41A-43DB-A2E0-2E938C091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C2FD-D9DC-4113-970F-AEAA46E3D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3B43-A624-4D24-9588-13D768AFC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3DF4-B8CD-4349-9442-6E697896A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10F4-BCF4-4338-A40A-8D7C9F2C3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FEF7-A236-4725-83E2-7830B5E20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6331-E998-4236-80D3-56F2CAC9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6D5DC-BC03-47FB-AF09-863D0EBB3839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8E849-20BB-4D05-90FD-0F6C3E1E6DAC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3b6d91f5c6ab440c730eec1d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924360" y="981000"/>
            <a:ext cx="86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32000" y="3500280"/>
            <a:ext cx="32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短小的故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987640" y="83664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初识寓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191628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揠苗助长、守株待兔、南辕北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58920" y="2637000"/>
            <a:ext cx="61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滥竽充数、自相矛盾、买椟还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8101080" y="616572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332000" y="4365720"/>
            <a:ext cx="58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表达某个的道理（寓意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210182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3b6d91f5c6ab440c730eec1d" descr=""/>
          <p:cNvPicPr/>
          <p:nvPr/>
        </p:nvPicPr>
        <p:blipFill>
          <a:blip r:embed="rId2"/>
          <a:stretch/>
        </p:blipFill>
        <p:spPr>
          <a:xfrm>
            <a:off x="-33480" y="-23760"/>
            <a:ext cx="9139320" cy="68547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68360" y="1844640"/>
            <a:ext cx="7632720" cy="20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通假字是文言文中一种常见的现象。形成的原因很多。例如“坐”通“座”，在战国末期，还没有表示“座位”这个意思的“座”字，就借用同音字“坐”来代 替，直至后来有了“座”字为止。这就叫通假（借）现象。其中，“坐”就叫做“座”的通假字，“座”为本字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注意：</a:t>
            </a:r>
            <a:r>
              <a:rPr b="1" lang="zh-CN" sz="2800" spc="-1" strike="noStrike">
                <a:solidFill>
                  <a:srgbClr val="010199"/>
                </a:solidFill>
                <a:latin typeface="Arial"/>
              </a:rPr>
              <a:t>通假字要读本字的音，解释为本字的意思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26920" y="18900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导问助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08360" y="260280"/>
            <a:ext cx="29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600"/>
                </a:solidFill>
                <a:latin typeface="Tahoma"/>
              </a:rPr>
              <a:t>大家一起来归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1280" y="1052640"/>
            <a:ext cx="31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认识通假字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3b6d91f5c6ab440c730eec1d" descr=""/>
          <p:cNvPicPr/>
          <p:nvPr/>
        </p:nvPicPr>
        <p:blipFill>
          <a:blip r:embed="rId2"/>
          <a:stretch/>
        </p:blipFill>
        <p:spPr>
          <a:xfrm>
            <a:off x="0" y="-95400"/>
            <a:ext cx="9142560" cy="68551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68360" y="2349360"/>
            <a:ext cx="763272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）至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之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）而忘操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）何不试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之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以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）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而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置之其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）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而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忘操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26920" y="18900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导问助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708360" y="260280"/>
            <a:ext cx="29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600"/>
                </a:solidFill>
                <a:latin typeface="Tahoma"/>
              </a:rPr>
              <a:t>大家一起来归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8360" y="1197000"/>
            <a:ext cx="741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199"/>
                </a:solidFill>
                <a:latin typeface="Arial"/>
              </a:rPr>
              <a:t>请指出“之”“而”在下列句子中的意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13080" y="2492280"/>
            <a:ext cx="333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84720" y="2421000"/>
            <a:ext cx="38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动词，到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……去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84720" y="2852640"/>
            <a:ext cx="420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代词，指量好的尺码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284720" y="335772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代词，指“鞋”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278240" y="3828960"/>
            <a:ext cx="360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连词，表示承接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284720" y="4365720"/>
            <a:ext cx="394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连词，表示转折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3b6d91f5c6ab440c730eec1d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68360" y="1484280"/>
            <a:ext cx="6192720" cy="34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10199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010199"/>
                </a:solidFill>
                <a:latin typeface="宋体"/>
              </a:rPr>
              <a:t>、郑人有欲买履者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10199"/>
                </a:solidFill>
                <a:latin typeface="宋体"/>
              </a:rPr>
              <a:t>2</a:t>
            </a:r>
            <a:r>
              <a:rPr b="1" lang="zh-CN" sz="4000" spc="-1" strike="noStrike">
                <a:solidFill>
                  <a:srgbClr val="010199"/>
                </a:solidFill>
                <a:latin typeface="宋体"/>
              </a:rPr>
              <a:t>、何不试之以足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10199"/>
                </a:solidFill>
                <a:latin typeface="宋体"/>
              </a:rPr>
              <a:t>3</a:t>
            </a:r>
            <a:r>
              <a:rPr b="1" lang="zh-CN" sz="4000" spc="-1" strike="noStrike">
                <a:solidFill>
                  <a:srgbClr val="010199"/>
                </a:solidFill>
                <a:latin typeface="宋体"/>
              </a:rPr>
              <a:t>、无自信也 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33336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导问助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580000" y="191628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定语后置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580000" y="321300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状语后置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580000" y="443700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宾语前置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987640" y="404640"/>
            <a:ext cx="56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600"/>
                </a:solidFill>
                <a:latin typeface="Tahoma"/>
              </a:rPr>
              <a:t>你能说出下列句子的句式特点吗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3b6d91f5c6ab440c730eec1d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468360" y="33336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导问助学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        </a:t>
            </a:r>
            <a:r>
              <a:rPr b="1" lang="zh-CN" sz="2800" spc="-1" strike="noStrike">
                <a:solidFill>
                  <a:srgbClr val="00c600"/>
                </a:solidFill>
                <a:latin typeface="Tahoma"/>
              </a:rPr>
              <a:t>大家一起来探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9640" y="1989000"/>
            <a:ext cx="698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   </a:t>
            </a:r>
            <a:r>
              <a:rPr b="1" lang="zh-CN" sz="4000" spc="-1" strike="noStrike">
                <a:solidFill>
                  <a:srgbClr val="000099"/>
                </a:solidFill>
                <a:latin typeface="宋体"/>
              </a:rPr>
              <a:t>《郑人买履》中的买鞋者具有怎样的性格特点？寓言是怎样刻画这一形象的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3b6d91f5c6ab440c730eec1d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684360" y="2205000"/>
            <a:ext cx="770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人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做事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不能墨守陈规，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因循守旧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；应该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从实际出发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，要重视在实践中得出的体会和结论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9640" y="1341360"/>
            <a:ext cx="80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10199"/>
                </a:solidFill>
                <a:latin typeface="Times New Roman"/>
              </a:rPr>
              <a:t>通过这个故事，我们应该懂得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4360" y="47628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导问助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987640" y="549360"/>
            <a:ext cx="53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600"/>
                </a:solidFill>
                <a:latin typeface="Tahoma"/>
              </a:rPr>
              <a:t>你能说出这则寓言的寓意吗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3b6d91f5c6ab440c730eec1d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826920" y="4046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导练评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332000" y="141300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完成导学案中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“课堂练习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258920" y="2205000"/>
            <a:ext cx="6624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宋体"/>
              </a:rPr>
              <a:t>完成后，小组内互改，组长总结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8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8000"/>
                </a:solidFill>
                <a:latin typeface="宋体"/>
              </a:rPr>
              <a:t>总体情况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8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8000"/>
                </a:solidFill>
                <a:latin typeface="宋体"/>
              </a:rPr>
              <a:t>还存在哪些错误，分析并订正错误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8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8000"/>
                </a:solidFill>
                <a:latin typeface="宋体"/>
              </a:rPr>
              <a:t>还有哪些疑问，须提交给全班解决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3b6d91f5c6ab440c730eec1d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684360" y="134136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什么是成语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55640" y="33336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导思慧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067280" y="47628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600"/>
                </a:solidFill>
                <a:latin typeface="Tahoma"/>
              </a:rPr>
              <a:t>知识整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16000" y="1989000"/>
            <a:ext cx="720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199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010199"/>
                </a:solidFill>
                <a:latin typeface="Tahoma"/>
              </a:rPr>
              <a:t>成语是人们长期以来习用的，具有简洁精辟的固定结构，它的字数、结构和意义都相对稳定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11280" y="357336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成语的特点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042920" y="414972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199"/>
                </a:solidFill>
                <a:latin typeface="Tahoma"/>
              </a:rPr>
              <a:t>        </a:t>
            </a:r>
            <a:r>
              <a:rPr b="1" lang="zh-CN" sz="3200" spc="-1" strike="noStrike">
                <a:solidFill>
                  <a:srgbClr val="010199"/>
                </a:solidFill>
                <a:latin typeface="Tahoma"/>
              </a:rPr>
              <a:t>大多由四个字组成，一般都有出处。有些成语从字面就能解释，而有些成语必须知道出处才能准确解释其意义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3b6d91f5c6ab440c730eec1d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692360" y="213372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cc33"/>
                </a:solidFill>
                <a:latin typeface="Tahoma"/>
              </a:rPr>
              <a:t>寓言及其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55640" y="33336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导思慧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692360" y="306864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cc33"/>
                </a:solidFill>
                <a:latin typeface="Tahoma"/>
              </a:rPr>
              <a:t>通假字</a:t>
            </a:r>
            <a:r>
              <a:rPr b="1" lang="zh-CN" sz="3200" spc="-1" strike="noStrike">
                <a:solidFill>
                  <a:srgbClr val="010199"/>
                </a:solidFill>
                <a:latin typeface="Tahoma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692360" y="400536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cc33"/>
                </a:solidFill>
                <a:latin typeface="Tahoma"/>
              </a:rPr>
              <a:t>特殊的文言句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851280" y="47628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600"/>
                </a:solidFill>
                <a:latin typeface="Tahoma"/>
              </a:rPr>
              <a:t>知识整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3b6d91f5c6ab440c730eec1d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95280" y="1916280"/>
            <a:ext cx="85327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199"/>
                </a:solidFill>
                <a:latin typeface="Tahoma"/>
              </a:rPr>
              <a:t>        </a:t>
            </a:r>
            <a:r>
              <a:rPr b="1" lang="zh-CN" sz="3200" spc="-1" strike="noStrike">
                <a:solidFill>
                  <a:srgbClr val="99cc00"/>
                </a:solidFill>
                <a:latin typeface="Tahoma"/>
              </a:rPr>
              <a:t>创新是一个民族进步的灵魂，是国家兴旺发达的不竭动力。希望同学们怀揣美好梦想，在寻求真理的征程中，打破陈规陋俗，勤奋学习，努力创造，实现自己的远大理想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4360" y="765000"/>
            <a:ext cx="28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老师寄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8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3b6d91f5c6ab440c730eec1d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11280" y="836280"/>
            <a:ext cx="777384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ahoma"/>
              </a:rPr>
              <a:t>古代寓言二则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2916360" y="2852640"/>
            <a:ext cx="374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郑人买履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3b6d91f5c6ab440c730eec1d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39640" y="162864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ff33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24440" y="32464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ff33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42920" y="198900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199"/>
                </a:solidFill>
                <a:latin typeface="Tahoma"/>
              </a:rPr>
              <a:t>       </a:t>
            </a:r>
            <a:r>
              <a:rPr b="1" lang="zh-CN" sz="2800" spc="-1" strike="noStrike">
                <a:solidFill>
                  <a:srgbClr val="010199"/>
                </a:solidFill>
                <a:latin typeface="Tahoma"/>
              </a:rPr>
              <a:t>即韩非（约公元前</a:t>
            </a:r>
            <a:r>
              <a:rPr b="1" lang="zh-CN" sz="2800" spc="-1" strike="noStrike">
                <a:solidFill>
                  <a:srgbClr val="010199"/>
                </a:solidFill>
                <a:latin typeface="Tahoma"/>
              </a:rPr>
              <a:t>280—</a:t>
            </a:r>
            <a:r>
              <a:rPr b="1" lang="zh-CN" sz="2800" spc="-1" strike="noStrike">
                <a:solidFill>
                  <a:srgbClr val="010199"/>
                </a:solidFill>
                <a:latin typeface="Tahoma"/>
              </a:rPr>
              <a:t>公元前</a:t>
            </a:r>
            <a:r>
              <a:rPr b="1" lang="zh-CN" sz="2800" spc="-1" strike="noStrike">
                <a:solidFill>
                  <a:srgbClr val="010199"/>
                </a:solidFill>
                <a:latin typeface="Tahoma"/>
              </a:rPr>
              <a:t>233</a:t>
            </a:r>
            <a:r>
              <a:rPr b="1" lang="zh-CN" sz="2800" spc="-1" strike="noStrike">
                <a:solidFill>
                  <a:srgbClr val="010199"/>
                </a:solidFill>
                <a:latin typeface="Tahoma"/>
              </a:rPr>
              <a:t>年）。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ahoma"/>
              </a:rPr>
              <a:t>战国末期思想家、政治家。</a:t>
            </a:r>
            <a:r>
              <a:rPr b="1" lang="zh-CN" sz="2800" spc="-1" strike="noStrike">
                <a:solidFill>
                  <a:srgbClr val="010199"/>
                </a:solidFill>
                <a:latin typeface="Tahoma"/>
              </a:rPr>
              <a:t>是当时思想家荀卿的学生。他继承和发展了荀子的法家思想，吸取了他的法家学说，成为法家的集大成者。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ahoma"/>
              </a:rPr>
              <a:t>他的著作后人称《韩非子》。</a:t>
            </a:r>
            <a:r>
              <a:rPr b="0" lang="zh-CN" sz="2800" spc="-1" strike="noStrike">
                <a:solidFill>
                  <a:srgbClr val="010199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71640" y="98100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了解作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780000" y="105264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韩非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3b6d91f5c6ab440c730eec1d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971640" y="1844640"/>
            <a:ext cx="741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199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10199"/>
                </a:solidFill>
                <a:latin typeface="Tahoma"/>
              </a:rPr>
              <a:t>．借助注释及工具书读懂《郑人买履》的大   意，掌握一些重要的词句。（重点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199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10199"/>
                </a:solidFill>
                <a:latin typeface="Tahoma"/>
              </a:rPr>
              <a:t>．理解《郑人买履》蕴含的道理。（难点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0000" y="54936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导标明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3b6d91f5c6ab440c730eec1d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116000" y="62064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导航预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58920" y="1989000"/>
            <a:ext cx="611964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c600"/>
                </a:solidFill>
                <a:latin typeface="Tahoma"/>
              </a:rPr>
              <a:t>比一比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c600"/>
                </a:solidFill>
                <a:latin typeface="Tahoma"/>
              </a:rPr>
              <a:t>看谁预习得好！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3b6d91f5c6ab440c730eec1d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84360" y="1341360"/>
            <a:ext cx="820872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                          </a:t>
            </a:r>
            <a:r>
              <a:rPr b="1" lang="zh-CN" sz="3200" spc="-1" strike="noStrike">
                <a:solidFill>
                  <a:srgbClr val="010199"/>
                </a:solidFill>
                <a:latin typeface="Tahoma"/>
              </a:rPr>
              <a:t>郑人买履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199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010199"/>
                </a:solidFill>
                <a:latin typeface="Tahoma"/>
              </a:rPr>
              <a:t>郑人有欲买履者，先自度其足，而置之其坐。至之市，而忘操之。已得履，乃曰：“吾忘持度。”反归取之。及反，市罢，遂不得履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199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010199"/>
                </a:solidFill>
                <a:latin typeface="Tahoma"/>
              </a:rPr>
              <a:t>人曰：“何不试之以足？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199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010199"/>
                </a:solidFill>
                <a:latin typeface="Tahoma"/>
              </a:rPr>
              <a:t>曰：“宁信度，无自信也。”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7956720" y="58770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755640" y="47628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导问助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19640" y="620640"/>
            <a:ext cx="46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600"/>
                </a:solidFill>
                <a:latin typeface="Tahoma"/>
              </a:rPr>
              <a:t>你能读出自己的特色吗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" dur="217600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3b6d91f5c6ab440c730eec1d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84360" y="1341360"/>
            <a:ext cx="820872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                          </a:t>
            </a:r>
            <a:r>
              <a:rPr b="1" lang="zh-CN" sz="3200" spc="-1" strike="noStrike">
                <a:solidFill>
                  <a:srgbClr val="010199"/>
                </a:solidFill>
                <a:latin typeface="Tahoma"/>
              </a:rPr>
              <a:t>郑人买履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199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010199"/>
                </a:solidFill>
                <a:latin typeface="Tahoma"/>
              </a:rPr>
              <a:t>郑人有欲买履者，先自度其足，而置之其坐。至之市，而忘操之。已得履，乃曰：“吾忘持度。”反归取之。及反，市罢，遂不得履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199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010199"/>
                </a:solidFill>
                <a:latin typeface="Tahoma"/>
              </a:rPr>
              <a:t>人曰：“何不试之以足？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199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010199"/>
                </a:solidFill>
                <a:latin typeface="Tahoma"/>
              </a:rPr>
              <a:t>曰：“宁信度，无自信也。”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7956720" y="58770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755640" y="47628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导问助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48000" y="62064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600"/>
                </a:solidFill>
                <a:latin typeface="Tahoma"/>
              </a:rPr>
              <a:t>能用现代汉语说一说故事吗？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7" dur="217600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3b6d91f5c6ab440c730eec1d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971640" y="47628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导问助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42920" y="1916280"/>
            <a:ext cx="56898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c600"/>
                </a:solidFill>
                <a:latin typeface="Tahoma"/>
              </a:rPr>
              <a:t>你还有那些字词句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c600"/>
                </a:solidFill>
                <a:latin typeface="Tahoma"/>
              </a:rPr>
              <a:t>不理解吗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3b6d91f5c6ab440c730eec1d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39640" y="2637000"/>
            <a:ext cx="4105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ahoma"/>
              </a:rPr>
              <a:t>（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1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</a:rPr>
              <a:t>）置之其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坐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ahoma"/>
              </a:rPr>
              <a:t>（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2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</a:rPr>
              <a:t>）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反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</a:rPr>
              <a:t>归取之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26920" y="18900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导问助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08360" y="260280"/>
            <a:ext cx="29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600"/>
                </a:solidFill>
                <a:latin typeface="Tahoma"/>
              </a:rPr>
              <a:t>大家一起来归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4360" y="1628640"/>
            <a:ext cx="684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解释下列横线的字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00720" y="2708280"/>
            <a:ext cx="42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坐通“座”，座位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00720" y="3357720"/>
            <a:ext cx="38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反通“返”，返回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3:21:25Z</dcterms:created>
  <dc:creator>g</dc:creator>
  <dc:description/>
  <dc:language>en-US</dc:language>
  <cp:lastModifiedBy>Administrator</cp:lastModifiedBy>
  <dcterms:modified xsi:type="dcterms:W3CDTF">2011-09-12T05:58:07Z</dcterms:modified>
  <cp:revision>18</cp:revision>
  <dc:subject/>
  <dc:title>幻灯片 1</dc:title>
</cp:coreProperties>
</file>