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camera.wav" ContentType="audio/x-wav"/>
  <Override PartName="/ppt/media/image21.jpeg" ContentType="image/jpeg"/>
  <Override PartName="/ppt/media/laser.wav" ContentType="audio/x-wav"/>
  <Override PartName="/ppt/media/image4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5.jpeg" ContentType="image/jpeg"/>
  <Override PartName="/ppt/media/image3.wmf" ContentType="image/x-wmf"/>
  <Override PartName="/ppt/media/image12.jpeg" ContentType="image/jpeg"/>
  <Override PartName="/ppt/media/drumroll.wav" ContentType="audio/x-wav"/>
  <Override PartName="/ppt/media/image11.jpeg" ContentType="image/jpeg"/>
  <Override PartName="/ppt/media/image2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0BEB8-D675-4739-BD12-384352D2E0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1D9A-E579-4A6B-9FD9-81657C92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C8CE-5813-47CA-801C-B75DE2AC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3A792-0BB4-4564-A0CA-AAD24D022A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8D959-190D-4660-AEB8-52CD0718D5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48BD6-9D4B-44B9-90AA-F74E16CE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3D9FA-20EB-42EE-B65B-C84FD0F2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2B6F5-69C0-4BC2-9A20-A2233E00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9029F-B361-4121-A1A4-119FAB2A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522E7-63CB-4891-B042-665C69A6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3C7F3-ACD1-4998-A194-4B1E47B9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E54D-FF90-4627-ABCB-5279587B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9126B-172A-4DF8-9A3B-59548E40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962A5-AE4A-4EA0-9AD4-AE52C5CA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23346-F4CB-4323-8785-3C915070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FB714-DB82-45D8-90F6-2CBA9487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ED0D7-0B87-469D-94A6-3A63A2C176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1E6B2-CD39-4434-8612-B8B041B8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D82F2-71E8-4109-8F6D-78499DDC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A69C-1356-4075-BE65-E313DB64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B28C-56F7-44C5-BA96-100C3A0F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C08E-E06B-4764-B434-6CDEA672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992A4-E2B7-4138-A98A-5C8BFAFD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D78F-373F-479C-90B7-773D3C1D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2D5B-B633-4D6A-8756-9F367BFEA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AB34-3E5F-4BAF-A819-4710D8AC6B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nu.edu.cn/sh/pic/txt/shrwa17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277,22,&#24187;&#28783;&#29255; 22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15.jpeg"/><Relationship Id="rId11" Type="http://schemas.openxmlformats.org/officeDocument/2006/relationships/image" Target="../media/image14.jpeg"/><Relationship Id="rId12" Type="http://schemas.openxmlformats.org/officeDocument/2006/relationships/image" Target="../media/image13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lnu.edu.cn/sh/pic/txt/shrwa3.html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lnu.edu.cn/sh/pic/txt/shrwa4.html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lnu.edu.cn/sh/pic/txt/shrwa21.html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lnu.edu.cn/sh/pic/txt/shrwa27.html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lnu.edu.cn/sh/pic/txt/shrwa29.htm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lnu.edu.cn/sh/pic/txt/shrwa31.html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lnu.edu.cn/sh/pic/txt/shrwb70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WordArt 3"/>
          <p:cNvSpPr txBox="1"/>
          <p:nvPr/>
        </p:nvSpPr>
        <p:spPr>
          <a:xfrm>
            <a:off x="1332000" y="907920"/>
            <a:ext cx="6553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智取生辰纲</a:t>
            </a:r>
            <a:endParaRPr b="0" lang="en-US" sz="8000" spc="1" strike="noStrike">
              <a:ln w="19080">
                <a:solidFill>
                  <a:srgbClr val="ffff00"/>
                </a:solidFill>
                <a:round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3" name="Picture 4" descr="021"/>
          <p:cNvPicPr/>
          <p:nvPr/>
        </p:nvPicPr>
        <p:blipFill>
          <a:blip r:embed="rId2"/>
          <a:stretch/>
        </p:blipFill>
        <p:spPr>
          <a:xfrm>
            <a:off x="3851280" y="6324480"/>
            <a:ext cx="1066680" cy="533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851280" y="6338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字 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6" descr="021"/>
          <p:cNvPicPr/>
          <p:nvPr/>
        </p:nvPicPr>
        <p:blipFill>
          <a:blip r:embed="rId3"/>
          <a:stretch/>
        </p:blipFill>
        <p:spPr>
          <a:xfrm>
            <a:off x="8077320" y="632448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021"/>
          <p:cNvPicPr/>
          <p:nvPr/>
        </p:nvPicPr>
        <p:blipFill>
          <a:blip r:embed="rId4"/>
          <a:stretch/>
        </p:blipFill>
        <p:spPr>
          <a:xfrm>
            <a:off x="7010280" y="6324480"/>
            <a:ext cx="1067040" cy="533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021"/>
          <p:cNvPicPr/>
          <p:nvPr/>
        </p:nvPicPr>
        <p:blipFill>
          <a:blip r:embed="rId5"/>
          <a:stretch/>
        </p:blipFill>
        <p:spPr>
          <a:xfrm>
            <a:off x="5943600" y="632448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021"/>
          <p:cNvPicPr/>
          <p:nvPr/>
        </p:nvPicPr>
        <p:blipFill>
          <a:blip r:embed="rId6"/>
          <a:stretch/>
        </p:blipFill>
        <p:spPr>
          <a:xfrm>
            <a:off x="4876920" y="6324480"/>
            <a:ext cx="106668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4952880" y="6338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线 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019920" y="63388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人 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7086600" y="6338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拓 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8153280" y="6338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练 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14"/>
          <p:cNvSpPr txBox="1"/>
          <p:nvPr/>
        </p:nvSpPr>
        <p:spPr>
          <a:xfrm>
            <a:off x="3348000" y="2781360"/>
            <a:ext cx="25909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660033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施耐庵</a:t>
            </a:r>
            <a:endParaRPr b="0" lang="en-US" sz="4400" spc="1" strike="noStrike">
              <a:ln w="9360">
                <a:solidFill>
                  <a:srgbClr val="660033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pic>
        <p:nvPicPr>
          <p:cNvPr id="94" name="Picture 15" descr="021"/>
          <p:cNvPicPr/>
          <p:nvPr/>
        </p:nvPicPr>
        <p:blipFill>
          <a:blip r:embed="rId7"/>
          <a:stretch/>
        </p:blipFill>
        <p:spPr>
          <a:xfrm>
            <a:off x="2771640" y="6348240"/>
            <a:ext cx="1079640" cy="509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6"/>
          <p:cNvSpPr/>
          <p:nvPr/>
        </p:nvSpPr>
        <p:spPr>
          <a:xfrm>
            <a:off x="2843280" y="630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小说以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生辰纲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争夺为中心事件，采用双线结构，明线是什么？暗线又是什么？</a:t>
            </a: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4920" y="1844280"/>
            <a:ext cx="84978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明线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杨志押送生辰纲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暗线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晁盖智取生辰纲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请同学们跳读课文，筛选信息，以人物的主要行动为归纳点，简要分析出明、暗两条线索在什么时间，什么地点交接在一起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606920" y="59500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六月初四正午；黄泥冈松树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1619280" y="1484280"/>
            <a:ext cx="16574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3708360" y="1484280"/>
            <a:ext cx="9349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6445080" y="1484280"/>
            <a:ext cx="9352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042920" y="5229360"/>
            <a:ext cx="74898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900000" y="5805360"/>
            <a:ext cx="280836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小 说 线 索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47560" y="91440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明 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553080" y="8380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暗 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200" y="16002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杨志押送生辰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181480" y="15238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好汉智取生辰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600200" y="2286000"/>
            <a:ext cx="13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66"/>
                </a:solidFill>
                <a:latin typeface="Times New Roman"/>
                <a:ea typeface="华文行楷"/>
              </a:rPr>
              <a:t>上 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981080" y="2971800"/>
            <a:ext cx="486000" cy="533520"/>
          </a:xfrm>
          <a:prstGeom prst="downArrow">
            <a:avLst>
              <a:gd name="adj1" fmla="val 50000"/>
              <a:gd name="adj2" fmla="val 27434"/>
            </a:avLst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6781680" y="2971800"/>
            <a:ext cx="486000" cy="533520"/>
          </a:xfrm>
          <a:prstGeom prst="downArrow">
            <a:avLst>
              <a:gd name="adj1" fmla="val 50000"/>
              <a:gd name="adj2" fmla="val 27434"/>
            </a:avLst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1981080" y="4267080"/>
            <a:ext cx="486000" cy="533520"/>
          </a:xfrm>
          <a:prstGeom prst="downArrow">
            <a:avLst>
              <a:gd name="adj1" fmla="val 50000"/>
              <a:gd name="adj2" fmla="val 27434"/>
            </a:avLst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6781680" y="4267080"/>
            <a:ext cx="486000" cy="533520"/>
          </a:xfrm>
          <a:prstGeom prst="downArrow">
            <a:avLst>
              <a:gd name="adj1" fmla="val 50000"/>
              <a:gd name="adj2" fmla="val 27434"/>
            </a:avLst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600200" y="3581280"/>
            <a:ext cx="13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Times New Roman"/>
                <a:ea typeface="华文行楷"/>
              </a:rPr>
              <a:t>中 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1600200" y="48769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Times New Roman"/>
                <a:ea typeface="华文行楷"/>
              </a:rPr>
              <a:t>失 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6324480" y="22096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Times New Roman"/>
                <a:ea typeface="华文行楷"/>
              </a:rPr>
              <a:t>定 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6400800" y="35812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Times New Roman"/>
                <a:ea typeface="华文行楷"/>
              </a:rPr>
              <a:t>施 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6477120" y="480060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Times New Roman"/>
                <a:ea typeface="华文行楷"/>
              </a:rPr>
              <a:t>劫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362320" y="5410080"/>
            <a:ext cx="2361960" cy="68580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4750920" y="5313600"/>
            <a:ext cx="2230200" cy="78984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228600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华文中宋"/>
              </a:rPr>
              <a:t>六月初四正午黄泥冈松树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20">
            <a:hlinkClick r:id="" action="ppaction://hlinkshowjump?jump=nex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4196"/>
                </a:moveTo>
                <a:lnTo>
                  <a:pt x="17806" y="11202"/>
                </a:lnTo>
                <a:lnTo>
                  <a:pt x="3794" y="18209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200"/>
                            </p:stCondLst>
                            <p:childTnLst>
                              <p:par>
                                <p:cTn id="232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700"/>
                            </p:stCondLst>
                            <p:childTnLst>
                              <p:par>
                                <p:cTn id="236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200"/>
                            </p:stCondLst>
                            <p:childTnLst>
                              <p:par>
                                <p:cTn id="240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700"/>
                            </p:stCondLst>
                            <p:childTnLst>
                              <p:par>
                                <p:cTn id="244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500"/>
                            </p:stCondLst>
                            <p:childTnLst>
                              <p:par>
                                <p:cTn id="269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500"/>
                            </p:stCondLst>
                            <p:childTnLst>
                              <p:par>
                                <p:cTn id="27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9000"/>
                            </p:stCondLst>
                            <p:childTnLst>
                              <p:par>
                                <p:cTn id="27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3886200" y="685800"/>
            <a:ext cx="1447920" cy="1447920"/>
            <a:chOff x="3886200" y="685800"/>
            <a:chExt cx="1447920" cy="1447920"/>
          </a:xfrm>
        </p:grpSpPr>
        <p:sp>
          <p:nvSpPr>
            <p:cNvPr id="152" name="AutoShape 3"/>
            <p:cNvSpPr/>
            <p:nvPr/>
          </p:nvSpPr>
          <p:spPr>
            <a:xfrm>
              <a:off x="3886200" y="685800"/>
              <a:ext cx="1447920" cy="1447920"/>
            </a:xfrm>
            <a:prstGeom prst="flowChartConnector">
              <a:avLst/>
            </a:prstGeom>
            <a:solidFill>
              <a:srgbClr val="ffff66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>
              <a:off x="4038480" y="914400"/>
              <a:ext cx="99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智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Group 5"/>
          <p:cNvGrpSpPr/>
          <p:nvPr/>
        </p:nvGrpSpPr>
        <p:grpSpPr>
          <a:xfrm>
            <a:off x="2743200" y="2133720"/>
            <a:ext cx="1371600" cy="990360"/>
            <a:chOff x="2743200" y="2133720"/>
            <a:chExt cx="1371600" cy="990360"/>
          </a:xfrm>
        </p:grpSpPr>
        <p:sp>
          <p:nvSpPr>
            <p:cNvPr id="155" name="AutoShape 6"/>
            <p:cNvSpPr/>
            <p:nvPr/>
          </p:nvSpPr>
          <p:spPr>
            <a:xfrm>
              <a:off x="2743200" y="2362320"/>
              <a:ext cx="1295280" cy="761760"/>
            </a:xfrm>
            <a:prstGeom prst="flowChartMagneticDisk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AutoShape 7"/>
            <p:cNvSpPr/>
            <p:nvPr/>
          </p:nvSpPr>
          <p:spPr>
            <a:xfrm>
              <a:off x="3352680" y="2133720"/>
              <a:ext cx="15228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2743200" y="2438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乔装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Group 9"/>
          <p:cNvGrpSpPr/>
          <p:nvPr/>
        </p:nvGrpSpPr>
        <p:grpSpPr>
          <a:xfrm>
            <a:off x="2743200" y="3124080"/>
            <a:ext cx="1371600" cy="990720"/>
            <a:chOff x="2743200" y="3124080"/>
            <a:chExt cx="1371600" cy="990720"/>
          </a:xfrm>
        </p:grpSpPr>
        <p:sp>
          <p:nvSpPr>
            <p:cNvPr id="159" name="AutoShape 10"/>
            <p:cNvSpPr/>
            <p:nvPr/>
          </p:nvSpPr>
          <p:spPr>
            <a:xfrm>
              <a:off x="2743200" y="3352680"/>
              <a:ext cx="1295280" cy="762120"/>
            </a:xfrm>
            <a:prstGeom prst="flowChartMagneticDisk">
              <a:avLst/>
            </a:prstGeom>
            <a:solidFill>
              <a:srgbClr val="cc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AutoShape 11"/>
            <p:cNvSpPr/>
            <p:nvPr/>
          </p:nvSpPr>
          <p:spPr>
            <a:xfrm>
              <a:off x="3352680" y="3124080"/>
              <a:ext cx="15228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743200" y="3429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更时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Group 13"/>
          <p:cNvGrpSpPr/>
          <p:nvPr/>
        </p:nvGrpSpPr>
        <p:grpSpPr>
          <a:xfrm>
            <a:off x="2743200" y="4114800"/>
            <a:ext cx="1371600" cy="990720"/>
            <a:chOff x="2743200" y="4114800"/>
            <a:chExt cx="1371600" cy="990720"/>
          </a:xfrm>
        </p:grpSpPr>
        <p:sp>
          <p:nvSpPr>
            <p:cNvPr id="163" name="AutoShape 14"/>
            <p:cNvSpPr/>
            <p:nvPr/>
          </p:nvSpPr>
          <p:spPr>
            <a:xfrm>
              <a:off x="2743200" y="4343400"/>
              <a:ext cx="1295280" cy="762120"/>
            </a:xfrm>
            <a:prstGeom prst="flowChartMagneticDisk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15"/>
            <p:cNvSpPr/>
            <p:nvPr/>
          </p:nvSpPr>
          <p:spPr>
            <a:xfrm>
              <a:off x="3352680" y="4114800"/>
              <a:ext cx="15228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2743200" y="4419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赶骂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Group 17"/>
          <p:cNvGrpSpPr/>
          <p:nvPr/>
        </p:nvGrpSpPr>
        <p:grpSpPr>
          <a:xfrm>
            <a:off x="1219320" y="2133720"/>
            <a:ext cx="1371600" cy="990360"/>
            <a:chOff x="1219320" y="2133720"/>
            <a:chExt cx="1371600" cy="990360"/>
          </a:xfrm>
        </p:grpSpPr>
        <p:sp>
          <p:nvSpPr>
            <p:cNvPr id="167" name="AutoShape 18"/>
            <p:cNvSpPr/>
            <p:nvPr/>
          </p:nvSpPr>
          <p:spPr>
            <a:xfrm>
              <a:off x="1219320" y="2362320"/>
              <a:ext cx="1295280" cy="761760"/>
            </a:xfrm>
            <a:prstGeom prst="flowChartMagneticDisk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19"/>
            <p:cNvSpPr/>
            <p:nvPr/>
          </p:nvSpPr>
          <p:spPr>
            <a:xfrm>
              <a:off x="1828800" y="2133720"/>
              <a:ext cx="15264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1219320" y="2438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疑客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Group 21"/>
          <p:cNvGrpSpPr/>
          <p:nvPr/>
        </p:nvGrpSpPr>
        <p:grpSpPr>
          <a:xfrm>
            <a:off x="1143000" y="3124080"/>
            <a:ext cx="1371600" cy="990720"/>
            <a:chOff x="1143000" y="3124080"/>
            <a:chExt cx="1371600" cy="990720"/>
          </a:xfrm>
        </p:grpSpPr>
        <p:sp>
          <p:nvSpPr>
            <p:cNvPr id="171" name="AutoShape 22"/>
            <p:cNvSpPr/>
            <p:nvPr/>
          </p:nvSpPr>
          <p:spPr>
            <a:xfrm>
              <a:off x="1143000" y="3352680"/>
              <a:ext cx="1295280" cy="762120"/>
            </a:xfrm>
            <a:prstGeom prst="flowChartMagneticDisk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23"/>
            <p:cNvSpPr/>
            <p:nvPr/>
          </p:nvSpPr>
          <p:spPr>
            <a:xfrm>
              <a:off x="1752480" y="3124080"/>
              <a:ext cx="15264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24"/>
            <p:cNvSpPr/>
            <p:nvPr/>
          </p:nvSpPr>
          <p:spPr>
            <a:xfrm>
              <a:off x="1143000" y="3429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疑酒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1143000" y="4114800"/>
            <a:ext cx="1371600" cy="990720"/>
            <a:chOff x="1143000" y="4114800"/>
            <a:chExt cx="1371600" cy="990720"/>
          </a:xfrm>
        </p:grpSpPr>
        <p:sp>
          <p:nvSpPr>
            <p:cNvPr id="175" name="AutoShape 26"/>
            <p:cNvSpPr/>
            <p:nvPr/>
          </p:nvSpPr>
          <p:spPr>
            <a:xfrm>
              <a:off x="1143000" y="4343400"/>
              <a:ext cx="1295280" cy="762120"/>
            </a:xfrm>
            <a:prstGeom prst="flowChartMagneticDisk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AutoShape 27"/>
            <p:cNvSpPr/>
            <p:nvPr/>
          </p:nvSpPr>
          <p:spPr>
            <a:xfrm>
              <a:off x="1752480" y="4114800"/>
              <a:ext cx="15264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8"/>
            <p:cNvSpPr/>
            <p:nvPr/>
          </p:nvSpPr>
          <p:spPr>
            <a:xfrm>
              <a:off x="1143000" y="4419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窥饮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Group 29"/>
          <p:cNvGrpSpPr/>
          <p:nvPr/>
        </p:nvGrpSpPr>
        <p:grpSpPr>
          <a:xfrm>
            <a:off x="6781680" y="2133720"/>
            <a:ext cx="1371600" cy="990360"/>
            <a:chOff x="6781680" y="2133720"/>
            <a:chExt cx="1371600" cy="990360"/>
          </a:xfrm>
        </p:grpSpPr>
        <p:sp>
          <p:nvSpPr>
            <p:cNvPr id="179" name="AutoShape 30"/>
            <p:cNvSpPr/>
            <p:nvPr/>
          </p:nvSpPr>
          <p:spPr>
            <a:xfrm>
              <a:off x="6781680" y="2362320"/>
              <a:ext cx="1295280" cy="761760"/>
            </a:xfrm>
            <a:prstGeom prst="flowChartMagneticDisk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31"/>
            <p:cNvSpPr/>
            <p:nvPr/>
          </p:nvSpPr>
          <p:spPr>
            <a:xfrm>
              <a:off x="7391160" y="2133720"/>
              <a:ext cx="15264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Text Box 32"/>
            <p:cNvSpPr/>
            <p:nvPr/>
          </p:nvSpPr>
          <p:spPr>
            <a:xfrm>
              <a:off x="6781680" y="2438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改扮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33"/>
          <p:cNvGrpSpPr/>
          <p:nvPr/>
        </p:nvGrpSpPr>
        <p:grpSpPr>
          <a:xfrm>
            <a:off x="6781680" y="3124080"/>
            <a:ext cx="1371600" cy="990720"/>
            <a:chOff x="6781680" y="3124080"/>
            <a:chExt cx="1371600" cy="990720"/>
          </a:xfrm>
        </p:grpSpPr>
        <p:sp>
          <p:nvSpPr>
            <p:cNvPr id="183" name="AutoShape 34"/>
            <p:cNvSpPr/>
            <p:nvPr/>
          </p:nvSpPr>
          <p:spPr>
            <a:xfrm>
              <a:off x="6781680" y="3352680"/>
              <a:ext cx="1295280" cy="762120"/>
            </a:xfrm>
            <a:prstGeom prst="flowChartMagneticDisk">
              <a:avLst/>
            </a:prstGeom>
            <a:solidFill>
              <a:srgbClr val="cc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utoShape 35"/>
            <p:cNvSpPr/>
            <p:nvPr/>
          </p:nvSpPr>
          <p:spPr>
            <a:xfrm>
              <a:off x="7391160" y="3124080"/>
              <a:ext cx="15264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6781680" y="3429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争酒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Group 37"/>
          <p:cNvGrpSpPr/>
          <p:nvPr/>
        </p:nvGrpSpPr>
        <p:grpSpPr>
          <a:xfrm>
            <a:off x="6781680" y="4114800"/>
            <a:ext cx="1371600" cy="990720"/>
            <a:chOff x="6781680" y="4114800"/>
            <a:chExt cx="1371600" cy="990720"/>
          </a:xfrm>
        </p:grpSpPr>
        <p:sp>
          <p:nvSpPr>
            <p:cNvPr id="187" name="AutoShape 38"/>
            <p:cNvSpPr/>
            <p:nvPr/>
          </p:nvSpPr>
          <p:spPr>
            <a:xfrm>
              <a:off x="6781680" y="4343400"/>
              <a:ext cx="1295280" cy="762120"/>
            </a:xfrm>
            <a:prstGeom prst="flowChartMagneticDisk">
              <a:avLst/>
            </a:prstGeom>
            <a:solidFill>
              <a:srgbClr val="cc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39"/>
            <p:cNvSpPr/>
            <p:nvPr/>
          </p:nvSpPr>
          <p:spPr>
            <a:xfrm>
              <a:off x="7391160" y="4114800"/>
              <a:ext cx="15264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40"/>
            <p:cNvSpPr/>
            <p:nvPr/>
          </p:nvSpPr>
          <p:spPr>
            <a:xfrm>
              <a:off x="6781680" y="4419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巧投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Group 41"/>
          <p:cNvGrpSpPr/>
          <p:nvPr/>
        </p:nvGrpSpPr>
        <p:grpSpPr>
          <a:xfrm>
            <a:off x="5257800" y="2133720"/>
            <a:ext cx="1371600" cy="990360"/>
            <a:chOff x="5257800" y="2133720"/>
            <a:chExt cx="1371600" cy="990360"/>
          </a:xfrm>
        </p:grpSpPr>
        <p:sp>
          <p:nvSpPr>
            <p:cNvPr id="191" name="AutoShape 42"/>
            <p:cNvSpPr/>
            <p:nvPr/>
          </p:nvSpPr>
          <p:spPr>
            <a:xfrm>
              <a:off x="5257800" y="2362320"/>
              <a:ext cx="1295280" cy="761760"/>
            </a:xfrm>
            <a:prstGeom prst="flowChartMagneticDisk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43"/>
            <p:cNvSpPr/>
            <p:nvPr/>
          </p:nvSpPr>
          <p:spPr>
            <a:xfrm>
              <a:off x="5867280" y="2133720"/>
              <a:ext cx="15264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44"/>
            <p:cNvSpPr/>
            <p:nvPr/>
          </p:nvSpPr>
          <p:spPr>
            <a:xfrm>
              <a:off x="5257800" y="2438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天时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45"/>
          <p:cNvGrpSpPr/>
          <p:nvPr/>
        </p:nvGrpSpPr>
        <p:grpSpPr>
          <a:xfrm>
            <a:off x="5257800" y="3124080"/>
            <a:ext cx="1371600" cy="990720"/>
            <a:chOff x="5257800" y="3124080"/>
            <a:chExt cx="1371600" cy="990720"/>
          </a:xfrm>
        </p:grpSpPr>
        <p:sp>
          <p:nvSpPr>
            <p:cNvPr id="195" name="AutoShape 46"/>
            <p:cNvSpPr/>
            <p:nvPr/>
          </p:nvSpPr>
          <p:spPr>
            <a:xfrm>
              <a:off x="5257800" y="3352680"/>
              <a:ext cx="1295280" cy="762120"/>
            </a:xfrm>
            <a:prstGeom prst="flowChartMagneticDisk">
              <a:avLst/>
            </a:prstGeom>
            <a:solidFill>
              <a:srgbClr val="ff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47"/>
            <p:cNvSpPr/>
            <p:nvPr/>
          </p:nvSpPr>
          <p:spPr>
            <a:xfrm>
              <a:off x="5867280" y="3124080"/>
              <a:ext cx="15264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48"/>
            <p:cNvSpPr/>
            <p:nvPr/>
          </p:nvSpPr>
          <p:spPr>
            <a:xfrm>
              <a:off x="5257800" y="3429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地利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8" name="Group 49"/>
          <p:cNvGrpSpPr/>
          <p:nvPr/>
        </p:nvGrpSpPr>
        <p:grpSpPr>
          <a:xfrm>
            <a:off x="5257800" y="4114800"/>
            <a:ext cx="1371600" cy="990720"/>
            <a:chOff x="5257800" y="4114800"/>
            <a:chExt cx="1371600" cy="990720"/>
          </a:xfrm>
        </p:grpSpPr>
        <p:sp>
          <p:nvSpPr>
            <p:cNvPr id="199" name="AutoShape 50"/>
            <p:cNvSpPr/>
            <p:nvPr/>
          </p:nvSpPr>
          <p:spPr>
            <a:xfrm>
              <a:off x="5257800" y="4343400"/>
              <a:ext cx="1295280" cy="762120"/>
            </a:xfrm>
            <a:prstGeom prst="flowChartMagneticDisk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AutoShape 51"/>
            <p:cNvSpPr/>
            <p:nvPr/>
          </p:nvSpPr>
          <p:spPr>
            <a:xfrm>
              <a:off x="5867280" y="4114800"/>
              <a:ext cx="15264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52"/>
            <p:cNvSpPr/>
            <p:nvPr/>
          </p:nvSpPr>
          <p:spPr>
            <a:xfrm>
              <a:off x="5257800" y="4419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人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Group 53"/>
          <p:cNvGrpSpPr/>
          <p:nvPr/>
        </p:nvGrpSpPr>
        <p:grpSpPr>
          <a:xfrm>
            <a:off x="3661200" y="2209680"/>
            <a:ext cx="1520280" cy="3657600"/>
            <a:chOff x="3661200" y="2209680"/>
            <a:chExt cx="1520280" cy="3657600"/>
          </a:xfrm>
        </p:grpSpPr>
        <p:sp>
          <p:nvSpPr>
            <p:cNvPr id="203" name="AutoShape 54"/>
            <p:cNvSpPr/>
            <p:nvPr/>
          </p:nvSpPr>
          <p:spPr>
            <a:xfrm>
              <a:off x="3962520" y="2209680"/>
              <a:ext cx="1218960" cy="3657600"/>
            </a:xfrm>
            <a:prstGeom prst="flowChartExtract">
              <a:avLst/>
            </a:prstGeom>
            <a:solidFill>
              <a:srgbClr val="8c7e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55"/>
            <p:cNvSpPr/>
            <p:nvPr/>
          </p:nvSpPr>
          <p:spPr>
            <a:xfrm>
              <a:off x="3661200" y="3886200"/>
              <a:ext cx="1277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Times New Roman"/>
                  <a:ea typeface="华文彩云"/>
                </a:rPr>
                <a:t>黄泥冈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Text Box 56"/>
          <p:cNvSpPr/>
          <p:nvPr/>
        </p:nvSpPr>
        <p:spPr>
          <a:xfrm>
            <a:off x="2057400" y="838080"/>
            <a:ext cx="990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7"/>
          <p:cNvSpPr/>
          <p:nvPr/>
        </p:nvSpPr>
        <p:spPr>
          <a:xfrm>
            <a:off x="6324480" y="838080"/>
            <a:ext cx="914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取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58"/>
          <p:cNvGrpSpPr/>
          <p:nvPr/>
        </p:nvGrpSpPr>
        <p:grpSpPr>
          <a:xfrm>
            <a:off x="304920" y="1523880"/>
            <a:ext cx="4343400" cy="703440"/>
            <a:chOff x="304920" y="1523880"/>
            <a:chExt cx="4343400" cy="703440"/>
          </a:xfrm>
        </p:grpSpPr>
        <p:sp>
          <p:nvSpPr>
            <p:cNvPr id="208" name="Line 59"/>
            <p:cNvSpPr/>
            <p:nvPr/>
          </p:nvSpPr>
          <p:spPr>
            <a:xfrm>
              <a:off x="533520" y="2133720"/>
              <a:ext cx="4114800" cy="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60"/>
            <p:cNvSpPr/>
            <p:nvPr/>
          </p:nvSpPr>
          <p:spPr>
            <a:xfrm>
              <a:off x="304920" y="152388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cc"/>
                  </a:solidFill>
                  <a:latin typeface="Times New Roman"/>
                </a:rPr>
                <a:t>明线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61"/>
          <p:cNvGrpSpPr/>
          <p:nvPr/>
        </p:nvGrpSpPr>
        <p:grpSpPr>
          <a:xfrm>
            <a:off x="4571640" y="1371600"/>
            <a:ext cx="4572360" cy="762120"/>
            <a:chOff x="4571640" y="1371600"/>
            <a:chExt cx="4572360" cy="762120"/>
          </a:xfrm>
        </p:grpSpPr>
        <p:sp>
          <p:nvSpPr>
            <p:cNvPr id="211" name="Line 62"/>
            <p:cNvSpPr/>
            <p:nvPr/>
          </p:nvSpPr>
          <p:spPr>
            <a:xfrm flipH="1">
              <a:off x="4571640" y="2133720"/>
              <a:ext cx="3505320" cy="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63"/>
            <p:cNvSpPr/>
            <p:nvPr/>
          </p:nvSpPr>
          <p:spPr>
            <a:xfrm>
              <a:off x="7543800" y="137160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暗线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2"/>
          <p:cNvSpPr/>
          <p:nvPr/>
        </p:nvSpPr>
        <p:spPr>
          <a:xfrm>
            <a:off x="762120" y="1523880"/>
            <a:ext cx="7924680" cy="1447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3962520" y="2209680"/>
            <a:ext cx="1218960" cy="3657600"/>
          </a:xfrm>
          <a:prstGeom prst="flowChartExtract">
            <a:avLst/>
          </a:prstGeom>
          <a:solidFill>
            <a:srgbClr val="8c7e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4891680" y="624600"/>
            <a:ext cx="2027520" cy="2027520"/>
            <a:chOff x="4891680" y="624600"/>
            <a:chExt cx="2027520" cy="2027520"/>
          </a:xfrm>
        </p:grpSpPr>
        <p:sp>
          <p:nvSpPr>
            <p:cNvPr id="216" name="AutoShape 5"/>
            <p:cNvSpPr/>
            <p:nvPr/>
          </p:nvSpPr>
          <p:spPr>
            <a:xfrm rot="2216400">
              <a:off x="5181120" y="914040"/>
              <a:ext cx="1447920" cy="1447920"/>
            </a:xfrm>
            <a:prstGeom prst="flowChartConnector">
              <a:avLst/>
            </a:prstGeom>
            <a:solidFill>
              <a:srgbClr val="ffff66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6"/>
            <p:cNvSpPr/>
            <p:nvPr/>
          </p:nvSpPr>
          <p:spPr>
            <a:xfrm rot="2216400">
              <a:off x="5288760" y="1076760"/>
              <a:ext cx="99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智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Group 7"/>
          <p:cNvGrpSpPr/>
          <p:nvPr/>
        </p:nvGrpSpPr>
        <p:grpSpPr>
          <a:xfrm>
            <a:off x="2743200" y="1905120"/>
            <a:ext cx="1371600" cy="2971800"/>
            <a:chOff x="2743200" y="1905120"/>
            <a:chExt cx="1371600" cy="2971800"/>
          </a:xfrm>
        </p:grpSpPr>
        <p:grpSp>
          <p:nvGrpSpPr>
            <p:cNvPr id="219" name="Group 8"/>
            <p:cNvGrpSpPr/>
            <p:nvPr/>
          </p:nvGrpSpPr>
          <p:grpSpPr>
            <a:xfrm>
              <a:off x="2743200" y="1905120"/>
              <a:ext cx="1371600" cy="990360"/>
              <a:chOff x="2743200" y="1905120"/>
              <a:chExt cx="1371600" cy="990360"/>
            </a:xfrm>
          </p:grpSpPr>
          <p:sp>
            <p:nvSpPr>
              <p:cNvPr id="220" name="AutoShape 9"/>
              <p:cNvSpPr/>
              <p:nvPr/>
            </p:nvSpPr>
            <p:spPr>
              <a:xfrm>
                <a:off x="2743200" y="2133720"/>
                <a:ext cx="1295280" cy="761760"/>
              </a:xfrm>
              <a:prstGeom prst="flowChartMagneticDisk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utoShape 10"/>
              <p:cNvSpPr/>
              <p:nvPr/>
            </p:nvSpPr>
            <p:spPr>
              <a:xfrm>
                <a:off x="3352680" y="1905120"/>
                <a:ext cx="152280" cy="304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Text Box 11"/>
              <p:cNvSpPr/>
              <p:nvPr/>
            </p:nvSpPr>
            <p:spPr>
              <a:xfrm>
                <a:off x="2743200" y="220968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乔装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2"/>
            <p:cNvGrpSpPr/>
            <p:nvPr/>
          </p:nvGrpSpPr>
          <p:grpSpPr>
            <a:xfrm>
              <a:off x="2743200" y="2895480"/>
              <a:ext cx="1371600" cy="990720"/>
              <a:chOff x="2743200" y="2895480"/>
              <a:chExt cx="1371600" cy="990720"/>
            </a:xfrm>
          </p:grpSpPr>
          <p:sp>
            <p:nvSpPr>
              <p:cNvPr id="224" name="AutoShape 13"/>
              <p:cNvSpPr/>
              <p:nvPr/>
            </p:nvSpPr>
            <p:spPr>
              <a:xfrm>
                <a:off x="2743200" y="3124080"/>
                <a:ext cx="1295280" cy="762120"/>
              </a:xfrm>
              <a:prstGeom prst="flowChartMagneticDisk">
                <a:avLst/>
              </a:prstGeom>
              <a:solidFill>
                <a:srgbClr val="cc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AutoShape 14"/>
              <p:cNvSpPr/>
              <p:nvPr/>
            </p:nvSpPr>
            <p:spPr>
              <a:xfrm>
                <a:off x="3352680" y="289548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Text Box 15"/>
              <p:cNvSpPr/>
              <p:nvPr/>
            </p:nvSpPr>
            <p:spPr>
              <a:xfrm>
                <a:off x="2743200" y="320040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更时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6"/>
            <p:cNvGrpSpPr/>
            <p:nvPr/>
          </p:nvGrpSpPr>
          <p:grpSpPr>
            <a:xfrm>
              <a:off x="2743200" y="3886200"/>
              <a:ext cx="1371600" cy="990720"/>
              <a:chOff x="2743200" y="3886200"/>
              <a:chExt cx="1371600" cy="990720"/>
            </a:xfrm>
          </p:grpSpPr>
          <p:sp>
            <p:nvSpPr>
              <p:cNvPr id="228" name="AutoShape 17"/>
              <p:cNvSpPr/>
              <p:nvPr/>
            </p:nvSpPr>
            <p:spPr>
              <a:xfrm>
                <a:off x="2743200" y="4114800"/>
                <a:ext cx="1295280" cy="762120"/>
              </a:xfrm>
              <a:prstGeom prst="flowChartMagneticDisk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utoShape 18"/>
              <p:cNvSpPr/>
              <p:nvPr/>
            </p:nvSpPr>
            <p:spPr>
              <a:xfrm>
                <a:off x="3352680" y="388620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19"/>
              <p:cNvSpPr/>
              <p:nvPr/>
            </p:nvSpPr>
            <p:spPr>
              <a:xfrm>
                <a:off x="2743200" y="41911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赶骂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 20"/>
          <p:cNvGrpSpPr/>
          <p:nvPr/>
        </p:nvGrpSpPr>
        <p:grpSpPr>
          <a:xfrm>
            <a:off x="1143000" y="1676520"/>
            <a:ext cx="1447920" cy="2971800"/>
            <a:chOff x="1143000" y="1676520"/>
            <a:chExt cx="1447920" cy="2971800"/>
          </a:xfrm>
        </p:grpSpPr>
        <p:grpSp>
          <p:nvGrpSpPr>
            <p:cNvPr id="232" name="Group 21"/>
            <p:cNvGrpSpPr/>
            <p:nvPr/>
          </p:nvGrpSpPr>
          <p:grpSpPr>
            <a:xfrm>
              <a:off x="1219320" y="1676520"/>
              <a:ext cx="1371600" cy="990360"/>
              <a:chOff x="1219320" y="1676520"/>
              <a:chExt cx="1371600" cy="990360"/>
            </a:xfrm>
          </p:grpSpPr>
          <p:sp>
            <p:nvSpPr>
              <p:cNvPr id="233" name="AutoShape 22"/>
              <p:cNvSpPr/>
              <p:nvPr/>
            </p:nvSpPr>
            <p:spPr>
              <a:xfrm>
                <a:off x="1219320" y="1905120"/>
                <a:ext cx="1295280" cy="761760"/>
              </a:xfrm>
              <a:prstGeom prst="flowChartMagneticDisk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23"/>
              <p:cNvSpPr/>
              <p:nvPr/>
            </p:nvSpPr>
            <p:spPr>
              <a:xfrm>
                <a:off x="1828800" y="1676520"/>
                <a:ext cx="152640" cy="304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Text Box 24"/>
              <p:cNvSpPr/>
              <p:nvPr/>
            </p:nvSpPr>
            <p:spPr>
              <a:xfrm>
                <a:off x="1219320" y="198108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疑客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25"/>
            <p:cNvGrpSpPr/>
            <p:nvPr/>
          </p:nvGrpSpPr>
          <p:grpSpPr>
            <a:xfrm>
              <a:off x="1143000" y="2666880"/>
              <a:ext cx="1371600" cy="990720"/>
              <a:chOff x="1143000" y="2666880"/>
              <a:chExt cx="1371600" cy="990720"/>
            </a:xfrm>
          </p:grpSpPr>
          <p:sp>
            <p:nvSpPr>
              <p:cNvPr id="237" name="AutoShape 26"/>
              <p:cNvSpPr/>
              <p:nvPr/>
            </p:nvSpPr>
            <p:spPr>
              <a:xfrm>
                <a:off x="1143000" y="2895480"/>
                <a:ext cx="1295280" cy="762120"/>
              </a:xfrm>
              <a:prstGeom prst="flowChartMagneticDisk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AutoShape 27"/>
              <p:cNvSpPr/>
              <p:nvPr/>
            </p:nvSpPr>
            <p:spPr>
              <a:xfrm>
                <a:off x="1752480" y="2666880"/>
                <a:ext cx="152640" cy="30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Text Box 28"/>
              <p:cNvSpPr/>
              <p:nvPr/>
            </p:nvSpPr>
            <p:spPr>
              <a:xfrm>
                <a:off x="1143000" y="297180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疑酒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29"/>
            <p:cNvGrpSpPr/>
            <p:nvPr/>
          </p:nvGrpSpPr>
          <p:grpSpPr>
            <a:xfrm>
              <a:off x="1143000" y="3657600"/>
              <a:ext cx="1371600" cy="990720"/>
              <a:chOff x="1143000" y="3657600"/>
              <a:chExt cx="1371600" cy="990720"/>
            </a:xfrm>
          </p:grpSpPr>
          <p:sp>
            <p:nvSpPr>
              <p:cNvPr id="241" name="AutoShape 30"/>
              <p:cNvSpPr/>
              <p:nvPr/>
            </p:nvSpPr>
            <p:spPr>
              <a:xfrm>
                <a:off x="1143000" y="3886200"/>
                <a:ext cx="1295280" cy="762120"/>
              </a:xfrm>
              <a:prstGeom prst="flowChartMagneticDisk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AutoShape 31"/>
              <p:cNvSpPr/>
              <p:nvPr/>
            </p:nvSpPr>
            <p:spPr>
              <a:xfrm>
                <a:off x="1752480" y="3657600"/>
                <a:ext cx="152640" cy="30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Text Box 32"/>
              <p:cNvSpPr/>
              <p:nvPr/>
            </p:nvSpPr>
            <p:spPr>
              <a:xfrm>
                <a:off x="1143000" y="39625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窥饮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4" name="Group 33"/>
          <p:cNvGrpSpPr/>
          <p:nvPr/>
        </p:nvGrpSpPr>
        <p:grpSpPr>
          <a:xfrm>
            <a:off x="6781680" y="2666880"/>
            <a:ext cx="1371600" cy="2971800"/>
            <a:chOff x="6781680" y="2666880"/>
            <a:chExt cx="1371600" cy="2971800"/>
          </a:xfrm>
        </p:grpSpPr>
        <p:grpSp>
          <p:nvGrpSpPr>
            <p:cNvPr id="245" name="Group 34"/>
            <p:cNvGrpSpPr/>
            <p:nvPr/>
          </p:nvGrpSpPr>
          <p:grpSpPr>
            <a:xfrm>
              <a:off x="6781680" y="2666880"/>
              <a:ext cx="1371600" cy="990360"/>
              <a:chOff x="6781680" y="2666880"/>
              <a:chExt cx="1371600" cy="990360"/>
            </a:xfrm>
          </p:grpSpPr>
          <p:sp>
            <p:nvSpPr>
              <p:cNvPr id="246" name="AutoShape 35"/>
              <p:cNvSpPr/>
              <p:nvPr/>
            </p:nvSpPr>
            <p:spPr>
              <a:xfrm>
                <a:off x="6781680" y="2895480"/>
                <a:ext cx="1295280" cy="761760"/>
              </a:xfrm>
              <a:prstGeom prst="flowChartMagneticDisk">
                <a:avLst/>
              </a:prstGeom>
              <a:solidFill>
                <a:srgbClr val="99ffcc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AutoShape 36"/>
              <p:cNvSpPr/>
              <p:nvPr/>
            </p:nvSpPr>
            <p:spPr>
              <a:xfrm>
                <a:off x="7391160" y="2666880"/>
                <a:ext cx="152640" cy="304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7"/>
              <p:cNvSpPr/>
              <p:nvPr/>
            </p:nvSpPr>
            <p:spPr>
              <a:xfrm>
                <a:off x="6781680" y="297144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  <a:ea typeface="隶书"/>
                  </a:rPr>
                  <a:t>改扮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38"/>
            <p:cNvGrpSpPr/>
            <p:nvPr/>
          </p:nvGrpSpPr>
          <p:grpSpPr>
            <a:xfrm>
              <a:off x="6781680" y="3657240"/>
              <a:ext cx="1371600" cy="990720"/>
              <a:chOff x="6781680" y="3657240"/>
              <a:chExt cx="1371600" cy="990720"/>
            </a:xfrm>
          </p:grpSpPr>
          <p:sp>
            <p:nvSpPr>
              <p:cNvPr id="250" name="AutoShape 39"/>
              <p:cNvSpPr/>
              <p:nvPr/>
            </p:nvSpPr>
            <p:spPr>
              <a:xfrm>
                <a:off x="6781680" y="3885840"/>
                <a:ext cx="1295280" cy="762120"/>
              </a:xfrm>
              <a:prstGeom prst="flowChartMagneticDisk">
                <a:avLst/>
              </a:prstGeom>
              <a:solidFill>
                <a:srgbClr val="cc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AutoShape 40"/>
              <p:cNvSpPr/>
              <p:nvPr/>
            </p:nvSpPr>
            <p:spPr>
              <a:xfrm>
                <a:off x="7391160" y="3657240"/>
                <a:ext cx="152640" cy="30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Text Box 41"/>
              <p:cNvSpPr/>
              <p:nvPr/>
            </p:nvSpPr>
            <p:spPr>
              <a:xfrm>
                <a:off x="6781680" y="396216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卖酒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42"/>
            <p:cNvGrpSpPr/>
            <p:nvPr/>
          </p:nvGrpSpPr>
          <p:grpSpPr>
            <a:xfrm>
              <a:off x="6781680" y="4647960"/>
              <a:ext cx="1371600" cy="990720"/>
              <a:chOff x="6781680" y="4647960"/>
              <a:chExt cx="1371600" cy="990720"/>
            </a:xfrm>
          </p:grpSpPr>
          <p:sp>
            <p:nvSpPr>
              <p:cNvPr id="254" name="AutoShape 43"/>
              <p:cNvSpPr/>
              <p:nvPr/>
            </p:nvSpPr>
            <p:spPr>
              <a:xfrm>
                <a:off x="6781680" y="4876560"/>
                <a:ext cx="1295280" cy="762120"/>
              </a:xfrm>
              <a:prstGeom prst="flowChartMagneticDisk">
                <a:avLst/>
              </a:prstGeom>
              <a:solidFill>
                <a:srgbClr val="cccc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AutoShape 44"/>
              <p:cNvSpPr/>
              <p:nvPr/>
            </p:nvSpPr>
            <p:spPr>
              <a:xfrm>
                <a:off x="7391160" y="4647960"/>
                <a:ext cx="152640" cy="30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Text Box 45"/>
              <p:cNvSpPr/>
              <p:nvPr/>
            </p:nvSpPr>
            <p:spPr>
              <a:xfrm>
                <a:off x="6781680" y="495288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投药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Group 46"/>
          <p:cNvGrpSpPr/>
          <p:nvPr/>
        </p:nvGrpSpPr>
        <p:grpSpPr>
          <a:xfrm>
            <a:off x="5257800" y="2362320"/>
            <a:ext cx="1371600" cy="2971800"/>
            <a:chOff x="5257800" y="2362320"/>
            <a:chExt cx="1371600" cy="2971800"/>
          </a:xfrm>
        </p:grpSpPr>
        <p:grpSp>
          <p:nvGrpSpPr>
            <p:cNvPr id="258" name="Group 47"/>
            <p:cNvGrpSpPr/>
            <p:nvPr/>
          </p:nvGrpSpPr>
          <p:grpSpPr>
            <a:xfrm>
              <a:off x="5257800" y="2362320"/>
              <a:ext cx="1371600" cy="990360"/>
              <a:chOff x="5257800" y="2362320"/>
              <a:chExt cx="1371600" cy="990360"/>
            </a:xfrm>
          </p:grpSpPr>
          <p:sp>
            <p:nvSpPr>
              <p:cNvPr id="259" name="AutoShape 48"/>
              <p:cNvSpPr/>
              <p:nvPr/>
            </p:nvSpPr>
            <p:spPr>
              <a:xfrm>
                <a:off x="5257800" y="2590920"/>
                <a:ext cx="1295280" cy="761760"/>
              </a:xfrm>
              <a:prstGeom prst="flowChartMagneticDisk">
                <a:avLst/>
              </a:prstGeom>
              <a:solidFill>
                <a:srgbClr val="ffcc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AutoShape 49"/>
              <p:cNvSpPr/>
              <p:nvPr/>
            </p:nvSpPr>
            <p:spPr>
              <a:xfrm>
                <a:off x="5867280" y="2362320"/>
                <a:ext cx="152640" cy="304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Text Box 50"/>
              <p:cNvSpPr/>
              <p:nvPr/>
            </p:nvSpPr>
            <p:spPr>
              <a:xfrm>
                <a:off x="5257800" y="266688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天时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51"/>
            <p:cNvGrpSpPr/>
            <p:nvPr/>
          </p:nvGrpSpPr>
          <p:grpSpPr>
            <a:xfrm>
              <a:off x="5257800" y="3352680"/>
              <a:ext cx="1371600" cy="990720"/>
              <a:chOff x="5257800" y="3352680"/>
              <a:chExt cx="1371600" cy="990720"/>
            </a:xfrm>
          </p:grpSpPr>
          <p:sp>
            <p:nvSpPr>
              <p:cNvPr id="263" name="AutoShape 52"/>
              <p:cNvSpPr/>
              <p:nvPr/>
            </p:nvSpPr>
            <p:spPr>
              <a:xfrm>
                <a:off x="5257800" y="3581280"/>
                <a:ext cx="1295280" cy="762120"/>
              </a:xfrm>
              <a:prstGeom prst="flowChartMagneticDisk">
                <a:avLst/>
              </a:prstGeom>
              <a:solidFill>
                <a:srgbClr val="ffcccc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AutoShape 53"/>
              <p:cNvSpPr/>
              <p:nvPr/>
            </p:nvSpPr>
            <p:spPr>
              <a:xfrm>
                <a:off x="5867280" y="3352680"/>
                <a:ext cx="152640" cy="30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Text Box 54"/>
              <p:cNvSpPr/>
              <p:nvPr/>
            </p:nvSpPr>
            <p:spPr>
              <a:xfrm>
                <a:off x="5257800" y="365760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地利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55"/>
            <p:cNvGrpSpPr/>
            <p:nvPr/>
          </p:nvGrpSpPr>
          <p:grpSpPr>
            <a:xfrm>
              <a:off x="5257800" y="4343400"/>
              <a:ext cx="1371600" cy="990720"/>
              <a:chOff x="5257800" y="4343400"/>
              <a:chExt cx="1371600" cy="990720"/>
            </a:xfrm>
          </p:grpSpPr>
          <p:sp>
            <p:nvSpPr>
              <p:cNvPr id="267" name="AutoShape 56"/>
              <p:cNvSpPr/>
              <p:nvPr/>
            </p:nvSpPr>
            <p:spPr>
              <a:xfrm>
                <a:off x="5257800" y="4572000"/>
                <a:ext cx="1295280" cy="762120"/>
              </a:xfrm>
              <a:prstGeom prst="flowChartMagneticDisk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AutoShape 57"/>
              <p:cNvSpPr/>
              <p:nvPr/>
            </p:nvSpPr>
            <p:spPr>
              <a:xfrm>
                <a:off x="5867280" y="4343400"/>
                <a:ext cx="152640" cy="30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Text Box 58"/>
              <p:cNvSpPr/>
              <p:nvPr/>
            </p:nvSpPr>
            <p:spPr>
              <a:xfrm>
                <a:off x="5257800" y="46483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人和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Text Box 59"/>
          <p:cNvSpPr/>
          <p:nvPr/>
        </p:nvSpPr>
        <p:spPr>
          <a:xfrm>
            <a:off x="3387960" y="3505320"/>
            <a:ext cx="164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黄泥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0"/>
          <p:cNvSpPr/>
          <p:nvPr/>
        </p:nvSpPr>
        <p:spPr>
          <a:xfrm>
            <a:off x="2057400" y="838080"/>
            <a:ext cx="990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61"/>
          <p:cNvSpPr/>
          <p:nvPr/>
        </p:nvSpPr>
        <p:spPr>
          <a:xfrm>
            <a:off x="6629400" y="838080"/>
            <a:ext cx="914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取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62"/>
          <p:cNvGrpSpPr/>
          <p:nvPr/>
        </p:nvGrpSpPr>
        <p:grpSpPr>
          <a:xfrm>
            <a:off x="-819720" y="0"/>
            <a:ext cx="2299320" cy="5715000"/>
            <a:chOff x="-819720" y="0"/>
            <a:chExt cx="2299320" cy="5715000"/>
          </a:xfrm>
        </p:grpSpPr>
        <p:pic>
          <p:nvPicPr>
            <p:cNvPr id="274" name="Picture 63" descr="杨志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796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64"/>
            <p:cNvSpPr/>
            <p:nvPr/>
          </p:nvSpPr>
          <p:spPr>
            <a:xfrm>
              <a:off x="-819720" y="1981080"/>
              <a:ext cx="1826280" cy="37339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杨志失志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65"/>
          <p:cNvGrpSpPr/>
          <p:nvPr/>
        </p:nvGrpSpPr>
        <p:grpSpPr>
          <a:xfrm>
            <a:off x="7317720" y="0"/>
            <a:ext cx="1826280" cy="5867280"/>
            <a:chOff x="7317720" y="0"/>
            <a:chExt cx="1826280" cy="5867280"/>
          </a:xfrm>
        </p:grpSpPr>
        <p:pic>
          <p:nvPicPr>
            <p:cNvPr id="277" name="Picture 66" descr="吴用"/>
            <p:cNvPicPr/>
            <p:nvPr/>
          </p:nvPicPr>
          <p:blipFill>
            <a:blip r:embed="rId2"/>
            <a:stretch/>
          </p:blipFill>
          <p:spPr>
            <a:xfrm>
              <a:off x="7705800" y="0"/>
              <a:ext cx="14382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67"/>
            <p:cNvSpPr/>
            <p:nvPr/>
          </p:nvSpPr>
          <p:spPr>
            <a:xfrm>
              <a:off x="7317720" y="2286000"/>
              <a:ext cx="1826280" cy="3581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吴用得用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Arial"/>
                <a:ea typeface="华文新魏"/>
              </a:rPr>
              <a:t>矛 盾 冲 突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9140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次 要 矛 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[</a:t>
            </a:r>
            <a:r>
              <a:rPr b="0" lang="zh-CN" sz="2400" spc="-1" strike="noStrike">
                <a:solidFill>
                  <a:srgbClr val="ccff99"/>
                </a:solidFill>
                <a:latin typeface="Arial"/>
                <a:ea typeface="华文中宋"/>
              </a:rPr>
              <a:t>杨志与军健、虞侯、老都管的矛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876560" y="8377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主 要 矛 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[</a:t>
            </a:r>
            <a:r>
              <a:rPr b="0" lang="zh-CN" sz="2400" spc="-1" strike="noStrike">
                <a:solidFill>
                  <a:srgbClr val="99ff66"/>
                </a:solidFill>
                <a:latin typeface="Arial"/>
                <a:ea typeface="华文中宋"/>
              </a:rPr>
              <a:t>杨志与晁盖等好汉的矛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838080" y="1828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押送生辰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334120" y="1828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智取生辰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 rot="5400000">
            <a:off x="1942560" y="1333080"/>
            <a:ext cx="381240" cy="2590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280160" y="2852640"/>
            <a:ext cx="1155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快与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43600" y="2924280"/>
            <a:ext cx="66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走与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701800" y="2819520"/>
            <a:ext cx="103356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许喝酒与要喝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1"/>
          <p:cNvSpPr/>
          <p:nvPr/>
        </p:nvSpPr>
        <p:spPr>
          <a:xfrm rot="5400000">
            <a:off x="6438600" y="1333440"/>
            <a:ext cx="381240" cy="2590560"/>
          </a:xfrm>
          <a:custGeom>
            <a:avLst/>
            <a:gdLst>
              <a:gd name="textAreaLeft" fmla="*/ 243720 w 381240"/>
              <a:gd name="textAreaRight" fmla="*/ 381600 w 38124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4495680" y="27432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明防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  <a:ea typeface="华文中宋"/>
              </a:rPr>
              <a:t>[</a:t>
            </a:r>
            <a:r>
              <a:rPr b="0" lang="zh-CN" sz="2400" spc="-1" strike="noStrike">
                <a:solidFill>
                  <a:srgbClr val="99ff66"/>
                </a:solidFill>
                <a:latin typeface="Times New Roman"/>
                <a:ea typeface="华文中宋"/>
              </a:rPr>
              <a:t>杨志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  <a:ea typeface="华文中宋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4724280" y="3352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喝来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4"/>
          <p:cNvSpPr/>
          <p:nvPr/>
        </p:nvSpPr>
        <p:spPr>
          <a:xfrm>
            <a:off x="5029200" y="388620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4939200" y="441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不许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5029200" y="49528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4724280" y="5486400"/>
            <a:ext cx="13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放心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6781680" y="2743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暗夺</a:t>
            </a:r>
            <a:r>
              <a:rPr b="0" lang="en-US" sz="2400" spc="-1" strike="noStrike">
                <a:solidFill>
                  <a:srgbClr val="99ff66"/>
                </a:solidFill>
                <a:latin typeface="华文中宋"/>
                <a:ea typeface="华文中宋"/>
              </a:rPr>
              <a:t>[</a:t>
            </a:r>
            <a:r>
              <a:rPr b="0" lang="zh-CN" sz="2400" spc="-1" strike="noStrike">
                <a:solidFill>
                  <a:srgbClr val="99ff66"/>
                </a:solidFill>
                <a:latin typeface="华文中宋"/>
                <a:ea typeface="华文中宋"/>
              </a:rPr>
              <a:t>晁盖等人</a:t>
            </a:r>
            <a:r>
              <a:rPr b="0" lang="en-US" sz="2400" spc="-1" strike="noStrike">
                <a:solidFill>
                  <a:srgbClr val="99ff66"/>
                </a:solidFill>
                <a:latin typeface="华文中宋"/>
                <a:ea typeface="华文中宋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7453800" y="3352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扮客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20"/>
          <p:cNvSpPr/>
          <p:nvPr/>
        </p:nvSpPr>
        <p:spPr>
          <a:xfrm>
            <a:off x="7543800" y="388620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7238880" y="441972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挑酒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22"/>
          <p:cNvSpPr/>
          <p:nvPr/>
        </p:nvSpPr>
        <p:spPr>
          <a:xfrm>
            <a:off x="7543800" y="49528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723888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送枣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dur="indefinite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dur="indefinite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300"/>
                            </p:stCondLst>
                            <p:childTnLst>
                              <p:par>
                                <p:cTn id="447" dur="indefinite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500"/>
                            </p:stCondLst>
                            <p:childTnLst>
                              <p:par>
                                <p:cTn id="474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6500"/>
                            </p:stCondLst>
                            <p:childTnLst>
                              <p:par>
                                <p:cTn id="482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9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0"/>
                            </p:stCondLst>
                            <p:childTnLst>
                              <p:par>
                                <p:cTn id="503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500"/>
                            </p:stCondLst>
                            <p:childTnLst>
                              <p:par>
                                <p:cTn id="507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问题</a:t>
            </a:r>
            <a:r>
              <a:rPr b="0" lang="en-US" sz="3200" spc="-1" strike="noStrike">
                <a:solidFill>
                  <a:srgbClr val="ffff6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ccffcc"/>
                </a:solidFill>
                <a:latin typeface="Arial"/>
              </a:rPr>
              <a:t>前一部分为什么这么着重写次要矛盾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289080" y="685800"/>
            <a:ext cx="88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因次要矛盾是为主要矛盾服务的。次要矛盾是因主要矛盾而发生、发展，以至激化；而主要矛盾又因次要矛盾的发生、发展、激化，提供了解决的条件，所以写好次要矛盾，就能使主、次矛盾相互勾联，相互影响，以至推动情节向前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993680" y="3733920"/>
            <a:ext cx="51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问题</a:t>
            </a:r>
            <a:r>
              <a:rPr b="0" lang="en-US" sz="3200" spc="-1" strike="noStrike">
                <a:solidFill>
                  <a:srgbClr val="ffff6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ccffcc"/>
                </a:solidFill>
                <a:latin typeface="新宋体"/>
                <a:ea typeface="新宋体"/>
              </a:rPr>
              <a:t>如何看待小说的明暗这两条线？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（练习一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0" y="4267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何处理好这两条线，取决于艺术效果的表达。例如，用明线写杨志的精细和周密防范，对这条明线刻画得越细致，就越能衬托出暗线一方人物的智慧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同时，由于对晁盖、吴用等人的行动采取暗线写法，让读者猜不透，造成悬念，直到最后由暗线转到明线，读者才恍然大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6">
            <a:hlinkClick r:id="" action="ppaction://hlinkshowjump?jump=firstslide"/>
          </p:cNvPr>
          <p:cNvSpPr/>
          <p:nvPr/>
        </p:nvSpPr>
        <p:spPr>
          <a:xfrm>
            <a:off x="8839080" y="6553080"/>
            <a:ext cx="304920" cy="3034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3480"/>
              <a:gd name="textAreaBottom" fmla="*/ 284040 h 30348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2" h="21600">
                <a:moveTo>
                  <a:pt x="10851" y="3837"/>
                </a:moveTo>
                <a:lnTo>
                  <a:pt x="13427" y="6448"/>
                </a:lnTo>
                <a:lnTo>
                  <a:pt x="13427" y="4707"/>
                </a:lnTo>
                <a:lnTo>
                  <a:pt x="15203" y="4707"/>
                </a:lnTo>
                <a:lnTo>
                  <a:pt x="15203" y="8224"/>
                </a:lnTo>
                <a:lnTo>
                  <a:pt x="17814" y="10800"/>
                </a:lnTo>
                <a:lnTo>
                  <a:pt x="16160" y="10800"/>
                </a:lnTo>
                <a:lnTo>
                  <a:pt x="16160" y="17989"/>
                </a:lnTo>
                <a:lnTo>
                  <a:pt x="5542" y="17989"/>
                </a:lnTo>
                <a:lnTo>
                  <a:pt x="5542" y="10800"/>
                </a:lnTo>
                <a:lnTo>
                  <a:pt x="3888" y="10800"/>
                </a:lnTo>
                <a:close/>
              </a:path>
              <a:path fill="darkenLess" w="21702" h="21600">
                <a:moveTo>
                  <a:pt x="13427" y="6448"/>
                </a:moveTo>
                <a:lnTo>
                  <a:pt x="13427" y="4707"/>
                </a:lnTo>
                <a:lnTo>
                  <a:pt x="15203" y="4707"/>
                </a:lnTo>
                <a:lnTo>
                  <a:pt x="15203" y="8224"/>
                </a:lnTo>
                <a:close/>
              </a:path>
              <a:path fill="darkenLess" w="21702" h="21600">
                <a:moveTo>
                  <a:pt x="9929" y="14299"/>
                </a:moveTo>
                <a:lnTo>
                  <a:pt x="11774" y="14299"/>
                </a:lnTo>
                <a:lnTo>
                  <a:pt x="11774" y="17989"/>
                </a:lnTo>
                <a:lnTo>
                  <a:pt x="16160" y="17989"/>
                </a:lnTo>
                <a:lnTo>
                  <a:pt x="16160" y="10800"/>
                </a:lnTo>
                <a:lnTo>
                  <a:pt x="5542" y="10800"/>
                </a:lnTo>
                <a:lnTo>
                  <a:pt x="5542" y="17989"/>
                </a:lnTo>
                <a:lnTo>
                  <a:pt x="9929" y="17989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228600" y="380880"/>
            <a:ext cx="3276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1"/>
              </a:rPr>
              <a:t>青面兽杨志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3" descr="shb1a-17"/>
          <p:cNvPicPr/>
          <p:nvPr/>
        </p:nvPicPr>
        <p:blipFill>
          <a:blip r:embed="rId2"/>
          <a:stretch/>
        </p:blipFill>
        <p:spPr>
          <a:xfrm>
            <a:off x="236520" y="1295280"/>
            <a:ext cx="3009960" cy="46483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3419640" y="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杨志，在梁山好汉中排名第十七位，梁山军马里做马军八虎骑兼先锋使，排行第三。林冲来到梁山，王伦不容，要他先下山取“投名状”杀一人上山。不想正巧碰见青面兽杨志，两人拔刀大战三十余回，不分胜负。原来杨志是杨老令公杨家将的后代，本来是殿帅府制使，因押送花石纲在黄河里翻了船畏罪逃避。与林冲不打不相识，被王伦一起邀上梁山。但杨志一心想到东京找个官做，不肯入伙。杨志在东京花光了身上的钱，只好去卖祖传宝刀，与泼皮牛二发生争吵，不得已杀了牛二，被发配到大名府充军。为梁中书护送生辰纲去东京，又被晁盖等所劫。杨志无奈和鲁智深打上二龙山，杀了邓龙，做了山寨之主。后归了梁山泊。征讨方腊时在途中病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962520" y="1447920"/>
            <a:ext cx="4952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舒体"/>
              </a:rPr>
              <a:t>杨志为首的押送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ff"/>
                </a:solidFill>
                <a:latin typeface="Arial"/>
                <a:ea typeface="华文中宋"/>
              </a:rPr>
              <a:t>（</a:t>
            </a:r>
            <a:r>
              <a:rPr b="0" lang="zh-CN" sz="3600" spc="-1" strike="noStrike">
                <a:solidFill>
                  <a:srgbClr val="99ccff"/>
                </a:solidFill>
                <a:latin typeface="Arial"/>
                <a:ea typeface="华文新魏"/>
              </a:rPr>
              <a:t>主人公</a:t>
            </a:r>
            <a:r>
              <a:rPr b="0" lang="en-US" sz="3600" spc="-1" strike="noStrike">
                <a:solidFill>
                  <a:srgbClr val="99ccff"/>
                </a:solidFill>
                <a:latin typeface="Arial"/>
                <a:ea typeface="华文新魏"/>
              </a:rPr>
              <a:t>——</a:t>
            </a:r>
            <a:r>
              <a:rPr b="0" lang="zh-CN" sz="3600" spc="-1" strike="noStrike">
                <a:solidFill>
                  <a:srgbClr val="99ccff"/>
                </a:solidFill>
                <a:latin typeface="Arial"/>
                <a:ea typeface="华文新魏"/>
              </a:rPr>
              <a:t>杨志</a:t>
            </a:r>
            <a:r>
              <a:rPr b="0" lang="zh-CN" sz="3600" spc="-1" strike="noStrike">
                <a:solidFill>
                  <a:srgbClr val="99ccff"/>
                </a:solidFill>
                <a:latin typeface="Arial"/>
                <a:ea typeface="华文中宋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WordArt 3"/>
          <p:cNvSpPr txBox="1"/>
          <p:nvPr/>
        </p:nvSpPr>
        <p:spPr>
          <a:xfrm>
            <a:off x="2556000" y="189000"/>
            <a:ext cx="4419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人物形象</a:t>
            </a:r>
            <a:endParaRPr b="0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311" name="Picture 4" descr="shb1a-17"/>
          <p:cNvPicPr/>
          <p:nvPr/>
        </p:nvPicPr>
        <p:blipFill>
          <a:blip r:embed="rId1"/>
          <a:stretch/>
        </p:blipFill>
        <p:spPr>
          <a:xfrm>
            <a:off x="304920" y="1371600"/>
            <a:ext cx="3581280" cy="5334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5148360" y="3068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杨志之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“智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4572000" y="3809880"/>
            <a:ext cx="2514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99"/>
                </a:solidFill>
                <a:latin typeface="Times New Roman"/>
                <a:ea typeface="隶书"/>
              </a:rPr>
              <a:t>智藏行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99"/>
                </a:solidFill>
                <a:latin typeface="Times New Roman"/>
                <a:ea typeface="隶书"/>
              </a:rPr>
              <a:t>智变行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99"/>
                </a:solidFill>
                <a:latin typeface="Times New Roman"/>
                <a:ea typeface="隶书"/>
              </a:rPr>
              <a:t>智选路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6858000" y="426708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7086600" y="4191120"/>
            <a:ext cx="1387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精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谨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9">
            <a:hlinkClick r:id="" action="ppaction://hlinkshowjump?jump=nex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4196"/>
                </a:moveTo>
                <a:lnTo>
                  <a:pt x="17806" y="11202"/>
                </a:lnTo>
                <a:lnTo>
                  <a:pt x="3794" y="18209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77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4" dur="770" fill="hold"/>
                                        <p:tgtEl>
                                          <p:spTgt spid="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8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hg(1)_s"/>
          <p:cNvPicPr/>
          <p:nvPr/>
        </p:nvPicPr>
        <p:blipFill>
          <a:blip r:embed="rId1"/>
          <a:stretch/>
        </p:blipFill>
        <p:spPr>
          <a:xfrm>
            <a:off x="5176800" y="0"/>
            <a:ext cx="3967200" cy="6019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shb1a-03"/>
          <p:cNvPicPr/>
          <p:nvPr/>
        </p:nvPicPr>
        <p:blipFill>
          <a:blip r:embed="rId2"/>
          <a:stretch/>
        </p:blipFill>
        <p:spPr>
          <a:xfrm>
            <a:off x="5176800" y="0"/>
            <a:ext cx="3967200" cy="60199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shb1a-04"/>
          <p:cNvPicPr/>
          <p:nvPr/>
        </p:nvPicPr>
        <p:blipFill>
          <a:blip r:embed="rId3"/>
          <a:stretch/>
        </p:blipFill>
        <p:spPr>
          <a:xfrm>
            <a:off x="5195880" y="0"/>
            <a:ext cx="3948120" cy="57913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304920" y="2286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新魏"/>
                <a:hlinkClick r:id="rId4"/>
              </a:rPr>
              <a:t>晁盖为首的好汉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6" descr="shb1b-70"/>
          <p:cNvPicPr/>
          <p:nvPr/>
        </p:nvPicPr>
        <p:blipFill>
          <a:blip r:embed="rId5"/>
          <a:stretch/>
        </p:blipFill>
        <p:spPr>
          <a:xfrm>
            <a:off x="7345440" y="4038480"/>
            <a:ext cx="1798560" cy="2819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shb1a-31"/>
          <p:cNvPicPr/>
          <p:nvPr/>
        </p:nvPicPr>
        <p:blipFill>
          <a:blip r:embed="rId6"/>
          <a:stretch/>
        </p:blipFill>
        <p:spPr>
          <a:xfrm>
            <a:off x="5486400" y="4038480"/>
            <a:ext cx="1828800" cy="2819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shb1a-29"/>
          <p:cNvPicPr/>
          <p:nvPr/>
        </p:nvPicPr>
        <p:blipFill>
          <a:blip r:embed="rId7"/>
          <a:stretch/>
        </p:blipFill>
        <p:spPr>
          <a:xfrm>
            <a:off x="3733920" y="4038480"/>
            <a:ext cx="1726920" cy="2819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shb1a-27"/>
          <p:cNvPicPr/>
          <p:nvPr/>
        </p:nvPicPr>
        <p:blipFill>
          <a:blip r:embed="rId8"/>
          <a:stretch/>
        </p:blipFill>
        <p:spPr>
          <a:xfrm>
            <a:off x="1828800" y="4038480"/>
            <a:ext cx="1852560" cy="281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shb1a-21"/>
          <p:cNvPicPr/>
          <p:nvPr/>
        </p:nvPicPr>
        <p:blipFill>
          <a:blip r:embed="rId9"/>
          <a:stretch/>
        </p:blipFill>
        <p:spPr>
          <a:xfrm>
            <a:off x="0" y="4038480"/>
            <a:ext cx="1803240" cy="2818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shb1a-04"/>
          <p:cNvPicPr/>
          <p:nvPr/>
        </p:nvPicPr>
        <p:blipFill>
          <a:blip r:embed="rId10"/>
          <a:stretch/>
        </p:blipFill>
        <p:spPr>
          <a:xfrm>
            <a:off x="3851280" y="981000"/>
            <a:ext cx="1828800" cy="2971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" descr="shb1a-03"/>
          <p:cNvPicPr/>
          <p:nvPr/>
        </p:nvPicPr>
        <p:blipFill>
          <a:blip r:embed="rId11"/>
          <a:stretch/>
        </p:blipFill>
        <p:spPr>
          <a:xfrm>
            <a:off x="1981080" y="990720"/>
            <a:ext cx="1847880" cy="2971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3" descr="hg(1)_s"/>
          <p:cNvPicPr/>
          <p:nvPr/>
        </p:nvPicPr>
        <p:blipFill>
          <a:blip r:embed="rId12"/>
          <a:stretch/>
        </p:blipFill>
        <p:spPr>
          <a:xfrm>
            <a:off x="0" y="990720"/>
            <a:ext cx="1905120" cy="297180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14"/>
          <p:cNvSpPr/>
          <p:nvPr/>
        </p:nvSpPr>
        <p:spPr>
          <a:xfrm rot="5429400">
            <a:off x="7543440" y="1981080"/>
            <a:ext cx="152280" cy="1676520"/>
          </a:xfrm>
          <a:custGeom>
            <a:avLst/>
            <a:gdLst>
              <a:gd name="textAreaLeft" fmla="*/ 0 w 152280"/>
              <a:gd name="textAreaRight" fmla="*/ 5508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8852"/>
                </a:lnTo>
                <a:cubicBezTo>
                  <a:pt x="10800" y="9751"/>
                  <a:pt x="16200" y="10650"/>
                  <a:pt x="21600" y="10650"/>
                </a:cubicBezTo>
                <a:cubicBezTo>
                  <a:pt x="16200" y="10650"/>
                  <a:pt x="10800" y="11549"/>
                  <a:pt x="10800" y="1244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5"/>
          <p:cNvSpPr/>
          <p:nvPr/>
        </p:nvSpPr>
        <p:spPr>
          <a:xfrm>
            <a:off x="6955560" y="26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吴用之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6"/>
          <p:cNvSpPr/>
          <p:nvPr/>
        </p:nvSpPr>
        <p:spPr>
          <a:xfrm>
            <a:off x="6604920" y="534960"/>
            <a:ext cx="21121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Times New Roman"/>
                <a:ea typeface="隶书"/>
              </a:rPr>
              <a:t>智用天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Times New Roman"/>
                <a:ea typeface="隶书"/>
              </a:rPr>
              <a:t>智用地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Times New Roman"/>
                <a:ea typeface="隶书"/>
              </a:rPr>
              <a:t>智用人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7"/>
          <p:cNvSpPr/>
          <p:nvPr/>
        </p:nvSpPr>
        <p:spPr>
          <a:xfrm>
            <a:off x="6629400" y="2895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ff"/>
                </a:solidFill>
                <a:latin typeface="Times New Roman"/>
                <a:ea typeface="华文新魏"/>
              </a:rPr>
              <a:t>足智多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18" descr="shb1b-70"/>
          <p:cNvPicPr/>
          <p:nvPr/>
        </p:nvPicPr>
        <p:blipFill>
          <a:blip r:embed="rId13"/>
          <a:stretch/>
        </p:blipFill>
        <p:spPr>
          <a:xfrm>
            <a:off x="5105520" y="0"/>
            <a:ext cx="4038480" cy="6095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9" descr="shb1a-31"/>
          <p:cNvPicPr/>
          <p:nvPr/>
        </p:nvPicPr>
        <p:blipFill>
          <a:blip r:embed="rId14"/>
          <a:stretch/>
        </p:blipFill>
        <p:spPr>
          <a:xfrm>
            <a:off x="5181480" y="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shb1a-29"/>
          <p:cNvPicPr/>
          <p:nvPr/>
        </p:nvPicPr>
        <p:blipFill>
          <a:blip r:embed="rId15"/>
          <a:stretch/>
        </p:blipFill>
        <p:spPr>
          <a:xfrm>
            <a:off x="5197320" y="0"/>
            <a:ext cx="3946680" cy="60958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1" descr="shb1a-27"/>
          <p:cNvPicPr/>
          <p:nvPr/>
        </p:nvPicPr>
        <p:blipFill>
          <a:blip r:embed="rId16"/>
          <a:stretch/>
        </p:blipFill>
        <p:spPr>
          <a:xfrm>
            <a:off x="5213520" y="0"/>
            <a:ext cx="3930480" cy="6095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2" descr="shb1a-21"/>
          <p:cNvPicPr/>
          <p:nvPr/>
        </p:nvPicPr>
        <p:blipFill>
          <a:blip r:embed="rId17"/>
          <a:stretch/>
        </p:blipFill>
        <p:spPr>
          <a:xfrm>
            <a:off x="5176800" y="0"/>
            <a:ext cx="396720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dur="indefinite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dur="indefinite" nodeType="afterEffect" fill="hold" presetClass="exit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3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4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8000"/>
                            </p:stCondLst>
                            <p:childTnLst>
                              <p:par>
                                <p:cTn id="627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77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0" dur="770" fill="hold"/>
                                        <p:tgtEl>
                                          <p:spTgt spid="3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2" dur="77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4" dur="77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7" dur="indefinite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44" dur="indefinite" nodeType="afterEffect" fill="hold" presetClass="exit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5" dur="3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7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8500"/>
                            </p:stCondLst>
                            <p:childTnLst>
                              <p:par>
                                <p:cTn id="650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77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3" dur="770" fill="hold"/>
                                        <p:tgtEl>
                                          <p:spTgt spid="3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5" dur="77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7" dur="77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500"/>
                            </p:stCondLst>
                            <p:childTnLst>
                              <p:par>
                                <p:cTn id="660" dur="indefinite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665" dur="indefinite" nodeType="afterEffect" fill="hold" presetClass="exit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3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8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9000"/>
                            </p:stCondLst>
                            <p:childTnLst>
                              <p:par>
                                <p:cTn id="671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77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770" fill="hold"/>
                                        <p:tgtEl>
                                          <p:spTgt spid="3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6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1000"/>
                            </p:stCondLst>
                            <p:childTnLst>
                              <p:par>
                                <p:cTn id="681" dur="indefinite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3500"/>
                            </p:stCondLst>
                            <p:childTnLst>
                              <p:par>
                                <p:cTn id="688" dur="indefinite" nodeType="afterEffect" fill="hold" presetClass="exit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9" dur="3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1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9500"/>
                            </p:stCondLst>
                            <p:childTnLst>
                              <p:par>
                                <p:cTn id="694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0000"/>
                            </p:stCondLst>
                            <p:childTnLst>
                              <p:par>
                                <p:cTn id="701" dur="indefinite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2500"/>
                            </p:stCondLst>
                            <p:childTnLst>
                              <p:par>
                                <p:cTn id="708" dur="indefinite" nodeType="afterEffect" fill="hold" presetClass="exit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3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3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1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48500"/>
                            </p:stCondLst>
                            <p:childTnLst>
                              <p:par>
                                <p:cTn id="714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9500"/>
                            </p:stCondLst>
                            <p:childTnLst>
                              <p:par>
                                <p:cTn id="720" dur="indefinite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2000"/>
                            </p:stCondLst>
                            <p:childTnLst>
                              <p:par>
                                <p:cTn id="725" dur="indefinite" nodeType="afterEffect" fill="hold" presetClass="exit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6" dur="3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8" dur="3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8000"/>
                            </p:stCondLst>
                            <p:childTnLst>
                              <p:par>
                                <p:cTn id="731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9000"/>
                            </p:stCondLst>
                            <p:childTnLst>
                              <p:par>
                                <p:cTn id="738" dur="indefinite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61500"/>
                            </p:stCondLst>
                            <p:childTnLst>
                              <p:par>
                                <p:cTn id="743" dur="indefinite" nodeType="afterEffect" fill="hold" presetClass="exit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3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67500"/>
                            </p:stCondLst>
                            <p:childTnLst>
                              <p:par>
                                <p:cTn id="74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68000"/>
                            </p:stCondLst>
                            <p:childTnLst>
                              <p:par>
                                <p:cTn id="754" dur="indefinite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70500"/>
                            </p:stCondLst>
                            <p:childTnLst>
                              <p:par>
                                <p:cTn id="761" dur="indefinite" nodeType="afterEffect" fill="hold" presetClass="exit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3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4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76500"/>
                            </p:stCondLst>
                            <p:childTnLst>
                              <p:par>
                                <p:cTn id="76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212760" y="117360"/>
            <a:ext cx="87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问题</a:t>
            </a:r>
            <a:r>
              <a:rPr b="0" lang="en-US" sz="3600" spc="-1" strike="noStrike">
                <a:solidFill>
                  <a:srgbClr val="ffff66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杨志为什么会失陷生辰纲？晁盖等好汉为什么能智取生辰纲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457200" y="18288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Times New Roman"/>
                <a:ea typeface="隶书"/>
              </a:rPr>
              <a:t>杨志败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666880" y="1371600"/>
            <a:ext cx="21337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急功近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内部不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648320" y="15238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975200" y="1676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（内因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2666880" y="251460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人外有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4975200" y="2514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（外因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762120" y="39625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cc"/>
                </a:solidFill>
                <a:latin typeface="Times New Roman"/>
                <a:ea typeface="隶书"/>
              </a:rPr>
              <a:t>好汉胜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0" y="4724280"/>
            <a:ext cx="42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稳住对方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（扮客商）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引诱对方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（佯争酒）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麻倒对方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（巧下药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11" descr="shb1a-17"/>
          <p:cNvPicPr/>
          <p:nvPr/>
        </p:nvPicPr>
        <p:blipFill>
          <a:blip r:embed="rId1"/>
          <a:stretch/>
        </p:blipFill>
        <p:spPr>
          <a:xfrm>
            <a:off x="6629400" y="838080"/>
            <a:ext cx="2286000" cy="33530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shb1a-03"/>
          <p:cNvPicPr/>
          <p:nvPr/>
        </p:nvPicPr>
        <p:blipFill>
          <a:blip r:embed="rId2"/>
          <a:stretch/>
        </p:blipFill>
        <p:spPr>
          <a:xfrm>
            <a:off x="4191120" y="3352680"/>
            <a:ext cx="2286000" cy="33530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13">
            <a:hlinkClick r:id="" action="ppaction://hlinkshowjump?jump=firstslide"/>
          </p:cNvPr>
          <p:cNvSpPr/>
          <p:nvPr/>
        </p:nvSpPr>
        <p:spPr>
          <a:xfrm>
            <a:off x="8839080" y="6553080"/>
            <a:ext cx="304920" cy="3034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3480"/>
              <a:gd name="textAreaBottom" fmla="*/ 284040 h 30348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2" h="21600">
                <a:moveTo>
                  <a:pt x="10851" y="3837"/>
                </a:moveTo>
                <a:lnTo>
                  <a:pt x="13427" y="6448"/>
                </a:lnTo>
                <a:lnTo>
                  <a:pt x="13427" y="4707"/>
                </a:lnTo>
                <a:lnTo>
                  <a:pt x="15203" y="4707"/>
                </a:lnTo>
                <a:lnTo>
                  <a:pt x="15203" y="8224"/>
                </a:lnTo>
                <a:lnTo>
                  <a:pt x="17814" y="10800"/>
                </a:lnTo>
                <a:lnTo>
                  <a:pt x="16160" y="10800"/>
                </a:lnTo>
                <a:lnTo>
                  <a:pt x="16160" y="17989"/>
                </a:lnTo>
                <a:lnTo>
                  <a:pt x="5542" y="17989"/>
                </a:lnTo>
                <a:lnTo>
                  <a:pt x="5542" y="10800"/>
                </a:lnTo>
                <a:lnTo>
                  <a:pt x="3888" y="10800"/>
                </a:lnTo>
                <a:close/>
              </a:path>
              <a:path fill="darkenLess" w="21702" h="21600">
                <a:moveTo>
                  <a:pt x="13427" y="6448"/>
                </a:moveTo>
                <a:lnTo>
                  <a:pt x="13427" y="4707"/>
                </a:lnTo>
                <a:lnTo>
                  <a:pt x="15203" y="4707"/>
                </a:lnTo>
                <a:lnTo>
                  <a:pt x="15203" y="8224"/>
                </a:lnTo>
                <a:close/>
              </a:path>
              <a:path fill="darkenLess" w="21702" h="21600">
                <a:moveTo>
                  <a:pt x="9929" y="14299"/>
                </a:moveTo>
                <a:lnTo>
                  <a:pt x="11774" y="14299"/>
                </a:lnTo>
                <a:lnTo>
                  <a:pt x="11774" y="17989"/>
                </a:lnTo>
                <a:lnTo>
                  <a:pt x="16160" y="17989"/>
                </a:lnTo>
                <a:lnTo>
                  <a:pt x="16160" y="10800"/>
                </a:lnTo>
                <a:lnTo>
                  <a:pt x="5542" y="10800"/>
                </a:lnTo>
                <a:lnTo>
                  <a:pt x="5542" y="17989"/>
                </a:lnTo>
                <a:lnTo>
                  <a:pt x="9929" y="17989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dur="indefinite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9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1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3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800"/>
                            </p:stCondLst>
                            <p:childTnLst>
                              <p:par>
                                <p:cTn id="86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9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5"/>
          <p:cNvSpPr/>
          <p:nvPr/>
        </p:nvSpPr>
        <p:spPr>
          <a:xfrm>
            <a:off x="1219320" y="114300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f3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23640" y="1557360"/>
            <a:ext cx="2438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刘唐偷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吴用下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林中休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伪装客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不肯卖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送与枣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324120" y="1600200"/>
            <a:ext cx="2590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瞒天过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以逸待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笑里藏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声东击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混水摸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欲擒故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33520" y="152280"/>
            <a:ext cx="8431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吴用施用的计谋，采用了三十六计中的哪些计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（用直线将它们连接起来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5"/>
          <p:cNvSpPr/>
          <p:nvPr/>
        </p:nvSpPr>
        <p:spPr>
          <a:xfrm>
            <a:off x="2499480" y="1968840"/>
            <a:ext cx="3913560" cy="2406240"/>
          </a:xfrm>
          <a:prstGeom prst="line">
            <a:avLst/>
          </a:prstGeom>
          <a:ln w="28440">
            <a:solidFill>
              <a:srgbClr val="ffff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6"/>
          <p:cNvSpPr/>
          <p:nvPr/>
        </p:nvSpPr>
        <p:spPr>
          <a:xfrm>
            <a:off x="2458800" y="2847240"/>
            <a:ext cx="3947040" cy="2317680"/>
          </a:xfrm>
          <a:prstGeom prst="line">
            <a:avLst/>
          </a:prstGeom>
          <a:ln w="28440">
            <a:solidFill>
              <a:srgbClr val="ffff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7"/>
          <p:cNvSpPr/>
          <p:nvPr/>
        </p:nvSpPr>
        <p:spPr>
          <a:xfrm flipV="1">
            <a:off x="2580480" y="2893320"/>
            <a:ext cx="3821400" cy="695160"/>
          </a:xfrm>
          <a:prstGeom prst="line">
            <a:avLst/>
          </a:prstGeom>
          <a:ln w="28440">
            <a:solidFill>
              <a:srgbClr val="ffff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8"/>
          <p:cNvSpPr/>
          <p:nvPr/>
        </p:nvSpPr>
        <p:spPr>
          <a:xfrm flipV="1">
            <a:off x="2431440" y="1989720"/>
            <a:ext cx="4036680" cy="2545560"/>
          </a:xfrm>
          <a:prstGeom prst="line">
            <a:avLst/>
          </a:prstGeom>
          <a:ln w="28440">
            <a:solidFill>
              <a:srgbClr val="ffff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2487240" y="5407560"/>
            <a:ext cx="3966120" cy="575280"/>
          </a:xfrm>
          <a:prstGeom prst="line">
            <a:avLst/>
          </a:prstGeom>
          <a:ln w="28440">
            <a:solidFill>
              <a:srgbClr val="ffff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10"/>
          <p:cNvSpPr/>
          <p:nvPr/>
        </p:nvSpPr>
        <p:spPr>
          <a:xfrm flipV="1">
            <a:off x="2453760" y="3597480"/>
            <a:ext cx="4007880" cy="2584440"/>
          </a:xfrm>
          <a:prstGeom prst="line">
            <a:avLst/>
          </a:prstGeom>
          <a:ln w="28440">
            <a:solidFill>
              <a:srgbClr val="ffff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11">
            <a:hlinkClick r:id="" action="ppaction://hlinkshowjump?jump=firstslide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水浒人物：托塔天王晁盖"/>
          <p:cNvPicPr/>
          <p:nvPr/>
        </p:nvPicPr>
        <p:blipFill>
          <a:blip r:embed="rId1"/>
          <a:stretch/>
        </p:blipFill>
        <p:spPr>
          <a:xfrm>
            <a:off x="0" y="0"/>
            <a:ext cx="5410080" cy="3940200"/>
          </a:xfrm>
          <a:prstGeom prst="rect">
            <a:avLst/>
          </a:prstGeom>
          <a:ln w="0">
            <a:noFill/>
          </a:ln>
        </p:spPr>
      </p:pic>
      <p:sp>
        <p:nvSpPr>
          <p:cNvPr id="361" name="WordArt 3"/>
          <p:cNvSpPr txBox="1"/>
          <p:nvPr/>
        </p:nvSpPr>
        <p:spPr>
          <a:xfrm>
            <a:off x="152280" y="4621320"/>
            <a:ext cx="43434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琥珀"/>
              </a:rPr>
              <a:t>水浒人物：托塔天王晁盖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5562720" y="304920"/>
            <a:ext cx="327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托塔天王 晁 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郓城县东溪村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东溪村保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乡富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称托塔天王。七星入伙智取生辰纲后投梁山入伙。林冲火并白衣秀士王伦后为梁山寨主。后打曾头市中毒箭身亡。第十四回出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shb1a-03"/>
          <p:cNvPicPr/>
          <p:nvPr/>
        </p:nvPicPr>
        <p:blipFill>
          <a:blip r:embed="rId1"/>
          <a:stretch/>
        </p:blipFill>
        <p:spPr>
          <a:xfrm>
            <a:off x="0" y="0"/>
            <a:ext cx="3700440" cy="57150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3657600" y="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吴用，表字学究，道号加亮先生。平生机巧聪明，曾读万卷经书。使两条铜链。吴用为晁盖献计，智取生辰纲，用药酒麻倒了青面兽杨志，夺了北京大名府梁中书送给蔡太师庆贺生辰的十万贯金银珠宝。宋江在浔阳楼念反诗被捉，和戴宗一起被押赴刑场，快行斩时，吴用用计劫了法场，救了宋江、戴宗。宋江二打祝家庄失败；第三次攻打祝家庄时，吴用利用双掌连环计攻克祝家庄。吴用在破连环马时，派时迁偷甲骗徐宁上了梁山。宋江闹华州时，吴用又出计借用宿太尉金铃吊挂，救出了九纹龙史进、花和尚鲁智深。一生屡出奇谋，屡建战功。受招安被封为武胜军承宣使。宋江、李逵被害后，吴用与花荣一同在宋江坟前上吊自杀，与宋江葬在一起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5791320"/>
            <a:ext cx="35053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ecff"/>
                </a:solidFill>
                <a:uFillTx/>
                <a:latin typeface="华文行楷"/>
                <a:ea typeface="华文行楷"/>
                <a:hlinkClick r:id="rId2"/>
              </a:rPr>
              <a:t>智多星吴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3200400" y="380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公孙胜，河北蓟州人。梁山人马攻打高唐州时，高廉手下有三百飞天神兵，高廉会用妖法，使宋江折兵损将。吴用让宋江请公孙胜来破高廉。公孙胜是罗真人的大徒弟，名叫清道人。与高廉斗法，大获全胜。高廉驾起一片黑云想逃走，被公孙胜用法术从云中打落后杀死。宋江率梁山好汉闹华州后回到梁山，路过徐州沛县芒砀山，被能呼风唤雨的混世魔王樊瑞、八臂哪吒项充、飞天大圣李衮拦阻。公孙胜见芒砀山内尽是青色灯笼，就知道有会用妖法的人在内。公孙胜献计用法术破了三人，劝他们归顺梁山，建立奇功伟业。在梁山泊英雄排名次时排行第四，封为掌管机密副军师。宋江受招安后公孙胜回蓟州出家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3" descr="shb1a-04"/>
          <p:cNvPicPr/>
          <p:nvPr/>
        </p:nvPicPr>
        <p:blipFill>
          <a:blip r:embed="rId1"/>
          <a:stretch/>
        </p:blipFill>
        <p:spPr>
          <a:xfrm>
            <a:off x="0" y="304920"/>
            <a:ext cx="3206880" cy="49528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4"/>
          <p:cNvSpPr/>
          <p:nvPr/>
        </p:nvSpPr>
        <p:spPr>
          <a:xfrm>
            <a:off x="0" y="5410080"/>
            <a:ext cx="3276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2"/>
              </a:rPr>
              <a:t>入云龙公孙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457200" y="5029200"/>
            <a:ext cx="2743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1"/>
              </a:rPr>
              <a:t>赤发鬼刘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shb1a-21"/>
          <p:cNvPicPr/>
          <p:nvPr/>
        </p:nvPicPr>
        <p:blipFill>
          <a:blip r:embed="rId2"/>
          <a:stretch/>
        </p:blipFill>
        <p:spPr>
          <a:xfrm>
            <a:off x="533520" y="380880"/>
            <a:ext cx="2789280" cy="43084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3886200" y="380880"/>
            <a:ext cx="4952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刘唐，梁山英雄第二十一名，排步军头领第三位，使一把朴刀。梁中书因丈人蔡京过寿，要送价值十万贯的生辰纲到东京，消息被江湖好汉赤发鬼刘唐得知，便找到托塔天王晁盖劫生辰纲，终于干出了一番惊天动地的大事。不料白胜被捕，供出了晁盖。宋江走漏消息给晁盖，晁盖、吴用、公孙胜、刘唐和阮氏三兄弟打败追捕的官兵，上了梁山。后来宋江征讨方腊时在攻打杭州的战斗中阵亡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609480" y="4952880"/>
            <a:ext cx="2667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1"/>
              </a:rPr>
              <a:t>立地太岁阮小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3" descr="shb1a-27"/>
          <p:cNvPicPr/>
          <p:nvPr/>
        </p:nvPicPr>
        <p:blipFill>
          <a:blip r:embed="rId2"/>
          <a:stretch/>
        </p:blipFill>
        <p:spPr>
          <a:xfrm>
            <a:off x="533520" y="380880"/>
            <a:ext cx="2789280" cy="430848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365760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阮小二，在梁山好汉中排名第二十七位，是梁山四寨水军头领第四位。阮小二、阮小五、阮小七三兄弟，是梁山泊旁边石碣村人，个个武艺出众，敢赴汤蹈火。赤发鬼刘唐浪迹江湖，探听到生辰纲消息，晁盖、吴用和阮氏三兄弟一起，在黄泥冈用蒙汗药麻倒杨志，抢了生辰纲。济州府派何涛到郓城县捉拿晁盖等，幸亏有宋江事先通知，众好汉避到石碣村，官军追到时，被阮小二兄弟在芦苇港全部消灭干净。高俅等几次攻打梁山泊，阮小二兄弟率水军大出风头，建立奇功伟业。宋江攻打方腊时，阮小二率水兵袭击南军水寨，遭南军火排袭击，阮小二正要跳水逃跑，被挂钩搭住，他不愿受辱，自刎而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228600" y="609480"/>
            <a:ext cx="3809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1"/>
              </a:rPr>
              <a:t>短命二郎阮小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3" descr="shb1a-29"/>
          <p:cNvPicPr/>
          <p:nvPr/>
        </p:nvPicPr>
        <p:blipFill>
          <a:blip r:embed="rId2"/>
          <a:stretch/>
        </p:blipFill>
        <p:spPr>
          <a:xfrm>
            <a:off x="685800" y="1600200"/>
            <a:ext cx="2789280" cy="430848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4191120" y="533520"/>
            <a:ext cx="4495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阮小五，梁山好汉中第二十九位，排梁山八大水军头领第五位。阮小五在阮氏三兄弟中排行第二，亦是梁山有名的水中好汉，浪里英雄。他从小生长在石碣村，打鱼谋生，在黄泥冈劫了生辰纲，因官军追捕逃回梁山泊，与兄弟一起打败何涛。高俅率大军围断梁山，阮小五水中奋勇杀敌。他与童威一起驻守梁山东北水寨。后随宋江征讨方腊时战死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152280" y="304920"/>
            <a:ext cx="3353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1"/>
              </a:rPr>
              <a:t>活阎罗阮小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3" descr="shb1a-31"/>
          <p:cNvPicPr/>
          <p:nvPr/>
        </p:nvPicPr>
        <p:blipFill>
          <a:blip r:embed="rId2"/>
          <a:stretch/>
        </p:blipFill>
        <p:spPr>
          <a:xfrm>
            <a:off x="304920" y="1295280"/>
            <a:ext cx="2789280" cy="43084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4"/>
          <p:cNvSpPr/>
          <p:nvPr/>
        </p:nvSpPr>
        <p:spPr>
          <a:xfrm>
            <a:off x="3429000" y="0"/>
            <a:ext cx="5715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阮小七，绰号“活阎罗”，是梁山英雄中第三十一条好汉，梁山水军八员头领第六位。阮小七在阮氏三雄中年纪最小，跟随两个哥哥行走江湖，干下了许多惊天动地的大事。黄泥冈和晁盖等用药酒麻倒青面兽杨志，劫了生辰纲。浔阳江上救宋江，打败官军。梁山泊里驾舟踏浪，先打败何涛，再打败高俅，水中的功夫，令梁山好汉们刮目相看。他与童猛一起驻守梁山泊西北水寨。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　　受招安后，阮小七被封为盖天军都统制，因穿着龙袍戏耍被剥夺官职，贬成平民。阮小七就和老母亲回梁山泊石碣村打鱼去了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shb1b-70"/>
          <p:cNvPicPr/>
          <p:nvPr/>
        </p:nvPicPr>
        <p:blipFill>
          <a:blip r:embed="rId1"/>
          <a:stretch/>
        </p:blipFill>
        <p:spPr>
          <a:xfrm>
            <a:off x="380880" y="380880"/>
            <a:ext cx="2959200" cy="45720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3"/>
          <p:cNvSpPr/>
          <p:nvPr/>
        </p:nvSpPr>
        <p:spPr>
          <a:xfrm>
            <a:off x="3962520" y="2286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白胜，黄泥冈东十里路安乐村的一个壮汉。晁盖等智取生辰纲时，先是在白胜家住下。白胜把掺入蒙汗药的药酒卖给押运生辰纲的官兵，将这十五个官兵蒙麻，然后把十一担生辰纲全部抢走。案发后白胜被何涛、何清兄弟抓捕，熬不过苦刑供出了晁盖。后来白胜被梁山人马救出，做了军中走报机密的步军头领第四名，在梁山英雄中排行第一百零六位。征讨方腊时，白胜在路途中病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0" y="5257800"/>
            <a:ext cx="3657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2"/>
              </a:rPr>
              <a:t>白日鼠白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22"/>
          <p:cNvPicPr/>
          <p:nvPr/>
        </p:nvPicPr>
        <p:blipFill>
          <a:blip r:embed="rId1"/>
          <a:stretch/>
        </p:blipFill>
        <p:spPr>
          <a:xfrm>
            <a:off x="152280" y="228600"/>
            <a:ext cx="4184640" cy="63244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4556160" y="173160"/>
            <a:ext cx="458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水浒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是文学史上第一部描写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农民起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全过程的长篇小说，并非一人一时之作，而是在民间口头传说，艺人讲说演唱的基础上，由文人加工编撰而成。全书前半部写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官逼民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”。后半部分写宋江被招安，攻辽、打方腊，最后以悲剧结局。作者对起义英雄予以充分肯定和热情讴歌，对封建阶级的黑暗势力则尽情揭露。本书结构严整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以官逼民反，替天行道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为主线，每个故事又独立成章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4">
            <a:hlinkClick r:id="" action="ppaction://hlinkshowjump?jump=firstslide"/>
          </p:cNvPr>
          <p:cNvSpPr/>
          <p:nvPr/>
        </p:nvSpPr>
        <p:spPr>
          <a:xfrm>
            <a:off x="8839080" y="6553080"/>
            <a:ext cx="304920" cy="3034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3480"/>
              <a:gd name="textAreaBottom" fmla="*/ 284040 h 30348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2" h="21600">
                <a:moveTo>
                  <a:pt x="10851" y="3837"/>
                </a:moveTo>
                <a:lnTo>
                  <a:pt x="13427" y="6448"/>
                </a:lnTo>
                <a:lnTo>
                  <a:pt x="13427" y="4707"/>
                </a:lnTo>
                <a:lnTo>
                  <a:pt x="15203" y="4707"/>
                </a:lnTo>
                <a:lnTo>
                  <a:pt x="15203" y="8224"/>
                </a:lnTo>
                <a:lnTo>
                  <a:pt x="17814" y="10800"/>
                </a:lnTo>
                <a:lnTo>
                  <a:pt x="16160" y="10800"/>
                </a:lnTo>
                <a:lnTo>
                  <a:pt x="16160" y="17989"/>
                </a:lnTo>
                <a:lnTo>
                  <a:pt x="5542" y="17989"/>
                </a:lnTo>
                <a:lnTo>
                  <a:pt x="5542" y="10800"/>
                </a:lnTo>
                <a:lnTo>
                  <a:pt x="3888" y="10800"/>
                </a:lnTo>
                <a:close/>
              </a:path>
              <a:path fill="darkenLess" w="21702" h="21600">
                <a:moveTo>
                  <a:pt x="13427" y="6448"/>
                </a:moveTo>
                <a:lnTo>
                  <a:pt x="13427" y="4707"/>
                </a:lnTo>
                <a:lnTo>
                  <a:pt x="15203" y="4707"/>
                </a:lnTo>
                <a:lnTo>
                  <a:pt x="15203" y="8224"/>
                </a:lnTo>
                <a:close/>
              </a:path>
              <a:path fill="darkenLess" w="21702" h="21600">
                <a:moveTo>
                  <a:pt x="9929" y="14299"/>
                </a:moveTo>
                <a:lnTo>
                  <a:pt x="11774" y="14299"/>
                </a:lnTo>
                <a:lnTo>
                  <a:pt x="11774" y="17989"/>
                </a:lnTo>
                <a:lnTo>
                  <a:pt x="16160" y="17989"/>
                </a:lnTo>
                <a:lnTo>
                  <a:pt x="16160" y="10800"/>
                </a:lnTo>
                <a:lnTo>
                  <a:pt x="5542" y="10800"/>
                </a:lnTo>
                <a:lnTo>
                  <a:pt x="5542" y="17989"/>
                </a:lnTo>
                <a:lnTo>
                  <a:pt x="9929" y="17989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85800" y="1295280"/>
            <a:ext cx="8153280" cy="1783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     </a:t>
            </a:r>
            <a:r>
              <a:rPr b="1" lang="en-US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不读水浒， 不知天下之奇。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                                    </a:t>
            </a:r>
            <a:r>
              <a:rPr b="1" lang="en-US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——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金圣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762120" y="3581280"/>
            <a:ext cx="8001000" cy="22399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金圣叹评“六大才子书”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离骚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    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庄子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    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史记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   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西厢记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少陵集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水浒传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01600" y="4538160"/>
            <a:ext cx="8305920" cy="25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趱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zǎ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虞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y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嗔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ē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è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朴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ō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[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刀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]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12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别拗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i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i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聒</a:t>
            </a:r>
            <a:r>
              <a:rPr b="0" lang="en-US" sz="3200" spc="-1" strike="noStrike">
                <a:solidFill>
                  <a:srgbClr val="ffffff"/>
                </a:solidFill>
                <a:latin typeface="Lucida Sans Unicode"/>
                <a:ea typeface="MS Mincho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喃呐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 n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怄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ò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12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xǐn</a:t>
            </a:r>
            <a:r>
              <a:rPr b="0" lang="en-US" sz="3200" spc="-1" strike="noStrike">
                <a:solidFill>
                  <a:srgbClr val="ffffff"/>
                </a:solidFill>
                <a:latin typeface="Lucida Sans Unicode"/>
                <a:ea typeface="黑体"/>
              </a:rPr>
              <a:t>g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崎岖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q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q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忒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u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唣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z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à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á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468360" y="333360"/>
            <a:ext cx="2819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生字注音</a:t>
            </a:r>
            <a:endParaRPr b="0" i="1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324000" y="3357720"/>
            <a:ext cx="281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词语补注</a:t>
            </a:r>
            <a:endParaRPr b="0" i="1" lang="en-US" sz="6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0920" y="15127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均匀：合理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[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正是好歹不均匀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]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P.9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不直得：动不动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[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这厮不直得便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]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P.9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耐：忍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[“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权且耐他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”“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且耐他一耐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]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P.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将：拿、挑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[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你左右将到村里去卖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]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P.93</a:t>
            </a:r>
            <a:r>
              <a:rPr b="0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firstslide"/>
          </p:cNvPr>
          <p:cNvSpPr/>
          <p:nvPr/>
        </p:nvSpPr>
        <p:spPr>
          <a:xfrm>
            <a:off x="8839080" y="6553080"/>
            <a:ext cx="304920" cy="3034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3480"/>
              <a:gd name="textAreaBottom" fmla="*/ 284040 h 30348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2" h="21600">
                <a:moveTo>
                  <a:pt x="10851" y="3837"/>
                </a:moveTo>
                <a:lnTo>
                  <a:pt x="13427" y="6448"/>
                </a:lnTo>
                <a:lnTo>
                  <a:pt x="13427" y="4707"/>
                </a:lnTo>
                <a:lnTo>
                  <a:pt x="15203" y="4707"/>
                </a:lnTo>
                <a:lnTo>
                  <a:pt x="15203" y="8224"/>
                </a:lnTo>
                <a:lnTo>
                  <a:pt x="17814" y="10800"/>
                </a:lnTo>
                <a:lnTo>
                  <a:pt x="16160" y="10800"/>
                </a:lnTo>
                <a:lnTo>
                  <a:pt x="16160" y="17989"/>
                </a:lnTo>
                <a:lnTo>
                  <a:pt x="5542" y="17989"/>
                </a:lnTo>
                <a:lnTo>
                  <a:pt x="5542" y="10800"/>
                </a:lnTo>
                <a:lnTo>
                  <a:pt x="3888" y="10800"/>
                </a:lnTo>
                <a:close/>
              </a:path>
              <a:path fill="darkenLess" w="21702" h="21600">
                <a:moveTo>
                  <a:pt x="13427" y="6448"/>
                </a:moveTo>
                <a:lnTo>
                  <a:pt x="13427" y="4707"/>
                </a:lnTo>
                <a:lnTo>
                  <a:pt x="15203" y="4707"/>
                </a:lnTo>
                <a:lnTo>
                  <a:pt x="15203" y="8224"/>
                </a:lnTo>
                <a:close/>
              </a:path>
              <a:path fill="darkenLess" w="21702" h="21600">
                <a:moveTo>
                  <a:pt x="9929" y="14299"/>
                </a:moveTo>
                <a:lnTo>
                  <a:pt x="11774" y="14299"/>
                </a:lnTo>
                <a:lnTo>
                  <a:pt x="11774" y="17989"/>
                </a:lnTo>
                <a:lnTo>
                  <a:pt x="16160" y="17989"/>
                </a:lnTo>
                <a:lnTo>
                  <a:pt x="16160" y="10800"/>
                </a:lnTo>
                <a:lnTo>
                  <a:pt x="5542" y="10800"/>
                </a:lnTo>
                <a:lnTo>
                  <a:pt x="5542" y="17989"/>
                </a:lnTo>
                <a:lnTo>
                  <a:pt x="9929" y="17989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8820000" y="623736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7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7" y="20200"/>
                </a:lnTo>
                <a:lnTo>
                  <a:pt x="22957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7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7" h="21600">
                <a:moveTo>
                  <a:pt x="5172" y="7493"/>
                </a:moveTo>
                <a:lnTo>
                  <a:pt x="8680" y="7493"/>
                </a:lnTo>
                <a:lnTo>
                  <a:pt x="8680" y="12828"/>
                </a:lnTo>
                <a:cubicBezTo>
                  <a:pt x="8680" y="13751"/>
                  <a:pt x="9481" y="14482"/>
                  <a:pt x="10516" y="14482"/>
                </a:cubicBezTo>
                <a:lnTo>
                  <a:pt x="12179" y="14482"/>
                </a:lnTo>
                <a:cubicBezTo>
                  <a:pt x="13214" y="14482"/>
                  <a:pt x="14015" y="13751"/>
                  <a:pt x="14015" y="12828"/>
                </a:cubicBezTo>
                <a:lnTo>
                  <a:pt x="14015" y="7493"/>
                </a:lnTo>
                <a:lnTo>
                  <a:pt x="12179" y="7493"/>
                </a:lnTo>
                <a:lnTo>
                  <a:pt x="15686" y="3985"/>
                </a:lnTo>
                <a:lnTo>
                  <a:pt x="19359" y="7493"/>
                </a:lnTo>
                <a:lnTo>
                  <a:pt x="17523" y="7493"/>
                </a:lnTo>
                <a:lnTo>
                  <a:pt x="17523" y="12828"/>
                </a:lnTo>
                <a:cubicBezTo>
                  <a:pt x="17523" y="15596"/>
                  <a:pt x="14947" y="18155"/>
                  <a:pt x="12179" y="18155"/>
                </a:cubicBezTo>
                <a:lnTo>
                  <a:pt x="10516" y="18155"/>
                </a:lnTo>
                <a:cubicBezTo>
                  <a:pt x="7749" y="18155"/>
                  <a:pt x="5172" y="15596"/>
                  <a:pt x="5172" y="12828"/>
                </a:cubicBez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dur="indefinite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dur="indefinite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dur="indefinite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dur="indefinite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500"/>
                            </p:stCondLst>
                            <p:childTnLst>
                              <p:par>
                                <p:cTn id="84" dur="indefinite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2019600" y="333360"/>
            <a:ext cx="5453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面对“生辰纲”这笔巨大的财宝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负责押送的杨志，一路费尽心思，力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生辰纲”不失；而智多星吴用巧设妙计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众好汉志在必得。这场英雄与英雄之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斗智斗谋，最终结果如何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3" descr="群英图"/>
          <p:cNvPicPr/>
          <p:nvPr/>
        </p:nvPicPr>
        <p:blipFill>
          <a:blip r:embed="rId1"/>
          <a:stretch/>
        </p:blipFill>
        <p:spPr>
          <a:xfrm>
            <a:off x="395280" y="3944880"/>
            <a:ext cx="8424720" cy="2913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92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基本故事情节</a:t>
            </a:r>
            <a:r>
              <a:rPr b="1" lang="zh-CN" sz="44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3640" y="1485720"/>
            <a:ext cx="7489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故事发生：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杨志改时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送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生辰纲（开头至“今日天下怎的不太平”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故事发展：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七雄贩枣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蒙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杨志（“杨志却待要回言”至“自去一边树下歇凉”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故事进一步发展：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白胜设计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诱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官军（“没半碗饭时”至“也这般罗唣”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961400" y="1330200"/>
            <a:ext cx="10033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智取生辰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4920" y="2714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故事高潮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杨志无奈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买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白酒（“那对过众军汉见了”至“自下冈子去了”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故事结局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杨志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误失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生辰纲（“那七个贩枣子的”至“挣不得，说不得”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尾声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吴用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智取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生辰纲（最后一段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群英图"/>
          <p:cNvPicPr/>
          <p:nvPr/>
        </p:nvPicPr>
        <p:blipFill>
          <a:blip r:embed="rId1"/>
          <a:stretch/>
        </p:blipFill>
        <p:spPr>
          <a:xfrm>
            <a:off x="395280" y="3828960"/>
            <a:ext cx="8424720" cy="2913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水浒传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17560" y="439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分析小说情节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生辰纲是什么？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为太师蔡京祝寿而进献的大批财物，都是搜刮百姓血汗钱的不义之财。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生辰纲是谁取的？又是用怎样的方式从谁的手中取走的？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晁盖、吴用等八条好汉；智取；杨志 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7893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14036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7T08:31:20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7T08:37:45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  <property fmtid="{D5CDD505-2E9C-101B-9397-08002B2CF9AE}" pid="3" name="Version">
    <vt:r8>1</vt:r8>
  </property>
</Properties>
</file>