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BEE-5F83-434F-A36C-B917DCB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A74-1205-4DDD-9856-900A4EA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494-8AAC-4811-A132-27D2B8F0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F64-51B5-4863-9A96-B9D0305D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BC7-AB35-4F10-874E-6598878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5A6-2DE9-4D0D-930F-41FDEEEA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DCF-C530-4F27-A62E-90743A8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CF5-5295-41CF-83E2-49907E9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282-CBF2-4186-A584-5317B29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672-045E-482C-92AE-289D93D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F72-EC20-4C3E-B102-4DDC616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A59-A330-49F5-ACC3-840CB68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3AB-AF99-436D-BD0F-83344C08A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237360"/>
            <a:ext cx="273528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中国学习联盟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www.study888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、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8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读懂每段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字典，联系上下文理解新词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文讲的是一件什么事？老人根据什么指点商人找到了骆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学不懂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15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忿  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6560" y="3124080"/>
            <a:ext cx="14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   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89000" y="327672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商  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46440" y="24066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42000" y="243828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ǐ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80680" y="2438280"/>
            <a:ext cx="20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g r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838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词语注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09680" y="2133720"/>
            <a:ext cx="51055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图片欣赏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12468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14560" y="152280"/>
            <a:ext cx="467028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lichengquan</dc:creator>
  <dc:description/>
  <dc:language>en-US</dc:language>
  <cp:lastModifiedBy>study888</cp:lastModifiedBy>
  <dcterms:modified xsi:type="dcterms:W3CDTF">2005-03-10T12:42:03Z</dcterms:modified>
  <cp:revision>2</cp:revision>
  <dc:subject/>
  <dc:title>PowerPoint 演示文稿</dc:title>
</cp:coreProperties>
</file>