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0.jpeg" ContentType="image/jpeg"/>
  <Override PartName="/ppt/media/image19.jpeg" ContentType="image/jpeg"/>
  <Override PartName="/ppt/media/camera.wav" ContentType="audio/x-wav"/>
  <Override PartName="/ppt/media/projctor.wav" ContentType="audio/x-wav"/>
  <Override PartName="/ppt/media/image24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6.jpeg" ContentType="image/jpeg"/>
  <Override PartName="/ppt/media/type.wav" ContentType="audio/x-wav"/>
  <Override PartName="/ppt/media/image5.jpeg" ContentType="image/jpeg"/>
  <Override PartName="/ppt/media/image18.jpeg" ContentType="image/jpeg"/>
  <Override PartName="/ppt/media/image8.gif" ContentType="image/gif"/>
  <Override PartName="/ppt/media/image16.jpeg" ContentType="image/jpeg"/>
  <Override PartName="/ppt/media/laser.wav" ContentType="audio/x-wav"/>
  <Override PartName="/ppt/media/image25.jpeg" ContentType="image/jpeg"/>
  <Override PartName="/ppt/media/image7.png" ContentType="image/png"/>
  <Override PartName="/ppt/media/image3.gif" ContentType="image/gif"/>
  <Override PartName="/ppt/media/image2.jpeg" ContentType="image/jpeg"/>
  <Override PartName="/ppt/media/image23.jpeg" ContentType="image/jpeg"/>
  <Override PartName="/ppt/media/image1.png" ContentType="image/png"/>
  <Override PartName="/ppt/media/image9.jpeg" ContentType="image/jpeg"/>
  <Override PartName="/ppt/media/image11.jpeg" ContentType="image/jpeg"/>
  <Override PartName="/ppt/media/image10.gif" ContentType="image/gif"/>
  <Override PartName="/ppt/media/image4.png" ContentType="image/png"/>
  <Override PartName="/ppt/media/image12.jpeg" ContentType="image/jpeg"/>
  <Override PartName="/ppt/media/cashreg.wav" ContentType="audio/x-wav"/>
  <Override PartName="/ppt/media/image1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D9D3-599A-4FBE-AA99-8F3D9BF97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0D1D-83AE-481E-B211-01832494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116F-08AB-4441-9D3C-9F3E00F5E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B644-92C7-4374-AA73-698DA85FC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C598-A5D2-44E9-8D8E-930F10442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DEE4-8E1C-4A37-96FF-A85CAACB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A05A-018A-4431-9BB2-BB6C23D5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C9FF-99A8-45D4-9223-17F963CB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7528-9127-4DC8-9FFE-693A7990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4365-94CC-435E-B459-B4A2218B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FC4D-1B91-491C-B00F-09F97EF2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E526-5B14-4F4F-BA88-E25ECCFF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8972-0DD4-4230-9A75-193BC6EA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11FC-AFC9-4554-8DD4-C5B58DF3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F186-64C7-431B-A6B3-D85C3D9B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F5DA-5754-469D-B9C0-9193B7C20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9B2D-C2E2-42E2-ADEF-CCE2C73AA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4878-E91A-4FFE-AA7C-5FE64E93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8AA7-0311-4410-BEFE-08FC2C6E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D62F-2636-4187-AB4C-5ADF4C09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7B0E-CAF1-4491-B01A-E272C2BB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6A66-D8DE-469A-B0E7-00967F57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89B7-26EF-439B-A9E2-17280D90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C306-606F-413A-B842-A6AAB05A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A175-595C-47DD-A323-E73DAF88A7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FC4A-634F-45D8-961B-C4DDDC839F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himes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audio" Target="../media/projcto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mera.wav"/><Relationship Id="rId3" Type="http://schemas.openxmlformats.org/officeDocument/2006/relationships/audio" Target="../media/laser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81080" y="182880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  <a:ea typeface="华文彩云"/>
              </a:rPr>
              <a:t>咬定青山不放松，立根原在破岩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  <a:ea typeface="华文彩云"/>
              </a:rPr>
              <a:t>干磨万击还坚劲；任尔东西南北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华文彩云"/>
              </a:rPr>
              <a:t>风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  <a:ea typeface="华文彩云"/>
              </a:rPr>
              <a:t>。</a:t>
            </a:r>
            <a:r>
              <a:rPr b="0" lang="zh-TW" sz="2800" spc="-1" strike="noStrike">
                <a:solidFill>
                  <a:srgbClr val="ff00ff"/>
                </a:solidFill>
                <a:latin typeface="Times New Roman"/>
                <a:ea typeface="华文中宋"/>
              </a:rPr>
              <a:t>(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  <a:ea typeface="华文中宋"/>
              </a:rPr>
              <a:t>猜一物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  <a:ea typeface="华文中宋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5715000"/>
            <a:ext cx="5410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ff"/>
                </a:solidFill>
                <a:latin typeface="Times New Roman"/>
                <a:ea typeface="仿宋_GB2312"/>
              </a:rPr>
              <a:t>谁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仿宋_GB2312"/>
              </a:rPr>
              <a:t>来</a:t>
            </a:r>
            <a:r>
              <a:rPr b="1" lang="zh-TW" sz="3200" spc="-1" strike="noStrike">
                <a:solidFill>
                  <a:srgbClr val="ff00ff"/>
                </a:solidFill>
                <a:latin typeface="Times New Roman"/>
                <a:ea typeface="仿宋_GB2312"/>
              </a:rPr>
              <a:t>说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仿宋_GB2312"/>
              </a:rPr>
              <a:t>说带有</a:t>
            </a:r>
            <a:r>
              <a:rPr b="1" lang="zh-TW" sz="3200" spc="-1" strike="noStrike">
                <a:solidFill>
                  <a:srgbClr val="ff00ff"/>
                </a:solidFill>
                <a:latin typeface="Times New Roman"/>
                <a:ea typeface="仿宋_GB2312"/>
              </a:rPr>
              <a:t>“竹”字的成语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9880" y="3200400"/>
            <a:ext cx="18288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竹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56386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3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20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0" y="24382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Times New Roman"/>
              </a:rPr>
              <a:t>四顾</a:t>
            </a:r>
            <a:r>
              <a:rPr b="1" i="1" lang="zh-CN" sz="2800" spc="-1" strike="noStrike">
                <a:solidFill>
                  <a:srgbClr val="ffff00"/>
                </a:solidFill>
                <a:latin typeface="Times New Roman"/>
              </a:rPr>
              <a:t>（较高的竹坞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38480" y="49528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除了竹子，还是竹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4120" y="57150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无边无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657600"/>
            <a:ext cx="44956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竹林茂密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遮山隐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随行画家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束手无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导引朋友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满意微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78760" y="1600200"/>
            <a:ext cx="2771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ff00ff"/>
                </a:solidFill>
                <a:latin typeface="Times New Roman"/>
              </a:rPr>
              <a:t>作者深入竹林中去，和登上一处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Times New Roman"/>
              </a:rPr>
              <a:t>高的竹坞去，看到的景致有甚么不同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5400000">
            <a:off x="168480" y="2498760"/>
            <a:ext cx="210168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华文行楷"/>
              </a:rPr>
              <a:t>三个角度</a:t>
            </a:r>
            <a:endParaRPr b="0" lang="en-US" sz="24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99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1523880"/>
            <a:ext cx="609480" cy="3048120"/>
          </a:xfrm>
          <a:custGeom>
            <a:avLst/>
            <a:gdLst>
              <a:gd name="textAreaLeft" fmla="*/ 389520 w 609480"/>
              <a:gd name="textAreaRight" fmla="*/ 609840 w 60948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14600" y="121932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远望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整体感觉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14600" y="259092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Times New Roman"/>
              </a:rPr>
              <a:t>近观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（走入竹海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66880" y="396252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66"/>
                </a:solidFill>
                <a:latin typeface="Times New Roman"/>
              </a:rPr>
              <a:t>四顾</a:t>
            </a:r>
            <a:r>
              <a:rPr b="1" i="1" lang="zh-CN" sz="2800" spc="-1" strike="noStrike">
                <a:solidFill>
                  <a:srgbClr val="ffff66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竹坞无边无际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171480" y="1447920"/>
            <a:ext cx="1066680" cy="3047760"/>
          </a:xfrm>
          <a:custGeom>
            <a:avLst/>
            <a:gdLst>
              <a:gd name="textAreaLeft" fmla="*/ 681480 w 1066680"/>
              <a:gd name="textAreaRight" fmla="*/ 1067040 w 1066680"/>
              <a:gd name="textAreaTop" fmla="*/ 79200 h 3047760"/>
              <a:gd name="textAreaBottom" fmla="*/ 296856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15200" y="1905120"/>
            <a:ext cx="533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移步换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523880" y="1905120"/>
            <a:ext cx="62485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竹的海洋 ─从平地到山顶全植着竹子，看不到房子小径和其他景物，像被竹的海洋淹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竹海暗浪 ─ 风吹过处，涌起一片嫩青色和墨绿色的竹浪，像大海波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海底隧道 ─ 走在竹海裡，竹叶密得教人仰头看不见上空，像走过竹海的海底隧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竹的屏风 ─ 有时众竹挡路，像个屏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41080" y="1219320"/>
            <a:ext cx="472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99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3399ff"/>
                </a:solidFill>
                <a:latin typeface="Times New Roman"/>
                <a:ea typeface="华文彩云"/>
              </a:rPr>
              <a:t>作者用了哪四個比喻来描写竹林的茂密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3886200"/>
            <a:ext cx="4572000" cy="2666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4419720"/>
            <a:ext cx="446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黑体"/>
                <a:ea typeface="黑体"/>
              </a:rPr>
              <a:t>竹林深处的人家</a:t>
            </a:r>
            <a:r>
              <a:rPr b="1" lang="zh-CN" sz="4000" spc="-1" strike="noStrike">
                <a:solidFill>
                  <a:srgbClr val="ffffcc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ffffcc"/>
                </a:solidFill>
                <a:latin typeface="黑体"/>
                <a:ea typeface="黑体"/>
              </a:rPr>
              <a:t>生活上有什么特点？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371600" y="22096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ff"/>
                </a:solidFill>
                <a:latin typeface="Times New Roman"/>
              </a:rPr>
              <a:t>竹林人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495288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祥和、欢乐、勤劳朴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3581280"/>
            <a:ext cx="4495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房屋墙壁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建筑器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家具器皿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衣食住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876920" y="59364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竹乡人家生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35812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色彩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3429000"/>
            <a:ext cx="3810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新鲜的笋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黄色带斑点的竹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464832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气味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472428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茶中有一股清香的新竹的气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空气中充满了竹的清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609588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突出浓郁的竹乡气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295280" y="1981080"/>
            <a:ext cx="6477120" cy="3429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209680" y="99072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声音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未见其人先闻其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-3960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219320" y="3657600"/>
            <a:ext cx="609480" cy="1068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人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438280" y="2743200"/>
            <a:ext cx="1600200" cy="3240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遥见炊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听到禽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初识竹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闻到竹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吃到笋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听到欢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3505320"/>
            <a:ext cx="914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声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色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气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81080" y="2819520"/>
            <a:ext cx="457200" cy="3047760"/>
          </a:xfrm>
          <a:custGeom>
            <a:avLst/>
            <a:gdLst>
              <a:gd name="textAreaLeft" fmla="*/ 292320 w 457200"/>
              <a:gd name="textAreaRight" fmla="*/ 457560 w 457200"/>
              <a:gd name="textAreaTop" fmla="*/ 79200 h 3047760"/>
              <a:gd name="textAreaBottom" fmla="*/ 296856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66360" y="2819520"/>
            <a:ext cx="762120" cy="3047760"/>
          </a:xfrm>
          <a:custGeom>
            <a:avLst/>
            <a:gdLst>
              <a:gd name="textAreaLeft" fmla="*/ 487080 w 762120"/>
              <a:gd name="textAreaRight" fmla="*/ 762480 w 762120"/>
              <a:gd name="textAreaTop" fmla="*/ 79200 h 3047760"/>
              <a:gd name="textAreaBottom" fmla="*/ 296856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1143000" y="2666880"/>
            <a:ext cx="28954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华文新魏"/>
              </a:rPr>
              <a:t>写作特点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华文新魏"/>
              <a:ea typeface="华文新魏"/>
            </a:endParaRPr>
          </a:p>
        </p:txBody>
      </p:sp>
      <p:sp>
        <p:nvSpPr>
          <p:cNvPr id="210" name=""/>
          <p:cNvSpPr/>
          <p:nvPr/>
        </p:nvSpPr>
        <p:spPr>
          <a:xfrm>
            <a:off x="3352680" y="4267080"/>
            <a:ext cx="4191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、通过不同的视角来描写茂密的竹林——移步换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、对竹景的描绘形象生动，用语精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、结构严谨，过渡自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219320" y="502920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点面结合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主题集中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作者依次写了此次行程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没有谈及其它的事物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只抓住当地竹子多的特点加以描述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从竹海、竹浪、竹坞、竹烟，写到竹林深处的人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3581280"/>
            <a:ext cx="3505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竹林深处人家</a:t>
            </a:r>
            <a:endParaRPr b="0" lang="en-US" sz="2400" spc="1" strike="noStrike">
              <a:ln w="12600">
                <a:solidFill>
                  <a:srgbClr val="00ff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0" y="57913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课堂练习：找出你觉得写得好的句子，说说你为什么觉得它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3048120" y="3200400"/>
            <a:ext cx="33908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欢迎指导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5943600"/>
            <a:ext cx="4114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3694b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制作</a:t>
            </a:r>
            <a:r>
              <a:rPr b="0" lang="en-US" sz="24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3694b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:</a:t>
            </a:r>
            <a:r>
              <a:rPr b="0" lang="zh-CN" sz="24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3694b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泉州德化第五中学</a:t>
            </a:r>
            <a:endParaRPr b="0" lang="en-US" sz="2400" spc="1" strike="noStrike">
              <a:ln w="12600">
                <a:solidFill>
                  <a:srgbClr val="00ff00"/>
                </a:solidFill>
                <a:miter/>
              </a:ln>
              <a:solidFill>
                <a:srgbClr val="3694b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867280" y="6172200"/>
            <a:ext cx="2819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陈志明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248520" y="228600"/>
            <a:ext cx="1447560" cy="1447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04920" y="3048120"/>
            <a:ext cx="883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华文中宋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3399ff"/>
                </a:solidFill>
                <a:latin typeface="华文中宋"/>
                <a:ea typeface="华文中宋"/>
              </a:rPr>
              <a:t>、认真朗读课文，注意字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华文中宋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3399ff"/>
                </a:solidFill>
                <a:latin typeface="华文中宋"/>
                <a:ea typeface="华文中宋"/>
              </a:rPr>
              <a:t>、课文主要写了什么？分几部分写？请写出各段段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04920" y="1219320"/>
            <a:ext cx="46479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0" y="0"/>
            <a:ext cx="9756720" cy="6858000"/>
            <a:chOff x="0" y="0"/>
            <a:chExt cx="9756720" cy="685800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7567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8172360" y="2997360"/>
              <a:ext cx="71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8244000" y="2997360"/>
              <a:ext cx="730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010280" y="83808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121120" y="106668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694b6"/>
                </a:solidFill>
                <a:latin typeface="黑体"/>
                <a:ea typeface="黑体"/>
              </a:rPr>
              <a:t>读准下列字的音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22860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晾（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29718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山麓 （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3880" y="3809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匾箪 （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47640" y="2286000"/>
            <a:ext cx="119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沏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88840" y="4724280"/>
            <a:ext cx="16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隧道 （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29640" y="4724280"/>
            <a:ext cx="15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竹坞 （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10720" y="4648320"/>
            <a:ext cx="15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缕缕 （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58440" y="3892680"/>
            <a:ext cx="15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山岚（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32960" y="3054240"/>
            <a:ext cx="164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器皿（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29640" y="3048120"/>
            <a:ext cx="15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竹箬 （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26680" y="3886200"/>
            <a:ext cx="14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忙碌（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10400" y="22860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lià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60640" y="2286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q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68320" y="2971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l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6960" y="30481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ru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70320" y="30481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mǐ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70120" y="38098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dā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30640" y="39625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l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35760" y="38862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l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44640" y="4724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su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08040" y="472428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w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56440" y="4648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l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347200" y="6094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ff"/>
                </a:solidFill>
                <a:latin typeface="黑体"/>
                <a:ea typeface="黑体"/>
              </a:rPr>
              <a:t>给文章分段，归纳段意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1600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694b6"/>
                </a:solidFill>
                <a:latin typeface="Times New Roman"/>
              </a:rPr>
              <a:t>本文主要写作者穿行于江南竹林沿途的见闻感受。按照文章的结构和作者的行踪，可分为五个部分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251460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694b6"/>
                </a:solidFill>
                <a:latin typeface="Times New Roman"/>
              </a:rPr>
              <a:t>第一部分：总写江南竹乡竹子之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19320" y="31240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694b6"/>
                </a:solidFill>
                <a:latin typeface="Times New Roman"/>
              </a:rPr>
              <a:t>第二部分：写走入竹海的独特感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37339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694b6"/>
                </a:solidFill>
                <a:latin typeface="Times New Roman"/>
              </a:rPr>
              <a:t>第三部分：写来到竹坞的所见所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43434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694b6"/>
                </a:solidFill>
                <a:latin typeface="Times New Roman"/>
              </a:rPr>
              <a:t>第四部分：写来到竹海山村见到的百姓生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5029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694b6"/>
                </a:solidFill>
                <a:latin typeface="Times New Roman"/>
              </a:rPr>
              <a:t>第五部分：写竹林深处给自己留下深刻的印象和无尽的回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553080" y="304920"/>
            <a:ext cx="291636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609480"/>
            <a:ext cx="4572000" cy="26672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143000"/>
            <a:ext cx="44640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黑体"/>
                <a:ea typeface="黑体"/>
              </a:rPr>
              <a:t>作者是怎样描写江南竹乡的面貌？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066680" y="1752480"/>
            <a:ext cx="457200" cy="3048120"/>
          </a:xfrm>
          <a:custGeom>
            <a:avLst/>
            <a:gdLst>
              <a:gd name="textAreaLeft" fmla="*/ 292320 w 457200"/>
              <a:gd name="textAreaRight" fmla="*/ 457560 w 45720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 rot="5400000">
            <a:off x="-441360" y="2955960"/>
            <a:ext cx="210168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华文行楷"/>
              </a:rPr>
              <a:t>总写</a:t>
            </a:r>
            <a:endParaRPr b="0" lang="en-US" sz="24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99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676520" y="1523880"/>
            <a:ext cx="1218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静态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600200" y="4267080"/>
            <a:ext cx="1219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动态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3886200"/>
            <a:ext cx="381240" cy="1447920"/>
          </a:xfrm>
          <a:custGeom>
            <a:avLst/>
            <a:gdLst>
              <a:gd name="textAreaLeft" fmla="*/ 243720 w 381240"/>
              <a:gd name="textAreaRight" fmla="*/ 381600 w 3812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95480" y="609480"/>
            <a:ext cx="381240" cy="2362320"/>
          </a:xfrm>
          <a:custGeom>
            <a:avLst/>
            <a:gdLst>
              <a:gd name="textAreaLeft" fmla="*/ 243720 w 381240"/>
              <a:gd name="textAreaRight" fmla="*/ 381600 w 38124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352680" y="3657600"/>
            <a:ext cx="1219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青色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352680" y="1447920"/>
            <a:ext cx="9907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山麓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352680" y="2514600"/>
            <a:ext cx="9907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山顶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6720" y="457200"/>
            <a:ext cx="1066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平地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352680" y="4876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墨色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8320" y="3962520"/>
            <a:ext cx="380880" cy="1447560"/>
          </a:xfrm>
          <a:custGeom>
            <a:avLst/>
            <a:gdLst>
              <a:gd name="textAreaLeft" fmla="*/ 243720 w 380880"/>
              <a:gd name="textAreaRight" fmla="*/ 381600 w 38088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571280" y="685800"/>
            <a:ext cx="304920" cy="2362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029200" y="1371600"/>
            <a:ext cx="1981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都被竹海淹没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181480" y="4267080"/>
            <a:ext cx="19814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竹海波浪起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7238880" y="1600200"/>
            <a:ext cx="457200" cy="3048120"/>
          </a:xfrm>
          <a:custGeom>
            <a:avLst/>
            <a:gdLst>
              <a:gd name="textAreaLeft" fmla="*/ 292680 w 457200"/>
              <a:gd name="textAreaRight" fmla="*/ 457920 w 45720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 rot="5400000">
            <a:off x="7200360" y="2628720"/>
            <a:ext cx="228600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华文行楷"/>
              </a:rPr>
              <a:t>茂密无边</a:t>
            </a:r>
            <a:endParaRPr b="0" lang="en-US" sz="24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99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80880" y="198108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99ff"/>
                </a:solidFill>
                <a:latin typeface="Times New Roman"/>
              </a:rPr>
              <a:t>远望</a:t>
            </a:r>
            <a:r>
              <a:rPr b="1" lang="zh-CN" sz="2400" spc="-1" strike="noStrike">
                <a:solidFill>
                  <a:srgbClr val="3399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3399ff"/>
                </a:solidFill>
                <a:latin typeface="Times New Roman"/>
              </a:rPr>
              <a:t>整体感觉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62320" y="2971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ff"/>
                </a:solidFill>
                <a:latin typeface="Times New Roman"/>
              </a:rPr>
              <a:t>竹的海洋——多而茂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3505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ff"/>
                </a:solidFill>
                <a:latin typeface="Times New Roman"/>
              </a:rPr>
              <a:t>竹浪起伏——宽广深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42670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99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99ff"/>
                </a:solidFill>
                <a:latin typeface="Times New Roman"/>
              </a:rPr>
              <a:t>竹海上涌着暗浪，一浪推着一浪，一直涌到很远‥‥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267080" y="533520"/>
            <a:ext cx="3695760" cy="96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竹海之景</a:t>
            </a:r>
            <a:endParaRPr b="1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62120" y="121932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Times New Roman"/>
              </a:rPr>
              <a:t>近观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（走入竹海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3352680"/>
            <a:ext cx="4343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屏风一样的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柳暗花明又一村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35812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深不可测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14600" y="2133720"/>
            <a:ext cx="4495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竹林高大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盖路遮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深不见边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海底隧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09:20:43Z</dcterms:created>
  <dc:creator/>
  <dc:description/>
  <dc:language>en-US</dc:language>
  <cp:lastModifiedBy>番茄花园</cp:lastModifiedBy>
  <dcterms:modified xsi:type="dcterms:W3CDTF">2008-09-09T04:42:30Z</dcterms:modified>
  <cp:revision>2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217000000000001024120</vt:lpwstr>
  </property>
</Properties>
</file>