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jpeg" ContentType="image/jpeg"/>
  <Override PartName="/ppt/media/image9.gif" ContentType="image/gif"/>
  <Override PartName="/ppt/media/image14.png" ContentType="image/png"/>
  <Override PartName="/ppt/media/image10.gif" ContentType="image/gif"/>
  <Override PartName="/ppt/media/image1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D927-ABDF-461A-ABF9-C0730CA8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C71-541C-40F4-8BB3-E8983369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AA4-0B0A-4D2A-BD3F-0C03FD03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ACA-F00D-4996-9014-978120C0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527D-4E1E-4326-952A-D43E8CE2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1D38-16DF-4848-B2DB-1EC28E59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7158-0A90-486D-B0CA-9F52CE2C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45BA-F838-467C-9423-F58BFF12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9440-F90B-474F-BDCC-F54B1593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B734-EEEF-40F1-A8D6-B2193860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11AC-19FF-4C1D-A77E-309D896D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9AB2-B3CE-47F8-9314-D46F4E53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A281-FE8B-4857-A990-1C9D5773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AB4D-8406-45F5-8E3C-67E9EB5D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3DD5-70BD-4325-AF7F-5246FCF1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0209-B37D-41A4-AA27-DF561C42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B1D1-B0A0-47D8-BC6E-FFB32996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04D-9BAB-4CDA-BDA9-9BBAF284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B69-97A1-4369-8632-86816B47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FFA-78C4-4626-90F3-E1954C50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30E-2B18-4819-987E-232AD497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BA6-1C87-4889-AF4E-615EE901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983-4A91-4320-AEB0-6189A0B6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587-807F-4EB2-86D1-50AF8985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DCD7-DE55-4ACD-897B-6C62AB246172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96E8-D2E1-4C9B-A983-2F7C9108EC0E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md_bkbk4033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514600" y="0"/>
            <a:ext cx="708660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ff0000"/>
                </a:solidFill>
                <a:latin typeface="隶书"/>
                <a:ea typeface="隶书"/>
              </a:rPr>
              <a:t>在</a:t>
            </a:r>
            <a:r>
              <a:rPr b="0" i="1" lang="zh-CN" sz="8000" spc="-1" strike="noStrike">
                <a:solidFill>
                  <a:srgbClr val="ff0000"/>
                </a:solidFill>
                <a:latin typeface="隶书"/>
                <a:ea typeface="隶书"/>
              </a:rPr>
              <a:t>烈日</a:t>
            </a:r>
            <a:endParaRPr b="0" lang="en-US" sz="8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endParaRPr b="0" lang="en-US" sz="8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1371600"/>
            <a:ext cx="449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0000ff"/>
                </a:solidFill>
                <a:latin typeface="隶书"/>
                <a:ea typeface="隶书"/>
              </a:rPr>
              <a:t>和</a:t>
            </a:r>
            <a:r>
              <a:rPr b="0" i="1" lang="zh-CN" sz="8000" spc="-1" strike="noStrike">
                <a:solidFill>
                  <a:srgbClr val="ff0000"/>
                </a:solidFill>
                <a:latin typeface="隶书"/>
                <a:ea typeface="隶书"/>
              </a:rPr>
              <a:t>暴雨下</a:t>
            </a:r>
            <a:endParaRPr b="0" lang="en-US" sz="8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38080" y="990720"/>
            <a:ext cx="7696440" cy="60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方正舒体"/>
                <a:ea typeface="方正舒体"/>
              </a:rPr>
              <a:t>要求</a:t>
            </a:r>
            <a:r>
              <a:rPr b="1" lang="zh-CN" sz="4400" spc="-1" strike="noStrike">
                <a:solidFill>
                  <a:srgbClr val="40458c"/>
                </a:solidFill>
                <a:latin typeface="宋体"/>
              </a:rPr>
              <a:t>:</a:t>
            </a:r>
            <a:r>
              <a:rPr b="0" lang="zh-CN" sz="3600" spc="-1" strike="noStrike">
                <a:solidFill>
                  <a:srgbClr val="40458c"/>
                </a:solidFill>
                <a:latin typeface="华文行楷"/>
                <a:ea typeface="华文行楷"/>
              </a:rPr>
              <a:t>围绕两个思考题独立阅读，写出分析笔记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40458c"/>
                </a:solidFill>
                <a:latin typeface="宋体"/>
              </a:rPr>
              <a:t>作者写了暴雨，是按怎样的顺序来写的？抓住了景物的哪些特征进行描绘的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40458c"/>
                </a:solidFill>
                <a:latin typeface="宋体"/>
              </a:rPr>
              <a:t>作者怎样描绘祥子在雨中拉车的情景的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这几段文章通过什么描写坐车人？表现坐车人的什么性格特点？ 为什么要描写坐车人？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80880"/>
            <a:ext cx="533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自学第二部分</a:t>
            </a:r>
            <a:endParaRPr b="0" lang="en-US" sz="6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-92160" y="7564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90720" y="1600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仿宋_GB2312"/>
              </a:rPr>
              <a:t>暴雨的肆虐；风利飕有劲，闪电恐怖吓人，刹那间空中雨似瀑布倾泻，地上水如河流横溢，而主人公却在暴雨下疲于奔命，冷雨浇身，祥子心中仅存一点热气。仍在雨中往前拽，他的艰辛与苦难让人感同身受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80880"/>
            <a:ext cx="25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00"/>
                </a:solidFill>
                <a:latin typeface="Tahoma"/>
                <a:ea typeface="隶书"/>
              </a:rPr>
              <a:t>小结</a:t>
            </a:r>
            <a:endParaRPr b="0" lang="en-US" sz="6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8" name="20045116548382" descr=""/>
          <p:cNvPicPr/>
          <p:nvPr/>
        </p:nvPicPr>
        <p:blipFill>
          <a:blip r:embed="rId1"/>
          <a:stretch/>
        </p:blipFill>
        <p:spPr>
          <a:xfrm>
            <a:off x="0" y="5451480"/>
            <a:ext cx="194328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172200" y="1600200"/>
            <a:ext cx="1981080" cy="1143000"/>
          </a:xfrm>
          <a:prstGeom prst="cloudCallout">
            <a:avLst>
              <a:gd name="adj1" fmla="val -27884"/>
              <a:gd name="adj2" fmla="val 27361"/>
            </a:avLst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828800"/>
            <a:ext cx="2057400" cy="16002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7680" y="2895480"/>
            <a:ext cx="549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676520"/>
            <a:ext cx="3276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ahoma"/>
              </a:rPr>
              <a:t>烈日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58c"/>
                </a:solidFill>
                <a:latin typeface="Tahoma"/>
              </a:rPr>
              <a:t>胆怯、腻烦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58c"/>
                </a:solidFill>
                <a:latin typeface="Tahoma"/>
              </a:rPr>
              <a:t>非常难过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58c"/>
                </a:solidFill>
                <a:latin typeface="Tahoma"/>
              </a:rPr>
              <a:t>象骡马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37880" y="2362320"/>
            <a:ext cx="18262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  <a:ea typeface="华文彩云"/>
              </a:rPr>
              <a:t>冷酷社会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5880" y="1676520"/>
            <a:ext cx="3048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暴雨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58c"/>
                </a:solidFill>
                <a:latin typeface="Tahoma"/>
              </a:rPr>
              <a:t>半死半活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58c"/>
                </a:solidFill>
                <a:latin typeface="Tahoma"/>
              </a:rPr>
              <a:t>拉车挣命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58c"/>
                </a:solidFill>
                <a:latin typeface="Tahoma"/>
              </a:rPr>
              <a:t>象树叶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58672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悲惨命运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2362320"/>
            <a:ext cx="761760" cy="2819160"/>
          </a:xfrm>
          <a:prstGeom prst="rect">
            <a:avLst/>
          </a:prstGeom>
          <a:noFill/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5943600"/>
            <a:ext cx="2743200" cy="685800"/>
          </a:xfrm>
          <a:prstGeom prst="rect">
            <a:avLst/>
          </a:prstGeom>
          <a:noFill/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1336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835040" y="259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51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25560" y="297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29638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3976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772400" y="25146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92040" y="3505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2064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30120" y="243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62920" y="2438280"/>
            <a:ext cx="5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5416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34320" y="3733920"/>
            <a:ext cx="5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01520" y="281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2819520"/>
            <a:ext cx="2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20640" y="335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20640" y="464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33720" y="457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5339400">
            <a:off x="3843360" y="-273600"/>
            <a:ext cx="617760" cy="3429000"/>
          </a:xfrm>
          <a:custGeom>
            <a:avLst/>
            <a:gdLst>
              <a:gd name="textAreaLeft" fmla="*/ 394560 w 617760"/>
              <a:gd name="textAreaRight" fmla="*/ 618120 w 6177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63"/>
                </a:lnTo>
                <a:cubicBezTo>
                  <a:pt x="10800" y="9263"/>
                  <a:pt x="5400" y="10163"/>
                  <a:pt x="0" y="10163"/>
                </a:cubicBezTo>
                <a:cubicBezTo>
                  <a:pt x="5400" y="10163"/>
                  <a:pt x="10800" y="11063"/>
                  <a:pt x="10800" y="1196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38088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祥子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71800" y="1828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ahoma"/>
              </a:rPr>
              <a:t>坐车人的冷酷蛮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167652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、结合课文内容，体味下列语句，从中你有怎样的发现？写出你的探究结果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写车夫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赶不上新汲的水，就跟驴马同在水槽里灌一大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写祥子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胃里差不多装满了各样的水，有时候里面会轻轻地响，像骡马喝完水那样，肚子里光光光地响动。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文末写祥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一口气跑回家，抱着火，烤了一阵，他哆嗦得像风雨中的树叶。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45720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00"/>
                </a:solidFill>
                <a:latin typeface="Tahoma"/>
                <a:ea typeface="隶书"/>
              </a:rPr>
              <a:t>研读词句</a:t>
            </a:r>
            <a:endParaRPr b="0" lang="en-US" sz="6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1" name="icon_super" descr=""/>
          <p:cNvPicPr/>
          <p:nvPr/>
        </p:nvPicPr>
        <p:blipFill>
          <a:blip r:embed="rId1"/>
          <a:stretch/>
        </p:blipFill>
        <p:spPr>
          <a:xfrm>
            <a:off x="0" y="569736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1981080"/>
            <a:ext cx="9144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见井就（ ）过去，赶不上新汲的水，就跟驴马同在水槽里（ ）一大气。（走、奔；喝、灌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还有的，因为中了暑，或是发痧，走着走着，一头（ ）到地上，永不起来。（躺、栽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（祥子）只觉得透骨凉的水往身上各处（ ）。（浇、淋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几个大雨点（ ）在祥子的背上。（落、砸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5.</a:t>
            </a: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街上突然加多了人，铺子里的人（ ）着往外（ ），都（ ）着把蒲扇（ ）着头，四下里（ ）。（争，急；跑，走；攥，拿；挡，遮；看，找。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i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在艺术语言中，动词十分重要。本文对动词的运用，非常注意它的准确性。每一动词的运用，都能准确表达物体的准确动作。一边揣摩，一边选择填空，并举一两个例子说明这些动词的运用，为什么是准确的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876312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    </a:t>
            </a:r>
            <a:r>
              <a:rPr b="0" i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下边是六个写柳树、柳枝的语句，画出其中描述景物特征的词语，说说这些词语点明了什么样的天气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　　</a:t>
            </a:r>
            <a:r>
              <a:rPr b="0" lang="zh-CN" sz="28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街上的柳树像病了似的，叶子挂着层灰土在枝上打着卷；枝条一动也懒得动，无精打采地低垂着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柳条儿动了！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那半天没动的柳条像猛地得到什么可喜的事，飘洒地摇摆，枝条都像长出来一截儿来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4.</a:t>
            </a:r>
            <a:r>
              <a:rPr b="0" lang="zh-CN" sz="28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只剩下柳枝随着风狂舞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5.</a:t>
            </a:r>
            <a:r>
              <a:rPr b="0" lang="zh-CN" sz="28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连柳树都惊疑不定地等着点什么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6.</a:t>
            </a:r>
            <a:r>
              <a:rPr b="0" lang="zh-CN" sz="28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柳枝横着飞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5" name="040826073acn_1" descr=""/>
          <p:cNvPicPr/>
          <p:nvPr/>
        </p:nvPicPr>
        <p:blipFill>
          <a:blip r:embed="rId1"/>
          <a:stretch/>
        </p:blipFill>
        <p:spPr>
          <a:xfrm>
            <a:off x="7086600" y="5029200"/>
            <a:ext cx="2057400" cy="16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133720" y="457200"/>
            <a:ext cx="670536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>
                <a:solidFill>
                  <a:srgbClr val="ff0000"/>
                </a:solidFill>
                <a:latin typeface="Tahoma"/>
                <a:ea typeface="隶书"/>
              </a:rPr>
              <a:t>交流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ahoma"/>
                <a:ea typeface="方正舒体"/>
              </a:rPr>
              <a:t>你最喜欢的是哪些段落？读一读，说说它好在哪里？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7" name="36" descr=""/>
          <p:cNvPicPr/>
          <p:nvPr/>
        </p:nvPicPr>
        <p:blipFill>
          <a:blip r:embed="rId1"/>
          <a:stretch/>
        </p:blipFill>
        <p:spPr>
          <a:xfrm>
            <a:off x="0" y="4971960"/>
            <a:ext cx="19051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533520"/>
            <a:ext cx="8686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揣摩</a:t>
            </a:r>
            <a:r>
              <a:rPr b="1" i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·</a:t>
            </a:r>
            <a:r>
              <a:rPr b="1" i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运用</a:t>
            </a:r>
            <a:endParaRPr b="0" lang="en-US" sz="6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     </a:t>
            </a:r>
            <a:r>
              <a:rPr b="0" lang="zh-CN" sz="3600" spc="-1" strike="noStrike">
                <a:solidFill>
                  <a:srgbClr val="40458c"/>
                </a:solidFill>
                <a:latin typeface="宋体"/>
                <a:ea typeface="方正舒体"/>
              </a:rPr>
              <a:t>不出现“热”字，而给人天气热的强烈感受，小说中这样的例子多得很。比如“处处干燥，处处烫手，处处憋闷，整个老城像烧透了的砖窑，使人喘不过气来”。请你再从课文中找出几个来，加以体味，并仿照这种写法，以“冷”为题，试写一段话，描述天气的寒冷，不出现“冷”字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55738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ahoma"/>
                <a:ea typeface="隶书"/>
              </a:rPr>
              <a:t>祥子的结局……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3640" y="1620720"/>
            <a:ext cx="794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371600"/>
            <a:ext cx="8381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宋体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0066ff"/>
                </a:solidFill>
                <a:latin typeface="宋体"/>
                <a:ea typeface="华文行楷"/>
              </a:rPr>
              <a:t>体面的，要强的，好梦想的，利已的，个人的，健壮的，伟大的，祥子，不知陪着人家送了多少回殡；不知道何时何地会埋起他自己来，埋起这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华文行楷"/>
              </a:rPr>
              <a:t>堕落的，自私的，不幸的，社会病胎里的产儿，个人主义的末路鬼</a:t>
            </a:r>
            <a:r>
              <a:rPr b="0" lang="zh-CN" sz="4000" spc="-1" strike="noStrike">
                <a:solidFill>
                  <a:srgbClr val="0066ff"/>
                </a:solidFill>
                <a:latin typeface="宋体"/>
                <a:ea typeface="华文行楷"/>
              </a:rPr>
              <a:t>！”在老舍当时的笔下，祥子的下场完全是个悲剧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  <a:ea typeface="隶书"/>
              </a:rPr>
              <a:t>作者简介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85800"/>
            <a:ext cx="88390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老舍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89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6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） 现、当代作家。原名舒庆春，字舍予，另有笔名絮青，鸿来、非我等。满族，北京人。曾因创作优秀话剧《龙须沟》而被授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“人民艺术家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称号。“文化大革命”初期因被迫害而弃世。 老舍一生写了约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万字的作品。主要著作有：长篇小说《老张的哲学》、《赵子曰》，《二马》、《猫城记》、《离婚》、《牛天赐传》、《骆驼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子》、《四世同堂》，《鼓书艺人》、《正红旗下》（未完），中篇小说《月牙儿》，《我这一辈子》，短篇小说集《赶集》《樱海集》，《蛤藻集》《火车集》《贫血集》，剧本《龙须沟》、《茶馆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老舍以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长篇小说和剧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著称于世。他的作品大都取材于市民生活，为中国现代文学开拓了重要的题材领域。他所描写的自然风光、世态人情、习俗时尚，运用的群众口语，都呈现出浓郁的“京味”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1600200"/>
            <a:ext cx="79246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干燥（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zào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）     焦躁（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zào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）      腥臊（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sāo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 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憋气（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biē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，气不通）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好歹（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dǎi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）     腻烦（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nì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）      空膛（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táng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慢腾腾（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tēng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） 粘汗（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nián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粘在一块（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zhān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）      攥（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zuàn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）        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往前拽（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zhuài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，拖）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45720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ff"/>
                </a:solidFill>
                <a:latin typeface="Tahoma"/>
                <a:ea typeface="隶书"/>
              </a:rPr>
              <a:t>字词积累</a:t>
            </a:r>
            <a:endParaRPr b="0" lang="en-US" sz="6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505320" y="1219320"/>
            <a:ext cx="510516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这是一本最使我满意的作品。……我放下笔的时候，心中并没有休息，依然是在思索；思索的时间长，笔尖上就能滴出血与泪来……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    ——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老舍语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md_bkbk403305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2667240" cy="3505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609480"/>
            <a:ext cx="3809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ff"/>
                </a:solidFill>
                <a:latin typeface="Times New Roman"/>
                <a:ea typeface="隶书"/>
              </a:rPr>
              <a:t>整体感知</a:t>
            </a:r>
            <a:endParaRPr b="0" lang="en-US" sz="6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90720" y="1752480"/>
            <a:ext cx="7010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zh-CN" sz="3600" spc="-1" strike="noStrike">
                <a:solidFill>
                  <a:srgbClr val="40458c"/>
                </a:solidFill>
                <a:latin typeface="Tahoma"/>
                <a:ea typeface="仿宋_GB2312"/>
              </a:rPr>
              <a:t>1.</a:t>
            </a:r>
            <a:r>
              <a:rPr b="0" lang="zh-CN" sz="3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  </a:t>
            </a:r>
            <a:r>
              <a:rPr b="0" lang="zh-CN" sz="3600" spc="-1" strike="noStrike">
                <a:solidFill>
                  <a:srgbClr val="40458c"/>
                </a:solidFill>
                <a:latin typeface="Tahoma"/>
                <a:ea typeface="仿宋_GB2312"/>
              </a:rPr>
              <a:t>将“在烈日和暴雨下”这个介词短语补充完整，使它成为一个主谓句。（即谁？干什么？）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58c"/>
                </a:solidFill>
                <a:latin typeface="Tahoma"/>
                <a:ea typeface="仿宋_GB2312"/>
              </a:rPr>
              <a:t>2.   </a:t>
            </a:r>
            <a:r>
              <a:rPr b="0" lang="zh-CN" sz="3600" spc="-1" strike="noStrike">
                <a:solidFill>
                  <a:srgbClr val="40458c"/>
                </a:solidFill>
                <a:latin typeface="Tahoma"/>
                <a:ea typeface="仿宋_GB2312"/>
              </a:rPr>
              <a:t>六月十五那天，祥子出了几次车？哪几次？</a:t>
            </a:r>
            <a:r>
              <a:rPr b="0" lang="zh-CN" sz="3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4724280"/>
            <a:ext cx="93726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仿宋_GB2312"/>
              </a:rPr>
              <a:t>三次出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仿宋_GB2312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仿宋_GB2312"/>
              </a:rPr>
              <a:t>第一次，天气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仿宋_GB2312"/>
              </a:rPr>
              <a:t>热得发狂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仿宋_GB2312"/>
              </a:rPr>
              <a:t>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仿宋_GB2312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仿宋_GB2312"/>
              </a:rPr>
              <a:t>第二次，随着时间的推移，天愈发的炎热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仿宋_GB2312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仿宋_GB2312"/>
              </a:rPr>
              <a:t>第三次，在夏日里“最热的一天中”“最热的时候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仿宋_GB2312"/>
              </a:rPr>
              <a:t>”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33520" y="45720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ff"/>
                </a:solidFill>
                <a:latin typeface="Tahoma"/>
                <a:ea typeface="隶书"/>
              </a:rPr>
              <a:t>局部研读</a:t>
            </a:r>
            <a:endParaRPr b="0" lang="en-US" sz="6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057400"/>
            <a:ext cx="822960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50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ahoma"/>
                <a:ea typeface="仿宋_GB2312"/>
              </a:rPr>
              <a:t>细读文章第一、二自然节的景物            描写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50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ahoma"/>
                <a:ea typeface="仿宋_GB2312"/>
              </a:rPr>
              <a:t>2. 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  <a:ea typeface="仿宋_GB2312"/>
              </a:rPr>
              <a:t>以“在这一自然段中，我感受到    了……”的句式来概括内容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60199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5867280"/>
            <a:ext cx="5638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4400" y="1981080"/>
            <a:ext cx="7391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写烈日，按照天气的变化，抓住</a:t>
            </a:r>
            <a:r>
              <a:rPr b="0" lang="zh-CN" sz="3200" spc="-1" strike="noStrike">
                <a:solidFill>
                  <a:srgbClr val="ff00ff"/>
                </a:solidFill>
                <a:latin typeface="宋体"/>
              </a:rPr>
              <a:t>“炎热”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的特征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先写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早上的憋闷酷热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次写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街上景物人们的反应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最后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写中午阳光 的暴烈。有概写，有细写；有正面写，有侧面写；有静景，有动景；有声，有色，有味；有拟人，有比喻，有夸张，有排比，从多方面多角度细致地渲染了天气的极度炎热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457200"/>
            <a:ext cx="28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00"/>
                </a:solidFill>
                <a:latin typeface="Tahoma"/>
                <a:ea typeface="隶书"/>
              </a:rPr>
              <a:t>小结</a:t>
            </a:r>
            <a:endParaRPr b="0" lang="en-US" sz="6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7" name="35" descr=""/>
          <p:cNvPicPr/>
          <p:nvPr/>
        </p:nvPicPr>
        <p:blipFill>
          <a:blip r:embed="rId1"/>
          <a:stretch/>
        </p:blipFill>
        <p:spPr>
          <a:xfrm>
            <a:off x="7927920" y="4724280"/>
            <a:ext cx="121608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838080"/>
            <a:ext cx="7772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4 .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那么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在烈日炙烤下的祥子的心情又怎样呢？在文中找出相关的语句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读一读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品味其中的感情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12408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心情矛盾：胆怯、还想拉；跑，喘不过气来，不跑，手和背要晒裂；不敢再动，又坐不住；不敢出去，又想出去；出去试，才晓得错了；不想再喝水，又灌了一气；想吃点什么，看见食物恶心──在这矛盾之中，饱含了多少痛苦与辛酸。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14400" y="160020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5.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作者竭力渲染烈日照耀下天气的极度炎热，目的是什么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32004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目的在于衬托祥子拉车生计的辛苦，突出祥子如何在酷暑下受煎熬。写景是为了反映人物的心理和性格；推动情节发展，揭示主题。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2" name="a1_001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1028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17:18:18Z</dcterms:created>
  <dc:creator>Billgates</dc:creator>
  <dc:description/>
  <dc:language>en-US</dc:language>
  <cp:lastModifiedBy>Billgates</cp:lastModifiedBy>
  <dcterms:modified xsi:type="dcterms:W3CDTF">2004-10-10T15:15:46Z</dcterms:modified>
  <cp:revision>7</cp:revision>
  <dc:subject/>
  <dc:title>PowerPoint 演示文稿</dc:title>
</cp:coreProperties>
</file>