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0BD-66D5-48C6-8A52-CEBAA7D7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895-5218-4538-9ECE-3717FE10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0C3-BB2E-41D5-A5C2-B58539F4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897-31BD-4F29-A0E3-3D3A5DB9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ECE-1D4F-42F0-A35E-C5AB4CB3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3E7-D37A-4EA4-9982-DC54EACA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1BD-21C7-4A72-9BD0-66BBB79C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4CE-23DA-454D-A910-576E9949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79C-E5BA-4102-B8C6-2812D619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A85-8482-47B4-B4C4-D1C72DFF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C09-195E-42DD-936C-72163AC0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B8E-5B00-4242-B579-C7EDC8E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4073-FE38-4ABC-98E0-A28D33FA9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7650" t="3012" r="4307" b="4004"/>
          <a:stretch/>
        </p:blipFill>
        <p:spPr>
          <a:xfrm>
            <a:off x="4495680" y="228600"/>
            <a:ext cx="426744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竹里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王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独坐幽篁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弹琴复长啸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深林人不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明月来相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走近诗人——王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维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6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字摩诘，盛唐时期的著名诗人，唐代山水田园派的代表，官至尚书右丞。他崇信佛教，善画人物、丛竹、山水。苏轼评价说“味摩诘之诗，诗中有画；观摩诘之画，画中有诗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幽篁：幽深的竹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啸：嘬口发出长而清脆的声音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类似于打口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深林：指“幽篁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照：与“独坐”相应，意思是说，独坐幽篁，无人相伴，唯有明月似解人意，偏来相照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自坐在幽深的竹林里，一边弹着琴一边打口哨。深深的山林中无人知晓，皎洁的月光从空中映照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800600" y="1676520"/>
            <a:ext cx="38862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《竹里馆》诗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整体把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诗人在诗中以自然平淡的笔调，描绘出清新诱人的月夜幽林的意境，融情景为一体，蕴含着一种特殊的美的艺术魅力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写法赏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68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者的闲适生活情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76160" y="1600200"/>
            <a:ext cx="7086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幽篁：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深林：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明月：明  “相照”→拟</a:t>
            </a:r>
            <a:r>
              <a:rPr b="1" lang="zh-CN" sz="2800" spc="-1" strike="noStrike">
                <a:solidFill>
                  <a:srgbClr val="fb25f1"/>
                </a:solidFill>
                <a:latin typeface="Arial"/>
              </a:rPr>
              <a:t>人化的手法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明月当成</a:t>
            </a:r>
            <a:r>
              <a:rPr b="1" lang="zh-CN" sz="2800" spc="-1" strike="noStrike">
                <a:solidFill>
                  <a:srgbClr val="fb25f1"/>
                </a:solidFill>
                <a:latin typeface="Arial"/>
              </a:rPr>
              <a:t>心心相印的知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弹琴      </a:t>
            </a:r>
            <a:r>
              <a:rPr b="1" lang="zh-CN" sz="2800" spc="-1" strike="noStrike">
                <a:solidFill>
                  <a:srgbClr val="fb25f1"/>
                </a:solidFill>
                <a:latin typeface="Arial"/>
              </a:rPr>
              <a:t>体现出诗人高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啸      </a:t>
            </a:r>
            <a:r>
              <a:rPr b="1" lang="zh-CN" sz="2800" spc="-1" strike="noStrike">
                <a:solidFill>
                  <a:srgbClr val="fb25f1"/>
                </a:solidFill>
                <a:latin typeface="Arial"/>
              </a:rPr>
              <a:t>闲淡、超拔脱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fb25f1"/>
                </a:solidFill>
                <a:latin typeface="Arial"/>
              </a:rPr>
              <a:t>的气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371600"/>
            <a:ext cx="533160" cy="4343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871"/>
                </a:lnTo>
                <a:cubicBezTo>
                  <a:pt x="10800" y="8771"/>
                  <a:pt x="5400" y="9671"/>
                  <a:pt x="0" y="9671"/>
                </a:cubicBezTo>
                <a:cubicBezTo>
                  <a:pt x="5400" y="9671"/>
                  <a:pt x="10800" y="10571"/>
                  <a:pt x="10800" y="114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75248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8098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26708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写法赏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38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反衬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248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弹琴长啸，反衬月夜竹林的幽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明月的光影，反衬深林的昏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1981080"/>
            <a:ext cx="609480" cy="3657600"/>
          </a:xfrm>
          <a:custGeom>
            <a:avLst/>
            <a:gdLst>
              <a:gd name="textAreaLeft" fmla="*/ 389520 w 609480"/>
              <a:gd name="textAreaRight" fmla="*/ 609840 w 6094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艺术手法鉴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景有情：幽静之景、幽独之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声有色：琴啸之声、林月之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静有动：独坐弹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实有虚：前两句实写其景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两句虚写其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72040" y="1447920"/>
            <a:ext cx="106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对立统一，相映成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457200" cy="4267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1447920"/>
            <a:ext cx="380880" cy="4267080"/>
          </a:xfrm>
          <a:custGeom>
            <a:avLst/>
            <a:gdLst>
              <a:gd name="textAreaLeft" fmla="*/ 0 w 380880"/>
              <a:gd name="textAreaRight" fmla="*/ 137520 w 38088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s</cp:lastModifiedBy>
  <dcterms:modified xsi:type="dcterms:W3CDTF">2009-07-06T05:25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