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F72-B815-48B1-8690-B2CB95E1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9A3-8B57-49F7-B7D7-B9301FBE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343-1262-4677-A348-30C8BB97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3B8-498B-4E88-93C9-8DDB8D2A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C99-06D2-4489-B546-AFE6D58C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DED-69EF-4909-89E2-1337297C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C7B-64EE-4B52-8EE0-8C61B165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09D-4B28-41C8-B3DD-E93EC91B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BA4-D25F-470E-89C8-1B7A46E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B24-C684-4F4F-9DCE-DD2287C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2A1-B241-447C-880F-7F6266E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43B-F53C-469A-9B4B-789CD52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91B2-C7F3-45CF-A21F-1AC9D0B32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aike.baidu.com/view/3510067.htm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84360" y="1197000"/>
            <a:ext cx="561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赠花卿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422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都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崔光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部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敬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2800" y="2565360"/>
            <a:ext cx="31096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唐）杜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5084640"/>
            <a:ext cx="79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崔光远（？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6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唐朝将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川节度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唐肃宗上元二年（公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6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）四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剑南节度使段子璋叛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年五月，西川节度使崔光远率部与李奂共同攻克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绵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擒杀段子璋。而在围剿过程中，西川军牙将花敬定趁机纵容士兵大肆掳掠，残杀数千人，立下头功的崔光远被缉拿，狱中卒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260280"/>
            <a:ext cx="3222360" cy="152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独坐幽篁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弹琴复长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9720" y="420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幽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69400" y="548640"/>
            <a:ext cx="354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是深的意思，篁是竹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5760" y="112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54280" y="1960200"/>
            <a:ext cx="1047960" cy="5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声呼啸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魏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士称吹口哨为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5480" y="4403880"/>
            <a:ext cx="6356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独自坐在幽静的竹林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边弹琴一边发出了长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1989000"/>
            <a:ext cx="3960720" cy="20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深林</a:t>
            </a:r>
            <a:r>
              <a:rPr b="1" lang="zh-CN" sz="4800" spc="-1" strike="noStrike">
                <a:solidFill>
                  <a:srgbClr val="00007a"/>
                </a:solidFill>
                <a:latin typeface="Arial"/>
              </a:rPr>
              <a:t>人不知</a:t>
            </a:r>
            <a:r>
              <a:rPr b="1" lang="zh-CN" sz="4800" spc="-1" strike="noStrike">
                <a:solidFill>
                  <a:srgbClr val="00007a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7a"/>
                </a:solidFill>
                <a:latin typeface="Arial"/>
              </a:rPr>
              <a:t>明月来相照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60280"/>
            <a:ext cx="468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a"/>
                </a:solidFill>
                <a:latin typeface="Arial"/>
              </a:rPr>
              <a:t>深林：指“幽篁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a"/>
                </a:solidFill>
                <a:latin typeface="Arial"/>
              </a:rPr>
              <a:t>相照：与“独坐”相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373720"/>
            <a:ext cx="763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身在竹林深处，没有知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有天上明月跟我做伴，常来相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9240" y="2462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竹里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9840" y="1268280"/>
            <a:ext cx="1400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唐）王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1989000"/>
            <a:ext cx="2952720" cy="294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独坐幽篁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弹琴复长啸</a:t>
            </a: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深林人不知</a:t>
            </a: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a"/>
                </a:solidFill>
                <a:latin typeface="Arial"/>
              </a:rPr>
              <a:t>明月来相照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49360"/>
            <a:ext cx="255564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独自坐在幽静的竹林里，一边弹琴一边发出了长啸。我身在竹林深处，没有知道，只有天上明月跟我做伴，常来相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7184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422280" y="404640"/>
            <a:ext cx="10335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宗城王忠（王正和）楷书斗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2588760"/>
            <a:ext cx="7272360" cy="80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诗约作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6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（上元二年）。杜甫常常到各地游览。有一天，杜甫来到花敬定的府上，在花卿的府上听到悠扬动听的乐曲。乐曲如此之美，杜甫十分感叹，故即兴挥毫写下了这首诗，称赞乐曲是人间难得一闻的天上仙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56000" y="620640"/>
            <a:ext cx="4788000" cy="42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赠花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唐）杜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锦城丝管日纷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半入江风半入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此曲只应天上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间能得几回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6922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花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86600" y="0"/>
            <a:ext cx="332280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锦城丝管日纷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半入江风半入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7800" y="88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锦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8200" y="1879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成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70200" y="8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丝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11505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弦乐器和管乐器，这里泛指音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09920" y="88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纷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7080" y="2491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乐曲的轻柔悠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237560"/>
            <a:ext cx="8136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成都花卿家里的音乐声轻柔悠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些乐曲一半随着江风飘去，一半飞上了云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5440" y="515736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60280"/>
            <a:ext cx="45352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此曲只应天上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间能得几回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419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6174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关语，虚指天宫，实指皇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59520" y="1111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回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12120" y="227592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到几回。意思是说人间很少听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860640"/>
            <a:ext cx="813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样动听的乐曲只应该皇宫里（天上神仙）才有， 人世间的平民百姓家一生中能够听到几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25200" y="404640"/>
            <a:ext cx="4002480" cy="42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赠花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唐）杜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锦城丝管日纷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半入江风半入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此曲只应天上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间能得几回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430200"/>
            <a:ext cx="316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成都花卿家里的音乐声轻柔悠扬，这些乐曲一半随着江风飘去，一半飞上了云端。这样动听的乐曲只应该皇宫里（天上神仙）才有， 人世间的平民百姓家一生中能够听到几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845080" cy="374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76720" y="2852640"/>
            <a:ext cx="3600360" cy="4000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8320" y="26460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292929"/>
                </a:solidFill>
                <a:latin typeface="Arial"/>
                <a:ea typeface="华文新魏"/>
              </a:rPr>
              <a:t>竹里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11960" y="3474360"/>
            <a:ext cx="7898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Arial"/>
                <a:ea typeface="华文新魏"/>
              </a:rPr>
              <a:t>（唐）王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98320" y="423720"/>
            <a:ext cx="16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华文新魏"/>
              </a:rPr>
              <a:t>作者简介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234792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盛唐时期的著名诗人。其诗、画成就都很高，苏东坡赞他“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诗中有画，画中有诗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，尤以山水诗成就为最，与孟浩然合称“王孟”，晚年无心仕途，专诚奉佛，故后世人称其为“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诗佛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732720" y="7128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7760" y="1700280"/>
            <a:ext cx="54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维（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6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字摩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华文新魏"/>
              </a:rPr>
              <a:t>竹里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8480" y="1341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华文新魏"/>
              </a:rPr>
              <a:t>（唐）王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66920" y="2287440"/>
            <a:ext cx="291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独坐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/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幽篁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弹琴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/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复长啸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深林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/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人不知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明月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/</a:t>
            </a:r>
            <a:r>
              <a:rPr b="1" lang="zh-CN" sz="4800" spc="-1" strike="noStrike">
                <a:solidFill>
                  <a:srgbClr val="00007a"/>
                </a:solidFill>
                <a:latin typeface="宋体"/>
              </a:rPr>
              <a:t>来相照。</a:t>
            </a:r>
            <a:r>
              <a:rPr b="1" lang="zh-CN" sz="1800" spc="-1" strike="noStrike">
                <a:solidFill>
                  <a:srgbClr val="00007a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9240" y="2462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竹里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9480" y="14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辋川地名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560" y="85716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ǎ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920" y="1913040"/>
            <a:ext cx="3934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辋川镇位于蓝田县中部偏南，距县城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千米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4520" y="19162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uá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2:30:53Z</dcterms:created>
  <dc:creator>微软用户</dc:creator>
  <dc:description/>
  <dc:language>en-US</dc:language>
  <cp:lastModifiedBy>未知用户</cp:lastModifiedBy>
  <dcterms:modified xsi:type="dcterms:W3CDTF">2013-09-17T07:22:57Z</dcterms:modified>
  <cp:revision>14</cp:revision>
  <dc:subject/>
  <dc:title>幻灯片 1</dc:title>
</cp:coreProperties>
</file>