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D27-A81A-4515-9414-E3A019EB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7E5-63C7-49DC-B7E0-B53D58D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81D-4E72-403B-953F-1D3F3306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964-EBAF-4166-8742-59AAC915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C62A-39ED-4839-A015-5B59D4D2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8EE7-2624-4045-8FE2-D9CD9ACB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1082-A153-493E-B8A7-E1473B68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A0A4-F2F4-40C9-8995-E90B4617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A26-2F84-45BE-B978-03D0117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CE7C-21A7-461A-AD77-1B060EA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C73D-FED8-4090-960B-3E9BEC6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305-D807-449A-8BC6-82345AEC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914-C242-472D-A19A-BFE631C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0C9B-BE85-4887-89B5-9EC374F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E4A-D728-4CA4-BE37-1AA2B35E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03DB-7A93-4F46-A1AC-10A22E9B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FD42-07D0-4D7A-9370-B123C0D2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9BC5-1B3A-4F21-B626-687A80CA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5942-7948-4AB0-8ED7-3475F4DE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A44F-ABFB-48FA-8822-7B73CDA6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8A56-DCEB-432F-A69E-943655E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5B8F-CC75-4A7B-B65F-48DEA35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349-902E-47A7-B78D-AA567BAB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252B-1DC4-4EA4-8565-802215A2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EE66-0F7B-40C4-8AA9-D950B9B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1404-D787-4844-9316-545BAF8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87CA-4E90-490A-B33B-B777E46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4BBA-85DC-4360-9769-585C937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4D83-D493-41AB-B0CE-7404EC4A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97A6-1D1F-4D67-959D-34AA4CB6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C1C1-2128-4986-9601-F00CCCB9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D797-6223-4852-BBD9-C297D0AE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252F-7778-430C-8FB9-AE435CBF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A9D-9B12-41DA-ACEA-262E7C5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D987-EFEA-4A62-99C5-FB3C9837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82FE-33C7-4548-8108-597EF1D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478F-B6B8-41D6-B2FD-274D66AE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BDD7-9F57-4E44-9BDC-BA145FD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F3BB-76F2-40CB-A85D-6811487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8221-5FD3-48F3-9046-08EA6AC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2D07-AA78-48CE-9D5E-F5DDE278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2427-8EA9-41A5-8860-BDB3D8B3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7590-3DC5-4441-AD19-39A005A2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DFBD-E79E-4926-94E4-346E771F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88E-BF19-476C-86AB-29EAE202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262C-B645-45C0-AE93-B8EC8BD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F085D-0843-4AF0-BCBC-9FD82AE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D45D5-0260-486A-BB35-445035B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89808-F2B1-4705-A9B8-6C39B30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5F7F-E766-48AF-A6D7-E386DC82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D1D3-BA22-4EBD-A456-42E8BAF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E2D5-04C4-43F9-9DA0-81E4572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460D-91AC-4CC1-A497-204B819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AB13-B6E4-47E7-8A00-339FB940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EE96-75CB-4249-A074-3D39BD55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088-3ADF-4171-B384-78D171CF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959D-EBAF-4FEE-A7D2-1FE68121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BD287-B24A-4D8E-9CB0-CC6E73AE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781E-289C-4382-B7B7-36D0DAA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BE75-A541-45CD-B7CC-801AA87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CD66-557C-46A0-89F0-6D8D0D23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F713-BBE6-4D31-AF82-A52206E0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4D76-A6A3-4874-BB1D-3E8364CA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344D-4D80-4523-9D4B-5415AC0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B0B3-EAF2-4D7F-ADA0-FFC7EF4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BBF3B-8061-44C5-B4B1-7992213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690-0A58-43D1-BD29-5A9D10C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853A-79BF-419C-8F09-C76B99BF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64B85-13D2-458B-887E-E9BE57DD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CBDE-13AC-4CD7-AD89-6D4BD85E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8F2-BD0A-4C5F-B195-8E0BE6A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426-6E25-43CD-90E7-D662C3B1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BCB0-237E-41FF-AF91-77072732F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0B35-046B-4B73-A440-D77A403E9A8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2C43-1804-4775-8503-334114657C44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521B-0E98-4016-9448-B2868E19A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0A3-7F2F-4607-AB18-4EDE450AA74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15E-885E-468C-966A-FFF7C843891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so.com/doc/5414210.html" TargetMode="External"/><Relationship Id="rId3" Type="http://schemas.openxmlformats.org/officeDocument/2006/relationships/hyperlink" Target="http://baike.so.com/doc/2409924.html" TargetMode="External"/><Relationship Id="rId4" Type="http://schemas.openxmlformats.org/officeDocument/2006/relationships/hyperlink" Target="http://baike.so.com/doc/5339723.html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8" name="Picture 2" descr="C:\Users\Administrator\Desktop\8382518_101309667156_2[1].jpg"/>
          <p:cNvPicPr/>
          <p:nvPr/>
        </p:nvPicPr>
        <p:blipFill>
          <a:blip r:embed="rId2"/>
          <a:srcRect l="0" t="4274" r="0" b="0"/>
          <a:stretch/>
        </p:blipFill>
        <p:spPr>
          <a:xfrm>
            <a:off x="4680" y="476280"/>
            <a:ext cx="9139320" cy="590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Administrator\Desktop\200811121944187_2[1].jpg"/>
          <p:cNvPicPr/>
          <p:nvPr/>
        </p:nvPicPr>
        <p:blipFill>
          <a:blip r:embed="rId2"/>
          <a:stretch/>
        </p:blipFill>
        <p:spPr>
          <a:xfrm>
            <a:off x="19080" y="79200"/>
            <a:ext cx="9245520" cy="6936120"/>
          </a:xfrm>
          <a:prstGeom prst="rect">
            <a:avLst/>
          </a:prstGeom>
          <a:ln w="0">
            <a:noFill/>
          </a:ln>
        </p:spPr>
      </p:pic>
      <p:grpSp>
        <p:nvGrpSpPr>
          <p:cNvPr id="280" name="矩形 3"/>
          <p:cNvGrpSpPr/>
          <p:nvPr/>
        </p:nvGrpSpPr>
        <p:grpSpPr>
          <a:xfrm>
            <a:off x="987480" y="993600"/>
            <a:ext cx="5614920" cy="2060280"/>
            <a:chOff x="987480" y="993600"/>
            <a:chExt cx="5614920" cy="2060280"/>
          </a:xfrm>
        </p:grpSpPr>
        <p:pic>
          <p:nvPicPr>
            <p:cNvPr id="281" name="矩形 3" descr=""/>
            <p:cNvPicPr/>
            <p:nvPr/>
          </p:nvPicPr>
          <p:blipFill>
            <a:blip r:embed="rId3"/>
            <a:stretch/>
          </p:blipFill>
          <p:spPr>
            <a:xfrm>
              <a:off x="987480" y="996480"/>
              <a:ext cx="56149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987480" y="993600"/>
              <a:ext cx="56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王维从小天资聪明，九岁时即能写文章，十七岁时写了一首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《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九月九日忆山东兄弟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》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这首诗成为千古传诵的佳句。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3" name="矩形 4"/>
          <p:cNvGrpSpPr/>
          <p:nvPr/>
        </p:nvGrpSpPr>
        <p:grpSpPr>
          <a:xfrm>
            <a:off x="1116000" y="4943520"/>
            <a:ext cx="5473800" cy="1566360"/>
            <a:chOff x="1116000" y="4943520"/>
            <a:chExt cx="5473800" cy="1566360"/>
          </a:xfrm>
        </p:grpSpPr>
        <p:pic>
          <p:nvPicPr>
            <p:cNvPr id="284" name="矩形 4" descr=""/>
            <p:cNvPicPr/>
            <p:nvPr/>
          </p:nvPicPr>
          <p:blipFill>
            <a:blip r:embed="rId4"/>
            <a:stretch/>
          </p:blipFill>
          <p:spPr>
            <a:xfrm>
              <a:off x="1116000" y="4944600"/>
              <a:ext cx="54738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116000" y="4943520"/>
              <a:ext cx="54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诗云：“独在异乡为异客，    每逢佳节倍思亲。遥知兄弟登高处，遍插茱萸少一人。”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286" name="矩形 5" descr=""/>
          <p:cNvPicPr/>
          <p:nvPr/>
        </p:nvPicPr>
        <p:blipFill>
          <a:blip r:embed="rId5"/>
          <a:stretch/>
        </p:blipFill>
        <p:spPr>
          <a:xfrm>
            <a:off x="6370560" y="414360"/>
            <a:ext cx="1974960" cy="236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3"/>
          <p:cNvSpPr/>
          <p:nvPr/>
        </p:nvSpPr>
        <p:spPr>
          <a:xfrm>
            <a:off x="2286000" y="-23025240"/>
            <a:ext cx="45720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王维因父处廉终官汾州司马，徙家于蒲州（今山西永济西南），遂为河东人。从小天资聪明，九岁时即能写文章，十七岁时写了一首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九月九日忆</a:t>
            </a:r>
            <a:r>
              <a:rPr b="1" lang="zh-CN" sz="20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山东兄弟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诗，脍炙人口，诗云：“独在异乡为异客，每逢佳节倍思亲。遥知兄弟登高处，遍插茱萸少一人。”这首诗成为千古传诵的佳句，显示了王维超群的才华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青少年时的王维不仅以文章知名，还擅长音乐，尤善</a:t>
            </a:r>
            <a:r>
              <a:rPr b="1" lang="zh-CN" sz="20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弹琵琶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。据传开元九年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72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年）春，岐王把他引荐到公主家，在公主面前用琵琶弹奏一曲，名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郁轮袍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，“声调哀切，满座动容”，大受公主称赏。又进诗若干首，都是人们素所诵读的诗篇，更令公主称奇。公主遂召试官至第，举荐他为解头，一举进士登第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王维同唐室亲王交往较多，并很被看重。宁王李宪乃玄宗长兄，曾让太子位给玄宗，倍受玄宗尊宠，一时贵盛。一次宁王见一卖饼者之妇，长得“纤白明媚”，十分喜欢她，便给饼师很多钱，把她纳为妾，宠爱无比。过了一年多，宁王问她还想念饼师吗？并接来了饼师。她见了饼师后，“双泪垂颊，若不胜情”。时在座的十几个宾客，皆是有名文士，见此“无不凄异”。宁王让大家赋诗，王维才思敏捷，最先赋成，诗云：“莫以今时宠，能忘旧日恩。看花满眼泪，不共楚王言。”诗以春秋时代</a:t>
            </a:r>
            <a:r>
              <a:rPr b="1" lang="zh-CN" sz="20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息夫人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的故事来讽咏眼前这位无人身自由的妇女的遭遇，于是宁王乃将她归还饼师，“使终其志”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6146640" y="-809136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　　　　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9" name="Picture 2" descr="C:\Users\Administrator\Desktop\t017c38dede3bdb52ea[1].jpg"/>
          <p:cNvPicPr/>
          <p:nvPr/>
        </p:nvPicPr>
        <p:blipFill>
          <a:blip r:embed="rId5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90" name="矩形 6"/>
          <p:cNvSpPr/>
          <p:nvPr/>
        </p:nvSpPr>
        <p:spPr>
          <a:xfrm>
            <a:off x="755640" y="1119240"/>
            <a:ext cx="697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王维同唐室亲王交往较多，并很被看重。宁王李宪乃玄宗长兄，曾让太子位给玄宗，倍受玄宗尊宠，一时贵盛。一次宁王见一卖饼者之妇，长得“纤白明媚”，十分喜欢她，便给饼师很多钱，把她纳为妾，宠爱无比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了一年多，宁王问她还想念饼师吗？并接来了饼师。她见了饼师后，“双泪垂颊，若不胜情”。时在座的十几个宾客，皆是有名文士，见此“无不凄异”。宁王让大家赋诗，王维才思敏捷，最先赋成，诗云：“莫以今时宠，能忘旧日恩。看花满眼泪，不共楚王言。”诗以春秋时息夫人的故事来讽咏眼前这位无人身自由的妇女的遭遇，于是宁王乃将她归还饼师，“使终其志”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Box 8"/>
          <p:cNvSpPr/>
          <p:nvPr/>
        </p:nvSpPr>
        <p:spPr>
          <a:xfrm>
            <a:off x="4054320" y="23652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小故事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Administrator\Desktop\3351784_173210040367_2[1].jpg"/>
          <p:cNvPicPr/>
          <p:nvPr/>
        </p:nvPicPr>
        <p:blipFill>
          <a:blip r:embed="rId2"/>
          <a:srcRect l="0" t="0" r="0" b="400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矩形 5"/>
          <p:cNvSpPr/>
          <p:nvPr/>
        </p:nvSpPr>
        <p:spPr>
          <a:xfrm>
            <a:off x="812880" y="20764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王维巧妙地用笔触描写大自然的幽静、秀美，表现作者闲适、自得的心情，表现盛唐生活恬静安宁的一方面。诗情、画意、禅理熔于一炉。 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他长期隐居在山水林壑之间，对大自然的观察细致，加之于他擅长绘画、音乐、书法，对大自然的色彩、音响有极敏锐地感受，用最准确、最富有表现力的词语来创造诗的意境，再现大自然的美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4" name="矩形 6" descr=""/>
          <p:cNvPicPr/>
          <p:nvPr/>
        </p:nvPicPr>
        <p:blipFill>
          <a:blip r:embed="rId3"/>
          <a:stretch/>
        </p:blipFill>
        <p:spPr>
          <a:xfrm>
            <a:off x="3273480" y="596880"/>
            <a:ext cx="2371680" cy="153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2984400" y="2492280"/>
            <a:ext cx="3838320" cy="1557000"/>
          </a:xfrm>
          <a:prstGeom prst="rect">
            <a:avLst/>
          </a:prstGeom>
          <a:gradFill rotWithShape="0">
            <a:gsLst>
              <a:gs pos="0">
                <a:srgbClr val="889096"/>
              </a:gs>
              <a:gs pos="100000">
                <a:srgbClr val="e9f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b4b0"/>
                </a:solidFill>
                <a:latin typeface="Arial"/>
              </a:rPr>
              <a:t>谢谢欣赏！</a:t>
            </a:r>
            <a:endParaRPr b="1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755640" y="134136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"/>
              </a:rPr>
              <a:t>王维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511280" y="33577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楷体"/>
                <a:ea typeface="楷体"/>
              </a:rPr>
              <a:t>——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楷体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"/>
              </a:rPr>
              <a:t>潇洒恬淡  随意自然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Administrator\Desktop\t017c38dede3bdb52ea[1].jpg"/>
          <p:cNvPicPr/>
          <p:nvPr/>
        </p:nvPicPr>
        <p:blipFill>
          <a:blip r:embed="rId2"/>
          <a:stretch/>
        </p:blipFill>
        <p:spPr>
          <a:xfrm>
            <a:off x="0" y="511200"/>
            <a:ext cx="9144000" cy="5832360"/>
          </a:xfrm>
          <a:prstGeom prst="rect">
            <a:avLst/>
          </a:prstGeom>
          <a:ln w="0">
            <a:noFill/>
          </a:ln>
        </p:spPr>
      </p:pic>
      <p:grpSp>
        <p:nvGrpSpPr>
          <p:cNvPr id="252" name="TextBox 3"/>
          <p:cNvGrpSpPr/>
          <p:nvPr/>
        </p:nvGrpSpPr>
        <p:grpSpPr>
          <a:xfrm>
            <a:off x="646200" y="2255760"/>
            <a:ext cx="682560" cy="1755360"/>
            <a:chOff x="646200" y="2255760"/>
            <a:chExt cx="682560" cy="1755360"/>
          </a:xfrm>
        </p:grpSpPr>
        <p:pic>
          <p:nvPicPr>
            <p:cNvPr id="253" name="TextBox 3" descr=""/>
            <p:cNvPicPr/>
            <p:nvPr/>
          </p:nvPicPr>
          <p:blipFill>
            <a:blip r:embed="rId3"/>
            <a:stretch/>
          </p:blipFill>
          <p:spPr>
            <a:xfrm>
              <a:off x="649080" y="2256840"/>
              <a:ext cx="6760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46200" y="2255760"/>
              <a:ext cx="682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7a77"/>
                  </a:solidFill>
                  <a:latin typeface="Arial"/>
                </a:rPr>
                <a:t>目</a:t>
              </a:r>
              <a:endParaRPr b="1" lang="en-US" sz="5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7a77"/>
                  </a:solidFill>
                  <a:latin typeface="Arial"/>
                </a:rPr>
                <a:t>录</a:t>
              </a:r>
              <a:endParaRPr b="1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5" name="TextBox 4"/>
          <p:cNvGrpSpPr/>
          <p:nvPr/>
        </p:nvGrpSpPr>
        <p:grpSpPr>
          <a:xfrm>
            <a:off x="2835360" y="1871640"/>
            <a:ext cx="4035240" cy="767880"/>
            <a:chOff x="2835360" y="1871640"/>
            <a:chExt cx="4035240" cy="767880"/>
          </a:xfrm>
        </p:grpSpPr>
        <p:pic>
          <p:nvPicPr>
            <p:cNvPr id="256" name="TextBox 4" descr=""/>
            <p:cNvPicPr/>
            <p:nvPr/>
          </p:nvPicPr>
          <p:blipFill>
            <a:blip r:embed="rId4"/>
            <a:stretch/>
          </p:blipFill>
          <p:spPr>
            <a:xfrm>
              <a:off x="2835360" y="1872720"/>
              <a:ext cx="4035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835360" y="187164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7a77"/>
                  </a:solidFill>
                  <a:latin typeface="Arial"/>
                </a:rPr>
                <a:t>一、诗歌鉴赏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8" name="TextBox 5"/>
          <p:cNvGrpSpPr/>
          <p:nvPr/>
        </p:nvGrpSpPr>
        <p:grpSpPr>
          <a:xfrm>
            <a:off x="2859120" y="3286080"/>
            <a:ext cx="4468680" cy="767880"/>
            <a:chOff x="2859120" y="3286080"/>
            <a:chExt cx="4468680" cy="767880"/>
          </a:xfrm>
        </p:grpSpPr>
        <p:pic>
          <p:nvPicPr>
            <p:cNvPr id="259" name="TextBox 5" descr=""/>
            <p:cNvPicPr/>
            <p:nvPr/>
          </p:nvPicPr>
          <p:blipFill>
            <a:blip r:embed="rId5"/>
            <a:stretch/>
          </p:blipFill>
          <p:spPr>
            <a:xfrm>
              <a:off x="2859120" y="3287160"/>
              <a:ext cx="44686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860560" y="3286080"/>
              <a:ext cx="446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7a77"/>
                  </a:solidFill>
                  <a:latin typeface="Arial"/>
                </a:rPr>
                <a:t>二、王维的故事</a:t>
              </a:r>
              <a:endParaRPr b="1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3203640" y="191628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  <a:ea typeface="楷体_GB2312"/>
              </a:rPr>
              <a:t>竹里馆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692360" y="3573360"/>
            <a:ext cx="6302160" cy="15872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独坐幽篁里，弹琴复长啸。 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深林人不知，明月来相照</a:t>
            </a:r>
            <a:r>
              <a:rPr b="1" lang="zh-CN" sz="4000" spc="-1" strike="noStrike">
                <a:solidFill>
                  <a:srgbClr val="007a77"/>
                </a:solidFill>
                <a:latin typeface="楷体"/>
                <a:ea typeface="楷体"/>
              </a:rPr>
              <a:t>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5651640" y="299736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王维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4" name="唐诗 竹里馆 雅坤.mp3" descr=""/>
          <p:cNvPicPr/>
          <p:nvPr/>
        </p:nvPicPr>
        <p:blipFill>
          <a:blip r:embed="rId2"/>
          <a:stretch/>
        </p:blipFill>
        <p:spPr>
          <a:xfrm>
            <a:off x="637380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602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200810271451190_2"/>
          <p:cNvPicPr/>
          <p:nvPr/>
        </p:nvPicPr>
        <p:blipFill>
          <a:blip r:embed="rId2"/>
          <a:stretch/>
        </p:blipFill>
        <p:spPr>
          <a:xfrm>
            <a:off x="0" y="-243000"/>
            <a:ext cx="5257800" cy="7101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5364000" y="1628640"/>
            <a:ext cx="17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翻译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564000" y="3141720"/>
            <a:ext cx="53290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独自坐在幽深的竹林里，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1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边弹着琴一边又长啸。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1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深深的山林中无人知晓，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1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皎洁的月光从空中映照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2700360" y="981000"/>
            <a:ext cx="5761080" cy="181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这是一首写隐者的闲适生活情趣的诗。诗的用字造语、写景（幽篁、深林、明月），写人（独坐、弹琴、长啸）都极平淡无奇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然而它的妙处也就在于以自然平淡的笔调，描绘出清新诱人的月夜幽林的意境，融情景为一体，蕴含着一种特殊的美的艺术魅力，使其成为千古佳品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93720" y="981000"/>
            <a:ext cx="6379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4b0"/>
                </a:solidFill>
                <a:latin typeface="Arial"/>
                <a:ea typeface="华文新魏"/>
              </a:rPr>
              <a:t>唐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4b0"/>
                </a:solidFill>
                <a:latin typeface="Arial"/>
                <a:ea typeface="华文新魏"/>
              </a:rPr>
              <a:t>诗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4b0"/>
                </a:solidFill>
                <a:latin typeface="Arial"/>
                <a:ea typeface="华文新魏"/>
              </a:rPr>
              <a:t>赏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4b0"/>
                </a:solidFill>
                <a:latin typeface="Arial"/>
                <a:ea typeface="华文新魏"/>
              </a:rPr>
              <a:t>析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826920" y="1989000"/>
            <a:ext cx="770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表面看来，四句诗的用字造语都是平平无奇的。但四句诗合起来，却妙谛自成，境界自出，蕴含着一种特殊的艺术魅力。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它不以字句取胜，而从整体见美。它的美在神不在貌，领略和欣赏它的美，也应当遗貌取神，而其神是包孕在意境之中的。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19640" y="62064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小结</a:t>
            </a:r>
            <a:endParaRPr b="1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395280" y="1197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24000" y="256536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611280" y="6922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生平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611280" y="198900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王维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0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－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6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），字摩诘，          祖籍山西祁县，唐朝诗人，画家，外号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诗佛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今存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0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余首。王维精通佛学，所以</a:t>
            </a:r>
            <a:r>
              <a:rPr b="1" lang="zh-CN" sz="3200" spc="-1" strike="noStrike">
                <a:solidFill>
                  <a:srgbClr val="007a77"/>
                </a:solidFill>
                <a:latin typeface="楷体"/>
                <a:ea typeface="楷体"/>
              </a:rPr>
              <a:t> 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2484360" y="41497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自己名为维，字摩诘。王维诗书画都很有名，非常多才多艺。音乐也很精通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611280" y="692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成就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611280" y="1844640"/>
            <a:ext cx="813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诗、画成就都很高，苏轼赞他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味摩诘之诗，诗中有画；观摩诘之画，画中有诗。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尤以山水诗成就为最，与孟浩然合称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王孟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晚年无心仕途，专诚奉佛，故后世人称其为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诗佛</a:t>
            </a:r>
            <a:r>
              <a:rPr b="1" lang="zh-CN" sz="2800" spc="-1" strike="noStrike">
                <a:solidFill>
                  <a:srgbClr val="007a77"/>
                </a:solidFill>
                <a:latin typeface="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他著有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王右丞集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存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0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首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不仅如此，王维善画人物、丛竹、山水，但他在唐诗的范畴显然有更高的成就，他是唐代山水田园派的代表。 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0:42:19Z</dcterms:created>
  <dc:creator>Administrator</dc:creator>
  <dc:description/>
  <dc:language>en-US</dc:language>
  <cp:lastModifiedBy>微软中国</cp:lastModifiedBy>
  <dcterms:modified xsi:type="dcterms:W3CDTF">2015-03-23T12:17:15Z</dcterms:modified>
  <cp:revision>1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4</vt:lpwstr>
  </property>
</Properties>
</file>