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25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6920" y="206064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cc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cc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0720" y="2060640"/>
            <a:ext cx="86850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   “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味摩诘之诗，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诗中有画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；</a:t>
            </a: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观摩诘之画，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画中有诗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。”               </a:t>
            </a: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-----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苏轼</a:t>
            </a: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                                                             </a:t>
            </a: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28720" y="274320"/>
            <a:ext cx="605772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隶书"/>
              </a:rPr>
              <a:t>诗歌链接</a:t>
            </a:r>
            <a:endParaRPr b="0" lang="en-US" sz="96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5280" y="1701720"/>
            <a:ext cx="388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滁州西涧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韦应物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独怜幽草涧边生，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上有黄鹂深树鸣。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春潮带雨晚来急，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野渡无人舟自横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1413000"/>
            <a:ext cx="543708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韦应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(737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79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，京兆长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现在陕西西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人。唐代诗人。这首诗写于唐德宗建中二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(78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诗人出任滁州刺史期间，是山水诗中的佳作。滁州，在现在安徽滁州。西涧，在滁州城西门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〔独怜〕独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〔上有黄鹂深树鸣〕树阴深处黄莺发出诱人的叫声。黄鹂，黄莺。深树，树阴深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〔野渡无人舟自横〕郊野的渡口空无一人，只有空空的渡船自在地漂浮着。野渡，野外的渡口。自横，自由自在地浮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诗写春游滁州西涧所见到的情景。从诗人创造的涧边幽草、水急舟横的清幽意境中，传达出一种悠闲恬淡的心情。末二句以飞转流动之势，衬托闲淡宁静之景，可谓诗中有画，景中寓情。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693432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王维的著名诗篇</a:t>
            </a:r>
            <a:endParaRPr b="0" lang="en-US" sz="60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7640" y="2205000"/>
            <a:ext cx="431964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山居秋暝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空山新雨後，天气晚来秋。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明月松间照，清泉石上流。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竹喧归浣女，莲动下渔舟。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随意春芳歇，王孙自可留。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205000"/>
            <a:ext cx="460836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鹿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空山不见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但闻人语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返景入深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复照青苔上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693432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王维的著名诗篇</a:t>
            </a:r>
            <a:endParaRPr b="0" lang="en-US" sz="60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640" y="2205000"/>
            <a:ext cx="431964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送别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山中相送罢，日暮掩柴扉。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春草明年绿，王孙归不归。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205000"/>
            <a:ext cx="460836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山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荆溪白石出，天寒红叶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山路元无雨，空翠湿人衣。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7640" y="2781000"/>
            <a:ext cx="10098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隶书"/>
              </a:rPr>
              <a:t>背诵默写</a:t>
            </a:r>
            <a:endParaRPr b="0" lang="en-US" sz="96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60360" y="1197000"/>
            <a:ext cx="47624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3468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竹里馆</a:t>
            </a:r>
            <a:endParaRPr b="1" lang="en-US" sz="15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140360" y="4941360"/>
            <a:ext cx="446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王维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0720" y="1268280"/>
            <a:ext cx="866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王维（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70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76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），汉族，唐朝河东蒲州（今山西省运城市）人，祖籍山西祁县，</a:t>
            </a:r>
            <a:r>
              <a:rPr b="1" lang="zh-CN" sz="3600" spc="-1" strike="noStrike">
                <a:solidFill>
                  <a:srgbClr val="d60093"/>
                </a:solidFill>
                <a:latin typeface="华文隶书"/>
                <a:ea typeface="华文隶书"/>
              </a:rPr>
              <a:t>唐朝著名诗人、画家，字摩诘，号摩诘居士，世称“王右丞”，因笃信佛教，有“诗佛”之称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今存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400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余首，重要诗作有《相思》、《山居秋暝》等。受禅宗影响很大，精通佛学，精通诗、书、画、音乐等，与孟浩然合称“王孟”。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3130560" cy="6945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516720" y="0"/>
            <a:ext cx="265428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203640" y="-25560"/>
            <a:ext cx="32018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2720" y="274320"/>
            <a:ext cx="663408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创作背景</a:t>
            </a:r>
            <a:endParaRPr b="0" lang="en-US" sz="7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《竹里馆》是唐代诗人王维晚年隐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蓝田辋川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时创作的一首五绝。此诗写山林幽居情趣，属闲情偶寄，遣词造句简朴清丽，表现了一种清静安详的境界，是诗人生活态度以及作品特点的绝佳表述。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王维早年信奉佛教，思想超脱，加之仕途坎坷，四十岁以后就过着半官半隐的生活。正如他自己所说：“晚年惟好静，万事不关心。”因而常常独自坐在幽深的竹林之中，弹着古琴以抒寂寞的情怀。诗人是在意兴清幽、心灵澄净的状态下与竹林、明月本身所具有的清幽澄净的属性悠然相会，而命笔成篇的。“深林人不知，明月来相照。”这便是进一步渲染那种孤寂的情绪和气氛的。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2500"/>
                </a:solidFill>
                <a:latin typeface="华文隶书"/>
                <a:ea typeface="华文隶书"/>
              </a:rPr>
              <a:t>  </a:t>
            </a:r>
            <a:r>
              <a:rPr b="0" lang="zh-CN" sz="8000" spc="-1" strike="noStrike">
                <a:solidFill>
                  <a:srgbClr val="c02500"/>
                </a:solidFill>
                <a:latin typeface="华文隶书"/>
                <a:ea typeface="华文隶书"/>
              </a:rPr>
              <a:t>竹里馆</a:t>
            </a:r>
            <a:endParaRPr b="0" lang="en-US" sz="80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872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王维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独坐幽篁里，弹琴复长啸。</a:t>
            </a: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深林人不知，明月来相照。</a:t>
            </a: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02500"/>
                </a:solidFill>
                <a:latin typeface="Arial"/>
                <a:ea typeface="华文隶书"/>
              </a:rPr>
              <a:t>【韵译】</a:t>
            </a:r>
            <a:endParaRPr b="0" lang="en-US" sz="7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47280" y="1197000"/>
            <a:ext cx="751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夜，独坐幽静的竹林子里，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间或弹弹琴，间或吹吹口哨。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竹林里僻静幽深，无人知晓，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却有明月陪伴，殷勤来相照。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赏析诗歌</a:t>
            </a:r>
            <a:endParaRPr b="0" lang="en-US" sz="66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0720" y="1413000"/>
            <a:ext cx="866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首诗表现了一种清静安详的境界。前两句写诗人独自一人坐在幽深茂密的竹林之中，一边弹着琴弦，一边又发出长长的啸声。其实，不论“弹琴”还是“长啸”，都体现出诗人</a:t>
            </a: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高雅闲淡、超拔脱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气质，而这却是不容易引起别人共鸣的。所以后两句说：“深林人不知，明月来相照。”意思是说，自己僻居深林之中，也并不为此感到孤独，因为那一轮皎洁的月亮还在时时照耀自己。这里使用了拟人化的手法，把倾洒着银辉的一轮明月当成心心相印的知己朋友，显示出诗人新颖而独到的想象力。全诗的格调幽静闲远，仿佛诗人的心境与自然的景致全部融为一体了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主题思想</a:t>
            </a:r>
            <a:endParaRPr b="0" lang="en-US" sz="66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此诗写山林幽居情趣，属闲情偶寄，遣词造句简朴清丽，传达出诗人宁静、淡泊的心情，表现了清幽宁静、高雅绝俗的境界。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cc0000"/>
                </a:solidFill>
                <a:latin typeface="楷体"/>
                <a:ea typeface="楷体"/>
              </a:rPr>
              <a:t>全诗虽只有短短的二十个字，但有景有情、有声有色、有静有动、有实有虚，对立统一，相映成趣，是诗人生活态度以及作品特点的绝佳表述。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4-02-24T13:41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