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typ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E0A-8863-464C-98B3-7DDD679F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9CF-BA4B-4F2E-8933-5C06730A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B23-FB31-4297-A7A4-80601707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8A5-66D8-4774-8083-7AD16C83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16A-E160-4BBE-91D6-AFC19C6B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7F5E-E13B-4491-9CD5-07B3095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CEFF-39A6-4759-A113-E9F3750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33E4-6950-4C24-84D6-0A5BCF5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2D24-F0A0-4871-AFB3-6286B1AE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43B7-446F-4CCD-B628-456E752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FE4B-F9A9-479C-966B-475C31A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AA1-87F1-4864-9A45-FC805EB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19E-C9A5-400B-9D41-B622278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362-236A-4102-8147-F46C0231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5B8-6A3D-4068-A087-8D936B1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A5D6-A732-4CDB-BAF6-3EEC2E32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6273-C9DD-4CB4-BDA5-07EC9EA8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633-D9CA-4A4F-B750-F4AB003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084-DD93-43CF-AFC2-771A0B2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A97-3E5E-41A8-AFB6-29EF31B4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430-BBB1-4C60-A07C-47C21ED7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2D2-A4B2-45AD-925D-3014EB4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FF7-E2B0-482B-B880-CECBE66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4C4-A852-480F-8992-2AEFF05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9CB-1C8D-4026-AAA6-BA5DF36F7EE9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9F0-B18B-4C32-9655-1F6FF6BDF97B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458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8800" spc="-1" strike="noStrike">
                <a:solidFill>
                  <a:srgbClr val="dbbd71"/>
                </a:solidFill>
                <a:latin typeface="方正姚体"/>
                <a:ea typeface="方正姚体"/>
              </a:rPr>
              <a:t>最苦与最乐</a:t>
            </a:r>
            <a:br>
              <a:rPr sz="8800"/>
            </a:br>
            <a:br>
              <a:rPr sz="8800"/>
            </a:br>
            <a:r>
              <a:rPr b="0" lang="zh-CN" sz="4000" spc="-1" strike="noStrike">
                <a:solidFill>
                  <a:srgbClr val="dbbd71"/>
                </a:solidFill>
                <a:latin typeface="方正姚体"/>
                <a:ea typeface="方正姚体"/>
              </a:rPr>
              <a:t>第  一  课  时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advTm="2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有人说：“既然这苦是从负责任而生的，我若是将责任卸却，岂不是就永远没有苦了吗？”这却不然。责任是要解除了才没有，并不是卸了就没有。人生若能永远像两三岁小孩，本来没有责任，那就本来没有苦。到了长成，责任自然压在你的肩头上，如何能逃躲？不过有大小的分别罢了。尽得大的责任，就得大快乐；尽得小的责任，就得小快乐。你若是要逃躲，反而是自投苦海，永远不能解除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⒊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学生讨论，并完成下列练习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①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用文中相关语句填空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对人的责任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ahoma"/>
              </a:rPr>
              <a:t>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对事的责任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ahoma"/>
              </a:rPr>
              <a:t>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对自己的责任：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② 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什么事最快乐呢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（用原文语句回答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③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用文中语句概括第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自然段的内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④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请从最后一段中找出与“快乐之权，操之在己”内涵相符的一句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⒋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结合课文内容，解释词语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   ①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失意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   ②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悲天悯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   ③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如释重负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   ④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无入而不自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随堂练习参考答案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朗读，给下列加点字注音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  ① 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qì            ② lǎn           ③  mǐ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⒉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知足、安分、达观、责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⒊ 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人的责任：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凡属我受过他好处的人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我对于他便有了责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事的责任：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凡属我应该做的事，而且力量能够做得到的，我对于这件事便有了责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自己的责任：</a:t>
            </a: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凡属我自己打主意要做一件事，便是现在的自己和将来的自己立了一种契约，便是自己对于自己加一层责任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②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责任完了，算是人生第一件乐事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天下事从苦中得来的乐才算真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④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尽得大的责任，就得大快乐；尽得小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责任，就得小快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⒋①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不得志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②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对社会和人类的灾祸苦难等表示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忧虑和同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③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好像放下了沉重的负担。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④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无论到了什么境地，没有不自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自在的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858f4"/>
                </a:solidFill>
                <a:latin typeface="Arial"/>
              </a:rPr>
              <a:t>学生独立思考后，教师总结归纳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⒌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在课文中找出表明作者苦乐观的原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⒍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用精练的语言概括出本文的中心论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⒎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议论文的论据可分为事实论据和道理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据两种，请从文中找出相应例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⒏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结合以上论据的类型，你认为本文主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采用了哪些论证方法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⒐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划分本文的结构层次是什么？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⒌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说人生最苦的事，莫若身上背着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一种未了的责任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或  “什么事最快乐呢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自然责任完了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算是人生第一件乐事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⒍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负责任乃人生最大痛苦，尽责任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人生最大快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或 “负责任最苦，尽责任最乐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⒎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事实论据如：“答应人做一件事没有办，欠了人的钱没有还，受了人家的恩惠没有报答，得罪了人没有赔礼…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道理论据：古语说得好， “如释重负’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俗语亦说， “心上一块石头落了地’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孔子所以说， “无入而不自得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孟子又说“君子有终身之忧”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曾子还说哩：“任重而道远”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   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死而后已，不亦远乎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⒏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举例论证、道理论证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对比论证（如第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自然段），引用论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⒐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全文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个自然段可分为三个部分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第一部分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：论述负责任是人生最大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痛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分论点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第二部分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：论述尽责任是人生最大的快乐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分论点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第三部分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5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：论述人生当勇于负责，而不能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避责任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结论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549360"/>
            <a:ext cx="82771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黑体"/>
                <a:ea typeface="黑体"/>
              </a:rPr>
              <a:t>最苦与最乐</a:t>
            </a:r>
            <a:br>
              <a:rPr sz="4000"/>
            </a:b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第  二  课  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痛苦与快乐，是人类永恒的话题。我们每个人应如何面对“苦”与“乐”，应建立怎样的“苦乐观”呢？西方哲学信奉“智者无忧”，而孟子却说“君子有终身之忧”；张潮也说“人莫乐于闲”，而居里夫人却说“世上最快乐的事情，莫过于为理想而奋斗”；有人认为“人生苦短，该及时行乐”；而范仲淹却主张“先天下之忧而忧，后天下之乐而乐”。接下来，让我们与梁启超先生一起探讨《最苦与最乐》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  <p:sndAc>
      <p:stSnd>
        <p:snd r:embed="rId1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课文第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段的赏析。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3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般说来议论文所要回答的问题有：“是什么” “为什么” “怎么办”。这两个自然段回答的就是“怎么办”的问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论述我们“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应当勇于负责，而不应当逃避责任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然段论述“</a:t>
            </a:r>
            <a:r>
              <a:rPr b="0" lang="zh-CN" sz="2800" spc="-1" strike="noStrike">
                <a:solidFill>
                  <a:srgbClr val="990000"/>
                </a:solidFill>
                <a:latin typeface="Tahoma"/>
              </a:rPr>
              <a:t>人生应当勇于负责任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”，其理由是“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责任越大，痛苦越大，快乐也越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然段论述“</a:t>
            </a:r>
            <a:r>
              <a:rPr b="0" lang="zh-CN" sz="2800" spc="-1" strike="noStrike">
                <a:solidFill>
                  <a:srgbClr val="990000"/>
                </a:solidFill>
                <a:latin typeface="Tahoma"/>
              </a:rPr>
              <a:t>人生不应当逃避责任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”，其理由是“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责任是逃避不了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”。这两个方面互相支持，使论证更加严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6000" y="692280"/>
            <a:ext cx="6840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自然段作者采用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讲道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论证方法。文中引用了孟子和曾子的名言佳句充当道理论据，从理论方面论证了“人生当勇于负责”。紧接着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自然段指出“最苦” “最乐”的具体内涵，与题目构成一一呼应，从而明确地指出了“责任是要解除了才没有，并不是卸了就没有”；且进一步指出了“尽得大的责任，就得大快乐；尽得小的责任，就得小快乐。 “相反”想躲责任，只是自投苦海，痛苦永远不能解除。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知识归纳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⒑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本文的中心论点：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未尽责任是人生最大的痛苦，尽责任是人生最大的快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⒒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观点明确、脉络清晰、论证严密可谓本文的一大特色，足见议论文写作中，理清思路周全对文章的整体结构至关重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6373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阅读课文第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⑴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这两个自然段的中心论点是什么？ （用自己的话概括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⑵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请从这两段中找出事实论据和道理论据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⑶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文中画横线一句采用了什么修辞手法，在表达上有什么作用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⑷“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卸却责任”和“解除责任”有什么不同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⑸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文中画波浪线的句子的意思是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⑹</a:t>
            </a:r>
            <a:r>
              <a:rPr b="0" lang="zh-CN" sz="3600" spc="-1" strike="noStrike">
                <a:solidFill>
                  <a:srgbClr val="dbbd71"/>
                </a:solidFill>
                <a:latin typeface="Tahoma"/>
              </a:rPr>
              <a:t>你认为作为学生应尽到什么责任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a500"/>
                </a:solidFill>
                <a:latin typeface="Arial"/>
              </a:rPr>
              <a:t>参 考 答 案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人生应当勇于负责，而不应当逃避  责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事实论据：“圣贤、豪杰，……从没有放下的时节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那仁人、志士的忧民忧国，……便日日在那里得苦中真乐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道理论据：“君子有终身之忧”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任重而道远死而后已，不亦远乎？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采用了反问的修辞手法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起强调作用，能引用读者的深思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增强语言论证力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⑷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卸却责任”指未尽责任，丢开不管；“解除责任”指尽了责任，再无负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⑸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表明这是假设的情形，而实际上是不可能的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⑹①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培养热爱集体，自觉维护集体利益的责任感。②建立自信，要有毅力，勇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于面对失败。③培养学习的责任感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39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bbd71"/>
                </a:solidFill>
                <a:latin typeface="Arial"/>
                <a:ea typeface="华文隶书"/>
              </a:rPr>
              <a:t>学生小组讨论回答，教师总结。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⒔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请学生说出日常生活中与“苦、乐”相关的词语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俗语、谚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教师准备好一些关于责任的名言佳句，要求小组讨论其字面意义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可查资料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并举例说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可引用历史人物、生活实例或词语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然后进行小组交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⒖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阅读下面几则材料，谈谈对人生的看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做一事，专一事。每事勤，事事成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对自己信心，对别人尽心。对事情用心，对朋友诚心。对亲情关心，对生命真心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您虽不能左右天气，但您可以改变心情。您虽不能改变容貌，但您可以展现笑容。您虽不能逃避现实，但您可以勇敢面对。您虽不能样样如意，但您可以事事尽力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98520"/>
            <a:ext cx="81342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bd71"/>
                </a:solidFill>
                <a:latin typeface="Arial"/>
              </a:rPr>
              <a:t>⒖</a:t>
            </a:r>
            <a:r>
              <a:rPr b="1" lang="zh-CN" sz="2800" spc="-1" strike="noStrike">
                <a:solidFill>
                  <a:srgbClr val="dbbd71"/>
                </a:solidFill>
                <a:latin typeface="Arial"/>
              </a:rPr>
              <a:t>阅读《大力弘扬奋斗精神》，完成第⑴—⑺题。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⑴①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ài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，②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i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大力宏扬奋斗精神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举例论证（事实论证）、对比论证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⑷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把个人奋斗融入到为实现祖国社会主义现代化的奋斗之中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⑸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因为他们把国家和人民的利益置于个人利益之上，不畏艰辛，工作在祖国最需要的地方，并在工作中做出了贡献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⑹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各自的岗位上为国家做出重大的贡献，获得国家人民的肯定和尊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⑺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题为开放性题目，内容合理，句式相仿就可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581000"/>
            <a:ext cx="8497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本文作者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梁启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本文选自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: 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《饮冰室全集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梁启超，字卓如，号任公，近代资产阶级改良主义思想家、教育家。广东新会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4.</a:t>
            </a:r>
            <a:r>
              <a:rPr b="0" lang="zh-CN" sz="2800" spc="-1" strike="noStrike">
                <a:solidFill>
                  <a:srgbClr val="663300"/>
                </a:solidFill>
                <a:latin typeface="Tahoma"/>
              </a:rPr>
              <a:t>梁启超作品合编为《饮冰室全集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20000">
    <p:cover dir="r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309240"/>
            <a:ext cx="813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边听录音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边完成下列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⒈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根据朗读，给下列加点字注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①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契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(    )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约       ②揽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(    )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③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悲天悯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(   )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63628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⒉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根据朗读，填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①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作者认为，贫而不苦的原因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是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ahoma"/>
              </a:rPr>
              <a:t>       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，失意而不苦的原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是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，老、病、死不苦的原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是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，作者认为真正的痛苦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自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05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生什么事最苦呢？贫吗？不是；失意吗？不是；老吗？死吗？都不是。我说人生最苦的事，莫若于身上背着一种未了的责任。人若能知足，虽贫不苦；若能安分（不多作分外希望），虽失意不苦；老、死，乃人生难免的事，达观的人看得很平常，也不算什么苦。独是凡人生在世间一天，便有应该做的事，该做的事没有做完，便像是有几千斤重担子压在肩头，再苦是没有的了。为什么呢？因为受那良心责备不过，要逃躲也没处逃躲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答应人做一件事没有办，欠了人家的钱没有还，受了人家的恩惠没有报答，得罪了人没有赔礼，这就连这个人的面也几乎不敢见他；纵然不见他的面，睡里梦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都像有他的影子来缠着我。为什么呢？因为觉得对不住他呀！因为自己对他的责任，还没有解除呀！不独是对于一个人如此，就是对于家庭、对于社会、对于国家，乃至对于自己，都是如此。凡属我受过他好处的人，我对于他便有了责任。凡属我应该做的事，而且力量能够做得到的，我对于这件事便有了责任。凡属我自己打主意要做一件事，便是现在的自己和将来的自己立了一种契约，便是自己对于自己加一层责任。有了这责任，那良心便时时刻刻监督在后头。一日应尽的责任没有尽，到夜里头便是过的苦痛日子。一生应尽的责任没有尽，便死也带着苦痛往坟墓里去。这种苦痛却比不得普通的贫困老死，可以达观排解得来。所以我说人生没有苦痛便罢；若有苦痛，当然没有比这个更重的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ver dir="r"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翻过来看，什么事最快乐呢？自然责任完了，算是人生第一件乐事。古语说得好，“如释重负”；俗语亦说，“心上一块石头落了地”。人到这个时候，那种轻松愉快，真是不可以言语形容。责任越重大，负责的日子越久长，到责任完了时，海阔天空，心安理得，那快乐还要加几倍哩！大抵天下事从苦中得来的乐才算真乐。人生须知道有负责任的苦处，才能知道有尽责任的乐处。这种苦乐循环，便是这有活力的人间一种趣味。却是不尽责任，受良心责备，这些苦都是自己找来的。一翻过来，处处尽责任，便处处快乐；时时尽责任，便时时快乐。快乐之权，操之在己。孔子所以说，“无入而不自得”，正是这种作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然则为什么孟子又说“君子有终身之忧”呢？因为越是圣贤豪杰，他负的责任越是重大；而且他常要把这种种责任来揽在身上，肩头的担子从没有放下的时节。曾子还说哩：“任重而道远” ，“死而后已，不亦远乎？”那仁人志士的忧民忧国，那诸圣诸佛的悲天悯人，虽说他是一辈子感受苦痛，也都可以。但是他日日在那里尽责任，便日日在那里得苦中真乐。所以他到底还是乐，不是苦呀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cover dir="r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7:22:59Z</dcterms:created>
  <dc:creator>软件仓库</dc:creator>
  <dc:description/>
  <dc:language>en-US</dc:language>
  <cp:lastModifiedBy>lzy</cp:lastModifiedBy>
  <dcterms:modified xsi:type="dcterms:W3CDTF">2005-12-15T05:42:07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6000000000001024120</vt:lpwstr>
  </property>
</Properties>
</file>